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E4A1-5F39-419D-8440-17129C279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4CC-B269-43BD-AF00-CE7B414E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BFA-5662-471B-8601-D6666A0C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A70-4A44-41A4-8114-5707105E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FD0-DE86-4D60-8882-76F0B575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DB91-4C63-4AC4-8218-5B0400D0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F6FB-5C02-4076-A81F-CD5773B1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188D-F518-4378-82D8-E4D374D0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7AE3-D0BB-4FC0-B1CE-FEEC6D25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E079-ED8F-476E-AF60-A85B5CB9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D45D-D3B3-4635-B7CD-142AC10D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84B2-6C7F-4E05-8A91-F5F1D6E6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EFF-55F1-4DE1-80E1-39215322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3161-C51A-43CB-A83A-C511D4C4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C081-F7BB-4054-9BE1-4D30DDD2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F2BB-8ADF-45A1-8425-D7EF297A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800E-3B02-43FF-B57C-3359D942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E8E7-0526-420F-B675-1C4C133E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FA2-BC8A-4DBE-93A7-3C212FBC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D01-904C-4850-9F8A-226C4E40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3D3-8F52-486D-A8D5-308DB52F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775-69C0-4604-B831-DF0A026F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D44-A3CF-4541-89B3-1F78F30E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C85-BB68-4C84-8BB6-6FC544EA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F68-8B83-4BDF-A466-77A5BFF0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2964-C972-4D2C-B75D-048D18C52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A6BF-72D9-4FE0-B896-7E30AC1BB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Arial"/>
              </a:rPr>
              <a:t>Praktische oefeningen: </a:t>
            </a:r>
            <a:br>
              <a:rPr sz="4400"/>
            </a:br>
            <a:r>
              <a:rPr b="0" lang="nl-NL" sz="4400" spc="-1" strike="noStrike">
                <a:solidFill>
                  <a:srgbClr val="003366"/>
                </a:solidFill>
                <a:latin typeface="Arial"/>
              </a:rPr>
              <a:t>groei van Nederlandse kind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91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ré 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L Instituut, Universiteit van Amster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ww.science.uva.nl/~heck/research/gro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casus1" descr=""/>
          <p:cNvPicPr/>
          <p:nvPr/>
        </p:nvPicPr>
        <p:blipFill>
          <a:blip r:embed="rId1"/>
          <a:stretch/>
        </p:blipFill>
        <p:spPr>
          <a:xfrm>
            <a:off x="3733920" y="0"/>
            <a:ext cx="5265720" cy="681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357920" y="7254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s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3760" y="1295280"/>
            <a:ext cx="21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hterstand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uberteits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wikk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asus2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256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pgave 6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Op leeftijd van 19 jaar is het gemiddelde gewic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ijk aan 72 k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gewicht naar lengte diagram lezen we af d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gemiddelde gewicht van 36 kg past bij een leng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146 c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lengte naar leeftijd diagram lezen we af dat 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iddelde lengte van 146 cm past bij 10,5 jaa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 pas tussen 10 en 11 jaar wordt de helft van het eindgewicht bereikt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iddelde vroeg-volwasssen lengte = 184 c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ftijd waarop gemiddelde lengte 92 cm i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jaar en 3 ma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Voor meisj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op  (min_L - 167,1) / 6,6 = -2,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e lengte = 150,6 cm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jonge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op  (min_L - 174,4) / 7,9 = -2,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e lengte = 154,7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3049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Punt ligt halverwege 0 en 2 SDS-lij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tting: 1 SD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In gewicht naar lengte diagram lezen we af dat 69 pond (=34,5 kg) correspondeert met een lengte van 144 cm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engte naar leeftijd diagram lezen we af dat een lengte van 144 cm correspondeert met een leeftijd van 10 jaar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pgave 7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Elke SDS-lijn heeft dezelfde vorm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jl omhoog in 1e levensjaar, maximum bij 1 ja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acht de SDS-lij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olgens een daling tot het lokale minimum d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“adipeuze rebound” heet; het lokale minimum verschilt wel per SDS-lij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na gestage toename van BMI.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kundig model: ln(BMI) is een derdegraads veelterm in  ln(leeftijd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Overgewicht op vroeg-volwassen leeftijd als BMI&gt;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e grenswaarde stemt volgens diagram overeen met 1 SDS oftwel P84 voor jongens en meisj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 16 % heeft overgewich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43000" y="3049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Ondergewicht op vroeg-volwassen leeftijd als BMI&lt;18,5. Deze grenswaarde stemt volgens diagram voor meisjes overeen met -2 SDS oftwel P2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 2 % van 21-jarige meisjes heeft ondergewich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jongens stemt de grenswaarde overeen m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,6 SDS. Het komt bij jongens dus volgens dit criterium meer v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Bij hogere SDS-lijnen komt adipeuze rebound eerde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) Een vroege adipeuze rebound, zeg bij leeftijd van 3 jaar, kan een indicatie van (aanleg tot) zwaarlijvigheid zij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CBS_BMItabel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642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Opgave 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jongens21" descr=""/>
          <p:cNvPicPr/>
          <p:nvPr/>
        </p:nvPicPr>
        <p:blipFill>
          <a:blip r:embed="rId1"/>
          <a:stretch/>
        </p:blipFill>
        <p:spPr>
          <a:xfrm>
            <a:off x="4275000" y="182520"/>
            <a:ext cx="4716720" cy="6675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70640" y="512604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70520" y="480060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80120" y="457200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6320" y="4135320"/>
            <a:ext cx="81000" cy="5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65920" y="375444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3000" y="3220920"/>
            <a:ext cx="81000" cy="5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61440" y="2895480"/>
            <a:ext cx="81000" cy="5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85040" y="236232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4920" y="200196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9840" y="1752480"/>
            <a:ext cx="81000" cy="5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75400" y="1523880"/>
            <a:ext cx="81000" cy="5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7920" y="123984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76920" y="1230480"/>
            <a:ext cx="3477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vallend aan Shaq’s leng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leeftijd kromme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tot een jaar of 10 i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urt van 2.5 SDS (P99.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tussen 16 en 21 jaar gro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nog 15 cm, terwijl 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rmaal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zijn eindlengte is ongew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 gewicht naar leng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agram volgt dat h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een zwaar, maar n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zonderlijk postuur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2 % heeft eenzelf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wicht bij gegeven leng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Uitgangspunten voor groeidiagramm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ei van het individuele kind wordt afgezet tegen de gemiddelden en parameters van de spreiding van een referentiepopu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toepasbaar, </a:t>
            </a:r>
            <a:br>
              <a:rPr sz="24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wel voor invullen en interpretatie door gezondheidszorgpersoneel,</a:t>
            </a:r>
            <a:br>
              <a:rPr sz="20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voor uitleg aan ouders en ki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 referentielijnen zodanig dat ze maximaal behulpzaam zijn bij het onderscheiden van kinderen met groeistoor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erentiewaarden moeten op populatie niveau een index kunnen geven voor gezondheid en welva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pgave 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neke Bruidegom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ftijd: 13,9 j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e: 167 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icht: 42 k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lengte_SDS= (167 - 164,7) / 6,7 = 0,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 normal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Voor meisj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op  (min_L - 167,1) / 6,6 = -2,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e lengte = 150,6 cm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jonge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op  (min_L - 174,4) / 7,9 = -2,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e lengte = 154,7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049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Nederlandse maatstave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iddelde eindlengte 184 cm,  SD = 7,1 c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e_SDS = (216 - 184) / 7,1 = 4,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kaanse maatstaven (NHANES II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iddelde eindlengte 176,5 cm,  SD = 7,6 c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e_SDS = (216 - 176,5) / 7,6 = 5,2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Amerikaanse begrippen is Shaq meer uitzonderlijk lang dan naar Nederlandse maatstav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pgave 3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chil in eindlengten: 184 - 170,6 = 13,4 c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ar beneden afgerond: 13 c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 = gem. ouderleng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/2*sexe_verschi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+ generatie_verschil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V+LM)/2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/2 + 4,5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V+LM)/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+ 11 (voor jong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(LV+LM)/2 - 2 (voor meisje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Andere formules voor eindleng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dlengte = 2 x lengte op leeftijd van 2 jaar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oor meisjes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dlengte =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x lengte bij menarche +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parameters uit een tabel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dlengte =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x lengte +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x gewich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+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x gemiddelde ouderlengte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parameters uit een t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ules van belang voor sportbeoefening en be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pgave 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neke Bruidegom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e vader 189 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e moeder 167 c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e op leeftijd van 13,9 jaar = 167 cm (= 0,34 S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height = (189 + 167)/2 - 2 = 17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_SDS = (176 - 170,6) / 6,5 = 0,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idige lengte is binnen streefgeb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% van de kinderen groeit tussen 3 jaar en het begin van de puberteit binnen hun streefgeb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zoom" descr=""/>
          <p:cNvPicPr/>
          <p:nvPr/>
        </p:nvPicPr>
        <p:blipFill>
          <a:blip r:embed="rId1"/>
          <a:stretch/>
        </p:blipFill>
        <p:spPr>
          <a:xfrm>
            <a:off x="4952880" y="762120"/>
            <a:ext cx="3573720" cy="47242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Opgave 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21164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4880" y="3678120"/>
            <a:ext cx="81000" cy="5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96120" y="327672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39120" y="200196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2400" y="190512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74400" y="1230480"/>
            <a:ext cx="4073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ige toepasbare criterium v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 afbuiging van 0,25 S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durende opeenvolgende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met minimaal tuss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zen van 6 maan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ng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1,5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+0.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,5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3,9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+0.1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6,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0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,5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7,5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0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9,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0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basis van metingen op leefti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6, 7 en 8 jaar inderdaad r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 doorverwijzing naar kindera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96320" y="177336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48600" y="169704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60020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1:27:01Z</dcterms:created>
  <dc:creator>Amstel Instituut</dc:creator>
  <dc:description/>
  <dc:language>en-US</dc:language>
  <cp:lastModifiedBy>Johan v.d.Ridder nascholing1</cp:lastModifiedBy>
  <cp:lastPrinted>1999-04-23T08:53:36Z</cp:lastPrinted>
  <dcterms:modified xsi:type="dcterms:W3CDTF">2002-08-31T05:45:27Z</dcterms:modified>
  <cp:revision>50</cp:revision>
  <dc:subject/>
  <dc:title>Coach Architecture</dc:title>
</cp:coreProperties>
</file>