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7C2-8132-4191-9127-312F136A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299-CC81-4500-A9DB-7B580F77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950-0DE2-4549-9A56-C43992AF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843-24C3-4785-AC8A-712D1022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BB8-82A8-4283-959F-620BF193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B39-9828-4B5B-BD77-6F0D4EAE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C2E-BE46-4BFC-BEAB-62343DDC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097-1764-4763-9636-7E05AACE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B08-E4BA-4745-B002-9DB39E33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8E5-9CC4-4227-B3A9-446411F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6AE-66A6-4A73-B986-27C57CC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D8B-E2EE-45A6-9A90-112082B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4D3F-DE45-48AD-BF90-AF20AB6C3E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lcome to ou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ibo field loc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http://www.science.uva.nl/~baslamet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iyl Hammo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ladimir Nedov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yu Sla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erto Va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bruar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Ds2_0344" descr=""/>
          <p:cNvPicPr/>
          <p:nvPr/>
        </p:nvPicPr>
        <p:blipFill>
          <a:blip r:embed="rId1"/>
          <a:stretch/>
        </p:blipFill>
        <p:spPr>
          <a:xfrm>
            <a:off x="5524560" y="3048120"/>
            <a:ext cx="2705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particle distribution on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particle is a hypothetical 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s an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les generated on old fiel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new_monte-carlo2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4000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haviour Control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using finite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coordination with 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hard-coded field pos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laying-goalie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52578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haviour Control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obot.pose.x &gt; 300 then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biguous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sense / intu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goal2004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1794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goal2005" descr=""/>
          <p:cNvPicPr/>
          <p:nvPr/>
        </p:nvPicPr>
        <p:blipFill>
          <a:blip r:embed="rId2"/>
          <a:stretch/>
        </p:blipFill>
        <p:spPr>
          <a:xfrm>
            <a:off x="5384880" y="3048120"/>
            <a:ext cx="30733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tions GT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T2004 Aibo does 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ecially goalie and stri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ust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: with old flag 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DS2_0332" descr=""/>
          <p:cNvPicPr/>
          <p:nvPr/>
        </p:nvPicPr>
        <p:blipFill>
          <a:blip r:embed="rId1"/>
          <a:stretch/>
        </p:blipFill>
        <p:spPr>
          <a:xfrm>
            <a:off x="4800600" y="3139920"/>
            <a:ext cx="35053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tions DT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2005 Aibo has some tr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fine until kick-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kick-off positioning is in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DS2_0335" descr=""/>
          <p:cNvPicPr/>
          <p:nvPr/>
        </p:nvPicPr>
        <p:blipFill>
          <a:blip r:embed="rId1"/>
          <a:stretch/>
        </p:blipFill>
        <p:spPr>
          <a:xfrm>
            <a:off x="4800600" y="3139920"/>
            <a:ext cx="35053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positioning is purely based on 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 GT2004 Aibo, all modules are based on the same (old) field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T2005 Aibo still recieves wrong input from perception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remain unsolved hard-coded dependencies in the DT2005 Ai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in C++ have been che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in behaviour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observe the correctness in Robot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 is els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-coded dependencies in Perception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we ran out of tim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Perception modules and their configuration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ge this with our changes in the C++ and behaviou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behaviour to take out-ball situations into account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you just might win 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specifications are likely to change more o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a single source for field dimen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FieldDimensions class to make it provide all necessary points and di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in all Perception modu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in Behaviou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you have any 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obocup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057400" cy="117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robot soc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ld Champ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 2005 - Os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the year 2050, develop a team of fully autonomous humanoid robots that can win against the human world soccer champion team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s have to publish their code after each RoboC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cal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ed with Aib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vs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a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ensive supp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ensive supp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utch Aibo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int effort of various Dutch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participated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ms for victory in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de%20history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7150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ly natural soccer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for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gger playing f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borders are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red marker poles change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of out-ball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’s should stay inside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problems that will ar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ze and document possibl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 solutions for DT2005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ample2004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S2_034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l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sation becomes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ld field size is hard-programm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er poles are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ve usage of white b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is based on closed-borde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unce effect of borders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awareness of  out-ball si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s don’t know they should stay in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19051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boC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-Legged Le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Rule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ying Fiel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bl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e Carlo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haviou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520" y="1066680"/>
            <a:ext cx="57913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e kn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 dimensions are hard-coded in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 positions and distances are hard-coded in the behaviour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e gues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 dimensions may be hard-coded or implicitly assumed else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2:05:52Z</dcterms:created>
  <dc:creator>Bayu Slamet</dc:creator>
  <dc:description/>
  <dc:language>en-US</dc:language>
  <cp:lastModifiedBy>Bayu</cp:lastModifiedBy>
  <dcterms:modified xsi:type="dcterms:W3CDTF">2005-02-03T16:30:09Z</dcterms:modified>
  <cp:revision>360</cp:revision>
  <dc:subject/>
  <dc:title>Welkom</dc:title>
</cp:coreProperties>
</file>