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818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9BBE-DEA8-43AA-9229-6A006D9B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7A7A-E0F1-49EF-BE8B-A0F2B234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2DEC-C3BC-4156-89C7-449C8E56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7A46-7632-4FB5-A9E2-E29C5D9A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41D6-04C8-46DD-B957-0A9C3F85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479B-273F-4527-8B01-7A256EC5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F136-1C5B-4C18-8114-14094AE9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E4BA-4616-41E9-8DBE-FD73EFA9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39B5-155A-44C5-AD0D-D5EC7A6A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F8E0-3F06-43AC-927B-91631452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2BA3-683C-4D05-894E-85D985DC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4413-BF4A-4642-B212-4F4A8FDD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DE45-33D7-401E-BFD3-C22889BB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9703-96E1-4082-AE7B-879FCA5A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0E10-DE4F-4562-A19E-8BCF6A36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2922-6E98-4BEF-A0ED-0D098FBF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66F3-71D7-4EBE-9BE5-68E2BB44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98A8-AF82-4420-85CA-C5832C50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4C2-7602-4294-AC97-EB45A2C8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B46-5D53-403C-A901-D97530C3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F6ED-D0A9-4F61-99EE-BF42CD82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6C3B-84E0-4476-9253-318A37C7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9769-54DD-4A63-87B8-D7D4A36C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5A9-AF0F-4EC1-BE4F-8FD9FC7A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2183-6C5A-4733-876A-ED7E9BB3FC1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F511-231C-44C4-9D95-FB8BE742D81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ibo compan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OAS – group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Aitor Azcarate Onaindia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Abeer Mahdi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Zhiwei Zhan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Ning Yang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Supervisor: Frans Groen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41475" t="9102" r="42366" b="36166"/>
          <a:stretch/>
        </p:blipFill>
        <p:spPr>
          <a:xfrm>
            <a:off x="228600" y="60199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ce dete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-Code has a predefined function for face det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implemented Aibo to detect a face, if found, Aibo will walk to it and sit dow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ibo can detect faces correct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ever, in this stage it can only detect the front side of the fac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-De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ink Ball trac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-Code has a predefined function for searching the Pink b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can be extended to follow the elder in the intelligent h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results are not accurate, this is because the basic functions are not accurate, for example the walk function. This can be caused by the physical construction of Aib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ibo can follow the pink ball correctly for an average of 4 times, after that it losses the ball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loser the ball is, the less chance of finding the bal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DSC01035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1069920" cy="1409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45040" y="2171520"/>
            <a:ext cx="854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      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DSC01036" descr=""/>
          <p:cNvPicPr/>
          <p:nvPr/>
        </p:nvPicPr>
        <p:blipFill>
          <a:blip r:embed="rId2"/>
          <a:stretch/>
        </p:blipFill>
        <p:spPr>
          <a:xfrm>
            <a:off x="4191120" y="3352680"/>
            <a:ext cx="1108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-Demo pink b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we chose R-co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ple script language to learn in a short tim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act compared with for example Java, which take 400 lines of code to make Aibo nod it’s head (with R-code it is a few lin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ter experimenting with R-code, we noticed the follow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not an open source, that make it not extend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not suitable for low level programming or academic us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predefined functions are not very accur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ibo is currently not capable of being the companion for the eld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a nice entertainer but not really suitable for critical circumstan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would be more capable if aibo can interact with medical aids like nurses in the hospi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things that should be done to make Aibo more suitable 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tend the voice recognition li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mprove the basic functions (e.g. wal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ke a good AP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the future more help is needed for elder ca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olution is to make use of intelligent home with intelligent agents for interaction : for example Aib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looked at the possibilities of Aibo as elder compan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implemented some interesting tasks. (mentioned late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asks that should be realized by Aibo for elderly ca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Sensing intellige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Follow the eld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Detect when a person is falling dow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Detect loc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 Communication intelligenc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interaction with persons and nur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interface with home equipments like tv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Emotional intellige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Face feature recogni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Initiate a conversatio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Inactivate mod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Pro-active sugges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Reaction to soun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ystem Archite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22680" y="42242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144000" y="51926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724280" y="35812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876920" y="373392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5029200" y="38862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5181480" y="40384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2057400" y="251460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terature stu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llowing the elder, algorithms that can be used ar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an-shift algorith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ptical flow mo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und direction detec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combination of the abov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calization of Aib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p using’ metho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ppearance-based metho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ce recogni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erformance being evaluate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ibo in the futur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s the universal interface to the home equipm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s implement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chose basic functions that can be extended in the futu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ction to soun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ke Aibo react to voice commands, by performing specific tas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ce det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en seeing a face Aibo walks to the face and sits dow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nk Ball track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ke Aibo look for a pink ball and walk to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vailable too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velopment too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penr SDK (c++ programm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kkotsu (c++, java and matlab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mote framework (combined with visual c++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-code (script language, which we us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aphic user interf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tion editor (creating new motions for Aib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ol pan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ny entertainment player (control Aib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ction to sou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ibo has a predefined voice command recognition list of 54 voice comm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implemented some reactions to certain voice commands, some of these reactions are motions and others are voices that we record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experimented with Sony motion editor to create new motions, but we noticed that it doesn’t support Aibo ERS-7 very wel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noticed that Aibo sometimes cannot recognize the voice command correctly, despite the distance of the speak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-Dem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1:26:28Z</dcterms:created>
  <dc:creator>mhammadi</dc:creator>
  <dc:description/>
  <dc:language>en-US</dc:language>
  <cp:lastModifiedBy>nyang</cp:lastModifiedBy>
  <dcterms:modified xsi:type="dcterms:W3CDTF">2005-02-03T15:15:57Z</dcterms:modified>
  <cp:revision>17</cp:revision>
  <dc:subject/>
  <dc:title>Aibo companion</dc:title>
</cp:coreProperties>
</file>