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A7A-FF51-465F-8004-EBC03957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FD1-2F77-4CE0-83C1-60C04BB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81D-CA0F-41D0-A144-9C3D8023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831-E224-420D-B368-5E6572DF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D16-CFE3-43E2-B336-57D7A46B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2B5-D0A9-4E02-BBF0-FAC0549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42F-7EE1-4D18-AA25-D37CCC3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E4E-DB95-4FE7-B5DC-433B3620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087-F838-4562-BE6A-ED0F2B63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914-5165-4D96-B0BC-2711B3D9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30B-C295-495D-9312-FD38362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BCA-BD07-4608-907B-ACB31B5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3724-2810-4E9F-B359-AD2CA175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AS FIN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active Response System for Crisis Management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-2005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js Dubbelman [gijs.dubbelman@student.uva.nl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o Everts [ieverts@science.uva.nl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van der Weide [tom.vanderweide@gmail.com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wei Wang [swang@science.uva.n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3562200"/>
            <a:ext cx="9903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ept Manager Agen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gents receive the activation messages they will spawn their own world models, using a top down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676520" y="4419720"/>
            <a:ext cx="2679480" cy="2133000"/>
            <a:chOff x="1676520" y="4419720"/>
            <a:chExt cx="2679480" cy="2133000"/>
          </a:xfrm>
        </p:grpSpPr>
        <p:sp>
          <p:nvSpPr>
            <p:cNvPr id="474" name=""/>
            <p:cNvSpPr/>
            <p:nvPr/>
          </p:nvSpPr>
          <p:spPr>
            <a:xfrm>
              <a:off x="2014200" y="4654800"/>
              <a:ext cx="2341800" cy="13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4200" y="6021360"/>
              <a:ext cx="234180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6504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4412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2068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9832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632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5396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32280" y="5717880"/>
              <a:ext cx="3636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93880" y="5717880"/>
              <a:ext cx="3348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55840" y="5717880"/>
              <a:ext cx="34452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27160" y="5717880"/>
              <a:ext cx="3348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1840" y="5352840"/>
              <a:ext cx="37872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96280" y="5352840"/>
              <a:ext cx="3776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00720" y="535284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3432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9628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7700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647800" y="5945760"/>
              <a:ext cx="19980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48320" y="5945760"/>
              <a:ext cx="18072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0560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790800" y="5945760"/>
              <a:ext cx="1954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86640" y="5945760"/>
              <a:ext cx="1756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14200" y="4419720"/>
              <a:ext cx="67968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9388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9832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3240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76520" y="4548240"/>
              <a:ext cx="455760" cy="1292040"/>
            </a:xfrm>
            <a:custGeom>
              <a:avLst/>
              <a:gdLst/>
              <a:ahLst/>
              <a:rect l="l" t="t" r="r" b="b"/>
              <a:pathLst>
                <a:path w="718" h="2025">
                  <a:moveTo>
                    <a:pt x="718" y="2025"/>
                  </a:moveTo>
                  <a:cubicBezTo>
                    <a:pt x="390" y="1653"/>
                    <a:pt x="62" y="1282"/>
                    <a:pt x="31" y="945"/>
                  </a:cubicBezTo>
                  <a:cubicBezTo>
                    <a:pt x="0" y="608"/>
                    <a:pt x="266" y="304"/>
                    <a:pt x="5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7000" y="4654800"/>
              <a:ext cx="218880" cy="69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77000" y="4654800"/>
              <a:ext cx="870120" cy="69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813200" y="4419720"/>
            <a:ext cx="2478240" cy="2133360"/>
            <a:chOff x="4813200" y="4419720"/>
            <a:chExt cx="2478240" cy="2133360"/>
          </a:xfrm>
        </p:grpSpPr>
        <p:sp>
          <p:nvSpPr>
            <p:cNvPr id="505" name=""/>
            <p:cNvSpPr/>
            <p:nvPr/>
          </p:nvSpPr>
          <p:spPr>
            <a:xfrm>
              <a:off x="4948920" y="4654800"/>
              <a:ext cx="2342520" cy="13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48920" y="6021720"/>
              <a:ext cx="234252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0012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7920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55760" y="6097320"/>
              <a:ext cx="2268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33400" y="6097320"/>
              <a:ext cx="2268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140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904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67000" y="5717880"/>
              <a:ext cx="36360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28960" y="5717880"/>
              <a:ext cx="33516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90920" y="5717880"/>
              <a:ext cx="34452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62600" y="5717880"/>
              <a:ext cx="33516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68960" y="5352840"/>
              <a:ext cx="3600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31360" y="5352840"/>
              <a:ext cx="3776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3580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6940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3136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172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582880" y="5945760"/>
              <a:ext cx="19980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83400" y="5945760"/>
              <a:ext cx="18072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4104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725880" y="5945760"/>
              <a:ext cx="1954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21720" y="5945760"/>
              <a:ext cx="1756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48920" y="4419720"/>
              <a:ext cx="68004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2896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3340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6748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268600" y="5580720"/>
              <a:ext cx="1616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268600" y="5580720"/>
              <a:ext cx="8132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82560" y="5580720"/>
              <a:ext cx="2264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30960" y="5580720"/>
              <a:ext cx="2750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13200" y="4654800"/>
              <a:ext cx="455760" cy="802440"/>
            </a:xfrm>
            <a:custGeom>
              <a:avLst/>
              <a:gdLst/>
              <a:ahLst/>
              <a:rect l="l" t="t" r="r" b="b"/>
              <a:pathLst>
                <a:path w="718" h="2025">
                  <a:moveTo>
                    <a:pt x="718" y="2025"/>
                  </a:moveTo>
                  <a:cubicBezTo>
                    <a:pt x="390" y="1653"/>
                    <a:pt x="62" y="1282"/>
                    <a:pt x="31" y="945"/>
                  </a:cubicBezTo>
                  <a:cubicBezTo>
                    <a:pt x="0" y="608"/>
                    <a:pt x="266" y="304"/>
                    <a:pt x="5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00120" y="4654800"/>
              <a:ext cx="60552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356000" y="5943600"/>
            <a:ext cx="60984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ept Manager Agen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is enough evidence to determine with certainty that the agent concept is true then again a message is sent to the C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repeats untill top concepts are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80880" y="4419720"/>
            <a:ext cx="2478240" cy="2133360"/>
            <a:chOff x="380880" y="4419720"/>
            <a:chExt cx="2478240" cy="2133360"/>
          </a:xfrm>
        </p:grpSpPr>
        <p:sp>
          <p:nvSpPr>
            <p:cNvPr id="542" name=""/>
            <p:cNvSpPr/>
            <p:nvPr/>
          </p:nvSpPr>
          <p:spPr>
            <a:xfrm>
              <a:off x="516600" y="4654800"/>
              <a:ext cx="2342520" cy="13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6600" y="6021720"/>
              <a:ext cx="234252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780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4688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3440" y="6097320"/>
              <a:ext cx="2268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01080" y="6097320"/>
              <a:ext cx="2268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7908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56720" y="6097320"/>
              <a:ext cx="2264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680" y="5717880"/>
              <a:ext cx="36360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96640" y="5717880"/>
              <a:ext cx="33516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58600" y="5717880"/>
              <a:ext cx="34452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30280" y="5717880"/>
              <a:ext cx="33516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6640" y="5352840"/>
              <a:ext cx="3600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99040" y="5352840"/>
              <a:ext cx="37764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0348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3708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9904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940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150560" y="5945760"/>
              <a:ext cx="19980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51080" y="5945760"/>
              <a:ext cx="18072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0872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293560" y="5945760"/>
              <a:ext cx="1954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89400" y="5945760"/>
              <a:ext cx="1756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6600" y="4419720"/>
              <a:ext cx="68004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9664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0108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3516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36280" y="5580720"/>
              <a:ext cx="1616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836280" y="5580720"/>
              <a:ext cx="8132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0240" y="5580720"/>
              <a:ext cx="2264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98640" y="5580720"/>
              <a:ext cx="275040" cy="13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880" y="4654800"/>
              <a:ext cx="455760" cy="802440"/>
            </a:xfrm>
            <a:custGeom>
              <a:avLst/>
              <a:gdLst/>
              <a:ahLst/>
              <a:rect l="l" t="t" r="r" b="b"/>
              <a:pathLst>
                <a:path w="718" h="2025">
                  <a:moveTo>
                    <a:pt x="718" y="2025"/>
                  </a:moveTo>
                  <a:cubicBezTo>
                    <a:pt x="390" y="1653"/>
                    <a:pt x="62" y="1282"/>
                    <a:pt x="31" y="945"/>
                  </a:cubicBezTo>
                  <a:cubicBezTo>
                    <a:pt x="0" y="608"/>
                    <a:pt x="266" y="304"/>
                    <a:pt x="5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7800" y="4654800"/>
              <a:ext cx="60552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895480" y="5943600"/>
            <a:ext cx="60984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505320" y="4419720"/>
            <a:ext cx="2342880" cy="2123640"/>
            <a:chOff x="3505320" y="4419720"/>
            <a:chExt cx="2342880" cy="2123640"/>
          </a:xfrm>
        </p:grpSpPr>
        <p:grpSp>
          <p:nvGrpSpPr>
            <p:cNvPr id="577" name=""/>
            <p:cNvGrpSpPr/>
            <p:nvPr/>
          </p:nvGrpSpPr>
          <p:grpSpPr>
            <a:xfrm>
              <a:off x="3505320" y="4419720"/>
              <a:ext cx="2342880" cy="2123640"/>
              <a:chOff x="3505320" y="4419720"/>
              <a:chExt cx="2342880" cy="21236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05320" y="4654080"/>
                <a:ext cx="2342880" cy="136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P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05320" y="6014520"/>
                <a:ext cx="2342880" cy="52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656160" y="6090120"/>
                <a:ext cx="22644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035600" y="6090120"/>
                <a:ext cx="22644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12160" y="6090120"/>
                <a:ext cx="22644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89800" y="6090120"/>
                <a:ext cx="22680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67800" y="6090120"/>
                <a:ext cx="22644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45800" y="6090120"/>
                <a:ext cx="22644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23400" y="5712120"/>
                <a:ext cx="36396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85360" y="5712120"/>
                <a:ext cx="33516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47320" y="5712120"/>
                <a:ext cx="34452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319000" y="5712120"/>
                <a:ext cx="33516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825360" y="5348880"/>
                <a:ext cx="36000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87760" y="5348880"/>
                <a:ext cx="302040" cy="226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92200" y="5348880"/>
                <a:ext cx="386280" cy="226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925440" y="4805280"/>
                <a:ext cx="302040" cy="22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487760" y="4805280"/>
                <a:ext cx="302040" cy="22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768120" y="5938920"/>
                <a:ext cx="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4139280" y="5938920"/>
                <a:ext cx="1998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339800" y="5938920"/>
                <a:ext cx="18072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97440" y="5938920"/>
                <a:ext cx="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282640" y="5938920"/>
                <a:ext cx="19548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78480" y="5938920"/>
                <a:ext cx="17568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505320" y="4419720"/>
                <a:ext cx="680040" cy="23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185360" y="5086440"/>
                <a:ext cx="393120" cy="226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89800" y="5086440"/>
                <a:ext cx="302040" cy="22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24240" y="4805280"/>
                <a:ext cx="302040" cy="22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825360" y="5575680"/>
                <a:ext cx="1620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987360" y="5575680"/>
                <a:ext cx="27468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035240" y="5313240"/>
                <a:ext cx="304200" cy="3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87760" y="5313240"/>
                <a:ext cx="636480" cy="8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4944960" y="5575680"/>
                <a:ext cx="33768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319000" y="5575680"/>
                <a:ext cx="226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619440" y="4648320"/>
              <a:ext cx="560880" cy="579240"/>
            </a:xfrm>
            <a:custGeom>
              <a:avLst/>
              <a:gdLst/>
              <a:ahLst/>
              <a:rect l="l" t="t" r="r" b="b"/>
              <a:pathLst>
                <a:path w="883" h="855">
                  <a:moveTo>
                    <a:pt x="883" y="855"/>
                  </a:moveTo>
                  <a:cubicBezTo>
                    <a:pt x="583" y="812"/>
                    <a:pt x="284" y="769"/>
                    <a:pt x="142" y="627"/>
                  </a:cubicBezTo>
                  <a:cubicBezTo>
                    <a:pt x="0" y="485"/>
                    <a:pt x="47" y="114"/>
                    <a:pt x="2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33560" y="4648320"/>
              <a:ext cx="77616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477120" y="4419720"/>
            <a:ext cx="2342880" cy="2123640"/>
            <a:chOff x="6477120" y="4419720"/>
            <a:chExt cx="2342880" cy="2123640"/>
          </a:xfrm>
        </p:grpSpPr>
        <p:sp>
          <p:nvSpPr>
            <p:cNvPr id="614" name=""/>
            <p:cNvSpPr/>
            <p:nvPr/>
          </p:nvSpPr>
          <p:spPr>
            <a:xfrm>
              <a:off x="6477120" y="4654080"/>
              <a:ext cx="2342880" cy="13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6014520"/>
              <a:ext cx="2342880" cy="52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7960" y="609012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7400" y="609012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83960" y="609012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61600" y="6090120"/>
              <a:ext cx="22680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39600" y="609012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517600" y="609012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95200" y="5712120"/>
              <a:ext cx="36360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57160" y="5712120"/>
              <a:ext cx="33516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19120" y="5712120"/>
              <a:ext cx="34452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90800" y="5712120"/>
              <a:ext cx="33516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97160" y="5348880"/>
              <a:ext cx="36000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5348880"/>
              <a:ext cx="302040" cy="226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64000" y="5348880"/>
              <a:ext cx="38628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97240" y="4805280"/>
              <a:ext cx="302040" cy="22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4805280"/>
              <a:ext cx="3020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39920" y="5938920"/>
              <a:ext cx="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7111080" y="5938920"/>
              <a:ext cx="1998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11600" y="5938920"/>
              <a:ext cx="18072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869240" y="5938920"/>
              <a:ext cx="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254440" y="5938920"/>
              <a:ext cx="19548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450280" y="5938920"/>
              <a:ext cx="17568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77120" y="4419720"/>
              <a:ext cx="680040" cy="23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57160" y="5086440"/>
              <a:ext cx="393120" cy="226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61600" y="5086440"/>
              <a:ext cx="302040" cy="226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96040" y="4805280"/>
              <a:ext cx="302040" cy="22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796800" y="5575680"/>
              <a:ext cx="16164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58800" y="5575680"/>
              <a:ext cx="27504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007040" y="5313240"/>
              <a:ext cx="304200" cy="3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59560" y="5313240"/>
              <a:ext cx="63648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916760" y="5575680"/>
              <a:ext cx="33768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90800" y="5575680"/>
              <a:ext cx="22644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7453800" y="5019840"/>
              <a:ext cx="9504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5867280" y="5943600"/>
            <a:ext cx="60984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mezzo: Certainty in th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s a concept, represented by a Fusion Agent, uncer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hrase: when are we maximally uncertain about a hypo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(hypothesis) =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: ‘fir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‘there is a fir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Un)certainty curve: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Uncert(p) 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0.5, 0.25)(p)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ert (p) = 1.0 –( Uncert(p) / Uncert(0.5) )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Uncertainty above threshold means that 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hypothesis is unc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1554120" y="21798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design cont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man Agent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of a Human Agent is to remove uncertainty about the hypothesis of the Fusion Agent to which it belo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it already knows that Uncert(hypothesis) &lt; thres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percieve and update the Fusion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communicate with the Callc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Agen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man Agent can undertake one of two possible actions: he can contact the Callcenter, or he can choose not to do 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429000" y="3749760"/>
            <a:ext cx="2341440" cy="2193480"/>
            <a:chOff x="3429000" y="3749760"/>
            <a:chExt cx="2341440" cy="2193480"/>
          </a:xfrm>
        </p:grpSpPr>
        <p:sp>
          <p:nvSpPr>
            <p:cNvPr id="658" name=""/>
            <p:cNvSpPr/>
            <p:nvPr/>
          </p:nvSpPr>
          <p:spPr>
            <a:xfrm>
              <a:off x="3429000" y="4055040"/>
              <a:ext cx="2341440" cy="13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5414760"/>
              <a:ext cx="2341440" cy="52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79840" y="549036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8920" y="549036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35120" y="549036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13120" y="549036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90760" y="549036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68400" y="5490360"/>
              <a:ext cx="22644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46720" y="5112720"/>
              <a:ext cx="36360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08680" y="5112720"/>
              <a:ext cx="33480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70280" y="5112720"/>
              <a:ext cx="34452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41600" y="5112720"/>
              <a:ext cx="33480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48680" y="4749480"/>
              <a:ext cx="36000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5160" y="4749480"/>
              <a:ext cx="38592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1440" y="5339160"/>
              <a:ext cx="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062600" y="5339160"/>
              <a:ext cx="19980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62760" y="5339160"/>
              <a:ext cx="18072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20400" y="5339160"/>
              <a:ext cx="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205240" y="5339160"/>
              <a:ext cx="19548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01080" y="5339160"/>
              <a:ext cx="175680" cy="15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08680" y="4487400"/>
              <a:ext cx="392760" cy="226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3748320" y="4976280"/>
              <a:ext cx="16164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10680" y="4976280"/>
              <a:ext cx="27468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958920" y="4713840"/>
              <a:ext cx="303840" cy="3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0720" y="4713840"/>
              <a:ext cx="63576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867920" y="4976280"/>
              <a:ext cx="33768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41600" y="4976280"/>
              <a:ext cx="22644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29000" y="3749760"/>
              <a:ext cx="951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3742920" y="4524120"/>
              <a:ext cx="95040" cy="21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66800" y="4267080"/>
              <a:ext cx="428400" cy="313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85600" y="4105080"/>
              <a:ext cx="428400" cy="313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476240" y="4381200"/>
              <a:ext cx="123480" cy="17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5228280" y="4543200"/>
              <a:ext cx="95040" cy="21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52160" y="4286160"/>
              <a:ext cx="428400" cy="313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3676320" y="4038480"/>
              <a:ext cx="3780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4209480" y="4038480"/>
              <a:ext cx="2570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3942720" y="4047840"/>
              <a:ext cx="9997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Agen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a priority measure to a hypothesi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ity(hypothesis)=uncertainty(hypo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ontact if a lot of agents want to contact the Callc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tilit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n ag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tact the CC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tility(i) = priority(i) + ( 1 / length(queue)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: always contact if the hypothesis is maximally uncertain and/or if the HA is the only one in the que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Agent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 :: CC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Human Agent’s utility is high enough, it connects to the Callcenter through a so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lcenter is continuously listening to a port for requ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lient server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distributed character of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center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iority queue is maintained to store the incoming qu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lcenter decides which people to cont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eople have to be located. We simulated this with a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, firesquad and medics need up to date information during a crisis (via a control roo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s alone may not fulfill this need, and/or they may be malfuncti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near the crisis area can provide valuabl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center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627360" y="3368160"/>
            <a:ext cx="3067200" cy="7318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23880" y="1447920"/>
            <a:ext cx="6171480" cy="5088960"/>
            <a:chOff x="1523880" y="1447920"/>
            <a:chExt cx="6171480" cy="5088960"/>
          </a:xfrm>
        </p:grpSpPr>
        <p:sp>
          <p:nvSpPr>
            <p:cNvPr id="707" name=""/>
            <p:cNvSpPr/>
            <p:nvPr/>
          </p:nvSpPr>
          <p:spPr>
            <a:xfrm>
              <a:off x="3602880" y="3344760"/>
              <a:ext cx="406188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all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04800" y="5751360"/>
              <a:ext cx="4061880" cy="59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urier New"/>
                </a:rPr>
                <a:t>SMS gate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46720" y="5609880"/>
              <a:ext cx="5871960" cy="92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5208480" y="5668920"/>
              <a:ext cx="591480" cy="813600"/>
              <a:chOff x="5208480" y="5668920"/>
              <a:chExt cx="591480" cy="813600"/>
            </a:xfrm>
          </p:grpSpPr>
          <p:sp>
            <p:nvSpPr>
              <p:cNvPr id="711" name=""/>
              <p:cNvSpPr/>
              <p:nvPr/>
            </p:nvSpPr>
            <p:spPr>
              <a:xfrm>
                <a:off x="5616000" y="5668920"/>
                <a:ext cx="116640" cy="174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08480" y="5782320"/>
                <a:ext cx="591480" cy="700200"/>
              </a:xfrm>
              <a:custGeom>
                <a:avLst/>
                <a:gdLst>
                  <a:gd name="textAreaLeft" fmla="*/ 28800 w 591480"/>
                  <a:gd name="textAreaRight" fmla="*/ 562680 w 591480"/>
                  <a:gd name="textAreaTop" fmla="*/ 28800 h 700200"/>
                  <a:gd name="textAreaBottom" fmla="*/ 671400 h 700200"/>
                </a:gdLst>
                <a:ahLst/>
                <a:rect l="textAreaLeft" t="textAreaTop" r="textAreaRight" b="textAreaBottom"/>
                <a:pathLst>
                  <a:path w="21600" h="25568">
                    <a:moveTo>
                      <a:pt x="3600" y="0"/>
                    </a:moveTo>
                    <a:arcTo wR="3600" hR="3600" stAng="16200000" swAng="-5400000"/>
                    <a:lnTo>
                      <a:pt x="0" y="21968"/>
                    </a:lnTo>
                    <a:arcTo wR="3600" hR="3600" stAng="10800000" swAng="-5400000"/>
                    <a:lnTo>
                      <a:pt x="18000" y="255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82280" y="5866560"/>
                <a:ext cx="4323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282280" y="6114240"/>
                <a:ext cx="11664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92960" y="6114240"/>
                <a:ext cx="11700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10440" y="6108120"/>
                <a:ext cx="17100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82280" y="6224040"/>
                <a:ext cx="438840" cy="219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20160" y="622404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83240" y="62269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82280" y="6303240"/>
                <a:ext cx="429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92000" y="6376320"/>
                <a:ext cx="429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051240" y="5668920"/>
              <a:ext cx="588960" cy="813600"/>
              <a:chOff x="6051240" y="5668920"/>
              <a:chExt cx="588960" cy="813600"/>
            </a:xfrm>
          </p:grpSpPr>
          <p:sp>
            <p:nvSpPr>
              <p:cNvPr id="723" name=""/>
              <p:cNvSpPr/>
              <p:nvPr/>
            </p:nvSpPr>
            <p:spPr>
              <a:xfrm>
                <a:off x="6456960" y="5668920"/>
                <a:ext cx="115920" cy="174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051240" y="5782320"/>
                <a:ext cx="588960" cy="700200"/>
              </a:xfrm>
              <a:custGeom>
                <a:avLst/>
                <a:gdLst>
                  <a:gd name="textAreaLeft" fmla="*/ 28440 w 588960"/>
                  <a:gd name="textAreaRight" fmla="*/ 560520 w 588960"/>
                  <a:gd name="textAreaTop" fmla="*/ 28440 h 700200"/>
                  <a:gd name="textAreaBottom" fmla="*/ 671760 h 700200"/>
                </a:gdLst>
                <a:ahLst/>
                <a:rect l="textAreaLeft" t="textAreaTop" r="textAreaRight" b="textAreaBottom"/>
                <a:pathLst>
                  <a:path w="21600" h="25677">
                    <a:moveTo>
                      <a:pt x="3600" y="0"/>
                    </a:moveTo>
                    <a:arcTo wR="3600" hR="3600" stAng="16200000" swAng="-5400000"/>
                    <a:lnTo>
                      <a:pt x="0" y="22077"/>
                    </a:lnTo>
                    <a:arcTo wR="3600" hR="3600" stAng="10800000" swAng="-5400000"/>
                    <a:lnTo>
                      <a:pt x="18000" y="256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24680" y="5866560"/>
                <a:ext cx="4305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24680" y="6114240"/>
                <a:ext cx="1159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433920" y="6114240"/>
                <a:ext cx="11628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252480" y="6108120"/>
                <a:ext cx="170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24680" y="6224040"/>
                <a:ext cx="437040" cy="219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261840" y="622404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424200" y="62269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24680" y="6303240"/>
                <a:ext cx="427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134400" y="6376320"/>
                <a:ext cx="427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6894360" y="5668920"/>
              <a:ext cx="588600" cy="813600"/>
              <a:chOff x="6894360" y="5668920"/>
              <a:chExt cx="588600" cy="813600"/>
            </a:xfrm>
          </p:grpSpPr>
          <p:sp>
            <p:nvSpPr>
              <p:cNvPr id="735" name=""/>
              <p:cNvSpPr/>
              <p:nvPr/>
            </p:nvSpPr>
            <p:spPr>
              <a:xfrm>
                <a:off x="7299720" y="5668920"/>
                <a:ext cx="115920" cy="174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894360" y="5782320"/>
                <a:ext cx="588600" cy="700200"/>
              </a:xfrm>
              <a:custGeom>
                <a:avLst/>
                <a:gdLst>
                  <a:gd name="textAreaLeft" fmla="*/ 28440 w 588600"/>
                  <a:gd name="textAreaRight" fmla="*/ 560160 w 588600"/>
                  <a:gd name="textAreaTop" fmla="*/ 28440 h 700200"/>
                  <a:gd name="textAreaBottom" fmla="*/ 671760 h 700200"/>
                </a:gdLst>
                <a:ahLst/>
                <a:rect l="textAreaLeft" t="textAreaTop" r="textAreaRight" b="textAreaBottom"/>
                <a:pathLst>
                  <a:path w="21600" h="25693">
                    <a:moveTo>
                      <a:pt x="3600" y="0"/>
                    </a:moveTo>
                    <a:arcTo wR="3600" hR="3600" stAng="16200000" swAng="-5400000"/>
                    <a:lnTo>
                      <a:pt x="0" y="22093"/>
                    </a:lnTo>
                    <a:arcTo wR="3600" hR="3600" stAng="10800000" swAng="-5400000"/>
                    <a:lnTo>
                      <a:pt x="18000" y="2569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67800" y="5866560"/>
                <a:ext cx="43020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967800" y="6114240"/>
                <a:ext cx="1159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276680" y="6114240"/>
                <a:ext cx="11628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95240" y="6108120"/>
                <a:ext cx="170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67800" y="6224040"/>
                <a:ext cx="436680" cy="219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104960" y="622404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67320" y="62269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67800" y="6303240"/>
                <a:ext cx="42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77160" y="6376320"/>
                <a:ext cx="42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4366080" y="5668920"/>
              <a:ext cx="591480" cy="813600"/>
              <a:chOff x="4366080" y="5668920"/>
              <a:chExt cx="591480" cy="813600"/>
            </a:xfrm>
          </p:grpSpPr>
          <p:sp>
            <p:nvSpPr>
              <p:cNvPr id="747" name=""/>
              <p:cNvSpPr/>
              <p:nvPr/>
            </p:nvSpPr>
            <p:spPr>
              <a:xfrm>
                <a:off x="4773600" y="5668920"/>
                <a:ext cx="116640" cy="174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66080" y="5782320"/>
                <a:ext cx="591480" cy="700200"/>
              </a:xfrm>
              <a:custGeom>
                <a:avLst/>
                <a:gdLst>
                  <a:gd name="textAreaLeft" fmla="*/ 28800 w 591480"/>
                  <a:gd name="textAreaRight" fmla="*/ 562680 w 591480"/>
                  <a:gd name="textAreaTop" fmla="*/ 28800 h 700200"/>
                  <a:gd name="textAreaBottom" fmla="*/ 671400 h 700200"/>
                </a:gdLst>
                <a:ahLst/>
                <a:rect l="textAreaLeft" t="textAreaTop" r="textAreaRight" b="textAreaBottom"/>
                <a:pathLst>
                  <a:path w="21600" h="25568">
                    <a:moveTo>
                      <a:pt x="3600" y="0"/>
                    </a:moveTo>
                    <a:arcTo wR="3600" hR="3600" stAng="16200000" swAng="-5400000"/>
                    <a:lnTo>
                      <a:pt x="0" y="21968"/>
                    </a:lnTo>
                    <a:arcTo wR="3600" hR="3600" stAng="10800000" swAng="-5400000"/>
                    <a:lnTo>
                      <a:pt x="18000" y="255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39880" y="5866560"/>
                <a:ext cx="4323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439880" y="6114240"/>
                <a:ext cx="11664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750560" y="6114240"/>
                <a:ext cx="11700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68040" y="6108120"/>
                <a:ext cx="17100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439880" y="6224040"/>
                <a:ext cx="438840" cy="219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577760" y="622404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40840" y="62269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439880" y="6303240"/>
                <a:ext cx="429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49600" y="6376320"/>
                <a:ext cx="429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3522960" y="5668920"/>
              <a:ext cx="591480" cy="813600"/>
              <a:chOff x="3522960" y="5668920"/>
              <a:chExt cx="591480" cy="813600"/>
            </a:xfrm>
          </p:grpSpPr>
          <p:sp>
            <p:nvSpPr>
              <p:cNvPr id="759" name=""/>
              <p:cNvSpPr/>
              <p:nvPr/>
            </p:nvSpPr>
            <p:spPr>
              <a:xfrm>
                <a:off x="3930480" y="5668920"/>
                <a:ext cx="116640" cy="174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522960" y="5782320"/>
                <a:ext cx="591480" cy="700200"/>
              </a:xfrm>
              <a:custGeom>
                <a:avLst/>
                <a:gdLst>
                  <a:gd name="textAreaLeft" fmla="*/ 28800 w 591480"/>
                  <a:gd name="textAreaRight" fmla="*/ 562680 w 591480"/>
                  <a:gd name="textAreaTop" fmla="*/ 28800 h 700200"/>
                  <a:gd name="textAreaBottom" fmla="*/ 671400 h 700200"/>
                </a:gdLst>
                <a:ahLst/>
                <a:rect l="textAreaLeft" t="textAreaTop" r="textAreaRight" b="textAreaBottom"/>
                <a:pathLst>
                  <a:path w="21600" h="25568">
                    <a:moveTo>
                      <a:pt x="3600" y="0"/>
                    </a:moveTo>
                    <a:arcTo wR="3600" hR="3600" stAng="16200000" swAng="-5400000"/>
                    <a:lnTo>
                      <a:pt x="0" y="21968"/>
                    </a:lnTo>
                    <a:arcTo wR="3600" hR="3600" stAng="10800000" swAng="-5400000"/>
                    <a:lnTo>
                      <a:pt x="18000" y="255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596760" y="5866560"/>
                <a:ext cx="4323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596760" y="6114240"/>
                <a:ext cx="11664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907440" y="6114240"/>
                <a:ext cx="11700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724920" y="6108120"/>
                <a:ext cx="17100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96760" y="6224040"/>
                <a:ext cx="438840" cy="219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34640" y="622404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897720" y="62269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596760" y="6303240"/>
                <a:ext cx="429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606480" y="6376320"/>
                <a:ext cx="429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682720" y="5668920"/>
              <a:ext cx="588960" cy="813600"/>
              <a:chOff x="2682720" y="5668920"/>
              <a:chExt cx="588960" cy="813600"/>
            </a:xfrm>
          </p:grpSpPr>
          <p:sp>
            <p:nvSpPr>
              <p:cNvPr id="771" name=""/>
              <p:cNvSpPr/>
              <p:nvPr/>
            </p:nvSpPr>
            <p:spPr>
              <a:xfrm>
                <a:off x="3088440" y="5668920"/>
                <a:ext cx="115920" cy="174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682720" y="5782320"/>
                <a:ext cx="588960" cy="700200"/>
              </a:xfrm>
              <a:custGeom>
                <a:avLst/>
                <a:gdLst>
                  <a:gd name="textAreaLeft" fmla="*/ 28440 w 588960"/>
                  <a:gd name="textAreaRight" fmla="*/ 560520 w 588960"/>
                  <a:gd name="textAreaTop" fmla="*/ 28440 h 700200"/>
                  <a:gd name="textAreaBottom" fmla="*/ 671760 h 700200"/>
                </a:gdLst>
                <a:ahLst/>
                <a:rect l="textAreaLeft" t="textAreaTop" r="textAreaRight" b="textAreaBottom"/>
                <a:pathLst>
                  <a:path w="21600" h="25677">
                    <a:moveTo>
                      <a:pt x="3600" y="0"/>
                    </a:moveTo>
                    <a:arcTo wR="3600" hR="3600" stAng="16200000" swAng="-5400000"/>
                    <a:lnTo>
                      <a:pt x="0" y="22077"/>
                    </a:lnTo>
                    <a:arcTo wR="3600" hR="3600" stAng="10800000" swAng="-5400000"/>
                    <a:lnTo>
                      <a:pt x="18000" y="256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756160" y="5866560"/>
                <a:ext cx="4305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756160" y="6114240"/>
                <a:ext cx="1159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065400" y="6114240"/>
                <a:ext cx="11628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883960" y="6108120"/>
                <a:ext cx="170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756160" y="6224040"/>
                <a:ext cx="437040" cy="219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893320" y="622404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55680" y="62269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756160" y="6303240"/>
                <a:ext cx="427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765880" y="6376320"/>
                <a:ext cx="427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1840320" y="5668920"/>
              <a:ext cx="588960" cy="813600"/>
              <a:chOff x="1840320" y="5668920"/>
              <a:chExt cx="588960" cy="813600"/>
            </a:xfrm>
          </p:grpSpPr>
          <p:sp>
            <p:nvSpPr>
              <p:cNvPr id="783" name=""/>
              <p:cNvSpPr/>
              <p:nvPr/>
            </p:nvSpPr>
            <p:spPr>
              <a:xfrm>
                <a:off x="2246040" y="5668920"/>
                <a:ext cx="115920" cy="174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840320" y="5782320"/>
                <a:ext cx="588960" cy="700200"/>
              </a:xfrm>
              <a:custGeom>
                <a:avLst/>
                <a:gdLst>
                  <a:gd name="textAreaLeft" fmla="*/ 28440 w 588960"/>
                  <a:gd name="textAreaRight" fmla="*/ 560520 w 588960"/>
                  <a:gd name="textAreaTop" fmla="*/ 28440 h 700200"/>
                  <a:gd name="textAreaBottom" fmla="*/ 671760 h 700200"/>
                </a:gdLst>
                <a:ahLst/>
                <a:rect l="textAreaLeft" t="textAreaTop" r="textAreaRight" b="textAreaBottom"/>
                <a:pathLst>
                  <a:path w="21600" h="25677">
                    <a:moveTo>
                      <a:pt x="3600" y="0"/>
                    </a:moveTo>
                    <a:arcTo wR="3600" hR="3600" stAng="16200000" swAng="-5400000"/>
                    <a:lnTo>
                      <a:pt x="0" y="22077"/>
                    </a:lnTo>
                    <a:arcTo wR="3600" hR="3600" stAng="10800000" swAng="-5400000"/>
                    <a:lnTo>
                      <a:pt x="18000" y="256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913760" y="5866560"/>
                <a:ext cx="430560" cy="21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13760" y="6114240"/>
                <a:ext cx="1159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223000" y="6114240"/>
                <a:ext cx="11628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041560" y="6108120"/>
                <a:ext cx="170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913760" y="6224040"/>
                <a:ext cx="437040" cy="219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050920" y="622404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213280" y="6226920"/>
                <a:ext cx="0" cy="21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13760" y="6303240"/>
                <a:ext cx="427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23480" y="6376320"/>
                <a:ext cx="427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1523880" y="1447920"/>
              <a:ext cx="3571200" cy="1758600"/>
              <a:chOff x="1523880" y="1447920"/>
              <a:chExt cx="3571200" cy="1758600"/>
            </a:xfrm>
          </p:grpSpPr>
          <p:sp>
            <p:nvSpPr>
              <p:cNvPr id="795" name=""/>
              <p:cNvSpPr/>
              <p:nvPr/>
            </p:nvSpPr>
            <p:spPr>
              <a:xfrm>
                <a:off x="1523880" y="1447920"/>
                <a:ext cx="3571200" cy="175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0" lang="nl-NL" sz="1200" spc="-1" strike="noStrike">
                    <a:solidFill>
                      <a:srgbClr val="000000"/>
                    </a:solidFill>
                    <a:latin typeface="Courier New"/>
                  </a:rPr>
                  <a:t>Fusion ag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03880" y="2695680"/>
                <a:ext cx="690840" cy="367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863080" y="2695680"/>
                <a:ext cx="690840" cy="367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38680" y="2695680"/>
                <a:ext cx="690840" cy="367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3080" y="2039760"/>
                <a:ext cx="690840" cy="36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32920" y="2407320"/>
                <a:ext cx="1121040" cy="28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153960" y="2407320"/>
                <a:ext cx="0" cy="28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53960" y="2407320"/>
                <a:ext cx="1013400" cy="28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90760" y="2007360"/>
                <a:ext cx="744120" cy="40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559320" y="2211480"/>
                <a:ext cx="651240" cy="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3633480" y="4649760"/>
              <a:ext cx="4061880" cy="57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MS Gate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5178600" y="5227560"/>
              <a:ext cx="726480" cy="396360"/>
              <a:chOff x="5178600" y="5227560"/>
              <a:chExt cx="726480" cy="396360"/>
            </a:xfrm>
          </p:grpSpPr>
          <p:sp>
            <p:nvSpPr>
              <p:cNvPr id="807" name=""/>
              <p:cNvSpPr/>
              <p:nvPr/>
            </p:nvSpPr>
            <p:spPr>
              <a:xfrm flipH="1">
                <a:off x="5178600" y="5227560"/>
                <a:ext cx="565920" cy="23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178600" y="5342400"/>
                <a:ext cx="726480" cy="12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5227560" y="5347440"/>
                <a:ext cx="664200" cy="276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867000" y="3725640"/>
              <a:ext cx="638640" cy="5792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03800" y="3740040"/>
              <a:ext cx="638640" cy="578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08240" y="2193840"/>
              <a:ext cx="63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60920" y="2187360"/>
              <a:ext cx="0" cy="117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83240" y="4349520"/>
              <a:ext cx="13680" cy="29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center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database also reside human properties: age, proffesion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ing on the query, people are selected that are most likely to give a credible response: we prefer a doctor over an AI student for medical questions, and prefer AI students over 10 year olds in general 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question is general, a simple broadcast is done to all people in the crisi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center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s are also weighted: the response of a gas expert will be weighted heavily for a gas-qu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#‘yes’ &gt; #‘no’, send ‘yes’ back to the Human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nd implement a system that can determine whether or not more information is needed about a crisis situation. If so, contact to humans in the crisis area in order to retrieve the desire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tributed Perceptio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DP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: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 DPN is a multi-agent based approach to fusion of heterogeneous and distributed data. Bayesian inferences can be made. Data fusion node: Fusion Agent, sensor interpreting node: Sensor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ctually, we use JavaBayes, which is also being used by the UvA DPN sof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system flow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nsor registers a sudden change in value on a certai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ensor- and Fusion- Agents that are affected by this sensor are investigated, by the Concept Manager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Fusion Agents with high uncertainty in their hypotheses (see later on), get activ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DPN is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system flow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man Agent (…) is added to each Fusion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uman Agent contacts the Callcenter and sends a query about the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lcenter sends the query as an SMS to the appropriate human(s), and receives an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twork gets updated and the control room informed about th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599840"/>
            <a:ext cx="8229240" cy="5105520"/>
            <a:chOff x="457200" y="1599840"/>
            <a:chExt cx="8229240" cy="5105520"/>
          </a:xfrm>
        </p:grpSpPr>
        <p:sp>
          <p:nvSpPr>
            <p:cNvPr id="56" name=""/>
            <p:cNvSpPr/>
            <p:nvPr/>
          </p:nvSpPr>
          <p:spPr>
            <a:xfrm>
              <a:off x="466560" y="1622520"/>
              <a:ext cx="4521240" cy="398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ourier New"/>
                </a:rPr>
                <a:t>Distributed Perception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1880" y="1981080"/>
              <a:ext cx="959400" cy="9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Concept Manag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06360" y="1996560"/>
              <a:ext cx="959400" cy="9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Yellow pag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7720" y="3513600"/>
              <a:ext cx="234180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all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36880" y="5919120"/>
              <a:ext cx="2341800" cy="5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urier New"/>
                </a:rPr>
                <a:t>SMS gate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207960" y="3519720"/>
              <a:ext cx="879840" cy="616680"/>
              <a:chOff x="3207960" y="3519720"/>
              <a:chExt cx="879840" cy="616680"/>
            </a:xfrm>
          </p:grpSpPr>
          <p:sp>
            <p:nvSpPr>
              <p:cNvPr id="62" name=""/>
              <p:cNvSpPr/>
              <p:nvPr/>
            </p:nvSpPr>
            <p:spPr>
              <a:xfrm>
                <a:off x="3207960" y="3519720"/>
                <a:ext cx="879840" cy="61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252240" y="3587400"/>
                <a:ext cx="695880" cy="479520"/>
                <a:chOff x="3252240" y="3587400"/>
                <a:chExt cx="695880" cy="4795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252240" y="3894840"/>
                  <a:ext cx="169920" cy="17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37720" y="3894840"/>
                  <a:ext cx="169920" cy="17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778200" y="3894840"/>
                  <a:ext cx="169920" cy="17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37720" y="3587400"/>
                  <a:ext cx="169920" cy="172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>
                  <a:off x="3332880" y="3759480"/>
                  <a:ext cx="276120" cy="135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609360" y="3759480"/>
                  <a:ext cx="0" cy="135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09360" y="3759480"/>
                  <a:ext cx="249840" cy="135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3865320" y="3561840"/>
                <a:ext cx="183240" cy="19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709440" y="3655080"/>
                <a:ext cx="160200" cy="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57200" y="5778720"/>
              <a:ext cx="8185320" cy="92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nl-NL" sz="1200" spc="-1" strike="noStrike">
                  <a:solidFill>
                    <a:srgbClr val="000000"/>
                  </a:solidFill>
                  <a:latin typeface="Courier New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253280" y="5836680"/>
              <a:ext cx="340200" cy="815040"/>
              <a:chOff x="7253280" y="5836680"/>
              <a:chExt cx="340200" cy="815040"/>
            </a:xfrm>
          </p:grpSpPr>
          <p:sp>
            <p:nvSpPr>
              <p:cNvPr id="75" name=""/>
              <p:cNvSpPr/>
              <p:nvPr/>
            </p:nvSpPr>
            <p:spPr>
              <a:xfrm>
                <a:off x="7487640" y="5836680"/>
                <a:ext cx="66960" cy="174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53280" y="5950440"/>
                <a:ext cx="340200" cy="701280"/>
              </a:xfrm>
              <a:custGeom>
                <a:avLst/>
                <a:gdLst>
                  <a:gd name="textAreaLeft" fmla="*/ 16560 w 340200"/>
                  <a:gd name="textAreaRight" fmla="*/ 323640 w 340200"/>
                  <a:gd name="textAreaTop" fmla="*/ 16560 h 701280"/>
                  <a:gd name="textAreaBottom" fmla="*/ 684720 h 701280"/>
                </a:gdLst>
                <a:ahLst/>
                <a:rect l="textAreaLeft" t="textAreaTop" r="textAreaRight" b="textAreaBottom"/>
                <a:pathLst>
                  <a:path w="21600" h="44501">
                    <a:moveTo>
                      <a:pt x="3600" y="0"/>
                    </a:moveTo>
                    <a:arcTo wR="3600" hR="3600" stAng="16200000" swAng="-5400000"/>
                    <a:lnTo>
                      <a:pt x="0" y="40901"/>
                    </a:lnTo>
                    <a:arcTo wR="3600" hR="3600" stAng="10800000" swAng="-5400000"/>
                    <a:lnTo>
                      <a:pt x="18000" y="44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95400" y="6034680"/>
                <a:ext cx="248760" cy="22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95400" y="6282720"/>
                <a:ext cx="6696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474320" y="6282720"/>
                <a:ext cx="673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69200" y="6276600"/>
                <a:ext cx="98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95400" y="6392520"/>
                <a:ext cx="252360" cy="219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74960" y="639252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68560" y="639540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95400" y="647172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01160" y="654480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38560" y="5836680"/>
              <a:ext cx="340200" cy="815040"/>
              <a:chOff x="7738560" y="5836680"/>
              <a:chExt cx="340200" cy="815040"/>
            </a:xfrm>
          </p:grpSpPr>
          <p:sp>
            <p:nvSpPr>
              <p:cNvPr id="87" name=""/>
              <p:cNvSpPr/>
              <p:nvPr/>
            </p:nvSpPr>
            <p:spPr>
              <a:xfrm>
                <a:off x="7972920" y="5836680"/>
                <a:ext cx="66960" cy="174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38560" y="5950440"/>
                <a:ext cx="340200" cy="701280"/>
              </a:xfrm>
              <a:custGeom>
                <a:avLst/>
                <a:gdLst>
                  <a:gd name="textAreaLeft" fmla="*/ 16560 w 340200"/>
                  <a:gd name="textAreaRight" fmla="*/ 323640 w 340200"/>
                  <a:gd name="textAreaTop" fmla="*/ 16560 h 701280"/>
                  <a:gd name="textAreaBottom" fmla="*/ 684720 h 701280"/>
                </a:gdLst>
                <a:ahLst/>
                <a:rect l="textAreaLeft" t="textAreaTop" r="textAreaRight" b="textAreaBottom"/>
                <a:pathLst>
                  <a:path w="21600" h="44501">
                    <a:moveTo>
                      <a:pt x="3600" y="0"/>
                    </a:moveTo>
                    <a:arcTo wR="3600" hR="3600" stAng="16200000" swAng="-5400000"/>
                    <a:lnTo>
                      <a:pt x="0" y="40901"/>
                    </a:lnTo>
                    <a:arcTo wR="3600" hR="3600" stAng="10800000" swAng="-5400000"/>
                    <a:lnTo>
                      <a:pt x="18000" y="44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80680" y="6034680"/>
                <a:ext cx="248760" cy="22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780680" y="6282720"/>
                <a:ext cx="6696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959600" y="6282720"/>
                <a:ext cx="673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854480" y="6276600"/>
                <a:ext cx="98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80680" y="6392520"/>
                <a:ext cx="252360" cy="219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60240" y="639252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53840" y="639540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780680" y="647172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86440" y="654480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8224200" y="5836680"/>
              <a:ext cx="340200" cy="815040"/>
              <a:chOff x="8224200" y="5836680"/>
              <a:chExt cx="340200" cy="815040"/>
            </a:xfrm>
          </p:grpSpPr>
          <p:sp>
            <p:nvSpPr>
              <p:cNvPr id="99" name=""/>
              <p:cNvSpPr/>
              <p:nvPr/>
            </p:nvSpPr>
            <p:spPr>
              <a:xfrm>
                <a:off x="8458560" y="5836680"/>
                <a:ext cx="66960" cy="174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24200" y="5950440"/>
                <a:ext cx="340200" cy="701280"/>
              </a:xfrm>
              <a:custGeom>
                <a:avLst/>
                <a:gdLst>
                  <a:gd name="textAreaLeft" fmla="*/ 16560 w 340200"/>
                  <a:gd name="textAreaRight" fmla="*/ 323640 w 340200"/>
                  <a:gd name="textAreaTop" fmla="*/ 16560 h 701280"/>
                  <a:gd name="textAreaBottom" fmla="*/ 684720 h 701280"/>
                </a:gdLst>
                <a:ahLst/>
                <a:rect l="textAreaLeft" t="textAreaTop" r="textAreaRight" b="textAreaBottom"/>
                <a:pathLst>
                  <a:path w="21600" h="44501">
                    <a:moveTo>
                      <a:pt x="3600" y="0"/>
                    </a:moveTo>
                    <a:arcTo wR="3600" hR="3600" stAng="16200000" swAng="-5400000"/>
                    <a:lnTo>
                      <a:pt x="0" y="40901"/>
                    </a:lnTo>
                    <a:arcTo wR="3600" hR="3600" stAng="10800000" swAng="-5400000"/>
                    <a:lnTo>
                      <a:pt x="18000" y="44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66320" y="6034680"/>
                <a:ext cx="248760" cy="22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66320" y="6282720"/>
                <a:ext cx="6696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5240" y="6282720"/>
                <a:ext cx="673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40120" y="6276600"/>
                <a:ext cx="98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66320" y="6392520"/>
                <a:ext cx="252360" cy="219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45880" y="639252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39480" y="639540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266320" y="647172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272080" y="654480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767640" y="5836680"/>
              <a:ext cx="340560" cy="815040"/>
              <a:chOff x="6767640" y="5836680"/>
              <a:chExt cx="340560" cy="815040"/>
            </a:xfrm>
          </p:grpSpPr>
          <p:sp>
            <p:nvSpPr>
              <p:cNvPr id="111" name=""/>
              <p:cNvSpPr/>
              <p:nvPr/>
            </p:nvSpPr>
            <p:spPr>
              <a:xfrm>
                <a:off x="7002000" y="5836680"/>
                <a:ext cx="66960" cy="174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67640" y="5950440"/>
                <a:ext cx="340560" cy="701280"/>
              </a:xfrm>
              <a:custGeom>
                <a:avLst/>
                <a:gdLst>
                  <a:gd name="textAreaLeft" fmla="*/ 16560 w 340560"/>
                  <a:gd name="textAreaRight" fmla="*/ 324000 w 340560"/>
                  <a:gd name="textAreaTop" fmla="*/ 16560 h 701280"/>
                  <a:gd name="textAreaBottom" fmla="*/ 684720 h 701280"/>
                </a:gdLst>
                <a:ahLst/>
                <a:rect l="textAreaLeft" t="textAreaTop" r="textAreaRight" b="textAreaBottom"/>
                <a:pathLst>
                  <a:path w="21600" h="44454">
                    <a:moveTo>
                      <a:pt x="3600" y="0"/>
                    </a:moveTo>
                    <a:arcTo wR="3600" hR="3600" stAng="16200000" swAng="-5400000"/>
                    <a:lnTo>
                      <a:pt x="0" y="40854"/>
                    </a:lnTo>
                    <a:arcTo wR="3600" hR="3600" stAng="10800000" swAng="-5400000"/>
                    <a:lnTo>
                      <a:pt x="18000" y="44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10120" y="6034680"/>
                <a:ext cx="248760" cy="22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10120" y="6282720"/>
                <a:ext cx="6696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88680" y="6282720"/>
                <a:ext cx="673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83920" y="6276600"/>
                <a:ext cx="98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10120" y="6392520"/>
                <a:ext cx="252360" cy="219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89320" y="639252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983280" y="639540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10120" y="6471720"/>
                <a:ext cx="24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15520" y="6544800"/>
                <a:ext cx="24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82360" y="5836680"/>
              <a:ext cx="340560" cy="815040"/>
              <a:chOff x="6282360" y="5836680"/>
              <a:chExt cx="340560" cy="815040"/>
            </a:xfrm>
          </p:grpSpPr>
          <p:sp>
            <p:nvSpPr>
              <p:cNvPr id="123" name=""/>
              <p:cNvSpPr/>
              <p:nvPr/>
            </p:nvSpPr>
            <p:spPr>
              <a:xfrm>
                <a:off x="6516720" y="5836680"/>
                <a:ext cx="66960" cy="174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82360" y="5950440"/>
                <a:ext cx="340560" cy="701280"/>
              </a:xfrm>
              <a:custGeom>
                <a:avLst/>
                <a:gdLst>
                  <a:gd name="textAreaLeft" fmla="*/ 16560 w 340560"/>
                  <a:gd name="textAreaRight" fmla="*/ 324000 w 340560"/>
                  <a:gd name="textAreaTop" fmla="*/ 16560 h 701280"/>
                  <a:gd name="textAreaBottom" fmla="*/ 684720 h 701280"/>
                </a:gdLst>
                <a:ahLst/>
                <a:rect l="textAreaLeft" t="textAreaTop" r="textAreaRight" b="textAreaBottom"/>
                <a:pathLst>
                  <a:path w="21600" h="44454">
                    <a:moveTo>
                      <a:pt x="3600" y="0"/>
                    </a:moveTo>
                    <a:arcTo wR="3600" hR="3600" stAng="16200000" swAng="-5400000"/>
                    <a:lnTo>
                      <a:pt x="0" y="40854"/>
                    </a:lnTo>
                    <a:arcTo wR="3600" hR="3600" stAng="10800000" swAng="-5400000"/>
                    <a:lnTo>
                      <a:pt x="18000" y="44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24840" y="6034680"/>
                <a:ext cx="248760" cy="22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24840" y="6282720"/>
                <a:ext cx="6696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3400" y="6282720"/>
                <a:ext cx="673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98640" y="6276600"/>
                <a:ext cx="98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4840" y="6392520"/>
                <a:ext cx="252360" cy="219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04040" y="639252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98000" y="639540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840" y="6471720"/>
                <a:ext cx="24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30240" y="6544800"/>
                <a:ext cx="24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535760" y="4562640"/>
              <a:ext cx="618480" cy="1633320"/>
              <a:chOff x="1535760" y="4562640"/>
              <a:chExt cx="618480" cy="16333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538280" y="4562640"/>
                <a:ext cx="602640" cy="977040"/>
                <a:chOff x="1538280" y="4562640"/>
                <a:chExt cx="602640" cy="97704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1538280" y="4562640"/>
                  <a:ext cx="602640" cy="616680"/>
                  <a:chOff x="1538280" y="4562640"/>
                  <a:chExt cx="602640" cy="6166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1538280" y="4562640"/>
                    <a:ext cx="602640" cy="616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591200" y="4938480"/>
                    <a:ext cx="17028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831320" y="4938480"/>
                    <a:ext cx="17028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591200" y="4630320"/>
                    <a:ext cx="170280" cy="17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662840" y="4802400"/>
                    <a:ext cx="0" cy="136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662840" y="4802400"/>
                    <a:ext cx="249480" cy="136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18440" y="4605120"/>
                    <a:ext cx="18252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762200" y="4697640"/>
                    <a:ext cx="159840" cy="720"/>
                  </a:xfrm>
                  <a:prstGeom prst="line">
                    <a:avLst/>
                  </a:prstGeom>
                  <a:ln cap="rnd" w="9360">
                    <a:solidFill>
                      <a:srgbClr val="ff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1539000" y="5280840"/>
                  <a:ext cx="264960" cy="258840"/>
                  <a:chOff x="1539000" y="5280840"/>
                  <a:chExt cx="264960" cy="2588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539000" y="5280840"/>
                    <a:ext cx="264960" cy="258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599120" y="5326200"/>
                    <a:ext cx="150840" cy="167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1873800" y="5280840"/>
                  <a:ext cx="264960" cy="258840"/>
                  <a:chOff x="1873800" y="5280840"/>
                  <a:chExt cx="264960" cy="2588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1873800" y="5280840"/>
                    <a:ext cx="264960" cy="258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33920" y="5326200"/>
                    <a:ext cx="150840" cy="167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1672560" y="5111280"/>
                  <a:ext cx="0" cy="207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22040" y="5108040"/>
                  <a:ext cx="76320" cy="210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535760" y="5906880"/>
                <a:ext cx="283680" cy="28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70560" y="5900760"/>
                <a:ext cx="283680" cy="2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74720" y="550224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13480" y="549324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261600" y="4562640"/>
              <a:ext cx="612720" cy="1636560"/>
              <a:chOff x="3261600" y="4562640"/>
              <a:chExt cx="612720" cy="163656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261600" y="4562640"/>
                <a:ext cx="602640" cy="977040"/>
                <a:chOff x="3261600" y="4562640"/>
                <a:chExt cx="602640" cy="97704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3261600" y="4562640"/>
                  <a:ext cx="602640" cy="616680"/>
                  <a:chOff x="3261600" y="4562640"/>
                  <a:chExt cx="602640" cy="6166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3261600" y="4562640"/>
                    <a:ext cx="602640" cy="616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314520" y="4938480"/>
                    <a:ext cx="17028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554640" y="4938480"/>
                    <a:ext cx="17028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314520" y="4630320"/>
                    <a:ext cx="170280" cy="171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386160" y="4802400"/>
                    <a:ext cx="0" cy="136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386160" y="4802400"/>
                    <a:ext cx="249480" cy="136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641760" y="4605120"/>
                    <a:ext cx="18252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485520" y="4697640"/>
                    <a:ext cx="159840" cy="720"/>
                  </a:xfrm>
                  <a:prstGeom prst="line">
                    <a:avLst/>
                  </a:prstGeom>
                  <a:ln cap="rnd" w="9360">
                    <a:solidFill>
                      <a:srgbClr val="ff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3262320" y="5280840"/>
                  <a:ext cx="264960" cy="258840"/>
                  <a:chOff x="3262320" y="5280840"/>
                  <a:chExt cx="264960" cy="2588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3262320" y="5280840"/>
                    <a:ext cx="264960" cy="258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322440" y="5326200"/>
                    <a:ext cx="150840" cy="167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3597120" y="5280840"/>
                  <a:ext cx="264960" cy="258840"/>
                  <a:chOff x="3597120" y="5280840"/>
                  <a:chExt cx="264960" cy="25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3597120" y="5280840"/>
                    <a:ext cx="264960" cy="258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657240" y="5326200"/>
                    <a:ext cx="150840" cy="167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3395880" y="5111280"/>
                  <a:ext cx="0" cy="207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45360" y="5108040"/>
                  <a:ext cx="76320" cy="210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3267000" y="5909760"/>
                <a:ext cx="283680" cy="2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90640" y="5906880"/>
                <a:ext cx="283680" cy="28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03080" y="549324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34640" y="549396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10840" y="5900760"/>
              <a:ext cx="283680" cy="28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16600" y="4562640"/>
              <a:ext cx="937440" cy="971280"/>
              <a:chOff x="516600" y="4562640"/>
              <a:chExt cx="937440" cy="9712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572040" y="4562640"/>
                <a:ext cx="879840" cy="616680"/>
                <a:chOff x="572040" y="4562640"/>
                <a:chExt cx="879840" cy="61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72040" y="4562640"/>
                  <a:ext cx="879840" cy="616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616320" y="4630320"/>
                  <a:ext cx="695880" cy="479520"/>
                  <a:chOff x="616320" y="4630320"/>
                  <a:chExt cx="695880" cy="4795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616320" y="4937760"/>
                    <a:ext cx="169920" cy="17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901800" y="4937760"/>
                    <a:ext cx="169920" cy="17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142280" y="4937760"/>
                    <a:ext cx="169920" cy="17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901800" y="4630320"/>
                    <a:ext cx="169920" cy="17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696960" y="4802400"/>
                    <a:ext cx="276120" cy="1350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973440" y="4802400"/>
                    <a:ext cx="0" cy="1350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973440" y="4802400"/>
                    <a:ext cx="249840" cy="1350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1229400" y="4604760"/>
                  <a:ext cx="183240" cy="191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073520" y="4698000"/>
                  <a:ext cx="160200" cy="0"/>
                </a:xfrm>
                <a:prstGeom prst="line">
                  <a:avLst/>
                </a:prstGeom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16600" y="5274720"/>
                <a:ext cx="264600" cy="259200"/>
                <a:chOff x="516600" y="5274720"/>
                <a:chExt cx="264600" cy="259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16600" y="5274720"/>
                  <a:ext cx="264600" cy="25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76720" y="5320080"/>
                  <a:ext cx="150840" cy="16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854280" y="5271840"/>
                <a:ext cx="264960" cy="259200"/>
                <a:chOff x="854280" y="5271840"/>
                <a:chExt cx="264960" cy="259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854280" y="5271840"/>
                  <a:ext cx="264960" cy="25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914400" y="5317200"/>
                  <a:ext cx="150840" cy="16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189080" y="5271840"/>
                <a:ext cx="264960" cy="259200"/>
                <a:chOff x="1189080" y="5271840"/>
                <a:chExt cx="264960" cy="259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189080" y="5271840"/>
                  <a:ext cx="264960" cy="25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249200" y="5317200"/>
                  <a:ext cx="150840" cy="16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 flipH="1">
                <a:off x="656280" y="5112360"/>
                <a:ext cx="33120" cy="207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981000" y="5107320"/>
                <a:ext cx="720" cy="210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36240" y="5110200"/>
                <a:ext cx="83160" cy="204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848880" y="5900760"/>
              <a:ext cx="283680" cy="28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0800" y="5903640"/>
              <a:ext cx="283680" cy="28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9080" y="5487120"/>
              <a:ext cx="0" cy="404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000" y="5494320"/>
              <a:ext cx="0" cy="404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23000" y="5495400"/>
              <a:ext cx="0" cy="404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7040" y="4562640"/>
              <a:ext cx="956160" cy="1630440"/>
              <a:chOff x="2237040" y="4562640"/>
              <a:chExt cx="956160" cy="16304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2237040" y="4562640"/>
                <a:ext cx="937440" cy="971280"/>
                <a:chOff x="2237040" y="4562640"/>
                <a:chExt cx="937440" cy="97128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2292480" y="4562640"/>
                  <a:ext cx="879840" cy="616680"/>
                  <a:chOff x="2292480" y="4562640"/>
                  <a:chExt cx="879840" cy="6166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292480" y="4562640"/>
                    <a:ext cx="879840" cy="616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336760" y="4630320"/>
                    <a:ext cx="695880" cy="479520"/>
                    <a:chOff x="2336760" y="4630320"/>
                    <a:chExt cx="695880" cy="47952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336760" y="493776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2622240" y="493776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2862720" y="493776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2622240" y="463032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2417400" y="4802400"/>
                      <a:ext cx="276120" cy="1350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2693880" y="4802400"/>
                      <a:ext cx="0" cy="1350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2693880" y="4802400"/>
                      <a:ext cx="249840" cy="1350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3" name=""/>
                  <p:cNvSpPr/>
                  <p:nvPr/>
                </p:nvSpPr>
                <p:spPr>
                  <a:xfrm>
                    <a:off x="2949840" y="4604760"/>
                    <a:ext cx="18324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793960" y="4698000"/>
                    <a:ext cx="160200" cy="0"/>
                  </a:xfrm>
                  <a:prstGeom prst="line">
                    <a:avLst/>
                  </a:prstGeom>
                  <a:ln cap="rnd" w="9360">
                    <a:solidFill>
                      <a:srgbClr val="ff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2237040" y="5274720"/>
                  <a:ext cx="264600" cy="259200"/>
                  <a:chOff x="2237040" y="5274720"/>
                  <a:chExt cx="264600" cy="2592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2237040" y="5274720"/>
                    <a:ext cx="264600" cy="25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297160" y="5320080"/>
                    <a:ext cx="1508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574720" y="5271840"/>
                  <a:ext cx="264960" cy="259200"/>
                  <a:chOff x="2574720" y="5271840"/>
                  <a:chExt cx="264960" cy="259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574720" y="5271840"/>
                    <a:ext cx="264960" cy="25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634840" y="5317200"/>
                    <a:ext cx="1508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2909520" y="5271840"/>
                  <a:ext cx="264960" cy="259200"/>
                  <a:chOff x="2909520" y="5271840"/>
                  <a:chExt cx="264960" cy="2592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2909520" y="5271840"/>
                    <a:ext cx="264960" cy="25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969640" y="5317200"/>
                    <a:ext cx="1508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 flipH="1">
                  <a:off x="2376720" y="5112360"/>
                  <a:ext cx="33120" cy="207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2701440" y="5107320"/>
                  <a:ext cx="720" cy="210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56680" y="5110200"/>
                  <a:ext cx="83160" cy="204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2237040" y="5903640"/>
                <a:ext cx="283680" cy="2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68960" y="5900760"/>
                <a:ext cx="283680" cy="2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09520" y="5900760"/>
                <a:ext cx="283680" cy="2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72400" y="548712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05040" y="549540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45960" y="548604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962880" y="4562640"/>
              <a:ext cx="959040" cy="1633320"/>
              <a:chOff x="3962880" y="4562640"/>
              <a:chExt cx="959040" cy="163332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965760" y="4562640"/>
                <a:ext cx="937440" cy="971280"/>
                <a:chOff x="3965760" y="4562640"/>
                <a:chExt cx="937440" cy="97128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4021200" y="4562640"/>
                  <a:ext cx="879840" cy="616680"/>
                  <a:chOff x="4021200" y="4562640"/>
                  <a:chExt cx="879840" cy="61668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4021200" y="4562640"/>
                    <a:ext cx="879840" cy="616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4065480" y="4630320"/>
                    <a:ext cx="695880" cy="479520"/>
                    <a:chOff x="4065480" y="4630320"/>
                    <a:chExt cx="695880" cy="47952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065480" y="493776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350960" y="493776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591440" y="493776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350960" y="4630320"/>
                      <a:ext cx="169920" cy="172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4146120" y="4802400"/>
                      <a:ext cx="276120" cy="1350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422600" y="4802400"/>
                      <a:ext cx="0" cy="1350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422600" y="4802400"/>
                      <a:ext cx="249840" cy="1350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5" name=""/>
                  <p:cNvSpPr/>
                  <p:nvPr/>
                </p:nvSpPr>
                <p:spPr>
                  <a:xfrm>
                    <a:off x="4678560" y="4604760"/>
                    <a:ext cx="183240" cy="19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522680" y="4698000"/>
                    <a:ext cx="160200" cy="0"/>
                  </a:xfrm>
                  <a:prstGeom prst="line">
                    <a:avLst/>
                  </a:prstGeom>
                  <a:ln cap="rnd" w="9360">
                    <a:solidFill>
                      <a:srgbClr val="ff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965760" y="5274720"/>
                  <a:ext cx="264600" cy="259200"/>
                  <a:chOff x="3965760" y="5274720"/>
                  <a:chExt cx="264600" cy="2592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965760" y="5274720"/>
                    <a:ext cx="264600" cy="25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025880" y="5320080"/>
                    <a:ext cx="1508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4303440" y="5271840"/>
                  <a:ext cx="264960" cy="259200"/>
                  <a:chOff x="4303440" y="5271840"/>
                  <a:chExt cx="264960" cy="259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4303440" y="5271840"/>
                    <a:ext cx="264960" cy="25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363560" y="5317200"/>
                    <a:ext cx="1508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4638240" y="5271840"/>
                  <a:ext cx="264960" cy="259200"/>
                  <a:chOff x="4638240" y="5271840"/>
                  <a:chExt cx="264960" cy="2592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638240" y="5271840"/>
                    <a:ext cx="264960" cy="259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698360" y="5317200"/>
                    <a:ext cx="1508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 flipH="1">
                  <a:off x="4105440" y="5112360"/>
                  <a:ext cx="33120" cy="207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4430160" y="5107320"/>
                  <a:ext cx="720" cy="210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685400" y="5110200"/>
                  <a:ext cx="83160" cy="204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3962880" y="5906880"/>
                <a:ext cx="283680" cy="28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97680" y="5906880"/>
                <a:ext cx="283680" cy="28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38240" y="5903640"/>
                <a:ext cx="283680" cy="28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06520" y="548712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39520" y="549540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80080" y="5495400"/>
                <a:ext cx="0" cy="40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796720" y="5836680"/>
              <a:ext cx="340560" cy="815040"/>
              <a:chOff x="5796720" y="5836680"/>
              <a:chExt cx="340560" cy="815040"/>
            </a:xfrm>
          </p:grpSpPr>
          <p:sp>
            <p:nvSpPr>
              <p:cNvPr id="276" name=""/>
              <p:cNvSpPr/>
              <p:nvPr/>
            </p:nvSpPr>
            <p:spPr>
              <a:xfrm>
                <a:off x="6031080" y="5836680"/>
                <a:ext cx="66960" cy="174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96720" y="5950440"/>
                <a:ext cx="340560" cy="701280"/>
              </a:xfrm>
              <a:custGeom>
                <a:avLst/>
                <a:gdLst>
                  <a:gd name="textAreaLeft" fmla="*/ 16560 w 340560"/>
                  <a:gd name="textAreaRight" fmla="*/ 324000 w 340560"/>
                  <a:gd name="textAreaTop" fmla="*/ 16560 h 701280"/>
                  <a:gd name="textAreaBottom" fmla="*/ 684720 h 701280"/>
                </a:gdLst>
                <a:ahLst/>
                <a:rect l="textAreaLeft" t="textAreaTop" r="textAreaRight" b="textAreaBottom"/>
                <a:pathLst>
                  <a:path w="21600" h="44454">
                    <a:moveTo>
                      <a:pt x="3600" y="0"/>
                    </a:moveTo>
                    <a:arcTo wR="3600" hR="3600" stAng="16200000" swAng="-5400000"/>
                    <a:lnTo>
                      <a:pt x="0" y="40854"/>
                    </a:lnTo>
                    <a:arcTo wR="3600" hR="3600" stAng="10800000" swAng="-5400000"/>
                    <a:lnTo>
                      <a:pt x="18000" y="44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39200" y="6034680"/>
                <a:ext cx="248760" cy="22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39200" y="6282720"/>
                <a:ext cx="6696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17760" y="6282720"/>
                <a:ext cx="673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13000" y="6276600"/>
                <a:ext cx="98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39200" y="6392520"/>
                <a:ext cx="252360" cy="219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18400" y="639252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360" y="639540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39200" y="6471720"/>
                <a:ext cx="24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44600" y="6544800"/>
                <a:ext cx="2469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311440" y="5836680"/>
              <a:ext cx="340200" cy="815040"/>
              <a:chOff x="5311440" y="5836680"/>
              <a:chExt cx="340200" cy="815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545800" y="5836680"/>
                <a:ext cx="66960" cy="174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311440" y="5950440"/>
                <a:ext cx="340200" cy="701280"/>
              </a:xfrm>
              <a:custGeom>
                <a:avLst/>
                <a:gdLst>
                  <a:gd name="textAreaLeft" fmla="*/ 16560 w 340200"/>
                  <a:gd name="textAreaRight" fmla="*/ 323640 w 340200"/>
                  <a:gd name="textAreaTop" fmla="*/ 16560 h 701280"/>
                  <a:gd name="textAreaBottom" fmla="*/ 684720 h 701280"/>
                </a:gdLst>
                <a:ahLst/>
                <a:rect l="textAreaLeft" t="textAreaTop" r="textAreaRight" b="textAreaBottom"/>
                <a:pathLst>
                  <a:path w="21600" h="44501">
                    <a:moveTo>
                      <a:pt x="3600" y="0"/>
                    </a:moveTo>
                    <a:arcTo wR="3600" hR="3600" stAng="16200000" swAng="-5400000"/>
                    <a:lnTo>
                      <a:pt x="0" y="40901"/>
                    </a:lnTo>
                    <a:arcTo wR="3600" hR="3600" stAng="10800000" swAng="-5400000"/>
                    <a:lnTo>
                      <a:pt x="18000" y="445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53560" y="6034680"/>
                <a:ext cx="248760" cy="22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M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53560" y="6282720"/>
                <a:ext cx="6696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32480" y="6282720"/>
                <a:ext cx="67320" cy="7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27360" y="6276600"/>
                <a:ext cx="98280" cy="7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53560" y="6392520"/>
                <a:ext cx="252360" cy="219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33120" y="639252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26720" y="6395400"/>
                <a:ext cx="0" cy="2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53560" y="647172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59320" y="6544800"/>
                <a:ext cx="24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081440" y="3525840"/>
              <a:ext cx="602640" cy="616680"/>
              <a:chOff x="1081440" y="3525840"/>
              <a:chExt cx="602640" cy="616680"/>
            </a:xfrm>
          </p:grpSpPr>
          <p:sp>
            <p:nvSpPr>
              <p:cNvPr id="300" name=""/>
              <p:cNvSpPr/>
              <p:nvPr/>
            </p:nvSpPr>
            <p:spPr>
              <a:xfrm>
                <a:off x="1081440" y="3525840"/>
                <a:ext cx="602640" cy="61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134360" y="3901680"/>
                <a:ext cx="17028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74480" y="3901680"/>
                <a:ext cx="17028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34360" y="3593520"/>
                <a:ext cx="170280" cy="17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06000" y="3765600"/>
                <a:ext cx="0" cy="13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06000" y="3765600"/>
                <a:ext cx="249480" cy="13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61600" y="3568320"/>
                <a:ext cx="182520" cy="19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05360" y="3660840"/>
                <a:ext cx="159840" cy="72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237040" y="2593080"/>
              <a:ext cx="602640" cy="616680"/>
              <a:chOff x="2237040" y="2593080"/>
              <a:chExt cx="602640" cy="616680"/>
            </a:xfrm>
          </p:grpSpPr>
          <p:sp>
            <p:nvSpPr>
              <p:cNvPr id="309" name=""/>
              <p:cNvSpPr/>
              <p:nvPr/>
            </p:nvSpPr>
            <p:spPr>
              <a:xfrm>
                <a:off x="2237040" y="2593080"/>
                <a:ext cx="602640" cy="61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89960" y="2968920"/>
                <a:ext cx="17028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530080" y="2968920"/>
                <a:ext cx="17028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89960" y="2660760"/>
                <a:ext cx="170280" cy="17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61600" y="2832840"/>
                <a:ext cx="0" cy="13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600" y="2832840"/>
                <a:ext cx="249480" cy="13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17200" y="2635560"/>
                <a:ext cx="182520" cy="19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60960" y="2728080"/>
                <a:ext cx="159840" cy="72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V="1">
              <a:off x="996120" y="4071600"/>
              <a:ext cx="212760" cy="54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1453320" y="4069080"/>
              <a:ext cx="223920" cy="55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708280" y="4066560"/>
              <a:ext cx="632880" cy="566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400920" y="4066560"/>
              <a:ext cx="221040" cy="56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66400" y="4066560"/>
              <a:ext cx="567720" cy="56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212120" y="3139200"/>
              <a:ext cx="1166400" cy="45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06040" y="3133440"/>
              <a:ext cx="1016280" cy="45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176640" y="1599840"/>
              <a:ext cx="1958760" cy="193572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84920" y="3368160"/>
              <a:ext cx="3065760" cy="73152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129640" y="1615320"/>
              <a:ext cx="2058120" cy="1760040"/>
              <a:chOff x="5129640" y="1615320"/>
              <a:chExt cx="2058120" cy="1760040"/>
            </a:xfrm>
          </p:grpSpPr>
          <p:sp>
            <p:nvSpPr>
              <p:cNvPr id="327" name=""/>
              <p:cNvSpPr/>
              <p:nvPr/>
            </p:nvSpPr>
            <p:spPr>
              <a:xfrm>
                <a:off x="5129640" y="1615320"/>
                <a:ext cx="2058120" cy="176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0" lang="nl-NL" sz="1200" spc="-1" strike="noStrike">
                    <a:solidFill>
                      <a:srgbClr val="000000"/>
                    </a:solidFill>
                    <a:latin typeface="Courier New"/>
                  </a:rPr>
                  <a:t>Fusion ag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33320" y="2864160"/>
                <a:ext cx="398160" cy="36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901480" y="2864160"/>
                <a:ext cx="398160" cy="36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63440" y="2864160"/>
                <a:ext cx="398160" cy="36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01480" y="2207880"/>
                <a:ext cx="398160" cy="367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23040" y="2575440"/>
                <a:ext cx="645840" cy="288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68880" y="2575440"/>
                <a:ext cx="0" cy="288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68880" y="2575440"/>
                <a:ext cx="583920" cy="288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66480" y="2175120"/>
                <a:ext cx="428760" cy="40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02520" y="2379240"/>
                <a:ext cx="375120" cy="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344640" y="4817520"/>
              <a:ext cx="234180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MS Gate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236000" y="5395680"/>
              <a:ext cx="419040" cy="395640"/>
              <a:chOff x="7236000" y="5395680"/>
              <a:chExt cx="419040" cy="395640"/>
            </a:xfrm>
          </p:grpSpPr>
          <p:sp>
            <p:nvSpPr>
              <p:cNvPr id="339" name=""/>
              <p:cNvSpPr/>
              <p:nvPr/>
            </p:nvSpPr>
            <p:spPr>
              <a:xfrm flipH="1">
                <a:off x="7236000" y="5395680"/>
                <a:ext cx="326160" cy="23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7236000" y="5510520"/>
                <a:ext cx="419040" cy="12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264440" y="5515200"/>
                <a:ext cx="383040" cy="276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8208720" y="3893760"/>
              <a:ext cx="369000" cy="578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68800" y="3908880"/>
              <a:ext cx="369000" cy="5792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80120" y="2362320"/>
              <a:ext cx="36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56680" y="2356200"/>
              <a:ext cx="0" cy="1172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70000" y="4518720"/>
              <a:ext cx="7560" cy="297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ept Manager Agen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DPN init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tom up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nsor is monitoring its environment and sends its data to its Sensor 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a certain moment the sensor data may provide enough evidence for the sensor agent to set its value to tr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917720" y="4419720"/>
            <a:ext cx="2343240" cy="2133360"/>
            <a:chOff x="1917720" y="4419720"/>
            <a:chExt cx="2343240" cy="2133360"/>
          </a:xfrm>
        </p:grpSpPr>
        <p:sp>
          <p:nvSpPr>
            <p:cNvPr id="350" name=""/>
            <p:cNvSpPr/>
            <p:nvPr/>
          </p:nvSpPr>
          <p:spPr>
            <a:xfrm>
              <a:off x="1917720" y="4654800"/>
              <a:ext cx="2343240" cy="13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17720" y="6021720"/>
              <a:ext cx="234324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6892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4800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4560" y="6097680"/>
              <a:ext cx="22680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02560" y="6097680"/>
              <a:ext cx="22680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056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5856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3580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776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6008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176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536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0016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0496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3820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016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80520" y="594576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552040" y="5945760"/>
              <a:ext cx="1998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52200" y="5945760"/>
              <a:ext cx="18072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10200" y="594576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695400" y="5945760"/>
              <a:ext cx="1954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91240" y="5945760"/>
              <a:ext cx="1756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17720" y="4419720"/>
              <a:ext cx="68004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9776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256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3700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572000" y="4419720"/>
            <a:ext cx="2679840" cy="2133000"/>
            <a:chOff x="4572000" y="4419720"/>
            <a:chExt cx="2679840" cy="2133000"/>
          </a:xfrm>
        </p:grpSpPr>
        <p:sp>
          <p:nvSpPr>
            <p:cNvPr id="378" name=""/>
            <p:cNvSpPr/>
            <p:nvPr/>
          </p:nvSpPr>
          <p:spPr>
            <a:xfrm>
              <a:off x="4909680" y="4654800"/>
              <a:ext cx="2342160" cy="13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9680" y="6021360"/>
              <a:ext cx="23421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052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3996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1616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416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7180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980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27760" y="5717880"/>
              <a:ext cx="3636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89720" y="5717880"/>
              <a:ext cx="33516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51680" y="5717880"/>
              <a:ext cx="34452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23000" y="5717880"/>
              <a:ext cx="33516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87320" y="5352840"/>
              <a:ext cx="37872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91760" y="5352840"/>
              <a:ext cx="3776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96200" y="535284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2980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9176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7248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543640" y="5945760"/>
              <a:ext cx="19980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43800" y="5945760"/>
              <a:ext cx="18072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0144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686640" y="5945760"/>
              <a:ext cx="1954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82480" y="5945760"/>
              <a:ext cx="1756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09680" y="4419720"/>
              <a:ext cx="68004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8972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416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2788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000" y="4548240"/>
              <a:ext cx="455760" cy="1292040"/>
            </a:xfrm>
            <a:custGeom>
              <a:avLst/>
              <a:gdLst/>
              <a:ahLst/>
              <a:rect l="l" t="t" r="r" b="b"/>
              <a:pathLst>
                <a:path w="718" h="2025">
                  <a:moveTo>
                    <a:pt x="718" y="2025"/>
                  </a:moveTo>
                  <a:cubicBezTo>
                    <a:pt x="390" y="1653"/>
                    <a:pt x="62" y="1282"/>
                    <a:pt x="31" y="945"/>
                  </a:cubicBezTo>
                  <a:cubicBezTo>
                    <a:pt x="0" y="608"/>
                    <a:pt x="266" y="304"/>
                    <a:pt x="5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72480" y="4654800"/>
              <a:ext cx="218880" cy="69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72480" y="4654800"/>
              <a:ext cx="870120" cy="69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280040" y="5943600"/>
            <a:ext cx="60948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ept Manager Agen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hen sends a message to the Concept Mana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cept Manager can select all Fusion Agents that have the particular Sensor Agent as one of its possible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ctivation message is sent to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917720" y="4419720"/>
            <a:ext cx="2343240" cy="2133360"/>
            <a:chOff x="1917720" y="4419720"/>
            <a:chExt cx="2343240" cy="2133360"/>
          </a:xfrm>
        </p:grpSpPr>
        <p:sp>
          <p:nvSpPr>
            <p:cNvPr id="412" name=""/>
            <p:cNvSpPr/>
            <p:nvPr/>
          </p:nvSpPr>
          <p:spPr>
            <a:xfrm>
              <a:off x="1917720" y="4654800"/>
              <a:ext cx="2343240" cy="13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17720" y="6021720"/>
              <a:ext cx="234324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6892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800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24560" y="6097680"/>
              <a:ext cx="22680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02560" y="6097680"/>
              <a:ext cx="22680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8056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58560" y="609768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3580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9776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6008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31760" y="5717880"/>
              <a:ext cx="3020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9536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0016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04960" y="535284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3820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0016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0520" y="594576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552040" y="5945760"/>
              <a:ext cx="1998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52200" y="5945760"/>
              <a:ext cx="18072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0200" y="594576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695400" y="5945760"/>
              <a:ext cx="1954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1240" y="5945760"/>
              <a:ext cx="1756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17720" y="4419720"/>
              <a:ext cx="68004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9776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0256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37000" y="48067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572000" y="4419720"/>
            <a:ext cx="2679840" cy="2133000"/>
            <a:chOff x="4572000" y="4419720"/>
            <a:chExt cx="2679840" cy="2133000"/>
          </a:xfrm>
        </p:grpSpPr>
        <p:sp>
          <p:nvSpPr>
            <p:cNvPr id="440" name=""/>
            <p:cNvSpPr/>
            <p:nvPr/>
          </p:nvSpPr>
          <p:spPr>
            <a:xfrm>
              <a:off x="4909680" y="4654800"/>
              <a:ext cx="2342160" cy="13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09680" y="6021360"/>
              <a:ext cx="23421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6052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996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1616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9416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7180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49800" y="6097320"/>
              <a:ext cx="2264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27760" y="5717880"/>
              <a:ext cx="36360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89720" y="5717880"/>
              <a:ext cx="33516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51680" y="5717880"/>
              <a:ext cx="34452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23000" y="5717880"/>
              <a:ext cx="335160" cy="227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7320" y="5352840"/>
              <a:ext cx="37872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91760" y="5352840"/>
              <a:ext cx="377640" cy="22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96200" y="535284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2980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9176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7248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543640" y="5945760"/>
              <a:ext cx="19980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43800" y="5945760"/>
              <a:ext cx="18072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1440" y="5945760"/>
              <a:ext cx="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686640" y="5945760"/>
              <a:ext cx="1954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82480" y="5945760"/>
              <a:ext cx="175680" cy="15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09680" y="4419720"/>
              <a:ext cx="68004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8972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94160" y="5089320"/>
              <a:ext cx="302040" cy="2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27880" y="4806720"/>
              <a:ext cx="302040" cy="22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2000" y="4548240"/>
              <a:ext cx="455760" cy="1292040"/>
            </a:xfrm>
            <a:custGeom>
              <a:avLst/>
              <a:gdLst/>
              <a:ahLst/>
              <a:rect l="l" t="t" r="r" b="b"/>
              <a:pathLst>
                <a:path w="718" h="2025">
                  <a:moveTo>
                    <a:pt x="718" y="2025"/>
                  </a:moveTo>
                  <a:cubicBezTo>
                    <a:pt x="390" y="1653"/>
                    <a:pt x="62" y="1282"/>
                    <a:pt x="31" y="945"/>
                  </a:cubicBezTo>
                  <a:cubicBezTo>
                    <a:pt x="0" y="608"/>
                    <a:pt x="266" y="304"/>
                    <a:pt x="5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72480" y="4654800"/>
              <a:ext cx="218880" cy="69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72480" y="4654800"/>
              <a:ext cx="870120" cy="69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280040" y="5943600"/>
            <a:ext cx="60948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2:43:41Z</dcterms:created>
  <dc:creator>Ivo Everts</dc:creator>
  <dc:description/>
  <dc:language>en-US</dc:language>
  <cp:lastModifiedBy>Ivo Everts</cp:lastModifiedBy>
  <dcterms:modified xsi:type="dcterms:W3CDTF">2005-02-03T13:42:50Z</dcterms:modified>
  <cp:revision>14</cp:revision>
  <dc:subject/>
  <dc:title>Slide 1</dc:title>
</cp:coreProperties>
</file>