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413E-EA5F-4583-97B9-A361272DE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000"/>
            <a:ext cx="769464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9992-F5B2-4AE9-A783-1A336495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4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1905120"/>
            <a:ext cx="3754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000"/>
            <a:ext cx="3754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200" y="4014000"/>
            <a:ext cx="3754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91E4-E0D2-4495-8DD5-F0770FAF7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3840" y="1905120"/>
            <a:ext cx="2477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5560" y="1905120"/>
            <a:ext cx="2477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000"/>
            <a:ext cx="2477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3840" y="4014000"/>
            <a:ext cx="2477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5560" y="4014000"/>
            <a:ext cx="2477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A64A-4362-4B95-B146-5916E621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298E-0BF9-43C8-904A-35561FF7B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D410-AF58-4E67-89DD-F6E2D64D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F0DC-2BDA-4FF6-9E39-CF3BAE87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200" y="1905120"/>
            <a:ext cx="375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D760-F99C-4876-A31C-A68C127B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02F5-F485-46E6-BC8A-8E8C8E08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520"/>
            <a:ext cx="76946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F4E6-E085-4EDB-BA92-9576A944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4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200" y="1905120"/>
            <a:ext cx="375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000"/>
            <a:ext cx="3754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7218-D5BF-47A3-8BD1-31E8BA60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0E60-26AA-462B-A3A5-8D06735F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200" y="1905120"/>
            <a:ext cx="3754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200" y="4014000"/>
            <a:ext cx="3754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485F-E397-4866-8287-C48325D3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4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1905120"/>
            <a:ext cx="3754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000"/>
            <a:ext cx="769464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AF1F-E134-4349-A2C9-290FAD93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000"/>
            <a:ext cx="769464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8B0B-AA76-452D-B120-BD6C7202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4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200" y="1905120"/>
            <a:ext cx="3754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000"/>
            <a:ext cx="3754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200" y="4014000"/>
            <a:ext cx="3754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9A95-C391-4A66-B52C-B28F7F75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3840" y="1905120"/>
            <a:ext cx="2477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5560" y="1905120"/>
            <a:ext cx="2477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000"/>
            <a:ext cx="2477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3840" y="4014000"/>
            <a:ext cx="2477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5560" y="4014000"/>
            <a:ext cx="24775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4D24-2C2B-4D1A-9257-79E9ADC56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2CAD-BCD3-4695-BEA9-DB8C13AB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200" y="1905120"/>
            <a:ext cx="375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44AB-D904-46E7-8FF7-3687D28E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9125-20F7-453C-B553-FCB6B5C9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520"/>
            <a:ext cx="76946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C403-84D6-4E8A-A8D2-DFFA0662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4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200" y="1905120"/>
            <a:ext cx="375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000"/>
            <a:ext cx="3754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ED6D-F69D-40CE-9533-7E68844D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905120"/>
            <a:ext cx="3754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200" y="4014000"/>
            <a:ext cx="3754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1BCD-B1AC-4D71-A2AB-77A7CCF3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4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905120"/>
            <a:ext cx="3754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000"/>
            <a:ext cx="769464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8735-1878-4D0C-ACC4-1E0A3198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56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5987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8504A4-13DD-44AD-A60B-715B20A7DD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096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56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080"/>
            <a:ext cx="15987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17ACF-59B4-49A4-B564-A3A2902294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3700" spc="-1" strike="noStrike">
                <a:solidFill>
                  <a:srgbClr val="336666"/>
                </a:solidFill>
                <a:latin typeface="Arial Black"/>
              </a:rPr>
              <a:t>Design and Organization of Autonomous Systems</a:t>
            </a:r>
            <a:br>
              <a:rPr sz="4100"/>
            </a:b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LifeFor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300" spc="-1" strike="noStrike">
                <a:solidFill>
                  <a:srgbClr val="336666"/>
                </a:solidFill>
                <a:latin typeface="Arial Black"/>
              </a:rPr>
              <a:t>LifeForm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8960" indent="-58896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1158840"/>
                <a:tab algn="l" pos="2073240"/>
                <a:tab algn="l" pos="2987640"/>
                <a:tab algn="l" pos="3902040"/>
                <a:tab algn="l" pos="4816440"/>
                <a:tab algn="l" pos="5730840"/>
                <a:tab algn="l" pos="6645240"/>
                <a:tab algn="l" pos="7559640"/>
                <a:tab algn="l" pos="8474040"/>
                <a:tab algn="l" pos="9388440"/>
                <a:tab algn="l" pos="10302840"/>
                <a:tab algn="l" pos="105156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Interactieve Kuns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8896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158840"/>
                <a:tab algn="l" pos="2073240"/>
                <a:tab algn="l" pos="2987640"/>
                <a:tab algn="l" pos="3902040"/>
                <a:tab algn="l" pos="4816440"/>
                <a:tab algn="l" pos="5730840"/>
                <a:tab algn="l" pos="6645240"/>
                <a:tab algn="l" pos="7559640"/>
                <a:tab algn="l" pos="8474040"/>
                <a:tab algn="l" pos="9388440"/>
                <a:tab algn="l" pos="10302840"/>
                <a:tab algn="l" pos="105156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438120"/>
            <a:ext cx="769608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300" spc="-1" strike="noStrike">
                <a:solidFill>
                  <a:srgbClr val="336666"/>
                </a:solidFill>
                <a:latin typeface="Arial Black"/>
              </a:rPr>
              <a:t>LifeForm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58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ctr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wsteen: 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0" y="1143000"/>
            <a:ext cx="38862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11920"/>
            <a:ext cx="7696080" cy="11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300"/>
            </a:br>
            <a:r>
              <a:rPr b="0" lang="en-GB" sz="3300" spc="-1" strike="noStrike">
                <a:solidFill>
                  <a:srgbClr val="336666"/>
                </a:solidFill>
                <a:latin typeface="Arial Black"/>
              </a:rPr>
              <a:t>LifeForm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558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ent heeft verschillende gedragseigenscha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143000"/>
            <a:ext cx="38862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11920"/>
            <a:ext cx="7696080" cy="11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300"/>
            </a:br>
            <a:r>
              <a:rPr b="0" lang="en-GB" sz="3300" spc="-1" strike="noStrike">
                <a:solidFill>
                  <a:srgbClr val="336666"/>
                </a:solidFill>
                <a:latin typeface="Arial Black"/>
              </a:rPr>
              <a:t>LifeForm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558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ze eigenschappen bepalen gedrag van agent en gedrag tegenover andere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dragseigenschappen kunnen in sterkte verande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0" y="1143000"/>
            <a:ext cx="38862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11920"/>
            <a:ext cx="7696080" cy="11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300"/>
            </a:br>
            <a:r>
              <a:rPr b="0" lang="en-GB" sz="3300" spc="-1" strike="noStrike">
                <a:solidFill>
                  <a:srgbClr val="336666"/>
                </a:solidFill>
                <a:latin typeface="Arial Black"/>
              </a:rPr>
              <a:t>LifeForm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12552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dragseigenschappen kunnen veranderen onder invloed van de toeschou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86200" y="685800"/>
            <a:ext cx="5029200" cy="524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300" spc="-1" strike="noStrike">
                <a:solidFill>
                  <a:srgbClr val="336666"/>
                </a:solidFill>
                <a:latin typeface="Arial Black"/>
              </a:rPr>
              <a:t>LifeForm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300" spc="-1" strike="noStrike">
                <a:solidFill>
                  <a:srgbClr val="336666"/>
                </a:solidFill>
                <a:latin typeface="Arial Black"/>
              </a:rPr>
              <a:t>Planning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Gedrag implementere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Implementeren sensor inpu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Extra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way’s Game of Lif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eerdere groepen van verschillende type ag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oegankelijke taal voor implementeren van gedrag voor ag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suren</dc:creator>
  <dc:description/>
  <dc:language>en-US</dc:language>
  <cp:lastModifiedBy>wsuren</cp:lastModifiedBy>
  <cp:revision>0</cp:revision>
  <dc:subject/>
  <dc:title>Design and Organization of Autonomous Systems </dc:title>
</cp:coreProperties>
</file>