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C8E4-1A9A-4020-BD2A-AE79A6058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ll be presented by Ro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os will take over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takes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ill be presented by Mark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jn will take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5436-E712-4AB4-8A75-92C8BE2B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DC40-5C34-4544-9937-51860742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ED4-8E0A-4687-8733-F4C4EA8B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E400-B199-4C94-B5DA-D39B036A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D129-A7B8-48AD-BB81-BB102509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7EDA-02F1-4861-92EA-98961B15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DEA6-994D-4842-877E-69361BD2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D8FF-A659-41DC-A8A4-186A5486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F18B-1570-4A17-9BA3-5634B3D2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57B5-D7BF-4FB7-A966-C87E132E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6826-62EE-44FF-9AF8-EFC09A2A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EC05-AB28-4010-A664-30051B9E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E5BA-49A8-4648-9E6F-9173CB7B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D84F-A905-4806-84E8-682DC8EC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0376-609B-4D63-B7FC-A31E940B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0E4C-3A33-4524-9203-CCF962CD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CB76-F6A4-416A-9144-299F3DAB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5A61-5304-4689-A8DC-2CB86F63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95FF-E2C4-411B-9507-D2679461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C43-A855-4308-B595-06FA5E5F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564-2CD2-41A1-AC13-5876CE9C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F14-7D49-4DE7-835A-ED9C48D6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4682-B196-470D-A27D-8813462E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132-AB43-4F52-BC43-24223B17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3880" y="6476760"/>
            <a:ext cx="6019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CC6A-A191-474B-8ECA-3950D94E5309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2760" y="0"/>
            <a:ext cx="457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Design and Organization of Autonomous System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erson Identification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1295280" y="6244920"/>
            <a:ext cx="655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8974-2084-4833-9A89-0E8E5B68A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DOAS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and Organization of Autonomous Sys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Identif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homas Mensink, Martijn Liem, Roeland Weve, Markos Mylon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4794-A6F9-40A7-A54C-CBEEF1A35AA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8-01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>
            <a:hlinkClick r:id="rId1"/>
          </p:cNvPr>
          <p:cNvPicPr/>
          <p:nvPr/>
        </p:nvPicPr>
        <p:blipFill>
          <a:blip r:embed="rId2"/>
          <a:srcRect l="24326" t="13103" r="25905" b="15442"/>
          <a:stretch/>
        </p:blipFill>
        <p:spPr>
          <a:xfrm>
            <a:off x="3429000" y="1981080"/>
            <a:ext cx="2943360" cy="428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ensink, Martijn Liem, Roeland Weve, Markos Mylon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17B3-743F-4357-8381-F6B7771E026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01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ing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ensink, Martijn Liem, Roeland Weve, Markos Mylon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D18-2CAE-44FE-9841-E41C6EDC4D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01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1082520" y="1941480"/>
            <a:ext cx="1582560" cy="4257360"/>
            <a:chOff x="1082520" y="1941480"/>
            <a:chExt cx="1582560" cy="4257360"/>
          </a:xfrm>
        </p:grpSpPr>
        <p:sp>
          <p:nvSpPr>
            <p:cNvPr id="141" name=""/>
            <p:cNvSpPr/>
            <p:nvPr/>
          </p:nvSpPr>
          <p:spPr>
            <a:xfrm>
              <a:off x="1082520" y="1996920"/>
              <a:ext cx="1582560" cy="420192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21000" y="19414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71520" y="2530440"/>
              <a:ext cx="1179360" cy="43488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tinuou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nsor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53880" y="2987640"/>
              <a:ext cx="1206720" cy="61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sor 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 stam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71520" y="3778200"/>
              <a:ext cx="1179360" cy="43488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53880" y="4235400"/>
              <a:ext cx="1206720" cy="61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nsor id -&gt;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nsor typ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nsor loc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71520" y="4978080"/>
              <a:ext cx="1179360" cy="43524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53880" y="5435280"/>
              <a:ext cx="1206720" cy="61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ysic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994440" y="1996920"/>
            <a:ext cx="1582920" cy="179568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70640" y="1941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83440" y="2530440"/>
            <a:ext cx="1179360" cy="434880"/>
          </a:xfrm>
          <a:prstGeom prst="rect">
            <a:avLst/>
          </a:prstGeom>
          <a:solidFill>
            <a:srgbClr val="ff9900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65800" y="2987640"/>
            <a:ext cx="12067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11600" y="2057400"/>
            <a:ext cx="2174760" cy="267192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easo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lgorit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44920" y="3143160"/>
            <a:ext cx="110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04000" y="2343240"/>
            <a:ext cx="105552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2520" y="3684600"/>
            <a:ext cx="155448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55720" y="4422600"/>
            <a:ext cx="1101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13360" y="3790800"/>
            <a:ext cx="1890720" cy="381240"/>
          </a:xfrm>
          <a:custGeom>
            <a:avLst/>
            <a:gdLst/>
            <a:ahLst/>
            <a:rect l="l" t="t" r="r" b="b"/>
            <a:pathLst>
              <a:path w="1180" h="240">
                <a:moveTo>
                  <a:pt x="1180" y="0"/>
                </a:moveTo>
                <a:lnTo>
                  <a:pt x="1180" y="240"/>
                </a:lnTo>
                <a:lnTo>
                  <a:pt x="0" y="2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82320" y="4025880"/>
            <a:ext cx="1759680" cy="520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use outpu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when confi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73480" y="5289480"/>
            <a:ext cx="2363760" cy="87336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 gathere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 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68760" y="4713120"/>
            <a:ext cx="8280" cy="578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07000" y="4722840"/>
            <a:ext cx="7920" cy="577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ing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ensink, Martijn Liem, Roeland Weve, Markos Mylon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3B90-2D6F-44E9-A8E0-095862DB35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01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ïve Bayesian Networks for each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-Plu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ensink, Martijn Liem, Roeland Weve, Markos Mylon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44A-BDD9-45E3-848A-7D52382C4B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01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m Bayesian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05120" y="1295280"/>
          <a:ext cx="5105160" cy="50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5105160" cy="50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ensink, Martijn Liem, Roeland Weve, Markos Mylon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BE2A-B4FE-4D73-9D97-1D285400F48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01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m Bayesian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295280"/>
            <a:ext cx="830592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 naïve bayesian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need “hardwired” links between sensors. Assumes that sensor outputs are independent [Tapia et al, 200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 and conditional probabilities in the model can be produced directly from train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use of probabilistic information from other ro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deduce that multiple people are in the room at the same time and calculate probability values with respect to their ident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s probabilities and not certainti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gher lay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 on who is w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ensink, Martijn Liem, Roeland Weve, Markos Mylon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FE6A-90D1-4D8C-B164-9020CC17375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01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1295280"/>
            <a:ext cx="83059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uce priors and conditional probabilities from training data: There are many ways! (e.g. using time, use data on simultaneous presense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probabilistic information from all the rooms (e.g. use max proba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nformation on room transitions (hint: Markov 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m Bayesian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ensink, Martijn Liem, Roeland Weve, Markos Mylon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790C-E74B-49EB-9EA0-B5661F17D34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01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Max-Plu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21240" y="3679920"/>
            <a:ext cx="495360" cy="469800"/>
          </a:xfrm>
          <a:prstGeom prst="ellipse">
            <a:avLst/>
          </a:prstGeom>
          <a:solidFill>
            <a:srgbClr val="ffff00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79720" y="2805120"/>
            <a:ext cx="2087640" cy="17715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18120" y="2933640"/>
            <a:ext cx="495000" cy="469800"/>
          </a:xfrm>
          <a:prstGeom prst="ellipse">
            <a:avLst/>
          </a:prstGeom>
          <a:solidFill>
            <a:srgbClr val="ffff00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06600" y="2933640"/>
            <a:ext cx="495360" cy="469800"/>
          </a:xfrm>
          <a:prstGeom prst="ellipse">
            <a:avLst/>
          </a:prstGeom>
          <a:solidFill>
            <a:srgbClr val="ffff00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63960" y="3679920"/>
            <a:ext cx="495360" cy="469800"/>
          </a:xfrm>
          <a:prstGeom prst="ellipse">
            <a:avLst/>
          </a:prstGeom>
          <a:solidFill>
            <a:srgbClr val="ffff00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90800" y="4103640"/>
            <a:ext cx="495360" cy="469800"/>
          </a:xfrm>
          <a:prstGeom prst="ellipse">
            <a:avLst/>
          </a:prstGeom>
          <a:solidFill>
            <a:srgbClr val="ffff00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3489120" y="4098960"/>
            <a:ext cx="301320" cy="185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168720" y="3269880"/>
            <a:ext cx="15084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19520" y="3006720"/>
            <a:ext cx="56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16280" y="3351240"/>
            <a:ext cx="11592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287960" y="4116240"/>
            <a:ext cx="328320" cy="23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979720" y="4551480"/>
            <a:ext cx="2087640" cy="1838160"/>
            <a:chOff x="2979720" y="4551480"/>
            <a:chExt cx="2087640" cy="1838160"/>
          </a:xfrm>
        </p:grpSpPr>
        <p:sp>
          <p:nvSpPr>
            <p:cNvPr id="190" name=""/>
            <p:cNvSpPr/>
            <p:nvPr/>
          </p:nvSpPr>
          <p:spPr>
            <a:xfrm>
              <a:off x="3371760" y="4751640"/>
              <a:ext cx="335160" cy="31896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79720" y="4618080"/>
              <a:ext cx="2087640" cy="1771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41960" y="4762440"/>
              <a:ext cx="334800" cy="31932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9720" y="5311800"/>
              <a:ext cx="335160" cy="31932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60680" y="5986440"/>
              <a:ext cx="335160" cy="31932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24240" y="6004080"/>
              <a:ext cx="335160" cy="31896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22840" y="5462640"/>
              <a:ext cx="334800" cy="31896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666960" y="4551480"/>
              <a:ext cx="309600" cy="24912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666600" y="4560840"/>
              <a:ext cx="336600" cy="14288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92480" y="4551480"/>
              <a:ext cx="293760" cy="24912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267000" y="5058000"/>
              <a:ext cx="239760" cy="3110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57640" y="5599080"/>
              <a:ext cx="284040" cy="408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81440" y="6158160"/>
              <a:ext cx="434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492800" y="5732280"/>
              <a:ext cx="257040" cy="2919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54360" y="5075280"/>
              <a:ext cx="319320" cy="38088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57560" y="4568760"/>
              <a:ext cx="292320" cy="14385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917240" y="2979360"/>
            <a:ext cx="2064600" cy="2329560"/>
            <a:chOff x="4917240" y="2979360"/>
            <a:chExt cx="2064600" cy="2329560"/>
          </a:xfrm>
        </p:grpSpPr>
        <p:sp>
          <p:nvSpPr>
            <p:cNvPr id="207" name=""/>
            <p:cNvSpPr/>
            <p:nvPr/>
          </p:nvSpPr>
          <p:spPr>
            <a:xfrm rot="16717800">
              <a:off x="5123160" y="4374360"/>
              <a:ext cx="335160" cy="31896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717800">
              <a:off x="4905720" y="3258360"/>
              <a:ext cx="2087640" cy="1771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717800">
              <a:off x="5279760" y="3416760"/>
              <a:ext cx="334800" cy="31932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717800">
              <a:off x="5618160" y="4845600"/>
              <a:ext cx="335160" cy="31932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717800">
              <a:off x="6357240" y="4471200"/>
              <a:ext cx="335160" cy="31932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717800">
              <a:off x="6489360" y="3719520"/>
              <a:ext cx="335160" cy="31896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717800">
              <a:off x="6028920" y="3145320"/>
              <a:ext cx="334800" cy="31896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00760" y="4047480"/>
              <a:ext cx="200160" cy="34380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14080" y="4022640"/>
              <a:ext cx="1362240" cy="54720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018400" y="3679920"/>
              <a:ext cx="290160" cy="25308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31320" y="4588200"/>
              <a:ext cx="271440" cy="28368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5928840" y="4696200"/>
              <a:ext cx="446040" cy="219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6560280" y="4051800"/>
              <a:ext cx="65160" cy="4298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6284520" y="3460320"/>
              <a:ext cx="249840" cy="29808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605560" y="3296520"/>
              <a:ext cx="424440" cy="25848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030280" y="3897000"/>
              <a:ext cx="1465920" cy="7308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036440" y="2958480"/>
            <a:ext cx="2241000" cy="2467080"/>
            <a:chOff x="1036440" y="2958480"/>
            <a:chExt cx="2241000" cy="2467080"/>
          </a:xfrm>
        </p:grpSpPr>
        <p:sp>
          <p:nvSpPr>
            <p:cNvPr id="224" name=""/>
            <p:cNvSpPr/>
            <p:nvPr/>
          </p:nvSpPr>
          <p:spPr>
            <a:xfrm rot="4523400">
              <a:off x="2440800" y="3414600"/>
              <a:ext cx="335160" cy="31896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4523400">
              <a:off x="1112760" y="3305880"/>
              <a:ext cx="2087640" cy="1771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4523400">
              <a:off x="2675160" y="4355640"/>
              <a:ext cx="334800" cy="31932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4523400">
              <a:off x="1799640" y="3176280"/>
              <a:ext cx="335160" cy="31932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4523400">
              <a:off x="1267920" y="3811680"/>
              <a:ext cx="335160" cy="31932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4523400">
              <a:off x="1443960" y="4555440"/>
              <a:ext cx="335160" cy="31896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4523400">
              <a:off x="2093400" y="4901040"/>
              <a:ext cx="334800" cy="31896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2747520" y="3669840"/>
              <a:ext cx="319320" cy="23652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1596960" y="3934440"/>
              <a:ext cx="1467360" cy="3492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928960" y="4018680"/>
              <a:ext cx="167040" cy="3470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2096640" y="3426120"/>
              <a:ext cx="361440" cy="1533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548360" y="3475080"/>
              <a:ext cx="323280" cy="3776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62680" y="4123080"/>
              <a:ext cx="109800" cy="42048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71920" y="4777560"/>
              <a:ext cx="347400" cy="1749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2417400" y="4597560"/>
              <a:ext cx="288360" cy="4053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1752120" y="3989160"/>
              <a:ext cx="1318320" cy="6458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955680" y="947520"/>
            <a:ext cx="2722320" cy="2733840"/>
            <a:chOff x="3955680" y="947520"/>
            <a:chExt cx="2722320" cy="2733840"/>
          </a:xfrm>
        </p:grpSpPr>
        <p:sp>
          <p:nvSpPr>
            <p:cNvPr id="241" name=""/>
            <p:cNvSpPr/>
            <p:nvPr/>
          </p:nvSpPr>
          <p:spPr>
            <a:xfrm rot="13588200">
              <a:off x="5052960" y="2914200"/>
              <a:ext cx="335160" cy="31896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3588200">
              <a:off x="4272840" y="1428480"/>
              <a:ext cx="2087640" cy="1771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3588200">
              <a:off x="4392720" y="2202840"/>
              <a:ext cx="334800" cy="31932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3588200">
              <a:off x="5729040" y="2812320"/>
              <a:ext cx="335160" cy="31932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3588200">
              <a:off x="5886720" y="1998720"/>
              <a:ext cx="335160" cy="31932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3588200">
              <a:off x="5373720" y="1433520"/>
              <a:ext cx="335160" cy="31896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3588200">
              <a:off x="4637880" y="1444680"/>
              <a:ext cx="334800" cy="31896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58760" y="3004560"/>
              <a:ext cx="393840" cy="525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4646880" y="2238480"/>
              <a:ext cx="1267920" cy="7401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4557240" y="2535840"/>
              <a:ext cx="21600" cy="38448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5349240" y="2955600"/>
              <a:ext cx="390960" cy="4068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5913360" y="2316960"/>
              <a:ext cx="100440" cy="48708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5658480" y="1724040"/>
              <a:ext cx="299520" cy="3153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4982040" y="1615680"/>
              <a:ext cx="388800" cy="147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640400" y="1730880"/>
              <a:ext cx="56160" cy="49392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615200" y="1731240"/>
              <a:ext cx="841680" cy="120240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374480" y="945000"/>
            <a:ext cx="2730600" cy="2727000"/>
            <a:chOff x="1374480" y="945000"/>
            <a:chExt cx="2730600" cy="2727000"/>
          </a:xfrm>
        </p:grpSpPr>
        <p:sp>
          <p:nvSpPr>
            <p:cNvPr id="258" name=""/>
            <p:cNvSpPr/>
            <p:nvPr/>
          </p:nvSpPr>
          <p:spPr>
            <a:xfrm rot="8130600">
              <a:off x="3332520" y="2232360"/>
              <a:ext cx="335160" cy="31896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8130600">
              <a:off x="1695600" y="1422720"/>
              <a:ext cx="2087640" cy="1771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8130600">
              <a:off x="2633040" y="2903760"/>
              <a:ext cx="334800" cy="31932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8130600">
              <a:off x="3219480" y="1557720"/>
              <a:ext cx="335160" cy="31932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130600">
              <a:off x="2403720" y="1413360"/>
              <a:ext cx="335160" cy="31932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130600">
              <a:off x="1846440" y="1936440"/>
              <a:ext cx="335160" cy="31896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8130600">
              <a:off x="1870560" y="2671560"/>
              <a:ext cx="334800" cy="31896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440520" y="2560320"/>
              <a:ext cx="46080" cy="3945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2653560" y="1711800"/>
              <a:ext cx="761400" cy="12549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973600" y="3036240"/>
              <a:ext cx="384120" cy="2808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3373560" y="1874520"/>
              <a:ext cx="47160" cy="38988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2730600" y="1611720"/>
              <a:ext cx="488520" cy="921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143440" y="1672200"/>
              <a:ext cx="310320" cy="3045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40120" y="2266200"/>
              <a:ext cx="21240" cy="3884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flipV="1">
              <a:off x="2166480" y="2938320"/>
              <a:ext cx="494640" cy="4788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2153880" y="2178000"/>
              <a:ext cx="1216800" cy="82152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773520" y="3257640"/>
            <a:ext cx="185760" cy="8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3755880" y="3257280"/>
            <a:ext cx="798480" cy="52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79840" y="1206360"/>
            <a:ext cx="184320" cy="3668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ensink, Martijn Liem, Roeland Weve, Markos Mylon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FAC3-95B8-4786-BA55-829F2A891BC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01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Max-Plu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89080" y="3695760"/>
            <a:ext cx="2087280" cy="1838160"/>
            <a:chOff x="289080" y="3695760"/>
            <a:chExt cx="2087280" cy="1838160"/>
          </a:xfrm>
        </p:grpSpPr>
        <p:sp>
          <p:nvSpPr>
            <p:cNvPr id="280" name=""/>
            <p:cNvSpPr/>
            <p:nvPr/>
          </p:nvSpPr>
          <p:spPr>
            <a:xfrm>
              <a:off x="680760" y="3895920"/>
              <a:ext cx="334800" cy="31896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9080" y="3762360"/>
              <a:ext cx="2087280" cy="1771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50960" y="3906720"/>
              <a:ext cx="334440" cy="31932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9080" y="4456080"/>
              <a:ext cx="334800" cy="31932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9680" y="5130720"/>
              <a:ext cx="334800" cy="31932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33240" y="5148360"/>
              <a:ext cx="334800" cy="31896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31840" y="4606920"/>
              <a:ext cx="334440" cy="31896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975600" y="3695760"/>
              <a:ext cx="309240" cy="24912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975960" y="3705120"/>
              <a:ext cx="336240" cy="14288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01480" y="3695760"/>
              <a:ext cx="293400" cy="24912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575640" y="4202280"/>
              <a:ext cx="239400" cy="3110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6640" y="4743360"/>
              <a:ext cx="283680" cy="408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90440" y="5302440"/>
              <a:ext cx="434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1801800" y="4876560"/>
              <a:ext cx="256680" cy="2919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63360" y="4219560"/>
              <a:ext cx="318960" cy="38088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66560" y="3713040"/>
              <a:ext cx="291960" cy="14385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89080" y="1949400"/>
            <a:ext cx="2087280" cy="1771560"/>
            <a:chOff x="289080" y="1949400"/>
            <a:chExt cx="2087280" cy="1771560"/>
          </a:xfrm>
        </p:grpSpPr>
        <p:sp>
          <p:nvSpPr>
            <p:cNvPr id="297" name=""/>
            <p:cNvSpPr/>
            <p:nvPr/>
          </p:nvSpPr>
          <p:spPr>
            <a:xfrm>
              <a:off x="1830240" y="2824200"/>
              <a:ext cx="495000" cy="469800"/>
            </a:xfrm>
            <a:prstGeom prst="ellipse">
              <a:avLst/>
            </a:prstGeom>
            <a:solidFill>
              <a:srgbClr val="ffff00">
                <a:alpha val="7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080" y="1949400"/>
              <a:ext cx="2087280" cy="1771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27120" y="2077920"/>
              <a:ext cx="494640" cy="469800"/>
            </a:xfrm>
            <a:prstGeom prst="ellipse">
              <a:avLst/>
            </a:prstGeom>
            <a:solidFill>
              <a:srgbClr val="ffff00">
                <a:alpha val="7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5600" y="2077920"/>
              <a:ext cx="495000" cy="469800"/>
            </a:xfrm>
            <a:prstGeom prst="ellipse">
              <a:avLst/>
            </a:prstGeom>
            <a:solidFill>
              <a:srgbClr val="ffff00">
                <a:alpha val="7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2960" y="2824200"/>
              <a:ext cx="495000" cy="469800"/>
            </a:xfrm>
            <a:prstGeom prst="ellipse">
              <a:avLst/>
            </a:prstGeom>
            <a:solidFill>
              <a:srgbClr val="ffff00">
                <a:alpha val="7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99800" y="3247920"/>
              <a:ext cx="495000" cy="469800"/>
            </a:xfrm>
            <a:prstGeom prst="ellipse">
              <a:avLst/>
            </a:prstGeom>
            <a:solidFill>
              <a:srgbClr val="ffff00">
                <a:alpha val="7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798480" y="3243240"/>
              <a:ext cx="300960" cy="18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477720" y="2414160"/>
              <a:ext cx="150480" cy="42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28520" y="2151000"/>
              <a:ext cx="56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25280" y="2495520"/>
              <a:ext cx="1155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1596960" y="3260520"/>
              <a:ext cx="327960" cy="23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82520" y="2401920"/>
              <a:ext cx="185400" cy="8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1064520" y="2401560"/>
              <a:ext cx="798120" cy="52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2562840" y="1986120"/>
            <a:ext cx="665316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ation lo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nts to know who is in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sends messages to its sensors to ask for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sends messages to the other locations to ask for evid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messages are converged the person wit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MAP is in the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ensink, Martijn Liem, Roeland Weve, Markos Mylon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5E6E-95FD-438E-B9B9-043F86006B9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01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Max-Plu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9080" y="3695760"/>
            <a:ext cx="2087280" cy="1838160"/>
            <a:chOff x="289080" y="3695760"/>
            <a:chExt cx="2087280" cy="1838160"/>
          </a:xfrm>
        </p:grpSpPr>
        <p:sp>
          <p:nvSpPr>
            <p:cNvPr id="313" name=""/>
            <p:cNvSpPr/>
            <p:nvPr/>
          </p:nvSpPr>
          <p:spPr>
            <a:xfrm>
              <a:off x="680760" y="3895920"/>
              <a:ext cx="334800" cy="31896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9080" y="3762360"/>
              <a:ext cx="2087280" cy="1771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50960" y="3906720"/>
              <a:ext cx="334440" cy="31932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9080" y="4456080"/>
              <a:ext cx="334800" cy="31932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9680" y="5130720"/>
              <a:ext cx="334800" cy="31932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33240" y="5148360"/>
              <a:ext cx="334800" cy="31896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31840" y="4606920"/>
              <a:ext cx="334440" cy="318960"/>
            </a:xfrm>
            <a:prstGeom prst="ellipse">
              <a:avLst/>
            </a:prstGeom>
            <a:solidFill>
              <a:srgbClr val="000080">
                <a:alpha val="70000"/>
              </a:srgbClr>
            </a:solidFill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975600" y="3695760"/>
              <a:ext cx="309240" cy="24912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975960" y="3705120"/>
              <a:ext cx="336240" cy="14288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01480" y="3695760"/>
              <a:ext cx="293400" cy="24912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575640" y="4202280"/>
              <a:ext cx="239400" cy="3110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6640" y="4743360"/>
              <a:ext cx="283680" cy="408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90440" y="5302440"/>
              <a:ext cx="434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1801800" y="4876560"/>
              <a:ext cx="256680" cy="2919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63360" y="4219560"/>
              <a:ext cx="318960" cy="38088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366560" y="3713040"/>
              <a:ext cx="291960" cy="14385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89080" y="1949400"/>
            <a:ext cx="2087280" cy="1771560"/>
            <a:chOff x="289080" y="1949400"/>
            <a:chExt cx="2087280" cy="1771560"/>
          </a:xfrm>
        </p:grpSpPr>
        <p:sp>
          <p:nvSpPr>
            <p:cNvPr id="330" name=""/>
            <p:cNvSpPr/>
            <p:nvPr/>
          </p:nvSpPr>
          <p:spPr>
            <a:xfrm>
              <a:off x="1830240" y="2824200"/>
              <a:ext cx="495000" cy="469800"/>
            </a:xfrm>
            <a:prstGeom prst="ellipse">
              <a:avLst/>
            </a:prstGeom>
            <a:solidFill>
              <a:srgbClr val="ffff00">
                <a:alpha val="7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9080" y="1949400"/>
              <a:ext cx="2087280" cy="1771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527120" y="2077920"/>
              <a:ext cx="494640" cy="469800"/>
            </a:xfrm>
            <a:prstGeom prst="ellipse">
              <a:avLst/>
            </a:prstGeom>
            <a:solidFill>
              <a:srgbClr val="ffff00">
                <a:alpha val="7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5600" y="2077920"/>
              <a:ext cx="495000" cy="469800"/>
            </a:xfrm>
            <a:prstGeom prst="ellipse">
              <a:avLst/>
            </a:prstGeom>
            <a:solidFill>
              <a:srgbClr val="ffff00">
                <a:alpha val="7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2960" y="2824200"/>
              <a:ext cx="495000" cy="469800"/>
            </a:xfrm>
            <a:prstGeom prst="ellipse">
              <a:avLst/>
            </a:prstGeom>
            <a:solidFill>
              <a:srgbClr val="ffff00">
                <a:alpha val="7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99800" y="3247920"/>
              <a:ext cx="495000" cy="469800"/>
            </a:xfrm>
            <a:prstGeom prst="ellipse">
              <a:avLst/>
            </a:prstGeom>
            <a:solidFill>
              <a:srgbClr val="ffff00">
                <a:alpha val="7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798480" y="3243240"/>
              <a:ext cx="300960" cy="18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477720" y="2414160"/>
              <a:ext cx="150480" cy="42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28520" y="2151000"/>
              <a:ext cx="56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25280" y="2495520"/>
              <a:ext cx="1155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1596960" y="3260520"/>
              <a:ext cx="327960" cy="23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82520" y="2401920"/>
              <a:ext cx="185400" cy="8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1064520" y="2401560"/>
              <a:ext cx="798120" cy="52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558880" y="20368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84280" y="1987560"/>
            <a:ext cx="5526360" cy="36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: The confidence of the agent it is person 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deal with time/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deal with a moving per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 walks from location a -&gt; locatio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deal with values as long locations are not su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387160" y="158256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ensink, Martijn Liem, Roeland Weve, Markos Mylon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889B-3025-49BF-86B4-5CB03DAE89F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01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identify people in the house with the use of multiple simple sen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knowledge acquired in the system, to identify a new person in a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ensink, Martijn Liem, Roeland Weve, Markos Mylon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76C2-0309-4922-85C6-682DA98A9C7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01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a fully working simulation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for different house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a reasoning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and exten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the program when we hav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 patterns of behavior (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ensink, Martijn Liem, Roeland Weve, Markos Mylon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015E-C08D-45F3-9443-1A7C91C4058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01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24326" t="13103" r="25905" b="15442"/>
          <a:stretch/>
        </p:blipFill>
        <p:spPr>
          <a:xfrm>
            <a:off x="515880" y="1593720"/>
            <a:ext cx="2943360" cy="4283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23803" t="12715" r="26562" b="16352"/>
          <a:stretch/>
        </p:blipFill>
        <p:spPr>
          <a:xfrm>
            <a:off x="5686560" y="1595520"/>
            <a:ext cx="2943000" cy="4263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430440" y="1600200"/>
            <a:ext cx="22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person entering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use. (Joh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ensink, Martijn Liem, Roeland Weve, Markos Mylon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DCC3-CE65-460E-8370-1F104BB2633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01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23497" t="13419" r="25672" b="15989"/>
          <a:stretch/>
        </p:blipFill>
        <p:spPr>
          <a:xfrm>
            <a:off x="5686560" y="1595520"/>
            <a:ext cx="3001680" cy="4225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23803" t="12715" r="26562" b="16352"/>
          <a:stretch/>
        </p:blipFill>
        <p:spPr>
          <a:xfrm>
            <a:off x="511200" y="1595520"/>
            <a:ext cx="2943360" cy="4263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30440" y="1600200"/>
            <a:ext cx="22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moves one room furth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ensink, Martijn Liem, Roeland Weve, Markos Mylon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FD4F-89FF-4337-B751-E5E2AF98BA5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01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30440" y="1600200"/>
            <a:ext cx="22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other person comes into the house as w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23497" t="13419" r="25672" b="15989"/>
          <a:stretch/>
        </p:blipFill>
        <p:spPr>
          <a:xfrm>
            <a:off x="511200" y="1595520"/>
            <a:ext cx="3002040" cy="4225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23684" t="13843" r="27313" b="15989"/>
          <a:stretch/>
        </p:blipFill>
        <p:spPr>
          <a:xfrm>
            <a:off x="5686560" y="1595520"/>
            <a:ext cx="2894040" cy="420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ensink, Martijn Liem, Roeland Weve, Markos Mylon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98C8-A94F-44AA-917C-C0D30E6455C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01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E. Munguia Tapia, S. S. Intille, and K. Larson, "Activity recognition in the home setting using simple and ubiquitous sensors,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. S. Beaudin, E. Munguia Tapia, and S. S. Intille, "Lessons learned using ubiquitous sensors for data collection in real homes,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. Kok and N. Vlassis “Using the Max-Plus algorithm in coordination graph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Aarts, Philips Research “Ambient Intelligence: Building the vis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ensink, Martijn Liem, Roeland Weve, Markos Mylon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929A-598E-4589-8A98-78365C498D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01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ing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use a database to communicate between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ensink, Martijn Liem, Roeland Weve, Markos Mylon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AC8-BCCE-43FB-9381-1EE8DE7F68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01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Identif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27600" y="120636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Architecture – Par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19000" y="1638360"/>
            <a:ext cx="1787760" cy="923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19000" y="4129200"/>
            <a:ext cx="1787760" cy="923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00440" y="1670040"/>
            <a:ext cx="4646520" cy="465624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85960" y="162396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637000" y="3987720"/>
            <a:ext cx="1041120" cy="60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87680" y="2044800"/>
            <a:ext cx="1041480" cy="882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9240" y="2265480"/>
            <a:ext cx="1179720" cy="434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00640" y="2260440"/>
            <a:ext cx="1179720" cy="435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9880" y="5067360"/>
            <a:ext cx="1179360" cy="434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29240" y="2519280"/>
            <a:ext cx="669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9880" y="3651120"/>
            <a:ext cx="1179360" cy="435240"/>
          </a:xfrm>
          <a:prstGeom prst="rect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27680" y="3578400"/>
            <a:ext cx="1179720" cy="25380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_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27680" y="3922560"/>
            <a:ext cx="1179720" cy="2541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_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29240" y="3646440"/>
            <a:ext cx="298440" cy="192240"/>
          </a:xfrm>
          <a:custGeom>
            <a:avLst/>
            <a:gdLst/>
            <a:ahLst/>
            <a:rect l="l" t="t" r="r" b="b"/>
            <a:pathLst>
              <a:path w="188" h="121">
                <a:moveTo>
                  <a:pt x="0" y="114"/>
                </a:moveTo>
                <a:lnTo>
                  <a:pt x="94" y="121"/>
                </a:lnTo>
                <a:lnTo>
                  <a:pt x="94" y="0"/>
                </a:lnTo>
                <a:lnTo>
                  <a:pt x="1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6920" y="3827520"/>
            <a:ext cx="320760" cy="233280"/>
          </a:xfrm>
          <a:custGeom>
            <a:avLst/>
            <a:gdLst/>
            <a:ahLst/>
            <a:rect l="l" t="t" r="r" b="b"/>
            <a:pathLst>
              <a:path w="202" h="147">
                <a:moveTo>
                  <a:pt x="0" y="0"/>
                </a:moveTo>
                <a:lnTo>
                  <a:pt x="94" y="0"/>
                </a:lnTo>
                <a:lnTo>
                  <a:pt x="101" y="134"/>
                </a:lnTo>
                <a:lnTo>
                  <a:pt x="202" y="14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911840" y="2695680"/>
            <a:ext cx="1287360" cy="950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4880" y="2311560"/>
            <a:ext cx="34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9525800">
            <a:off x="5480640" y="2901960"/>
            <a:ext cx="34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19720" y="2695680"/>
            <a:ext cx="1170000" cy="74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ed Roo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ed Sen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49880" y="4091040"/>
            <a:ext cx="1170000" cy="74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ror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49880" y="5518080"/>
            <a:ext cx="1170000" cy="74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ensink, Martijn Liem, Roeland Weve, Markos Mylon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2748-4300-44FE-9F7E-0CBAAE0DFA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01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to produce training- and test-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to visualize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difficult to gather re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ensink, Martijn Liem, Roeland Weve, Markos Mylon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06B1-9D10-4F0E-AC7D-CF87FF9779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-01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2:32:29Z</dcterms:created>
  <dc:creator>Thomas Mensink</dc:creator>
  <dc:description/>
  <dc:language>en-US</dc:language>
  <cp:lastModifiedBy>Maris</cp:lastModifiedBy>
  <dcterms:modified xsi:type="dcterms:W3CDTF">2006-01-18T10:43:05Z</dcterms:modified>
  <cp:revision>8</cp:revision>
  <dc:subject/>
  <dc:title>Slide 1</dc:title>
</cp:coreProperties>
</file>