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68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420-23FE-454E-AC12-60401F24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5680" y="4310640"/>
            <a:ext cx="85564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8BD-1241-473B-9090-5E246EF1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68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012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BD4-6658-47A6-B3BF-A42ECDD4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9000" y="190512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1960" y="190512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5680" y="431064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9000" y="431064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1960" y="431064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AF8-7AA0-44A5-AC77-DF65A81B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04B-BE44-42C2-A1F9-C5ED8252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273-624F-4A8B-8166-4EBC42D7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BBC-30A9-4D45-A8E8-68C327D9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D3C-D0C7-43FB-B97B-8A3E998D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69720" y="609120"/>
            <a:ext cx="849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679-7532-4C93-AEB8-442EF888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68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0FB-C990-4981-9A75-85B533A1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012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031-1DC4-4A6E-A779-5D7D9243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5680" y="4310640"/>
            <a:ext cx="85564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D82-47A0-45DE-B90C-DEEC0D00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6880" y="157320"/>
            <a:ext cx="8610840" cy="6400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2" marL="1162080" indent="-22860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086600" y="5486400"/>
            <a:ext cx="1676520" cy="932040"/>
            <a:chOff x="7086600" y="5486400"/>
            <a:chExt cx="1676520" cy="93204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44604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086600" y="61722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versity  of Amsterd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1828440" y="6611760"/>
            <a:ext cx="6000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rch, Navigate, and Actuate – Search through Game Tr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-360" y="6593040"/>
            <a:ext cx="213372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noud Vis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742160" y="6521040"/>
            <a:ext cx="1401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FD9A-D074-4CF0-82F6-F9BFC034D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wx.prenhall.com/bookbind/pubbooks/bratko3_ema/chapter22/medialib/fig22_5.txt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ience.uva.nl/~arnoud/education/ZSB/follow_strategy.pl" TargetMode="External"/><Relationship Id="rId2" Type="http://schemas.openxmlformats.org/officeDocument/2006/relationships/hyperlink" Target="http://www.science.uva.nl/~arnoud/education/ZSB/advice.p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wx.prenhall.com/bookbind/pubbooks/bratko3_ema/chapter22/medialib/fig22_3.tx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Game Playing 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earch the action space of 2 player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Times New Roman"/>
              </a:rPr>
              <a:t>Russell &amp; Norvig Chapter 6</a:t>
            </a:r>
            <a:endParaRPr b="0" lang="en-US" sz="2000" spc="-1" strike="noStrike">
              <a:solidFill>
                <a:srgbClr val="414141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Times New Roman"/>
              </a:rPr>
              <a:t>Bratko Chapter 22</a:t>
            </a:r>
            <a:endParaRPr b="0" lang="en-US" sz="20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783-72AD-4386-8E7E-8A888BE833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α-β pruning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fficient minimaxing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Idea: </a:t>
            </a: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once a move is clearly inferior to a previous move, it is not necessary to know </a:t>
            </a:r>
            <a:r>
              <a:rPr b="0" i="1" lang="en-US" sz="2400" spc="-1" strike="noStrike">
                <a:solidFill>
                  <a:srgbClr val="414141"/>
                </a:solidFill>
                <a:latin typeface="Times New Roman"/>
              </a:rPr>
              <a:t>exactly</a:t>
            </a: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 how much inferior.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Introduce two bounds: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pha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minimal value the MAX is guaranteed to achieve </a:t>
            </a:r>
            <a:br>
              <a:rPr sz="24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eta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maximal value the MAX can hope to achieve 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38096" b="0"/>
          <a:stretch/>
        </p:blipFill>
        <p:spPr>
          <a:xfrm>
            <a:off x="3009960" y="4662360"/>
            <a:ext cx="2422440" cy="179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E4D-320D-4FE6-962E-A00B2A2874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α-β pruning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1212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lpha = 3                 Val &lt; Alpha,             Val &gt; Alpha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                                         !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      Newbound(</a:t>
            </a:r>
            <a:r>
              <a:rPr b="0" lang="el-GR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79720" y="2673360"/>
            <a:ext cx="3600360" cy="1647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0" r="38096" b="0"/>
          <a:stretch/>
        </p:blipFill>
        <p:spPr>
          <a:xfrm>
            <a:off x="500040" y="2630520"/>
            <a:ext cx="2422440" cy="1790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543640" y="2714760"/>
            <a:ext cx="3600360" cy="164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B5B-3531-47F9-8A57-24CF73CC65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α-β pruning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1212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Val &gt; </a:t>
            </a:r>
            <a:r>
              <a:rPr b="0" lang="el-GR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α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Val &lt; </a:t>
            </a:r>
            <a:r>
              <a:rPr b="0" lang="el-GR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Newbound(</a:t>
            </a:r>
            <a:r>
              <a:rPr b="0" lang="el-GR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      !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69720" y="2693880"/>
            <a:ext cx="3652920" cy="1673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91040" y="2711520"/>
            <a:ext cx="361008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B79-64C3-4EFE-9240-10F2F1A1B3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roperties of α-β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Prun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oes not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affect final result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Good move ordering improves effectiveness of pruning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ith "perfect ordering," time complexity = O(b</a:t>
            </a:r>
            <a:r>
              <a:rPr b="0" lang="en-US" sz="2800" spc="-1" strike="noStrike" baseline="30000">
                <a:solidFill>
                  <a:srgbClr val="414141"/>
                </a:solidFill>
                <a:latin typeface="Times New Roman"/>
              </a:rPr>
              <a:t>m/2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ubles</a:t>
            </a: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 depth of search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 simple example of the value of reasoning about which computations are relevant (a form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tareasoning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439-E409-4592-993A-D07E3A0F7B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053120" y="5195880"/>
            <a:ext cx="1743120" cy="12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AlphaBeta prolog implementation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3400" y="1727280"/>
            <a:ext cx="724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4400" y="1698480"/>
            <a:ext cx="8174160" cy="475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alphabet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Pos,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Alpha, Beta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oodPos, Val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ves( Pos, PosList), !,                 % Legal moves in P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boundedbe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PosList,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Alpha, Beta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oodPos, V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val( Pos, Val).                    % Terminal Pos has no suc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boundedbe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[Pos | PosList],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Alpha, Bet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GoodPos, GoodVal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alphabet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Pos,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Alpha, Bet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_, Val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goodenoug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Pos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Alpha, Beta, Pos, Val, GoodPos, GoodV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goodenoug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_,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Alpha, Bet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Pos, Val, Pos, Val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-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n_to_move( Pos), Val &gt; </a:t>
            </a: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Be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!       % MAX prefers the greate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_to_move( Pos), Val &lt; </a:t>
            </a: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Alph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!.     % MIN prefers the lesser val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goodenough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 PosList, Alpha, Beta, Pos, Val, GoodPos, GoodVal)  :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newbounds( Alpha, Beta, Pos, Val, NewAlpha, NewBeta),    % Refine bound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boundedbest( PosList, NewAlpha, NewBeta, Pos1, Val1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tterof( Pos, Val, Pos1, Val1, GoodPos, GoodVa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B47-8BC1-4102-9203-7B7B724995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roperties of α-β implementation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straightforward implementation 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It doesn’t answer the solution tree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ith the depth-first strategy, it is difficult to control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E25-9582-4060-8ADB-CBFDDA38E4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53120" y="5195880"/>
            <a:ext cx="1743120" cy="12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rolog assignment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3400" y="1727280"/>
            <a:ext cx="724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0360" y="3801960"/>
            <a:ext cx="81738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phabeta( Pos, Alpha, Beta, GoodPos, Val, MaxDepth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568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Download AlphaBeta implementation from Bratko:</a:t>
            </a:r>
            <a:br>
              <a:rPr sz="2800"/>
            </a:b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cwx.prenhall.com/bookbind/pubbooks/bratko3_ema/chapter22/medialib/fig22_5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Prevent the algorithm to search beyond a depth lim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94A-FC6E-42D3-BB38-452089D79A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Resource usages in ches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Suppose we have 100 secs, explore 10</a:t>
            </a:r>
            <a:r>
              <a:rPr b="0" lang="en-US" sz="2800" spc="-1" strike="noStrike" baseline="30000">
                <a:solidFill>
                  <a:srgbClr val="414141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nodes/sec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nodes per move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≈ 35</a:t>
            </a:r>
            <a:r>
              <a:rPr b="0" lang="en-US" sz="2800" spc="-1" strike="noStrike" baseline="30000">
                <a:solidFill>
                  <a:srgbClr val="414141"/>
                </a:solidFill>
                <a:latin typeface="Times New Roman"/>
                <a:ea typeface="Times New Roman"/>
              </a:rPr>
              <a:t>8/2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414141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ches depth 8 </a:t>
            </a:r>
            <a:r>
              <a:rPr b="0" lang="en-US" sz="2800" spc="-1" strike="noStrike">
                <a:solidFill>
                  <a:srgbClr val="414141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Arial"/>
              </a:rPr>
              <a:t> human chess player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Needed modifications: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utoff test: 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e.g., depth limit (perhaps ad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iescence search</a:t>
            </a: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valuation function 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= estimated desirability of position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20D-9567-4BBF-8B62-CDFDB59065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19191"/>
                </a:solidFill>
                <a:latin typeface="Arial"/>
              </a:rPr>
              <a:t>Evaluation-functions are quite static</a:t>
            </a:r>
            <a:endParaRPr b="0" lang="en-US" sz="4000" spc="-1" strike="noStrike">
              <a:solidFill>
                <a:srgbClr val="919191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55720" y="2075040"/>
            <a:ext cx="1235160" cy="1234800"/>
            <a:chOff x="855720" y="2075040"/>
            <a:chExt cx="1235160" cy="1234800"/>
          </a:xfrm>
        </p:grpSpPr>
        <p:grpSp>
          <p:nvGrpSpPr>
            <p:cNvPr id="106" name=""/>
            <p:cNvGrpSpPr/>
            <p:nvPr/>
          </p:nvGrpSpPr>
          <p:grpSpPr>
            <a:xfrm>
              <a:off x="1214280" y="2075040"/>
              <a:ext cx="515880" cy="1234800"/>
              <a:chOff x="1214280" y="2075040"/>
              <a:chExt cx="515880" cy="1234800"/>
            </a:xfrm>
          </p:grpSpPr>
          <p:sp>
            <p:nvSpPr>
              <p:cNvPr id="107" name=""/>
              <p:cNvSpPr/>
              <p:nvPr/>
            </p:nvSpPr>
            <p:spPr>
              <a:xfrm>
                <a:off x="1214280" y="207504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730160" y="207504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855720" y="2470320"/>
              <a:ext cx="1235160" cy="442800"/>
              <a:chOff x="855720" y="2470320"/>
              <a:chExt cx="1235160" cy="442800"/>
            </a:xfrm>
          </p:grpSpPr>
          <p:sp>
            <p:nvSpPr>
              <p:cNvPr id="110" name=""/>
              <p:cNvSpPr/>
              <p:nvPr/>
            </p:nvSpPr>
            <p:spPr>
              <a:xfrm>
                <a:off x="855720" y="247032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55720" y="291312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893880" y="2120760"/>
            <a:ext cx="286920" cy="286920"/>
            <a:chOff x="893880" y="2120760"/>
            <a:chExt cx="286920" cy="286920"/>
          </a:xfrm>
        </p:grpSpPr>
        <p:sp>
          <p:nvSpPr>
            <p:cNvPr id="113" name=""/>
            <p:cNvSpPr/>
            <p:nvPr/>
          </p:nvSpPr>
          <p:spPr>
            <a:xfrm flipV="1">
              <a:off x="915120" y="212076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93880" y="214344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845000" y="2998440"/>
            <a:ext cx="286920" cy="286920"/>
            <a:chOff x="1845000" y="2998440"/>
            <a:chExt cx="286920" cy="286920"/>
          </a:xfrm>
        </p:grpSpPr>
        <p:sp>
          <p:nvSpPr>
            <p:cNvPr id="116" name=""/>
            <p:cNvSpPr/>
            <p:nvPr/>
          </p:nvSpPr>
          <p:spPr>
            <a:xfrm flipV="1">
              <a:off x="1866240" y="299844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45000" y="302112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320840" y="2540160"/>
            <a:ext cx="304920" cy="28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97120" y="2976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0640" y="2124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12960" y="2522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55760" y="2976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0120" y="2523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11480" y="2124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301920" y="2125800"/>
            <a:ext cx="1235160" cy="1234800"/>
            <a:chOff x="3301920" y="2125800"/>
            <a:chExt cx="1235160" cy="1234800"/>
          </a:xfrm>
        </p:grpSpPr>
        <p:grpSp>
          <p:nvGrpSpPr>
            <p:cNvPr id="126" name=""/>
            <p:cNvGrpSpPr/>
            <p:nvPr/>
          </p:nvGrpSpPr>
          <p:grpSpPr>
            <a:xfrm>
              <a:off x="3660480" y="2125800"/>
              <a:ext cx="515880" cy="1234800"/>
              <a:chOff x="3660480" y="2125800"/>
              <a:chExt cx="515880" cy="1234800"/>
            </a:xfrm>
          </p:grpSpPr>
          <p:sp>
            <p:nvSpPr>
              <p:cNvPr id="127" name=""/>
              <p:cNvSpPr/>
              <p:nvPr/>
            </p:nvSpPr>
            <p:spPr>
              <a:xfrm>
                <a:off x="3660480" y="212580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76360" y="212580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301920" y="2521080"/>
              <a:ext cx="1235160" cy="442800"/>
              <a:chOff x="3301920" y="2521080"/>
              <a:chExt cx="1235160" cy="442800"/>
            </a:xfrm>
          </p:grpSpPr>
          <p:sp>
            <p:nvSpPr>
              <p:cNvPr id="130" name=""/>
              <p:cNvSpPr/>
              <p:nvPr/>
            </p:nvSpPr>
            <p:spPr>
              <a:xfrm>
                <a:off x="3301920" y="252108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1920" y="296388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3340440" y="2171520"/>
            <a:ext cx="286920" cy="286920"/>
            <a:chOff x="3340440" y="2171520"/>
            <a:chExt cx="286920" cy="286920"/>
          </a:xfrm>
        </p:grpSpPr>
        <p:sp>
          <p:nvSpPr>
            <p:cNvPr id="133" name=""/>
            <p:cNvSpPr/>
            <p:nvPr/>
          </p:nvSpPr>
          <p:spPr>
            <a:xfrm flipV="1">
              <a:off x="3361680" y="217152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40440" y="219420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291200" y="3049560"/>
            <a:ext cx="286920" cy="286920"/>
            <a:chOff x="4291200" y="3049560"/>
            <a:chExt cx="286920" cy="286920"/>
          </a:xfrm>
        </p:grpSpPr>
        <p:sp>
          <p:nvSpPr>
            <p:cNvPr id="136" name=""/>
            <p:cNvSpPr/>
            <p:nvPr/>
          </p:nvSpPr>
          <p:spPr>
            <a:xfrm flipV="1">
              <a:off x="4312440" y="304956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91200" y="307224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767040" y="2590920"/>
            <a:ext cx="304920" cy="28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43320" y="3027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59160" y="2573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1960" y="3027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16320" y="2575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57680" y="2174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10200" y="2206800"/>
            <a:ext cx="304560" cy="28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835600" y="2103480"/>
            <a:ext cx="1235160" cy="1234800"/>
            <a:chOff x="5835600" y="2103480"/>
            <a:chExt cx="1235160" cy="1234800"/>
          </a:xfrm>
        </p:grpSpPr>
        <p:grpSp>
          <p:nvGrpSpPr>
            <p:cNvPr id="146" name=""/>
            <p:cNvGrpSpPr/>
            <p:nvPr/>
          </p:nvGrpSpPr>
          <p:grpSpPr>
            <a:xfrm>
              <a:off x="6194160" y="2103480"/>
              <a:ext cx="515880" cy="1234800"/>
              <a:chOff x="6194160" y="2103480"/>
              <a:chExt cx="515880" cy="1234800"/>
            </a:xfrm>
          </p:grpSpPr>
          <p:sp>
            <p:nvSpPr>
              <p:cNvPr id="147" name=""/>
              <p:cNvSpPr/>
              <p:nvPr/>
            </p:nvSpPr>
            <p:spPr>
              <a:xfrm>
                <a:off x="6194160" y="210348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710040" y="210348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835600" y="2498760"/>
              <a:ext cx="1235160" cy="442800"/>
              <a:chOff x="5835600" y="2498760"/>
              <a:chExt cx="1235160" cy="442800"/>
            </a:xfrm>
          </p:grpSpPr>
          <p:sp>
            <p:nvSpPr>
              <p:cNvPr id="150" name=""/>
              <p:cNvSpPr/>
              <p:nvPr/>
            </p:nvSpPr>
            <p:spPr>
              <a:xfrm>
                <a:off x="5835600" y="249876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35600" y="294156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" name=""/>
          <p:cNvGrpSpPr/>
          <p:nvPr/>
        </p:nvGrpSpPr>
        <p:grpSpPr>
          <a:xfrm>
            <a:off x="5874120" y="2149200"/>
            <a:ext cx="286920" cy="286920"/>
            <a:chOff x="5874120" y="2149200"/>
            <a:chExt cx="286920" cy="286920"/>
          </a:xfrm>
        </p:grpSpPr>
        <p:sp>
          <p:nvSpPr>
            <p:cNvPr id="153" name=""/>
            <p:cNvSpPr/>
            <p:nvPr/>
          </p:nvSpPr>
          <p:spPr>
            <a:xfrm flipV="1">
              <a:off x="5895360" y="214920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74120" y="217188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824880" y="3027240"/>
            <a:ext cx="286920" cy="286920"/>
            <a:chOff x="6824880" y="3027240"/>
            <a:chExt cx="286920" cy="286920"/>
          </a:xfrm>
        </p:grpSpPr>
        <p:sp>
          <p:nvSpPr>
            <p:cNvPr id="156" name=""/>
            <p:cNvSpPr/>
            <p:nvPr/>
          </p:nvSpPr>
          <p:spPr>
            <a:xfrm flipV="1">
              <a:off x="6846120" y="302724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24880" y="304992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300720" y="2568600"/>
            <a:ext cx="304920" cy="28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2840" y="2550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5640" y="300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50000" y="2552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91360" y="2152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43880" y="2184480"/>
            <a:ext cx="304560" cy="28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874120" y="3004920"/>
            <a:ext cx="286920" cy="286920"/>
            <a:chOff x="5874120" y="3004920"/>
            <a:chExt cx="286920" cy="286920"/>
          </a:xfrm>
        </p:grpSpPr>
        <p:sp>
          <p:nvSpPr>
            <p:cNvPr id="165" name=""/>
            <p:cNvSpPr/>
            <p:nvPr/>
          </p:nvSpPr>
          <p:spPr>
            <a:xfrm flipV="1">
              <a:off x="5895360" y="300492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74120" y="302760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55680" y="3806640"/>
            <a:ext cx="8469360" cy="270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e need domain knowledge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e want to divide knowledge from inference engine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e want represent knowledge with simple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if-then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rules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3BD-F13E-4274-B28A-389015B0F5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19191"/>
                </a:solidFill>
                <a:latin typeface="Arial"/>
              </a:rPr>
              <a:t>Advantages of separating </a:t>
            </a:r>
            <a:br>
              <a:rPr sz="4000"/>
            </a:br>
            <a:r>
              <a:rPr b="0" lang="en-US" sz="4000" spc="-1" strike="noStrike">
                <a:solidFill>
                  <a:srgbClr val="919191"/>
                </a:solidFill>
                <a:latin typeface="Arial"/>
              </a:rPr>
              <a:t>production rules</a:t>
            </a:r>
            <a:endParaRPr b="0" lang="en-US" sz="4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85640" y="1919160"/>
            <a:ext cx="8469360" cy="270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precondition P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Conclusion C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situation S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action A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conditions C1 and C2 hold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Condition C does not hold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4360" y="3936960"/>
            <a:ext cx="84834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Modularity: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ach rule an concise piece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Incrementability: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new rules can be added independently of other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Modifiability: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old rules can b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Trans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33720" indent="-381240">
              <a:lnSpc>
                <a:spcPct val="100000"/>
              </a:lnSpc>
              <a:spcBef>
                <a:spcPts val="451"/>
              </a:spcBef>
              <a:buClr>
                <a:srgbClr val="cd3232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73E-C823-4CFD-A214-B433DC37C1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Game Playing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5320" y="1687680"/>
            <a:ext cx="5102280" cy="482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Games contribute to AI like Formula 1 racing contributes to automobile design.’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Games, like the real world, require the ability to make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decision, even when the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optimal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decision is infeasible.’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Games penalize inefficiency severely’.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10320" y="1876320"/>
            <a:ext cx="2985840" cy="453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B74-0E82-4743-8178-96EB9A73FE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Advice Language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xtending Situation Calculus: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Us-move-constraints: 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selects a subset of all legal us-moves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Them-move-constraints: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selects a subset of all legal them-moves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Combination of precondition and actions.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9B5-8B7A-4780-9A9C-6C9E28D92B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Advice Language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Stop criteria: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Better-goal: 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 goal to be achieved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Holding-goal: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 goal to be maintained while playing 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toward the better-goal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Compare with desires of BDI. 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Intensions are equivalent solution-tree.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477-9E20-405F-9F0B-79A796B0F3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Chess endgame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Solution trees are implemented with forcing trees: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ND/OR trees where AND-nodes have only one arc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(selected us-move).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3" marL="1714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  <a:p>
            <a:pPr lvl="4" marL="21337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140640" y="3032280"/>
            <a:ext cx="3561480" cy="3264480"/>
            <a:chOff x="3140640" y="3032280"/>
            <a:chExt cx="3561480" cy="3264480"/>
          </a:xfrm>
        </p:grpSpPr>
        <p:sp>
          <p:nvSpPr>
            <p:cNvPr id="178" name=""/>
            <p:cNvSpPr/>
            <p:nvPr/>
          </p:nvSpPr>
          <p:spPr>
            <a:xfrm>
              <a:off x="4454640" y="3032280"/>
              <a:ext cx="734400" cy="69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97720" y="3754440"/>
              <a:ext cx="2304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851280" y="3546000"/>
              <a:ext cx="614880" cy="64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29280" y="3607200"/>
              <a:ext cx="970920" cy="63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140640" y="4126320"/>
              <a:ext cx="1088280" cy="2061000"/>
              <a:chOff x="3140640" y="4126320"/>
              <a:chExt cx="1088280" cy="2061000"/>
            </a:xfrm>
          </p:grpSpPr>
          <p:sp>
            <p:nvSpPr>
              <p:cNvPr id="183" name=""/>
              <p:cNvSpPr/>
              <p:nvPr/>
            </p:nvSpPr>
            <p:spPr>
              <a:xfrm>
                <a:off x="3289320" y="4126320"/>
                <a:ext cx="734400" cy="69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644280" y="4811040"/>
                <a:ext cx="1080" cy="67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94360" y="5490720"/>
                <a:ext cx="734040" cy="69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rot="13610400">
                <a:off x="3330360" y="4284360"/>
                <a:ext cx="707760" cy="82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294440" y="4157280"/>
              <a:ext cx="1088280" cy="2060640"/>
              <a:chOff x="4294440" y="4157280"/>
              <a:chExt cx="1088280" cy="2060640"/>
            </a:xfrm>
          </p:grpSpPr>
          <p:sp>
            <p:nvSpPr>
              <p:cNvPr id="188" name=""/>
              <p:cNvSpPr/>
              <p:nvPr/>
            </p:nvSpPr>
            <p:spPr>
              <a:xfrm>
                <a:off x="4443120" y="4157280"/>
                <a:ext cx="734400" cy="69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98080" y="4842000"/>
                <a:ext cx="1080" cy="67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448160" y="5521320"/>
                <a:ext cx="734040" cy="69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3610400">
                <a:off x="4484160" y="4315320"/>
                <a:ext cx="707760" cy="82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613840" y="4236120"/>
              <a:ext cx="1088280" cy="2060640"/>
              <a:chOff x="5613840" y="4236120"/>
              <a:chExt cx="1088280" cy="2060640"/>
            </a:xfrm>
          </p:grpSpPr>
          <p:sp>
            <p:nvSpPr>
              <p:cNvPr id="193" name=""/>
              <p:cNvSpPr/>
              <p:nvPr/>
            </p:nvSpPr>
            <p:spPr>
              <a:xfrm>
                <a:off x="5762520" y="4236120"/>
                <a:ext cx="734400" cy="69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117480" y="4920840"/>
                <a:ext cx="1080" cy="67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67560" y="5600160"/>
                <a:ext cx="734040" cy="69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13610400">
                <a:off x="5803560" y="4394160"/>
                <a:ext cx="707760" cy="82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CAA-562B-4069-80E7-680F4150BC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053120" y="5195880"/>
            <a:ext cx="1743120" cy="12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rolog assignment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03400" y="1727280"/>
            <a:ext cx="724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568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Select subset of legal moves with Advice Language: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Downlo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cience.uva.nl/~arnoud/education/ZSB/follow_strategy.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cience.uva.nl/~arnoud/education/ZSB/advice.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908000" y="4680000"/>
            <a:ext cx="1235160" cy="1234800"/>
            <a:chOff x="1908000" y="4680000"/>
            <a:chExt cx="1235160" cy="1234800"/>
          </a:xfrm>
        </p:grpSpPr>
        <p:grpSp>
          <p:nvGrpSpPr>
            <p:cNvPr id="202" name=""/>
            <p:cNvGrpSpPr/>
            <p:nvPr/>
          </p:nvGrpSpPr>
          <p:grpSpPr>
            <a:xfrm>
              <a:off x="2266560" y="4680000"/>
              <a:ext cx="515880" cy="1234800"/>
              <a:chOff x="2266560" y="4680000"/>
              <a:chExt cx="515880" cy="1234800"/>
            </a:xfrm>
          </p:grpSpPr>
          <p:sp>
            <p:nvSpPr>
              <p:cNvPr id="203" name=""/>
              <p:cNvSpPr/>
              <p:nvPr/>
            </p:nvSpPr>
            <p:spPr>
              <a:xfrm>
                <a:off x="2266560" y="468000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782440" y="468000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908000" y="5075280"/>
              <a:ext cx="1235160" cy="442800"/>
              <a:chOff x="1908000" y="5075280"/>
              <a:chExt cx="1235160" cy="442800"/>
            </a:xfrm>
          </p:grpSpPr>
          <p:sp>
            <p:nvSpPr>
              <p:cNvPr id="206" name=""/>
              <p:cNvSpPr/>
              <p:nvPr/>
            </p:nvSpPr>
            <p:spPr>
              <a:xfrm>
                <a:off x="1908000" y="507528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08000" y="551808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2383200" y="5162400"/>
            <a:ext cx="286920" cy="286920"/>
            <a:chOff x="2383200" y="5162400"/>
            <a:chExt cx="286920" cy="286920"/>
          </a:xfrm>
        </p:grpSpPr>
        <p:sp>
          <p:nvSpPr>
            <p:cNvPr id="209" name=""/>
            <p:cNvSpPr/>
            <p:nvPr/>
          </p:nvSpPr>
          <p:spPr>
            <a:xfrm flipV="1">
              <a:off x="2404440" y="516240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83200" y="518508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938240" y="4695840"/>
            <a:ext cx="304920" cy="28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16280" y="5138640"/>
            <a:ext cx="304920" cy="28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657600" y="4702320"/>
            <a:ext cx="1235160" cy="1234800"/>
            <a:chOff x="3657600" y="4702320"/>
            <a:chExt cx="1235160" cy="1234800"/>
          </a:xfrm>
        </p:grpSpPr>
        <p:grpSp>
          <p:nvGrpSpPr>
            <p:cNvPr id="214" name=""/>
            <p:cNvGrpSpPr/>
            <p:nvPr/>
          </p:nvGrpSpPr>
          <p:grpSpPr>
            <a:xfrm>
              <a:off x="4016160" y="4702320"/>
              <a:ext cx="515880" cy="1234800"/>
              <a:chOff x="4016160" y="4702320"/>
              <a:chExt cx="515880" cy="1234800"/>
            </a:xfrm>
          </p:grpSpPr>
          <p:sp>
            <p:nvSpPr>
              <p:cNvPr id="215" name=""/>
              <p:cNvSpPr/>
              <p:nvPr/>
            </p:nvSpPr>
            <p:spPr>
              <a:xfrm>
                <a:off x="4016160" y="470232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32040" y="470232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657600" y="5097600"/>
              <a:ext cx="1235160" cy="442800"/>
              <a:chOff x="3657600" y="5097600"/>
              <a:chExt cx="1235160" cy="442800"/>
            </a:xfrm>
          </p:grpSpPr>
          <p:sp>
            <p:nvSpPr>
              <p:cNvPr id="218" name=""/>
              <p:cNvSpPr/>
              <p:nvPr/>
            </p:nvSpPr>
            <p:spPr>
              <a:xfrm>
                <a:off x="3657600" y="509760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57600" y="5540400"/>
                <a:ext cx="12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4132440" y="5184720"/>
            <a:ext cx="286920" cy="286920"/>
            <a:chOff x="4132440" y="5184720"/>
            <a:chExt cx="286920" cy="286920"/>
          </a:xfrm>
        </p:grpSpPr>
        <p:sp>
          <p:nvSpPr>
            <p:cNvPr id="221" name=""/>
            <p:cNvSpPr/>
            <p:nvPr/>
          </p:nvSpPr>
          <p:spPr>
            <a:xfrm flipV="1">
              <a:off x="4153680" y="518472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32440" y="520740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687840" y="4718160"/>
            <a:ext cx="304560" cy="28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65520" y="5160960"/>
            <a:ext cx="304920" cy="28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618080" y="5627520"/>
            <a:ext cx="286920" cy="286920"/>
            <a:chOff x="4618080" y="5627520"/>
            <a:chExt cx="286920" cy="286920"/>
          </a:xfrm>
        </p:grpSpPr>
        <p:sp>
          <p:nvSpPr>
            <p:cNvPr id="226" name=""/>
            <p:cNvSpPr/>
            <p:nvPr/>
          </p:nvSpPr>
          <p:spPr>
            <a:xfrm flipV="1">
              <a:off x="4639320" y="562752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18080" y="565020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608800" y="4694400"/>
            <a:ext cx="1234800" cy="1234800"/>
            <a:chOff x="5608800" y="4694400"/>
            <a:chExt cx="1234800" cy="1234800"/>
          </a:xfrm>
        </p:grpSpPr>
        <p:grpSp>
          <p:nvGrpSpPr>
            <p:cNvPr id="229" name=""/>
            <p:cNvGrpSpPr/>
            <p:nvPr/>
          </p:nvGrpSpPr>
          <p:grpSpPr>
            <a:xfrm>
              <a:off x="5967000" y="4694400"/>
              <a:ext cx="515880" cy="1234800"/>
              <a:chOff x="5967000" y="4694400"/>
              <a:chExt cx="515880" cy="1234800"/>
            </a:xfrm>
          </p:grpSpPr>
          <p:sp>
            <p:nvSpPr>
              <p:cNvPr id="230" name=""/>
              <p:cNvSpPr/>
              <p:nvPr/>
            </p:nvSpPr>
            <p:spPr>
              <a:xfrm>
                <a:off x="5967000" y="469440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82880" y="4694400"/>
                <a:ext cx="0" cy="123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608800" y="5089680"/>
              <a:ext cx="1234800" cy="442800"/>
              <a:chOff x="5608800" y="5089680"/>
              <a:chExt cx="1234800" cy="442800"/>
            </a:xfrm>
          </p:grpSpPr>
          <p:sp>
            <p:nvSpPr>
              <p:cNvPr id="233" name=""/>
              <p:cNvSpPr/>
              <p:nvPr/>
            </p:nvSpPr>
            <p:spPr>
              <a:xfrm>
                <a:off x="5608800" y="5089680"/>
                <a:ext cx="123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608800" y="5532480"/>
                <a:ext cx="123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6083640" y="5176800"/>
            <a:ext cx="286920" cy="286920"/>
            <a:chOff x="6083640" y="5176800"/>
            <a:chExt cx="286920" cy="286920"/>
          </a:xfrm>
        </p:grpSpPr>
        <p:sp>
          <p:nvSpPr>
            <p:cNvPr id="236" name=""/>
            <p:cNvSpPr/>
            <p:nvPr/>
          </p:nvSpPr>
          <p:spPr>
            <a:xfrm flipV="1">
              <a:off x="6104880" y="517680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83640" y="519948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638680" y="4710240"/>
            <a:ext cx="304920" cy="28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16720" y="5153040"/>
            <a:ext cx="304920" cy="28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640480" y="5635440"/>
            <a:ext cx="286920" cy="286920"/>
            <a:chOff x="5640480" y="5635440"/>
            <a:chExt cx="286920" cy="286920"/>
          </a:xfrm>
        </p:grpSpPr>
        <p:sp>
          <p:nvSpPr>
            <p:cNvPr id="241" name=""/>
            <p:cNvSpPr/>
            <p:nvPr/>
          </p:nvSpPr>
          <p:spPr>
            <a:xfrm flipV="1">
              <a:off x="5661720" y="5635440"/>
              <a:ext cx="243000" cy="2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40480" y="5658120"/>
              <a:ext cx="28692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686040" y="5167440"/>
            <a:ext cx="304920" cy="288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7E5-2E87-4E04-8503-A9E3AB43A9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Games vs. search problem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360" y="1905120"/>
            <a:ext cx="83088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"Unpredictable" opponent </a:t>
            </a:r>
            <a:r>
              <a:rPr b="0" lang="en-US" sz="3200" spc="-1" strike="noStrike">
                <a:solidFill>
                  <a:srgbClr val="414141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 specifying a move for every possible opponent reply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Time limits </a:t>
            </a:r>
            <a:r>
              <a:rPr b="0" lang="en-US" sz="3200" spc="-1" strike="noStrike">
                <a:solidFill>
                  <a:srgbClr val="414141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 unlikely to find goal, must approximate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7D0-31BB-4501-8B02-10AA612E30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19191"/>
                </a:solidFill>
                <a:latin typeface="Arial"/>
              </a:rPr>
              <a:t>Game tree of tic-tac-toe</a:t>
            </a:r>
            <a:br>
              <a:rPr sz="4000"/>
            </a:br>
            <a:r>
              <a:rPr b="0" lang="en-US" sz="3200" spc="-1" strike="noStrike">
                <a:solidFill>
                  <a:srgbClr val="919191"/>
                </a:solidFill>
                <a:latin typeface="Arial"/>
              </a:rPr>
              <a:t>(2-player, deterministic, turn-taking, zero sum)</a:t>
            </a:r>
            <a:endParaRPr b="0" lang="en-US" sz="32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09560" y="2054160"/>
            <a:ext cx="6048720" cy="430524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086600" y="5486400"/>
            <a:ext cx="1676520" cy="932040"/>
            <a:chOff x="7086600" y="5486400"/>
            <a:chExt cx="1676520" cy="93204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44604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086600" y="61722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versity  of Amsterd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E55-7372-49DF-8F23-828BA9F76F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Minimax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Perfect play for deterministic games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Idea: choose move to position with highest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inimax value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= best achievable payoff against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perfect playing opponent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.g., 2-ply game: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35200" y="4138560"/>
            <a:ext cx="5230800" cy="22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3514680" y="5762520"/>
          <a:ext cx="50796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14680" y="5762520"/>
                    <a:ext cx="50796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5EB-CE9D-4F85-B58F-177BE4FC54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053120" y="5195880"/>
            <a:ext cx="1743120" cy="12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Minimax algorithm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15626" t="25004" r="15626" b="11458"/>
          <a:stretch/>
        </p:blipFill>
        <p:spPr>
          <a:xfrm>
            <a:off x="1563840" y="1687680"/>
            <a:ext cx="6140160" cy="46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F82-EDFD-4B20-8FBC-804EDFE8C1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53120" y="5195880"/>
            <a:ext cx="1743120" cy="12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Minimax prolog implementation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3400" y="1727280"/>
            <a:ext cx="724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4400" y="1698480"/>
            <a:ext cx="8174160" cy="478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nimax( Pos, BestSucc, Val)  :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ves( Pos, PosList), !,                 % Legal moves in P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st( PosList, BestSucc, V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val( Pos, Val).                    % Terminal Pos has no suc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st( [ Pos], Pos, Val)  :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nimax( Pos, _, Val), !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st( [Pos1 | PosList], BestPos, BestVal)  :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nimax( Pos1, _, Val1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st( PosList, Pos2, Val2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tterof( Pos1, Val1, Pos2, Val2, BestPos, BestVa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tterof( Pos0, Val0, Pos1, Val1, Pos0, Val0)  :-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n_to_move( Pos0), Val0 &gt; Val1, !       % MAX prefers the greate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_to_move( Pos0), Val0 &lt; Val1, !.      % MIN prefers the lesser val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tterof( Pos0, Val0, Pos1, Val1, Pos1, Val1).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 Otherwise Pos1 better than Po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893-9EF3-4D8A-A2D6-2477E75F4C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53120" y="5195880"/>
            <a:ext cx="1743120" cy="12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rolog assignment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3400" y="1727280"/>
            <a:ext cx="724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0360" y="3801960"/>
            <a:ext cx="817380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ves( Pos, PosList)     % Legal moves in Pos, fails when Pos is 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val( Pos, Val).    % value of a Terminal node (utility fun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n_to_move( Pos )       % the opponents 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_to_move( Pos )       % our 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568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Download minimax implementation from Bratko:</a:t>
            </a:r>
            <a:br>
              <a:rPr sz="2800"/>
            </a:b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cwx.prenhall.com/bookbind/pubbooks/bratko3_ema/chapter22/medialib/fig22_3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Create in your tic-tac-toe implementation the interface to Bratko implemen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550-C4B7-4709-918F-67F8FBC73D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roperties of minimax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5320" y="1905120"/>
            <a:ext cx="84834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7172b"/>
                </a:solidFill>
                <a:uFillTx/>
                <a:latin typeface="Times New Roman"/>
              </a:rPr>
              <a:t>Complete?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Yes (if tree is finite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7172b"/>
                </a:solidFill>
                <a:uFillTx/>
                <a:latin typeface="Times New Roman"/>
              </a:rPr>
              <a:t>Optimal?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Yes (against an optimal opponent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7172b"/>
                </a:solidFill>
                <a:uFillTx/>
                <a:latin typeface="Times New Roman"/>
              </a:rPr>
              <a:t>Time complexity?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O(b</a:t>
            </a:r>
            <a:r>
              <a:rPr b="0" lang="en-US" sz="2800" spc="-1" strike="noStrike" baseline="30000">
                <a:solidFill>
                  <a:srgbClr val="414141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7172b"/>
                </a:solidFill>
                <a:uFillTx/>
                <a:latin typeface="Times New Roman"/>
              </a:rPr>
              <a:t>Space complexity?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O(bm) (depth-first exploration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For chess, b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Arial"/>
              </a:rPr>
              <a:t>≈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35, m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  <a:ea typeface="Arial"/>
              </a:rPr>
              <a:t>≈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100 for "reasonable" games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exact solution completely infeasible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A55-A90F-47E8-BE40-EE69FCDEC1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8:44:01Z</dcterms:created>
  <dc:creator>software</dc:creator>
  <dc:description/>
  <dc:language>en-US</dc:language>
  <cp:lastModifiedBy>Arnoud Visser</cp:lastModifiedBy>
  <cp:lastPrinted>1999-09-09T14:57:39Z</cp:lastPrinted>
  <dcterms:modified xsi:type="dcterms:W3CDTF">2005-06-02T17:21:15Z</dcterms:modified>
  <cp:revision>49</cp:revision>
  <dc:subject>Computer Systemen</dc:subject>
  <dc:title>Computer Systems</dc:title>
</cp:coreProperties>
</file>