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468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BD80-75A4-456F-AFEC-9196599A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5680" y="4310640"/>
            <a:ext cx="85564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F9B-E877-4154-B423-01E4D623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568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012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C37-DD30-4CFB-AB85-07A8B9D0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9000" y="190512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1960" y="190512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5680" y="431064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9000" y="431064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1960" y="431064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4CB2-A349-4B94-BC44-3541AD4E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2ECA-8441-4383-999D-2FBC15F6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6C8-59EC-4132-A89C-8F0658C6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B2C-1EAD-44D3-A3FA-CAB2E9FD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03D3-D69A-4D15-BECA-E5CB1696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9720" y="609120"/>
            <a:ext cx="849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E50-4310-4DA1-9001-1D631DD1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568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6CB-BBCB-4B77-ADD4-D8BB1E36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012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51D-A5A0-47DD-9B53-ABC8E644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5680" y="4310640"/>
            <a:ext cx="85564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C99-C461-49A8-A27B-B54D4619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26880" y="157320"/>
            <a:ext cx="8610840" cy="6400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2" marL="1162080" indent="-22860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446040" cy="6350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086600" y="6172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ty  of Amsterd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1828440" y="6611760"/>
            <a:ext cx="6000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rch, Navigate, and Actuate -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-360" y="6593040"/>
            <a:ext cx="213372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noud Vis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742160" y="6521040"/>
            <a:ext cx="1401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5C7B-FB2E-4D3C-8C8B-209DE6D26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Search, Navigate, and Actuate 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11F-1543-4A3A-9E5F-C15CB726EB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5320" y="1687680"/>
            <a:ext cx="5102280" cy="482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Integrate the knowledge and skills acquired in the 1</a:t>
            </a:r>
            <a:r>
              <a:rPr b="0" lang="en-US" sz="2800" spc="-1" strike="noStrike" baseline="30000">
                <a:solidFill>
                  <a:srgbClr val="414141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year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Initiate skills to plan, manage, execute and report 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a software project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Introduce the knowledge needed for robotics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0320" y="1876320"/>
            <a:ext cx="2985840" cy="453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7BD-955A-4357-B448-BA0D287094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Program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3360" y="1905120"/>
            <a:ext cx="830880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172b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e7172b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e7172b"/>
                </a:solidFill>
                <a:latin typeface="Times New Roman"/>
              </a:rPr>
              <a:t> Week: 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earch</a:t>
            </a:r>
            <a:br>
              <a:rPr sz="3200"/>
            </a:b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Find the next move for a chess playing robot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172b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e7172b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e7172b"/>
                </a:solidFill>
                <a:latin typeface="Times New Roman"/>
              </a:rPr>
              <a:t> Week: 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Navigate</a:t>
            </a:r>
            <a:br>
              <a:rPr sz="3200"/>
            </a:b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Translate the move to movements of a piece 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172b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e7172b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e7172b"/>
                </a:solidFill>
                <a:latin typeface="Times New Roman"/>
              </a:rPr>
              <a:t> Week: 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Actuate</a:t>
            </a:r>
            <a:br>
              <a:rPr sz="3200"/>
            </a:b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Translate the piece movements to arm movements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172b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e7172b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e7172b"/>
                </a:solidFill>
                <a:latin typeface="Times New Roman"/>
              </a:rPr>
              <a:t> Week: 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Play</a:t>
            </a:r>
            <a:br>
              <a:rPr sz="3200"/>
            </a:b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Do something nobody has done before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833-3526-49CF-B724-6299EF2AC7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25192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172b"/>
                </a:solidFill>
                <a:latin typeface="Times New Roman"/>
              </a:rPr>
              <a:t>10.00-12.30: 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Practicum</a:t>
            </a:r>
            <a:br>
              <a:rPr sz="3200"/>
            </a:b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Assistant will introduce the new assignment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172b"/>
                </a:solidFill>
                <a:latin typeface="Times New Roman"/>
              </a:rPr>
              <a:t>13.00-15.00: 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Lecture</a:t>
            </a:r>
            <a:br>
              <a:rPr sz="3200"/>
            </a:b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Knowledge needed for the task  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172b"/>
                </a:solidFill>
                <a:latin typeface="Times New Roman"/>
              </a:rPr>
              <a:t>15.30-17.00: 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Project</a:t>
            </a:r>
            <a:br>
              <a:rPr sz="3200"/>
            </a:b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Work together on the assignment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8FE-442B-4D2F-9056-8182F630B3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Grade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642680"/>
            <a:ext cx="8223480" cy="460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172b"/>
                </a:solidFill>
                <a:latin typeface="Times New Roman"/>
              </a:rPr>
              <a:t>1th Week: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Programming skills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Jasper Uijlings will grade your implementation of the chess endgame 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172b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e7172b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e7172b"/>
                </a:solidFill>
                <a:latin typeface="Times New Roman"/>
              </a:rPr>
              <a:t> Week: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Knowledge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Leo Dorst will test your understanding of the syllabus  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172b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e7172b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e7172b"/>
                </a:solidFill>
                <a:latin typeface="Times New Roman"/>
              </a:rPr>
              <a:t> Week: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Practical skills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Matthijs Spaan will grade your demonstration and report of the chess playing robot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172b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e7172b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e7172b"/>
                </a:solidFill>
                <a:latin typeface="Times New Roman"/>
              </a:rPr>
              <a:t> Week: 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xperimental skills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Arnoud Visser will grade your demonstration and labbook of your survey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2E1-F612-4C89-BE82-A8376C514D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Classical problem in AI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12920" y="1719360"/>
            <a:ext cx="5018040" cy="3435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3360" y="5388120"/>
            <a:ext cx="832464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Farkas with the chess-playing Turk in 1769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624-A04A-471D-B1E1-35CFB6D5AB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4800" y="4524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Have fun! 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28840" y="1770120"/>
            <a:ext cx="3176640" cy="3027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39960" y="4665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Lets do it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E9D-5B7D-43ED-B4A1-40113C5148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8:44:01Z</dcterms:created>
  <dc:creator>software</dc:creator>
  <dc:description/>
  <dc:language>en-US</dc:language>
  <cp:lastModifiedBy>Arnoud Visser</cp:lastModifiedBy>
  <cp:lastPrinted>1999-09-09T14:57:39Z</cp:lastPrinted>
  <dcterms:modified xsi:type="dcterms:W3CDTF">2005-06-02T12:04:23Z</dcterms:modified>
  <cp:revision>47</cp:revision>
  <dc:subject>Computer Systemen</dc:subject>
  <dc:title>Computer Systems</dc:title>
</cp:coreProperties>
</file>