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4.wmf" ContentType="image/x-wmf"/>
  <Override PartName="/ppt/media/image10.png" ContentType="image/png"/>
  <Override PartName="/ppt/media/image2.png" ContentType="image/pn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468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46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098720" y="852120"/>
            <a:ext cx="4551120" cy="341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98200" y="4638240"/>
            <a:ext cx="4948200" cy="359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98720" y="852480"/>
            <a:ext cx="4551120" cy="34131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98200" y="4638240"/>
            <a:ext cx="4948200" cy="359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al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ingle Source Shortest Path Algorithm will work: see http://ciips.ee.uwa.edu.au/~morris/Year2/PLDS210/dijkstr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ssell: Uniform cost search (3.5 search strategies) (Mix between Breath-First and Best-First (sorting candidates on distance from source, but not using heuristic to estimate distance to goa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6980-E045-46B5-8BCE-8AE3F330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5680" y="4310640"/>
            <a:ext cx="85564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73B2-C295-4E4A-9FB9-124E48C3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0120" y="190512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55680" y="431064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0120" y="431064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48F3-A34B-41EB-8A8C-F29AB3B8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27550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9000" y="1905120"/>
            <a:ext cx="27550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1960" y="1905120"/>
            <a:ext cx="27550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55680" y="4310640"/>
            <a:ext cx="27550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9000" y="4310640"/>
            <a:ext cx="27550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1960" y="4310640"/>
            <a:ext cx="27550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702B-FF82-4E8E-8CD1-72E237A0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5F9D-D08B-4569-AC2B-C1FA8BED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7D5A-125B-4F73-A9AA-85E1033C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41752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0120" y="1905120"/>
            <a:ext cx="41752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26FE-0732-492E-A9B0-9A688D33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3CA-3EDB-432D-AA12-110B670E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9720" y="609120"/>
            <a:ext cx="849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27FB-B62C-47F2-A27B-D7744032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0120" y="1905120"/>
            <a:ext cx="41752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5680" y="431064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AFEB-D5B4-4212-AED4-DDBBF3C9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41752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0120" y="190512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0120" y="431064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260-4CA1-4AC6-A403-8DF5FE3C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0120" y="1905120"/>
            <a:ext cx="41752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55680" y="4310640"/>
            <a:ext cx="8556480" cy="219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A1A5-CE2F-4E85-8429-6AFB7639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26880" y="157320"/>
            <a:ext cx="8610840" cy="6400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2" marL="1162080" indent="-22860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772400" y="5486400"/>
            <a:ext cx="446040" cy="6350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7086600" y="6172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ty  of Amsterd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1828440" y="6611760"/>
            <a:ext cx="6000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arch, Navigate, and Actuate - Qualitative Navig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-360" y="6593040"/>
            <a:ext cx="213372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noud Vis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742160" y="6521040"/>
            <a:ext cx="14018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8FCF-3E1E-4D6C-856A-170B45E44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Search, Navigate, and Actuate 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Qualitative Navigation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7619-679C-4646-B66B-4E802363C0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early relational graphs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9520" y="2009880"/>
            <a:ext cx="3330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Not coupled with how the robot would get t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Navigation path:</a:t>
            </a:r>
            <a:br>
              <a:rPr sz="2800"/>
            </a:b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direction and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Shaft encoder uncertainty accumu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959280" y="1898640"/>
          <a:ext cx="4922640" cy="364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9280" y="1898640"/>
                    <a:ext cx="4922640" cy="36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1362-AA45-46E9-ABAA-32DCF923F4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039080" y="5224320"/>
            <a:ext cx="1726920" cy="12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Two solutions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Localization relative to the landmarks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Navigation path specified as sensor based behaviors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pic>
        <p:nvPicPr>
          <p:cNvPr id="148" name="" descr="IMAGE: Soyuz docks"/>
          <p:cNvPicPr/>
          <p:nvPr/>
        </p:nvPicPr>
        <p:blipFill>
          <a:blip r:embed="rId1"/>
          <a:stretch/>
        </p:blipFill>
        <p:spPr>
          <a:xfrm>
            <a:off x="2432160" y="2455920"/>
            <a:ext cx="3665520" cy="291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2BC1-DF03-4D4B-AA4B-C80202A645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19191"/>
                </a:solidFill>
                <a:latin typeface="Arial"/>
              </a:rPr>
              <a:t>Getting to a Distinctive Place: </a:t>
            </a:r>
            <a:r>
              <a:rPr b="0" i="1" lang="en-US" sz="4000" spc="-1" strike="noStrike">
                <a:solidFill>
                  <a:srgbClr val="919191"/>
                </a:solidFill>
                <a:latin typeface="Arial"/>
              </a:rPr>
              <a:t>Neighborhoods</a:t>
            </a:r>
            <a:endParaRPr b="0" lang="en-US" sz="4000" spc="-1" strike="noStrike">
              <a:solidFill>
                <a:srgbClr val="919191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94960" y="-550440"/>
            <a:ext cx="9239400" cy="5790240"/>
            <a:chOff x="894960" y="-550440"/>
            <a:chExt cx="9239400" cy="5790240"/>
          </a:xfrm>
        </p:grpSpPr>
        <p:sp>
          <p:nvSpPr>
            <p:cNvPr id="151" name=""/>
            <p:cNvSpPr/>
            <p:nvPr/>
          </p:nvSpPr>
          <p:spPr>
            <a:xfrm>
              <a:off x="2971800" y="2266920"/>
              <a:ext cx="3581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440" y="2266920"/>
              <a:ext cx="0" cy="2895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0800000">
              <a:off x="2971800" y="-550440"/>
              <a:ext cx="7162560" cy="579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57" y="0"/>
                  </a:moveTo>
                  <a:arcTo wR="10800" hR="10800" stAng="-5381714" swAng="538171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57" y="0"/>
                  </a:moveTo>
                  <a:arcTo wR="10800" hR="10800" stAng="-5381714" swAng="5381714"/>
                </a:path>
              </a:pathLst>
            </a:custGeom>
            <a:noFill/>
            <a:ln cap="rnd" w="507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26000" y="3035160"/>
              <a:ext cx="672840" cy="5968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124440" y="3104640"/>
              <a:ext cx="304560" cy="22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03480" y="1785960"/>
              <a:ext cx="1504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neighborho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bounda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68960" y="2319480"/>
              <a:ext cx="141336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distinc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place (with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the corne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94960" y="4224240"/>
              <a:ext cx="25534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path of robot as it mov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into neighborhood a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to the distinctive pl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3200" y="3035160"/>
              <a:ext cx="672840" cy="5968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64080" y="3111480"/>
              <a:ext cx="673200" cy="5968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69000" y="3263760"/>
              <a:ext cx="672840" cy="5968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49880" y="3492360"/>
              <a:ext cx="673200" cy="59688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30760" y="3645000"/>
              <a:ext cx="673200" cy="59688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12000" y="3568680"/>
              <a:ext cx="672840" cy="59688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87960" y="3187800"/>
              <a:ext cx="673200" cy="59688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12000" y="2959200"/>
              <a:ext cx="672840" cy="596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5181840" y="3180960"/>
              <a:ext cx="304560" cy="3049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867280" y="2800440"/>
              <a:ext cx="10666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62320" y="2343240"/>
              <a:ext cx="6094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429000" y="3790440"/>
              <a:ext cx="4572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662040" y="5532480"/>
            <a:ext cx="607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se one behavior until the landmark is seen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then swap to a landmark localizatio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6C60-733D-4709-8707-652FCC606E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relational graphs with behaviors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71640" y="2017800"/>
            <a:ext cx="493560" cy="507960"/>
          </a:xfrm>
          <a:prstGeom prst="ellipse">
            <a:avLst/>
          </a:prstGeom>
          <a:solidFill>
            <a:srgbClr val="4141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2640" y="2003400"/>
            <a:ext cx="13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Dead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33640" y="2627280"/>
            <a:ext cx="0" cy="77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3200" y="2779560"/>
            <a:ext cx="133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Follow-hal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Look-for-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220840" y="2626920"/>
            <a:ext cx="0" cy="73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20920" y="2684520"/>
            <a:ext cx="1771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Follow-hal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Look-for-Dead-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93960" y="3519360"/>
            <a:ext cx="493560" cy="507960"/>
          </a:xfrm>
          <a:prstGeom prst="ellipse">
            <a:avLst/>
          </a:prstGeom>
          <a:solidFill>
            <a:srgbClr val="4141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4960" y="3693960"/>
            <a:ext cx="13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T-j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41560" y="4113360"/>
            <a:ext cx="0" cy="769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1120" y="4265640"/>
            <a:ext cx="1336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Follow-hal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Look-for-d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228760" y="4113000"/>
            <a:ext cx="0" cy="73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28840" y="4170240"/>
            <a:ext cx="1771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Follow-hal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Look-for-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1880" y="5005440"/>
            <a:ext cx="493560" cy="507960"/>
          </a:xfrm>
          <a:prstGeom prst="ellipse">
            <a:avLst/>
          </a:prstGeom>
          <a:solidFill>
            <a:srgbClr val="4141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12880" y="5180040"/>
            <a:ext cx="13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Front d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62880" y="3511440"/>
            <a:ext cx="493560" cy="507960"/>
          </a:xfrm>
          <a:prstGeom prst="ellipse">
            <a:avLst/>
          </a:prstGeom>
          <a:solidFill>
            <a:srgbClr val="4141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97040" y="3860640"/>
            <a:ext cx="4006800" cy="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2554200" y="3686040"/>
            <a:ext cx="4021200" cy="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29160" y="2914560"/>
            <a:ext cx="1771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Follow-hal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Look-for-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56160" y="4032360"/>
            <a:ext cx="1771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Follow-hal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Look-for-do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Look-for-b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327800" y="3600360"/>
            <a:ext cx="13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Blue d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7478-9936-49D0-BB3E-D359890708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7097760" y="5326200"/>
            <a:ext cx="1712880" cy="11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Advantages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Eliminates concern over navigational errors at each node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Robot can build up metric information over multiple trips, since error will average out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Disadvantages 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Features that are easy to recognize, are often too numerous to be unique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Indoors it is nearly impossible to find distinctive places 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D9AE-DC74-4B0F-829E-8404D778C1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Class Exercise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Create a relational graph for this floor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Label each edge with the appropriate </a:t>
            </a:r>
            <a:br>
              <a:rPr sz="3200"/>
            </a:b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Local Control Strategy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Label each node with the type of gateway: </a:t>
            </a:r>
            <a:br>
              <a:rPr sz="3200"/>
            </a:b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dead-end, junction, room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Identify unique features of each node 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EAED-700F-44FA-9619-73B468BEB6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19191"/>
                </a:solidFill>
                <a:latin typeface="Arial"/>
              </a:rPr>
              <a:t>Alternative for relational graphs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14141"/>
                </a:solidFill>
                <a:latin typeface="Times New Roman"/>
              </a:rPr>
              <a:t>Associative method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spatial memory is a series of remembered viewpoints, where each viewpoint is labeled with a location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good for retracing known paths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2A78-14CD-432D-ADD8-6DB937C96E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919191"/>
                </a:solidFill>
                <a:latin typeface="Arial"/>
              </a:rPr>
              <a:t>Associative Methods</a:t>
            </a:r>
            <a:br>
              <a:rPr sz="4000"/>
            </a:br>
            <a:endParaRPr b="0" lang="en-US" sz="40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Create a behavior that converts sensor observations into ‘direction to go’ to reach a particular landmark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Assumption: location or landmark are: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Perceptual stable: views from nearby locations look similar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Perceptual distinguishable: views far away should look different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C289-4B7B-4231-982A-FA712237A6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097760" y="5326200"/>
            <a:ext cx="1712880" cy="11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Visual Homing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Partition image into coarse subsections (e.g., 16)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Each section measured based on some attribute </a:t>
            </a:r>
            <a:br>
              <a:rPr sz="2800"/>
            </a:br>
            <a:r>
              <a:rPr b="0" lang="en-US" sz="2000" spc="-1" strike="noStrike">
                <a:solidFill>
                  <a:srgbClr val="414141"/>
                </a:solidFill>
                <a:latin typeface="Times New Roman"/>
              </a:rPr>
              <a:t>– e.g., edge density, dominant edge orientation, average intensity, etc.</a:t>
            </a:r>
            <a:endParaRPr b="0" lang="en-US" sz="20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Resulting measurements yield image signature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Image signature forms a pattern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If robot nearby, should be able to determine direction of motion to localize itself relative to the location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Visual homing: the use of image signatures to direct robot to specific location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BCF3-CC44-4434-900C-2667ADFD83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Image Signatures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378080" y="1947960"/>
            <a:ext cx="1866600" cy="18478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678640" y="1914480"/>
            <a:ext cx="1857240" cy="1828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128240" y="375588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d3232"/>
                </a:solidFill>
                <a:latin typeface="Times New Roman"/>
              </a:rPr>
              <a:t>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56560" y="3741840"/>
            <a:ext cx="39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d3232"/>
                </a:solidFill>
                <a:latin typeface="Times New Roman"/>
              </a:rPr>
              <a:t>Tessellated (like faceted-ey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6960" y="534204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d3232"/>
                </a:solidFill>
                <a:latin typeface="Times New Roman"/>
              </a:rPr>
              <a:t>Resulting sig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419640" y="4389480"/>
            <a:ext cx="1847520" cy="180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E2AC-A556-4B3E-A950-40CB40F1FB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Navigation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Critical ability for mobility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Challenging, because strong coupling with: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Sensing, Planning, Acting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Hardware / Software architectures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Problem solving, computational efficiency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6449-AD4F-414D-BA1E-DF2B323700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Direction of movement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517760" y="3278160"/>
            <a:ext cx="1876320" cy="1857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319640" y="3273480"/>
            <a:ext cx="1905120" cy="18381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 flipV="1">
            <a:off x="6502320" y="4005000"/>
            <a:ext cx="507960" cy="139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B25F-350F-43B3-B2A9-0F549EF8EC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7097760" y="5326200"/>
            <a:ext cx="1712880" cy="11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QualNav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Basic idea: localize robot relative to particular orientation region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Orientation region: </a:t>
            </a:r>
            <a:br>
              <a:rPr sz="3200"/>
            </a:b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- multiple landmarks visible</a:t>
            </a:r>
            <a:br>
              <a:rPr sz="3200"/>
            </a:b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- Defined by landmark pair boundaries</a:t>
            </a:r>
            <a:br>
              <a:rPr sz="3200"/>
            </a:b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- Within an orientation region, </a:t>
            </a:r>
            <a:br>
              <a:rPr sz="3200"/>
            </a:b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   all landmarks appear in same relationship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Vehicle localizes with view-angles, distances not used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9DE9-4E13-48C6-8E6E-C7412001BA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Example of orientation region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457280" y="2246400"/>
            <a:ext cx="5162760" cy="368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CDD3-2AF1-4B6B-9768-63AB47B0DC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Entering new orientation region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533600" y="2230560"/>
            <a:ext cx="6200640" cy="395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00F2-0F7C-4F2E-AFBC-165F7B1BD9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7039080" y="5224320"/>
            <a:ext cx="1726920" cy="12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Tight coupling of sensing to homing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Robot doesn’t need to explicitly recognize what a landmark is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Enables robots to build up maps as it explores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Disadvantages: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require massive storage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Require landmarks that are widely visible 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9EA2-1AF1-4D57-908D-397520FFCB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039080" y="5224320"/>
            <a:ext cx="1726920" cy="12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Applicable to RoboCup Soccer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55680" y="5765760"/>
            <a:ext cx="845352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4141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landmarks that are widely visible are available 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763640" y="1697040"/>
            <a:ext cx="5972400" cy="42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63E3-28CC-4F9A-90E2-569AC6741D6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Route versus Map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How do humans find their ways? </a:t>
            </a:r>
            <a:br>
              <a:rPr sz="3200"/>
            </a:br>
            <a:r>
              <a:rPr b="0" lang="en-US" sz="32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→ Psychological data and theories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Human Landmarks != robotic distinctive places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Siegel &amp; White’s hypothesis:</a:t>
            </a:r>
            <a:br>
              <a:rPr sz="3200"/>
            </a:b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landmarks </a:t>
            </a:r>
            <a:r>
              <a:rPr b="0" lang="en-US" sz="32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→ routes → map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Recently:</a:t>
            </a:r>
            <a:br>
              <a:rPr sz="3200"/>
            </a:br>
            <a:r>
              <a:rPr b="0" lang="en-US" sz="3200" spc="-1" strike="noStrike">
                <a:solidFill>
                  <a:srgbClr val="414141"/>
                </a:solidFill>
                <a:latin typeface="Times New Roman"/>
                <a:ea typeface="Times New Roman"/>
              </a:rPr>
              <a:t>landmarks &amp; implicit map → routes 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4F05-A803-4472-A723-A0C5533CF44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097760" y="5326200"/>
            <a:ext cx="1712880" cy="11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Landmarks simplify the “where am I?” problem by providing orientation cues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Gateways: special cases of landmarks that allow robot to change directions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Distinctive places can be related to each other by local control strategies for traveling between them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Image signatures can be used to directly couple perception with acting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36D-34C9-414A-9A1D-CDBF7500BCE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Hierarchical Paradigm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04960" y="1639800"/>
            <a:ext cx="5407200" cy="4675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202160" y="1698480"/>
            <a:ext cx="302040" cy="33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Arial"/>
              </a:rPr>
              <a:t>Murphy, Figure 2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411B-8A5B-48E7-A249-CA92004A23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039080" y="5224320"/>
            <a:ext cx="1726920" cy="12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73280" y="1809720"/>
            <a:ext cx="6676920" cy="4476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Hybrid Paradigm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71304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155000">
            <a:off x="71280" y="4353840"/>
            <a:ext cx="1215360" cy="459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re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34200">
            <a:off x="-182880" y="2321280"/>
            <a:ext cx="1724400" cy="459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delibe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06720" y="1698480"/>
            <a:ext cx="302040" cy="33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Arial"/>
              </a:rPr>
              <a:t>Murphy, Figure 7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79A1-36BB-4E44-8941-4ECBA01730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39080" y="5224320"/>
            <a:ext cx="1726920" cy="12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Functionality needed for Mobility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2163600"/>
            <a:ext cx="6915240" cy="22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Where am I going? </a:t>
            </a: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Mission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What’s the best way there? </a:t>
            </a: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Path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Where have I been? </a:t>
            </a: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Map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Where am I? </a:t>
            </a: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Loc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081320" y="4848120"/>
            <a:ext cx="2362320" cy="1485720"/>
            <a:chOff x="4081320" y="4848120"/>
            <a:chExt cx="2362320" cy="1485720"/>
          </a:xfrm>
        </p:grpSpPr>
        <p:sp>
          <p:nvSpPr>
            <p:cNvPr id="66" name=""/>
            <p:cNvSpPr/>
            <p:nvPr/>
          </p:nvSpPr>
          <p:spPr>
            <a:xfrm>
              <a:off x="4081320" y="4848120"/>
              <a:ext cx="1905120" cy="10285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ehav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33600" y="5000400"/>
              <a:ext cx="1905120" cy="10285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ehav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86240" y="5152680"/>
              <a:ext cx="1904760" cy="10288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ehav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38520" y="5305320"/>
              <a:ext cx="1905120" cy="10285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ehav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47680" y="4629240"/>
            <a:ext cx="8345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7773840" y="320076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libe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8011800" y="547632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0280" y="5184720"/>
            <a:ext cx="298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w am I going to 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AF11-439B-40A1-98FE-6BA76489EE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039080" y="5224320"/>
            <a:ext cx="1726920" cy="12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Path Planning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14141"/>
                </a:solidFill>
                <a:latin typeface="Times New Roman"/>
              </a:rPr>
              <a:t>What’s the Best Way There? </a:t>
            </a: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depends on the representation of the world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A robot’s world representation and how it is maintained over time is its</a:t>
            </a:r>
            <a:r>
              <a:rPr b="0" i="1" lang="en-US" sz="3200" spc="-1" strike="noStrike">
                <a:solidFill>
                  <a:srgbClr val="414141"/>
                </a:solidFill>
                <a:latin typeface="Times New Roman"/>
              </a:rPr>
              <a:t> spatial memory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Two forms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Route (or qualitative / topology)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lvl="1" marL="743040" indent="-285840">
              <a:buClr>
                <a:srgbClr val="cd32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Map (or quantitative / metric)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Map leads to Route, but not the other way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3B45-7436-4931-817B-05533A61DF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039080" y="5224320"/>
            <a:ext cx="1726920" cy="12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Route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Less general, </a:t>
            </a:r>
            <a:br>
              <a:rPr sz="3200"/>
            </a:b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but strong coupling with reactive layer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Attention points</a:t>
            </a:r>
            <a:br>
              <a:rPr sz="3200"/>
            </a:br>
            <a:r>
              <a:rPr b="0" i="1" lang="en-US" sz="3200" spc="-1" strike="noStrike">
                <a:solidFill>
                  <a:srgbClr val="414141"/>
                </a:solidFill>
                <a:latin typeface="Times New Roman"/>
              </a:rPr>
              <a:t>What features, landmarks to look for next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Distinction criteria</a:t>
            </a:r>
            <a:br>
              <a:rPr sz="3200"/>
            </a:br>
            <a:r>
              <a:rPr b="0" i="1" lang="en-US" sz="3200" spc="-1" strike="noStrike">
                <a:solidFill>
                  <a:srgbClr val="414141"/>
                </a:solidFill>
                <a:latin typeface="Times New Roman"/>
              </a:rPr>
              <a:t>What features are good to recognize places:</a:t>
            </a:r>
            <a:br>
              <a:rPr sz="3200"/>
            </a:br>
            <a:r>
              <a:rPr b="0" i="1" lang="en-US" sz="3200" spc="-1" strike="noStrike">
                <a:solidFill>
                  <a:srgbClr val="414141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414141"/>
                </a:solidFill>
                <a:latin typeface="Times New Roman"/>
              </a:rPr>
              <a:t>- Have I ever seen it before</a:t>
            </a: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?</a:t>
            </a:r>
            <a:br>
              <a:rPr sz="3200"/>
            </a:b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14141"/>
                </a:solidFill>
                <a:latin typeface="Times New Roman"/>
              </a:rPr>
              <a:t>- </a:t>
            </a:r>
            <a:r>
              <a:rPr b="0" i="1" lang="en-US" sz="3200" spc="-1" strike="noStrike">
                <a:solidFill>
                  <a:srgbClr val="414141"/>
                </a:solidFill>
                <a:latin typeface="Times New Roman"/>
              </a:rPr>
              <a:t>What has changed since the last time?</a:t>
            </a: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7FCB-4DBC-4097-BAA9-73248CD5F3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Landmarks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55680" y="1905120"/>
            <a:ext cx="8556480" cy="46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landmark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 is one or more perceptually distinctive features of interest on an object or locale of interest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Natural landmark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: configuration of existing features that wasn’t put in the environment to aid with the robot’s navigation (i.e. MacDonalds on the corner)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Artificial landmark</a:t>
            </a: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: set of features added to the environment to support navigation (i.e. highway sign)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d32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Times New Roman"/>
              </a:rPr>
              <a:t>Highly useful landmarks are those visible at points where one has to select from multiple directions: </a:t>
            </a:r>
            <a:r>
              <a:rPr b="0" i="1" lang="en-US" sz="2800" spc="-1" strike="noStrike">
                <a:solidFill>
                  <a:srgbClr val="414141"/>
                </a:solidFill>
                <a:latin typeface="Times New Roman"/>
              </a:rPr>
              <a:t>gateways</a:t>
            </a:r>
            <a:endParaRPr b="0" lang="en-US" sz="2800" spc="-1" strike="noStrike">
              <a:solidFill>
                <a:srgbClr val="41414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66E1-CEE5-47F4-A30A-C8CE242937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923160" y="5122800"/>
            <a:ext cx="1842840" cy="135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9720" y="609120"/>
            <a:ext cx="8499600" cy="94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9191"/>
                </a:solidFill>
                <a:latin typeface="Arial"/>
              </a:rPr>
              <a:t>Coupling of landmarks</a:t>
            </a:r>
            <a:endParaRPr b="0" lang="en-US" sz="4400" spc="-1" strike="noStrike">
              <a:solidFill>
                <a:srgbClr val="919191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39640" y="1920960"/>
            <a:ext cx="3733920" cy="2438280"/>
            <a:chOff x="539640" y="1920960"/>
            <a:chExt cx="3733920" cy="2438280"/>
          </a:xfrm>
        </p:grpSpPr>
        <p:sp>
          <p:nvSpPr>
            <p:cNvPr id="85" name=""/>
            <p:cNvSpPr/>
            <p:nvPr/>
          </p:nvSpPr>
          <p:spPr>
            <a:xfrm>
              <a:off x="539640" y="192096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9640" y="435924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9640" y="1920960"/>
              <a:ext cx="0" cy="243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73560" y="2606400"/>
              <a:ext cx="0" cy="175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3206880" y="26064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216160" y="26064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225440" y="26064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206880" y="37494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216160" y="37494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225440" y="37494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1225440" y="3139920"/>
              <a:ext cx="243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64080" y="2606400"/>
              <a:ext cx="0" cy="114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44760" y="2606400"/>
              <a:ext cx="0" cy="114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25440" y="2606400"/>
              <a:ext cx="0" cy="114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648320" y="4038480"/>
            <a:ext cx="3733560" cy="2438280"/>
            <a:chOff x="4648320" y="4038480"/>
            <a:chExt cx="3733560" cy="2438280"/>
          </a:xfrm>
        </p:grpSpPr>
        <p:sp>
          <p:nvSpPr>
            <p:cNvPr id="100" name=""/>
            <p:cNvSpPr/>
            <p:nvPr/>
          </p:nvSpPr>
          <p:spPr>
            <a:xfrm>
              <a:off x="4648320" y="4038480"/>
              <a:ext cx="37335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48320" y="6476760"/>
              <a:ext cx="37335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48320" y="4038480"/>
              <a:ext cx="0" cy="24382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1880" y="4724280"/>
              <a:ext cx="0" cy="17524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7314840" y="472428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324120" y="472428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333400" y="472428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7314840" y="586728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324120" y="586728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5333400" y="586728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5333400" y="5257800"/>
              <a:ext cx="24382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72400" y="472428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53080" y="472428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33760" y="472428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8083440" y="610236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3440" y="427356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959360" y="4273560"/>
            <a:ext cx="2273040" cy="749160"/>
            <a:chOff x="4959360" y="4273560"/>
            <a:chExt cx="2273040" cy="749160"/>
          </a:xfrm>
        </p:grpSpPr>
        <p:sp>
          <p:nvSpPr>
            <p:cNvPr id="117" name=""/>
            <p:cNvSpPr/>
            <p:nvPr/>
          </p:nvSpPr>
          <p:spPr>
            <a:xfrm>
              <a:off x="7092720" y="427356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26040" y="427356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59360" y="427356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92720" y="488304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26040" y="488304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959360" y="5492880"/>
            <a:ext cx="2273040" cy="748800"/>
            <a:chOff x="4959360" y="5492880"/>
            <a:chExt cx="2273040" cy="748800"/>
          </a:xfrm>
        </p:grpSpPr>
        <p:sp>
          <p:nvSpPr>
            <p:cNvPr id="123" name=""/>
            <p:cNvSpPr/>
            <p:nvPr/>
          </p:nvSpPr>
          <p:spPr>
            <a:xfrm>
              <a:off x="7092720" y="6102360"/>
              <a:ext cx="139680" cy="13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26040" y="6102360"/>
              <a:ext cx="139680" cy="13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59360" y="6102360"/>
              <a:ext cx="139680" cy="13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92720" y="5492880"/>
              <a:ext cx="139680" cy="13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26040" y="5492880"/>
              <a:ext cx="139680" cy="13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8769240" y="427356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028840" y="4343400"/>
            <a:ext cx="3809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29200" y="4343400"/>
            <a:ext cx="0" cy="1828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6172200"/>
            <a:ext cx="312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53280" y="4343400"/>
            <a:ext cx="0" cy="1828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434340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2920" y="434340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556272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556272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2337000">
            <a:off x="4414320" y="3292560"/>
            <a:ext cx="673200" cy="523800"/>
          </a:xfrm>
          <a:prstGeom prst="rightArrow">
            <a:avLst>
              <a:gd name="adj1" fmla="val 50000"/>
              <a:gd name="adj2" fmla="val 64267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92160" y="1494000"/>
            <a:ext cx="1227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loor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95560" y="3459240"/>
            <a:ext cx="1891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lational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0600" y="4486320"/>
            <a:ext cx="408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4141"/>
                </a:solidFill>
                <a:latin typeface="Arial"/>
              </a:rPr>
              <a:t>Nodes: </a:t>
            </a:r>
            <a:br>
              <a:rPr sz="2400"/>
            </a:br>
            <a:r>
              <a:rPr b="1" lang="en-US" sz="2400" spc="-1" strike="noStrike">
                <a:solidFill>
                  <a:srgbClr val="414141"/>
                </a:solidFill>
                <a:latin typeface="Arial"/>
              </a:rPr>
              <a:t>landmarks, gateway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4141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4141"/>
                </a:solidFill>
                <a:latin typeface="Arial"/>
              </a:rPr>
              <a:t>Edges: navigable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3680-8F50-4E41-93C6-9299B2C9C9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08:44:01Z</dcterms:created>
  <dc:creator>software</dc:creator>
  <dc:description/>
  <dc:language>en-US</dc:language>
  <cp:lastModifiedBy>Arnoud Visser</cp:lastModifiedBy>
  <cp:lastPrinted>1999-09-09T14:57:39Z</cp:lastPrinted>
  <dcterms:modified xsi:type="dcterms:W3CDTF">2005-06-07T09:28:21Z</dcterms:modified>
  <cp:revision>40</cp:revision>
  <dc:subject>Computer Systemen</dc:subject>
  <dc:title>Computer Systems</dc:title>
</cp:coreProperties>
</file>