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468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ED5-817B-4B3E-BCF4-8106AA45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653-93D9-4BEF-A1D2-458E2CC1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1DD-A09E-42FA-B83F-EF6B4DEF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900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96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568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900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96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900-D055-4B4B-822D-14764118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E6C-C27A-4D7D-BCDC-1AE3345C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568-F314-402F-A5C9-C81AE41C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86A-2B4B-4840-ACE3-B0DF186A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21D-E32F-45B9-B220-95CE5D94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9720" y="609120"/>
            <a:ext cx="849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569-5A02-43D9-B522-1107DDD7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127-6F2D-4146-A8DA-0E9A2F5D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C33-BDC2-4368-B6DC-0BD2EE8A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720-8014-4F04-A4B7-10328ABE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6880" y="157320"/>
            <a:ext cx="8610840" cy="6400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2" marL="1162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446040" cy="635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86600" y="6172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ty  of Amsterd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828440" y="6611760"/>
            <a:ext cx="6000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, Navigate, and Actuate - Quantitative 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-360" y="6593040"/>
            <a:ext cx="21337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noud Vis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42160" y="6521040"/>
            <a:ext cx="1401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157F-A0E3-4037-A944-CD2ED8BAF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Search, Navigate, and Actuate 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Quantative Navigation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567-BAA9-413B-AE0B-96EAF5601B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Reduction and Discretizat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90640" y="2260440"/>
            <a:ext cx="7486560" cy="2934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66680" y="1995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232"/>
                </a:solidFill>
                <a:latin typeface="Times New Roman"/>
              </a:rPr>
              <a:t>6D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9240" y="1995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232"/>
                </a:solidFill>
                <a:latin typeface="Times New Roman"/>
              </a:rPr>
              <a:t>3D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D70-FC69-4DF0-B89A-7DFAA628B3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Object Growing</a:t>
            </a:r>
            <a:br>
              <a:rPr sz="4000"/>
            </a:b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ince we assume robot is round, we can “grow” objects by the width of the robot and then consider the robot to be a </a:t>
            </a:r>
            <a:r>
              <a:rPr b="0" lang="en-US" sz="3200" spc="-1" strike="noStrike" u="sng">
                <a:solidFill>
                  <a:srgbClr val="cd3232"/>
                </a:solidFill>
                <a:uFillTx/>
                <a:latin typeface="Times New Roman"/>
              </a:rPr>
              <a:t>poin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Greatly simplifies path planning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New representation of objects typically called “forbidden region”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D47-F982-4D8F-9AFC-CD51D500D2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Dilation of geometrical object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70000" y="1895400"/>
            <a:ext cx="4924440" cy="311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5680" y="5068800"/>
            <a:ext cx="85564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ombination of straight walls and a round ro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1B1-517C-46A4-BA2D-3A3A4F67BA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792840" y="4979880"/>
            <a:ext cx="2017800" cy="14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Minkowski sum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ake the union of the current (bit)map with a set of copies of a mask (circle for round robot) placed on the boundaries (edges) of the current shape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Object dilation can make an environment description much more complex by making it smooth!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15920" y="3411360"/>
            <a:ext cx="7502400" cy="1915920"/>
            <a:chOff x="1015920" y="3411360"/>
            <a:chExt cx="7502400" cy="1915920"/>
          </a:xfrm>
        </p:grpSpPr>
        <p:sp>
          <p:nvSpPr>
            <p:cNvPr id="78" name=""/>
            <p:cNvSpPr/>
            <p:nvPr/>
          </p:nvSpPr>
          <p:spPr>
            <a:xfrm>
              <a:off x="5340240" y="3425400"/>
              <a:ext cx="3178080" cy="1901880"/>
            </a:xfrm>
            <a:custGeom>
              <a:avLst/>
              <a:gdLst/>
              <a:ahLst/>
              <a:rect l="l" t="t" r="r" b="b"/>
              <a:pathLst>
                <a:path w="2002" h="1198">
                  <a:moveTo>
                    <a:pt x="0" y="0"/>
                  </a:moveTo>
                  <a:lnTo>
                    <a:pt x="466" y="1198"/>
                  </a:lnTo>
                  <a:lnTo>
                    <a:pt x="2002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cd32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35360" y="3506400"/>
              <a:ext cx="2497320" cy="1654200"/>
            </a:xfrm>
            <a:custGeom>
              <a:avLst/>
              <a:gdLst/>
              <a:ahLst/>
              <a:rect l="l" t="t" r="r" b="b"/>
              <a:pathLst>
                <a:path w="1573" h="1042">
                  <a:moveTo>
                    <a:pt x="0" y="228"/>
                  </a:moveTo>
                  <a:lnTo>
                    <a:pt x="64" y="54"/>
                  </a:lnTo>
                  <a:lnTo>
                    <a:pt x="220" y="0"/>
                  </a:lnTo>
                  <a:lnTo>
                    <a:pt x="1436" y="146"/>
                  </a:lnTo>
                  <a:lnTo>
                    <a:pt x="1573" y="246"/>
                  </a:lnTo>
                  <a:lnTo>
                    <a:pt x="1532" y="461"/>
                  </a:lnTo>
                  <a:lnTo>
                    <a:pt x="457" y="1042"/>
                  </a:lnTo>
                  <a:lnTo>
                    <a:pt x="329" y="1033"/>
                  </a:lnTo>
                  <a:lnTo>
                    <a:pt x="256" y="941"/>
                  </a:lnTo>
                  <a:lnTo>
                    <a:pt x="0" y="22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84160" y="3411360"/>
              <a:ext cx="2497320" cy="1654200"/>
            </a:xfrm>
            <a:custGeom>
              <a:avLst/>
              <a:gdLst/>
              <a:ahLst/>
              <a:rect l="l" t="t" r="r" b="b"/>
              <a:pathLst>
                <a:path w="1573" h="1042">
                  <a:moveTo>
                    <a:pt x="0" y="228"/>
                  </a:moveTo>
                  <a:lnTo>
                    <a:pt x="64" y="54"/>
                  </a:lnTo>
                  <a:lnTo>
                    <a:pt x="220" y="0"/>
                  </a:lnTo>
                  <a:lnTo>
                    <a:pt x="1436" y="146"/>
                  </a:lnTo>
                  <a:lnTo>
                    <a:pt x="1573" y="246"/>
                  </a:lnTo>
                  <a:lnTo>
                    <a:pt x="1527" y="502"/>
                  </a:lnTo>
                  <a:lnTo>
                    <a:pt x="457" y="1042"/>
                  </a:lnTo>
                  <a:lnTo>
                    <a:pt x="329" y="1033"/>
                  </a:lnTo>
                  <a:lnTo>
                    <a:pt x="256" y="941"/>
                  </a:lnTo>
                  <a:lnTo>
                    <a:pt x="0" y="2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15920" y="3919320"/>
              <a:ext cx="1422360" cy="581040"/>
            </a:xfrm>
            <a:custGeom>
              <a:avLst/>
              <a:gdLst/>
              <a:ahLst/>
              <a:rect l="l" t="t" r="r" b="b"/>
              <a:pathLst>
                <a:path w="896" h="366">
                  <a:moveTo>
                    <a:pt x="0" y="0"/>
                  </a:moveTo>
                  <a:lnTo>
                    <a:pt x="896" y="119"/>
                  </a:lnTo>
                  <a:lnTo>
                    <a:pt x="155" y="3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87520" y="3909600"/>
              <a:ext cx="1422360" cy="581040"/>
            </a:xfrm>
            <a:custGeom>
              <a:avLst/>
              <a:gdLst/>
              <a:ahLst/>
              <a:rect l="l" t="t" r="r" b="b"/>
              <a:pathLst>
                <a:path w="896" h="366">
                  <a:moveTo>
                    <a:pt x="0" y="0"/>
                  </a:moveTo>
                  <a:lnTo>
                    <a:pt x="896" y="119"/>
                  </a:lnTo>
                  <a:lnTo>
                    <a:pt x="155" y="3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81400" y="3917520"/>
              <a:ext cx="1422360" cy="581040"/>
            </a:xfrm>
            <a:custGeom>
              <a:avLst/>
              <a:gdLst/>
              <a:ahLst/>
              <a:rect l="l" t="t" r="r" b="b"/>
              <a:pathLst>
                <a:path w="896" h="366">
                  <a:moveTo>
                    <a:pt x="0" y="0"/>
                  </a:moveTo>
                  <a:lnTo>
                    <a:pt x="896" y="119"/>
                  </a:lnTo>
                  <a:lnTo>
                    <a:pt x="155" y="3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3C4-B373-4360-9595-C27A9E4709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artitioning of free spac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25720" y="1893960"/>
            <a:ext cx="4924440" cy="311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Decompose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-space into smaller (polygonal)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D6D-D8B6-453E-9DAB-84AB61FC26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5680" y="1905120"/>
            <a:ext cx="8556480" cy="46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connectivity graph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can be made cells, and a save path can be generated by travel the midpoint of the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Meadow map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20192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73480" y="1890720"/>
            <a:ext cx="5014800" cy="31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2EB-9427-427A-B567-4C53A53240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roblems with Meadow Map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Not unique generation of polygon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ould you actually create this type of map with sensor data, instead of 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a-priori maps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Uses artifacts like edges and corners of the map to determine polygon boundaries, rather than things that can be sensed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In principle, one likes to decompose in large and stable cell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96D-7134-43EA-A62C-B4EC82F9E0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5680" y="1905120"/>
            <a:ext cx="8556480" cy="46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Voronoi diagram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is generated by a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retract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, leading to a (n-1)-dimensional hyper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he paths have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maximal clearance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, and are not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Voronoi diagram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30560" y="2843280"/>
            <a:ext cx="4924440" cy="3105000"/>
            <a:chOff x="2230560" y="2843280"/>
            <a:chExt cx="4924440" cy="3105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2230560" y="2843280"/>
              <a:ext cx="4924440" cy="31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78080" y="2917800"/>
              <a:ext cx="231840" cy="25992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939760"/>
              <a:ext cx="376200" cy="39024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79520" y="2903400"/>
              <a:ext cx="534960" cy="57888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01840" y="2896920"/>
              <a:ext cx="665280" cy="73800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08C-203B-44E2-A8F8-786CA07C68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Uniform cell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26240" cy="46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n bounded low dimensional C-space, one can overlay the map with a grid (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sampling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Make a graph by each seeing each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coxel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as a node, connecting neighbors (4-connected, 8-connected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47800" y="2763720"/>
            <a:ext cx="4202280" cy="27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BF1-FF48-4DEF-ABFD-7861D2ED18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5680" y="1905120"/>
            <a:ext cx="8453520" cy="46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ave-propagation ~ breath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ath Search algorithm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7520" y="1477800"/>
            <a:ext cx="8280360" cy="4605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560" y="30337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03440" y="304164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86040" y="303516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2240" y="2990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73520" y="3222720"/>
            <a:ext cx="0" cy="12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6280" y="3497400"/>
            <a:ext cx="87120" cy="10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6040" y="38545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1480" y="386244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E2E-3CBB-4E7C-8E15-39EA5964AA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ath Plann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What’s the Best Way There?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depends on the representation of the world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A robot’s world representation and how it is maintained over time is its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 spatial memory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wo form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Route (or qualitative / topology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Map (or quantitative / metric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Map leads to Route, but not the other way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83F-E77D-408B-9C76-7B0F94A721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5680" y="1905120"/>
            <a:ext cx="8453520" cy="46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ave-propagation ~ forc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Search backward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7520" y="1477800"/>
            <a:ext cx="8280360" cy="4605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35160" y="387504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03440" y="304164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78440" y="30067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62240" y="2990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73520" y="3222720"/>
            <a:ext cx="0" cy="12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6280" y="3497400"/>
            <a:ext cx="87120" cy="10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1720" y="38685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86244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14760" y="2889360"/>
            <a:ext cx="33480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22680" y="3173400"/>
            <a:ext cx="33480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1400" y="3164040"/>
            <a:ext cx="33480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87880" y="2925720"/>
            <a:ext cx="33480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46680" y="3165480"/>
            <a:ext cx="33480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22680" y="2619360"/>
            <a:ext cx="33480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32280" y="2890800"/>
            <a:ext cx="33480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5800" y="2622600"/>
            <a:ext cx="3351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14760" y="2352600"/>
            <a:ext cx="33480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92840" y="3222360"/>
            <a:ext cx="174600" cy="15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724280" y="3490560"/>
            <a:ext cx="174600" cy="15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4600" y="2330280"/>
            <a:ext cx="33480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38671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18080" y="387504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86400" y="233856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5880" y="234468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30800" y="231624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0640" y="232236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9920" y="263520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19760" y="26416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24320" y="261288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4160" y="261936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34120" y="23446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73960" y="235116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78520" y="232236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18360" y="232884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34120" y="263700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73960" y="26431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78520" y="261468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18360" y="262080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19720" y="289728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9560" y="290340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64480" y="287496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3960" y="288144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34120" y="317340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73960" y="31798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78520" y="315108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18360" y="315756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34120" y="34480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3960" y="345456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8520" y="342576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18360" y="343224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4120" y="371016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73960" y="37162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8520" y="368784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18360" y="369396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4120" y="4000680"/>
            <a:ext cx="334800" cy="29016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73960" y="400680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78520" y="397836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18360" y="39844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454500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0520" y="454968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32680" y="45514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72160" y="455760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7400" y="481320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07240" y="48196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9200" y="48211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479736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81800" y="4000680"/>
            <a:ext cx="334800" cy="29016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03760" y="426888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80000" y="347832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02320" y="37465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53000" y="291312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75320" y="31813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00760" y="260820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23080" y="287640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0560" y="237636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2880" y="26449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12120" y="29131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34440" y="31813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0560" y="346392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2880" y="37321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16680" y="237636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39000" y="264492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31080" y="292572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53400" y="31939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5480" y="34624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7800" y="37306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73840" y="456732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96160" y="483552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15120" y="457524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7440" y="484344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0" y="398628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61320" y="398448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10560" y="5095800"/>
            <a:ext cx="33480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15120" y="5094360"/>
            <a:ext cx="335160" cy="290520"/>
          </a:xfrm>
          <a:prstGeom prst="rect">
            <a:avLst/>
          </a:prstGeom>
          <a:solidFill>
            <a:srgbClr val="e717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51200" y="305748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81440" y="3201480"/>
            <a:ext cx="174600" cy="15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7D3-07CE-4940-AA58-B4CF437D68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Differential A*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5680" y="1852560"/>
            <a:ext cx="8512200" cy="46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Keep the costs and arrows, redo only nodes that are ‘pointing into’ new forbidden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66640" y="1477800"/>
            <a:ext cx="75168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2589120" y="2214720"/>
            <a:ext cx="4890960" cy="2698200"/>
            <a:chOff x="2589120" y="2214720"/>
            <a:chExt cx="4890960" cy="2698200"/>
          </a:xfrm>
        </p:grpSpPr>
        <p:sp>
          <p:nvSpPr>
            <p:cNvPr id="218" name=""/>
            <p:cNvSpPr/>
            <p:nvPr/>
          </p:nvSpPr>
          <p:spPr>
            <a:xfrm>
              <a:off x="2787840" y="3584880"/>
              <a:ext cx="197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22280" y="2852280"/>
              <a:ext cx="19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52560" y="2821320"/>
              <a:ext cx="1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20240" y="2807640"/>
              <a:ext cx="80640" cy="78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40960" y="3011400"/>
              <a:ext cx="0" cy="114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89120" y="3252960"/>
              <a:ext cx="78840" cy="88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01880" y="3579120"/>
              <a:ext cx="1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11840" y="3573720"/>
              <a:ext cx="1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14160" y="2718360"/>
              <a:ext cx="30384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21360" y="2967840"/>
              <a:ext cx="30384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11400" y="2959920"/>
              <a:ext cx="30384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17160" y="2750400"/>
              <a:ext cx="30384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15480" y="2961000"/>
              <a:ext cx="30384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1360" y="2481120"/>
              <a:ext cx="30384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02520" y="2719440"/>
              <a:ext cx="30384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6400" y="2484000"/>
              <a:ext cx="30420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14160" y="2246400"/>
              <a:ext cx="30384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565520" y="3011040"/>
              <a:ext cx="15840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321440" y="3246840"/>
              <a:ext cx="15840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22680" y="2226960"/>
              <a:ext cx="303840" cy="25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36680" y="3577680"/>
              <a:ext cx="1972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07760" y="3584880"/>
              <a:ext cx="1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96520" y="223416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04680" y="223956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1520" y="221472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90040" y="221976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0400" y="249480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9280" y="250056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75760" y="247536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84280" y="248112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92680" y="223956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01200" y="224532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78040" y="221976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6560" y="222552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92680" y="24966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01200" y="25020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78040" y="247680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86560" y="24822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79720" y="272520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88240" y="27306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65080" y="270576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73600" y="271152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92680" y="29678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01200" y="29736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78040" y="294840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6560" y="295416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92680" y="32094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01200" y="321516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78040" y="318996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86560" y="319536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92680" y="34398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01200" y="34452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78040" y="342000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86560" y="34254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92680" y="3695040"/>
              <a:ext cx="303840" cy="25488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01200" y="37004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78040" y="367560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6560" y="36810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7000" y="417348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62560" y="417780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91240" y="41792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9760" y="418464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87160" y="440928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96040" y="44150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61000" y="441648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81040" y="43956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00480" y="3695040"/>
              <a:ext cx="303840" cy="25488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20280" y="393084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98680" y="323604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18840" y="34718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74200" y="273924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94360" y="29750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89920" y="24710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0080" y="27068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79240" y="226728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99400" y="25034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53320" y="27392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73480" y="29750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79240" y="322344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99400" y="345924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9800" y="226728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49960" y="250344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42760" y="275040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63280" y="29862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56080" y="32220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76240" y="34578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73720" y="419328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93880" y="442908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83680" y="420012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03840" y="443592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93640" y="368244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70480" y="368100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06840" y="4657680"/>
              <a:ext cx="30384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83680" y="4656600"/>
              <a:ext cx="304200" cy="255240"/>
            </a:xfrm>
            <a:prstGeom prst="rect">
              <a:avLst/>
            </a:prstGeom>
            <a:solidFill>
              <a:srgbClr val="e7172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55200" y="2865960"/>
              <a:ext cx="19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282560" y="2992680"/>
              <a:ext cx="15840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21360" y="3441240"/>
              <a:ext cx="303840" cy="2552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3B7-599D-47AD-BA29-66EAC1458D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097760" y="5326200"/>
            <a:ext cx="1712880" cy="11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Mobile robot has to model the free space to plan path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fter discretization into cells with connectivity, graph search techniques can be applied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Before discretization, the parameter-space has to be reduced to degrees of freedom of the robo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he shape of the robot can be transferred to the environment by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stamping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Heuristics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are handy for search techniques, but branches have their value (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do not prune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6F0-B0E7-4635-9C7A-4E73D1CA2B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Spatial memory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World representation used by robo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Provides methods and data structures for processing and storing information derived from sensor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Organized to support methods that extract relevant expectations about a navigational task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8DF-346C-4169-BA19-4D8F47D77B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792840" y="4834080"/>
            <a:ext cx="2017800" cy="15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Basic functions of spatial memory</a:t>
            </a: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ttention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hat features, landmarks to look for next?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4141"/>
                </a:solidFill>
                <a:uFillTx/>
                <a:latin typeface="Times New Roman"/>
              </a:rPr>
              <a:t>Reasoning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.g., can I fit through that door?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4141"/>
                </a:solidFill>
                <a:uFillTx/>
                <a:latin typeface="Times New Roman"/>
              </a:rPr>
              <a:t>Path Planning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hat is the best way through this building?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ecognition: 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hat does this place look like? Have I ever seen it before? What has changed since I was here before?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790-E8EC-4D3E-9B3F-4A1C16EB9F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Quantitative spatial memory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Express space in terms of physical distances of tra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Bird’s eye view of the world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Not dependent upon the perspective of the robo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Independent of orientation and position of robo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an be used to generate qualitative (route) representation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B75-63F6-4640-A531-FCE851A26A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Metric Map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Motivation for having a metric map is often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path planning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(others include reasoning about space…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Determine a path from one point to goal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Generally interested in “best” or “optimal” 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232"/>
                </a:solidFill>
                <a:latin typeface="Times New Roman"/>
              </a:rPr>
              <a:t>What are measures of best/optimal?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Relevant: occupied or empty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ath planning assumes an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a priori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map of relevant aspect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Only as good as last time map was updated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250-3B47-43D8-A3E7-AB0B308BCB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Metric Path Planning</a:t>
            </a:r>
            <a:br>
              <a:rPr sz="4000"/>
            </a:b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Objective: determine a path to a specified goa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Metric methods: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end to favor techniques that produce an optimal path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Usually decompose path into subgoals called waypoint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448-9DB6-411D-93B1-AE6C86B5AC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Configuration Space</a:t>
            </a:r>
            <a:br>
              <a:rPr sz="4000"/>
            </a:b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Data structure that allows robot to specify position and orientation of objects and robot in the environmen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educes # of dimensions that a planner has to deal with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ypically, for indoor mobile robots: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Assume 2 DOF for representation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Assume robot is round, so that orientation doesn’t matter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Assumes robot is holonomic (i.e., it can turn in place) 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Times New Roman"/>
              </a:rPr>
              <a:t>Classify “occupied” and “free” space</a:t>
            </a: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76B-E041-4105-9F96-F244BE85CD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Non-holonomic mobile robo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69196" r="21334" b="0"/>
          <a:stretch/>
        </p:blipFill>
        <p:spPr>
          <a:xfrm>
            <a:off x="1444680" y="2797200"/>
            <a:ext cx="7331040" cy="3606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2D-surface in 3D configuration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7C8-318B-4EB2-9668-8D53CCD696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8:44:01Z</dcterms:created>
  <dc:creator>software</dc:creator>
  <dc:description/>
  <dc:language>en-US</dc:language>
  <cp:lastModifiedBy>Arnoud Visser</cp:lastModifiedBy>
  <cp:lastPrinted>1999-09-09T14:57:39Z</cp:lastPrinted>
  <dcterms:modified xsi:type="dcterms:W3CDTF">2004-05-26T17:31:57Z</dcterms:modified>
  <cp:revision>38</cp:revision>
  <dc:subject>Computer Systemen</dc:subject>
  <dc:title>Computer Systems</dc:title>
</cp:coreProperties>
</file>