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419120" y="839520"/>
            <a:ext cx="4478400" cy="33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74880" y="4565520"/>
            <a:ext cx="5364000" cy="35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419120" y="839880"/>
            <a:ext cx="4478400" cy="3359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5520"/>
            <a:ext cx="5364000" cy="35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true game-playing system was built around 1890 by the Spanish engineer Leonardo Torres y Quevedo, specialized in the King and Rook vs K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BA7-BB69-407D-AAF9-E1BB7ED4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B8B-C8E5-46FE-BB0D-591B0D68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541-8526-49CD-B0BC-3B12B7D7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900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196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568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900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196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54C-E538-437F-886C-DF84721A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B71-E0B4-434C-BCDC-12A1F6F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A26-F433-46C4-AB03-4C7FFEF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B17-B066-46E4-B770-5FE039E4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686-E132-4054-BCDC-AE47842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69720" y="609120"/>
            <a:ext cx="849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851-064D-4EBD-9D6E-53E5AFD8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C0A-AAAD-4974-95BF-51BFF6F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62E-1882-40A9-8AD8-C1A524A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824-5F1B-4A59-8E79-5102949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6880" y="157320"/>
            <a:ext cx="8610840" cy="6400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86600" y="5486400"/>
            <a:ext cx="1676520" cy="932040"/>
            <a:chOff x="7086600" y="5486400"/>
            <a:chExt cx="1676520" cy="93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4460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086600" y="61722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 of Amsterd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828440" y="6611760"/>
            <a:ext cx="6000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, Navigate, and Actuate – Search through Game T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-360" y="6593040"/>
            <a:ext cx="21337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noud V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742160" y="6521040"/>
            <a:ext cx="1401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724-48EC-42FE-8822-139080D4E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a.pearsoncmg.com/intl/ema/ema_uk_he_bratko_prolog_3/prolog/ch22/fig22_5.tx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cience.uva.nl/~arnoud/education/ZSB/follow_strategy.pl" TargetMode="External"/><Relationship Id="rId2" Type="http://schemas.openxmlformats.org/officeDocument/2006/relationships/hyperlink" Target="http://www.science.uva.nl/~arnoud/education/ZSB/advice.p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pearsoncmg.com/intl/ema/ema_uk_he_bratko_prolog_3/prolog/ch22/medialib/fig22_3.tx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 Playing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arch the action space of 2 player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Russell &amp; Norvig Chapter 6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Bratko Chapter 22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7E4-498E-4D63-8BAE-E80F06CA8E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fficient minimax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dea: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once a move is clearly inferior to a previous move, it is not necessary to know </a:t>
            </a:r>
            <a:r>
              <a:rPr b="0" i="1" lang="en-US" sz="2400" spc="-1" strike="noStrike">
                <a:solidFill>
                  <a:srgbClr val="414141"/>
                </a:solidFill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how much inferior.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troduce two bounds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pha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minimal value the MAX is guaranteed to achieve 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ta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maximal value the MAX can hope to achieve 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38096" b="0"/>
          <a:stretch/>
        </p:blipFill>
        <p:spPr>
          <a:xfrm>
            <a:off x="3009960" y="4662360"/>
            <a:ext cx="242244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E8F-63A5-412C-AE30-25AFB458A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121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lpha = 3                 Val &lt; Alpha,             Val &gt; Alpha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                                 !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Newbound(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9720" y="2673360"/>
            <a:ext cx="3600360" cy="1647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0" r="38096" b="0"/>
          <a:stretch/>
        </p:blipFill>
        <p:spPr>
          <a:xfrm>
            <a:off x="500040" y="2630520"/>
            <a:ext cx="242244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43640" y="2714760"/>
            <a:ext cx="3600360" cy="164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537-0BDC-4A71-8808-7FFAF760F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121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Val &gt; 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α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Val &lt; 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wbound(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     !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9720" y="2693880"/>
            <a:ext cx="365292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91040" y="2711520"/>
            <a:ext cx="36100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1BA-5244-4923-BB30-0C3DA61D6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un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es not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affect final resul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ood move ordering improves effectiveness of prun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ith "perfect ordering," time complexity = O(b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m/2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ubles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depth of search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simple example of the value of reasoning about which computations are relevant (a form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reason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A5C-8CB6-400C-93CB-85834723BF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lphaBeta prolog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4400" y="1698480"/>
            <a:ext cx="8174160" cy="475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odPos, 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, !,                 % Legal moves in 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boundedbe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List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odPos, 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                % Terminal Pos has no suc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boundedbe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[Pos | PosList]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GoodPos, Good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_, Val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Pos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Alpha, Beta, Pos, Val, GoodPos, GoodV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_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Pos, Val, Pos, 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), Val &gt;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B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!       % MAX prefers the great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), Val &lt;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Alph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!.     % MIN prefers the lesse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PosList, Alpha, Beta, Pos, Val, GoodPos, Good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newbounds( Alpha, Beta, Pos, Val, NewAlpha, NewBeta),    % Refine bound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boundedbest( PosList, NewAlpha, NewBeta, Pos1, Val1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, Val, Pos1, Val1, GoodPos, GoodV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14F-23E0-42C5-8AB1-194B1ADC8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α-β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traightforward implementation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t doesn’t answer the solution tre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ith the depth-first strategy, it is difficult to control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78A-4D7E-4356-AAAD-69FEFB8961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log assign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520" y="4324320"/>
            <a:ext cx="8173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phabeta( Pos, Alpha, Beta, GoodPos, Val, MaxDept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ownload AlphaBeta implementation from Bratko:</a:t>
            </a:r>
            <a:br>
              <a:rPr sz="2800"/>
            </a:br>
            <a:r>
              <a:rPr b="0" lang="en-US" sz="16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fig22_5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place in your solution minimax for AlphaBeta. Create test-routines to inspect the performanc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49C-D18F-4F04-8693-E130308591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esource usages in ches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odes per move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≈ 35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  <a:ea typeface="Times New Roman"/>
              </a:rPr>
              <a:t>8/2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ches depth 8 </a:t>
            </a: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 human chess player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eded additional modifications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toff test: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escence search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aluation function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= estimated desirability of position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B2B-BB0D-4ACF-B87A-1057986E0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Evaluation-functions are quite static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55720" y="2075040"/>
            <a:ext cx="1235160" cy="1234800"/>
            <a:chOff x="855720" y="2075040"/>
            <a:chExt cx="1235160" cy="1234800"/>
          </a:xfrm>
        </p:grpSpPr>
        <p:grpSp>
          <p:nvGrpSpPr>
            <p:cNvPr id="110" name=""/>
            <p:cNvGrpSpPr/>
            <p:nvPr/>
          </p:nvGrpSpPr>
          <p:grpSpPr>
            <a:xfrm>
              <a:off x="1214280" y="2075040"/>
              <a:ext cx="515880" cy="1234800"/>
              <a:chOff x="1214280" y="2075040"/>
              <a:chExt cx="515880" cy="1234800"/>
            </a:xfrm>
          </p:grpSpPr>
          <p:sp>
            <p:nvSpPr>
              <p:cNvPr id="111" name=""/>
              <p:cNvSpPr/>
              <p:nvPr/>
            </p:nvSpPr>
            <p:spPr>
              <a:xfrm>
                <a:off x="1214280" y="207504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30160" y="207504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855720" y="2470320"/>
              <a:ext cx="1235160" cy="442800"/>
              <a:chOff x="855720" y="2470320"/>
              <a:chExt cx="1235160" cy="442800"/>
            </a:xfrm>
          </p:grpSpPr>
          <p:sp>
            <p:nvSpPr>
              <p:cNvPr id="114" name=""/>
              <p:cNvSpPr/>
              <p:nvPr/>
            </p:nvSpPr>
            <p:spPr>
              <a:xfrm>
                <a:off x="855720" y="247032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5720" y="291312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893880" y="2120760"/>
            <a:ext cx="286920" cy="286920"/>
            <a:chOff x="893880" y="2120760"/>
            <a:chExt cx="286920" cy="286920"/>
          </a:xfrm>
        </p:grpSpPr>
        <p:sp>
          <p:nvSpPr>
            <p:cNvPr id="117" name=""/>
            <p:cNvSpPr/>
            <p:nvPr/>
          </p:nvSpPr>
          <p:spPr>
            <a:xfrm flipV="1">
              <a:off x="915120" y="212076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3880" y="214344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45000" y="2998440"/>
            <a:ext cx="286920" cy="286920"/>
            <a:chOff x="1845000" y="2998440"/>
            <a:chExt cx="286920" cy="286920"/>
          </a:xfrm>
        </p:grpSpPr>
        <p:sp>
          <p:nvSpPr>
            <p:cNvPr id="120" name=""/>
            <p:cNvSpPr/>
            <p:nvPr/>
          </p:nvSpPr>
          <p:spPr>
            <a:xfrm flipV="1">
              <a:off x="1866240" y="29984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45000" y="30211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20840" y="254016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97120" y="2976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0640" y="2124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12960" y="2522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5760" y="2976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0120" y="2523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11480" y="2124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01920" y="2125800"/>
            <a:ext cx="1235160" cy="1234800"/>
            <a:chOff x="3301920" y="2125800"/>
            <a:chExt cx="1235160" cy="1234800"/>
          </a:xfrm>
        </p:grpSpPr>
        <p:grpSp>
          <p:nvGrpSpPr>
            <p:cNvPr id="130" name=""/>
            <p:cNvGrpSpPr/>
            <p:nvPr/>
          </p:nvGrpSpPr>
          <p:grpSpPr>
            <a:xfrm>
              <a:off x="3660480" y="2125800"/>
              <a:ext cx="515880" cy="1234800"/>
              <a:chOff x="3660480" y="2125800"/>
              <a:chExt cx="515880" cy="1234800"/>
            </a:xfrm>
          </p:grpSpPr>
          <p:sp>
            <p:nvSpPr>
              <p:cNvPr id="131" name=""/>
              <p:cNvSpPr/>
              <p:nvPr/>
            </p:nvSpPr>
            <p:spPr>
              <a:xfrm>
                <a:off x="3660480" y="21258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76360" y="21258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301920" y="2521080"/>
              <a:ext cx="1235160" cy="442800"/>
              <a:chOff x="3301920" y="2521080"/>
              <a:chExt cx="1235160" cy="442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301920" y="25210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01920" y="29638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340440" y="2171520"/>
            <a:ext cx="286920" cy="286920"/>
            <a:chOff x="3340440" y="2171520"/>
            <a:chExt cx="286920" cy="286920"/>
          </a:xfrm>
        </p:grpSpPr>
        <p:sp>
          <p:nvSpPr>
            <p:cNvPr id="137" name=""/>
            <p:cNvSpPr/>
            <p:nvPr/>
          </p:nvSpPr>
          <p:spPr>
            <a:xfrm flipV="1">
              <a:off x="3361680" y="21715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0440" y="21942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91200" y="3049560"/>
            <a:ext cx="286920" cy="286920"/>
            <a:chOff x="4291200" y="3049560"/>
            <a:chExt cx="286920" cy="286920"/>
          </a:xfrm>
        </p:grpSpPr>
        <p:sp>
          <p:nvSpPr>
            <p:cNvPr id="140" name=""/>
            <p:cNvSpPr/>
            <p:nvPr/>
          </p:nvSpPr>
          <p:spPr>
            <a:xfrm flipV="1">
              <a:off x="4312440" y="304956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91200" y="307224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67040" y="259092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43320" y="3027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9160" y="25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1960" y="3027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16320" y="2575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57680" y="2174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220680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835600" y="2103480"/>
            <a:ext cx="1235160" cy="1234800"/>
            <a:chOff x="5835600" y="2103480"/>
            <a:chExt cx="1235160" cy="1234800"/>
          </a:xfrm>
        </p:grpSpPr>
        <p:grpSp>
          <p:nvGrpSpPr>
            <p:cNvPr id="150" name=""/>
            <p:cNvGrpSpPr/>
            <p:nvPr/>
          </p:nvGrpSpPr>
          <p:grpSpPr>
            <a:xfrm>
              <a:off x="6194160" y="2103480"/>
              <a:ext cx="515880" cy="1234800"/>
              <a:chOff x="6194160" y="2103480"/>
              <a:chExt cx="515880" cy="1234800"/>
            </a:xfrm>
          </p:grpSpPr>
          <p:sp>
            <p:nvSpPr>
              <p:cNvPr id="151" name=""/>
              <p:cNvSpPr/>
              <p:nvPr/>
            </p:nvSpPr>
            <p:spPr>
              <a:xfrm>
                <a:off x="6194160" y="210348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10040" y="210348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835600" y="2498760"/>
              <a:ext cx="1235160" cy="442800"/>
              <a:chOff x="5835600" y="2498760"/>
              <a:chExt cx="1235160" cy="442800"/>
            </a:xfrm>
          </p:grpSpPr>
          <p:sp>
            <p:nvSpPr>
              <p:cNvPr id="154" name=""/>
              <p:cNvSpPr/>
              <p:nvPr/>
            </p:nvSpPr>
            <p:spPr>
              <a:xfrm>
                <a:off x="5835600" y="249876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35600" y="294156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874120" y="2149200"/>
            <a:ext cx="286920" cy="286920"/>
            <a:chOff x="5874120" y="2149200"/>
            <a:chExt cx="286920" cy="286920"/>
          </a:xfrm>
        </p:grpSpPr>
        <p:sp>
          <p:nvSpPr>
            <p:cNvPr id="157" name=""/>
            <p:cNvSpPr/>
            <p:nvPr/>
          </p:nvSpPr>
          <p:spPr>
            <a:xfrm flipV="1">
              <a:off x="5895360" y="21492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4120" y="21718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824880" y="3027240"/>
            <a:ext cx="286920" cy="286920"/>
            <a:chOff x="6824880" y="3027240"/>
            <a:chExt cx="286920" cy="286920"/>
          </a:xfrm>
        </p:grpSpPr>
        <p:sp>
          <p:nvSpPr>
            <p:cNvPr id="160" name=""/>
            <p:cNvSpPr/>
            <p:nvPr/>
          </p:nvSpPr>
          <p:spPr>
            <a:xfrm flipV="1">
              <a:off x="6846120" y="30272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24880" y="30499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300720" y="256860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92840" y="255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5640" y="300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50000" y="2552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1360" y="215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3880" y="218448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874120" y="3004920"/>
            <a:ext cx="286920" cy="286920"/>
            <a:chOff x="5874120" y="3004920"/>
            <a:chExt cx="286920" cy="286920"/>
          </a:xfrm>
        </p:grpSpPr>
        <p:sp>
          <p:nvSpPr>
            <p:cNvPr id="169" name=""/>
            <p:cNvSpPr/>
            <p:nvPr/>
          </p:nvSpPr>
          <p:spPr>
            <a:xfrm flipV="1">
              <a:off x="5895360" y="30049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74120" y="30276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680" y="3806640"/>
            <a:ext cx="8469360" cy="27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We need domain knowledge (heuristics)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At many equivalent quiescence positions, we need long term plans, and we have to stick to them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An expert system is needed with long term plans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-533520">
              <a:buClr>
                <a:srgbClr val="cd323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This heuristic values are values proposed by Maarten van Someren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3BA-590F-4FF4-979B-E67208DA2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19191"/>
                </a:solidFill>
                <a:latin typeface="Arial"/>
              </a:rPr>
              <a:t>Advantages of separating </a:t>
            </a:r>
            <a:br>
              <a:rPr sz="3600"/>
            </a:br>
            <a:r>
              <a:rPr b="0" lang="en-US" sz="3600" spc="-1" strike="noStrike">
                <a:solidFill>
                  <a:srgbClr val="919191"/>
                </a:solidFill>
                <a:latin typeface="Arial"/>
              </a:rPr>
              <a:t>production rules from inference engine</a:t>
            </a:r>
            <a:endParaRPr b="0" lang="en-US" sz="36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360" y="3936960"/>
            <a:ext cx="84834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odular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ach rule an concise piece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ncrementabil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w rules can be added independently of oth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odifiabil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old rules can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203-099C-4534-8722-926681B456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 Play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5320" y="1687680"/>
            <a:ext cx="5102280" cy="48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 contribute to AI like Formula 1 racing contributes to automobile design.’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, like the real world, require the ability to mak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decision, even when th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optimal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decision is infeasible.’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 penalize inefficiency severely’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0320" y="1876320"/>
            <a:ext cx="2985840" cy="45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45F-ADAD-4ED2-A2A3-C5333CEA41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duction rule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recondition P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Conclusion C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tuation S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action A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onditions C1 and C2 hold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Condition C does not hol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366-4983-477F-A80B-877AFDD926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dvice Languag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entral in Advice Language is an advice table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ach table is ordered collection of production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ules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en the precondition is forfilled, a list of advices can be tried, in the order specified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‘piece-of-advice’ is the central building block in AL0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077-150A-4882-A86E-770E90B892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iece-of-Advic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tending Situation Calculus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Us-move-constraints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elects a subset of all legal us-mov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hem-move-constraints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selects a subset of all legal them-mov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ombination of precondition and actions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AE0-EFF3-4F9D-B270-A177D0751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dvice Languag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top criteria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Better-goal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goal to be achieved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Holding-goal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goal to be maintained while playing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oward the better-goal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9E7-46F2-4C62-B066-1D45FFC6C8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olution trees are implemented with forcing trees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ND/OR trees where AND-nodes have only one arc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(selected us-move)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140640" y="3032280"/>
            <a:ext cx="3561480" cy="3264480"/>
            <a:chOff x="3140640" y="3032280"/>
            <a:chExt cx="3561480" cy="3264480"/>
          </a:xfrm>
        </p:grpSpPr>
        <p:sp>
          <p:nvSpPr>
            <p:cNvPr id="186" name=""/>
            <p:cNvSpPr/>
            <p:nvPr/>
          </p:nvSpPr>
          <p:spPr>
            <a:xfrm>
              <a:off x="4454640" y="3032280"/>
              <a:ext cx="734400" cy="69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97720" y="3754440"/>
              <a:ext cx="2304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851280" y="3546000"/>
              <a:ext cx="614880" cy="6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29280" y="3607200"/>
              <a:ext cx="970920" cy="63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140640" y="4126320"/>
              <a:ext cx="1088280" cy="2061000"/>
              <a:chOff x="3140640" y="4126320"/>
              <a:chExt cx="1088280" cy="2061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289320" y="412632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44280" y="4811040"/>
                <a:ext cx="1080" cy="67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94360" y="549072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3610400">
                <a:off x="3330360" y="428436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294440" y="4157280"/>
              <a:ext cx="1088280" cy="2060640"/>
              <a:chOff x="4294440" y="4157280"/>
              <a:chExt cx="1088280" cy="2060640"/>
            </a:xfrm>
          </p:grpSpPr>
          <p:sp>
            <p:nvSpPr>
              <p:cNvPr id="196" name=""/>
              <p:cNvSpPr/>
              <p:nvPr/>
            </p:nvSpPr>
            <p:spPr>
              <a:xfrm>
                <a:off x="4443120" y="415728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98080" y="4842000"/>
                <a:ext cx="1080" cy="67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48160" y="552132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3610400">
                <a:off x="4484160" y="431532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3840" y="4236120"/>
              <a:ext cx="1088280" cy="2060640"/>
              <a:chOff x="5613840" y="4236120"/>
              <a:chExt cx="1088280" cy="2060640"/>
            </a:xfrm>
          </p:grpSpPr>
          <p:sp>
            <p:nvSpPr>
              <p:cNvPr id="201" name=""/>
              <p:cNvSpPr/>
              <p:nvPr/>
            </p:nvSpPr>
            <p:spPr>
              <a:xfrm>
                <a:off x="5762520" y="423612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17480" y="4920840"/>
                <a:ext cx="1080" cy="67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67560" y="560016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13610400">
                <a:off x="5803560" y="439416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3F9-B1F3-4FDA-9506-4F7ADC5744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log assign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elect subset of legal moves with Advice Language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ownlo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science.uva.nl/~arnoud/education/ZSB/follow_strategy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science.uva.nl/~arnoud/education/ZSB/advice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08000" y="4680000"/>
            <a:ext cx="1235160" cy="1234800"/>
            <a:chOff x="1908000" y="4680000"/>
            <a:chExt cx="1235160" cy="1234800"/>
          </a:xfrm>
        </p:grpSpPr>
        <p:grpSp>
          <p:nvGrpSpPr>
            <p:cNvPr id="210" name=""/>
            <p:cNvGrpSpPr/>
            <p:nvPr/>
          </p:nvGrpSpPr>
          <p:grpSpPr>
            <a:xfrm>
              <a:off x="2266560" y="4680000"/>
              <a:ext cx="515880" cy="1234800"/>
              <a:chOff x="2266560" y="4680000"/>
              <a:chExt cx="515880" cy="1234800"/>
            </a:xfrm>
          </p:grpSpPr>
          <p:sp>
            <p:nvSpPr>
              <p:cNvPr id="211" name=""/>
              <p:cNvSpPr/>
              <p:nvPr/>
            </p:nvSpPr>
            <p:spPr>
              <a:xfrm>
                <a:off x="2266560" y="46800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2440" y="46800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908000" y="5075280"/>
              <a:ext cx="1235160" cy="442800"/>
              <a:chOff x="1908000" y="5075280"/>
              <a:chExt cx="1235160" cy="442800"/>
            </a:xfrm>
          </p:grpSpPr>
          <p:sp>
            <p:nvSpPr>
              <p:cNvPr id="214" name=""/>
              <p:cNvSpPr/>
              <p:nvPr/>
            </p:nvSpPr>
            <p:spPr>
              <a:xfrm>
                <a:off x="1908000" y="50752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08000" y="55180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2383200" y="5162400"/>
            <a:ext cx="286920" cy="286920"/>
            <a:chOff x="2383200" y="5162400"/>
            <a:chExt cx="286920" cy="286920"/>
          </a:xfrm>
        </p:grpSpPr>
        <p:sp>
          <p:nvSpPr>
            <p:cNvPr id="217" name=""/>
            <p:cNvSpPr/>
            <p:nvPr/>
          </p:nvSpPr>
          <p:spPr>
            <a:xfrm flipV="1">
              <a:off x="2404440" y="51624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3200" y="51850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938240" y="46958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6280" y="51386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657600" y="4702320"/>
            <a:ext cx="1235160" cy="1234800"/>
            <a:chOff x="3657600" y="4702320"/>
            <a:chExt cx="1235160" cy="1234800"/>
          </a:xfrm>
        </p:grpSpPr>
        <p:grpSp>
          <p:nvGrpSpPr>
            <p:cNvPr id="222" name=""/>
            <p:cNvGrpSpPr/>
            <p:nvPr/>
          </p:nvGrpSpPr>
          <p:grpSpPr>
            <a:xfrm>
              <a:off x="4016160" y="4702320"/>
              <a:ext cx="515880" cy="1234800"/>
              <a:chOff x="4016160" y="4702320"/>
              <a:chExt cx="515880" cy="1234800"/>
            </a:xfrm>
          </p:grpSpPr>
          <p:sp>
            <p:nvSpPr>
              <p:cNvPr id="223" name=""/>
              <p:cNvSpPr/>
              <p:nvPr/>
            </p:nvSpPr>
            <p:spPr>
              <a:xfrm>
                <a:off x="4016160" y="470232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32040" y="470232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657600" y="5097600"/>
              <a:ext cx="1235160" cy="442800"/>
              <a:chOff x="3657600" y="5097600"/>
              <a:chExt cx="123516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3657600" y="509760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57600" y="554040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4132440" y="5184720"/>
            <a:ext cx="286920" cy="286920"/>
            <a:chOff x="4132440" y="5184720"/>
            <a:chExt cx="286920" cy="286920"/>
          </a:xfrm>
        </p:grpSpPr>
        <p:sp>
          <p:nvSpPr>
            <p:cNvPr id="229" name=""/>
            <p:cNvSpPr/>
            <p:nvPr/>
          </p:nvSpPr>
          <p:spPr>
            <a:xfrm flipV="1">
              <a:off x="4153680" y="51847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2440" y="52074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687840" y="471816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5520" y="516096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18080" y="5627520"/>
            <a:ext cx="286920" cy="286920"/>
            <a:chOff x="4618080" y="5627520"/>
            <a:chExt cx="286920" cy="286920"/>
          </a:xfrm>
        </p:grpSpPr>
        <p:sp>
          <p:nvSpPr>
            <p:cNvPr id="234" name=""/>
            <p:cNvSpPr/>
            <p:nvPr/>
          </p:nvSpPr>
          <p:spPr>
            <a:xfrm flipV="1">
              <a:off x="4639320" y="56275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18080" y="56502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08800" y="4694400"/>
            <a:ext cx="1234800" cy="1234800"/>
            <a:chOff x="5608800" y="4694400"/>
            <a:chExt cx="1234800" cy="1234800"/>
          </a:xfrm>
        </p:grpSpPr>
        <p:grpSp>
          <p:nvGrpSpPr>
            <p:cNvPr id="237" name=""/>
            <p:cNvGrpSpPr/>
            <p:nvPr/>
          </p:nvGrpSpPr>
          <p:grpSpPr>
            <a:xfrm>
              <a:off x="5967000" y="4694400"/>
              <a:ext cx="515880" cy="1234800"/>
              <a:chOff x="5967000" y="4694400"/>
              <a:chExt cx="515880" cy="123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5967000" y="46944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82880" y="46944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608800" y="5089680"/>
              <a:ext cx="1234800" cy="442800"/>
              <a:chOff x="5608800" y="5089680"/>
              <a:chExt cx="1234800" cy="442800"/>
            </a:xfrm>
          </p:grpSpPr>
          <p:sp>
            <p:nvSpPr>
              <p:cNvPr id="241" name=""/>
              <p:cNvSpPr/>
              <p:nvPr/>
            </p:nvSpPr>
            <p:spPr>
              <a:xfrm>
                <a:off x="5608800" y="508968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08800" y="553248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83640" y="5176800"/>
            <a:ext cx="286920" cy="286920"/>
            <a:chOff x="6083640" y="5176800"/>
            <a:chExt cx="286920" cy="286920"/>
          </a:xfrm>
        </p:grpSpPr>
        <p:sp>
          <p:nvSpPr>
            <p:cNvPr id="244" name=""/>
            <p:cNvSpPr/>
            <p:nvPr/>
          </p:nvSpPr>
          <p:spPr>
            <a:xfrm flipV="1">
              <a:off x="6104880" y="51768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83640" y="51994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38680" y="471024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51530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640480" y="5635440"/>
            <a:ext cx="286920" cy="286920"/>
            <a:chOff x="5640480" y="5635440"/>
            <a:chExt cx="286920" cy="286920"/>
          </a:xfrm>
        </p:grpSpPr>
        <p:sp>
          <p:nvSpPr>
            <p:cNvPr id="249" name=""/>
            <p:cNvSpPr/>
            <p:nvPr/>
          </p:nvSpPr>
          <p:spPr>
            <a:xfrm flipV="1">
              <a:off x="5661720" y="56354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0480" y="56581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86040" y="516744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6FC-2075-4AEC-9F37-B0BEFFF55A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Advice Language applied to chess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Bratko gives a solution for the King and Rook vs King problem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dvice table consist of two rules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edge_rule (trying mate_in_2)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else_rule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Both rules the following advices in this order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squeeze, approach, keeproom, divide_in_2, divide_in_3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A0C-8350-4138-962A-CE1D248DEF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Illustration of game-play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05040" y="1623600"/>
            <a:ext cx="4011480" cy="4380840"/>
            <a:chOff x="2705040" y="1623600"/>
            <a:chExt cx="4011480" cy="438084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4052160" y="359280"/>
              <a:ext cx="1400040" cy="39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918600" y="1869120"/>
              <a:ext cx="1460160" cy="38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3866400" y="3327120"/>
              <a:ext cx="1515960" cy="383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DE2-2424-4EEE-AA0B-8F428BF1AB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19191"/>
                </a:solidFill>
                <a:latin typeface="Arial"/>
              </a:rPr>
              <a:t>Assignment of this week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14141"/>
                </a:solidFill>
                <a:latin typeface="Times New Roman"/>
              </a:rPr>
              <a:t>Generate an expert system for the chess problem King and Queen versus K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09960" y="50022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850000" y="39672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1868400" y="383868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A4A-63D0-4F15-A5DB-54EAB6F0D3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360" y="1905120"/>
            <a:ext cx="83088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"Unpredictable" opponent </a:t>
            </a:r>
            <a:r>
              <a:rPr b="0" lang="en-US" sz="32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specifying a move for every possible opponent repl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ime limits </a:t>
            </a:r>
            <a:r>
              <a:rPr b="0" lang="en-US" sz="32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unlikely to find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solution, must approximate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901-6B18-4F83-B944-3D0A44427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Game tree of tic-tac-toe</a:t>
            </a:r>
            <a:br>
              <a:rPr sz="4000"/>
            </a:br>
            <a:r>
              <a:rPr b="0" lang="en-US" sz="3200" spc="-1" strike="noStrike">
                <a:solidFill>
                  <a:srgbClr val="919191"/>
                </a:solidFill>
                <a:latin typeface="Arial"/>
              </a:rPr>
              <a:t>(2-player, deterministic, turn-taking, zero sum)</a:t>
            </a:r>
            <a:endParaRPr b="0" lang="en-US" sz="32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9560" y="2054160"/>
            <a:ext cx="6048720" cy="4305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086600" y="5486400"/>
            <a:ext cx="1676520" cy="932040"/>
            <a:chOff x="7086600" y="5486400"/>
            <a:chExt cx="1676520" cy="93204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4460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86600" y="61722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 of Amsterd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F06-6082-47B6-81BB-3F6C1BD8C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fect play for deterministic gam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dea: choose move to position with highest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nimax valu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best achievable payoff against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fect playing opponen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.g., 2-ply gam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35200" y="4138560"/>
            <a:ext cx="5230800" cy="22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514680" y="5762520"/>
          <a:ext cx="50796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4680" y="5762520"/>
                    <a:ext cx="5079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79E-B502-41EA-92CA-C11F3D855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1563840" y="1687680"/>
            <a:ext cx="6140160" cy="46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718-312A-4D65-B86F-C281ED5A60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 prolog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400" y="1698480"/>
            <a:ext cx="8174160" cy="478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, BestSucc, 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, !,                 % Legal moves in 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PosList, BestSucc, V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                % Terminal Pos has no suc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[ Pos], Pos, 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, _, Val), !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[Pos1 | PosList], BestPos, Best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1, _, Val1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PosList, Pos2, Val2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1, Val1, Pos2, Val2, BestPos, BestV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0, Val0, Pos1, Val1, Pos0, Val0)  :-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0), Val0 &gt; Val1, !       % MAX prefers the great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0), Val0 &lt; Val1, !.      % MIN prefers the lesse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0, Val0, Pos1, Val1, Pos1, Val1).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Otherwise Pos1 better than Po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B64-DF89-4190-B124-572BE17252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 interfac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960" y="3757680"/>
            <a:ext cx="817416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     % Legal moves in Pos, fails when Pos is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% value of a Terminal node (utility fun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 )       % the opponents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 )       % our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Maarten van Soomeren’s implementation is based on Bratko’s implementation: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fig22_3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he tic-tac-toe game interface is based on 4 rel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Bratko’s terminal position are win (+1) or loose (-1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FC3-FED7-4CD5-918C-B434793F9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Complete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Yes (if tree is finite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Optimal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Yes (against an optimal opponent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Time complexity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O(b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Space complexity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O(bm) (depth-first exploration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For chess, b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≈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35, m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≈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100 for "reasonable" games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exact solution completely infeasibl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911-34B2-4FD9-8F96-0D41F4357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44:01Z</dcterms:created>
  <dc:creator>software</dc:creator>
  <dc:description/>
  <dc:language>en-US</dc:language>
  <cp:lastModifiedBy>Arnoud Visser</cp:lastModifiedBy>
  <cp:lastPrinted>1999-09-09T14:57:39Z</cp:lastPrinted>
  <dcterms:modified xsi:type="dcterms:W3CDTF">2009-06-01T21:12:05Z</dcterms:modified>
  <cp:revision>64</cp:revision>
  <dc:subject>Computer Systemen</dc:subject>
  <dc:title>Computer Systems</dc:title>
</cp:coreProperties>
</file>