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comments/comment2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hristian Schaffner" initials="C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<Relationship Id="rId34" Type="http://schemas.openxmlformats.org/officeDocument/2006/relationships/commentAuthors" Target="commentAuthors.xml"/>
</Relationships>
</file>

<file path=ppt/comments/comment28.xml><?xml version="1.0" encoding="UTF-8" standalone="yes"?>
<p:cmLst xmlns:p="http://schemas.openxmlformats.org/presentationml/2006/main"><p:cm authorId="0" dt="2006-04-21T16:39:44.580000000" idx="1"><p:pos x="5329" y="1570"/><p:text>chain rule: H(X|Y) = H(XY)-H(Y)
sub-additivity: H(XY) <= H(X) + H(Y)
monoton: H(X) <= H(XY)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286-62C4-4503-BCE4-38A8EAA2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84D-471C-408F-ADD2-68BC75B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6E4-F5FB-4581-A20D-5AAACBB2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D8B-4DA6-4E76-A41F-4013EF3E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F7B2-0047-4B72-ABC4-0A99CA8B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F2D-C9A1-4BD9-A5CA-A9A74DC1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7B6-75FE-4017-9EF9-7482D637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E8C-F4CB-4C05-8A4D-9D7E2D2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FB6-5AF7-41B3-9649-DB161EE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5142-0C66-460F-BFC3-E472ED11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242-4090-43D3-9AAA-8D077D74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593-CF63-43FC-B8D4-138A25D1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6453360"/>
            <a:ext cx="17272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F68-5BF5-4390-A2CC-760D8FD692EF}" type="slidenum"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 /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921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BDEA-E466-4464-B611-2D7551E5264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04640"/>
            <a:ext cx="792468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3284640"/>
            <a:ext cx="66578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8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A Tight High-Order Entropic Quantum Uncertainty Relation</a:t>
            </a:r>
            <a:br>
              <a:rPr sz="4400"/>
            </a:b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with Applications</a:t>
            </a:r>
            <a:r>
              <a:rPr b="0" lang="en-US" sz="40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314520"/>
            <a:ext cx="835344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erge Fehr, </a:t>
            </a:r>
            <a:r>
              <a:rPr b="0" lang="de-CH" sz="2800" spc="-1" strike="noStrike">
                <a:solidFill>
                  <a:srgbClr val="0000ff"/>
                </a:solidFill>
                <a:latin typeface="Arial"/>
              </a:rPr>
              <a:t>Christian Schaffner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(CWI Amsterdam, NL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Renato Renner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(University of Cambridge, UK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van Damgård, Louis Salva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(University of Århus, D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734080"/>
            <a:ext cx="36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ypto-Workshop Dagstu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ursday, September 2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920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Entanglement-Based Protocol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4479840" y="1123920"/>
            <a:ext cx="730440" cy="351000"/>
            <a:chOff x="4479840" y="1123920"/>
            <a:chExt cx="730440" cy="351000"/>
          </a:xfrm>
        </p:grpSpPr>
        <p:sp>
          <p:nvSpPr>
            <p:cNvPr id="931" name=""/>
            <p:cNvSpPr/>
            <p:nvPr/>
          </p:nvSpPr>
          <p:spPr>
            <a:xfrm>
              <a:off x="4479840" y="1125360"/>
              <a:ext cx="92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73440" y="1147680"/>
              <a:ext cx="276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75120" y="1125360"/>
              <a:ext cx="130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05440" y="1316160"/>
              <a:ext cx="204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79840" y="1123920"/>
              <a:ext cx="730440" cy="351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937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945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950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958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966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975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976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980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984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988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992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996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5841000" y="1676520"/>
            <a:ext cx="610920" cy="2340360"/>
            <a:chOff x="5841000" y="1676520"/>
            <a:chExt cx="610920" cy="2340360"/>
          </a:xfrm>
        </p:grpSpPr>
        <p:sp>
          <p:nvSpPr>
            <p:cNvPr id="1000" name=""/>
            <p:cNvSpPr/>
            <p:nvPr/>
          </p:nvSpPr>
          <p:spPr>
            <a:xfrm rot="2700000">
              <a:off x="5930280" y="212400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6006960" y="2201040"/>
              <a:ext cx="259920" cy="251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31000" y="16765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V="1">
              <a:off x="6010200" y="1891800"/>
              <a:ext cx="3186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931000" y="25844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flipV="1">
              <a:off x="6146280" y="2604600"/>
              <a:ext cx="108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31000" y="30402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6146280" y="3060360"/>
              <a:ext cx="108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2700000">
              <a:off x="5930280" y="349560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603180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"/>
          <p:cNvSpPr/>
          <p:nvPr/>
        </p:nvSpPr>
        <p:spPr>
          <a:xfrm rot="16200000">
            <a:off x="5552280" y="257220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7174080" y="2679840"/>
            <a:ext cx="296640" cy="360360"/>
            <a:chOff x="7174080" y="2679840"/>
            <a:chExt cx="296640" cy="360360"/>
          </a:xfrm>
        </p:grpSpPr>
        <p:sp>
          <p:nvSpPr>
            <p:cNvPr id="1012" name=""/>
            <p:cNvSpPr/>
            <p:nvPr/>
          </p:nvSpPr>
          <p:spPr>
            <a:xfrm>
              <a:off x="7174080" y="267984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74080" y="267984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"/>
          <p:cNvSpPr/>
          <p:nvPr/>
        </p:nvSpPr>
        <p:spPr>
          <a:xfrm rot="14971200">
            <a:off x="7282080" y="1483200"/>
            <a:ext cx="216000" cy="79236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7962480" y="981000"/>
            <a:ext cx="742680" cy="1066320"/>
            <a:chOff x="7962480" y="981000"/>
            <a:chExt cx="742680" cy="1066320"/>
          </a:xfrm>
        </p:grpSpPr>
        <p:sp>
          <p:nvSpPr>
            <p:cNvPr id="1016" name=""/>
            <p:cNvSpPr/>
            <p:nvPr/>
          </p:nvSpPr>
          <p:spPr>
            <a:xfrm rot="12426000">
              <a:off x="8526600" y="1015920"/>
              <a:ext cx="13428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68320" y="981000"/>
              <a:ext cx="13392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962480" y="1058400"/>
              <a:ext cx="646200" cy="86364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308080" y="1078200"/>
              <a:ext cx="114480" cy="4824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070840" y="1139040"/>
              <a:ext cx="484200" cy="76644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472960" y="1161000"/>
              <a:ext cx="900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4815600">
              <a:off x="8248320" y="1186560"/>
              <a:ext cx="75960" cy="8820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18184200">
              <a:off x="8395200" y="1198800"/>
              <a:ext cx="77400" cy="8496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199000" y="1250280"/>
              <a:ext cx="138960" cy="1900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256600" y="1265040"/>
              <a:ext cx="243360" cy="36576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211600" y="1267560"/>
              <a:ext cx="116280" cy="16344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257680" y="1271520"/>
              <a:ext cx="16920" cy="154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379720" y="1275840"/>
              <a:ext cx="110880" cy="17136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416800" y="1293120"/>
              <a:ext cx="15480" cy="1656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73040" y="1340640"/>
              <a:ext cx="1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556840" y="1397160"/>
              <a:ext cx="32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74000" y="1523520"/>
              <a:ext cx="88560" cy="1447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17960" y="1552680"/>
              <a:ext cx="77040" cy="91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81920" y="1558440"/>
              <a:ext cx="71280" cy="7020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543160" y="1557360"/>
              <a:ext cx="7200" cy="3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493840" y="1585080"/>
              <a:ext cx="101520" cy="12420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144280" y="1680840"/>
              <a:ext cx="282600" cy="89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202600" y="1807560"/>
              <a:ext cx="122040" cy="3240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083080" y="1920240"/>
              <a:ext cx="317880" cy="1270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095320" y="1931040"/>
              <a:ext cx="119160" cy="10656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276040" y="1936080"/>
              <a:ext cx="112680" cy="824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224560" y="1965240"/>
              <a:ext cx="38520" cy="3816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3158280" y="1676520"/>
            <a:ext cx="611280" cy="2340360"/>
            <a:chOff x="3158280" y="1676520"/>
            <a:chExt cx="611280" cy="2340360"/>
          </a:xfrm>
        </p:grpSpPr>
        <p:sp>
          <p:nvSpPr>
            <p:cNvPr id="1044" name=""/>
            <p:cNvSpPr/>
            <p:nvPr/>
          </p:nvSpPr>
          <p:spPr>
            <a:xfrm rot="2700000">
              <a:off x="3247920" y="21236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 flipV="1">
              <a:off x="3323880" y="220140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47920" y="16765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327480" y="18918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47920" y="25844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3463920" y="260460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47920" y="304020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 flipV="1">
              <a:off x="3463920" y="3060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2700000">
              <a:off x="3247920" y="34952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34944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1055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1069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449440" y="18018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49440" y="22464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449440" y="26924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49440" y="31370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49440" y="35830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1101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52680" y="17874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52680" y="22320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52680" y="26780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52680" y="31226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52680" y="356868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700000" y="1735200"/>
            <a:ext cx="4248000" cy="2231640"/>
            <a:chOff x="2700000" y="1735200"/>
            <a:chExt cx="4248000" cy="2231640"/>
          </a:xfrm>
        </p:grpSpPr>
        <p:sp>
          <p:nvSpPr>
            <p:cNvPr id="1133" name=""/>
            <p:cNvSpPr/>
            <p:nvPr/>
          </p:nvSpPr>
          <p:spPr>
            <a:xfrm rot="5400000">
              <a:off x="4656240" y="-781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5400000">
              <a:off x="4585320" y="311760"/>
              <a:ext cx="477720" cy="4105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5400000">
              <a:off x="4513320" y="7207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5400000">
              <a:off x="4513680" y="1198800"/>
              <a:ext cx="47772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5400000">
              <a:off x="4513320" y="167508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6516720" y="1235160"/>
            <a:ext cx="934920" cy="28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Let Bob Act Firs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14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1141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1143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1148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1156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1164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7818840" y="692280"/>
            <a:ext cx="890280" cy="1277280"/>
            <a:chOff x="7818840" y="692280"/>
            <a:chExt cx="890280" cy="1277280"/>
          </a:xfrm>
        </p:grpSpPr>
        <p:sp>
          <p:nvSpPr>
            <p:cNvPr id="1168" name=""/>
            <p:cNvSpPr/>
            <p:nvPr/>
          </p:nvSpPr>
          <p:spPr>
            <a:xfrm rot="12426000">
              <a:off x="8495280" y="733680"/>
              <a:ext cx="16092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945920" y="692280"/>
              <a:ext cx="16056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818840" y="784800"/>
              <a:ext cx="774720" cy="103500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8233560" y="808920"/>
              <a:ext cx="137520" cy="5796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948800" y="882000"/>
              <a:ext cx="580320" cy="91800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430840" y="907920"/>
              <a:ext cx="1116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4815600">
              <a:off x="8162640" y="938520"/>
              <a:ext cx="91080" cy="10584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8184200">
              <a:off x="8336880" y="953280"/>
              <a:ext cx="92520" cy="10152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102520" y="1014840"/>
              <a:ext cx="166680" cy="2278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171280" y="1032840"/>
              <a:ext cx="291600" cy="43812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117280" y="1035720"/>
              <a:ext cx="139320" cy="19620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72720" y="1040400"/>
              <a:ext cx="20160" cy="1872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318880" y="1045440"/>
              <a:ext cx="132840" cy="20520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363160" y="1066320"/>
              <a:ext cx="18720" cy="1980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550720" y="1122840"/>
              <a:ext cx="180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531280" y="1190880"/>
              <a:ext cx="39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32880" y="1342080"/>
              <a:ext cx="106200" cy="1735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484840" y="1377360"/>
              <a:ext cx="92520" cy="109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42240" y="1383840"/>
              <a:ext cx="85320" cy="8388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515080" y="1383120"/>
              <a:ext cx="8640" cy="504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456040" y="1416240"/>
              <a:ext cx="121680" cy="14868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37000" y="1530720"/>
              <a:ext cx="339120" cy="107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106480" y="1682640"/>
              <a:ext cx="146520" cy="3852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963560" y="1817280"/>
              <a:ext cx="381240" cy="1522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978320" y="1830600"/>
              <a:ext cx="142920" cy="12780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194680" y="1836720"/>
              <a:ext cx="135360" cy="986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133120" y="1871280"/>
              <a:ext cx="46080" cy="457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"/>
          <p:cNvSpPr/>
          <p:nvPr/>
        </p:nvSpPr>
        <p:spPr>
          <a:xfrm rot="16200000">
            <a:off x="5533200" y="258192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7093080" y="2708280"/>
            <a:ext cx="296640" cy="360360"/>
            <a:chOff x="7093080" y="2708280"/>
            <a:chExt cx="296640" cy="360360"/>
          </a:xfrm>
        </p:grpSpPr>
        <p:sp>
          <p:nvSpPr>
            <p:cNvPr id="1197" name=""/>
            <p:cNvSpPr/>
            <p:nvPr/>
          </p:nvSpPr>
          <p:spPr>
            <a:xfrm>
              <a:off x="7093080" y="270828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093080" y="270828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1201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3314880" y="1690560"/>
            <a:ext cx="441000" cy="2250720"/>
            <a:chOff x="3314880" y="1690560"/>
            <a:chExt cx="441000" cy="2250720"/>
          </a:xfrm>
        </p:grpSpPr>
        <p:grpSp>
          <p:nvGrpSpPr>
            <p:cNvPr id="1210" name=""/>
            <p:cNvGrpSpPr/>
            <p:nvPr/>
          </p:nvGrpSpPr>
          <p:grpSpPr>
            <a:xfrm>
              <a:off x="3314880" y="1690560"/>
              <a:ext cx="431640" cy="431640"/>
              <a:chOff x="3314880" y="1690560"/>
              <a:chExt cx="431640" cy="431640"/>
            </a:xfrm>
          </p:grpSpPr>
          <p:sp>
            <p:nvSpPr>
              <p:cNvPr id="1211" name=""/>
              <p:cNvSpPr/>
              <p:nvPr/>
            </p:nvSpPr>
            <p:spPr>
              <a:xfrm>
                <a:off x="3314880" y="16905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 flipV="1">
                <a:off x="3530160" y="17107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3394080" y="19065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3412800" y="17726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>
                <a:off x="3387600" y="17744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3314880" y="2147760"/>
              <a:ext cx="431640" cy="431640"/>
              <a:chOff x="3314880" y="2147760"/>
              <a:chExt cx="431640" cy="431640"/>
            </a:xfrm>
          </p:grpSpPr>
          <p:sp>
            <p:nvSpPr>
              <p:cNvPr id="1217" name=""/>
              <p:cNvSpPr/>
              <p:nvPr/>
            </p:nvSpPr>
            <p:spPr>
              <a:xfrm>
                <a:off x="3314880" y="21477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 flipV="1">
                <a:off x="3530160" y="21679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3394080" y="23637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3412800" y="22298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 flipV="1">
                <a:off x="3387600" y="22316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3324240" y="2595240"/>
              <a:ext cx="431640" cy="431640"/>
              <a:chOff x="3324240" y="2595240"/>
              <a:chExt cx="431640" cy="431640"/>
            </a:xfrm>
          </p:grpSpPr>
          <p:sp>
            <p:nvSpPr>
              <p:cNvPr id="1223" name=""/>
              <p:cNvSpPr/>
              <p:nvPr/>
            </p:nvSpPr>
            <p:spPr>
              <a:xfrm>
                <a:off x="3324240" y="25952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 flipV="1">
                <a:off x="3539520" y="26154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3403440" y="28112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 flipV="1">
                <a:off x="3422160" y="26773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 flipV="1">
                <a:off x="3396960" y="26791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3314880" y="3043080"/>
              <a:ext cx="431640" cy="431640"/>
              <a:chOff x="3314880" y="3043080"/>
              <a:chExt cx="431640" cy="431640"/>
            </a:xfrm>
          </p:grpSpPr>
          <p:sp>
            <p:nvSpPr>
              <p:cNvPr id="1229" name=""/>
              <p:cNvSpPr/>
              <p:nvPr/>
            </p:nvSpPr>
            <p:spPr>
              <a:xfrm>
                <a:off x="3314880" y="304308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flipV="1">
                <a:off x="3530160" y="306324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3394080" y="325908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3412800" y="312516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 flipV="1">
                <a:off x="3387600" y="312696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3314880" y="3509640"/>
              <a:ext cx="431640" cy="431640"/>
              <a:chOff x="3314880" y="3509640"/>
              <a:chExt cx="431640" cy="431640"/>
            </a:xfrm>
          </p:grpSpPr>
          <p:sp>
            <p:nvSpPr>
              <p:cNvPr id="1235" name=""/>
              <p:cNvSpPr/>
              <p:nvPr/>
            </p:nvSpPr>
            <p:spPr>
              <a:xfrm>
                <a:off x="3314880" y="3509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flipV="1">
                <a:off x="3530160" y="3529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V="1">
                <a:off x="3394080" y="3725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3412800" y="3591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H="1" flipV="1">
                <a:off x="3387600" y="3593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0" name=""/>
          <p:cNvGrpSpPr/>
          <p:nvPr/>
        </p:nvGrpSpPr>
        <p:grpSpPr>
          <a:xfrm>
            <a:off x="5905440" y="1690560"/>
            <a:ext cx="441000" cy="2250720"/>
            <a:chOff x="5905440" y="1690560"/>
            <a:chExt cx="441000" cy="2250720"/>
          </a:xfrm>
        </p:grpSpPr>
        <p:grpSp>
          <p:nvGrpSpPr>
            <p:cNvPr id="1241" name=""/>
            <p:cNvGrpSpPr/>
            <p:nvPr/>
          </p:nvGrpSpPr>
          <p:grpSpPr>
            <a:xfrm>
              <a:off x="5905440" y="1690560"/>
              <a:ext cx="431640" cy="431640"/>
              <a:chOff x="5905440" y="1690560"/>
              <a:chExt cx="431640" cy="431640"/>
            </a:xfrm>
          </p:grpSpPr>
          <p:sp>
            <p:nvSpPr>
              <p:cNvPr id="1242" name=""/>
              <p:cNvSpPr/>
              <p:nvPr/>
            </p:nvSpPr>
            <p:spPr>
              <a:xfrm>
                <a:off x="5905440" y="16905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 flipV="1">
                <a:off x="6120720" y="17107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5984640" y="19065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V="1">
                <a:off x="6003360" y="17726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5978160" y="17744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5905440" y="2147760"/>
              <a:ext cx="431640" cy="431640"/>
              <a:chOff x="5905440" y="2147760"/>
              <a:chExt cx="431640" cy="431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5905440" y="21477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 flipV="1">
                <a:off x="6120720" y="21679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5984640" y="23637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V="1">
                <a:off x="6003360" y="22298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 flipV="1">
                <a:off x="5978160" y="22316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5914800" y="2595240"/>
              <a:ext cx="431640" cy="431640"/>
              <a:chOff x="5914800" y="2595240"/>
              <a:chExt cx="431640" cy="431640"/>
            </a:xfrm>
          </p:grpSpPr>
          <p:sp>
            <p:nvSpPr>
              <p:cNvPr id="1254" name=""/>
              <p:cNvSpPr/>
              <p:nvPr/>
            </p:nvSpPr>
            <p:spPr>
              <a:xfrm>
                <a:off x="5914800" y="25952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 flipV="1">
                <a:off x="6130080" y="26154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V="1">
                <a:off x="5994000" y="28112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6012720" y="26773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 flipV="1">
                <a:off x="5987520" y="26791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9" name=""/>
            <p:cNvGrpSpPr/>
            <p:nvPr/>
          </p:nvGrpSpPr>
          <p:grpSpPr>
            <a:xfrm>
              <a:off x="5905440" y="3043080"/>
              <a:ext cx="431640" cy="431640"/>
              <a:chOff x="5905440" y="3043080"/>
              <a:chExt cx="431640" cy="431640"/>
            </a:xfrm>
          </p:grpSpPr>
          <p:sp>
            <p:nvSpPr>
              <p:cNvPr id="1260" name=""/>
              <p:cNvSpPr/>
              <p:nvPr/>
            </p:nvSpPr>
            <p:spPr>
              <a:xfrm>
                <a:off x="5905440" y="304308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 flipH="1" flipV="1">
                <a:off x="6120720" y="306324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V="1">
                <a:off x="5984640" y="325908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6003360" y="312516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 flipV="1">
                <a:off x="5978160" y="312696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5905440" y="3509640"/>
              <a:ext cx="431640" cy="431640"/>
              <a:chOff x="5905440" y="3509640"/>
              <a:chExt cx="431640" cy="431640"/>
            </a:xfrm>
          </p:grpSpPr>
          <p:sp>
            <p:nvSpPr>
              <p:cNvPr id="1266" name=""/>
              <p:cNvSpPr/>
              <p:nvPr/>
            </p:nvSpPr>
            <p:spPr>
              <a:xfrm>
                <a:off x="5905440" y="3509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 flipV="1">
                <a:off x="6120720" y="3529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5984640" y="3725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V="1">
                <a:off x="6003360" y="3591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H="1" flipV="1">
                <a:off x="5978160" y="3593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"/>
          <p:cNvGrpSpPr/>
          <p:nvPr/>
        </p:nvGrpSpPr>
        <p:grpSpPr>
          <a:xfrm>
            <a:off x="7541640" y="2569680"/>
            <a:ext cx="725040" cy="803880"/>
            <a:chOff x="7541640" y="2569680"/>
            <a:chExt cx="725040" cy="803880"/>
          </a:xfrm>
        </p:grpSpPr>
        <p:sp>
          <p:nvSpPr>
            <p:cNvPr id="1272" name=""/>
            <p:cNvSpPr/>
            <p:nvPr/>
          </p:nvSpPr>
          <p:spPr>
            <a:xfrm rot="1512000">
              <a:off x="7657920" y="2643120"/>
              <a:ext cx="492120" cy="657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V="1">
              <a:off x="7778520" y="2700720"/>
              <a:ext cx="25092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7701120" y="2876040"/>
              <a:ext cx="405720" cy="189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 flipV="1">
              <a:off x="7809480" y="2710800"/>
              <a:ext cx="189000" cy="515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7675560" y="2889000"/>
              <a:ext cx="458280" cy="164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8118720" y="2572560"/>
            <a:ext cx="662040" cy="662040"/>
            <a:chOff x="8118720" y="2572560"/>
            <a:chExt cx="662040" cy="662040"/>
          </a:xfrm>
        </p:grpSpPr>
        <p:sp>
          <p:nvSpPr>
            <p:cNvPr id="1278" name=""/>
            <p:cNvSpPr/>
            <p:nvPr/>
          </p:nvSpPr>
          <p:spPr>
            <a:xfrm rot="2700000">
              <a:off x="8197200" y="2687760"/>
              <a:ext cx="504720" cy="43164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8310960" y="2763000"/>
              <a:ext cx="276120" cy="27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8286120" y="2740320"/>
              <a:ext cx="325800" cy="323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8449560" y="2674800"/>
              <a:ext cx="1800" cy="45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8254440" y="2903400"/>
              <a:ext cx="3920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3170160" y="1681200"/>
            <a:ext cx="665280" cy="2260440"/>
            <a:chOff x="3170160" y="1681200"/>
            <a:chExt cx="665280" cy="2260440"/>
          </a:xfrm>
        </p:grpSpPr>
        <p:grpSp>
          <p:nvGrpSpPr>
            <p:cNvPr id="1284" name=""/>
            <p:cNvGrpSpPr/>
            <p:nvPr/>
          </p:nvGrpSpPr>
          <p:grpSpPr>
            <a:xfrm>
              <a:off x="3170160" y="2112840"/>
              <a:ext cx="647280" cy="431640"/>
              <a:chOff x="3170160" y="2112840"/>
              <a:chExt cx="647280" cy="431640"/>
            </a:xfrm>
          </p:grpSpPr>
          <p:sp>
            <p:nvSpPr>
              <p:cNvPr id="1285" name=""/>
              <p:cNvSpPr/>
              <p:nvPr/>
            </p:nvSpPr>
            <p:spPr>
              <a:xfrm>
                <a:off x="3170160" y="21128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 flipV="1">
                <a:off x="3493080" y="21330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3288960" y="23288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3317400" y="21322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 flipV="1">
                <a:off x="3342600" y="21978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3229200" y="2472480"/>
              <a:ext cx="602280" cy="618480"/>
              <a:chOff x="3229200" y="2472480"/>
              <a:chExt cx="602280" cy="618480"/>
            </a:xfrm>
          </p:grpSpPr>
          <p:sp>
            <p:nvSpPr>
              <p:cNvPr id="1291" name=""/>
              <p:cNvSpPr/>
              <p:nvPr/>
            </p:nvSpPr>
            <p:spPr>
              <a:xfrm rot="19923600">
                <a:off x="3314160" y="25459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 flipV="1">
                <a:off x="3429720" y="2593440"/>
                <a:ext cx="185040" cy="345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V="1">
                <a:off x="3410280" y="2696400"/>
                <a:ext cx="28152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3480840" y="2600280"/>
                <a:ext cx="104400" cy="339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 flipV="1">
                <a:off x="3325320" y="2726640"/>
                <a:ext cx="380160" cy="109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3314520" y="16812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3530520" y="1701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700000">
              <a:off x="3313800" y="30495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 flipV="1">
              <a:off x="3390480" y="31269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3314520" y="3510000"/>
              <a:ext cx="431640" cy="431640"/>
              <a:chOff x="3314520" y="3510000"/>
              <a:chExt cx="431640" cy="431640"/>
            </a:xfrm>
          </p:grpSpPr>
          <p:sp>
            <p:nvSpPr>
              <p:cNvPr id="1301" name=""/>
              <p:cNvSpPr/>
              <p:nvPr/>
            </p:nvSpPr>
            <p:spPr>
              <a:xfrm>
                <a:off x="3314520" y="351000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3529800" y="353016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3393720" y="372600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3412440" y="359208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 flipV="1">
                <a:off x="3387240" y="359388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6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1307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4427640" y="1125360"/>
            <a:ext cx="947160" cy="265320"/>
            <a:chOff x="4427640" y="1125360"/>
            <a:chExt cx="947160" cy="265320"/>
          </a:xfrm>
        </p:grpSpPr>
        <p:sp>
          <p:nvSpPr>
            <p:cNvPr id="1315" name=""/>
            <p:cNvSpPr/>
            <p:nvPr/>
          </p:nvSpPr>
          <p:spPr>
            <a:xfrm>
              <a:off x="4427640" y="1218960"/>
              <a:ext cx="1854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614840" y="1218960"/>
              <a:ext cx="185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800240" y="1218960"/>
              <a:ext cx="2012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00400" y="1125360"/>
              <a:ext cx="207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27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209920" y="1170000"/>
              <a:ext cx="1648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0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427640" y="1125360"/>
              <a:ext cx="945720" cy="265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"/>
          <p:cNvSpPr/>
          <p:nvPr/>
        </p:nvSpPr>
        <p:spPr>
          <a:xfrm rot="14971200">
            <a:off x="7164720" y="1412280"/>
            <a:ext cx="216000" cy="79200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785880" y="1557360"/>
            <a:ext cx="1168560" cy="703440"/>
            <a:chOff x="785880" y="1557360"/>
            <a:chExt cx="1168560" cy="703440"/>
          </a:xfrm>
        </p:grpSpPr>
        <p:grpSp>
          <p:nvGrpSpPr>
            <p:cNvPr id="1323" name=""/>
            <p:cNvGrpSpPr/>
            <p:nvPr/>
          </p:nvGrpSpPr>
          <p:grpSpPr>
            <a:xfrm>
              <a:off x="1343520" y="1612440"/>
              <a:ext cx="610920" cy="610560"/>
              <a:chOff x="1343520" y="1612440"/>
              <a:chExt cx="610920" cy="610560"/>
            </a:xfrm>
          </p:grpSpPr>
          <p:sp>
            <p:nvSpPr>
              <p:cNvPr id="1324" name=""/>
              <p:cNvSpPr/>
              <p:nvPr/>
            </p:nvSpPr>
            <p:spPr>
              <a:xfrm rot="2700000">
                <a:off x="1432800" y="170172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V="1">
                <a:off x="1533960" y="177840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H="1" flipV="1">
                <a:off x="1509120" y="177804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"/>
            <p:cNvGrpSpPr/>
            <p:nvPr/>
          </p:nvGrpSpPr>
          <p:grpSpPr>
            <a:xfrm>
              <a:off x="785880" y="1701720"/>
              <a:ext cx="431640" cy="431640"/>
              <a:chOff x="785880" y="1701720"/>
              <a:chExt cx="431640" cy="431640"/>
            </a:xfrm>
          </p:grpSpPr>
          <p:sp>
            <p:nvSpPr>
              <p:cNvPr id="1328" name=""/>
              <p:cNvSpPr/>
              <p:nvPr/>
            </p:nvSpPr>
            <p:spPr>
              <a:xfrm>
                <a:off x="785880" y="170172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 flipV="1">
                <a:off x="1001160" y="172188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865080" y="191700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>
              <a:off x="982800" y="1557360"/>
              <a:ext cx="6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696240" y="2043000"/>
            <a:ext cx="1168920" cy="703440"/>
            <a:chOff x="696240" y="2043000"/>
            <a:chExt cx="1168920" cy="703440"/>
          </a:xfrm>
        </p:grpSpPr>
        <p:grpSp>
          <p:nvGrpSpPr>
            <p:cNvPr id="1333" name=""/>
            <p:cNvGrpSpPr/>
            <p:nvPr/>
          </p:nvGrpSpPr>
          <p:grpSpPr>
            <a:xfrm>
              <a:off x="1433520" y="2166840"/>
              <a:ext cx="431640" cy="431640"/>
              <a:chOff x="1433520" y="2166840"/>
              <a:chExt cx="431640" cy="431640"/>
            </a:xfrm>
          </p:grpSpPr>
          <p:sp>
            <p:nvSpPr>
              <p:cNvPr id="1334" name=""/>
              <p:cNvSpPr/>
              <p:nvPr/>
            </p:nvSpPr>
            <p:spPr>
              <a:xfrm>
                <a:off x="1433520" y="21668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 flipV="1">
                <a:off x="1648800" y="21870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1512720" y="23821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7" name=""/>
            <p:cNvGrpSpPr/>
            <p:nvPr/>
          </p:nvGrpSpPr>
          <p:grpSpPr>
            <a:xfrm>
              <a:off x="696240" y="2084040"/>
              <a:ext cx="610560" cy="610560"/>
              <a:chOff x="696240" y="2084040"/>
              <a:chExt cx="610560" cy="610560"/>
            </a:xfrm>
          </p:grpSpPr>
          <p:sp>
            <p:nvSpPr>
              <p:cNvPr id="1338" name=""/>
              <p:cNvSpPr/>
              <p:nvPr/>
            </p:nvSpPr>
            <p:spPr>
              <a:xfrm rot="2700000">
                <a:off x="785520" y="217332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V="1">
                <a:off x="886320" y="22496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 flipV="1">
                <a:off x="861480" y="22492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>
              <a:off x="965160" y="2043000"/>
              <a:ext cx="6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1239840" y="2924280"/>
            <a:ext cx="92160" cy="301680"/>
            <a:chOff x="1239840" y="2924280"/>
            <a:chExt cx="92160" cy="301680"/>
          </a:xfrm>
        </p:grpSpPr>
        <p:sp>
          <p:nvSpPr>
            <p:cNvPr id="1343" name=""/>
            <p:cNvSpPr/>
            <p:nvPr/>
          </p:nvSpPr>
          <p:spPr>
            <a:xfrm>
              <a:off x="1239840" y="292428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239840" y="30578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239840" y="31910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239840" y="2924280"/>
              <a:ext cx="92160" cy="301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1348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50920" y="486900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1" name=""/>
          <p:cNvGrpSpPr/>
          <p:nvPr/>
        </p:nvGrpSpPr>
        <p:grpSpPr>
          <a:xfrm>
            <a:off x="2104920" y="4503600"/>
            <a:ext cx="2192400" cy="366480"/>
            <a:chOff x="2104920" y="4503600"/>
            <a:chExt cx="2192400" cy="366480"/>
          </a:xfrm>
        </p:grpSpPr>
        <p:sp>
          <p:nvSpPr>
            <p:cNvPr id="1362" name=""/>
            <p:cNvSpPr/>
            <p:nvPr/>
          </p:nvSpPr>
          <p:spPr>
            <a:xfrm>
              <a:off x="210492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0976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459160" y="4751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0820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81304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054240" y="4606560"/>
              <a:ext cx="2224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12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7032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703680" y="4751280"/>
              <a:ext cx="9216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5272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01940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186080" y="4503600"/>
              <a:ext cx="1112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104920" y="4503600"/>
              <a:ext cx="2192400" cy="366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484200" y="6299280"/>
            <a:ext cx="2935080" cy="225360"/>
            <a:chOff x="484200" y="6299280"/>
            <a:chExt cx="2935080" cy="225360"/>
          </a:xfrm>
        </p:grpSpPr>
        <p:sp>
          <p:nvSpPr>
            <p:cNvPr id="1376" name=""/>
            <p:cNvSpPr/>
            <p:nvPr/>
          </p:nvSpPr>
          <p:spPr>
            <a:xfrm>
              <a:off x="48420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12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11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108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93672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062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16208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325520" y="631656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500120" y="6319800"/>
              <a:ext cx="1126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500120" y="6372360"/>
              <a:ext cx="112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6128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38080" y="6319800"/>
              <a:ext cx="619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801800" y="6372360"/>
              <a:ext cx="11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98900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0168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214360" y="6446880"/>
              <a:ext cx="61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5116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517840" y="6372360"/>
              <a:ext cx="997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1756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432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86704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6712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13056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4324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5592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4200" y="6299280"/>
              <a:ext cx="2935080" cy="225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539640" y="5846760"/>
            <a:ext cx="3429000" cy="325440"/>
            <a:chOff x="539640" y="5846760"/>
            <a:chExt cx="3429000" cy="325440"/>
          </a:xfrm>
        </p:grpSpPr>
        <p:sp>
          <p:nvSpPr>
            <p:cNvPr id="1403" name=""/>
            <p:cNvSpPr/>
            <p:nvPr/>
          </p:nvSpPr>
          <p:spPr>
            <a:xfrm>
              <a:off x="539640" y="5869080"/>
              <a:ext cx="255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65000" y="5869080"/>
              <a:ext cx="282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136520" y="5951520"/>
              <a:ext cx="90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34880" y="5883480"/>
              <a:ext cx="162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498320" y="5865840"/>
              <a:ext cx="135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`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723680" y="59356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066760" y="587052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309400" y="604368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8408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11160" y="58705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095280" y="584856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276360" y="58705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528720" y="60580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673080" y="5951520"/>
              <a:ext cx="168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84156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39640" y="5846760"/>
              <a:ext cx="342720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9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1420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1428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452680" y="17874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452680" y="22320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452680" y="26780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452680" y="31226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452680" y="356868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2700000" y="1735200"/>
            <a:ext cx="4248000" cy="2231640"/>
            <a:chOff x="2700000" y="1735200"/>
            <a:chExt cx="4248000" cy="2231640"/>
          </a:xfrm>
        </p:grpSpPr>
        <p:sp>
          <p:nvSpPr>
            <p:cNvPr id="1460" name=""/>
            <p:cNvSpPr/>
            <p:nvPr/>
          </p:nvSpPr>
          <p:spPr>
            <a:xfrm rot="5400000">
              <a:off x="4656240" y="-781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5400000">
              <a:off x="4585320" y="311760"/>
              <a:ext cx="477720" cy="4105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5400000">
              <a:off x="4513320" y="72072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5400000">
              <a:off x="4513680" y="1198800"/>
              <a:ext cx="47772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5400000">
              <a:off x="4513320" y="167508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6516720" y="1235160"/>
            <a:ext cx="934920" cy="28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ender-Security </a:t>
            </a:r>
            <a:r>
              <a:rPr b="0" lang="fr-CH" sz="3600" spc="-1" strike="noStrike">
                <a:solidFill>
                  <a:srgbClr val="003399"/>
                </a:solidFill>
                <a:latin typeface="Wingdings 3"/>
                <a:ea typeface="Wingdings 3"/>
              </a:rPr>
              <a:t></a:t>
            </a: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 Uncertainty Rel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46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1468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1470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1475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1483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1491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7818840" y="692280"/>
            <a:ext cx="890280" cy="1277280"/>
            <a:chOff x="7818840" y="692280"/>
            <a:chExt cx="890280" cy="1277280"/>
          </a:xfrm>
        </p:grpSpPr>
        <p:sp>
          <p:nvSpPr>
            <p:cNvPr id="1495" name=""/>
            <p:cNvSpPr/>
            <p:nvPr/>
          </p:nvSpPr>
          <p:spPr>
            <a:xfrm rot="12426000">
              <a:off x="8495280" y="733680"/>
              <a:ext cx="16092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945920" y="692280"/>
              <a:ext cx="160560" cy="27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818840" y="784800"/>
              <a:ext cx="774720" cy="103500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233560" y="808920"/>
              <a:ext cx="137520" cy="5796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8800" y="882000"/>
              <a:ext cx="580320" cy="91800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430840" y="907920"/>
              <a:ext cx="1116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rot="4815600">
              <a:off x="8162640" y="938520"/>
              <a:ext cx="91080" cy="10584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8184200">
              <a:off x="8336880" y="953280"/>
              <a:ext cx="92520" cy="10152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102520" y="1014840"/>
              <a:ext cx="166680" cy="2278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171280" y="1032840"/>
              <a:ext cx="291600" cy="43812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117280" y="1035720"/>
              <a:ext cx="139320" cy="19620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172720" y="1040400"/>
              <a:ext cx="20160" cy="1872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318880" y="1045440"/>
              <a:ext cx="132840" cy="20520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63160" y="1066320"/>
              <a:ext cx="18720" cy="1980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550720" y="1122840"/>
              <a:ext cx="180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531280" y="1190880"/>
              <a:ext cx="39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832880" y="1342080"/>
              <a:ext cx="106200" cy="1735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484840" y="1377360"/>
              <a:ext cx="92520" cy="109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842240" y="1383840"/>
              <a:ext cx="85320" cy="8388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515080" y="1383120"/>
              <a:ext cx="8640" cy="504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56040" y="1416240"/>
              <a:ext cx="121680" cy="14868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037000" y="1530720"/>
              <a:ext cx="339120" cy="107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106480" y="1682640"/>
              <a:ext cx="146520" cy="3852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963560" y="1817280"/>
              <a:ext cx="381240" cy="1522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978320" y="1830600"/>
              <a:ext cx="142920" cy="12780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194680" y="1836720"/>
              <a:ext cx="135360" cy="986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133120" y="1871280"/>
              <a:ext cx="46080" cy="4572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2" name=""/>
          <p:cNvSpPr/>
          <p:nvPr/>
        </p:nvSpPr>
        <p:spPr>
          <a:xfrm rot="16200000">
            <a:off x="5533200" y="258192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7093080" y="2708280"/>
            <a:ext cx="296640" cy="360360"/>
            <a:chOff x="7093080" y="2708280"/>
            <a:chExt cx="296640" cy="360360"/>
          </a:xfrm>
        </p:grpSpPr>
        <p:sp>
          <p:nvSpPr>
            <p:cNvPr id="1524" name=""/>
            <p:cNvSpPr/>
            <p:nvPr/>
          </p:nvSpPr>
          <p:spPr>
            <a:xfrm>
              <a:off x="7093080" y="270828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093080" y="270828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1528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7541640" y="2569680"/>
            <a:ext cx="725040" cy="803880"/>
            <a:chOff x="7541640" y="2569680"/>
            <a:chExt cx="725040" cy="803880"/>
          </a:xfrm>
        </p:grpSpPr>
        <p:sp>
          <p:nvSpPr>
            <p:cNvPr id="1537" name=""/>
            <p:cNvSpPr/>
            <p:nvPr/>
          </p:nvSpPr>
          <p:spPr>
            <a:xfrm rot="1512000">
              <a:off x="7657920" y="2643120"/>
              <a:ext cx="492120" cy="657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V="1">
              <a:off x="7778520" y="2700720"/>
              <a:ext cx="250920" cy="54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flipV="1">
              <a:off x="7701120" y="2876040"/>
              <a:ext cx="405720" cy="189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 flipV="1">
              <a:off x="7809480" y="2710800"/>
              <a:ext cx="189000" cy="515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7675560" y="2889000"/>
              <a:ext cx="458280" cy="164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8118720" y="2572560"/>
            <a:ext cx="662040" cy="662040"/>
            <a:chOff x="8118720" y="2572560"/>
            <a:chExt cx="662040" cy="662040"/>
          </a:xfrm>
        </p:grpSpPr>
        <p:sp>
          <p:nvSpPr>
            <p:cNvPr id="1543" name=""/>
            <p:cNvSpPr/>
            <p:nvPr/>
          </p:nvSpPr>
          <p:spPr>
            <a:xfrm rot="2700000">
              <a:off x="8197200" y="2687760"/>
              <a:ext cx="504720" cy="43164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8310960" y="2763000"/>
              <a:ext cx="276120" cy="27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flipV="1">
              <a:off x="8286120" y="2740320"/>
              <a:ext cx="325800" cy="323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flipV="1">
              <a:off x="8449560" y="2674800"/>
              <a:ext cx="1800" cy="4586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8254440" y="2903400"/>
              <a:ext cx="39204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"/>
          <p:cNvGrpSpPr/>
          <p:nvPr/>
        </p:nvGrpSpPr>
        <p:grpSpPr>
          <a:xfrm>
            <a:off x="4427640" y="1125360"/>
            <a:ext cx="947160" cy="265320"/>
            <a:chOff x="4427640" y="1125360"/>
            <a:chExt cx="947160" cy="265320"/>
          </a:xfrm>
        </p:grpSpPr>
        <p:sp>
          <p:nvSpPr>
            <p:cNvPr id="1549" name=""/>
            <p:cNvSpPr/>
            <p:nvPr/>
          </p:nvSpPr>
          <p:spPr>
            <a:xfrm>
              <a:off x="4427640" y="1218960"/>
              <a:ext cx="1854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614840" y="1218960"/>
              <a:ext cx="185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800240" y="1218960"/>
              <a:ext cx="2012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000400" y="1125360"/>
              <a:ext cx="207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27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209920" y="1170000"/>
              <a:ext cx="1648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0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427640" y="1125360"/>
              <a:ext cx="945720" cy="265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5" name=""/>
          <p:cNvSpPr/>
          <p:nvPr/>
        </p:nvSpPr>
        <p:spPr>
          <a:xfrm rot="14971200">
            <a:off x="7164720" y="1412280"/>
            <a:ext cx="216000" cy="79200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6" name=""/>
          <p:cNvGrpSpPr/>
          <p:nvPr/>
        </p:nvGrpSpPr>
        <p:grpSpPr>
          <a:xfrm>
            <a:off x="785880" y="1557360"/>
            <a:ext cx="1168560" cy="703440"/>
            <a:chOff x="785880" y="1557360"/>
            <a:chExt cx="1168560" cy="703440"/>
          </a:xfrm>
        </p:grpSpPr>
        <p:grpSp>
          <p:nvGrpSpPr>
            <p:cNvPr id="1557" name=""/>
            <p:cNvGrpSpPr/>
            <p:nvPr/>
          </p:nvGrpSpPr>
          <p:grpSpPr>
            <a:xfrm>
              <a:off x="1343520" y="1612440"/>
              <a:ext cx="610920" cy="610560"/>
              <a:chOff x="1343520" y="1612440"/>
              <a:chExt cx="610920" cy="610560"/>
            </a:xfrm>
          </p:grpSpPr>
          <p:sp>
            <p:nvSpPr>
              <p:cNvPr id="1558" name=""/>
              <p:cNvSpPr/>
              <p:nvPr/>
            </p:nvSpPr>
            <p:spPr>
              <a:xfrm rot="2700000">
                <a:off x="1432800" y="170172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1533960" y="177840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H="1" flipV="1">
                <a:off x="1509120" y="177804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785880" y="1701720"/>
              <a:ext cx="431640" cy="431640"/>
              <a:chOff x="785880" y="1701720"/>
              <a:chExt cx="431640" cy="431640"/>
            </a:xfrm>
          </p:grpSpPr>
          <p:sp>
            <p:nvSpPr>
              <p:cNvPr id="1562" name=""/>
              <p:cNvSpPr/>
              <p:nvPr/>
            </p:nvSpPr>
            <p:spPr>
              <a:xfrm>
                <a:off x="785880" y="170172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H="1" flipV="1">
                <a:off x="1001160" y="172188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865080" y="191700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5" name=""/>
            <p:cNvSpPr/>
            <p:nvPr/>
          </p:nvSpPr>
          <p:spPr>
            <a:xfrm>
              <a:off x="982800" y="1557360"/>
              <a:ext cx="6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696240" y="2043000"/>
            <a:ext cx="1168920" cy="703440"/>
            <a:chOff x="696240" y="2043000"/>
            <a:chExt cx="1168920" cy="703440"/>
          </a:xfrm>
        </p:grpSpPr>
        <p:grpSp>
          <p:nvGrpSpPr>
            <p:cNvPr id="1567" name=""/>
            <p:cNvGrpSpPr/>
            <p:nvPr/>
          </p:nvGrpSpPr>
          <p:grpSpPr>
            <a:xfrm>
              <a:off x="1433520" y="2166840"/>
              <a:ext cx="431640" cy="431640"/>
              <a:chOff x="1433520" y="2166840"/>
              <a:chExt cx="431640" cy="431640"/>
            </a:xfrm>
          </p:grpSpPr>
          <p:sp>
            <p:nvSpPr>
              <p:cNvPr id="1568" name=""/>
              <p:cNvSpPr/>
              <p:nvPr/>
            </p:nvSpPr>
            <p:spPr>
              <a:xfrm>
                <a:off x="1433520" y="21668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H="1" flipV="1">
                <a:off x="1648800" y="21870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1512720" y="23821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696240" y="2084040"/>
              <a:ext cx="610560" cy="610560"/>
              <a:chOff x="696240" y="2084040"/>
              <a:chExt cx="610560" cy="610560"/>
            </a:xfrm>
          </p:grpSpPr>
          <p:sp>
            <p:nvSpPr>
              <p:cNvPr id="1572" name=""/>
              <p:cNvSpPr/>
              <p:nvPr/>
            </p:nvSpPr>
            <p:spPr>
              <a:xfrm rot="2700000">
                <a:off x="785520" y="217332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886320" y="22496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 flipV="1">
                <a:off x="861480" y="22492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5" name=""/>
            <p:cNvSpPr/>
            <p:nvPr/>
          </p:nvSpPr>
          <p:spPr>
            <a:xfrm>
              <a:off x="965160" y="2043000"/>
              <a:ext cx="6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1239840" y="2924280"/>
            <a:ext cx="92160" cy="301680"/>
            <a:chOff x="1239840" y="2924280"/>
            <a:chExt cx="92160" cy="301680"/>
          </a:xfrm>
        </p:grpSpPr>
        <p:sp>
          <p:nvSpPr>
            <p:cNvPr id="1577" name=""/>
            <p:cNvSpPr/>
            <p:nvPr/>
          </p:nvSpPr>
          <p:spPr>
            <a:xfrm>
              <a:off x="1239840" y="292428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239840" y="30578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239840" y="3191040"/>
              <a:ext cx="9216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239840" y="2924280"/>
              <a:ext cx="92160" cy="301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1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1582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250920" y="4869000"/>
            <a:ext cx="806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5" name=""/>
          <p:cNvGrpSpPr/>
          <p:nvPr/>
        </p:nvGrpSpPr>
        <p:grpSpPr>
          <a:xfrm>
            <a:off x="2104920" y="4503600"/>
            <a:ext cx="2192400" cy="366480"/>
            <a:chOff x="2104920" y="4503600"/>
            <a:chExt cx="2192400" cy="366480"/>
          </a:xfrm>
        </p:grpSpPr>
        <p:sp>
          <p:nvSpPr>
            <p:cNvPr id="1596" name=""/>
            <p:cNvSpPr/>
            <p:nvPr/>
          </p:nvSpPr>
          <p:spPr>
            <a:xfrm>
              <a:off x="210492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30976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459160" y="4751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608200" y="4559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813040" y="4687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054240" y="4606560"/>
              <a:ext cx="2224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12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37032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3700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703680" y="4751280"/>
              <a:ext cx="9216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852720" y="457164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019400" y="453672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186080" y="4503600"/>
              <a:ext cx="1112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`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04920" y="4503600"/>
              <a:ext cx="2192400" cy="366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"/>
          <p:cNvGrpSpPr/>
          <p:nvPr/>
        </p:nvGrpSpPr>
        <p:grpSpPr>
          <a:xfrm>
            <a:off x="484200" y="6299280"/>
            <a:ext cx="2935080" cy="225360"/>
            <a:chOff x="484200" y="6299280"/>
            <a:chExt cx="2935080" cy="225360"/>
          </a:xfrm>
        </p:grpSpPr>
        <p:sp>
          <p:nvSpPr>
            <p:cNvPr id="1610" name=""/>
            <p:cNvSpPr/>
            <p:nvPr/>
          </p:nvSpPr>
          <p:spPr>
            <a:xfrm>
              <a:off x="48420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4612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1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1108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93672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06200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16208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325520" y="6316560"/>
              <a:ext cx="17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00120" y="6319800"/>
              <a:ext cx="11268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500120" y="6372360"/>
              <a:ext cx="112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6128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738080" y="6319800"/>
              <a:ext cx="619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01800" y="6372360"/>
              <a:ext cx="112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98900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10168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214360" y="6446880"/>
              <a:ext cx="6192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51160" y="6316560"/>
              <a:ext cx="16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517840" y="6372360"/>
              <a:ext cx="997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17560" y="6372360"/>
              <a:ext cx="1256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43200" y="6372360"/>
              <a:ext cx="1252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867040" y="6372360"/>
              <a:ext cx="1000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967120" y="6372360"/>
              <a:ext cx="889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13056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243240" y="6324480"/>
              <a:ext cx="11268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355920" y="6300720"/>
              <a:ext cx="619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55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4200" y="6299280"/>
              <a:ext cx="2935080" cy="225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3170160" y="1681200"/>
            <a:ext cx="665280" cy="2260440"/>
            <a:chOff x="3170160" y="1681200"/>
            <a:chExt cx="665280" cy="2260440"/>
          </a:xfrm>
        </p:grpSpPr>
        <p:grpSp>
          <p:nvGrpSpPr>
            <p:cNvPr id="1637" name=""/>
            <p:cNvGrpSpPr/>
            <p:nvPr/>
          </p:nvGrpSpPr>
          <p:grpSpPr>
            <a:xfrm>
              <a:off x="3170160" y="2112840"/>
              <a:ext cx="647280" cy="431640"/>
              <a:chOff x="3170160" y="2112840"/>
              <a:chExt cx="647280" cy="431640"/>
            </a:xfrm>
          </p:grpSpPr>
          <p:sp>
            <p:nvSpPr>
              <p:cNvPr id="1638" name=""/>
              <p:cNvSpPr/>
              <p:nvPr/>
            </p:nvSpPr>
            <p:spPr>
              <a:xfrm>
                <a:off x="3170160" y="21128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flipH="1" flipV="1">
                <a:off x="3493080" y="21330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3288960" y="23288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3317400" y="21322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flipH="1" flipV="1">
                <a:off x="3342600" y="21978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3" name=""/>
            <p:cNvGrpSpPr/>
            <p:nvPr/>
          </p:nvGrpSpPr>
          <p:grpSpPr>
            <a:xfrm>
              <a:off x="3229200" y="2472480"/>
              <a:ext cx="602280" cy="618480"/>
              <a:chOff x="3229200" y="2472480"/>
              <a:chExt cx="602280" cy="618480"/>
            </a:xfrm>
          </p:grpSpPr>
          <p:sp>
            <p:nvSpPr>
              <p:cNvPr id="1644" name=""/>
              <p:cNvSpPr/>
              <p:nvPr/>
            </p:nvSpPr>
            <p:spPr>
              <a:xfrm rot="19923600">
                <a:off x="3314160" y="25459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 flipH="1" flipV="1">
                <a:off x="3429720" y="2593440"/>
                <a:ext cx="185040" cy="345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 flipV="1">
                <a:off x="3410280" y="2696400"/>
                <a:ext cx="28152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 flipV="1">
                <a:off x="3480840" y="2600280"/>
                <a:ext cx="104400" cy="339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flipV="1">
                <a:off x="3325320" y="2726640"/>
                <a:ext cx="380160" cy="109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"/>
            <p:cNvSpPr/>
            <p:nvPr/>
          </p:nvSpPr>
          <p:spPr>
            <a:xfrm>
              <a:off x="3314520" y="16812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flipV="1">
              <a:off x="3530520" y="1701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2700000">
              <a:off x="3313800" y="30495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3390480" y="31269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"/>
            <p:cNvGrpSpPr/>
            <p:nvPr/>
          </p:nvGrpSpPr>
          <p:grpSpPr>
            <a:xfrm>
              <a:off x="3314520" y="3510000"/>
              <a:ext cx="431640" cy="431640"/>
              <a:chOff x="3314520" y="3510000"/>
              <a:chExt cx="431640" cy="431640"/>
            </a:xfrm>
          </p:grpSpPr>
          <p:sp>
            <p:nvSpPr>
              <p:cNvPr id="1654" name=""/>
              <p:cNvSpPr/>
              <p:nvPr/>
            </p:nvSpPr>
            <p:spPr>
              <a:xfrm>
                <a:off x="3314520" y="351000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H="1" flipV="1">
                <a:off x="3529800" y="353016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3393720" y="372600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V="1">
                <a:off x="3412440" y="359208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 flipV="1">
                <a:off x="3387240" y="359388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9" name=""/>
          <p:cNvGrpSpPr/>
          <p:nvPr/>
        </p:nvGrpSpPr>
        <p:grpSpPr>
          <a:xfrm>
            <a:off x="539640" y="5846760"/>
            <a:ext cx="7103880" cy="822240"/>
            <a:chOff x="539640" y="5846760"/>
            <a:chExt cx="7103880" cy="822240"/>
          </a:xfrm>
        </p:grpSpPr>
        <p:sp>
          <p:nvSpPr>
            <p:cNvPr id="1660" name=""/>
            <p:cNvSpPr/>
            <p:nvPr/>
          </p:nvSpPr>
          <p:spPr>
            <a:xfrm>
              <a:off x="539640" y="5869080"/>
              <a:ext cx="255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65000" y="5869080"/>
              <a:ext cx="28260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136520" y="5951520"/>
              <a:ext cx="90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334880" y="5883480"/>
              <a:ext cx="162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98320" y="5865840"/>
              <a:ext cx="1350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`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723680" y="59356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066760" y="587052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309400" y="604368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58408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1160" y="58705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95280" y="584856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276360" y="58705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528720" y="60580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73080" y="5951520"/>
              <a:ext cx="168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½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84156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057200" y="5884920"/>
              <a:ext cx="2527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400280" y="5870520"/>
              <a:ext cx="243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644720" y="604368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1940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046480" y="58705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430600" y="5848560"/>
              <a:ext cx="90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611680" y="58705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864040" y="58485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400280" y="6270840"/>
              <a:ext cx="1461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|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539960" y="6289920"/>
              <a:ext cx="501840" cy="0"/>
            </a:xfrm>
            <a:prstGeom prst="line">
              <a:avLst/>
            </a:prstGeom>
            <a:ln w="38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049720" y="6270840"/>
              <a:ext cx="14580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{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195520" y="6270840"/>
              <a:ext cx="1461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333760" y="6289920"/>
              <a:ext cx="501480" cy="0"/>
            </a:xfrm>
            <a:prstGeom prst="line">
              <a:avLst/>
            </a:prstGeom>
            <a:ln w="388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843160" y="6270840"/>
              <a:ext cx="146160" cy="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7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ex10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032080" y="6462720"/>
              <a:ext cx="2030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41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235120" y="6461280"/>
              <a:ext cx="1224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r7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062400" y="5902560"/>
              <a:ext cx="252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26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86400" y="5865840"/>
              <a:ext cx="26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#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65480" y="5951520"/>
              <a:ext cx="171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37200" y="5951520"/>
              <a:ext cx="18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117920" y="58658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297560" y="5875560"/>
              <a:ext cx="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387920" y="589284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515000" y="5951520"/>
              <a:ext cx="1285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386400" y="6253200"/>
              <a:ext cx="14580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526080" y="6270840"/>
              <a:ext cx="334800" cy="0"/>
            </a:xfrm>
            <a:prstGeom prst="line">
              <a:avLst/>
            </a:prstGeom>
            <a:ln w="38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868800" y="6253200"/>
              <a:ext cx="1461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014960" y="6253200"/>
              <a:ext cx="14580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152840" y="6270840"/>
              <a:ext cx="336600" cy="0"/>
            </a:xfrm>
            <a:prstGeom prst="line">
              <a:avLst/>
            </a:prstGeom>
            <a:ln w="38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495920" y="6253200"/>
              <a:ext cx="146160" cy="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8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702120" y="6483600"/>
              <a:ext cx="2034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15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&l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905520" y="6516720"/>
              <a:ext cx="160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065720" y="6443640"/>
              <a:ext cx="133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198920" y="6467400"/>
              <a:ext cx="13032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39640" y="5846760"/>
              <a:ext cx="7102440" cy="822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900000" y="4183200"/>
            <a:ext cx="2589120" cy="393480"/>
            <a:chOff x="900000" y="4183200"/>
            <a:chExt cx="2589120" cy="393480"/>
          </a:xfrm>
        </p:grpSpPr>
        <p:sp>
          <p:nvSpPr>
            <p:cNvPr id="1711" name=""/>
            <p:cNvSpPr/>
            <p:nvPr/>
          </p:nvSpPr>
          <p:spPr>
            <a:xfrm>
              <a:off x="900000" y="4209840"/>
              <a:ext cx="2952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78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195200" y="4419360"/>
              <a:ext cx="312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28560" y="4184640"/>
              <a:ext cx="1526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040" bIns="96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681200" y="4209840"/>
              <a:ext cx="32544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78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146320" y="4184640"/>
              <a:ext cx="10944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040" bIns="96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365200" y="4209840"/>
              <a:ext cx="30636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78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670120" y="4184640"/>
              <a:ext cx="152280" cy="38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040" bIns="96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32200" y="4228920"/>
              <a:ext cx="3063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876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303360" y="4206600"/>
              <a:ext cx="185760" cy="2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0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0000"/>
                  </a:solidFill>
                  <a:latin typeface="cmr10"/>
                </a:rPr>
                <a:t>?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00000" y="4183200"/>
              <a:ext cx="2589120" cy="393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20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2000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20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2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2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20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20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2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7" dur="2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20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20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2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2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2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20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2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050840" y="1628280"/>
            <a:ext cx="70423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Motivation and Not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Quantum Uncertainty Rel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26920" y="2349360"/>
            <a:ext cx="7201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Quantum Uncertainty Relation needed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725" name=""/>
          <p:cNvGrpSpPr/>
          <p:nvPr/>
        </p:nvGrpSpPr>
        <p:grpSpPr>
          <a:xfrm>
            <a:off x="4917960" y="2846520"/>
            <a:ext cx="719280" cy="720720"/>
            <a:chOff x="4917960" y="2846520"/>
            <a:chExt cx="719280" cy="720720"/>
          </a:xfrm>
        </p:grpSpPr>
        <p:sp>
          <p:nvSpPr>
            <p:cNvPr id="1726" name=""/>
            <p:cNvSpPr/>
            <p:nvPr/>
          </p:nvSpPr>
          <p:spPr>
            <a:xfrm>
              <a:off x="4917960" y="284652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5278320" y="2919600"/>
              <a:ext cx="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989600" y="3206880"/>
              <a:ext cx="57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917960" y="3997440"/>
            <a:ext cx="719280" cy="720720"/>
            <a:chOff x="4917960" y="3997440"/>
            <a:chExt cx="719280" cy="720720"/>
          </a:xfrm>
        </p:grpSpPr>
        <p:sp>
          <p:nvSpPr>
            <p:cNvPr id="1730" name=""/>
            <p:cNvSpPr/>
            <p:nvPr/>
          </p:nvSpPr>
          <p:spPr>
            <a:xfrm>
              <a:off x="4917960" y="39974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V="1">
              <a:off x="5077440" y="41533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73480" y="4154040"/>
              <a:ext cx="408240" cy="406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3" name=""/>
          <p:cNvSpPr/>
          <p:nvPr/>
        </p:nvSpPr>
        <p:spPr>
          <a:xfrm>
            <a:off x="947880" y="255420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744480" y="2314440"/>
            <a:ext cx="3311640" cy="3263760"/>
            <a:chOff x="744480" y="2314440"/>
            <a:chExt cx="3311640" cy="3263760"/>
          </a:xfrm>
        </p:grpSpPr>
        <p:sp>
          <p:nvSpPr>
            <p:cNvPr id="1735" name=""/>
            <p:cNvSpPr/>
            <p:nvPr/>
          </p:nvSpPr>
          <p:spPr>
            <a:xfrm rot="16200000">
              <a:off x="759600" y="3866040"/>
              <a:ext cx="3263760" cy="160560"/>
            </a:xfrm>
            <a:prstGeom prst="rightArrow">
              <a:avLst>
                <a:gd name="adj1" fmla="val 26741"/>
                <a:gd name="adj2" fmla="val 12958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44480" y="3919320"/>
              <a:ext cx="3311640" cy="146160"/>
            </a:xfrm>
            <a:prstGeom prst="rightArrow">
              <a:avLst>
                <a:gd name="adj1" fmla="val 30435"/>
                <a:gd name="adj2" fmla="val 13573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7" name=""/>
          <p:cNvSpPr/>
          <p:nvPr/>
        </p:nvSpPr>
        <p:spPr>
          <a:xfrm>
            <a:off x="3006720" y="26989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2387520" y="2698920"/>
            <a:ext cx="619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9" name=""/>
          <p:cNvGrpSpPr/>
          <p:nvPr/>
        </p:nvGrpSpPr>
        <p:grpSpPr>
          <a:xfrm>
            <a:off x="4127400" y="3789360"/>
            <a:ext cx="647640" cy="412920"/>
            <a:chOff x="4127400" y="3789360"/>
            <a:chExt cx="647640" cy="412920"/>
          </a:xfrm>
        </p:grpSpPr>
        <p:sp>
          <p:nvSpPr>
            <p:cNvPr id="1740" name=""/>
            <p:cNvSpPr/>
            <p:nvPr/>
          </p:nvSpPr>
          <p:spPr>
            <a:xfrm>
              <a:off x="4127400" y="379080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28920" y="382896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409640" y="379080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551120" y="401328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127400" y="378936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5" name=""/>
          <p:cNvGrpSpPr/>
          <p:nvPr/>
        </p:nvGrpSpPr>
        <p:grpSpPr>
          <a:xfrm>
            <a:off x="2182680" y="1844640"/>
            <a:ext cx="647640" cy="412920"/>
            <a:chOff x="2182680" y="1844640"/>
            <a:chExt cx="647640" cy="412920"/>
          </a:xfrm>
        </p:grpSpPr>
        <p:sp>
          <p:nvSpPr>
            <p:cNvPr id="1746" name=""/>
            <p:cNvSpPr/>
            <p:nvPr/>
          </p:nvSpPr>
          <p:spPr>
            <a:xfrm>
              <a:off x="2182680" y="18460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84200" y="18842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64920" y="18460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06400" y="206856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82680" y="184464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706320" y="2338560"/>
            <a:ext cx="650880" cy="412560"/>
            <a:chOff x="706320" y="2338560"/>
            <a:chExt cx="650880" cy="412560"/>
          </a:xfrm>
        </p:grpSpPr>
        <p:sp>
          <p:nvSpPr>
            <p:cNvPr id="1752" name=""/>
            <p:cNvSpPr/>
            <p:nvPr/>
          </p:nvSpPr>
          <p:spPr>
            <a:xfrm>
              <a:off x="706320" y="233964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07840" y="237780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8560" y="233964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30040" y="2562120"/>
              <a:ext cx="227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06320" y="2338560"/>
              <a:ext cx="65088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7" name=""/>
          <p:cNvGrpSpPr/>
          <p:nvPr/>
        </p:nvGrpSpPr>
        <p:grpSpPr>
          <a:xfrm>
            <a:off x="3624120" y="2482920"/>
            <a:ext cx="650880" cy="412560"/>
            <a:chOff x="3624120" y="2482920"/>
            <a:chExt cx="650880" cy="412560"/>
          </a:xfrm>
        </p:grpSpPr>
        <p:sp>
          <p:nvSpPr>
            <p:cNvPr id="1758" name=""/>
            <p:cNvSpPr/>
            <p:nvPr/>
          </p:nvSpPr>
          <p:spPr>
            <a:xfrm>
              <a:off x="3624120" y="248400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725640" y="252216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906360" y="248400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047840" y="2706480"/>
              <a:ext cx="227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24120" y="2482920"/>
              <a:ext cx="65088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3" name=""/>
          <p:cNvSpPr/>
          <p:nvPr/>
        </p:nvSpPr>
        <p:spPr>
          <a:xfrm>
            <a:off x="2995560" y="2689200"/>
            <a:ext cx="341280" cy="368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2039760" y="2698920"/>
            <a:ext cx="936720" cy="863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611280" y="1197000"/>
            <a:ext cx="3009960" cy="270000"/>
            <a:chOff x="611280" y="1197000"/>
            <a:chExt cx="3009960" cy="270000"/>
          </a:xfrm>
        </p:grpSpPr>
        <p:sp>
          <p:nvSpPr>
            <p:cNvPr id="1766" name=""/>
            <p:cNvSpPr/>
            <p:nvPr/>
          </p:nvSpPr>
          <p:spPr>
            <a:xfrm>
              <a:off x="611280" y="130032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096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900360" y="123048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47960" y="123696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122480" y="125100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316160" y="130032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449720" y="130032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64340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79244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940040" y="123696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014560" y="125100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06800" y="1300320"/>
              <a:ext cx="141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40000" y="130032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459160" y="130032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578320" y="125100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681640" y="130032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816280" y="130032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008520" y="123696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083040" y="130032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21360" y="1232280"/>
              <a:ext cx="193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msbm10"/>
                  <a:ea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513240" y="119880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1280" y="1197000"/>
              <a:ext cx="3009960" cy="270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8" name=""/>
          <p:cNvSpPr/>
          <p:nvPr/>
        </p:nvSpPr>
        <p:spPr>
          <a:xfrm rot="16200000">
            <a:off x="2631240" y="3772440"/>
            <a:ext cx="144360" cy="609480"/>
          </a:xfrm>
          <a:custGeom>
            <a:avLst/>
            <a:gdLst>
              <a:gd name="textAreaLeft" fmla="*/ 92160 w 144360"/>
              <a:gd name="textAreaRight" fmla="*/ 144360 w 1443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608200" y="4208400"/>
            <a:ext cx="223920" cy="150840"/>
            <a:chOff x="2608200" y="4208400"/>
            <a:chExt cx="223920" cy="150840"/>
          </a:xfrm>
        </p:grpSpPr>
        <p:sp>
          <p:nvSpPr>
            <p:cNvPr id="1790" name=""/>
            <p:cNvSpPr/>
            <p:nvPr/>
          </p:nvSpPr>
          <p:spPr>
            <a:xfrm>
              <a:off x="2608200" y="4210200"/>
              <a:ext cx="223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®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608200" y="4208400"/>
              <a:ext cx="223920" cy="1508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803920" y="2773440"/>
            <a:ext cx="2546280" cy="371520"/>
            <a:chOff x="5803920" y="2773440"/>
            <a:chExt cx="2546280" cy="371520"/>
          </a:xfrm>
        </p:grpSpPr>
        <p:sp>
          <p:nvSpPr>
            <p:cNvPr id="1793" name=""/>
            <p:cNvSpPr/>
            <p:nvPr/>
          </p:nvSpPr>
          <p:spPr>
            <a:xfrm>
              <a:off x="5803920" y="281952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42240" y="290844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17868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75520" y="281952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688080" y="2930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56360" y="283392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23096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424640" y="2930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79292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889760" y="2908440"/>
              <a:ext cx="2239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®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113680" y="2797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210520" y="2773440"/>
              <a:ext cx="139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803920" y="2773440"/>
              <a:ext cx="2544840" cy="3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803920" y="3218040"/>
            <a:ext cx="3146400" cy="371160"/>
            <a:chOff x="5803920" y="3218040"/>
            <a:chExt cx="3146400" cy="371160"/>
          </a:xfrm>
        </p:grpSpPr>
        <p:sp>
          <p:nvSpPr>
            <p:cNvPr id="1807" name=""/>
            <p:cNvSpPr/>
            <p:nvPr/>
          </p:nvSpPr>
          <p:spPr>
            <a:xfrm>
              <a:off x="5803920" y="3263760"/>
              <a:ext cx="2365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042240" y="3352680"/>
              <a:ext cx="13644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868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7868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275520" y="3263760"/>
              <a:ext cx="28872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688080" y="3375000"/>
              <a:ext cx="271440" cy="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280" bIns="-92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7056360" y="3278160"/>
              <a:ext cx="17460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23096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424640" y="3375000"/>
              <a:ext cx="271440" cy="8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280" bIns="-92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792920" y="3278160"/>
              <a:ext cx="17496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2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043840" y="3298680"/>
              <a:ext cx="2714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28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839304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489880" y="3352680"/>
              <a:ext cx="22392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868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®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713800" y="3241440"/>
              <a:ext cx="9684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920" bIns="85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8810640" y="3218040"/>
              <a:ext cx="1396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803920" y="3218040"/>
              <a:ext cx="3146400" cy="371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781600" y="3997440"/>
            <a:ext cx="2538360" cy="371520"/>
            <a:chOff x="5781600" y="3997440"/>
            <a:chExt cx="2538360" cy="371520"/>
          </a:xfrm>
        </p:grpSpPr>
        <p:sp>
          <p:nvSpPr>
            <p:cNvPr id="1823" name=""/>
            <p:cNvSpPr/>
            <p:nvPr/>
          </p:nvSpPr>
          <p:spPr>
            <a:xfrm>
              <a:off x="5781600" y="404352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19920" y="413244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15636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53200" y="404352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665760" y="4154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034040" y="405792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20864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402320" y="415476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77060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867440" y="4040280"/>
              <a:ext cx="19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8083440" y="402120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180280" y="3997440"/>
              <a:ext cx="139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781600" y="3997440"/>
              <a:ext cx="2536920" cy="3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"/>
          <p:cNvGrpSpPr/>
          <p:nvPr/>
        </p:nvGrpSpPr>
        <p:grpSpPr>
          <a:xfrm>
            <a:off x="5781600" y="4489560"/>
            <a:ext cx="3138480" cy="371520"/>
            <a:chOff x="5781600" y="4489560"/>
            <a:chExt cx="3138480" cy="371520"/>
          </a:xfrm>
        </p:grpSpPr>
        <p:sp>
          <p:nvSpPr>
            <p:cNvPr id="1837" name=""/>
            <p:cNvSpPr/>
            <p:nvPr/>
          </p:nvSpPr>
          <p:spPr>
            <a:xfrm>
              <a:off x="5781600" y="45356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019920" y="46245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5636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253200" y="45356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665760" y="46468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7034040" y="45500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720864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7402320" y="46468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770600" y="45500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21520" y="4570560"/>
              <a:ext cx="2714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28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¡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37072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467560" y="4532400"/>
              <a:ext cx="19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683560" y="45133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780400" y="4489560"/>
              <a:ext cx="1396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0000"/>
                  </a:solidFill>
                  <a:latin typeface="cmr7"/>
                  <a:ea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781600" y="4489560"/>
              <a:ext cx="3137040" cy="3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1148400" y="2752920"/>
            <a:ext cx="2472120" cy="2459520"/>
            <a:chOff x="1148400" y="2752920"/>
            <a:chExt cx="2472120" cy="2459520"/>
          </a:xfrm>
        </p:grpSpPr>
        <p:sp>
          <p:nvSpPr>
            <p:cNvPr id="1853" name=""/>
            <p:cNvSpPr/>
            <p:nvPr/>
          </p:nvSpPr>
          <p:spPr>
            <a:xfrm rot="13500000">
              <a:off x="727200" y="3883320"/>
              <a:ext cx="3263760" cy="160560"/>
            </a:xfrm>
            <a:prstGeom prst="rightArrow">
              <a:avLst>
                <a:gd name="adj1" fmla="val 26741"/>
                <a:gd name="adj2" fmla="val 1295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18900000">
              <a:off x="741960" y="3916800"/>
              <a:ext cx="3311640" cy="146160"/>
            </a:xfrm>
            <a:prstGeom prst="rightArrow">
              <a:avLst>
                <a:gd name="adj1" fmla="val 30435"/>
                <a:gd name="adj2" fmla="val 13573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"/>
          <p:cNvSpPr/>
          <p:nvPr/>
        </p:nvSpPr>
        <p:spPr>
          <a:xfrm rot="13500000">
            <a:off x="2853000" y="2945160"/>
            <a:ext cx="144360" cy="1317600"/>
          </a:xfrm>
          <a:custGeom>
            <a:avLst/>
            <a:gdLst>
              <a:gd name="textAreaLeft" fmla="*/ 92160 w 144360"/>
              <a:gd name="textAreaRight" fmla="*/ 144360 w 144360"/>
              <a:gd name="textAreaTop" fmla="*/ 34200 h 1317600"/>
              <a:gd name="textAreaBottom" fmla="*/ 1283400 h 131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2938320" y="3645000"/>
            <a:ext cx="196920" cy="309240"/>
            <a:chOff x="2938320" y="3645000"/>
            <a:chExt cx="196920" cy="309240"/>
          </a:xfrm>
        </p:grpSpPr>
        <p:sp>
          <p:nvSpPr>
            <p:cNvPr id="1857" name=""/>
            <p:cNvSpPr/>
            <p:nvPr/>
          </p:nvSpPr>
          <p:spPr>
            <a:xfrm>
              <a:off x="2938320" y="3646440"/>
              <a:ext cx="196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938320" y="3645000"/>
              <a:ext cx="196920" cy="309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9" name=""/>
          <p:cNvSpPr/>
          <p:nvPr/>
        </p:nvSpPr>
        <p:spPr>
          <a:xfrm flipV="1">
            <a:off x="2383200" y="2689200"/>
            <a:ext cx="618120" cy="1334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  <p:animClr clrSpc="rgb"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77777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/>
          <p:nvPr/>
        </p:nvSpPr>
        <p:spPr>
          <a:xfrm>
            <a:off x="3343320" y="1906560"/>
            <a:ext cx="17892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"/>
          <p:cNvGrpSpPr/>
          <p:nvPr/>
        </p:nvGrpSpPr>
        <p:grpSpPr>
          <a:xfrm>
            <a:off x="539640" y="1076400"/>
            <a:ext cx="7728120" cy="1560240"/>
            <a:chOff x="539640" y="1076400"/>
            <a:chExt cx="7728120" cy="1560240"/>
          </a:xfrm>
        </p:grpSpPr>
        <p:sp>
          <p:nvSpPr>
            <p:cNvPr id="1862" name=""/>
            <p:cNvSpPr/>
            <p:nvPr/>
          </p:nvSpPr>
          <p:spPr>
            <a:xfrm>
              <a:off x="539640" y="1079640"/>
              <a:ext cx="29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30160" y="11444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979560" y="11444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1286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510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371600" y="11444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51272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785960" y="10796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020680" y="107784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±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7808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448000" y="1077840"/>
              <a:ext cx="162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1296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86704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019320" y="11444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360600" y="1081080"/>
              <a:ext cx="16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52728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6464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838680" y="1147680"/>
              <a:ext cx="137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976560" y="117936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15440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30992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518000" y="114768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741920" y="1090440"/>
              <a:ext cx="133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4875120" y="1147680"/>
              <a:ext cx="88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964040" y="114768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105520" y="114768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25312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00720" y="10843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4752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68920" y="114768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77368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878440" y="114768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012000" y="1098360"/>
              <a:ext cx="102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11496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34120" y="12351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3964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459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909720" y="1438200"/>
              <a:ext cx="177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87560" y="1495440"/>
              <a:ext cx="160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36680" y="138096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47168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67796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79712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004840" y="138096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13840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01840" y="14000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5225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70036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80512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272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16080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29400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4340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463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6552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798720" y="1466640"/>
              <a:ext cx="222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02120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2289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62480" y="1396800"/>
              <a:ext cx="81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533840" y="1466640"/>
              <a:ext cx="222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7559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751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0086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113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2624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36724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44032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589720" y="1466640"/>
              <a:ext cx="133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811840" y="1466640"/>
              <a:ext cx="1382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95008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127560" y="1403280"/>
              <a:ext cx="7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202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43896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58800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72156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2632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90084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09596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30260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391520" y="15541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585200" y="1400040"/>
              <a:ext cx="193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77888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92648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04528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8192880" y="15541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0508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04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708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93032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093760" y="19699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24136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4494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3836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71620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03048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022560" y="2103480"/>
              <a:ext cx="1062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03048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168720" y="1942920"/>
              <a:ext cx="1220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33540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53520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63996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606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02444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17348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37976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543560" y="207324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82580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033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19588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464080" y="19890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664240" y="19699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767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8968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15168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30072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50880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67224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953400" y="201456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16112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3540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44808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1800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3006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41332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14528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164200" y="247500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720" bIns="33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sy7"/>
                </a:rPr>
                <a:t>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330880" y="2482920"/>
              <a:ext cx="1062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308720" y="1942920"/>
              <a:ext cx="1224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505640" y="2000160"/>
              <a:ext cx="208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81992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12000" y="2103480"/>
              <a:ext cx="1065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81992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958160" y="214308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539640" y="1076400"/>
              <a:ext cx="7728120" cy="1560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Uncertainty Relation for One Qubi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1997" name=""/>
          <p:cNvGrpSpPr/>
          <p:nvPr/>
        </p:nvGrpSpPr>
        <p:grpSpPr>
          <a:xfrm>
            <a:off x="5135400" y="3433680"/>
            <a:ext cx="719280" cy="720720"/>
            <a:chOff x="5135400" y="3433680"/>
            <a:chExt cx="719280" cy="720720"/>
          </a:xfrm>
        </p:grpSpPr>
        <p:sp>
          <p:nvSpPr>
            <p:cNvPr id="1998" name=""/>
            <p:cNvSpPr/>
            <p:nvPr/>
          </p:nvSpPr>
          <p:spPr>
            <a:xfrm>
              <a:off x="5135400" y="343368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5495760" y="3506760"/>
              <a:ext cx="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07040" y="3794040"/>
              <a:ext cx="57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1" name=""/>
          <p:cNvGrpSpPr/>
          <p:nvPr/>
        </p:nvGrpSpPr>
        <p:grpSpPr>
          <a:xfrm>
            <a:off x="5135400" y="4584600"/>
            <a:ext cx="719280" cy="720720"/>
            <a:chOff x="5135400" y="4584600"/>
            <a:chExt cx="719280" cy="720720"/>
          </a:xfrm>
        </p:grpSpPr>
        <p:sp>
          <p:nvSpPr>
            <p:cNvPr id="2002" name=""/>
            <p:cNvSpPr/>
            <p:nvPr/>
          </p:nvSpPr>
          <p:spPr>
            <a:xfrm>
              <a:off x="5135400" y="458460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5294880" y="474048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290920" y="4741200"/>
              <a:ext cx="408240" cy="4060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5" name=""/>
          <p:cNvSpPr/>
          <p:nvPr/>
        </p:nvSpPr>
        <p:spPr>
          <a:xfrm>
            <a:off x="1104840" y="3489480"/>
            <a:ext cx="2879640" cy="28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6" name=""/>
          <p:cNvGrpSpPr/>
          <p:nvPr/>
        </p:nvGrpSpPr>
        <p:grpSpPr>
          <a:xfrm>
            <a:off x="901800" y="3249720"/>
            <a:ext cx="3311280" cy="3263760"/>
            <a:chOff x="901800" y="3249720"/>
            <a:chExt cx="3311280" cy="3263760"/>
          </a:xfrm>
        </p:grpSpPr>
        <p:sp>
          <p:nvSpPr>
            <p:cNvPr id="2007" name=""/>
            <p:cNvSpPr/>
            <p:nvPr/>
          </p:nvSpPr>
          <p:spPr>
            <a:xfrm rot="16200000">
              <a:off x="916200" y="4801320"/>
              <a:ext cx="3263760" cy="160200"/>
            </a:xfrm>
            <a:prstGeom prst="rightArrow">
              <a:avLst>
                <a:gd name="adj1" fmla="val 26741"/>
                <a:gd name="adj2" fmla="val 12987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01800" y="4854600"/>
              <a:ext cx="3311280" cy="146160"/>
            </a:xfrm>
            <a:prstGeom prst="rightArrow">
              <a:avLst>
                <a:gd name="adj1" fmla="val 30435"/>
                <a:gd name="adj2" fmla="val 13572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9" name=""/>
          <p:cNvSpPr/>
          <p:nvPr/>
        </p:nvSpPr>
        <p:spPr>
          <a:xfrm flipH="1">
            <a:off x="3564000" y="3916440"/>
            <a:ext cx="1440" cy="1023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H="1" flipV="1">
            <a:off x="2555640" y="3931920"/>
            <a:ext cx="974520" cy="3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4284720" y="4724280"/>
            <a:ext cx="647640" cy="412920"/>
            <a:chOff x="4284720" y="4724280"/>
            <a:chExt cx="647640" cy="412920"/>
          </a:xfrm>
        </p:grpSpPr>
        <p:sp>
          <p:nvSpPr>
            <p:cNvPr id="2012" name=""/>
            <p:cNvSpPr/>
            <p:nvPr/>
          </p:nvSpPr>
          <p:spPr>
            <a:xfrm>
              <a:off x="4284720" y="472572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86240" y="476388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66960" y="472572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708440" y="494820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84720" y="472428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"/>
          <p:cNvGrpSpPr/>
          <p:nvPr/>
        </p:nvGrpSpPr>
        <p:grpSpPr>
          <a:xfrm>
            <a:off x="2340000" y="2779560"/>
            <a:ext cx="647640" cy="412920"/>
            <a:chOff x="2340000" y="2779560"/>
            <a:chExt cx="647640" cy="412920"/>
          </a:xfrm>
        </p:grpSpPr>
        <p:sp>
          <p:nvSpPr>
            <p:cNvPr id="2018" name=""/>
            <p:cNvSpPr/>
            <p:nvPr/>
          </p:nvSpPr>
          <p:spPr>
            <a:xfrm>
              <a:off x="2340000" y="278100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441520" y="281916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622240" y="278100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763720" y="300348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40000" y="277956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863640" y="3273480"/>
            <a:ext cx="650880" cy="412560"/>
            <a:chOff x="863640" y="3273480"/>
            <a:chExt cx="650880" cy="412560"/>
          </a:xfrm>
        </p:grpSpPr>
        <p:sp>
          <p:nvSpPr>
            <p:cNvPr id="2024" name=""/>
            <p:cNvSpPr/>
            <p:nvPr/>
          </p:nvSpPr>
          <p:spPr>
            <a:xfrm>
              <a:off x="863640" y="327456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965160" y="331272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145880" y="327456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87360" y="3497040"/>
              <a:ext cx="227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863640" y="3273480"/>
              <a:ext cx="65088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3781440" y="3417840"/>
            <a:ext cx="650880" cy="412920"/>
            <a:chOff x="3781440" y="3417840"/>
            <a:chExt cx="650880" cy="412920"/>
          </a:xfrm>
        </p:grpSpPr>
        <p:sp>
          <p:nvSpPr>
            <p:cNvPr id="2030" name=""/>
            <p:cNvSpPr/>
            <p:nvPr/>
          </p:nvSpPr>
          <p:spPr>
            <a:xfrm>
              <a:off x="3781440" y="34192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882960" y="34574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063680" y="34192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205160" y="364176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781440" y="341784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1305360" y="3688920"/>
            <a:ext cx="2472120" cy="2458800"/>
            <a:chOff x="1305360" y="3688920"/>
            <a:chExt cx="2472120" cy="2458800"/>
          </a:xfrm>
        </p:grpSpPr>
        <p:sp>
          <p:nvSpPr>
            <p:cNvPr id="2036" name=""/>
            <p:cNvSpPr/>
            <p:nvPr/>
          </p:nvSpPr>
          <p:spPr>
            <a:xfrm rot="13500000">
              <a:off x="884160" y="4818960"/>
              <a:ext cx="3263760" cy="160200"/>
            </a:xfrm>
            <a:prstGeom prst="rightArrow">
              <a:avLst>
                <a:gd name="adj1" fmla="val 26741"/>
                <a:gd name="adj2" fmla="val 12987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8900000">
              <a:off x="899280" y="4852080"/>
              <a:ext cx="3311280" cy="146160"/>
            </a:xfrm>
            <a:prstGeom prst="rightArrow">
              <a:avLst>
                <a:gd name="adj1" fmla="val 30435"/>
                <a:gd name="adj2" fmla="val 13572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8" name=""/>
          <p:cNvSpPr/>
          <p:nvPr/>
        </p:nvSpPr>
        <p:spPr>
          <a:xfrm flipV="1">
            <a:off x="2540880" y="3900240"/>
            <a:ext cx="1029600" cy="10360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999040" y="4603680"/>
            <a:ext cx="2163960" cy="349200"/>
            <a:chOff x="5999040" y="4603680"/>
            <a:chExt cx="2163960" cy="349200"/>
          </a:xfrm>
        </p:grpSpPr>
        <p:sp>
          <p:nvSpPr>
            <p:cNvPr id="2040" name=""/>
            <p:cNvSpPr/>
            <p:nvPr/>
          </p:nvSpPr>
          <p:spPr>
            <a:xfrm>
              <a:off x="5999040" y="46274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237360" y="47163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373800" y="4605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470640" y="46274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883200" y="4738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251480" y="46418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426080" y="4605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19760" y="4738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988040" y="46418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999040" y="4603680"/>
              <a:ext cx="21621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"/>
          <p:cNvGrpSpPr/>
          <p:nvPr/>
        </p:nvGrpSpPr>
        <p:grpSpPr>
          <a:xfrm>
            <a:off x="5999040" y="5095800"/>
            <a:ext cx="2163960" cy="349200"/>
            <a:chOff x="5999040" y="5095800"/>
            <a:chExt cx="2163960" cy="349200"/>
          </a:xfrm>
        </p:grpSpPr>
        <p:sp>
          <p:nvSpPr>
            <p:cNvPr id="2051" name=""/>
            <p:cNvSpPr/>
            <p:nvPr/>
          </p:nvSpPr>
          <p:spPr>
            <a:xfrm>
              <a:off x="5999040" y="511956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237360" y="520848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373800" y="509724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70640" y="511956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883200" y="523080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251480" y="513396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426080" y="509724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619760" y="523080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988040" y="513396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99040" y="5095800"/>
              <a:ext cx="21621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1" name=""/>
          <p:cNvGrpSpPr/>
          <p:nvPr/>
        </p:nvGrpSpPr>
        <p:grpSpPr>
          <a:xfrm>
            <a:off x="6021360" y="3379680"/>
            <a:ext cx="2511360" cy="349200"/>
            <a:chOff x="6021360" y="3379680"/>
            <a:chExt cx="2511360" cy="349200"/>
          </a:xfrm>
        </p:grpSpPr>
        <p:sp>
          <p:nvSpPr>
            <p:cNvPr id="2062" name=""/>
            <p:cNvSpPr/>
            <p:nvPr/>
          </p:nvSpPr>
          <p:spPr>
            <a:xfrm>
              <a:off x="6021360" y="34034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259680" y="34923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96120" y="3381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492960" y="34034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905520" y="3514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273800" y="34178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7448400" y="33811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642080" y="35146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010360" y="34178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8185320" y="3381120"/>
              <a:ext cx="174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8358120" y="34178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21360" y="3379680"/>
              <a:ext cx="25113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4" name=""/>
          <p:cNvGrpSpPr/>
          <p:nvPr/>
        </p:nvGrpSpPr>
        <p:grpSpPr>
          <a:xfrm>
            <a:off x="6021360" y="3824280"/>
            <a:ext cx="2511360" cy="349200"/>
            <a:chOff x="6021360" y="3824280"/>
            <a:chExt cx="2511360" cy="349200"/>
          </a:xfrm>
        </p:grpSpPr>
        <p:sp>
          <p:nvSpPr>
            <p:cNvPr id="2075" name=""/>
            <p:cNvSpPr/>
            <p:nvPr/>
          </p:nvSpPr>
          <p:spPr>
            <a:xfrm>
              <a:off x="6021360" y="3848040"/>
              <a:ext cx="2365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P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59680" y="3936960"/>
              <a:ext cx="13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396120" y="38257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492960" y="3848040"/>
              <a:ext cx="28872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905520" y="39592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273800" y="38624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48400" y="3825720"/>
              <a:ext cx="968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642080" y="3959280"/>
              <a:ext cx="27144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9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8010360" y="3862440"/>
              <a:ext cx="17496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8185320" y="3825720"/>
              <a:ext cx="1746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0280" bIns="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mi10"/>
                  <a:ea typeface="Arial"/>
                </a:rPr>
                <a:t>=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8358120" y="3862440"/>
              <a:ext cx="17460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r10"/>
                  <a:ea typeface="Arial"/>
                </a:rPr>
                <a:t>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021360" y="3824280"/>
              <a:ext cx="2511360" cy="349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7" name=""/>
          <p:cNvGrpSpPr/>
          <p:nvPr/>
        </p:nvGrpSpPr>
        <p:grpSpPr>
          <a:xfrm>
            <a:off x="2916360" y="4221000"/>
            <a:ext cx="5927400" cy="417600"/>
            <a:chOff x="2916360" y="4221000"/>
            <a:chExt cx="5927400" cy="417600"/>
          </a:xfrm>
        </p:grpSpPr>
        <p:sp>
          <p:nvSpPr>
            <p:cNvPr id="2088" name=""/>
            <p:cNvSpPr/>
            <p:nvPr/>
          </p:nvSpPr>
          <p:spPr>
            <a:xfrm>
              <a:off x="2916360" y="4437000"/>
              <a:ext cx="32544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5960" bIns="-86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332160" y="4335120"/>
              <a:ext cx="243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575160" y="4317840"/>
              <a:ext cx="1220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575160" y="453996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5128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976560" y="43351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271760" y="4341600"/>
              <a:ext cx="1605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538520" y="431316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19600" y="43351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97196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187960" y="4236840"/>
              <a:ext cx="160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348160" y="4246200"/>
              <a:ext cx="25884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607000" y="4236840"/>
              <a:ext cx="258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400720" y="44002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-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56200" y="441612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224400" y="4412880"/>
              <a:ext cx="9072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640" bIns="-34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386400" y="4335120"/>
              <a:ext cx="2430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62940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56480" y="433512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024680" y="445608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223040" y="4313160"/>
              <a:ext cx="90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404120" y="433512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7656480" y="445608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764480" y="4313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7981920" y="434952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324640" y="441612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518320" y="4313160"/>
              <a:ext cx="16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682120" y="4348080"/>
              <a:ext cx="161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916360" y="4221000"/>
              <a:ext cx="5927400" cy="417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274680" y="2852640"/>
            <a:ext cx="2209680" cy="3078360"/>
            <a:chOff x="274680" y="2852640"/>
            <a:chExt cx="2209680" cy="3078360"/>
          </a:xfrm>
        </p:grpSpPr>
        <p:sp>
          <p:nvSpPr>
            <p:cNvPr id="2118" name=""/>
            <p:cNvSpPr/>
            <p:nvPr/>
          </p:nvSpPr>
          <p:spPr>
            <a:xfrm>
              <a:off x="274680" y="2852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06600" y="290196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93880" y="2941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076400" y="299880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743120" y="297000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849680" y="292104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955880" y="297000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092320" y="292104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98880" y="297000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4604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82840" y="325764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95240" y="338760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17640" y="325764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12860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65400" y="323532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960560" y="329868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4680" y="351936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92080" y="500040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92080" y="51102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92080" y="52196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4680" y="59148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82600" y="2859120"/>
              <a:ext cx="2201760" cy="3071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Quantum Uncertainty Relation needed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141" name=""/>
          <p:cNvGrpSpPr/>
          <p:nvPr/>
        </p:nvGrpSpPr>
        <p:grpSpPr>
          <a:xfrm>
            <a:off x="972360" y="3483720"/>
            <a:ext cx="611280" cy="610920"/>
            <a:chOff x="972360" y="3483720"/>
            <a:chExt cx="611280" cy="610920"/>
          </a:xfrm>
        </p:grpSpPr>
        <p:sp>
          <p:nvSpPr>
            <p:cNvPr id="2142" name=""/>
            <p:cNvSpPr/>
            <p:nvPr/>
          </p:nvSpPr>
          <p:spPr>
            <a:xfrm rot="2700000">
              <a:off x="1062000" y="357300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1163160" y="36500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 flipV="1">
              <a:off x="1137600" y="36496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5" name=""/>
          <p:cNvGrpSpPr/>
          <p:nvPr/>
        </p:nvGrpSpPr>
        <p:grpSpPr>
          <a:xfrm>
            <a:off x="1062000" y="4038480"/>
            <a:ext cx="431640" cy="431640"/>
            <a:chOff x="1062000" y="4038480"/>
            <a:chExt cx="431640" cy="431640"/>
          </a:xfrm>
        </p:grpSpPr>
        <p:sp>
          <p:nvSpPr>
            <p:cNvPr id="2146" name=""/>
            <p:cNvSpPr/>
            <p:nvPr/>
          </p:nvSpPr>
          <p:spPr>
            <a:xfrm>
              <a:off x="1062000" y="40384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 flipV="1">
              <a:off x="1277280" y="40586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1141200" y="42537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9" name=""/>
          <p:cNvGrpSpPr/>
          <p:nvPr/>
        </p:nvGrpSpPr>
        <p:grpSpPr>
          <a:xfrm>
            <a:off x="414360" y="3573360"/>
            <a:ext cx="431640" cy="431640"/>
            <a:chOff x="414360" y="3573360"/>
            <a:chExt cx="431640" cy="431640"/>
          </a:xfrm>
        </p:grpSpPr>
        <p:sp>
          <p:nvSpPr>
            <p:cNvPr id="2150" name=""/>
            <p:cNvSpPr/>
            <p:nvPr/>
          </p:nvSpPr>
          <p:spPr>
            <a:xfrm>
              <a:off x="414360" y="3573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 flipH="1" flipV="1">
              <a:off x="629640" y="3593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493560" y="3788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324720" y="3955680"/>
            <a:ext cx="610560" cy="610560"/>
            <a:chOff x="324720" y="3955680"/>
            <a:chExt cx="610560" cy="610560"/>
          </a:xfrm>
        </p:grpSpPr>
        <p:sp>
          <p:nvSpPr>
            <p:cNvPr id="2154" name=""/>
            <p:cNvSpPr/>
            <p:nvPr/>
          </p:nvSpPr>
          <p:spPr>
            <a:xfrm rot="2700000">
              <a:off x="414000" y="40449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514800" y="41212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 flipV="1">
              <a:off x="489960" y="41209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7" name=""/>
          <p:cNvSpPr/>
          <p:nvPr/>
        </p:nvSpPr>
        <p:spPr>
          <a:xfrm>
            <a:off x="611280" y="34290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93640" y="39146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250920" y="6093000"/>
            <a:ext cx="2141280" cy="325440"/>
            <a:chOff x="250920" y="6093000"/>
            <a:chExt cx="2141280" cy="325440"/>
          </a:xfrm>
        </p:grpSpPr>
        <p:sp>
          <p:nvSpPr>
            <p:cNvPr id="2160" name=""/>
            <p:cNvSpPr/>
            <p:nvPr/>
          </p:nvSpPr>
          <p:spPr>
            <a:xfrm>
              <a:off x="250920" y="611676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95360" y="628992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70040" y="609480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96760" y="611676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80880" y="609480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461960" y="611676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714320" y="609480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930320" y="613116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238480" y="6112080"/>
              <a:ext cx="153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50920" y="6093000"/>
              <a:ext cx="21398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0" name=""/>
          <p:cNvSpPr/>
          <p:nvPr/>
        </p:nvSpPr>
        <p:spPr>
          <a:xfrm>
            <a:off x="3422520" y="621360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1" name=""/>
          <p:cNvGrpSpPr/>
          <p:nvPr/>
        </p:nvGrpSpPr>
        <p:grpSpPr>
          <a:xfrm>
            <a:off x="1854360" y="3573360"/>
            <a:ext cx="436320" cy="2287800"/>
            <a:chOff x="1854360" y="3573360"/>
            <a:chExt cx="436320" cy="2287800"/>
          </a:xfrm>
        </p:grpSpPr>
        <p:sp>
          <p:nvSpPr>
            <p:cNvPr id="2172" name=""/>
            <p:cNvSpPr/>
            <p:nvPr/>
          </p:nvSpPr>
          <p:spPr>
            <a:xfrm>
              <a:off x="1854360" y="3573360"/>
              <a:ext cx="43164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 flipV="1">
              <a:off x="2069640" y="3594240"/>
              <a:ext cx="1800" cy="35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54360" y="4059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2069640" y="4079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1859040" y="4518000"/>
              <a:ext cx="431640" cy="432000"/>
              <a:chOff x="1859040" y="4518000"/>
              <a:chExt cx="431640" cy="432000"/>
            </a:xfrm>
          </p:grpSpPr>
          <p:sp>
            <p:nvSpPr>
              <p:cNvPr id="2177" name=""/>
              <p:cNvSpPr/>
              <p:nvPr/>
            </p:nvSpPr>
            <p:spPr>
              <a:xfrm>
                <a:off x="1859040" y="4518000"/>
                <a:ext cx="431640" cy="43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2074320" y="4538880"/>
                <a:ext cx="1080" cy="3585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9" name=""/>
            <p:cNvGrpSpPr/>
            <p:nvPr/>
          </p:nvGrpSpPr>
          <p:grpSpPr>
            <a:xfrm>
              <a:off x="1859040" y="4975200"/>
              <a:ext cx="431640" cy="432000"/>
              <a:chOff x="1859040" y="4975200"/>
              <a:chExt cx="431640" cy="432000"/>
            </a:xfrm>
          </p:grpSpPr>
          <p:sp>
            <p:nvSpPr>
              <p:cNvPr id="2180" name=""/>
              <p:cNvSpPr/>
              <p:nvPr/>
            </p:nvSpPr>
            <p:spPr>
              <a:xfrm>
                <a:off x="1859040" y="4975200"/>
                <a:ext cx="431640" cy="43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flipV="1">
                <a:off x="2074320" y="4996080"/>
                <a:ext cx="1080" cy="3585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2" name=""/>
            <p:cNvGrpSpPr/>
            <p:nvPr/>
          </p:nvGrpSpPr>
          <p:grpSpPr>
            <a:xfrm>
              <a:off x="1859040" y="5429160"/>
              <a:ext cx="431640" cy="432000"/>
              <a:chOff x="1859040" y="5429160"/>
              <a:chExt cx="431640" cy="432000"/>
            </a:xfrm>
          </p:grpSpPr>
          <p:sp>
            <p:nvSpPr>
              <p:cNvPr id="2183" name=""/>
              <p:cNvSpPr/>
              <p:nvPr/>
            </p:nvSpPr>
            <p:spPr>
              <a:xfrm>
                <a:off x="1859040" y="5429160"/>
                <a:ext cx="431640" cy="4320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2074320" y="5450040"/>
                <a:ext cx="1080" cy="3585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5" name=""/>
          <p:cNvGrpSpPr/>
          <p:nvPr/>
        </p:nvGrpSpPr>
        <p:grpSpPr>
          <a:xfrm>
            <a:off x="2916360" y="3789360"/>
            <a:ext cx="2219040" cy="289080"/>
            <a:chOff x="2916360" y="3789360"/>
            <a:chExt cx="2219040" cy="289080"/>
          </a:xfrm>
        </p:grpSpPr>
        <p:sp>
          <p:nvSpPr>
            <p:cNvPr id="2186" name=""/>
            <p:cNvSpPr/>
            <p:nvPr/>
          </p:nvSpPr>
          <p:spPr>
            <a:xfrm>
              <a:off x="2916360" y="379404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86000" y="391500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402000" y="3799080"/>
              <a:ext cx="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92360" y="387504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673440" y="378936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852720" y="3875040"/>
              <a:ext cx="144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97440" y="3875040"/>
              <a:ext cx="180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87880" y="387504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332240" y="387504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511520" y="378936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692600" y="387504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836960" y="387504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008680" y="3816360"/>
              <a:ext cx="12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916360" y="3789360"/>
              <a:ext cx="2217600" cy="2890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24360" y="5229360"/>
            <a:ext cx="3672000" cy="1152360"/>
          </a:xfrm>
          <a:prstGeom prst="wedgeRoundRectCallout">
            <a:avLst>
              <a:gd name="adj1" fmla="val -36898"/>
              <a:gd name="adj2" fmla="val -115013"/>
              <a:gd name="adj3" fmla="val 16667"/>
            </a:avLst>
          </a:prstGeom>
          <a:solidFill>
            <a:srgbClr val="9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1" name=""/>
          <p:cNvGrpSpPr/>
          <p:nvPr/>
        </p:nvGrpSpPr>
        <p:grpSpPr>
          <a:xfrm>
            <a:off x="4211640" y="5373720"/>
            <a:ext cx="2354400" cy="325440"/>
            <a:chOff x="4211640" y="5373720"/>
            <a:chExt cx="2354400" cy="325440"/>
          </a:xfrm>
        </p:grpSpPr>
        <p:sp>
          <p:nvSpPr>
            <p:cNvPr id="2202" name=""/>
            <p:cNvSpPr/>
            <p:nvPr/>
          </p:nvSpPr>
          <p:spPr>
            <a:xfrm>
              <a:off x="4211640" y="54198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500720" y="5373720"/>
              <a:ext cx="90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75320" y="5487840"/>
              <a:ext cx="889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757760" y="552132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094360" y="54198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57880" y="5541840"/>
              <a:ext cx="127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500800" y="56037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643720" y="56037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785200" y="5603760"/>
              <a:ext cx="8856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926320" y="56037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69240" y="56037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210360" y="54198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475680" y="5537160"/>
              <a:ext cx="90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211640" y="5373720"/>
              <a:ext cx="235440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4213080" y="5877000"/>
            <a:ext cx="3203640" cy="279360"/>
            <a:chOff x="4213080" y="5877000"/>
            <a:chExt cx="3203640" cy="279360"/>
          </a:xfrm>
        </p:grpSpPr>
        <p:sp>
          <p:nvSpPr>
            <p:cNvPr id="2217" name=""/>
            <p:cNvSpPr/>
            <p:nvPr/>
          </p:nvSpPr>
          <p:spPr>
            <a:xfrm>
              <a:off x="4213080" y="58770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570560" y="5945040"/>
              <a:ext cx="889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653000" y="597852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989600" y="5877000"/>
              <a:ext cx="2649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278320" y="5883120"/>
              <a:ext cx="1573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540400" y="597852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878440" y="58770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141960" y="5999040"/>
              <a:ext cx="1270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284880" y="60609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27800" y="60609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569280" y="6060960"/>
              <a:ext cx="8856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710400" y="6060960"/>
              <a:ext cx="8892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853320" y="6060960"/>
              <a:ext cx="8892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994440" y="5877000"/>
              <a:ext cx="265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257960" y="6046920"/>
              <a:ext cx="15732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213080" y="5877000"/>
              <a:ext cx="3203640" cy="279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2916360" y="3068640"/>
            <a:ext cx="2017080" cy="369720"/>
            <a:chOff x="2916360" y="3068640"/>
            <a:chExt cx="2017080" cy="369720"/>
          </a:xfrm>
        </p:grpSpPr>
        <p:sp>
          <p:nvSpPr>
            <p:cNvPr id="2234" name=""/>
            <p:cNvSpPr/>
            <p:nvPr/>
          </p:nvSpPr>
          <p:spPr>
            <a:xfrm>
              <a:off x="2916360" y="3119040"/>
              <a:ext cx="232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14928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2716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287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719160" y="309852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89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335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23684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444920" y="3133440"/>
              <a:ext cx="2408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809960" y="306864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02040" y="3252600"/>
              <a:ext cx="12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09960" y="329868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916360" y="3068640"/>
              <a:ext cx="2015640" cy="369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7" name=""/>
          <p:cNvSpPr/>
          <p:nvPr/>
        </p:nvSpPr>
        <p:spPr>
          <a:xfrm>
            <a:off x="3343320" y="1906560"/>
            <a:ext cx="1789200" cy="36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539640" y="1076400"/>
            <a:ext cx="7728120" cy="1560240"/>
            <a:chOff x="539640" y="1076400"/>
            <a:chExt cx="7728120" cy="1560240"/>
          </a:xfrm>
        </p:grpSpPr>
        <p:sp>
          <p:nvSpPr>
            <p:cNvPr id="2249" name=""/>
            <p:cNvSpPr/>
            <p:nvPr/>
          </p:nvSpPr>
          <p:spPr>
            <a:xfrm>
              <a:off x="539640" y="1079640"/>
              <a:ext cx="29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830160" y="11444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979560" y="11444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1286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251000" y="11444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371600" y="11444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51272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785960" y="10796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020680" y="107784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±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278080" y="11444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48000" y="1077840"/>
              <a:ext cx="162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71296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67040" y="10904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019320" y="11444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360600" y="1081080"/>
              <a:ext cx="16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52728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6464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838680" y="1147680"/>
              <a:ext cx="137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976560" y="117936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15440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30992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518000" y="114768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741920" y="1090440"/>
              <a:ext cx="133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875120" y="1147680"/>
              <a:ext cx="88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964040" y="114768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105520" y="114768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253120" y="10778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00720" y="10843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47524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68920" y="114768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73680" y="10983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78440" y="114768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012000" y="1098360"/>
              <a:ext cx="102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14960" y="11476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34120" y="12351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3964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59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909720" y="1438200"/>
              <a:ext cx="177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087560" y="1495440"/>
              <a:ext cx="160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336680" y="138096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47168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67796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797120" y="14256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004840" y="138096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138400" y="15541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301840" y="14000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522520" y="15001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70036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512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5272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16080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29400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443400" y="14176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5463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65520" y="14666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798720" y="1466640"/>
              <a:ext cx="222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2120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2289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362480" y="1396800"/>
              <a:ext cx="81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533840" y="1466640"/>
              <a:ext cx="222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755960" y="14666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87512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0086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113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26248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36724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44032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589720" y="1466640"/>
              <a:ext cx="133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811840" y="1466640"/>
              <a:ext cx="1382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5008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127560" y="1403280"/>
              <a:ext cx="7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20244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43896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588000" y="14666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72156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826320" y="14032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900840" y="14666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7095960" y="14000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7302600" y="15001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391520" y="15541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585200" y="1400040"/>
              <a:ext cx="193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778880" y="13968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7926480" y="14666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045280" y="14666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192880" y="15541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40508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04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708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93032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093760" y="19699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24136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4494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3836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71620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03048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022560" y="2103480"/>
              <a:ext cx="1062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03048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168720" y="1942920"/>
              <a:ext cx="1220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335400" y="19890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53520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63996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86064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02444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7348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379760" y="20876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43560" y="207324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2580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3388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195880" y="20145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464080" y="19890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664240" y="19699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67200" y="1989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98968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151680" y="1969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300720" y="1989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508800" y="20876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672240" y="20732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953400" y="201456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161120" y="1969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33540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44808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1800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0064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13320" y="23320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145280" y="23162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64200" y="247500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720" bIns="33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sy7"/>
                </a:rPr>
                <a:t>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330880" y="2482920"/>
              <a:ext cx="10620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308720" y="1942920"/>
              <a:ext cx="1224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505640" y="2000160"/>
              <a:ext cx="208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819920" y="194472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812000" y="2103480"/>
              <a:ext cx="1065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19920" y="2143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958160" y="214308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9640" y="1076400"/>
              <a:ext cx="7728120" cy="1560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3" name=""/>
          <p:cNvGrpSpPr/>
          <p:nvPr/>
        </p:nvGrpSpPr>
        <p:grpSpPr>
          <a:xfrm>
            <a:off x="1711440" y="3578400"/>
            <a:ext cx="665280" cy="2260440"/>
            <a:chOff x="1711440" y="3578400"/>
            <a:chExt cx="665280" cy="2260440"/>
          </a:xfrm>
        </p:grpSpPr>
        <p:grpSp>
          <p:nvGrpSpPr>
            <p:cNvPr id="2384" name=""/>
            <p:cNvGrpSpPr/>
            <p:nvPr/>
          </p:nvGrpSpPr>
          <p:grpSpPr>
            <a:xfrm>
              <a:off x="1711440" y="4010040"/>
              <a:ext cx="647280" cy="431640"/>
              <a:chOff x="1711440" y="4010040"/>
              <a:chExt cx="647280" cy="431640"/>
            </a:xfrm>
          </p:grpSpPr>
          <p:sp>
            <p:nvSpPr>
              <p:cNvPr id="2385" name=""/>
              <p:cNvSpPr/>
              <p:nvPr/>
            </p:nvSpPr>
            <p:spPr>
              <a:xfrm>
                <a:off x="1711440" y="40100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 flipV="1">
                <a:off x="2034360" y="40302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flipV="1">
                <a:off x="1830240" y="42260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1858680" y="40294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H="1" flipV="1">
                <a:off x="1883880" y="40950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1770480" y="4369680"/>
              <a:ext cx="602280" cy="618480"/>
              <a:chOff x="1770480" y="4369680"/>
              <a:chExt cx="602280" cy="618480"/>
            </a:xfrm>
          </p:grpSpPr>
          <p:sp>
            <p:nvSpPr>
              <p:cNvPr id="2391" name=""/>
              <p:cNvSpPr/>
              <p:nvPr/>
            </p:nvSpPr>
            <p:spPr>
              <a:xfrm rot="19923600">
                <a:off x="1855440" y="44431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H="1" flipV="1">
                <a:off x="1971000" y="4490640"/>
                <a:ext cx="185040" cy="3452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V="1">
                <a:off x="1951560" y="4593600"/>
                <a:ext cx="281520" cy="15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2022120" y="4497480"/>
                <a:ext cx="104400" cy="339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flipH="1" flipV="1">
                <a:off x="1866600" y="4623840"/>
                <a:ext cx="380160" cy="109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6" name=""/>
            <p:cNvSpPr/>
            <p:nvPr/>
          </p:nvSpPr>
          <p:spPr>
            <a:xfrm>
              <a:off x="1855800" y="35784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 flipV="1">
              <a:off x="2071800" y="35985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 rot="2700000">
              <a:off x="1855080" y="49467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 flipV="1">
              <a:off x="1931760" y="50241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0" name=""/>
            <p:cNvGrpSpPr/>
            <p:nvPr/>
          </p:nvGrpSpPr>
          <p:grpSpPr>
            <a:xfrm>
              <a:off x="1855800" y="5407200"/>
              <a:ext cx="431640" cy="431640"/>
              <a:chOff x="1855800" y="5407200"/>
              <a:chExt cx="431640" cy="431640"/>
            </a:xfrm>
          </p:grpSpPr>
          <p:sp>
            <p:nvSpPr>
              <p:cNvPr id="2401" name=""/>
              <p:cNvSpPr/>
              <p:nvPr/>
            </p:nvSpPr>
            <p:spPr>
              <a:xfrm>
                <a:off x="1855800" y="540720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flipV="1">
                <a:off x="2071080" y="542736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1935000" y="562320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1953720" y="548928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flipV="1">
                <a:off x="1928520" y="549108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6" name=""/>
          <p:cNvSpPr/>
          <p:nvPr/>
        </p:nvSpPr>
        <p:spPr>
          <a:xfrm>
            <a:off x="5580000" y="2708280"/>
            <a:ext cx="3313080" cy="649440"/>
          </a:xfrm>
          <a:prstGeom prst="wedgeRoundRectCallout">
            <a:avLst>
              <a:gd name="adj1" fmla="val -106111"/>
              <a:gd name="adj2" fmla="val 192787"/>
              <a:gd name="adj3" fmla="val 16667"/>
            </a:avLst>
          </a:prstGeom>
          <a:solidFill>
            <a:srgbClr val="9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5724360" y="2924280"/>
            <a:ext cx="3013200" cy="284040"/>
            <a:chOff x="5724360" y="2924280"/>
            <a:chExt cx="3013200" cy="284040"/>
          </a:xfrm>
        </p:grpSpPr>
        <p:sp>
          <p:nvSpPr>
            <p:cNvPr id="2408" name=""/>
            <p:cNvSpPr/>
            <p:nvPr/>
          </p:nvSpPr>
          <p:spPr>
            <a:xfrm>
              <a:off x="5724360" y="3008520"/>
              <a:ext cx="141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865840" y="3008520"/>
              <a:ext cx="1681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033960" y="3008520"/>
              <a:ext cx="141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176880" y="3008520"/>
              <a:ext cx="141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318360" y="3008520"/>
              <a:ext cx="17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6496200" y="2949840"/>
              <a:ext cx="1238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726240" y="3008520"/>
              <a:ext cx="230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w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956280" y="2932200"/>
              <a:ext cx="889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45200" y="2949840"/>
              <a:ext cx="12384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169040" y="2924280"/>
              <a:ext cx="1778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53440" y="3008520"/>
              <a:ext cx="17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629480" y="3008520"/>
              <a:ext cx="1256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r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755120" y="3008520"/>
              <a:ext cx="160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913520" y="2924280"/>
              <a:ext cx="1778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8197920" y="294336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sy10"/>
                </a:rPr>
                <a:t>·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588520" y="3008520"/>
              <a:ext cx="1490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"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724360" y="2924280"/>
              <a:ext cx="3013200" cy="2840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5" name=""/>
          <p:cNvGrpSpPr/>
          <p:nvPr/>
        </p:nvGrpSpPr>
        <p:grpSpPr>
          <a:xfrm>
            <a:off x="274680" y="2852640"/>
            <a:ext cx="2209680" cy="3078360"/>
            <a:chOff x="274680" y="2852640"/>
            <a:chExt cx="2209680" cy="3078360"/>
          </a:xfrm>
        </p:grpSpPr>
        <p:sp>
          <p:nvSpPr>
            <p:cNvPr id="2426" name=""/>
            <p:cNvSpPr/>
            <p:nvPr/>
          </p:nvSpPr>
          <p:spPr>
            <a:xfrm>
              <a:off x="274680" y="2852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06600" y="290196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893880" y="2941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076400" y="299880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743120" y="297000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849680" y="292104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55880" y="297000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092320" y="292104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198880" y="297000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4604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2840" y="325764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95240" y="338760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17640" y="325764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128600" y="3211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265400" y="323532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960560" y="329868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74680" y="351936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92080" y="500040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92080" y="51102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92080" y="52196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74680" y="59148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282600" y="2859120"/>
              <a:ext cx="2201760" cy="3071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8" name=""/>
          <p:cNvSpPr/>
          <p:nvPr/>
        </p:nvSpPr>
        <p:spPr>
          <a:xfrm>
            <a:off x="1668600" y="3213000"/>
            <a:ext cx="718920" cy="18716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Main Result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324000" y="1341360"/>
            <a:ext cx="431640" cy="431640"/>
            <a:chOff x="324000" y="1341360"/>
            <a:chExt cx="431640" cy="431640"/>
          </a:xfrm>
        </p:grpSpPr>
        <p:sp>
          <p:nvSpPr>
            <p:cNvPr id="2451" name=""/>
            <p:cNvSpPr/>
            <p:nvPr/>
          </p:nvSpPr>
          <p:spPr>
            <a:xfrm>
              <a:off x="324000" y="1341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H="1" flipV="1">
              <a:off x="539280" y="1361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>
              <a:off x="403200" y="1556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4" name=""/>
          <p:cNvGrpSpPr/>
          <p:nvPr/>
        </p:nvGrpSpPr>
        <p:grpSpPr>
          <a:xfrm>
            <a:off x="234000" y="1701360"/>
            <a:ext cx="610920" cy="610560"/>
            <a:chOff x="234000" y="1701360"/>
            <a:chExt cx="610920" cy="610560"/>
          </a:xfrm>
        </p:grpSpPr>
        <p:sp>
          <p:nvSpPr>
            <p:cNvPr id="2455" name=""/>
            <p:cNvSpPr/>
            <p:nvPr/>
          </p:nvSpPr>
          <p:spPr>
            <a:xfrm rot="2700000">
              <a:off x="323280" y="179064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424440" y="186732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 flipV="1">
              <a:off x="399600" y="186696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972360" y="3483720"/>
            <a:ext cx="611280" cy="610920"/>
            <a:chOff x="972360" y="3483720"/>
            <a:chExt cx="611280" cy="610920"/>
          </a:xfrm>
        </p:grpSpPr>
        <p:sp>
          <p:nvSpPr>
            <p:cNvPr id="2459" name=""/>
            <p:cNvSpPr/>
            <p:nvPr/>
          </p:nvSpPr>
          <p:spPr>
            <a:xfrm rot="2700000">
              <a:off x="1062000" y="357300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V="1">
              <a:off x="1163160" y="36500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 flipV="1">
              <a:off x="1137600" y="36496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1062000" y="4038480"/>
            <a:ext cx="431640" cy="431640"/>
            <a:chOff x="1062000" y="4038480"/>
            <a:chExt cx="431640" cy="431640"/>
          </a:xfrm>
        </p:grpSpPr>
        <p:sp>
          <p:nvSpPr>
            <p:cNvPr id="2463" name=""/>
            <p:cNvSpPr/>
            <p:nvPr/>
          </p:nvSpPr>
          <p:spPr>
            <a:xfrm>
              <a:off x="1062000" y="40384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 flipV="1">
              <a:off x="1277280" y="40586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1141200" y="42537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6" name=""/>
          <p:cNvGrpSpPr/>
          <p:nvPr/>
        </p:nvGrpSpPr>
        <p:grpSpPr>
          <a:xfrm>
            <a:off x="414360" y="3573360"/>
            <a:ext cx="431640" cy="431640"/>
            <a:chOff x="414360" y="3573360"/>
            <a:chExt cx="431640" cy="431640"/>
          </a:xfrm>
        </p:grpSpPr>
        <p:sp>
          <p:nvSpPr>
            <p:cNvPr id="2467" name=""/>
            <p:cNvSpPr/>
            <p:nvPr/>
          </p:nvSpPr>
          <p:spPr>
            <a:xfrm>
              <a:off x="414360" y="3573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H="1" flipV="1">
              <a:off x="629640" y="3593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V="1">
              <a:off x="493560" y="3788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324720" y="3955680"/>
            <a:ext cx="610560" cy="610560"/>
            <a:chOff x="324720" y="3955680"/>
            <a:chExt cx="610560" cy="610560"/>
          </a:xfrm>
        </p:grpSpPr>
        <p:sp>
          <p:nvSpPr>
            <p:cNvPr id="2471" name=""/>
            <p:cNvSpPr/>
            <p:nvPr/>
          </p:nvSpPr>
          <p:spPr>
            <a:xfrm rot="2700000">
              <a:off x="414000" y="40449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V="1">
              <a:off x="514800" y="41212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 flipV="1">
              <a:off x="489960" y="41209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611280" y="34290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93640" y="391464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6" name=""/>
          <p:cNvGrpSpPr/>
          <p:nvPr/>
        </p:nvGrpSpPr>
        <p:grpSpPr>
          <a:xfrm>
            <a:off x="250920" y="6093000"/>
            <a:ext cx="2141280" cy="325440"/>
            <a:chOff x="250920" y="6093000"/>
            <a:chExt cx="2141280" cy="325440"/>
          </a:xfrm>
        </p:grpSpPr>
        <p:sp>
          <p:nvSpPr>
            <p:cNvPr id="2477" name=""/>
            <p:cNvSpPr/>
            <p:nvPr/>
          </p:nvSpPr>
          <p:spPr>
            <a:xfrm>
              <a:off x="250920" y="611676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95360" y="628992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70040" y="609480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896760" y="611676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280880" y="609480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461960" y="611676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714320" y="609480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930320" y="613116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238480" y="6112080"/>
              <a:ext cx="153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50920" y="6093000"/>
              <a:ext cx="21398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3422520" y="621360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8" name=""/>
          <p:cNvGrpSpPr/>
          <p:nvPr/>
        </p:nvGrpSpPr>
        <p:grpSpPr>
          <a:xfrm>
            <a:off x="826920" y="1197000"/>
            <a:ext cx="7728120" cy="1560240"/>
            <a:chOff x="826920" y="1197000"/>
            <a:chExt cx="7728120" cy="1560240"/>
          </a:xfrm>
        </p:grpSpPr>
        <p:sp>
          <p:nvSpPr>
            <p:cNvPr id="2489" name=""/>
            <p:cNvSpPr/>
            <p:nvPr/>
          </p:nvSpPr>
          <p:spPr>
            <a:xfrm>
              <a:off x="826920" y="1200240"/>
              <a:ext cx="29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117440" y="12650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266840" y="12650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415880" y="12650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538280" y="126504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658880" y="12650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800000" y="1265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073240" y="12002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307960" y="1198440"/>
              <a:ext cx="255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±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65360" y="1265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35280" y="1198440"/>
              <a:ext cx="162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000240" y="12110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154320" y="1211040"/>
              <a:ext cx="15408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306600" y="12650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47880" y="1201680"/>
              <a:ext cx="166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814560" y="12682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933720" y="12189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125960" y="1268280"/>
              <a:ext cx="1378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263840" y="129996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441680" y="11984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597200" y="12682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805280" y="126828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029200" y="1211040"/>
              <a:ext cx="133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62400" y="1268280"/>
              <a:ext cx="88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51320" y="1268280"/>
              <a:ext cx="1414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392800" y="126828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540400" y="119844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688000" y="12049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762520" y="12189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956200" y="126828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060960" y="1218960"/>
              <a:ext cx="1033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165720" y="126828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6299280" y="1218960"/>
              <a:ext cx="1029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6402240" y="126828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521400" y="13557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826920" y="15206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033200" y="16207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197000" y="1558800"/>
              <a:ext cx="1778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374840" y="1616040"/>
              <a:ext cx="1602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623960" y="150156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758960" y="15462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965240" y="16747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084400" y="15462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292120" y="150156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425680" y="16747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589120" y="1520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809800" y="1620720"/>
              <a:ext cx="76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987640" y="15382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092400" y="15174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40000" y="15872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448080" y="15872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8128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730680" y="153828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833640" y="15872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952800" y="1587240"/>
              <a:ext cx="133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086000" y="1587240"/>
              <a:ext cx="222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308480" y="15872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516200" y="15872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649760" y="1517400"/>
              <a:ext cx="810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821120" y="1587240"/>
              <a:ext cx="222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043240" y="1587240"/>
              <a:ext cx="119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162400" y="15872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29596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40072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54976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654520" y="15238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72760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877000" y="1587240"/>
              <a:ext cx="1332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099120" y="1587240"/>
              <a:ext cx="1382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237360" y="16207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414840" y="1523880"/>
              <a:ext cx="74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972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726240" y="15174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875280" y="158724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00884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113600" y="152388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188120" y="158724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383240" y="152064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589880" y="1620720"/>
              <a:ext cx="759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678800" y="16747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872480" y="1520640"/>
              <a:ext cx="193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8066160" y="1517400"/>
              <a:ext cx="147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8213760" y="1587240"/>
              <a:ext cx="118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8332560" y="1587240"/>
              <a:ext cx="1476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480160" y="16747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728720" y="21096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928880" y="2090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033640" y="2109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54320" y="22082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17760" y="2090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65360" y="21096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773440" y="2208240"/>
              <a:ext cx="7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62000" y="2090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039840" y="21938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354480" y="206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346200" y="2224080"/>
              <a:ext cx="1080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354480" y="226368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494160" y="2063520"/>
              <a:ext cx="1220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660840" y="21096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860640" y="2090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963960" y="2109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18608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348080" y="2090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497480" y="21096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70520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868640" y="21938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149800" y="21351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357880" y="2090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21320" y="213516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788080" y="210960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987880" y="2090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092640" y="2109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31332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476760" y="20905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624720" y="21096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832440" y="2208240"/>
              <a:ext cx="76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995880" y="219384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277040" y="213516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485120" y="2090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60840" y="24368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773520" y="24526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505480" y="24368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624280" y="2436840"/>
              <a:ext cx="1209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736960" y="2452680"/>
              <a:ext cx="1724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469280" y="243684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87840" y="2595600"/>
              <a:ext cx="16668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6720" bIns="33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sy7"/>
                </a:rPr>
                <a:t>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654520" y="2603520"/>
              <a:ext cx="10656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634160" y="2063520"/>
              <a:ext cx="12240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7756560" y="2120760"/>
              <a:ext cx="207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8070840" y="206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062920" y="2224080"/>
              <a:ext cx="106200" cy="0"/>
            </a:xfrm>
            <a:prstGeom prst="line">
              <a:avLst/>
            </a:prstGeom>
            <a:ln w="10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8070840" y="226368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8208720" y="2263680"/>
              <a:ext cx="7488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826920" y="1197000"/>
              <a:ext cx="7728120" cy="1560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3" name=""/>
          <p:cNvGrpSpPr/>
          <p:nvPr/>
        </p:nvGrpSpPr>
        <p:grpSpPr>
          <a:xfrm>
            <a:off x="1709640" y="4048200"/>
            <a:ext cx="647280" cy="431640"/>
            <a:chOff x="1709640" y="4048200"/>
            <a:chExt cx="647280" cy="431640"/>
          </a:xfrm>
        </p:grpSpPr>
        <p:sp>
          <p:nvSpPr>
            <p:cNvPr id="2624" name=""/>
            <p:cNvSpPr/>
            <p:nvPr/>
          </p:nvSpPr>
          <p:spPr>
            <a:xfrm>
              <a:off x="1709640" y="4048200"/>
              <a:ext cx="64728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 flipV="1">
              <a:off x="2032560" y="406836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 flipV="1">
              <a:off x="1828440" y="4264200"/>
              <a:ext cx="478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V="1">
              <a:off x="1856880" y="4067640"/>
              <a:ext cx="376560" cy="376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 flipH="1" flipV="1">
              <a:off x="1882080" y="413316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9" name=""/>
          <p:cNvGrpSpPr/>
          <p:nvPr/>
        </p:nvGrpSpPr>
        <p:grpSpPr>
          <a:xfrm>
            <a:off x="1769040" y="4407840"/>
            <a:ext cx="601920" cy="618480"/>
            <a:chOff x="1769040" y="4407840"/>
            <a:chExt cx="601920" cy="618480"/>
          </a:xfrm>
        </p:grpSpPr>
        <p:sp>
          <p:nvSpPr>
            <p:cNvPr id="2630" name=""/>
            <p:cNvSpPr/>
            <p:nvPr/>
          </p:nvSpPr>
          <p:spPr>
            <a:xfrm rot="19923600">
              <a:off x="1854000" y="4481280"/>
              <a:ext cx="431640" cy="47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 flipV="1">
              <a:off x="1969920" y="4528800"/>
              <a:ext cx="185040" cy="345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1950480" y="4631760"/>
              <a:ext cx="281160" cy="15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 flipV="1">
              <a:off x="2020680" y="4535280"/>
              <a:ext cx="104400" cy="33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>
              <a:off x="1865880" y="4662000"/>
              <a:ext cx="379800" cy="109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5" name=""/>
          <p:cNvSpPr/>
          <p:nvPr/>
        </p:nvSpPr>
        <p:spPr>
          <a:xfrm>
            <a:off x="1836720" y="5445000"/>
            <a:ext cx="431640" cy="43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H="1" flipV="1">
            <a:off x="2052720" y="5465880"/>
            <a:ext cx="1440" cy="358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rot="2700000">
            <a:off x="1854000" y="49849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 flipH="1" flipV="1">
            <a:off x="1930320" y="5062320"/>
            <a:ext cx="26064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9" name=""/>
          <p:cNvGrpSpPr/>
          <p:nvPr/>
        </p:nvGrpSpPr>
        <p:grpSpPr>
          <a:xfrm>
            <a:off x="1816200" y="3573360"/>
            <a:ext cx="431640" cy="431640"/>
            <a:chOff x="1816200" y="3573360"/>
            <a:chExt cx="431640" cy="431640"/>
          </a:xfrm>
        </p:grpSpPr>
        <p:sp>
          <p:nvSpPr>
            <p:cNvPr id="2640" name=""/>
            <p:cNvSpPr/>
            <p:nvPr/>
          </p:nvSpPr>
          <p:spPr>
            <a:xfrm>
              <a:off x="1816200" y="3573360"/>
              <a:ext cx="4316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H="1" flipV="1">
              <a:off x="2031480" y="3593520"/>
              <a:ext cx="180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1895400" y="3789360"/>
              <a:ext cx="319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V="1">
              <a:off x="1914120" y="3655440"/>
              <a:ext cx="25128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 flipV="1">
              <a:off x="1888920" y="3657240"/>
              <a:ext cx="26064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5" name=""/>
          <p:cNvGrpSpPr/>
          <p:nvPr/>
        </p:nvGrpSpPr>
        <p:grpSpPr>
          <a:xfrm>
            <a:off x="2916360" y="3716280"/>
            <a:ext cx="1947600" cy="289080"/>
            <a:chOff x="2916360" y="3716280"/>
            <a:chExt cx="1947600" cy="289080"/>
          </a:xfrm>
        </p:grpSpPr>
        <p:sp>
          <p:nvSpPr>
            <p:cNvPr id="2646" name=""/>
            <p:cNvSpPr/>
            <p:nvPr/>
          </p:nvSpPr>
          <p:spPr>
            <a:xfrm>
              <a:off x="2916360" y="3720960"/>
              <a:ext cx="2682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186000" y="3841920"/>
              <a:ext cx="921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402000" y="371628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583080" y="380196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27440" y="3801960"/>
              <a:ext cx="181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916440" y="380196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4060800" y="380196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4241880" y="3716280"/>
              <a:ext cx="1807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4421160" y="380196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4565520" y="380196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736880" y="3743280"/>
              <a:ext cx="12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916360" y="3716280"/>
              <a:ext cx="1946160" cy="2890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2916360" y="3068640"/>
            <a:ext cx="2017080" cy="369720"/>
            <a:chOff x="2916360" y="3068640"/>
            <a:chExt cx="2017080" cy="369720"/>
          </a:xfrm>
        </p:grpSpPr>
        <p:sp>
          <p:nvSpPr>
            <p:cNvPr id="2659" name=""/>
            <p:cNvSpPr/>
            <p:nvPr/>
          </p:nvSpPr>
          <p:spPr>
            <a:xfrm>
              <a:off x="2916360" y="3119040"/>
              <a:ext cx="232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314928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2716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35287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719160" y="309852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89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1335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23684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444920" y="3133440"/>
              <a:ext cx="2408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809960" y="306864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802040" y="3252600"/>
              <a:ext cx="12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09960" y="329868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916360" y="3068640"/>
              <a:ext cx="2015640" cy="369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2" name=""/>
          <p:cNvGrpSpPr/>
          <p:nvPr/>
        </p:nvGrpSpPr>
        <p:grpSpPr>
          <a:xfrm>
            <a:off x="2987640" y="4221000"/>
            <a:ext cx="5319720" cy="1733400"/>
            <a:chOff x="2987640" y="4221000"/>
            <a:chExt cx="5319720" cy="1733400"/>
          </a:xfrm>
        </p:grpSpPr>
        <p:sp>
          <p:nvSpPr>
            <p:cNvPr id="2673" name=""/>
            <p:cNvSpPr/>
            <p:nvPr/>
          </p:nvSpPr>
          <p:spPr>
            <a:xfrm>
              <a:off x="2987640" y="4224240"/>
              <a:ext cx="230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18040" y="42890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387600" y="42890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53700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70044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81960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989520" y="4289040"/>
              <a:ext cx="255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21160" y="42242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5624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827600" y="428904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964040" y="4289040"/>
              <a:ext cx="1414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105520" y="4289040"/>
              <a:ext cx="127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23080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351400" y="42890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500800" y="42224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585040" y="42890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74668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857920" y="4289040"/>
              <a:ext cx="162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195960" y="4224240"/>
              <a:ext cx="230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426360" y="42890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566040" y="42224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651720" y="42890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800760" y="42382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919920" y="42224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005600" y="4289040"/>
              <a:ext cx="154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159680" y="42890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329600" y="42890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940880" y="4225680"/>
              <a:ext cx="168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8094600" y="429228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8218440" y="424296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2987640" y="4544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303720" y="46288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3584520" y="45255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689280" y="4544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3909960" y="464796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030560" y="46987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149720" y="46987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267080" y="4698720"/>
              <a:ext cx="7488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386240" y="46987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05400" y="46987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624560" y="45446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845240" y="4687560"/>
              <a:ext cx="13176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991040" y="45255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189760" y="4541400"/>
              <a:ext cx="122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29920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518080" y="45622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607000" y="45414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742000" y="461124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961240" y="46112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097680" y="4611240"/>
              <a:ext cx="142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240600" y="45622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32952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438960" y="46112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575400" y="4611240"/>
              <a:ext cx="219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9464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916680" y="469872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121520" y="4544640"/>
              <a:ext cx="19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311960" y="45414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448760" y="46112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572600" y="461124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721640" y="469872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02240" y="51336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802400" y="5117760"/>
              <a:ext cx="1015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802400" y="530028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027760" y="5114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5132520" y="51336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448240" y="51145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5597640" y="51336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5803920" y="5114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983200" y="5121000"/>
              <a:ext cx="208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264360" y="520020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424560" y="511452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558120" y="514332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3083040" y="5787720"/>
              <a:ext cx="177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26088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3341880" y="573840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430800" y="571788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3662280" y="578772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3882960" y="57877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032360" y="578772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141800" y="5787720"/>
              <a:ext cx="122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265640" y="57178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3404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15040" y="5787720"/>
              <a:ext cx="1220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3888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619520" y="5717880"/>
              <a:ext cx="122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743360" y="57178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811760" y="578772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029200" y="57276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111640" y="57877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357880" y="578772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518080" y="587520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987640" y="4221000"/>
              <a:ext cx="5319720" cy="1733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6" name=""/>
          <p:cNvGrpSpPr/>
          <p:nvPr/>
        </p:nvGrpSpPr>
        <p:grpSpPr>
          <a:xfrm>
            <a:off x="2916360" y="3068640"/>
            <a:ext cx="5666760" cy="369720"/>
            <a:chOff x="2916360" y="3068640"/>
            <a:chExt cx="5666760" cy="369720"/>
          </a:xfrm>
        </p:grpSpPr>
        <p:sp>
          <p:nvSpPr>
            <p:cNvPr id="2767" name=""/>
            <p:cNvSpPr/>
            <p:nvPr/>
          </p:nvSpPr>
          <p:spPr>
            <a:xfrm>
              <a:off x="2916360" y="3119040"/>
              <a:ext cx="232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14928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2716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5287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719160" y="309852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389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133520" y="32349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236840" y="3298680"/>
              <a:ext cx="853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960" bIns="59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375080" y="3119040"/>
              <a:ext cx="25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57680" y="3074760"/>
              <a:ext cx="8676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74480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93992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165640" y="3217680"/>
              <a:ext cx="24084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0920" bIns="-83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5493960" y="3196800"/>
              <a:ext cx="17748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671800" y="30747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75928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95296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092640" y="3298680"/>
              <a:ext cx="853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960" bIns="59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230880" y="3119040"/>
              <a:ext cx="2408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73520" y="307476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56100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75612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981480" y="3217680"/>
              <a:ext cx="2412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0920" bIns="-83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310160" y="3114360"/>
              <a:ext cx="145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464240" y="3074760"/>
              <a:ext cx="8676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553160" y="3084120"/>
              <a:ext cx="193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46840" y="307800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886520" y="3098520"/>
              <a:ext cx="12024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8094600" y="3133440"/>
              <a:ext cx="24084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8459640" y="306864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8451720" y="3252600"/>
              <a:ext cx="1234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8459640" y="3298680"/>
              <a:ext cx="123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916360" y="3068640"/>
              <a:ext cx="5665320" cy="369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5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Main Technical Lemma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01" name=""/>
          <p:cNvSpPr/>
          <p:nvPr/>
        </p:nvSpPr>
        <p:spPr>
          <a:xfrm>
            <a:off x="3422520" y="621360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2" name=""/>
          <p:cNvGrpSpPr/>
          <p:nvPr/>
        </p:nvGrpSpPr>
        <p:grpSpPr>
          <a:xfrm>
            <a:off x="1650960" y="1557360"/>
            <a:ext cx="5849640" cy="325440"/>
            <a:chOff x="1650960" y="1557360"/>
            <a:chExt cx="5849640" cy="325440"/>
          </a:xfrm>
        </p:grpSpPr>
        <p:sp>
          <p:nvSpPr>
            <p:cNvPr id="2803" name=""/>
            <p:cNvSpPr/>
            <p:nvPr/>
          </p:nvSpPr>
          <p:spPr>
            <a:xfrm>
              <a:off x="1650960" y="1581120"/>
              <a:ext cx="222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873080" y="1704960"/>
              <a:ext cx="1299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019240" y="17686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163600" y="1768680"/>
              <a:ext cx="9036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307960" y="1768680"/>
              <a:ext cx="907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452320" y="1768680"/>
              <a:ext cx="907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97040" y="1768680"/>
              <a:ext cx="9036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1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2739960" y="1581120"/>
              <a:ext cx="2221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962080" y="1754280"/>
              <a:ext cx="160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247920" y="155916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37320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55428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698640" y="1662120"/>
              <a:ext cx="181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61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88764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032000" y="166212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21308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39236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536720" y="1662120"/>
              <a:ext cx="181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8440" y="1603440"/>
              <a:ext cx="12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835160" y="155916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5070240" y="1662120"/>
              <a:ext cx="127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197320" y="1662120"/>
              <a:ext cx="162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5359320" y="1662120"/>
              <a:ext cx="18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54004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719680" y="1662120"/>
              <a:ext cx="161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883120" y="1662120"/>
              <a:ext cx="270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6260760" y="1662120"/>
              <a:ext cx="171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414840" y="1662120"/>
              <a:ext cx="162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6576840" y="1662120"/>
              <a:ext cx="1270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703920" y="1586160"/>
              <a:ext cx="9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794280" y="1662120"/>
              <a:ext cx="1620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957720" y="1576440"/>
              <a:ext cx="1810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137360" y="1576440"/>
              <a:ext cx="90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227720" y="1662120"/>
              <a:ext cx="14436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372080" y="1662120"/>
              <a:ext cx="1285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650960" y="1557360"/>
              <a:ext cx="584820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"/>
          <p:cNvGrpSpPr/>
          <p:nvPr/>
        </p:nvGrpSpPr>
        <p:grpSpPr>
          <a:xfrm>
            <a:off x="1650960" y="2781360"/>
            <a:ext cx="5945400" cy="314280"/>
            <a:chOff x="1650960" y="2781360"/>
            <a:chExt cx="5945400" cy="314280"/>
          </a:xfrm>
        </p:grpSpPr>
        <p:sp>
          <p:nvSpPr>
            <p:cNvPr id="2840" name=""/>
            <p:cNvSpPr/>
            <p:nvPr/>
          </p:nvSpPr>
          <p:spPr>
            <a:xfrm>
              <a:off x="1650960" y="2803680"/>
              <a:ext cx="2271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878120" y="2800440"/>
              <a:ext cx="174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054160" y="2883240"/>
              <a:ext cx="1396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2193840" y="2883240"/>
              <a:ext cx="174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368440" y="2986200"/>
              <a:ext cx="874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560680" y="2803680"/>
              <a:ext cx="236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2797200" y="2787840"/>
              <a:ext cx="119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797200" y="3002040"/>
              <a:ext cx="25092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063960" y="2783160"/>
              <a:ext cx="1220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774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187800" y="2803680"/>
              <a:ext cx="2142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3424320" y="2783160"/>
              <a:ext cx="12204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4720" bIns="774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635280" y="2789280"/>
              <a:ext cx="244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12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3967200" y="2883240"/>
              <a:ext cx="1890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226040" y="2878200"/>
              <a:ext cx="871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-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sy10"/>
                </a:rPr>
                <a:t>¢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383000" y="2800440"/>
              <a:ext cx="1810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670640" y="2883240"/>
              <a:ext cx="2268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897440" y="2808360"/>
              <a:ext cx="87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984920" y="2824200"/>
              <a:ext cx="1220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108760" y="2800440"/>
              <a:ext cx="174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388120" y="2883240"/>
              <a:ext cx="147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"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640480" y="2883240"/>
              <a:ext cx="174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815080" y="2883240"/>
              <a:ext cx="1396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54760" y="2883240"/>
              <a:ext cx="157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112080" y="2800440"/>
              <a:ext cx="871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201000" y="2808360"/>
              <a:ext cx="87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288120" y="2883240"/>
              <a:ext cx="157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445440" y="2808360"/>
              <a:ext cx="87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532560" y="2800440"/>
              <a:ext cx="174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707160" y="2800440"/>
              <a:ext cx="874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794640" y="2883240"/>
              <a:ext cx="13968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040520" y="2808360"/>
              <a:ext cx="87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128000" y="2883240"/>
              <a:ext cx="1746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407360" y="2883240"/>
              <a:ext cx="18900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650960" y="2781360"/>
              <a:ext cx="5945400" cy="314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4" name=""/>
          <p:cNvGrpSpPr/>
          <p:nvPr/>
        </p:nvGrpSpPr>
        <p:grpSpPr>
          <a:xfrm>
            <a:off x="1650960" y="2060640"/>
            <a:ext cx="4089600" cy="334800"/>
            <a:chOff x="1650960" y="2060640"/>
            <a:chExt cx="4089600" cy="334800"/>
          </a:xfrm>
        </p:grpSpPr>
        <p:sp>
          <p:nvSpPr>
            <p:cNvPr id="2875" name=""/>
            <p:cNvSpPr/>
            <p:nvPr/>
          </p:nvSpPr>
          <p:spPr>
            <a:xfrm>
              <a:off x="1650960" y="2184120"/>
              <a:ext cx="2239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876320" y="2111400"/>
              <a:ext cx="856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59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62000" y="2127240"/>
              <a:ext cx="12096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00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084400" y="2101680"/>
              <a:ext cx="17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360520" y="2106360"/>
              <a:ext cx="2332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593800" y="2085840"/>
              <a:ext cx="1209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714760" y="2106360"/>
              <a:ext cx="212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927520" y="222228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116160" y="2085840"/>
              <a:ext cx="8568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289320" y="2106360"/>
              <a:ext cx="212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3524400" y="2062080"/>
              <a:ext cx="871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3611520" y="2071440"/>
              <a:ext cx="1936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3806640" y="2065320"/>
              <a:ext cx="1238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032360" y="2205000"/>
              <a:ext cx="241200" cy="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0920" bIns="-83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360680" y="2184120"/>
              <a:ext cx="1447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18000" y="2062080"/>
              <a:ext cx="874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606920" y="2071440"/>
              <a:ext cx="1936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284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800600" y="2065320"/>
              <a:ext cx="1238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940280" y="2085840"/>
              <a:ext cx="1206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1120" bIns="75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148360" y="2120760"/>
              <a:ext cx="2412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40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477040" y="2101680"/>
              <a:ext cx="17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cmmi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654520" y="2286000"/>
              <a:ext cx="86040" cy="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650960" y="2060640"/>
              <a:ext cx="4089600" cy="334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1042920" y="3645000"/>
            <a:ext cx="6699240" cy="1352520"/>
            <a:chOff x="1042920" y="3645000"/>
            <a:chExt cx="6699240" cy="1352520"/>
          </a:xfrm>
        </p:grpSpPr>
        <p:sp>
          <p:nvSpPr>
            <p:cNvPr id="2899" name=""/>
            <p:cNvSpPr/>
            <p:nvPr/>
          </p:nvSpPr>
          <p:spPr>
            <a:xfrm>
              <a:off x="1042920" y="3648240"/>
              <a:ext cx="2142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257120" y="3714840"/>
              <a:ext cx="13032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387440" y="3714840"/>
              <a:ext cx="1569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552320" y="3714840"/>
              <a:ext cx="15732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711080" y="3646800"/>
              <a:ext cx="968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806480" y="3714840"/>
              <a:ext cx="874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452600" y="4262760"/>
              <a:ext cx="136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6200" bIns="-288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727280" y="4200840"/>
              <a:ext cx="75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801800" y="4266000"/>
              <a:ext cx="152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954080" y="4194360"/>
              <a:ext cx="84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03832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174760" y="4266000"/>
              <a:ext cx="106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281320" y="4266000"/>
              <a:ext cx="2286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50992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646360" y="421668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752560" y="4200840"/>
              <a:ext cx="76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82888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965320" y="4266000"/>
              <a:ext cx="15228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3208320" y="421668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314520" y="4194360"/>
              <a:ext cx="152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467160" y="4266000"/>
              <a:ext cx="1220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589200" y="426600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725640" y="4266000"/>
              <a:ext cx="1065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832200" y="4266000"/>
              <a:ext cx="1443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452600" y="4808880"/>
              <a:ext cx="13644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6200" bIns="-288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727280" y="4811760"/>
              <a:ext cx="13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863720" y="4811760"/>
              <a:ext cx="122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984320" y="48117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136600" y="4811760"/>
              <a:ext cx="122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259000" y="4811760"/>
              <a:ext cx="1062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365200" y="48117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501640" y="4740480"/>
              <a:ext cx="763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577960" y="4746960"/>
              <a:ext cx="76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654280" y="4811760"/>
              <a:ext cx="122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776320" y="4811760"/>
              <a:ext cx="122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896920" y="4740480"/>
              <a:ext cx="152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139920" y="4743720"/>
              <a:ext cx="1969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338280" y="4740480"/>
              <a:ext cx="1526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490920" y="4811760"/>
              <a:ext cx="122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11520" y="4811760"/>
              <a:ext cx="1062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719520" y="48117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70360" y="48117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008240" y="4740480"/>
              <a:ext cx="160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®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257720" y="47404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17920" y="48117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554360" y="4811760"/>
              <a:ext cx="152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707000" y="48117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859280" y="47404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102280" y="4724640"/>
              <a:ext cx="1062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5208480" y="4741920"/>
              <a:ext cx="237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446440" y="4808880"/>
              <a:ext cx="14004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5586480" y="4808880"/>
              <a:ext cx="174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761080" y="4808880"/>
              <a:ext cx="26172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022800" y="4808880"/>
              <a:ext cx="15264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280200" y="4740480"/>
              <a:ext cx="87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367320" y="4808880"/>
              <a:ext cx="174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41920" y="4808880"/>
              <a:ext cx="1443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686280" y="4808880"/>
              <a:ext cx="167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853320" y="4808880"/>
              <a:ext cx="17460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27920" y="4808880"/>
              <a:ext cx="15228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180200" y="4740480"/>
              <a:ext cx="87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267320" y="4740480"/>
              <a:ext cx="87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354800" y="4756320"/>
              <a:ext cx="12240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3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468920" y="4808880"/>
              <a:ext cx="1670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2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634160" y="4724640"/>
              <a:ext cx="1065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1042920" y="3645000"/>
              <a:ext cx="6699240" cy="1352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5" name=""/>
          <p:cNvGrpSpPr/>
          <p:nvPr/>
        </p:nvGrpSpPr>
        <p:grpSpPr>
          <a:xfrm>
            <a:off x="395280" y="4221000"/>
            <a:ext cx="2209680" cy="2597040"/>
            <a:chOff x="395280" y="4221000"/>
            <a:chExt cx="2209680" cy="2597040"/>
          </a:xfrm>
        </p:grpSpPr>
        <p:sp>
          <p:nvSpPr>
            <p:cNvPr id="2966" name=""/>
            <p:cNvSpPr/>
            <p:nvPr/>
          </p:nvSpPr>
          <p:spPr>
            <a:xfrm>
              <a:off x="395280" y="42210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27200" y="427032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1014480" y="430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1197000" y="436716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863720" y="433836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1970280" y="4289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76480" y="433836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212920" y="428940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319480" y="433836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66640" y="4579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03440" y="462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915840" y="4755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1038240" y="4626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249200" y="4579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386000" y="4603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081160" y="466704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95280" y="488772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012680" y="634500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012680" y="64548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012680" y="65642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95280" y="68022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03200" y="4227480"/>
              <a:ext cx="2201760" cy="2590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Proof of Quantum Uncertainty Relation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2989" name=""/>
          <p:cNvGrpSpPr/>
          <p:nvPr/>
        </p:nvGrpSpPr>
        <p:grpSpPr>
          <a:xfrm>
            <a:off x="774720" y="2133720"/>
            <a:ext cx="1852560" cy="306360"/>
            <a:chOff x="774720" y="2133720"/>
            <a:chExt cx="1852560" cy="306360"/>
          </a:xfrm>
        </p:grpSpPr>
        <p:sp>
          <p:nvSpPr>
            <p:cNvPr id="2990" name=""/>
            <p:cNvSpPr/>
            <p:nvPr/>
          </p:nvSpPr>
          <p:spPr>
            <a:xfrm>
              <a:off x="774720" y="2154240"/>
              <a:ext cx="2095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984240" y="226872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1152720" y="221940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230480" y="2252880"/>
              <a:ext cx="2379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280" bIns="-79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554120" y="2133720"/>
              <a:ext cx="11916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675080" y="2154240"/>
              <a:ext cx="2538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928880" y="226872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30400" y="2332080"/>
              <a:ext cx="860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167200" y="2154240"/>
              <a:ext cx="237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405160" y="226872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508480" y="2133720"/>
              <a:ext cx="1188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74720" y="2133720"/>
              <a:ext cx="1852560" cy="306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2" name=""/>
          <p:cNvSpPr/>
          <p:nvPr/>
        </p:nvSpPr>
        <p:spPr>
          <a:xfrm>
            <a:off x="7667640" y="3933720"/>
            <a:ext cx="144360" cy="14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3" name=""/>
          <p:cNvGrpSpPr/>
          <p:nvPr/>
        </p:nvGrpSpPr>
        <p:grpSpPr>
          <a:xfrm>
            <a:off x="611280" y="1579680"/>
            <a:ext cx="4998960" cy="352440"/>
            <a:chOff x="611280" y="1579680"/>
            <a:chExt cx="4998960" cy="352440"/>
          </a:xfrm>
        </p:grpSpPr>
        <p:sp>
          <p:nvSpPr>
            <p:cNvPr id="3004" name=""/>
            <p:cNvSpPr/>
            <p:nvPr/>
          </p:nvSpPr>
          <p:spPr>
            <a:xfrm>
              <a:off x="611280" y="1627200"/>
              <a:ext cx="3240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935280" y="1627200"/>
              <a:ext cx="261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197000" y="1698840"/>
              <a:ext cx="954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503360" y="1701720"/>
              <a:ext cx="1526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756080" y="1638360"/>
              <a:ext cx="147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0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903680" y="1701720"/>
              <a:ext cx="98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001960" y="1701720"/>
              <a:ext cx="155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157480" y="1701720"/>
              <a:ext cx="165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322720" y="1623960"/>
              <a:ext cx="164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486160" y="1631880"/>
              <a:ext cx="82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68600" y="1648080"/>
              <a:ext cx="11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783160" y="1701720"/>
              <a:ext cx="1173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899080" y="164808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014640" y="1701720"/>
              <a:ext cx="1479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162600" y="164808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278520" y="1701720"/>
              <a:ext cx="1317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08480" y="1701720"/>
              <a:ext cx="824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3622680" y="162720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845160" y="1608120"/>
              <a:ext cx="1141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3959280" y="1627200"/>
              <a:ext cx="244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  <a:ea typeface="Arial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205520" y="173988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419720" y="1608120"/>
              <a:ext cx="824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584960" y="1627200"/>
              <a:ext cx="230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815000" y="173988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946760" y="1608120"/>
              <a:ext cx="114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145120" y="164160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492880" y="1579680"/>
              <a:ext cx="1173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492880" y="1755720"/>
              <a:ext cx="117360" cy="0"/>
            </a:xfrm>
            <a:prstGeom prst="line">
              <a:avLst/>
            </a:prstGeom>
            <a:ln w="118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5492880" y="179856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1280" y="1579680"/>
              <a:ext cx="4998960" cy="352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1830240" y="5398920"/>
            <a:ext cx="647640" cy="431640"/>
            <a:chOff x="1830240" y="5398920"/>
            <a:chExt cx="647640" cy="431640"/>
          </a:xfrm>
        </p:grpSpPr>
        <p:sp>
          <p:nvSpPr>
            <p:cNvPr id="3035" name=""/>
            <p:cNvSpPr/>
            <p:nvPr/>
          </p:nvSpPr>
          <p:spPr>
            <a:xfrm>
              <a:off x="1830240" y="5398920"/>
              <a:ext cx="6476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 flipV="1">
              <a:off x="2153160" y="541908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1949040" y="5614920"/>
              <a:ext cx="4791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V="1">
              <a:off x="1977480" y="5418000"/>
              <a:ext cx="376920" cy="376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 flipV="1">
              <a:off x="2002680" y="548388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0" name=""/>
          <p:cNvGrpSpPr/>
          <p:nvPr/>
        </p:nvGrpSpPr>
        <p:grpSpPr>
          <a:xfrm>
            <a:off x="1889640" y="5758560"/>
            <a:ext cx="602280" cy="618480"/>
            <a:chOff x="1889640" y="5758560"/>
            <a:chExt cx="602280" cy="618480"/>
          </a:xfrm>
        </p:grpSpPr>
        <p:sp>
          <p:nvSpPr>
            <p:cNvPr id="3041" name=""/>
            <p:cNvSpPr/>
            <p:nvPr/>
          </p:nvSpPr>
          <p:spPr>
            <a:xfrm rot="19923600">
              <a:off x="1974600" y="5832000"/>
              <a:ext cx="431640" cy="47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 flipV="1">
              <a:off x="2090160" y="5879520"/>
              <a:ext cx="185040" cy="345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V="1">
              <a:off x="2070720" y="5982480"/>
              <a:ext cx="281520" cy="15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2141280" y="5886360"/>
              <a:ext cx="104400" cy="33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 flipV="1">
              <a:off x="1985760" y="6012720"/>
              <a:ext cx="380160" cy="109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6" name=""/>
          <p:cNvSpPr/>
          <p:nvPr/>
        </p:nvSpPr>
        <p:spPr>
          <a:xfrm>
            <a:off x="1974960" y="496728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H="1" flipV="1">
            <a:off x="2190240" y="4987440"/>
            <a:ext cx="1800" cy="358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 rot="2700000">
            <a:off x="1974240" y="6335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 flipH="1" flipV="1">
            <a:off x="2050920" y="6413040"/>
            <a:ext cx="26028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0" name=""/>
          <p:cNvGrpSpPr/>
          <p:nvPr/>
        </p:nvGrpSpPr>
        <p:grpSpPr>
          <a:xfrm>
            <a:off x="1093320" y="4877640"/>
            <a:ext cx="610920" cy="610560"/>
            <a:chOff x="1093320" y="4877640"/>
            <a:chExt cx="610920" cy="610560"/>
          </a:xfrm>
        </p:grpSpPr>
        <p:sp>
          <p:nvSpPr>
            <p:cNvPr id="3051" name=""/>
            <p:cNvSpPr/>
            <p:nvPr/>
          </p:nvSpPr>
          <p:spPr>
            <a:xfrm rot="2700000">
              <a:off x="1182960" y="49669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1283760" y="504360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 flipV="1">
              <a:off x="1258200" y="504324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"/>
          <p:cNvGrpSpPr/>
          <p:nvPr/>
        </p:nvGrpSpPr>
        <p:grpSpPr>
          <a:xfrm>
            <a:off x="1182600" y="5432400"/>
            <a:ext cx="431640" cy="431640"/>
            <a:chOff x="1182600" y="5432400"/>
            <a:chExt cx="431640" cy="431640"/>
          </a:xfrm>
        </p:grpSpPr>
        <p:sp>
          <p:nvSpPr>
            <p:cNvPr id="3055" name=""/>
            <p:cNvSpPr/>
            <p:nvPr/>
          </p:nvSpPr>
          <p:spPr>
            <a:xfrm>
              <a:off x="1182600" y="54324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 flipV="1">
              <a:off x="1397880" y="545256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1261800" y="564768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"/>
          <p:cNvGrpSpPr/>
          <p:nvPr/>
        </p:nvGrpSpPr>
        <p:grpSpPr>
          <a:xfrm>
            <a:off x="534960" y="4967280"/>
            <a:ext cx="431640" cy="431640"/>
            <a:chOff x="534960" y="4967280"/>
            <a:chExt cx="431640" cy="431640"/>
          </a:xfrm>
        </p:grpSpPr>
        <p:sp>
          <p:nvSpPr>
            <p:cNvPr id="3059" name=""/>
            <p:cNvSpPr/>
            <p:nvPr/>
          </p:nvSpPr>
          <p:spPr>
            <a:xfrm>
              <a:off x="534960" y="49672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H="1" flipV="1">
              <a:off x="750240" y="49874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614160" y="51825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445680" y="5349240"/>
            <a:ext cx="610920" cy="610560"/>
            <a:chOff x="445680" y="5349240"/>
            <a:chExt cx="610920" cy="610560"/>
          </a:xfrm>
        </p:grpSpPr>
        <p:sp>
          <p:nvSpPr>
            <p:cNvPr id="3063" name=""/>
            <p:cNvSpPr/>
            <p:nvPr/>
          </p:nvSpPr>
          <p:spPr>
            <a:xfrm rot="2700000">
              <a:off x="535320" y="54385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636120" y="551520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 flipV="1">
              <a:off x="610560" y="551484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6" name=""/>
          <p:cNvSpPr/>
          <p:nvPr/>
        </p:nvSpPr>
        <p:spPr>
          <a:xfrm>
            <a:off x="731880" y="482292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714240" y="530856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893880" y="6218280"/>
            <a:ext cx="360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9" name=""/>
          <p:cNvGrpSpPr/>
          <p:nvPr/>
        </p:nvGrpSpPr>
        <p:grpSpPr>
          <a:xfrm>
            <a:off x="5867280" y="1557360"/>
            <a:ext cx="431640" cy="431640"/>
            <a:chOff x="5867280" y="1557360"/>
            <a:chExt cx="431640" cy="431640"/>
          </a:xfrm>
        </p:grpSpPr>
        <p:sp>
          <p:nvSpPr>
            <p:cNvPr id="3070" name=""/>
            <p:cNvSpPr/>
            <p:nvPr/>
          </p:nvSpPr>
          <p:spPr>
            <a:xfrm>
              <a:off x="5867280" y="1557360"/>
              <a:ext cx="431640" cy="4316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V="1">
              <a:off x="6008760" y="1594440"/>
              <a:ext cx="150480" cy="325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611280" y="1079640"/>
            <a:ext cx="6132600" cy="318960"/>
            <a:chOff x="611280" y="1079640"/>
            <a:chExt cx="6132600" cy="318960"/>
          </a:xfrm>
        </p:grpSpPr>
        <p:sp>
          <p:nvSpPr>
            <p:cNvPr id="3073" name=""/>
            <p:cNvSpPr/>
            <p:nvPr/>
          </p:nvSpPr>
          <p:spPr>
            <a:xfrm>
              <a:off x="611280" y="1120680"/>
              <a:ext cx="2383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849600" y="1119240"/>
              <a:ext cx="1904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1040040" y="1192320"/>
              <a:ext cx="284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324080" y="1192320"/>
              <a:ext cx="9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1570320" y="1122480"/>
              <a:ext cx="222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792440" y="110196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1908360" y="112248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111400" y="123372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292480" y="1101960"/>
              <a:ext cx="82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457720" y="112248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681640" y="1081080"/>
              <a:ext cx="838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765520" y="1089000"/>
              <a:ext cx="1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951280" y="1084320"/>
              <a:ext cx="1191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167280" y="1216080"/>
              <a:ext cx="2300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480120" y="1197000"/>
              <a:ext cx="1378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630960" y="1101960"/>
              <a:ext cx="1155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829320" y="1136880"/>
              <a:ext cx="23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143600" y="1119240"/>
              <a:ext cx="1713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462560" y="1216080"/>
              <a:ext cx="2970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908600" y="112248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5131080" y="1106640"/>
              <a:ext cx="1126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5131080" y="1309680"/>
              <a:ext cx="236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381640" y="110196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497560" y="112248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5721480" y="1128600"/>
              <a:ext cx="14616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5883480" y="110196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081840" y="1108080"/>
              <a:ext cx="2304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394680" y="1119240"/>
              <a:ext cx="1713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66040" y="1197000"/>
              <a:ext cx="177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11280" y="1079640"/>
              <a:ext cx="6132600" cy="318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2987640" y="4503600"/>
            <a:ext cx="5319720" cy="1733400"/>
            <a:chOff x="2987640" y="4503600"/>
            <a:chExt cx="5319720" cy="1733400"/>
          </a:xfrm>
        </p:grpSpPr>
        <p:sp>
          <p:nvSpPr>
            <p:cNvPr id="3104" name=""/>
            <p:cNvSpPr/>
            <p:nvPr/>
          </p:nvSpPr>
          <p:spPr>
            <a:xfrm>
              <a:off x="2987640" y="4506840"/>
              <a:ext cx="23040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Q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218040" y="45716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387600" y="45716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53700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70044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381960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989520" y="4571640"/>
              <a:ext cx="255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421160" y="4506840"/>
              <a:ext cx="236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465624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4827600" y="457164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4964040" y="4571640"/>
              <a:ext cx="1414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105520" y="4571640"/>
              <a:ext cx="127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23080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351400" y="4571640"/>
              <a:ext cx="1494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500800" y="45050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585040" y="4571640"/>
              <a:ext cx="1695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4668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857920" y="4571640"/>
              <a:ext cx="1620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195960" y="4506840"/>
              <a:ext cx="230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426360" y="457164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66040" y="45050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651720" y="4571640"/>
              <a:ext cx="1490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800760" y="4520880"/>
              <a:ext cx="119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919920" y="450504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7005600" y="4571640"/>
              <a:ext cx="154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7159680" y="457164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7329600" y="457164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7940880" y="4508280"/>
              <a:ext cx="168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094600" y="457488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18440" y="452556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987640" y="48272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303720" y="49114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584520" y="48081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3689280" y="48272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909960" y="493056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030560" y="498132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149720" y="49813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4981320"/>
              <a:ext cx="7488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386240" y="49813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505400" y="498132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624560" y="482724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845240" y="4970160"/>
              <a:ext cx="13176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991040" y="480816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89760" y="4824000"/>
              <a:ext cx="122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29920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518080" y="48448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607000" y="48240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5742000" y="489384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5961240" y="48938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097680" y="4893840"/>
              <a:ext cx="1429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240600" y="484488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32952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438960" y="4893840"/>
              <a:ext cx="136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575400" y="4893840"/>
              <a:ext cx="219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79464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916680" y="498132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121520" y="4827240"/>
              <a:ext cx="19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311960" y="482400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448760" y="489384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572600" y="489384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7721640" y="4981320"/>
              <a:ext cx="8244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,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602240" y="54162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802400" y="5400360"/>
              <a:ext cx="1015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802400" y="558288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027760" y="53971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5132520" y="54162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448240" y="539712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597640" y="54162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803920" y="53971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3200" y="5403600"/>
              <a:ext cx="208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264360" y="548280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424560" y="539712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558120" y="542592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3083040" y="6070320"/>
              <a:ext cx="177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326088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3341880" y="602100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430800" y="600048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662280" y="607032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3882960" y="60703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032360" y="607032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141800" y="6070320"/>
              <a:ext cx="1224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65640" y="60004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33404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15040" y="6070320"/>
              <a:ext cx="1220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3888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619520" y="6000480"/>
              <a:ext cx="122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743360" y="6000480"/>
              <a:ext cx="684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811760" y="607032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029200" y="601020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5111640" y="607032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5357880" y="607032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5518080" y="6157800"/>
              <a:ext cx="8280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987640" y="4503600"/>
              <a:ext cx="5319720" cy="1733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757080" y="2637000"/>
            <a:ext cx="7629840" cy="819000"/>
            <a:chOff x="757080" y="2637000"/>
            <a:chExt cx="7629840" cy="819000"/>
          </a:xfrm>
        </p:grpSpPr>
        <p:sp>
          <p:nvSpPr>
            <p:cNvPr id="3198" name=""/>
            <p:cNvSpPr/>
            <p:nvPr/>
          </p:nvSpPr>
          <p:spPr>
            <a:xfrm>
              <a:off x="757080" y="2693880"/>
              <a:ext cx="21780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97488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08756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285920" y="2800080"/>
              <a:ext cx="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461960" y="2674800"/>
              <a:ext cx="81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62252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841400" y="263700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24200" y="2644560"/>
              <a:ext cx="180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104920" y="2639880"/>
              <a:ext cx="115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314440" y="2786040"/>
              <a:ext cx="22572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620800" y="2766960"/>
              <a:ext cx="135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76876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960640" y="2786040"/>
              <a:ext cx="22536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267000" y="2693880"/>
              <a:ext cx="2174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48444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597120" y="2693880"/>
              <a:ext cx="2397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836880" y="280008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013280" y="2674800"/>
              <a:ext cx="81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4173480" y="269388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4398840" y="280008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4495680" y="2860560"/>
              <a:ext cx="810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880" bIns="55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462456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843440" y="2637000"/>
              <a:ext cx="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924440" y="2644560"/>
              <a:ext cx="18108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105520" y="2639880"/>
              <a:ext cx="115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316480" y="2786040"/>
              <a:ext cx="22536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622840" y="2766960"/>
              <a:ext cx="135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576900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946840" y="2722320"/>
              <a:ext cx="225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235560" y="2693880"/>
              <a:ext cx="21780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453360" y="2674800"/>
              <a:ext cx="1126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566040" y="2693880"/>
              <a:ext cx="225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791400" y="2800080"/>
              <a:ext cx="824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67440" y="2674800"/>
              <a:ext cx="810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129440" y="2693880"/>
              <a:ext cx="19836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346880" y="2637000"/>
              <a:ext cx="82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429680" y="2644560"/>
              <a:ext cx="180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610400" y="2639880"/>
              <a:ext cx="1159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7819920" y="2786040"/>
              <a:ext cx="22536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6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126280" y="2766960"/>
              <a:ext cx="135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73880" y="2674800"/>
              <a:ext cx="1130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5640" bIns="70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960640" y="3170160"/>
              <a:ext cx="225360" cy="2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600" bIns="37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301920" y="3111480"/>
              <a:ext cx="1159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94000" y="3282840"/>
              <a:ext cx="115920" cy="0"/>
            </a:xfrm>
            <a:prstGeom prst="line">
              <a:avLst/>
            </a:prstGeom>
            <a:ln w="11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3301920" y="3324240"/>
              <a:ext cx="11592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516480" y="3186000"/>
              <a:ext cx="225360" cy="19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7760" bIns="234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3805200" y="3168360"/>
              <a:ext cx="1443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030560" y="3249360"/>
              <a:ext cx="225360" cy="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60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255920" y="3230280"/>
              <a:ext cx="8100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416480" y="3154320"/>
              <a:ext cx="16668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584600" y="3324240"/>
              <a:ext cx="81000" cy="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52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57080" y="2637000"/>
              <a:ext cx="7629840" cy="819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0" name=""/>
          <p:cNvGrpSpPr/>
          <p:nvPr/>
        </p:nvGrpSpPr>
        <p:grpSpPr>
          <a:xfrm>
            <a:off x="755640" y="3573360"/>
            <a:ext cx="6005520" cy="288720"/>
            <a:chOff x="755640" y="3573360"/>
            <a:chExt cx="6005520" cy="288720"/>
          </a:xfrm>
        </p:grpSpPr>
        <p:sp>
          <p:nvSpPr>
            <p:cNvPr id="3251" name=""/>
            <p:cNvSpPr/>
            <p:nvPr/>
          </p:nvSpPr>
          <p:spPr>
            <a:xfrm>
              <a:off x="755640" y="3593880"/>
              <a:ext cx="217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973080" y="3578040"/>
              <a:ext cx="1098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973080" y="3776400"/>
              <a:ext cx="230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217520" y="3574800"/>
              <a:ext cx="113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330560" y="3593880"/>
              <a:ext cx="23940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673280" y="3574800"/>
              <a:ext cx="81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835280" y="3593880"/>
              <a:ext cx="225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06064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252880" y="3651120"/>
              <a:ext cx="225360" cy="13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4640" bIns="-9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559240" y="3593880"/>
              <a:ext cx="217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776680" y="3578040"/>
              <a:ext cx="1094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776680" y="3776400"/>
              <a:ext cx="230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2112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3133800" y="3593880"/>
              <a:ext cx="1983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353040" y="3584160"/>
              <a:ext cx="14256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51000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87840" y="3622320"/>
              <a:ext cx="225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976920" y="3593880"/>
              <a:ext cx="217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194360" y="3703320"/>
              <a:ext cx="11592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03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432432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437000" y="3593880"/>
              <a:ext cx="2257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4662720" y="3574800"/>
              <a:ext cx="1126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4854600" y="3579480"/>
              <a:ext cx="22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5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160960" y="3666960"/>
              <a:ext cx="1746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334120" y="3574800"/>
              <a:ext cx="144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478480" y="3605040"/>
              <a:ext cx="1443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5688000" y="3622320"/>
              <a:ext cx="225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+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978520" y="3666960"/>
              <a:ext cx="1746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6216840" y="3622320"/>
              <a:ext cx="2253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8120" bIns="23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505560" y="3666960"/>
              <a:ext cx="1746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6680160" y="3760560"/>
              <a:ext cx="81000" cy="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55640" y="3573360"/>
              <a:ext cx="6004080" cy="288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184720" cy="1865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1970: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1440" y="4559400"/>
            <a:ext cx="7343640" cy="8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41240" y="2997360"/>
            <a:ext cx="7502760" cy="115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Tight?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284" name=""/>
          <p:cNvGrpSpPr/>
          <p:nvPr/>
        </p:nvGrpSpPr>
        <p:grpSpPr>
          <a:xfrm>
            <a:off x="611280" y="1074600"/>
            <a:ext cx="4998960" cy="352440"/>
            <a:chOff x="611280" y="1074600"/>
            <a:chExt cx="4998960" cy="352440"/>
          </a:xfrm>
        </p:grpSpPr>
        <p:sp>
          <p:nvSpPr>
            <p:cNvPr id="3285" name=""/>
            <p:cNvSpPr/>
            <p:nvPr/>
          </p:nvSpPr>
          <p:spPr>
            <a:xfrm>
              <a:off x="611280" y="1122120"/>
              <a:ext cx="3240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M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935280" y="1122120"/>
              <a:ext cx="2617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197000" y="1193760"/>
              <a:ext cx="9540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503360" y="1196640"/>
              <a:ext cx="1526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756080" y="1133280"/>
              <a:ext cx="147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0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903680" y="1196640"/>
              <a:ext cx="982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001960" y="1196640"/>
              <a:ext cx="1555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57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157480" y="1196640"/>
              <a:ext cx="165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u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22720" y="1118880"/>
              <a:ext cx="164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486160" y="1126800"/>
              <a:ext cx="8244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568600" y="1143000"/>
              <a:ext cx="114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83160" y="1196640"/>
              <a:ext cx="1173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899080" y="114300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3014640" y="1196640"/>
              <a:ext cx="1479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3162600" y="1143000"/>
              <a:ext cx="1141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278520" y="1196640"/>
              <a:ext cx="1317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408480" y="1196640"/>
              <a:ext cx="824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622680" y="112212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845160" y="1103040"/>
              <a:ext cx="1141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959280" y="1122120"/>
              <a:ext cx="2444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mi10"/>
                  <a:ea typeface="Arial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05520" y="123480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419720" y="1103040"/>
              <a:ext cx="824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584960" y="1122120"/>
              <a:ext cx="230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£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815000" y="123480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946760" y="1103040"/>
              <a:ext cx="1144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r10"/>
                  <a:ea typeface="Arial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145120" y="113652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ff"/>
                  </a:solidFill>
                  <a:latin typeface="cmsy10"/>
                  <a:ea typeface="Arial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492880" y="1074600"/>
              <a:ext cx="11736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492880" y="1250640"/>
              <a:ext cx="117360" cy="0"/>
            </a:xfrm>
            <a:prstGeom prst="line">
              <a:avLst/>
            </a:prstGeom>
            <a:ln w="118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5492880" y="1293480"/>
              <a:ext cx="1173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cmr7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11280" y="1074600"/>
              <a:ext cx="4998960" cy="352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5" name=""/>
          <p:cNvGrpSpPr/>
          <p:nvPr/>
        </p:nvGrpSpPr>
        <p:grpSpPr>
          <a:xfrm>
            <a:off x="6443640" y="907920"/>
            <a:ext cx="432000" cy="432000"/>
            <a:chOff x="6443640" y="907920"/>
            <a:chExt cx="432000" cy="432000"/>
          </a:xfrm>
        </p:grpSpPr>
        <p:sp>
          <p:nvSpPr>
            <p:cNvPr id="3316" name=""/>
            <p:cNvSpPr/>
            <p:nvPr/>
          </p:nvSpPr>
          <p:spPr>
            <a:xfrm>
              <a:off x="6443640" y="907920"/>
              <a:ext cx="43200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 flipV="1">
              <a:off x="6659640" y="928800"/>
              <a:ext cx="1440" cy="35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8" name=""/>
          <p:cNvGrpSpPr/>
          <p:nvPr/>
        </p:nvGrpSpPr>
        <p:grpSpPr>
          <a:xfrm>
            <a:off x="611280" y="1595520"/>
            <a:ext cx="6040440" cy="650880"/>
            <a:chOff x="611280" y="1595520"/>
            <a:chExt cx="6040440" cy="650880"/>
          </a:xfrm>
        </p:grpSpPr>
        <p:sp>
          <p:nvSpPr>
            <p:cNvPr id="3319" name=""/>
            <p:cNvSpPr/>
            <p:nvPr/>
          </p:nvSpPr>
          <p:spPr>
            <a:xfrm>
              <a:off x="611280" y="1641600"/>
              <a:ext cx="2001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1288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916200" y="1641600"/>
              <a:ext cx="220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1232280" y="1622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381320" y="1641600"/>
              <a:ext cx="208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589400" y="1622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767240" y="17254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081520" y="159696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073600" y="1755720"/>
              <a:ext cx="10620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081520" y="179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219400" y="1595520"/>
              <a:ext cx="122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¡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386080" y="1641600"/>
              <a:ext cx="2001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58624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691000" y="1641600"/>
              <a:ext cx="220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3007080" y="1622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3156120" y="1641600"/>
              <a:ext cx="208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437280" y="172548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3719880" y="166680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392760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386080" y="1968480"/>
              <a:ext cx="1209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498760" y="1984320"/>
              <a:ext cx="5828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087720" y="1968480"/>
              <a:ext cx="12096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20868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321360" y="1984320"/>
              <a:ext cx="581040" cy="0"/>
            </a:xfrm>
            <a:prstGeom prst="line">
              <a:avLst/>
            </a:prstGeom>
            <a:ln w="32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91032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073680" y="2174760"/>
              <a:ext cx="16344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120" bIns="-41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=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237120" y="212724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075200" y="166680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283280" y="1641600"/>
              <a:ext cx="2001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483440" y="16225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588200" y="1641600"/>
              <a:ext cx="2206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903920" y="16225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51520" y="1641600"/>
              <a:ext cx="2080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334120" y="172548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5616720" y="166680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823000" y="16225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28328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|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5960" y="1984320"/>
              <a:ext cx="581040" cy="0"/>
            </a:xfrm>
            <a:prstGeom prst="line">
              <a:avLst/>
            </a:prstGeom>
            <a:ln w="32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98492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{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510552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z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5218200" y="1984320"/>
              <a:ext cx="581040" cy="0"/>
            </a:xfrm>
            <a:prstGeom prst="line">
              <a:avLst/>
            </a:prstGeom>
            <a:ln w="32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5807160" y="1968480"/>
              <a:ext cx="12060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</a:rPr>
                <a:t>}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970520" y="2174760"/>
              <a:ext cx="163800" cy="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1120" bIns="-41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</a:rPr>
                <a:t>=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134320" y="212724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927760" y="1595520"/>
              <a:ext cx="122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60" bIns="30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ex10"/>
                </a:rPr>
                <a:t>¢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6124680" y="1725480"/>
              <a:ext cx="20808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437520" y="159696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6431040" y="1755720"/>
              <a:ext cx="1065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437520" y="1795320"/>
              <a:ext cx="106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577200" y="179532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11280" y="1595520"/>
              <a:ext cx="6039000" cy="650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0" name=""/>
          <p:cNvGrpSpPr/>
          <p:nvPr/>
        </p:nvGrpSpPr>
        <p:grpSpPr>
          <a:xfrm>
            <a:off x="395280" y="4216320"/>
            <a:ext cx="7912080" cy="2597040"/>
            <a:chOff x="395280" y="4216320"/>
            <a:chExt cx="7912080" cy="2597040"/>
          </a:xfrm>
        </p:grpSpPr>
        <p:grpSp>
          <p:nvGrpSpPr>
            <p:cNvPr id="3371" name=""/>
            <p:cNvGrpSpPr/>
            <p:nvPr/>
          </p:nvGrpSpPr>
          <p:grpSpPr>
            <a:xfrm>
              <a:off x="395280" y="4216320"/>
              <a:ext cx="2209680" cy="2597040"/>
              <a:chOff x="395280" y="4216320"/>
              <a:chExt cx="2209680" cy="2597040"/>
            </a:xfrm>
          </p:grpSpPr>
          <p:sp>
            <p:nvSpPr>
              <p:cNvPr id="3372" name=""/>
              <p:cNvSpPr/>
              <p:nvPr/>
            </p:nvSpPr>
            <p:spPr>
              <a:xfrm>
                <a:off x="395280" y="4216320"/>
                <a:ext cx="2201760" cy="0"/>
              </a:xfrm>
              <a:prstGeom prst="line">
                <a:avLst/>
              </a:prstGeom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727200" y="4265640"/>
                <a:ext cx="21276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57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£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1014480" y="4305240"/>
                <a:ext cx="18252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6160" bIns="9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sy10"/>
                    <a:ea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1197000" y="4362480"/>
                <a:ext cx="165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299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1863720" y="4333680"/>
                <a:ext cx="1080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1970280" y="4284720"/>
                <a:ext cx="10620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66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2076480" y="4333680"/>
                <a:ext cx="1364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2212920" y="4284720"/>
                <a:ext cx="106560" cy="1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66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2319480" y="4333680"/>
                <a:ext cx="1206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66640" y="4575240"/>
                <a:ext cx="13680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4480" bIns="680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sy10"/>
                    <a:ea typeface="Arial"/>
                  </a:rPr>
                  <a:t>f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03440" y="4621320"/>
                <a:ext cx="21240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8400" bIns="219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r10"/>
                    <a:ea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915840" y="4751280"/>
                <a:ext cx="763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525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;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1038240" y="4621320"/>
                <a:ext cx="21276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8400" bIns="219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sy10"/>
                    <a:ea typeface="Arial"/>
                  </a:rPr>
                  <a:t>£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1249200" y="4575240"/>
                <a:ext cx="13680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4480" bIns="680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0000"/>
                    </a:solidFill>
                    <a:latin typeface="cmsy10"/>
                    <a:ea typeface="Arial"/>
                  </a:rPr>
                  <a:t>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1386000" y="4599000"/>
                <a:ext cx="13500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81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cmmi7"/>
                    <a:ea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2081160" y="4662360"/>
                <a:ext cx="141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525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½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395280" y="4883040"/>
                <a:ext cx="2201760" cy="0"/>
              </a:xfrm>
              <a:prstGeom prst="line">
                <a:avLst/>
              </a:prstGeom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012680" y="6340320"/>
                <a:ext cx="76320" cy="2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1012680" y="6450120"/>
                <a:ext cx="7632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1012680" y="6559560"/>
                <a:ext cx="76320" cy="2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8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95280" y="6797520"/>
                <a:ext cx="2201760" cy="0"/>
              </a:xfrm>
              <a:prstGeom prst="line">
                <a:avLst/>
              </a:prstGeom>
              <a:ln w="108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03200" y="4222800"/>
                <a:ext cx="2201760" cy="25905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1092960" y="4872600"/>
              <a:ext cx="611280" cy="610920"/>
              <a:chOff x="1092960" y="4872600"/>
              <a:chExt cx="611280" cy="610920"/>
            </a:xfrm>
          </p:grpSpPr>
          <p:sp>
            <p:nvSpPr>
              <p:cNvPr id="3395" name=""/>
              <p:cNvSpPr/>
              <p:nvPr/>
            </p:nvSpPr>
            <p:spPr>
              <a:xfrm rot="2700000">
                <a:off x="1182600" y="4961880"/>
                <a:ext cx="432000" cy="432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1283760" y="503892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 flipV="1">
                <a:off x="1258200" y="503856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8" name=""/>
            <p:cNvGrpSpPr/>
            <p:nvPr/>
          </p:nvGrpSpPr>
          <p:grpSpPr>
            <a:xfrm>
              <a:off x="1182600" y="5427360"/>
              <a:ext cx="431640" cy="431640"/>
              <a:chOff x="1182600" y="5427360"/>
              <a:chExt cx="431640" cy="431640"/>
            </a:xfrm>
          </p:grpSpPr>
          <p:sp>
            <p:nvSpPr>
              <p:cNvPr id="3399" name=""/>
              <p:cNvSpPr/>
              <p:nvPr/>
            </p:nvSpPr>
            <p:spPr>
              <a:xfrm>
                <a:off x="1182600" y="54273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H="1" flipV="1">
                <a:off x="1397880" y="54475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V="1">
                <a:off x="1261800" y="56426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534960" y="4962240"/>
              <a:ext cx="431640" cy="431640"/>
              <a:chOff x="534960" y="4962240"/>
              <a:chExt cx="431640" cy="431640"/>
            </a:xfrm>
          </p:grpSpPr>
          <p:sp>
            <p:nvSpPr>
              <p:cNvPr id="3403" name=""/>
              <p:cNvSpPr/>
              <p:nvPr/>
            </p:nvSpPr>
            <p:spPr>
              <a:xfrm>
                <a:off x="534960" y="49622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 flipV="1">
                <a:off x="750240" y="49824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614160" y="51775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6" name=""/>
            <p:cNvGrpSpPr/>
            <p:nvPr/>
          </p:nvGrpSpPr>
          <p:grpSpPr>
            <a:xfrm>
              <a:off x="445680" y="5344200"/>
              <a:ext cx="610920" cy="610560"/>
              <a:chOff x="445680" y="5344200"/>
              <a:chExt cx="610920" cy="610560"/>
            </a:xfrm>
          </p:grpSpPr>
          <p:sp>
            <p:nvSpPr>
              <p:cNvPr id="3407" name=""/>
              <p:cNvSpPr/>
              <p:nvPr/>
            </p:nvSpPr>
            <p:spPr>
              <a:xfrm rot="2700000">
                <a:off x="535320" y="5433480"/>
                <a:ext cx="431640" cy="432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636120" y="551016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 flipV="1">
                <a:off x="610560" y="550980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0" name=""/>
            <p:cNvSpPr/>
            <p:nvPr/>
          </p:nvSpPr>
          <p:spPr>
            <a:xfrm>
              <a:off x="731880" y="4817880"/>
              <a:ext cx="68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14240" y="5303520"/>
              <a:ext cx="6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/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893880" y="6213240"/>
              <a:ext cx="360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3" name=""/>
            <p:cNvGrpSpPr/>
            <p:nvPr/>
          </p:nvGrpSpPr>
          <p:grpSpPr>
            <a:xfrm>
              <a:off x="2987640" y="4498920"/>
              <a:ext cx="5319720" cy="1733400"/>
              <a:chOff x="2987640" y="4498920"/>
              <a:chExt cx="5319720" cy="1733400"/>
            </a:xfrm>
          </p:grpSpPr>
          <p:sp>
            <p:nvSpPr>
              <p:cNvPr id="3414" name=""/>
              <p:cNvSpPr/>
              <p:nvPr/>
            </p:nvSpPr>
            <p:spPr>
              <a:xfrm>
                <a:off x="2987640" y="4502160"/>
                <a:ext cx="2304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252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Q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3218040" y="4566960"/>
                <a:ext cx="169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3387600" y="4566960"/>
                <a:ext cx="1494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353700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370044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381960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3989520" y="4566960"/>
                <a:ext cx="2556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4421160" y="4502160"/>
                <a:ext cx="2365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25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465624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4827600" y="4566960"/>
                <a:ext cx="1364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964040" y="4566960"/>
                <a:ext cx="1414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105520" y="4566960"/>
                <a:ext cx="1270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r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23080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351400" y="4566960"/>
                <a:ext cx="14940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500800" y="4500360"/>
                <a:ext cx="856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585040" y="4566960"/>
                <a:ext cx="16956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74668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857920" y="4566960"/>
                <a:ext cx="16200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y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6195960" y="4502160"/>
                <a:ext cx="2304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25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R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426360" y="4566960"/>
                <a:ext cx="1411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566040" y="4500360"/>
                <a:ext cx="856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651720" y="4566960"/>
                <a:ext cx="1490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a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800760" y="4516200"/>
                <a:ext cx="119160" cy="16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81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919920" y="4500360"/>
                <a:ext cx="856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7005600" y="4566960"/>
                <a:ext cx="1540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59680" y="4566960"/>
                <a:ext cx="16992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7329600" y="4566960"/>
                <a:ext cx="8568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7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bx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7940880" y="4503600"/>
                <a:ext cx="16812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8094600" y="4570200"/>
                <a:ext cx="122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8218440" y="4520880"/>
                <a:ext cx="889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2987640" y="482256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3303720" y="4906800"/>
                <a:ext cx="207720" cy="6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61920" bIns="-698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10"/>
                  </a:rPr>
                  <a:t>=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3584520" y="4803480"/>
                <a:ext cx="1033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10"/>
                  </a:rPr>
                  <a:t>(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3689280" y="482256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3909960" y="4925880"/>
                <a:ext cx="10656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91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030560" y="4976640"/>
                <a:ext cx="7488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49720" y="4976640"/>
                <a:ext cx="74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267080" y="4976640"/>
                <a:ext cx="7488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386240" y="4976640"/>
                <a:ext cx="7452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: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505400" y="4976640"/>
                <a:ext cx="7452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624560" y="482256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845240" y="4965480"/>
                <a:ext cx="13176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991040" y="4803480"/>
                <a:ext cx="1033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10"/>
                  </a:rPr>
                  <a:t>)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189760" y="4819320"/>
                <a:ext cx="12204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29920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518080" y="484020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607000" y="4819320"/>
                <a:ext cx="1368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742000" y="4889160"/>
                <a:ext cx="122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961240" y="4889160"/>
                <a:ext cx="136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6097680" y="4889160"/>
                <a:ext cx="142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u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6240600" y="4840200"/>
                <a:ext cx="88920" cy="16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632952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c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6438960" y="4889160"/>
                <a:ext cx="1364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o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6575400" y="4889160"/>
                <a:ext cx="219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m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679464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916680" y="4976640"/>
                <a:ext cx="8280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.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121520" y="4822560"/>
                <a:ext cx="19044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311960" y="4819320"/>
                <a:ext cx="1368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448760" y="488916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572600" y="4889160"/>
                <a:ext cx="1504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721640" y="4976640"/>
                <a:ext cx="82440" cy="7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,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4602240" y="5411520"/>
                <a:ext cx="2001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802400" y="5395680"/>
                <a:ext cx="10152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cmmi7"/>
                  </a:rPr>
                  <a:t>"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802400" y="5578200"/>
                <a:ext cx="21240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cmsy7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027760" y="5392440"/>
                <a:ext cx="1029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(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132520" y="5411520"/>
                <a:ext cx="2206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mi10"/>
                  </a:rPr>
                  <a:t>X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448240" y="5392440"/>
                <a:ext cx="7488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sy10"/>
                  </a:rPr>
                  <a:t>j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597640" y="5411520"/>
                <a:ext cx="20772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1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£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803920" y="5392440"/>
                <a:ext cx="10332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)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983200" y="5398920"/>
                <a:ext cx="20808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3680" bIns="604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msam10"/>
                  </a:rPr>
                  <a:t>&amp;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6264360" y="5478120"/>
                <a:ext cx="160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m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6424560" y="5392440"/>
                <a:ext cx="13356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0160" bIns="666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mi10"/>
                  </a:rPr>
                  <a:t>=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6558120" y="5421240"/>
                <a:ext cx="133200" cy="17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1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ff0000"/>
                    </a:solidFill>
                    <a:latin typeface="cmr10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3083040" y="6065640"/>
                <a:ext cx="177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w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326088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3341880" y="6016320"/>
                <a:ext cx="8892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3430800" y="5995800"/>
                <a:ext cx="13644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h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3662280" y="6065640"/>
                <a:ext cx="123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"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882960" y="6065640"/>
                <a:ext cx="150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032360" y="6065640"/>
                <a:ext cx="1220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141800" y="6065640"/>
                <a:ext cx="12240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g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265640" y="5995800"/>
                <a:ext cx="684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33404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415040" y="6065640"/>
                <a:ext cx="122040" cy="16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507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g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53888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619520" y="5995800"/>
                <a:ext cx="1224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b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743360" y="5995800"/>
                <a:ext cx="684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4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811760" y="6065640"/>
                <a:ext cx="122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e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5029200" y="6005520"/>
                <a:ext cx="8244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746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i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5111640" y="6065640"/>
                <a:ext cx="1508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357880" y="6065640"/>
                <a:ext cx="1602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44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mi10"/>
                  </a:rPr>
                  <a:t>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518080" y="6153120"/>
                <a:ext cx="82800" cy="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7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ti10"/>
                  </a:rPr>
                  <a:t>.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2987640" y="4498920"/>
                <a:ext cx="5319720" cy="173340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7" name=""/>
            <p:cNvSpPr/>
            <p:nvPr/>
          </p:nvSpPr>
          <p:spPr>
            <a:xfrm>
              <a:off x="1974960" y="4962240"/>
              <a:ext cx="431640" cy="432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 flipV="1">
              <a:off x="2190240" y="4983120"/>
              <a:ext cx="1800" cy="358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9" name=""/>
            <p:cNvGrpSpPr/>
            <p:nvPr/>
          </p:nvGrpSpPr>
          <p:grpSpPr>
            <a:xfrm>
              <a:off x="1979640" y="5421240"/>
              <a:ext cx="431640" cy="431640"/>
              <a:chOff x="1979640" y="5421240"/>
              <a:chExt cx="431640" cy="431640"/>
            </a:xfrm>
          </p:grpSpPr>
          <p:sp>
            <p:nvSpPr>
              <p:cNvPr id="3510" name=""/>
              <p:cNvSpPr/>
              <p:nvPr/>
            </p:nvSpPr>
            <p:spPr>
              <a:xfrm>
                <a:off x="1979640" y="54212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 flipH="1" flipV="1">
                <a:off x="2194920" y="5441400"/>
                <a:ext cx="1080" cy="358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2" name=""/>
            <p:cNvGrpSpPr/>
            <p:nvPr/>
          </p:nvGrpSpPr>
          <p:grpSpPr>
            <a:xfrm>
              <a:off x="1979640" y="5878440"/>
              <a:ext cx="431640" cy="431640"/>
              <a:chOff x="1979640" y="5878440"/>
              <a:chExt cx="431640" cy="431640"/>
            </a:xfrm>
          </p:grpSpPr>
          <p:sp>
            <p:nvSpPr>
              <p:cNvPr id="3513" name=""/>
              <p:cNvSpPr/>
              <p:nvPr/>
            </p:nvSpPr>
            <p:spPr>
              <a:xfrm>
                <a:off x="1979640" y="58784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 flipH="1" flipV="1">
                <a:off x="2194920" y="5898600"/>
                <a:ext cx="1080" cy="358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5" name=""/>
            <p:cNvGrpSpPr/>
            <p:nvPr/>
          </p:nvGrpSpPr>
          <p:grpSpPr>
            <a:xfrm>
              <a:off x="1979640" y="6332400"/>
              <a:ext cx="431640" cy="431640"/>
              <a:chOff x="1979640" y="6332400"/>
              <a:chExt cx="431640" cy="431640"/>
            </a:xfrm>
          </p:grpSpPr>
          <p:sp>
            <p:nvSpPr>
              <p:cNvPr id="3516" name=""/>
              <p:cNvSpPr/>
              <p:nvPr/>
            </p:nvSpPr>
            <p:spPr>
              <a:xfrm>
                <a:off x="1979640" y="63324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 flipH="1" flipV="1">
                <a:off x="2194920" y="6352560"/>
                <a:ext cx="1080" cy="358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18" name=""/>
          <p:cNvGrpSpPr/>
          <p:nvPr/>
        </p:nvGrpSpPr>
        <p:grpSpPr>
          <a:xfrm>
            <a:off x="2484360" y="2060640"/>
            <a:ext cx="431640" cy="431640"/>
            <a:chOff x="2484360" y="2060640"/>
            <a:chExt cx="431640" cy="431640"/>
          </a:xfrm>
        </p:grpSpPr>
        <p:sp>
          <p:nvSpPr>
            <p:cNvPr id="3519" name=""/>
            <p:cNvSpPr/>
            <p:nvPr/>
          </p:nvSpPr>
          <p:spPr>
            <a:xfrm>
              <a:off x="2484360" y="20606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 flipV="1">
              <a:off x="2699640" y="208080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V="1">
              <a:off x="2563560" y="227592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5274720" y="1971000"/>
            <a:ext cx="610920" cy="610560"/>
            <a:chOff x="5274720" y="1971000"/>
            <a:chExt cx="610920" cy="610560"/>
          </a:xfrm>
        </p:grpSpPr>
        <p:sp>
          <p:nvSpPr>
            <p:cNvPr id="3523" name=""/>
            <p:cNvSpPr/>
            <p:nvPr/>
          </p:nvSpPr>
          <p:spPr>
            <a:xfrm rot="2700000">
              <a:off x="5364360" y="206028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5465160" y="21369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 flipV="1">
              <a:off x="5439600" y="213660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401760" y="3048120"/>
            <a:ext cx="8057520" cy="741240"/>
            <a:chOff x="401760" y="3048120"/>
            <a:chExt cx="8057520" cy="741240"/>
          </a:xfrm>
        </p:grpSpPr>
        <p:sp>
          <p:nvSpPr>
            <p:cNvPr id="3527" name=""/>
            <p:cNvSpPr/>
            <p:nvPr/>
          </p:nvSpPr>
          <p:spPr>
            <a:xfrm>
              <a:off x="401760" y="3120840"/>
              <a:ext cx="183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563400" y="3192480"/>
              <a:ext cx="1407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04520" y="3192480"/>
              <a:ext cx="1108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942480" y="313992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1052280" y="3117600"/>
              <a:ext cx="1566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20924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461600" y="3192480"/>
              <a:ext cx="1569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3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161892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776240" y="3192480"/>
              <a:ext cx="1105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8712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139480" y="3192480"/>
              <a:ext cx="1108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250720" y="3139920"/>
              <a:ext cx="1090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360160" y="3192480"/>
              <a:ext cx="1411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503080" y="313992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61288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865240" y="3101760"/>
              <a:ext cx="788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43000" y="3132000"/>
              <a:ext cx="140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3085920" y="310176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195360" y="3049560"/>
              <a:ext cx="17568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1680" bIns="21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371400" y="3087720"/>
              <a:ext cx="13932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52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525480" y="3284280"/>
              <a:ext cx="792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4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739680" y="313992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849480" y="3117600"/>
              <a:ext cx="1566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00644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258800" y="3120840"/>
              <a:ext cx="234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641480" y="3192480"/>
              <a:ext cx="1411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782960" y="3192480"/>
              <a:ext cx="1105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893840" y="3192480"/>
              <a:ext cx="1252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146200" y="3124080"/>
              <a:ext cx="7920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8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224320" y="3192480"/>
              <a:ext cx="15660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382720" y="3117600"/>
              <a:ext cx="1569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54004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665320" y="3192480"/>
              <a:ext cx="1569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53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83056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95584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113160" y="3117600"/>
              <a:ext cx="1569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27048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39720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546600" y="3139920"/>
              <a:ext cx="1090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783120" y="3192480"/>
              <a:ext cx="1407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92424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081560" y="3117600"/>
              <a:ext cx="1566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365600" y="3192480"/>
              <a:ext cx="2044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562520" y="3192480"/>
              <a:ext cx="1249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13440" y="3117600"/>
              <a:ext cx="1486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962480" y="3192480"/>
              <a:ext cx="1569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8121240" y="3192480"/>
              <a:ext cx="14112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8254800" y="3192480"/>
              <a:ext cx="20448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401760" y="3546360"/>
              <a:ext cx="1090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12280" y="3524040"/>
              <a:ext cx="15696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69600" y="3598920"/>
              <a:ext cx="1407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810720" y="3546360"/>
              <a:ext cx="10944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2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015560" y="3527280"/>
              <a:ext cx="212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228320" y="3511440"/>
              <a:ext cx="1062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228320" y="3705120"/>
              <a:ext cx="2250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468080" y="350820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577520" y="3527280"/>
              <a:ext cx="234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914120" y="3508200"/>
              <a:ext cx="792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071440" y="3527280"/>
              <a:ext cx="220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290320" y="3508200"/>
              <a:ext cx="1094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479320" y="3441600"/>
              <a:ext cx="13932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619000" y="3450960"/>
              <a:ext cx="22500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2200" bIns="-44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846160" y="3441600"/>
              <a:ext cx="2250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65080" y="3582720"/>
              <a:ext cx="2203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9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</a:rPr>
                <a:t>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149280" y="3527280"/>
              <a:ext cx="2124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362040" y="350820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473280" y="3527280"/>
              <a:ext cx="23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08080" y="3508200"/>
              <a:ext cx="7920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965400" y="3527280"/>
              <a:ext cx="220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1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4186080" y="3508200"/>
              <a:ext cx="1090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4374720" y="3616200"/>
              <a:ext cx="22032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240" bIns="-73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4673160" y="3598920"/>
              <a:ext cx="169560" cy="1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0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43080" y="3508200"/>
              <a:ext cx="14112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984560" y="3538440"/>
              <a:ext cx="140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125680" y="3690720"/>
              <a:ext cx="7920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401760" y="3048120"/>
              <a:ext cx="8056080" cy="741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1050840" y="1628280"/>
            <a:ext cx="70423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Motivation and Not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ff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Quantum Uncertainty Rel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826920" y="3070080"/>
            <a:ext cx="7201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"/>
          <p:cNvSpPr/>
          <p:nvPr/>
        </p:nvSpPr>
        <p:spPr>
          <a:xfrm>
            <a:off x="3995640" y="3213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conjugate coding / BB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7" name=""/>
          <p:cNvGrpSpPr/>
          <p:nvPr/>
        </p:nvGrpSpPr>
        <p:grpSpPr>
          <a:xfrm>
            <a:off x="993600" y="3230640"/>
            <a:ext cx="2209680" cy="3077640"/>
            <a:chOff x="993600" y="3230640"/>
            <a:chExt cx="2209680" cy="3077640"/>
          </a:xfrm>
        </p:grpSpPr>
        <p:sp>
          <p:nvSpPr>
            <p:cNvPr id="3608" name=""/>
            <p:cNvSpPr/>
            <p:nvPr/>
          </p:nvSpPr>
          <p:spPr>
            <a:xfrm>
              <a:off x="993600" y="3230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1325520" y="3279600"/>
              <a:ext cx="212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612800" y="3319200"/>
              <a:ext cx="1825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795320" y="3376440"/>
              <a:ext cx="165240" cy="12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6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462040" y="3347640"/>
              <a:ext cx="108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568600" y="3298680"/>
              <a:ext cx="10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674800" y="3347640"/>
              <a:ext cx="1364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811240" y="3298680"/>
              <a:ext cx="1065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917800" y="3347640"/>
              <a:ext cx="1206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1164960" y="3589200"/>
              <a:ext cx="1368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120" bIns="67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1301760" y="3635280"/>
              <a:ext cx="2124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1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514160" y="3765240"/>
              <a:ext cx="7632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636560" y="3635280"/>
              <a:ext cx="2127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040" bIns="21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1847520" y="3589200"/>
              <a:ext cx="13680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120" bIns="67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984320" y="3612960"/>
              <a:ext cx="135000" cy="8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06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679480" y="3676320"/>
              <a:ext cx="141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00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993600" y="389700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611000" y="53780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611000" y="5487840"/>
              <a:ext cx="76320" cy="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1611000" y="5597280"/>
              <a:ext cx="76320" cy="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993600" y="62924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001520" y="3236760"/>
              <a:ext cx="2201760" cy="3071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0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36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lassical general le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iate it for various quantum co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ntributions I: Uncertainty Rela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632" name=""/>
          <p:cNvGrpSpPr/>
          <p:nvPr/>
        </p:nvGrpSpPr>
        <p:grpSpPr>
          <a:xfrm>
            <a:off x="900000" y="1700280"/>
            <a:ext cx="5173920" cy="318960"/>
            <a:chOff x="900000" y="1700280"/>
            <a:chExt cx="5173920" cy="318960"/>
          </a:xfrm>
        </p:grpSpPr>
        <p:sp>
          <p:nvSpPr>
            <p:cNvPr id="3633" name=""/>
            <p:cNvSpPr/>
            <p:nvPr/>
          </p:nvSpPr>
          <p:spPr>
            <a:xfrm>
              <a:off x="900000" y="174312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11239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123804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1441440" y="185436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1622520" y="1722600"/>
              <a:ext cx="82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178740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011320" y="170172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095560" y="1709640"/>
              <a:ext cx="1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281320" y="1704960"/>
              <a:ext cx="118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496960" y="1836720"/>
              <a:ext cx="2304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809800" y="1817640"/>
              <a:ext cx="138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96208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159000" y="175752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47328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792600" y="1836720"/>
              <a:ext cx="296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238640" y="1743120"/>
              <a:ext cx="222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460760" y="1727280"/>
              <a:ext cx="1126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460760" y="1930320"/>
              <a:ext cx="236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7131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27600" y="174312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5051520" y="1749240"/>
              <a:ext cx="1458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21316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411880" y="1728720"/>
              <a:ext cx="230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572436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896080" y="1817640"/>
              <a:ext cx="177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900000" y="1700280"/>
              <a:ext cx="5173920" cy="318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1691640" y="3862080"/>
            <a:ext cx="610560" cy="610560"/>
            <a:chOff x="1691640" y="3862080"/>
            <a:chExt cx="610560" cy="610560"/>
          </a:xfrm>
        </p:grpSpPr>
        <p:sp>
          <p:nvSpPr>
            <p:cNvPr id="3660" name=""/>
            <p:cNvSpPr/>
            <p:nvPr/>
          </p:nvSpPr>
          <p:spPr>
            <a:xfrm rot="2700000">
              <a:off x="1780920" y="3951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1881720" y="40276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 flipV="1">
              <a:off x="1856880" y="40273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3" name=""/>
          <p:cNvGrpSpPr/>
          <p:nvPr/>
        </p:nvGrpSpPr>
        <p:grpSpPr>
          <a:xfrm>
            <a:off x="1781280" y="4416480"/>
            <a:ext cx="431640" cy="431640"/>
            <a:chOff x="1781280" y="4416480"/>
            <a:chExt cx="431640" cy="431640"/>
          </a:xfrm>
        </p:grpSpPr>
        <p:sp>
          <p:nvSpPr>
            <p:cNvPr id="3664" name=""/>
            <p:cNvSpPr/>
            <p:nvPr/>
          </p:nvSpPr>
          <p:spPr>
            <a:xfrm>
              <a:off x="1781280" y="441648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 flipV="1">
              <a:off x="1996560" y="443664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 flipV="1">
              <a:off x="1860480" y="463176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7" name=""/>
          <p:cNvGrpSpPr/>
          <p:nvPr/>
        </p:nvGrpSpPr>
        <p:grpSpPr>
          <a:xfrm>
            <a:off x="1133640" y="3951360"/>
            <a:ext cx="431640" cy="431640"/>
            <a:chOff x="1133640" y="3951360"/>
            <a:chExt cx="431640" cy="431640"/>
          </a:xfrm>
        </p:grpSpPr>
        <p:sp>
          <p:nvSpPr>
            <p:cNvPr id="3668" name=""/>
            <p:cNvSpPr/>
            <p:nvPr/>
          </p:nvSpPr>
          <p:spPr>
            <a:xfrm>
              <a:off x="1133640" y="3951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 flipV="1">
              <a:off x="1348920" y="397152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V="1">
              <a:off x="1212840" y="416664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1" name=""/>
          <p:cNvGrpSpPr/>
          <p:nvPr/>
        </p:nvGrpSpPr>
        <p:grpSpPr>
          <a:xfrm>
            <a:off x="1043640" y="4333320"/>
            <a:ext cx="610920" cy="610560"/>
            <a:chOff x="1043640" y="4333320"/>
            <a:chExt cx="610920" cy="610560"/>
          </a:xfrm>
        </p:grpSpPr>
        <p:sp>
          <p:nvSpPr>
            <p:cNvPr id="3672" name=""/>
            <p:cNvSpPr/>
            <p:nvPr/>
          </p:nvSpPr>
          <p:spPr>
            <a:xfrm rot="2700000">
              <a:off x="1132920" y="442260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V="1">
              <a:off x="1234080" y="449928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H="1" flipV="1">
              <a:off x="1209240" y="449892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5" name=""/>
          <p:cNvSpPr/>
          <p:nvPr/>
        </p:nvSpPr>
        <p:spPr>
          <a:xfrm>
            <a:off x="1330200" y="38070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1312920" y="429264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2433600" y="3591000"/>
            <a:ext cx="719280" cy="2663640"/>
            <a:chOff x="2433600" y="3591000"/>
            <a:chExt cx="719280" cy="2663640"/>
          </a:xfrm>
        </p:grpSpPr>
        <p:sp>
          <p:nvSpPr>
            <p:cNvPr id="3678" name=""/>
            <p:cNvSpPr/>
            <p:nvPr/>
          </p:nvSpPr>
          <p:spPr>
            <a:xfrm>
              <a:off x="2433600" y="3591000"/>
              <a:ext cx="719280" cy="1871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2475000" y="4425840"/>
              <a:ext cx="647280" cy="431640"/>
              <a:chOff x="2475000" y="4425840"/>
              <a:chExt cx="647280" cy="431640"/>
            </a:xfrm>
          </p:grpSpPr>
          <p:sp>
            <p:nvSpPr>
              <p:cNvPr id="3680" name=""/>
              <p:cNvSpPr/>
              <p:nvPr/>
            </p:nvSpPr>
            <p:spPr>
              <a:xfrm>
                <a:off x="2475000" y="442584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 flipV="1">
                <a:off x="2797920" y="444600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2593800" y="464184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2622240" y="444528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 flipV="1">
                <a:off x="2647440" y="451080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5" name=""/>
            <p:cNvGrpSpPr/>
            <p:nvPr/>
          </p:nvGrpSpPr>
          <p:grpSpPr>
            <a:xfrm>
              <a:off x="2534040" y="4785480"/>
              <a:ext cx="602280" cy="618480"/>
              <a:chOff x="2534040" y="4785480"/>
              <a:chExt cx="602280" cy="618480"/>
            </a:xfrm>
          </p:grpSpPr>
          <p:sp>
            <p:nvSpPr>
              <p:cNvPr id="3686" name=""/>
              <p:cNvSpPr/>
              <p:nvPr/>
            </p:nvSpPr>
            <p:spPr>
              <a:xfrm rot="19923600">
                <a:off x="2619000" y="485892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H="1" flipV="1">
                <a:off x="2734560" y="4906440"/>
                <a:ext cx="185400" cy="345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2715120" y="5009400"/>
                <a:ext cx="281520" cy="151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V="1">
                <a:off x="2785680" y="4913640"/>
                <a:ext cx="104400" cy="3394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H="1" flipV="1">
                <a:off x="2630160" y="5039640"/>
                <a:ext cx="380160" cy="11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1" name=""/>
            <p:cNvSpPr/>
            <p:nvPr/>
          </p:nvSpPr>
          <p:spPr>
            <a:xfrm>
              <a:off x="2602080" y="582300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 flipH="1" flipV="1">
              <a:off x="2818080" y="58431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2700000">
              <a:off x="2619720" y="53622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H="1" flipV="1">
              <a:off x="2695680" y="543996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5" name=""/>
            <p:cNvGrpSpPr/>
            <p:nvPr/>
          </p:nvGrpSpPr>
          <p:grpSpPr>
            <a:xfrm>
              <a:off x="2581560" y="3951360"/>
              <a:ext cx="431640" cy="431640"/>
              <a:chOff x="2581560" y="3951360"/>
              <a:chExt cx="431640" cy="431640"/>
            </a:xfrm>
          </p:grpSpPr>
          <p:sp>
            <p:nvSpPr>
              <p:cNvPr id="3696" name=""/>
              <p:cNvSpPr/>
              <p:nvPr/>
            </p:nvSpPr>
            <p:spPr>
              <a:xfrm>
                <a:off x="2581560" y="39513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 flipV="1">
                <a:off x="2796840" y="39715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2660760" y="41673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V="1">
                <a:off x="2679480" y="40334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 flipV="1">
                <a:off x="2654280" y="40352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01" name=""/>
          <p:cNvGrpSpPr/>
          <p:nvPr/>
        </p:nvGrpSpPr>
        <p:grpSpPr>
          <a:xfrm>
            <a:off x="4572000" y="3824280"/>
            <a:ext cx="2595240" cy="325440"/>
            <a:chOff x="4572000" y="3824280"/>
            <a:chExt cx="2595240" cy="325440"/>
          </a:xfrm>
        </p:grpSpPr>
        <p:sp>
          <p:nvSpPr>
            <p:cNvPr id="3702" name=""/>
            <p:cNvSpPr/>
            <p:nvPr/>
          </p:nvSpPr>
          <p:spPr>
            <a:xfrm>
              <a:off x="4572000" y="384804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4816440" y="3830760"/>
              <a:ext cx="1220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4816440" y="405288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091120" y="382608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17840" y="384804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601960" y="382608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83040" y="384804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035400" y="382608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251400" y="386244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648120" y="392904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843600" y="3826080"/>
              <a:ext cx="16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7005600" y="3861000"/>
              <a:ext cx="161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572000" y="3824280"/>
              <a:ext cx="25952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"/>
          <p:cNvSpPr/>
          <p:nvPr/>
        </p:nvSpPr>
        <p:spPr>
          <a:xfrm>
            <a:off x="3995640" y="3213000"/>
            <a:ext cx="48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conjugate coding / BB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three bases / six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36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classical general lem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iate it for various quantum co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ntributions I: Uncertainty Rela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900000" y="1700280"/>
            <a:ext cx="5173920" cy="318960"/>
            <a:chOff x="900000" y="1700280"/>
            <a:chExt cx="5173920" cy="318960"/>
          </a:xfrm>
        </p:grpSpPr>
        <p:sp>
          <p:nvSpPr>
            <p:cNvPr id="3719" name=""/>
            <p:cNvSpPr/>
            <p:nvPr/>
          </p:nvSpPr>
          <p:spPr>
            <a:xfrm>
              <a:off x="900000" y="1743120"/>
              <a:ext cx="222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1239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23804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441440" y="185436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622520" y="1722600"/>
              <a:ext cx="824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787400" y="1743120"/>
              <a:ext cx="2034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011320" y="1701720"/>
              <a:ext cx="84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6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095560" y="1709640"/>
              <a:ext cx="185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23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sy7"/>
                </a:rPr>
                <a:t>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281320" y="1704960"/>
              <a:ext cx="1188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496960" y="1836720"/>
              <a:ext cx="2304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09800" y="1817640"/>
              <a:ext cx="1382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96208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3159000" y="1757520"/>
              <a:ext cx="230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47328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3792600" y="1836720"/>
              <a:ext cx="2966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sy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38640" y="1743120"/>
              <a:ext cx="2221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460760" y="1727280"/>
              <a:ext cx="11268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460760" y="1930320"/>
              <a:ext cx="2365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71312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827600" y="1743120"/>
              <a:ext cx="2030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051520" y="1749240"/>
              <a:ext cx="14580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8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mmi7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213160" y="1722600"/>
              <a:ext cx="1159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2120" bIns="730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11880" y="1728720"/>
              <a:ext cx="2300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600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msam10"/>
                </a:rPr>
                <a:t>&amp;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724360" y="1739880"/>
              <a:ext cx="171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896080" y="1817640"/>
              <a:ext cx="17784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7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900000" y="1700280"/>
              <a:ext cx="5173920" cy="318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5" name=""/>
          <p:cNvGrpSpPr/>
          <p:nvPr/>
        </p:nvGrpSpPr>
        <p:grpSpPr>
          <a:xfrm>
            <a:off x="4572000" y="3824280"/>
            <a:ext cx="2595240" cy="325440"/>
            <a:chOff x="4572000" y="3824280"/>
            <a:chExt cx="2595240" cy="325440"/>
          </a:xfrm>
        </p:grpSpPr>
        <p:sp>
          <p:nvSpPr>
            <p:cNvPr id="3746" name=""/>
            <p:cNvSpPr/>
            <p:nvPr/>
          </p:nvSpPr>
          <p:spPr>
            <a:xfrm>
              <a:off x="4572000" y="3848040"/>
              <a:ext cx="2426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816440" y="3830760"/>
              <a:ext cx="1220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816440" y="4052880"/>
              <a:ext cx="2584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091120" y="3826080"/>
              <a:ext cx="126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217840" y="3848040"/>
              <a:ext cx="2685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601960" y="3826080"/>
              <a:ext cx="90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83040" y="3848040"/>
              <a:ext cx="2523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035400" y="3826080"/>
              <a:ext cx="12708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6251400" y="3862440"/>
              <a:ext cx="2523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42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6648120" y="3929040"/>
              <a:ext cx="195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6843600" y="3826080"/>
              <a:ext cx="162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80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7005600" y="3861000"/>
              <a:ext cx="161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572000" y="3824280"/>
              <a:ext cx="2595240" cy="32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9" name=""/>
          <p:cNvGrpSpPr/>
          <p:nvPr/>
        </p:nvGrpSpPr>
        <p:grpSpPr>
          <a:xfrm>
            <a:off x="1045080" y="3844440"/>
            <a:ext cx="610920" cy="610560"/>
            <a:chOff x="1045080" y="3844440"/>
            <a:chExt cx="610920" cy="610560"/>
          </a:xfrm>
        </p:grpSpPr>
        <p:sp>
          <p:nvSpPr>
            <p:cNvPr id="3760" name=""/>
            <p:cNvSpPr/>
            <p:nvPr/>
          </p:nvSpPr>
          <p:spPr>
            <a:xfrm rot="2700000">
              <a:off x="1134360" y="393372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V="1">
              <a:off x="1235520" y="401040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1210680" y="401004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3" name=""/>
          <p:cNvGrpSpPr/>
          <p:nvPr/>
        </p:nvGrpSpPr>
        <p:grpSpPr>
          <a:xfrm>
            <a:off x="1854360" y="4419720"/>
            <a:ext cx="431640" cy="431640"/>
            <a:chOff x="1854360" y="4419720"/>
            <a:chExt cx="431640" cy="431640"/>
          </a:xfrm>
        </p:grpSpPr>
        <p:sp>
          <p:nvSpPr>
            <p:cNvPr id="3764" name=""/>
            <p:cNvSpPr/>
            <p:nvPr/>
          </p:nvSpPr>
          <p:spPr>
            <a:xfrm>
              <a:off x="1854360" y="44197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H="1" flipV="1">
              <a:off x="2069640" y="443988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1933560" y="46350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7" name=""/>
          <p:cNvGrpSpPr/>
          <p:nvPr/>
        </p:nvGrpSpPr>
        <p:grpSpPr>
          <a:xfrm>
            <a:off x="487440" y="3933720"/>
            <a:ext cx="431640" cy="431640"/>
            <a:chOff x="487440" y="3933720"/>
            <a:chExt cx="431640" cy="431640"/>
          </a:xfrm>
        </p:grpSpPr>
        <p:sp>
          <p:nvSpPr>
            <p:cNvPr id="3768" name=""/>
            <p:cNvSpPr/>
            <p:nvPr/>
          </p:nvSpPr>
          <p:spPr>
            <a:xfrm>
              <a:off x="487440" y="39337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 flipV="1">
              <a:off x="702720" y="395388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566640" y="41490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1" name=""/>
          <p:cNvGrpSpPr/>
          <p:nvPr/>
        </p:nvGrpSpPr>
        <p:grpSpPr>
          <a:xfrm>
            <a:off x="397800" y="4316040"/>
            <a:ext cx="610560" cy="610560"/>
            <a:chOff x="397800" y="4316040"/>
            <a:chExt cx="610560" cy="610560"/>
          </a:xfrm>
        </p:grpSpPr>
        <p:sp>
          <p:nvSpPr>
            <p:cNvPr id="3772" name=""/>
            <p:cNvSpPr/>
            <p:nvPr/>
          </p:nvSpPr>
          <p:spPr>
            <a:xfrm rot="2700000">
              <a:off x="487080" y="44053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V="1">
              <a:off x="587880" y="44816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 flipH="1" flipV="1">
              <a:off x="563040" y="44812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5" name=""/>
          <p:cNvSpPr/>
          <p:nvPr/>
        </p:nvSpPr>
        <p:spPr>
          <a:xfrm>
            <a:off x="684360" y="378936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666720" y="42750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7" name=""/>
          <p:cNvGrpSpPr/>
          <p:nvPr/>
        </p:nvGrpSpPr>
        <p:grpSpPr>
          <a:xfrm>
            <a:off x="2430360" y="3573360"/>
            <a:ext cx="719280" cy="2663640"/>
            <a:chOff x="2430360" y="3573360"/>
            <a:chExt cx="719280" cy="2663640"/>
          </a:xfrm>
        </p:grpSpPr>
        <p:sp>
          <p:nvSpPr>
            <p:cNvPr id="3778" name=""/>
            <p:cNvSpPr/>
            <p:nvPr/>
          </p:nvSpPr>
          <p:spPr>
            <a:xfrm>
              <a:off x="2430360" y="3573360"/>
              <a:ext cx="719280" cy="1871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9" name=""/>
            <p:cNvGrpSpPr/>
            <p:nvPr/>
          </p:nvGrpSpPr>
          <p:grpSpPr>
            <a:xfrm>
              <a:off x="2471760" y="4408200"/>
              <a:ext cx="647280" cy="431640"/>
              <a:chOff x="2471760" y="4408200"/>
              <a:chExt cx="647280" cy="431640"/>
            </a:xfrm>
          </p:grpSpPr>
          <p:sp>
            <p:nvSpPr>
              <p:cNvPr id="3780" name=""/>
              <p:cNvSpPr/>
              <p:nvPr/>
            </p:nvSpPr>
            <p:spPr>
              <a:xfrm>
                <a:off x="2471760" y="4408200"/>
                <a:ext cx="64728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 flipV="1">
                <a:off x="2794680" y="4428360"/>
                <a:ext cx="252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 flipV="1">
                <a:off x="2590560" y="4624200"/>
                <a:ext cx="47880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 flipV="1">
                <a:off x="2619000" y="4427640"/>
                <a:ext cx="376560" cy="3765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 flipV="1">
                <a:off x="2644200" y="4493160"/>
                <a:ext cx="263160" cy="2491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5" name=""/>
            <p:cNvGrpSpPr/>
            <p:nvPr/>
          </p:nvGrpSpPr>
          <p:grpSpPr>
            <a:xfrm>
              <a:off x="2530800" y="4767840"/>
              <a:ext cx="602280" cy="618480"/>
              <a:chOff x="2530800" y="4767840"/>
              <a:chExt cx="602280" cy="618480"/>
            </a:xfrm>
          </p:grpSpPr>
          <p:sp>
            <p:nvSpPr>
              <p:cNvPr id="3786" name=""/>
              <p:cNvSpPr/>
              <p:nvPr/>
            </p:nvSpPr>
            <p:spPr>
              <a:xfrm rot="19923600">
                <a:off x="2615760" y="4841280"/>
                <a:ext cx="431640" cy="4712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 flipV="1">
                <a:off x="2731320" y="4888800"/>
                <a:ext cx="185400" cy="3456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 flipV="1">
                <a:off x="2711880" y="4991760"/>
                <a:ext cx="281520" cy="151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 flipV="1">
                <a:off x="2782440" y="4896000"/>
                <a:ext cx="104400" cy="3394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H="1" flipV="1">
                <a:off x="2626920" y="5022000"/>
                <a:ext cx="380160" cy="1101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1" name=""/>
            <p:cNvSpPr/>
            <p:nvPr/>
          </p:nvSpPr>
          <p:spPr>
            <a:xfrm>
              <a:off x="2598840" y="580536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H="1" flipV="1">
              <a:off x="2814840" y="582552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 rot="2700000">
              <a:off x="2616480" y="534456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 flipV="1">
              <a:off x="2692440" y="542232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5" name=""/>
            <p:cNvGrpSpPr/>
            <p:nvPr/>
          </p:nvGrpSpPr>
          <p:grpSpPr>
            <a:xfrm>
              <a:off x="2578320" y="3933720"/>
              <a:ext cx="431640" cy="431640"/>
              <a:chOff x="2578320" y="3933720"/>
              <a:chExt cx="431640" cy="431640"/>
            </a:xfrm>
          </p:grpSpPr>
          <p:sp>
            <p:nvSpPr>
              <p:cNvPr id="3796" name=""/>
              <p:cNvSpPr/>
              <p:nvPr/>
            </p:nvSpPr>
            <p:spPr>
              <a:xfrm>
                <a:off x="2578320" y="39337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 flipV="1">
                <a:off x="2793600" y="39538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 flipV="1">
                <a:off x="2657520" y="41497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 flipV="1">
                <a:off x="2676240" y="40158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 flipV="1">
                <a:off x="2651040" y="40176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01" name=""/>
          <p:cNvSpPr/>
          <p:nvPr/>
        </p:nvSpPr>
        <p:spPr>
          <a:xfrm>
            <a:off x="1386000" y="378936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1351080" y="42750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3" name=""/>
          <p:cNvGrpSpPr/>
          <p:nvPr/>
        </p:nvGrpSpPr>
        <p:grpSpPr>
          <a:xfrm>
            <a:off x="1854360" y="3916440"/>
            <a:ext cx="431640" cy="431640"/>
            <a:chOff x="1854360" y="3916440"/>
            <a:chExt cx="431640" cy="431640"/>
          </a:xfrm>
        </p:grpSpPr>
        <p:sp>
          <p:nvSpPr>
            <p:cNvPr id="3804" name=""/>
            <p:cNvSpPr/>
            <p:nvPr/>
          </p:nvSpPr>
          <p:spPr>
            <a:xfrm>
              <a:off x="1854360" y="3916440"/>
              <a:ext cx="431640" cy="4316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 rot="15103800">
              <a:off x="1962000" y="4014360"/>
              <a:ext cx="215280" cy="231480"/>
            </a:xfrm>
            <a:custGeom>
              <a:avLst/>
              <a:gdLst/>
              <a:ahLst/>
              <a:rect l="l" t="t" r="r" b="b"/>
              <a:pathLst>
                <a:path w="270" h="268">
                  <a:moveTo>
                    <a:pt x="240" y="216"/>
                  </a:moveTo>
                  <a:cubicBezTo>
                    <a:pt x="222" y="238"/>
                    <a:pt x="208" y="266"/>
                    <a:pt x="140" y="268"/>
                  </a:cubicBezTo>
                  <a:cubicBezTo>
                    <a:pt x="52" y="264"/>
                    <a:pt x="0" y="202"/>
                    <a:pt x="0" y="134"/>
                  </a:cubicBezTo>
                  <a:cubicBezTo>
                    <a:pt x="0" y="66"/>
                    <a:pt x="64" y="0"/>
                    <a:pt x="134" y="0"/>
                  </a:cubicBezTo>
                  <a:cubicBezTo>
                    <a:pt x="204" y="0"/>
                    <a:pt x="223" y="29"/>
                    <a:pt x="246" y="54"/>
                  </a:cubicBezTo>
                  <a:cubicBezTo>
                    <a:pt x="269" y="79"/>
                    <a:pt x="265" y="131"/>
                    <a:pt x="270" y="151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1135080" y="4419720"/>
            <a:ext cx="431640" cy="431640"/>
            <a:chOff x="1135080" y="4419720"/>
            <a:chExt cx="431640" cy="431640"/>
          </a:xfrm>
        </p:grpSpPr>
        <p:sp>
          <p:nvSpPr>
            <p:cNvPr id="3807" name=""/>
            <p:cNvSpPr/>
            <p:nvPr/>
          </p:nvSpPr>
          <p:spPr>
            <a:xfrm>
              <a:off x="1135080" y="4419720"/>
              <a:ext cx="431640" cy="4316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 rot="15103800">
              <a:off x="1242720" y="4517640"/>
              <a:ext cx="215280" cy="231480"/>
            </a:xfrm>
            <a:custGeom>
              <a:avLst/>
              <a:gdLst/>
              <a:ahLst/>
              <a:rect l="l" t="t" r="r" b="b"/>
              <a:pathLst>
                <a:path w="270" h="268">
                  <a:moveTo>
                    <a:pt x="240" y="216"/>
                  </a:moveTo>
                  <a:cubicBezTo>
                    <a:pt x="222" y="238"/>
                    <a:pt x="208" y="266"/>
                    <a:pt x="140" y="268"/>
                  </a:cubicBezTo>
                  <a:cubicBezTo>
                    <a:pt x="52" y="264"/>
                    <a:pt x="0" y="202"/>
                    <a:pt x="0" y="134"/>
                  </a:cubicBezTo>
                  <a:cubicBezTo>
                    <a:pt x="0" y="66"/>
                    <a:pt x="64" y="0"/>
                    <a:pt x="134" y="0"/>
                  </a:cubicBezTo>
                  <a:cubicBezTo>
                    <a:pt x="204" y="0"/>
                    <a:pt x="223" y="29"/>
                    <a:pt x="246" y="54"/>
                  </a:cubicBezTo>
                  <a:cubicBezTo>
                    <a:pt x="269" y="79"/>
                    <a:pt x="265" y="131"/>
                    <a:pt x="270" y="151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630360" y="3213000"/>
            <a:ext cx="2543040" cy="3078360"/>
            <a:chOff x="630360" y="3213000"/>
            <a:chExt cx="2543040" cy="3078360"/>
          </a:xfrm>
        </p:grpSpPr>
        <p:sp>
          <p:nvSpPr>
            <p:cNvPr id="3810" name=""/>
            <p:cNvSpPr/>
            <p:nvPr/>
          </p:nvSpPr>
          <p:spPr>
            <a:xfrm>
              <a:off x="630360" y="3213000"/>
              <a:ext cx="25369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28960" y="326232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416240" y="3301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598760" y="335916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432160" y="333036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540160" y="3281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646360" y="3330360"/>
              <a:ext cx="1368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783160" y="3281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889360" y="333036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801720" y="3571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938520" y="3618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150920" y="3747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73320" y="3618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484280" y="3747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606680" y="3618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msam10"/>
                </a:rPr>
                <a:t>ª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819440" y="3571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955880" y="3595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651400" y="3659040"/>
              <a:ext cx="141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30360" y="3879720"/>
              <a:ext cx="25369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414440" y="536076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414440" y="547056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4440" y="558000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30360" y="6275160"/>
              <a:ext cx="25369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38280" y="3219480"/>
              <a:ext cx="2535120" cy="30718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4" name=""/>
          <p:cNvGrpSpPr/>
          <p:nvPr/>
        </p:nvGrpSpPr>
        <p:grpSpPr>
          <a:xfrm>
            <a:off x="4572000" y="5013360"/>
            <a:ext cx="2479680" cy="385560"/>
            <a:chOff x="4572000" y="5013360"/>
            <a:chExt cx="2479680" cy="385560"/>
          </a:xfrm>
        </p:grpSpPr>
        <p:sp>
          <p:nvSpPr>
            <p:cNvPr id="3835" name=""/>
            <p:cNvSpPr/>
            <p:nvPr/>
          </p:nvSpPr>
          <p:spPr>
            <a:xfrm>
              <a:off x="4572000" y="5067000"/>
              <a:ext cx="24264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816440" y="5049720"/>
              <a:ext cx="1220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7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816440" y="5271840"/>
              <a:ext cx="25848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091120" y="5045040"/>
              <a:ext cx="1267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280" bIns="80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217840" y="5067000"/>
              <a:ext cx="2685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601960" y="5045040"/>
              <a:ext cx="9072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280" bIns="80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sy10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783040" y="5067000"/>
              <a:ext cx="25236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035400" y="5045040"/>
              <a:ext cx="1270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280" bIns="80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251400" y="5081400"/>
              <a:ext cx="252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5920" bIns="42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sy10"/>
                </a:rPr>
                <a:t>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688080" y="5013360"/>
              <a:ext cx="1299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r7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688080" y="5206680"/>
              <a:ext cx="128520" cy="0"/>
            </a:xfrm>
            <a:prstGeom prst="line">
              <a:avLst/>
            </a:prstGeom>
            <a:ln w="129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688080" y="5252760"/>
              <a:ext cx="1299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r7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856200" y="5148000"/>
              <a:ext cx="1954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cmmi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572000" y="5013360"/>
              <a:ext cx="2477880" cy="385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Bounded-Quantum-Storage Model:</a:t>
            </a:r>
            <a:br>
              <a:rPr sz="2800"/>
            </a:b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on-interactive, prac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protoco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1-2 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cure according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ne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omposabl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defini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um Ke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proofs in realistic setting of a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quantum-memory bounded eavesdropp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olerate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higher error ra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n against unbounded adversari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sition of certain Quantum Ciphers: </a:t>
            </a:r>
            <a:br>
              <a:rPr sz="28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key-uncertain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ds up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in terms of min-entrop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ntributions II: Applica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1" name=""/>
          <p:cNvGrpSpPr/>
          <p:nvPr/>
        </p:nvGrpSpPr>
        <p:grpSpPr>
          <a:xfrm>
            <a:off x="434880" y="1781280"/>
            <a:ext cx="4784760" cy="1935000"/>
            <a:chOff x="434880" y="1781280"/>
            <a:chExt cx="4784760" cy="1935000"/>
          </a:xfrm>
        </p:grpSpPr>
        <p:sp>
          <p:nvSpPr>
            <p:cNvPr id="3852" name=""/>
            <p:cNvSpPr/>
            <p:nvPr/>
          </p:nvSpPr>
          <p:spPr>
            <a:xfrm>
              <a:off x="434880" y="1861920"/>
              <a:ext cx="169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04800" y="1861920"/>
              <a:ext cx="15228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57080" y="1861920"/>
              <a:ext cx="2556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012680" y="1861920"/>
              <a:ext cx="1368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495440" y="1782720"/>
              <a:ext cx="169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665360" y="1861920"/>
              <a:ext cx="1364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01800" y="1782720"/>
              <a:ext cx="169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971720" y="1861920"/>
              <a:ext cx="169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2141640" y="1790640"/>
              <a:ext cx="85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26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2225520" y="1806480"/>
              <a:ext cx="1191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68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344680" y="1790640"/>
              <a:ext cx="85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26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430360" y="186192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583000" y="1861920"/>
              <a:ext cx="16956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434880" y="2347920"/>
              <a:ext cx="2304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65280" y="2463840"/>
              <a:ext cx="122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52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01720" y="232704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920880" y="2347920"/>
              <a:ext cx="2095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1152360" y="232704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495440" y="2344680"/>
              <a:ext cx="856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1579680" y="2423880"/>
              <a:ext cx="15228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1733400" y="242388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1941480" y="229536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1941480" y="247968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043000" y="232704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197080" y="2423880"/>
              <a:ext cx="142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436840" y="2327040"/>
              <a:ext cx="8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608200" y="2347920"/>
              <a:ext cx="1969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803320" y="2455920"/>
              <a:ext cx="1670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002040" y="232704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3120840" y="2423880"/>
              <a:ext cx="142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3276720" y="232704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479760" y="2392200"/>
              <a:ext cx="23796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080" bIns="10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3803760" y="2359080"/>
              <a:ext cx="15228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20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956040" y="232704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4110120" y="229536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4110120" y="2479680"/>
              <a:ext cx="1015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182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873680" y="2423880"/>
              <a:ext cx="18396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434880" y="289080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665280" y="287028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784080" y="289080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1014480" y="287028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1495440" y="2921040"/>
              <a:ext cx="23796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120" bIns="24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1784160" y="2868480"/>
              <a:ext cx="324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-360" bIns="304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106720" y="3097080"/>
              <a:ext cx="117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298600" y="2890800"/>
              <a:ext cx="19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495520" y="2998800"/>
              <a:ext cx="1666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69388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813040" y="296676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96856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138480" y="288756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222720" y="29667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3376440" y="296676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358452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3703680" y="2890800"/>
              <a:ext cx="19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900600" y="2998800"/>
              <a:ext cx="16668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09716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216320" y="296676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37184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491000" y="287028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713120" y="2950920"/>
              <a:ext cx="2383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-9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035680" y="296676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434880" y="3432240"/>
              <a:ext cx="23040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665280" y="35938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923760" y="34113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042920" y="3432240"/>
              <a:ext cx="2095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1273320" y="34113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1495440" y="3462120"/>
              <a:ext cx="2379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480" bIns="25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1784160" y="3429000"/>
              <a:ext cx="860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6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1868400" y="350820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022480" y="3508200"/>
              <a:ext cx="152280" cy="19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58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230560" y="34113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349360" y="3508200"/>
              <a:ext cx="2556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604960" y="350820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757600" y="3508200"/>
              <a:ext cx="161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919240" y="3593880"/>
              <a:ext cx="117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111480" y="3432240"/>
              <a:ext cx="19692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36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308400" y="353988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505320" y="34113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624120" y="3508200"/>
              <a:ext cx="1429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779640" y="34113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898800" y="34113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4721040" y="3508200"/>
              <a:ext cx="18432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905360" y="3411360"/>
              <a:ext cx="152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057640" y="3443040"/>
              <a:ext cx="15264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434880" y="1781280"/>
              <a:ext cx="4784760" cy="1935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7" name=""/>
          <p:cNvSpPr/>
          <p:nvPr/>
        </p:nvSpPr>
        <p:spPr>
          <a:xfrm>
            <a:off x="4643280" y="2852640"/>
            <a:ext cx="72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4643280" y="2133720"/>
            <a:ext cx="72072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Entropie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3940" name=""/>
          <p:cNvGrpSpPr/>
          <p:nvPr/>
        </p:nvGrpSpPr>
        <p:grpSpPr>
          <a:xfrm>
            <a:off x="730080" y="4719600"/>
            <a:ext cx="2041560" cy="276120"/>
            <a:chOff x="730080" y="4719600"/>
            <a:chExt cx="2041560" cy="276120"/>
          </a:xfrm>
        </p:grpSpPr>
        <p:sp>
          <p:nvSpPr>
            <p:cNvPr id="3941" name=""/>
            <p:cNvSpPr/>
            <p:nvPr/>
          </p:nvSpPr>
          <p:spPr>
            <a:xfrm>
              <a:off x="730080" y="4721040"/>
              <a:ext cx="247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0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977760" y="4897080"/>
              <a:ext cx="26352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350720" y="4736880"/>
              <a:ext cx="2570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160" bIns="43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1699920" y="4721040"/>
              <a:ext cx="247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0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041200" y="4736880"/>
              <a:ext cx="2570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160" bIns="43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90400" y="4721040"/>
              <a:ext cx="24768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0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638080" y="4846320"/>
              <a:ext cx="1317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730080" y="4719600"/>
              <a:ext cx="2041560" cy="2761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9" name=""/>
          <p:cNvGrpSpPr/>
          <p:nvPr/>
        </p:nvGrpSpPr>
        <p:grpSpPr>
          <a:xfrm>
            <a:off x="5649840" y="1557360"/>
            <a:ext cx="3048120" cy="3306240"/>
            <a:chOff x="5649840" y="1557360"/>
            <a:chExt cx="3048120" cy="3306240"/>
          </a:xfrm>
        </p:grpSpPr>
        <p:sp>
          <p:nvSpPr>
            <p:cNvPr id="3950" name=""/>
            <p:cNvSpPr/>
            <p:nvPr/>
          </p:nvSpPr>
          <p:spPr>
            <a:xfrm>
              <a:off x="6662880" y="2349360"/>
              <a:ext cx="149040" cy="187272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6878520" y="4005000"/>
              <a:ext cx="14940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7094520" y="4005000"/>
              <a:ext cx="14940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7310520" y="4005000"/>
              <a:ext cx="14904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8021520" y="4005000"/>
              <a:ext cx="149400" cy="217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7512120" y="388116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V="1">
              <a:off x="6586560" y="1917360"/>
              <a:ext cx="0" cy="23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6591240" y="4224240"/>
              <a:ext cx="18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6442200" y="234936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6442920" y="400500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0" name=""/>
            <p:cNvGrpSpPr/>
            <p:nvPr/>
          </p:nvGrpSpPr>
          <p:grpSpPr>
            <a:xfrm>
              <a:off x="5649840" y="3717720"/>
              <a:ext cx="885600" cy="264240"/>
              <a:chOff x="5649840" y="3717720"/>
              <a:chExt cx="885600" cy="264240"/>
            </a:xfrm>
          </p:grpSpPr>
          <p:sp>
            <p:nvSpPr>
              <p:cNvPr id="3961" name=""/>
              <p:cNvSpPr/>
              <p:nvPr/>
            </p:nvSpPr>
            <p:spPr>
              <a:xfrm>
                <a:off x="5649840" y="3823560"/>
                <a:ext cx="257040" cy="15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3720" bIns="-9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sy10"/>
                    <a:ea typeface="Arial"/>
                  </a:rPr>
                  <a:t>¼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999040" y="3769560"/>
                <a:ext cx="16488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4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6163920" y="3718800"/>
                <a:ext cx="20664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560" bIns="266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6372000" y="3763080"/>
                <a:ext cx="16344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5649840" y="3717720"/>
                <a:ext cx="885600" cy="2631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6875640" y="4438440"/>
              <a:ext cx="1296360" cy="425160"/>
              <a:chOff x="6875640" y="4438440"/>
              <a:chExt cx="1296360" cy="425160"/>
            </a:xfrm>
          </p:grpSpPr>
          <p:sp>
            <p:nvSpPr>
              <p:cNvPr id="3967" name=""/>
              <p:cNvSpPr/>
              <p:nvPr/>
            </p:nvSpPr>
            <p:spPr>
              <a:xfrm>
                <a:off x="6875640" y="4438440"/>
                <a:ext cx="17100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|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7046640" y="44604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353000" y="4438440"/>
                <a:ext cx="17136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{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7524720" y="4438440"/>
                <a:ext cx="17100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694640" y="44604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8001000" y="4438440"/>
                <a:ext cx="171000" cy="4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392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}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7161120" y="4662000"/>
                <a:ext cx="15048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200" bIns="-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7311960" y="4674600"/>
                <a:ext cx="1663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8064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7497720" y="4668120"/>
                <a:ext cx="23616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080" bIns="298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7735680" y="4662000"/>
                <a:ext cx="15048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200" bIns="-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875640" y="4438440"/>
                <a:ext cx="1294920" cy="4251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5938920" y="2062080"/>
              <a:ext cx="558720" cy="280440"/>
              <a:chOff x="5938920" y="2062080"/>
              <a:chExt cx="558720" cy="280440"/>
            </a:xfrm>
          </p:grpSpPr>
          <p:sp>
            <p:nvSpPr>
              <p:cNvPr id="3979" name=""/>
              <p:cNvSpPr/>
              <p:nvPr/>
            </p:nvSpPr>
            <p:spPr>
              <a:xfrm>
                <a:off x="5938920" y="2130120"/>
                <a:ext cx="16488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040" bIns="-72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103800" y="2079360"/>
                <a:ext cx="206640" cy="1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200" bIns="262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350040" y="2063520"/>
                <a:ext cx="14580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6948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350040" y="2163600"/>
                <a:ext cx="14580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6367320" y="2195280"/>
                <a:ext cx="11268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584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r5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5938920" y="2062080"/>
                <a:ext cx="558720" cy="28044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5" name=""/>
            <p:cNvGrpSpPr/>
            <p:nvPr/>
          </p:nvGrpSpPr>
          <p:grpSpPr>
            <a:xfrm>
              <a:off x="8472600" y="4365360"/>
              <a:ext cx="225360" cy="226800"/>
              <a:chOff x="8472600" y="4365360"/>
              <a:chExt cx="225360" cy="226800"/>
            </a:xfrm>
          </p:grpSpPr>
          <p:sp>
            <p:nvSpPr>
              <p:cNvPr id="3986" name=""/>
              <p:cNvSpPr/>
              <p:nvPr/>
            </p:nvSpPr>
            <p:spPr>
              <a:xfrm>
                <a:off x="8472600" y="4366800"/>
                <a:ext cx="2253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0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8472600" y="4365360"/>
                <a:ext cx="225360" cy="22680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6154560" y="1557360"/>
              <a:ext cx="393480" cy="276120"/>
              <a:chOff x="6154560" y="1557360"/>
              <a:chExt cx="393480" cy="276120"/>
            </a:xfrm>
          </p:grpSpPr>
          <p:sp>
            <p:nvSpPr>
              <p:cNvPr id="3989" name=""/>
              <p:cNvSpPr/>
              <p:nvPr/>
            </p:nvSpPr>
            <p:spPr>
              <a:xfrm>
                <a:off x="6154560" y="1558800"/>
                <a:ext cx="212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0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367320" y="1676160"/>
                <a:ext cx="180720" cy="15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69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6154560" y="1557360"/>
                <a:ext cx="393480" cy="2761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92" name=""/>
          <p:cNvGrpSpPr/>
          <p:nvPr/>
        </p:nvGrpSpPr>
        <p:grpSpPr>
          <a:xfrm>
            <a:off x="539640" y="1052640"/>
            <a:ext cx="4502160" cy="331560"/>
            <a:chOff x="539640" y="1052640"/>
            <a:chExt cx="4502160" cy="331560"/>
          </a:xfrm>
        </p:grpSpPr>
        <p:sp>
          <p:nvSpPr>
            <p:cNvPr id="3993" name=""/>
            <p:cNvSpPr/>
            <p:nvPr/>
          </p:nvSpPr>
          <p:spPr>
            <a:xfrm>
              <a:off x="539640" y="1076400"/>
              <a:ext cx="225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900000" y="116064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02852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195200" y="116064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7916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56204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8720" y="1160640"/>
              <a:ext cx="276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114280" y="1160640"/>
              <a:ext cx="174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27160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43648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66800" y="1081080"/>
              <a:ext cx="92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65896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82384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008160" y="107316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10032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357360" y="116064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3514320" y="1160640"/>
              <a:ext cx="174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367956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382716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0669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423216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398840" y="12668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454644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47113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876560" y="1082520"/>
              <a:ext cx="16344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39640" y="1052640"/>
              <a:ext cx="4502160" cy="331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9" name=""/>
          <p:cNvGrpSpPr/>
          <p:nvPr/>
        </p:nvGrpSpPr>
        <p:grpSpPr>
          <a:xfrm>
            <a:off x="730080" y="5295960"/>
            <a:ext cx="5786280" cy="293400"/>
            <a:chOff x="730080" y="5295960"/>
            <a:chExt cx="5786280" cy="293400"/>
          </a:xfrm>
        </p:grpSpPr>
        <p:sp>
          <p:nvSpPr>
            <p:cNvPr id="4020" name=""/>
            <p:cNvSpPr/>
            <p:nvPr/>
          </p:nvSpPr>
          <p:spPr>
            <a:xfrm>
              <a:off x="730080" y="5297400"/>
              <a:ext cx="91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82188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977760" y="5384880"/>
              <a:ext cx="2394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207800" y="538488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355400" y="538488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485720" y="52974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67760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44280" y="5384880"/>
              <a:ext cx="184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026800" y="5384880"/>
              <a:ext cx="184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211120" y="52974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50632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671560" y="538488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66760" y="5300640"/>
              <a:ext cx="247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325680" y="5297400"/>
              <a:ext cx="230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2860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325680" y="5405400"/>
              <a:ext cx="33156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760" bIns="-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sy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766680" y="529740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385884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4014360" y="5384880"/>
              <a:ext cx="2397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w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4244760" y="538488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4392360" y="538488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4522320" y="5297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71600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881240" y="5384880"/>
              <a:ext cx="184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065560" y="538488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49520" y="5297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543280" y="538488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708520" y="538488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6003720" y="5300640"/>
              <a:ext cx="247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251400" y="5476680"/>
              <a:ext cx="26352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30080" y="5295960"/>
              <a:ext cx="5786280" cy="293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0" name=""/>
          <p:cNvSpPr/>
          <p:nvPr/>
        </p:nvSpPr>
        <p:spPr>
          <a:xfrm>
            <a:off x="4643280" y="3141720"/>
            <a:ext cx="72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1" name=""/>
          <p:cNvGrpSpPr/>
          <p:nvPr/>
        </p:nvGrpSpPr>
        <p:grpSpPr>
          <a:xfrm>
            <a:off x="5649840" y="1562040"/>
            <a:ext cx="3048120" cy="3306960"/>
            <a:chOff x="5649840" y="1562040"/>
            <a:chExt cx="3048120" cy="3306960"/>
          </a:xfrm>
        </p:grpSpPr>
        <p:sp>
          <p:nvSpPr>
            <p:cNvPr id="4052" name=""/>
            <p:cNvSpPr/>
            <p:nvPr/>
          </p:nvSpPr>
          <p:spPr>
            <a:xfrm>
              <a:off x="6662880" y="2354400"/>
              <a:ext cx="149040" cy="187308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878520" y="4010040"/>
              <a:ext cx="14940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7094520" y="4010040"/>
              <a:ext cx="14940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7310520" y="4010040"/>
              <a:ext cx="14904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8021520" y="4010040"/>
              <a:ext cx="149400" cy="2174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512120" y="388620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 flipV="1">
              <a:off x="6586560" y="1922040"/>
              <a:ext cx="0" cy="230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591240" y="4229280"/>
              <a:ext cx="18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442200" y="2354400"/>
              <a:ext cx="2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442920" y="4010040"/>
              <a:ext cx="21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2" name=""/>
            <p:cNvGrpSpPr/>
            <p:nvPr/>
          </p:nvGrpSpPr>
          <p:grpSpPr>
            <a:xfrm>
              <a:off x="5649840" y="3722760"/>
              <a:ext cx="885600" cy="264960"/>
              <a:chOff x="5649840" y="3722760"/>
              <a:chExt cx="885600" cy="264960"/>
            </a:xfrm>
          </p:grpSpPr>
          <p:sp>
            <p:nvSpPr>
              <p:cNvPr id="4063" name=""/>
              <p:cNvSpPr/>
              <p:nvPr/>
            </p:nvSpPr>
            <p:spPr>
              <a:xfrm>
                <a:off x="5649840" y="3828960"/>
                <a:ext cx="257040" cy="1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4080" bIns="-9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sy10"/>
                    <a:ea typeface="Arial"/>
                  </a:rPr>
                  <a:t>¼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999040" y="3774960"/>
                <a:ext cx="16488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7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163920" y="3724200"/>
                <a:ext cx="2066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920" bIns="270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372000" y="3768480"/>
                <a:ext cx="163440" cy="9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5649840" y="3722760"/>
                <a:ext cx="885600" cy="2635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8" name=""/>
            <p:cNvGrpSpPr/>
            <p:nvPr/>
          </p:nvGrpSpPr>
          <p:grpSpPr>
            <a:xfrm>
              <a:off x="6875640" y="4443480"/>
              <a:ext cx="1296360" cy="425520"/>
              <a:chOff x="6875640" y="4443480"/>
              <a:chExt cx="1296360" cy="425520"/>
            </a:xfrm>
          </p:grpSpPr>
          <p:sp>
            <p:nvSpPr>
              <p:cNvPr id="4069" name=""/>
              <p:cNvSpPr/>
              <p:nvPr/>
            </p:nvSpPr>
            <p:spPr>
              <a:xfrm>
                <a:off x="6875640" y="4443480"/>
                <a:ext cx="17100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|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046640" y="44658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353000" y="4443480"/>
                <a:ext cx="17136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{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524720" y="4443480"/>
                <a:ext cx="17100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694640" y="4465800"/>
                <a:ext cx="306000" cy="0"/>
              </a:xfrm>
              <a:prstGeom prst="line">
                <a:avLst/>
              </a:prstGeom>
              <a:ln w="45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8001000" y="4443480"/>
                <a:ext cx="17100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42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cmex10"/>
                    <a:ea typeface="Arial"/>
                  </a:rPr>
                  <a:t>}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161120" y="4667400"/>
                <a:ext cx="1504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5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2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311960" y="4680000"/>
                <a:ext cx="1663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810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497720" y="4673520"/>
                <a:ext cx="23616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3440" bIns="302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735680" y="4667400"/>
                <a:ext cx="15048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6956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cmr7"/>
                    <a:ea typeface="Arial"/>
                  </a:rPr>
                  <a:t>1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875640" y="4443480"/>
                <a:ext cx="1294920" cy="4255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5938920" y="2067120"/>
              <a:ext cx="558720" cy="280800"/>
              <a:chOff x="5938920" y="2067120"/>
              <a:chExt cx="558720" cy="280800"/>
            </a:xfrm>
          </p:grpSpPr>
          <p:sp>
            <p:nvSpPr>
              <p:cNvPr id="4081" name=""/>
              <p:cNvSpPr/>
              <p:nvPr/>
            </p:nvSpPr>
            <p:spPr>
              <a:xfrm>
                <a:off x="5938920" y="2135160"/>
                <a:ext cx="16488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240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103800" y="2084400"/>
                <a:ext cx="20664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2560" bIns="2664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350040" y="2068560"/>
                <a:ext cx="14580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6948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mi5"/>
                    <a:ea typeface="Arial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350040" y="2168640"/>
                <a:ext cx="145800" cy="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367320" y="2200320"/>
                <a:ext cx="112680" cy="10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5840" bIns="-36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mr5"/>
                    <a:ea typeface="Arial"/>
                  </a:rPr>
                  <a:t>2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5938920" y="2067120"/>
                <a:ext cx="558720" cy="28080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7" name=""/>
            <p:cNvGrpSpPr/>
            <p:nvPr/>
          </p:nvGrpSpPr>
          <p:grpSpPr>
            <a:xfrm>
              <a:off x="8472600" y="4370400"/>
              <a:ext cx="225360" cy="227160"/>
              <a:chOff x="8472600" y="4370400"/>
              <a:chExt cx="225360" cy="227160"/>
            </a:xfrm>
          </p:grpSpPr>
          <p:sp>
            <p:nvSpPr>
              <p:cNvPr id="4088" name=""/>
              <p:cNvSpPr/>
              <p:nvPr/>
            </p:nvSpPr>
            <p:spPr>
              <a:xfrm>
                <a:off x="8472600" y="4372200"/>
                <a:ext cx="22536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Z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8472600" y="4370400"/>
                <a:ext cx="225360" cy="2271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0" name=""/>
            <p:cNvGrpSpPr/>
            <p:nvPr/>
          </p:nvGrpSpPr>
          <p:grpSpPr>
            <a:xfrm>
              <a:off x="6154560" y="1562040"/>
              <a:ext cx="393480" cy="276480"/>
              <a:chOff x="6154560" y="1562040"/>
              <a:chExt cx="393480" cy="276480"/>
            </a:xfrm>
          </p:grpSpPr>
          <p:sp>
            <p:nvSpPr>
              <p:cNvPr id="4091" name=""/>
              <p:cNvSpPr/>
              <p:nvPr/>
            </p:nvSpPr>
            <p:spPr>
              <a:xfrm>
                <a:off x="6154560" y="1563840"/>
                <a:ext cx="21276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53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P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367320" y="1681200"/>
                <a:ext cx="180720" cy="15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73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154560" y="1562040"/>
                <a:ext cx="393480" cy="27648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mooth Min-Entrop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4095" name=""/>
          <p:cNvGrpSpPr/>
          <p:nvPr/>
        </p:nvGrpSpPr>
        <p:grpSpPr>
          <a:xfrm>
            <a:off x="434880" y="1778040"/>
            <a:ext cx="4857840" cy="2665440"/>
            <a:chOff x="434880" y="1778040"/>
            <a:chExt cx="4857840" cy="2665440"/>
          </a:xfrm>
        </p:grpSpPr>
        <p:sp>
          <p:nvSpPr>
            <p:cNvPr id="4096" name=""/>
            <p:cNvSpPr/>
            <p:nvPr/>
          </p:nvSpPr>
          <p:spPr>
            <a:xfrm>
              <a:off x="434880" y="18590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04800" y="18590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57080" y="185904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012680" y="185904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566720" y="177984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736640" y="185904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873080" y="177984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43000" y="18590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212920" y="178776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298600" y="180360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417760" y="178776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503440" y="18590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655720" y="18590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434880" y="234504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65280" y="2460960"/>
              <a:ext cx="1220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0172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920880" y="234504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5236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566720" y="234180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52400" y="242100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05040" y="2421000"/>
              <a:ext cx="1522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012760" y="2292480"/>
              <a:ext cx="10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2012760" y="2476800"/>
              <a:ext cx="10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2116080" y="232416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2268360" y="242100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2509920" y="232416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679840" y="2345040"/>
              <a:ext cx="1965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876400" y="245304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07332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192480" y="242100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348000" y="232416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552840" y="2389320"/>
              <a:ext cx="237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111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875040" y="2356200"/>
              <a:ext cx="15228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4029120" y="2324160"/>
              <a:ext cx="152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181400" y="2292480"/>
              <a:ext cx="101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181400" y="2476800"/>
              <a:ext cx="101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182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946760" y="242100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34880" y="288792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6528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84080" y="288792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01448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566720" y="2918160"/>
              <a:ext cx="238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480" bIns="25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855800" y="2865600"/>
              <a:ext cx="32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30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ex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179440" y="3094200"/>
              <a:ext cx="117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2371680" y="2887920"/>
              <a:ext cx="1969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2568600" y="299592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276552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2884320" y="2963880"/>
              <a:ext cx="14292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040200" y="286740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209760" y="2884680"/>
              <a:ext cx="860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295800" y="2963880"/>
              <a:ext cx="15228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448080" y="2963880"/>
              <a:ext cx="1522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65760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776760" y="2887920"/>
              <a:ext cx="1965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971880" y="2995920"/>
              <a:ext cx="16668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17024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4289400" y="2963880"/>
              <a:ext cx="14292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44492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564080" y="286740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784760" y="2948040"/>
              <a:ext cx="237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-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108400" y="2963880"/>
              <a:ext cx="184320" cy="1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34880" y="342936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665280" y="359100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92376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042920" y="342936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273320" y="340848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566720" y="3459240"/>
              <a:ext cx="23832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25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855800" y="342612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941480" y="35053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2093760" y="350532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230328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2422440" y="350532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2676600" y="35053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2830320" y="350532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2992320" y="3591000"/>
              <a:ext cx="117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184560" y="3429360"/>
              <a:ext cx="1969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379680" y="3537000"/>
              <a:ext cx="16668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  <a:ea typeface="Arial"/>
                </a:rPr>
                <a:t>Z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57804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697200" y="3505320"/>
              <a:ext cx="142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85272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971880" y="34084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792680" y="350532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976640" y="3408480"/>
              <a:ext cx="152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5130720" y="3440160"/>
              <a:ext cx="1522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34880" y="397044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65280" y="395316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  <a:ea typeface="Arial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665280" y="416268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923760" y="394992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042920" y="397044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273320" y="394992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866960" y="404676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2122560" y="40467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2274840" y="404676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566720" y="4243680"/>
              <a:ext cx="165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731960" y="4297680"/>
              <a:ext cx="95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27360" y="4229280"/>
              <a:ext cx="698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[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897200" y="4243680"/>
              <a:ext cx="131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2046240" y="4229280"/>
              <a:ext cx="698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]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2116080" y="4243680"/>
              <a:ext cx="192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39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2308320" y="4251600"/>
              <a:ext cx="12204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2428920" y="4257720"/>
              <a:ext cx="19188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25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2620800" y="4297680"/>
              <a:ext cx="11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  <a:ea typeface="Arial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2787480" y="397044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017880" y="413244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276720" y="394992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395520" y="397044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627360" y="3970440"/>
              <a:ext cx="162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816360" y="394992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4946760" y="404676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434880" y="1778040"/>
              <a:ext cx="4857840" cy="2665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6" name=""/>
          <p:cNvSpPr/>
          <p:nvPr/>
        </p:nvSpPr>
        <p:spPr>
          <a:xfrm>
            <a:off x="4788000" y="3794040"/>
            <a:ext cx="720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 rot="11731800">
            <a:off x="6372000" y="3074760"/>
            <a:ext cx="936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 2"/>
                <a:ea typeface="Wingdings 2"/>
              </a:rPr>
              <a:t>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6665760" y="2427120"/>
            <a:ext cx="144720" cy="1081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6516720" y="2282760"/>
            <a:ext cx="431640" cy="1224000"/>
          </a:xfrm>
          <a:prstGeom prst="rect">
            <a:avLst/>
          </a:prstGeom>
          <a:solidFill>
            <a:srgbClr val="ff00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6948360" y="1635120"/>
            <a:ext cx="648000" cy="506520"/>
          </a:xfrm>
          <a:prstGeom prst="wedgeRoundRectCallout">
            <a:avLst>
              <a:gd name="adj1" fmla="val -69115"/>
              <a:gd name="adj2" fmla="val 1180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1" name=""/>
          <p:cNvGrpSpPr/>
          <p:nvPr/>
        </p:nvGrpSpPr>
        <p:grpSpPr>
          <a:xfrm>
            <a:off x="7164360" y="1778040"/>
            <a:ext cx="216000" cy="200160"/>
            <a:chOff x="7164360" y="1778040"/>
            <a:chExt cx="216000" cy="200160"/>
          </a:xfrm>
        </p:grpSpPr>
        <p:sp>
          <p:nvSpPr>
            <p:cNvPr id="4212" name=""/>
            <p:cNvSpPr/>
            <p:nvPr/>
          </p:nvSpPr>
          <p:spPr>
            <a:xfrm>
              <a:off x="7164360" y="1778040"/>
              <a:ext cx="2160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080" bIns="-67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cmmi10"/>
                  <a:ea typeface="Arial"/>
                </a:rPr>
                <a:t>"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7164360" y="1778040"/>
              <a:ext cx="216000" cy="200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4" name=""/>
          <p:cNvGrpSpPr/>
          <p:nvPr/>
        </p:nvGrpSpPr>
        <p:grpSpPr>
          <a:xfrm>
            <a:off x="4140360" y="4443480"/>
            <a:ext cx="1662120" cy="280800"/>
            <a:chOff x="4140360" y="4443480"/>
            <a:chExt cx="1662120" cy="280800"/>
          </a:xfrm>
        </p:grpSpPr>
        <p:sp>
          <p:nvSpPr>
            <p:cNvPr id="4215" name=""/>
            <p:cNvSpPr/>
            <p:nvPr/>
          </p:nvSpPr>
          <p:spPr>
            <a:xfrm>
              <a:off x="4140360" y="4495680"/>
              <a:ext cx="101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4240080" y="4583160"/>
              <a:ext cx="16524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7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4406760" y="4583160"/>
              <a:ext cx="13032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7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4646520" y="4583160"/>
              <a:ext cx="154080" cy="14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7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mi10"/>
                  <a:ea typeface="Arial"/>
                </a:rPr>
                <a:t>"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4892760" y="4603680"/>
              <a:ext cx="257040" cy="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7400" bIns="-86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243400" y="4511520"/>
              <a:ext cx="1652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408640" y="4460760"/>
              <a:ext cx="2062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560" bIns="266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sy7"/>
                  <a:ea typeface="Arial"/>
                </a:rPr>
                <a:t>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654880" y="4444920"/>
              <a:ext cx="145800" cy="6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cmmi5"/>
                  <a:ea typeface="Arial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648400" y="4545000"/>
              <a:ext cx="144360" cy="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672160" y="4576680"/>
              <a:ext cx="112680" cy="10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58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cmr5"/>
                  <a:ea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4140360" y="4443480"/>
              <a:ext cx="1662120" cy="280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6" name=""/>
          <p:cNvGrpSpPr/>
          <p:nvPr/>
        </p:nvGrpSpPr>
        <p:grpSpPr>
          <a:xfrm>
            <a:off x="539640" y="1052640"/>
            <a:ext cx="4502160" cy="331560"/>
            <a:chOff x="539640" y="1052640"/>
            <a:chExt cx="4502160" cy="331560"/>
          </a:xfrm>
        </p:grpSpPr>
        <p:sp>
          <p:nvSpPr>
            <p:cNvPr id="4227" name=""/>
            <p:cNvSpPr/>
            <p:nvPr/>
          </p:nvSpPr>
          <p:spPr>
            <a:xfrm>
              <a:off x="539640" y="1076400"/>
              <a:ext cx="225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900000" y="116064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02852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195200" y="116064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37916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6204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728720" y="1160640"/>
              <a:ext cx="276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2114280" y="1160640"/>
              <a:ext cx="174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227160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243648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2566800" y="1081080"/>
              <a:ext cx="92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2658960" y="116064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2823840" y="1073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008160" y="107316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10032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357360" y="116064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514320" y="1160640"/>
              <a:ext cx="174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679560" y="116064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827160" y="116064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0669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423216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398840" y="12668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4546440" y="108900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711320" y="105408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876560" y="1082520"/>
              <a:ext cx="16344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539640" y="1052640"/>
              <a:ext cx="4502160" cy="331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0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wo-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KD with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re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n-binary)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ss randomnes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sifting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Open Question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mooth Min-Entropy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4256" name=""/>
          <p:cNvGrpSpPr/>
          <p:nvPr/>
        </p:nvGrpSpPr>
        <p:grpSpPr>
          <a:xfrm>
            <a:off x="4716360" y="473040"/>
            <a:ext cx="2155680" cy="291960"/>
            <a:chOff x="4716360" y="473040"/>
            <a:chExt cx="2155680" cy="291960"/>
          </a:xfrm>
        </p:grpSpPr>
        <p:sp>
          <p:nvSpPr>
            <p:cNvPr id="4257" name=""/>
            <p:cNvSpPr/>
            <p:nvPr/>
          </p:nvSpPr>
          <p:spPr>
            <a:xfrm>
              <a:off x="4716360" y="473040"/>
              <a:ext cx="8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8880" bIns="72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[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797360" y="493560"/>
              <a:ext cx="21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013000" y="566640"/>
              <a:ext cx="1303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5141880" y="566640"/>
              <a:ext cx="1616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305320" y="566640"/>
              <a:ext cx="16200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5467320" y="566640"/>
              <a:ext cx="1299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597280" y="566640"/>
              <a:ext cx="11448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r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808600" y="493560"/>
              <a:ext cx="299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W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6084720" y="566640"/>
              <a:ext cx="1461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o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230880" y="490320"/>
              <a:ext cx="8064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6311520" y="490320"/>
              <a:ext cx="889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1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f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499080" y="504720"/>
              <a:ext cx="146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6645240" y="504720"/>
              <a:ext cx="1458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5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791040" y="473040"/>
              <a:ext cx="810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8880" bIns="72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r10"/>
                  <a:ea typeface="Arial"/>
                </a:rPr>
                <a:t>]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4716360" y="473040"/>
              <a:ext cx="21556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2" name=""/>
          <p:cNvSpPr/>
          <p:nvPr/>
        </p:nvSpPr>
        <p:spPr>
          <a:xfrm>
            <a:off x="5076720" y="1844640"/>
            <a:ext cx="2592360" cy="506520"/>
          </a:xfrm>
          <a:prstGeom prst="wedgeRoundRectCallout">
            <a:avLst>
              <a:gd name="adj1" fmla="val -111541"/>
              <a:gd name="adj2" fmla="val 291694"/>
              <a:gd name="adj3" fmla="val 16667"/>
            </a:avLst>
          </a:prstGeom>
          <a:solidFill>
            <a:srgbClr val="00ff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3" name=""/>
          <p:cNvGrpSpPr/>
          <p:nvPr/>
        </p:nvGrpSpPr>
        <p:grpSpPr>
          <a:xfrm>
            <a:off x="5281560" y="1917720"/>
            <a:ext cx="2152800" cy="334800"/>
            <a:chOff x="5281560" y="1917720"/>
            <a:chExt cx="2152800" cy="334800"/>
          </a:xfrm>
        </p:grpSpPr>
        <p:sp>
          <p:nvSpPr>
            <p:cNvPr id="4274" name=""/>
            <p:cNvSpPr/>
            <p:nvPr/>
          </p:nvSpPr>
          <p:spPr>
            <a:xfrm>
              <a:off x="5281560" y="1963440"/>
              <a:ext cx="2120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5515920" y="1919160"/>
              <a:ext cx="871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685840" y="2035080"/>
              <a:ext cx="8568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3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765760" y="2068200"/>
              <a:ext cx="2419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5960" bIns="-86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094080" y="1963440"/>
              <a:ext cx="21168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6305760" y="2088720"/>
              <a:ext cx="12348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7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444360" y="2153880"/>
              <a:ext cx="8532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3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6582600" y="2153880"/>
              <a:ext cx="853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720840" y="2153880"/>
              <a:ext cx="8568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6859440" y="2153880"/>
              <a:ext cx="85320" cy="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996240" y="2153880"/>
              <a:ext cx="8568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120" bIns="63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7134840" y="1963440"/>
              <a:ext cx="2120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7346880" y="2085840"/>
              <a:ext cx="8712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5281560" y="1917720"/>
              <a:ext cx="2152800" cy="334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8" name=""/>
          <p:cNvGrpSpPr/>
          <p:nvPr/>
        </p:nvGrpSpPr>
        <p:grpSpPr>
          <a:xfrm>
            <a:off x="646200" y="1152360"/>
            <a:ext cx="4502160" cy="331560"/>
            <a:chOff x="646200" y="1152360"/>
            <a:chExt cx="4502160" cy="331560"/>
          </a:xfrm>
        </p:grpSpPr>
        <p:sp>
          <p:nvSpPr>
            <p:cNvPr id="4289" name=""/>
            <p:cNvSpPr/>
            <p:nvPr/>
          </p:nvSpPr>
          <p:spPr>
            <a:xfrm>
              <a:off x="646200" y="1176120"/>
              <a:ext cx="2253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006560" y="1260360"/>
              <a:ext cx="129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13508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301760" y="1260360"/>
              <a:ext cx="183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485720" y="11728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66860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35280" y="1260360"/>
              <a:ext cx="276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2220840" y="1260360"/>
              <a:ext cx="174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237816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2543040" y="126036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2673360" y="1180800"/>
              <a:ext cx="9216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2765520" y="1260360"/>
              <a:ext cx="1648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2930400" y="11728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114720" y="11728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206880" y="126036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463920" y="1260360"/>
              <a:ext cx="1652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620880" y="1260360"/>
              <a:ext cx="1749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786120" y="1260360"/>
              <a:ext cx="14760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933720" y="1260360"/>
              <a:ext cx="1303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4173480" y="115380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4338720" y="118872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4505400" y="136656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4653000" y="1188720"/>
              <a:ext cx="16488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4817880" y="1153800"/>
              <a:ext cx="165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4983120" y="1182240"/>
              <a:ext cx="163440" cy="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646200" y="1152360"/>
              <a:ext cx="4502160" cy="331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5" name=""/>
          <p:cNvGrpSpPr/>
          <p:nvPr/>
        </p:nvGrpSpPr>
        <p:grpSpPr>
          <a:xfrm>
            <a:off x="681120" y="1773360"/>
            <a:ext cx="3819240" cy="495000"/>
            <a:chOff x="681120" y="1773360"/>
            <a:chExt cx="3819240" cy="495000"/>
          </a:xfrm>
        </p:grpSpPr>
        <p:sp>
          <p:nvSpPr>
            <p:cNvPr id="4316" name=""/>
            <p:cNvSpPr/>
            <p:nvPr/>
          </p:nvSpPr>
          <p:spPr>
            <a:xfrm>
              <a:off x="681120" y="1793520"/>
              <a:ext cx="23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911160" y="1776240"/>
              <a:ext cx="1159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911160" y="1985760"/>
              <a:ext cx="24444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440" bIns="-7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170000" y="177336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288800" y="1793520"/>
              <a:ext cx="209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520640" y="177336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24040" y="1869840"/>
              <a:ext cx="8568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809720" y="1890360"/>
              <a:ext cx="2379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280" bIns="-79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2431800" y="1869840"/>
              <a:ext cx="2556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2687400" y="1869840"/>
              <a:ext cx="15264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2840040" y="1869840"/>
              <a:ext cx="1620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4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2131920" y="2068200"/>
              <a:ext cx="16524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2297160" y="212220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2392200" y="2053800"/>
              <a:ext cx="698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984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[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2462040" y="2068200"/>
              <a:ext cx="1317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2612880" y="2053800"/>
              <a:ext cx="6984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9840" bIns="522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]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2681280" y="2068200"/>
              <a:ext cx="1918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5800" bIns="39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2873160" y="2076120"/>
              <a:ext cx="1224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2995560" y="2082600"/>
              <a:ext cx="19188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040" bIns="24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¡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186000" y="2122200"/>
              <a:ext cx="115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52680" y="1793520"/>
              <a:ext cx="23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582720" y="1955520"/>
              <a:ext cx="24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841560" y="1773360"/>
              <a:ext cx="1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960720" y="179352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4192560" y="1793520"/>
              <a:ext cx="162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sy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4381560" y="1773360"/>
              <a:ext cx="118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880" bIns="75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81120" y="1773360"/>
              <a:ext cx="3819240" cy="495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3" name=""/>
          <p:cNvGrpSpPr/>
          <p:nvPr/>
        </p:nvGrpSpPr>
        <p:grpSpPr>
          <a:xfrm>
            <a:off x="611280" y="2565360"/>
            <a:ext cx="7818480" cy="2244600"/>
            <a:chOff x="611280" y="2565360"/>
            <a:chExt cx="7818480" cy="2244600"/>
          </a:xfrm>
        </p:grpSpPr>
        <p:sp>
          <p:nvSpPr>
            <p:cNvPr id="4344" name=""/>
            <p:cNvSpPr/>
            <p:nvPr/>
          </p:nvSpPr>
          <p:spPr>
            <a:xfrm>
              <a:off x="611280" y="2643120"/>
              <a:ext cx="1522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-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917640" y="264636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17324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3273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487520" y="2646360"/>
              <a:ext cx="162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720800" y="2570040"/>
              <a:ext cx="1699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072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206064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22147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238464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255456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270684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2878200" y="2646360"/>
              <a:ext cx="1015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2979720" y="2566800"/>
              <a:ext cx="860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06396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149640" y="2566800"/>
              <a:ext cx="1620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30228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510000" y="2646360"/>
              <a:ext cx="169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679920" y="264636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800520" y="264636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953160" y="2646360"/>
              <a:ext cx="16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413244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4267440" y="264636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4388040" y="259092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450720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459288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4727520" y="2646360"/>
              <a:ext cx="120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4848480" y="264636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5054760" y="264636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18184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5351760" y="264636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550548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55897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5830920" y="264636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5951520" y="264636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6121440" y="2566800"/>
              <a:ext cx="8568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6207120" y="264636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6342120" y="2746440"/>
              <a:ext cx="856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6505560" y="2646360"/>
              <a:ext cx="120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6626520" y="2646360"/>
              <a:ext cx="1695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679608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966000" y="2646360"/>
              <a:ext cx="1015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067520" y="264636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722160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391520" y="2566800"/>
              <a:ext cx="1699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756144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647120" y="259092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776628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850160" y="264636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8012160" y="257472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8097840" y="259092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8207640" y="2646360"/>
              <a:ext cx="161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8344080" y="2746440"/>
              <a:ext cx="856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917640" y="301464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173240" y="30146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327320" y="301464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497240" y="30146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649520" y="295920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68680" y="301464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922760" y="3014640"/>
              <a:ext cx="1695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2092320" y="294300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176560" y="301464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313000" y="2943000"/>
              <a:ext cx="8568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2398680" y="295920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508480" y="3014640"/>
              <a:ext cx="161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2644920" y="3114720"/>
              <a:ext cx="8568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2832120" y="301464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2968920" y="3114720"/>
              <a:ext cx="85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052800" y="3014640"/>
              <a:ext cx="1526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206880" y="3114720"/>
              <a:ext cx="85680" cy="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27560" y="2938320"/>
              <a:ext cx="230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657600" y="292104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657600" y="312876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91644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4035600" y="293832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4351320" y="2917800"/>
              <a:ext cx="86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4521240" y="2938320"/>
              <a:ext cx="1796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476892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4972320" y="2998800"/>
              <a:ext cx="237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5295960" y="293832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5524560" y="292104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5524560" y="312876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578484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5904000" y="293832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134040" y="2938320"/>
              <a:ext cx="1796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638172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6567480" y="2968560"/>
              <a:ext cx="23832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480" bIns="25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6873840" y="293832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7104240" y="3054240"/>
              <a:ext cx="1220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7242120" y="291780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7361280" y="2938320"/>
              <a:ext cx="1796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7607520" y="291780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11280" y="3695760"/>
              <a:ext cx="1522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2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917640" y="3619440"/>
              <a:ext cx="9360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011240" y="369900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165320" y="36990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387440" y="3622680"/>
              <a:ext cx="2098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5520" y="3735360"/>
              <a:ext cx="8748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800360" y="3630600"/>
              <a:ext cx="93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893960" y="3630600"/>
              <a:ext cx="936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987560" y="3619440"/>
              <a:ext cx="15732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2176560" y="369900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2600280" y="3622680"/>
              <a:ext cx="2304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2830680" y="360504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2830680" y="381312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089520" y="3602160"/>
              <a:ext cx="11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208320" y="362268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440160" y="3627360"/>
              <a:ext cx="150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60684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811680" y="3529080"/>
              <a:ext cx="150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962520" y="3540240"/>
              <a:ext cx="24444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56880" bIns="-478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!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4206960" y="3529080"/>
              <a:ext cx="24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1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4011840" y="3682800"/>
              <a:ext cx="23796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-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4535640" y="3622680"/>
              <a:ext cx="230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476568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4884840" y="362268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114880" y="3627360"/>
              <a:ext cx="1508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528156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5486400" y="3719520"/>
              <a:ext cx="2383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280" bIns="-79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5808960" y="3622680"/>
              <a:ext cx="230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603900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158160" y="3622680"/>
              <a:ext cx="2095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8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6367680" y="3735360"/>
              <a:ext cx="8712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1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6469200" y="3602160"/>
              <a:ext cx="1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240" bIns="75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6656400" y="3695760"/>
              <a:ext cx="85680" cy="11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8800" bIns="-32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6809040" y="3699000"/>
              <a:ext cx="1839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611280" y="4306680"/>
              <a:ext cx="1522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-31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917640" y="4233960"/>
              <a:ext cx="2080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1127160" y="430992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124632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1332000" y="4309920"/>
              <a:ext cx="162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1476360" y="430992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1629000" y="430992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1765440" y="4309920"/>
              <a:ext cx="162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1998720" y="4233960"/>
              <a:ext cx="230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2227320" y="430992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2482920" y="4309920"/>
              <a:ext cx="169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2652840" y="423072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273852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2822760" y="423072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2992680" y="430992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12912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283200" y="4254480"/>
              <a:ext cx="1188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40200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48624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640320" y="430992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810240" y="4309920"/>
              <a:ext cx="85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015080" y="4233960"/>
              <a:ext cx="2300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45120" y="4216320"/>
              <a:ext cx="115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"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5120" y="4425840"/>
              <a:ext cx="244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sy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505400" y="4213080"/>
              <a:ext cx="1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4624560" y="4233960"/>
              <a:ext cx="2095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4940280" y="4213080"/>
              <a:ext cx="86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5110200" y="4233960"/>
              <a:ext cx="1796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7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5356440" y="4213080"/>
              <a:ext cx="1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860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5546880" y="4238640"/>
              <a:ext cx="856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5632560" y="430992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5823000" y="425448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5943600" y="423072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6113520" y="430992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6319800" y="4309920"/>
              <a:ext cx="1573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6477120" y="4309920"/>
              <a:ext cx="1573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6632640" y="4254480"/>
              <a:ext cx="101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6735960" y="4241880"/>
              <a:ext cx="9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829560" y="4309920"/>
              <a:ext cx="250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7078680" y="4309920"/>
              <a:ext cx="1573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7236000" y="4230720"/>
              <a:ext cx="77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ti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741708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7570800" y="430992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7824960" y="430992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7979040" y="4309920"/>
              <a:ext cx="16956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8148600" y="430992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8310600" y="425448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91764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071720" y="4599000"/>
              <a:ext cx="936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266840" y="467820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403640" y="4678200"/>
              <a:ext cx="161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65280" y="462276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68444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180360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1957680" y="467820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2092320" y="4622760"/>
              <a:ext cx="119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7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221148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2365560" y="459900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2535480" y="4599000"/>
              <a:ext cx="85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2619360" y="4678200"/>
              <a:ext cx="1368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285768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2978280" y="4678200"/>
              <a:ext cx="1522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130560" y="467820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302280" y="4599000"/>
              <a:ext cx="1695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0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471840" y="4678200"/>
              <a:ext cx="1526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624480" y="4678200"/>
              <a:ext cx="255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880080" y="4678200"/>
              <a:ext cx="16992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4050000" y="4678200"/>
              <a:ext cx="1364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418644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4307040" y="4678200"/>
              <a:ext cx="1206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611280" y="2565360"/>
              <a:ext cx="7817040" cy="2244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1" name=""/>
          <p:cNvGrpSpPr/>
          <p:nvPr/>
        </p:nvGrpSpPr>
        <p:grpSpPr>
          <a:xfrm>
            <a:off x="468360" y="4076640"/>
            <a:ext cx="2209680" cy="2597040"/>
            <a:chOff x="468360" y="4076640"/>
            <a:chExt cx="2209680" cy="2597040"/>
          </a:xfrm>
        </p:grpSpPr>
        <p:sp>
          <p:nvSpPr>
            <p:cNvPr id="4542" name=""/>
            <p:cNvSpPr/>
            <p:nvPr/>
          </p:nvSpPr>
          <p:spPr>
            <a:xfrm>
              <a:off x="468360" y="40766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800280" y="4125960"/>
              <a:ext cx="2127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087560" y="416556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270080" y="422280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6800" y="419400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2043360" y="414504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2149560" y="4194000"/>
              <a:ext cx="1364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2286000" y="414504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2392560" y="419400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639720" y="4435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776520" y="448164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988920" y="461160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111320" y="448164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322280" y="443556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459080" y="445932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2154240" y="4522680"/>
              <a:ext cx="141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468360" y="474336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085760" y="6200640"/>
              <a:ext cx="76320" cy="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085760" y="631044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085760" y="6419880"/>
              <a:ext cx="76320" cy="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468360" y="6657840"/>
              <a:ext cx="22017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476280" y="4083120"/>
              <a:ext cx="2201760" cy="2590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4" name=""/>
          <p:cNvGrpSpPr/>
          <p:nvPr/>
        </p:nvGrpSpPr>
        <p:grpSpPr>
          <a:xfrm>
            <a:off x="539640" y="981000"/>
            <a:ext cx="2359080" cy="2603520"/>
            <a:chOff x="539640" y="981000"/>
            <a:chExt cx="2359080" cy="2603520"/>
          </a:xfrm>
        </p:grpSpPr>
        <p:sp>
          <p:nvSpPr>
            <p:cNvPr id="4565" name=""/>
            <p:cNvSpPr/>
            <p:nvPr/>
          </p:nvSpPr>
          <p:spPr>
            <a:xfrm>
              <a:off x="539640" y="981000"/>
              <a:ext cx="23511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94464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23336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415880" y="1127160"/>
              <a:ext cx="165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2155680" y="1098360"/>
              <a:ext cx="108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2263680" y="1049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2369880" y="1098360"/>
              <a:ext cx="1368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2506680" y="104940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2612880" y="109836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711000" y="1339920"/>
              <a:ext cx="136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84780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060200" y="1363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209600" y="1515960"/>
              <a:ext cx="7632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330200" y="1386000"/>
              <a:ext cx="21276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542960" y="1363680"/>
              <a:ext cx="1350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69236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sy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2374920" y="1427040"/>
              <a:ext cx="1411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539640" y="1647720"/>
              <a:ext cx="23511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539640" y="3568680"/>
              <a:ext cx="23511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547560" y="987480"/>
              <a:ext cx="2351160" cy="25970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Comparison to Previous Bound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grpSp>
        <p:nvGrpSpPr>
          <p:cNvPr id="4586" name=""/>
          <p:cNvGrpSpPr/>
          <p:nvPr/>
        </p:nvGrpSpPr>
        <p:grpSpPr>
          <a:xfrm>
            <a:off x="1903320" y="5254560"/>
            <a:ext cx="647280" cy="431640"/>
            <a:chOff x="1903320" y="5254560"/>
            <a:chExt cx="647280" cy="431640"/>
          </a:xfrm>
        </p:grpSpPr>
        <p:sp>
          <p:nvSpPr>
            <p:cNvPr id="4587" name=""/>
            <p:cNvSpPr/>
            <p:nvPr/>
          </p:nvSpPr>
          <p:spPr>
            <a:xfrm>
              <a:off x="1903320" y="5254560"/>
              <a:ext cx="64728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 flipH="1" flipV="1">
              <a:off x="2226240" y="527472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 flipV="1">
              <a:off x="2022120" y="5470560"/>
              <a:ext cx="478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 flipV="1">
              <a:off x="2050560" y="5274000"/>
              <a:ext cx="376560" cy="376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 flipH="1" flipV="1">
              <a:off x="2075760" y="533952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2" name=""/>
          <p:cNvGrpSpPr/>
          <p:nvPr/>
        </p:nvGrpSpPr>
        <p:grpSpPr>
          <a:xfrm>
            <a:off x="1962720" y="5614200"/>
            <a:ext cx="602280" cy="618480"/>
            <a:chOff x="1962720" y="5614200"/>
            <a:chExt cx="602280" cy="618480"/>
          </a:xfrm>
        </p:grpSpPr>
        <p:sp>
          <p:nvSpPr>
            <p:cNvPr id="4593" name=""/>
            <p:cNvSpPr/>
            <p:nvPr/>
          </p:nvSpPr>
          <p:spPr>
            <a:xfrm rot="19923600">
              <a:off x="2047680" y="5687640"/>
              <a:ext cx="431640" cy="47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 flipH="1" flipV="1">
              <a:off x="2163240" y="5735160"/>
              <a:ext cx="185040" cy="3452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 flipV="1">
              <a:off x="2143800" y="5838120"/>
              <a:ext cx="281520" cy="15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V="1">
              <a:off x="2214360" y="5742000"/>
              <a:ext cx="104400" cy="339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H="1" flipV="1">
              <a:off x="2058840" y="5868360"/>
              <a:ext cx="380160" cy="109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8" name=""/>
          <p:cNvSpPr/>
          <p:nvPr/>
        </p:nvSpPr>
        <p:spPr>
          <a:xfrm>
            <a:off x="2048040" y="482292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 flipH="1" flipV="1">
            <a:off x="2263320" y="4843080"/>
            <a:ext cx="1800" cy="358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 rot="2700000">
            <a:off x="2047680" y="619128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 flipH="1" flipV="1">
            <a:off x="2124000" y="6268680"/>
            <a:ext cx="26028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2" name=""/>
          <p:cNvGrpSpPr/>
          <p:nvPr/>
        </p:nvGrpSpPr>
        <p:grpSpPr>
          <a:xfrm>
            <a:off x="1166400" y="4733280"/>
            <a:ext cx="610920" cy="610560"/>
            <a:chOff x="1166400" y="4733280"/>
            <a:chExt cx="610920" cy="610560"/>
          </a:xfrm>
        </p:grpSpPr>
        <p:sp>
          <p:nvSpPr>
            <p:cNvPr id="4603" name=""/>
            <p:cNvSpPr/>
            <p:nvPr/>
          </p:nvSpPr>
          <p:spPr>
            <a:xfrm rot="2700000">
              <a:off x="1256040" y="482256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 flipV="1">
              <a:off x="1356840" y="48992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 flipH="1" flipV="1">
              <a:off x="1331280" y="48988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6" name=""/>
          <p:cNvGrpSpPr/>
          <p:nvPr/>
        </p:nvGrpSpPr>
        <p:grpSpPr>
          <a:xfrm>
            <a:off x="1255680" y="5288040"/>
            <a:ext cx="431640" cy="431640"/>
            <a:chOff x="1255680" y="5288040"/>
            <a:chExt cx="431640" cy="431640"/>
          </a:xfrm>
        </p:grpSpPr>
        <p:sp>
          <p:nvSpPr>
            <p:cNvPr id="4607" name=""/>
            <p:cNvSpPr/>
            <p:nvPr/>
          </p:nvSpPr>
          <p:spPr>
            <a:xfrm>
              <a:off x="1255680" y="528804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 flipH="1" flipV="1">
              <a:off x="1470960" y="530820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 flipV="1">
              <a:off x="1334880" y="550332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0" name=""/>
          <p:cNvGrpSpPr/>
          <p:nvPr/>
        </p:nvGrpSpPr>
        <p:grpSpPr>
          <a:xfrm>
            <a:off x="608040" y="4822920"/>
            <a:ext cx="431640" cy="431640"/>
            <a:chOff x="608040" y="4822920"/>
            <a:chExt cx="431640" cy="431640"/>
          </a:xfrm>
        </p:grpSpPr>
        <p:sp>
          <p:nvSpPr>
            <p:cNvPr id="4611" name=""/>
            <p:cNvSpPr/>
            <p:nvPr/>
          </p:nvSpPr>
          <p:spPr>
            <a:xfrm>
              <a:off x="608040" y="4822920"/>
              <a:ext cx="43164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 flipH="1" flipV="1">
              <a:off x="823320" y="4843080"/>
              <a:ext cx="180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 flipV="1">
              <a:off x="687240" y="50382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4" name=""/>
          <p:cNvGrpSpPr/>
          <p:nvPr/>
        </p:nvGrpSpPr>
        <p:grpSpPr>
          <a:xfrm>
            <a:off x="518040" y="5204880"/>
            <a:ext cx="610920" cy="610560"/>
            <a:chOff x="518040" y="5204880"/>
            <a:chExt cx="610920" cy="610560"/>
          </a:xfrm>
        </p:grpSpPr>
        <p:sp>
          <p:nvSpPr>
            <p:cNvPr id="4615" name=""/>
            <p:cNvSpPr/>
            <p:nvPr/>
          </p:nvSpPr>
          <p:spPr>
            <a:xfrm rot="2700000">
              <a:off x="607320" y="52941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V="1">
              <a:off x="708480" y="537084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H="1" flipV="1">
              <a:off x="683640" y="5370480"/>
              <a:ext cx="260280" cy="2527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8" name=""/>
          <p:cNvSpPr/>
          <p:nvPr/>
        </p:nvSpPr>
        <p:spPr>
          <a:xfrm>
            <a:off x="804960" y="4678200"/>
            <a:ext cx="6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787320" y="5164200"/>
            <a:ext cx="6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966960" y="6073920"/>
            <a:ext cx="360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1" name=""/>
          <p:cNvGrpSpPr/>
          <p:nvPr/>
        </p:nvGrpSpPr>
        <p:grpSpPr>
          <a:xfrm>
            <a:off x="3213000" y="1484280"/>
            <a:ext cx="5319720" cy="1160280"/>
            <a:chOff x="3213000" y="1484280"/>
            <a:chExt cx="5319720" cy="1160280"/>
          </a:xfrm>
        </p:grpSpPr>
        <p:sp>
          <p:nvSpPr>
            <p:cNvPr id="4622" name=""/>
            <p:cNvSpPr/>
            <p:nvPr/>
          </p:nvSpPr>
          <p:spPr>
            <a:xfrm>
              <a:off x="3213000" y="1487520"/>
              <a:ext cx="209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422520" y="1552320"/>
              <a:ext cx="127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548160" y="155232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689280" y="1552320"/>
              <a:ext cx="1620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851280" y="1485720"/>
              <a:ext cx="85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3936960" y="1552320"/>
              <a:ext cx="1540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091040" y="1552320"/>
              <a:ext cx="1699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260960" y="155232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383000" y="1552320"/>
              <a:ext cx="856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954680" y="1488960"/>
              <a:ext cx="19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5145120" y="148572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528156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5405400" y="1555560"/>
              <a:ext cx="1126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550368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772240" y="155556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894280" y="155556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6018120" y="1495440"/>
              <a:ext cx="8280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6100920" y="1555560"/>
              <a:ext cx="109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6210360" y="150624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6299280" y="1555560"/>
              <a:ext cx="109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6553080" y="1555560"/>
              <a:ext cx="136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689880" y="155556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6985080" y="155556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710712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7230960" y="155556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7353360" y="1555560"/>
              <a:ext cx="150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7504200" y="150624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7737480" y="148896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8047080" y="1555560"/>
              <a:ext cx="177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8224920" y="1495440"/>
              <a:ext cx="82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8307360" y="1506240"/>
              <a:ext cx="8892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8396280" y="148572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3213000" y="1807920"/>
              <a:ext cx="182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3394080" y="1874520"/>
              <a:ext cx="1047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3498840" y="178884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3573360" y="1807920"/>
              <a:ext cx="1414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3738600" y="178884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3886200" y="1795320"/>
              <a:ext cx="208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60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  <a:ea typeface="Arial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200480" y="176508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192560" y="1922400"/>
              <a:ext cx="106200" cy="0"/>
            </a:xfrm>
            <a:prstGeom prst="line">
              <a:avLst/>
            </a:prstGeom>
            <a:ln w="10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200480" y="1962000"/>
              <a:ext cx="10656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9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r7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433760" y="1874520"/>
              <a:ext cx="109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543560" y="1874520"/>
              <a:ext cx="142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u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4686120" y="1874520"/>
              <a:ext cx="122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809960" y="1804680"/>
              <a:ext cx="136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5041800" y="182556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5130720" y="1804680"/>
              <a:ext cx="1364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267160" y="1874520"/>
              <a:ext cx="1368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5403960" y="1825560"/>
              <a:ext cx="88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648320" y="2396880"/>
              <a:ext cx="199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848120" y="2538360"/>
              <a:ext cx="2127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5075280" y="237780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5178240" y="239688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5494320" y="237780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5643720" y="239688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5808600" y="255096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5927760" y="239688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6134040" y="237780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6313320" y="2408040"/>
              <a:ext cx="208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920" bIns="349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6594480" y="2463480"/>
              <a:ext cx="1602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6754680" y="237780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6888240" y="240660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7021440" y="255096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213000" y="1484280"/>
              <a:ext cx="5319720" cy="1160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6" name=""/>
          <p:cNvGrpSpPr/>
          <p:nvPr/>
        </p:nvGrpSpPr>
        <p:grpSpPr>
          <a:xfrm>
            <a:off x="2052720" y="2158920"/>
            <a:ext cx="647280" cy="431640"/>
            <a:chOff x="2052720" y="2158920"/>
            <a:chExt cx="647280" cy="431640"/>
          </a:xfrm>
        </p:grpSpPr>
        <p:sp>
          <p:nvSpPr>
            <p:cNvPr id="4687" name=""/>
            <p:cNvSpPr/>
            <p:nvPr/>
          </p:nvSpPr>
          <p:spPr>
            <a:xfrm>
              <a:off x="2052720" y="2158920"/>
              <a:ext cx="64728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 flipH="1" flipV="1">
              <a:off x="2375640" y="2179080"/>
              <a:ext cx="252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 flipV="1">
              <a:off x="2171520" y="2374920"/>
              <a:ext cx="47880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 flipV="1">
              <a:off x="2199960" y="2178360"/>
              <a:ext cx="376560" cy="376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 flipH="1" flipV="1">
              <a:off x="2225160" y="2243880"/>
              <a:ext cx="263160" cy="249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2" name=""/>
          <p:cNvGrpSpPr/>
          <p:nvPr/>
        </p:nvGrpSpPr>
        <p:grpSpPr>
          <a:xfrm>
            <a:off x="2111760" y="2518560"/>
            <a:ext cx="602280" cy="618480"/>
            <a:chOff x="2111760" y="2518560"/>
            <a:chExt cx="602280" cy="618480"/>
          </a:xfrm>
        </p:grpSpPr>
        <p:sp>
          <p:nvSpPr>
            <p:cNvPr id="4693" name=""/>
            <p:cNvSpPr/>
            <p:nvPr/>
          </p:nvSpPr>
          <p:spPr>
            <a:xfrm rot="19923600">
              <a:off x="2196720" y="2592000"/>
              <a:ext cx="431640" cy="47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 flipH="1" flipV="1">
              <a:off x="2312280" y="2639520"/>
              <a:ext cx="185400" cy="345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 flipV="1">
              <a:off x="2292840" y="2742480"/>
              <a:ext cx="281520" cy="151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 flipV="1">
              <a:off x="2363400" y="2646720"/>
              <a:ext cx="104400" cy="339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 flipH="1" flipV="1">
              <a:off x="2207880" y="2772720"/>
              <a:ext cx="380160" cy="1101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8" name=""/>
          <p:cNvSpPr/>
          <p:nvPr/>
        </p:nvSpPr>
        <p:spPr>
          <a:xfrm>
            <a:off x="2197080" y="172728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 flipH="1" flipV="1">
            <a:off x="2413080" y="1747440"/>
            <a:ext cx="1440" cy="358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 rot="2700000">
            <a:off x="2197440" y="3095280"/>
            <a:ext cx="43164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 flipH="1" flipV="1">
            <a:off x="2273040" y="3173040"/>
            <a:ext cx="260280" cy="25128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2" name=""/>
          <p:cNvGrpSpPr/>
          <p:nvPr/>
        </p:nvGrpSpPr>
        <p:grpSpPr>
          <a:xfrm>
            <a:off x="1242360" y="1611000"/>
            <a:ext cx="610560" cy="1974240"/>
            <a:chOff x="1242360" y="1611000"/>
            <a:chExt cx="610560" cy="1974240"/>
          </a:xfrm>
        </p:grpSpPr>
        <p:grpSp>
          <p:nvGrpSpPr>
            <p:cNvPr id="4703" name=""/>
            <p:cNvGrpSpPr/>
            <p:nvPr/>
          </p:nvGrpSpPr>
          <p:grpSpPr>
            <a:xfrm>
              <a:off x="1242360" y="2064960"/>
              <a:ext cx="610560" cy="610560"/>
              <a:chOff x="1242360" y="2064960"/>
              <a:chExt cx="610560" cy="610560"/>
            </a:xfrm>
          </p:grpSpPr>
          <p:sp>
            <p:nvSpPr>
              <p:cNvPr id="4704" name=""/>
              <p:cNvSpPr/>
              <p:nvPr/>
            </p:nvSpPr>
            <p:spPr>
              <a:xfrm rot="2700000">
                <a:off x="1331640" y="215424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V="1">
                <a:off x="1432440" y="223056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1407600" y="223020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7" name=""/>
            <p:cNvGrpSpPr/>
            <p:nvPr/>
          </p:nvGrpSpPr>
          <p:grpSpPr>
            <a:xfrm>
              <a:off x="1242360" y="1611000"/>
              <a:ext cx="610560" cy="610560"/>
              <a:chOff x="1242360" y="1611000"/>
              <a:chExt cx="610560" cy="610560"/>
            </a:xfrm>
          </p:grpSpPr>
          <p:sp>
            <p:nvSpPr>
              <p:cNvPr id="4708" name=""/>
              <p:cNvSpPr/>
              <p:nvPr/>
            </p:nvSpPr>
            <p:spPr>
              <a:xfrm rot="2700000">
                <a:off x="1331640" y="170028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V="1">
                <a:off x="1432440" y="177660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H="1" flipV="1">
                <a:off x="1407600" y="177624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1" name=""/>
            <p:cNvGrpSpPr/>
            <p:nvPr/>
          </p:nvGrpSpPr>
          <p:grpSpPr>
            <a:xfrm>
              <a:off x="1242360" y="2520720"/>
              <a:ext cx="610560" cy="610560"/>
              <a:chOff x="1242360" y="2520720"/>
              <a:chExt cx="610560" cy="610560"/>
            </a:xfrm>
          </p:grpSpPr>
          <p:sp>
            <p:nvSpPr>
              <p:cNvPr id="4712" name=""/>
              <p:cNvSpPr/>
              <p:nvPr/>
            </p:nvSpPr>
            <p:spPr>
              <a:xfrm rot="2700000">
                <a:off x="1331640" y="261000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1432440" y="268632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1407600" y="268596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1242360" y="2974680"/>
              <a:ext cx="610560" cy="610560"/>
              <a:chOff x="1242360" y="2974680"/>
              <a:chExt cx="610560" cy="610560"/>
            </a:xfrm>
          </p:grpSpPr>
          <p:sp>
            <p:nvSpPr>
              <p:cNvPr id="4716" name=""/>
              <p:cNvSpPr/>
              <p:nvPr/>
            </p:nvSpPr>
            <p:spPr>
              <a:xfrm rot="2700000">
                <a:off x="1331640" y="306396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V="1">
                <a:off x="1432440" y="314028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1407600" y="313992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9" name=""/>
          <p:cNvGrpSpPr/>
          <p:nvPr/>
        </p:nvGrpSpPr>
        <p:grpSpPr>
          <a:xfrm>
            <a:off x="755640" y="1708200"/>
            <a:ext cx="431640" cy="1785600"/>
            <a:chOff x="755640" y="1708200"/>
            <a:chExt cx="431640" cy="1785600"/>
          </a:xfrm>
        </p:grpSpPr>
        <p:grpSp>
          <p:nvGrpSpPr>
            <p:cNvPr id="4720" name=""/>
            <p:cNvGrpSpPr/>
            <p:nvPr/>
          </p:nvGrpSpPr>
          <p:grpSpPr>
            <a:xfrm>
              <a:off x="755640" y="1708200"/>
              <a:ext cx="431640" cy="431640"/>
              <a:chOff x="755640" y="1708200"/>
              <a:chExt cx="431640" cy="431640"/>
            </a:xfrm>
          </p:grpSpPr>
          <p:sp>
            <p:nvSpPr>
              <p:cNvPr id="4721" name=""/>
              <p:cNvSpPr/>
              <p:nvPr/>
            </p:nvSpPr>
            <p:spPr>
              <a:xfrm>
                <a:off x="755640" y="17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H="1" flipV="1">
                <a:off x="970920" y="17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834840" y="19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4" name=""/>
            <p:cNvGrpSpPr/>
            <p:nvPr/>
          </p:nvGrpSpPr>
          <p:grpSpPr>
            <a:xfrm>
              <a:off x="755640" y="2611440"/>
              <a:ext cx="431640" cy="431640"/>
              <a:chOff x="755640" y="2611440"/>
              <a:chExt cx="431640" cy="431640"/>
            </a:xfrm>
          </p:grpSpPr>
          <p:sp>
            <p:nvSpPr>
              <p:cNvPr id="4725" name=""/>
              <p:cNvSpPr/>
              <p:nvPr/>
            </p:nvSpPr>
            <p:spPr>
              <a:xfrm>
                <a:off x="755640" y="261144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970920" y="263160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V="1">
                <a:off x="834840" y="282672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8" name=""/>
            <p:cNvGrpSpPr/>
            <p:nvPr/>
          </p:nvGrpSpPr>
          <p:grpSpPr>
            <a:xfrm>
              <a:off x="755640" y="3062160"/>
              <a:ext cx="431640" cy="431640"/>
              <a:chOff x="755640" y="3062160"/>
              <a:chExt cx="431640" cy="431640"/>
            </a:xfrm>
          </p:grpSpPr>
          <p:sp>
            <p:nvSpPr>
              <p:cNvPr id="4729" name=""/>
              <p:cNvSpPr/>
              <p:nvPr/>
            </p:nvSpPr>
            <p:spPr>
              <a:xfrm>
                <a:off x="755640" y="30621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H="1" flipV="1">
                <a:off x="970920" y="30823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834840" y="32774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2" name=""/>
            <p:cNvGrpSpPr/>
            <p:nvPr/>
          </p:nvGrpSpPr>
          <p:grpSpPr>
            <a:xfrm>
              <a:off x="755640" y="2158920"/>
              <a:ext cx="431640" cy="431640"/>
              <a:chOff x="755640" y="2158920"/>
              <a:chExt cx="431640" cy="431640"/>
            </a:xfrm>
          </p:grpSpPr>
          <p:sp>
            <p:nvSpPr>
              <p:cNvPr id="4733" name=""/>
              <p:cNvSpPr/>
              <p:nvPr/>
            </p:nvSpPr>
            <p:spPr>
              <a:xfrm>
                <a:off x="755640" y="215892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 flipH="1" flipV="1">
                <a:off x="970920" y="217908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 flipV="1">
                <a:off x="834840" y="237420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36" name=""/>
          <p:cNvGrpSpPr/>
          <p:nvPr/>
        </p:nvGrpSpPr>
        <p:grpSpPr>
          <a:xfrm>
            <a:off x="3191040" y="4149720"/>
            <a:ext cx="4981320" cy="266760"/>
            <a:chOff x="3191040" y="4149720"/>
            <a:chExt cx="4981320" cy="266760"/>
          </a:xfrm>
        </p:grpSpPr>
        <p:sp>
          <p:nvSpPr>
            <p:cNvPr id="4737" name=""/>
            <p:cNvSpPr/>
            <p:nvPr/>
          </p:nvSpPr>
          <p:spPr>
            <a:xfrm>
              <a:off x="3191040" y="4167000"/>
              <a:ext cx="23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3430440" y="4232160"/>
              <a:ext cx="1411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3571920" y="4232160"/>
              <a:ext cx="22176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3792600" y="4232160"/>
              <a:ext cx="8532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bx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133880" y="4168800"/>
              <a:ext cx="199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333680" y="4154400"/>
              <a:ext cx="10116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"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333680" y="433692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560840" y="4149720"/>
              <a:ext cx="1026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663800" y="4168800"/>
              <a:ext cx="2203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979880" y="4149720"/>
              <a:ext cx="741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5128920" y="4168800"/>
              <a:ext cx="207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5337000" y="4149720"/>
              <a:ext cx="1029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5514840" y="4156200"/>
              <a:ext cx="2077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32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  <a:ea typeface="Arial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5796000" y="4235400"/>
              <a:ext cx="159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5956200" y="4149720"/>
              <a:ext cx="1328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6091200" y="4178160"/>
              <a:ext cx="1328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6319800" y="4235400"/>
              <a:ext cx="177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6497640" y="4174920"/>
              <a:ext cx="820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6578640" y="4186080"/>
              <a:ext cx="885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6667560" y="4165560"/>
              <a:ext cx="1360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6899040" y="4235400"/>
              <a:ext cx="150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7049880" y="423540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7159680" y="4235400"/>
              <a:ext cx="121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7281720" y="4165560"/>
              <a:ext cx="68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7350120" y="4174920"/>
              <a:ext cx="820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7432560" y="4235400"/>
              <a:ext cx="12204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7554960" y="4174920"/>
              <a:ext cx="820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7637400" y="4165560"/>
              <a:ext cx="1216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7759440" y="4165560"/>
              <a:ext cx="6804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7827840" y="4235400"/>
              <a:ext cx="1220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ti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8047080" y="4235400"/>
              <a:ext cx="123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"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3191040" y="4149720"/>
              <a:ext cx="4981320" cy="2667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9" name=""/>
          <p:cNvGrpSpPr/>
          <p:nvPr/>
        </p:nvGrpSpPr>
        <p:grpSpPr>
          <a:xfrm>
            <a:off x="3132000" y="4788000"/>
            <a:ext cx="4545000" cy="1174680"/>
            <a:chOff x="3132000" y="4788000"/>
            <a:chExt cx="4545000" cy="1174680"/>
          </a:xfrm>
        </p:grpSpPr>
        <p:sp>
          <p:nvSpPr>
            <p:cNvPr id="4770" name=""/>
            <p:cNvSpPr/>
            <p:nvPr/>
          </p:nvSpPr>
          <p:spPr>
            <a:xfrm>
              <a:off x="3132000" y="480384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3279600" y="4803840"/>
              <a:ext cx="1256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3486240" y="4844880"/>
              <a:ext cx="17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292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3738600" y="478800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3871800" y="4832280"/>
              <a:ext cx="2080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+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079880" y="4960800"/>
              <a:ext cx="74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199040" y="4832280"/>
              <a:ext cx="2077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223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406760" y="4788000"/>
              <a:ext cx="1335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540320" y="4811760"/>
              <a:ext cx="1317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3132000" y="512460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3368520" y="5194440"/>
              <a:ext cx="119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3487680" y="5194440"/>
              <a:ext cx="141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3620880" y="5194440"/>
              <a:ext cx="119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3740040" y="5194440"/>
              <a:ext cx="147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3881520" y="514512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4073400" y="5127480"/>
              <a:ext cx="1414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4214880" y="5219640"/>
              <a:ext cx="101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4424400" y="5194440"/>
              <a:ext cx="1936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4618080" y="5130720"/>
              <a:ext cx="745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4691160" y="5145120"/>
              <a:ext cx="1029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4795920" y="512460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032440" y="5137200"/>
              <a:ext cx="133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165640" y="5097600"/>
              <a:ext cx="166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219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334120" y="5132520"/>
              <a:ext cx="13176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522760" y="5108400"/>
              <a:ext cx="2826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266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ex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805360" y="5259240"/>
              <a:ext cx="101520" cy="1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970600" y="5127480"/>
              <a:ext cx="1825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6151680" y="5194440"/>
              <a:ext cx="1047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6256440" y="510840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[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6330960" y="512748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6472080" y="5219640"/>
              <a:ext cx="1018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6592680" y="5108400"/>
              <a:ext cx="748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]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6740640" y="5180040"/>
              <a:ext cx="2077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-64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¼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7022880" y="5137200"/>
              <a:ext cx="1335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7245360" y="5194440"/>
              <a:ext cx="1332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7378560" y="5194440"/>
              <a:ext cx="147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7527960" y="5124600"/>
              <a:ext cx="147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396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r10"/>
                  <a:ea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3894120" y="5715000"/>
              <a:ext cx="200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4094280" y="5856120"/>
              <a:ext cx="21240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sy7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4321080" y="5695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(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4424400" y="5715000"/>
              <a:ext cx="2206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X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4741920" y="5695920"/>
              <a:ext cx="745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4889520" y="5715000"/>
              <a:ext cx="1411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sy10"/>
                  <a:ea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5030640" y="5807160"/>
              <a:ext cx="10152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0000"/>
                  </a:solidFill>
                  <a:latin typeface="cmmi7"/>
                  <a:ea typeface="Arial"/>
                </a:rPr>
                <a:t>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151240" y="5869080"/>
              <a:ext cx="7488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507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270400" y="5715000"/>
              <a:ext cx="20808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1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£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551560" y="5799240"/>
              <a:ext cx="207720" cy="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1920" bIns="-698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834160" y="5711760"/>
              <a:ext cx="1252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432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5967360" y="5695920"/>
              <a:ext cx="103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6145200" y="5702400"/>
              <a:ext cx="2080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320" bIns="601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msam10"/>
                  <a:ea typeface="Arial"/>
                </a:rPr>
                <a:t>&amp;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6426000" y="5781600"/>
              <a:ext cx="160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6586560" y="5695920"/>
              <a:ext cx="1332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0160" bIns="66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mi10"/>
                  <a:ea typeface="Arial"/>
                </a:rPr>
                <a:t>=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6719760" y="5724360"/>
              <a:ext cx="1335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cmr10"/>
                  <a:ea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6854760" y="5869080"/>
              <a:ext cx="74520" cy="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10"/>
                  <a:ea typeface="Arial"/>
                </a:rPr>
                <a:t>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3132000" y="4788000"/>
              <a:ext cx="4545000" cy="1174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(Randomized) 1-2 Oblivious Transfer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3346560" y="1413000"/>
            <a:ext cx="1800000" cy="1152360"/>
          </a:xfrm>
          <a:prstGeom prst="rect">
            <a:avLst/>
          </a:prstGeom>
          <a:solidFill>
            <a:srgbClr val="9b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916280"/>
            <a:ext cx="57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6560" y="227664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6560" y="170028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706920" y="1628640"/>
            <a:ext cx="1081080" cy="679680"/>
            <a:chOff x="3706920" y="1628640"/>
            <a:chExt cx="1081080" cy="679680"/>
          </a:xfrm>
        </p:grpSpPr>
        <p:sp>
          <p:nvSpPr>
            <p:cNvPr id="96" name=""/>
            <p:cNvSpPr/>
            <p:nvPr/>
          </p:nvSpPr>
          <p:spPr>
            <a:xfrm>
              <a:off x="3832560" y="1633680"/>
              <a:ext cx="263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6080" y="1724040"/>
              <a:ext cx="17928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4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75360" y="1724040"/>
              <a:ext cx="2001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4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75520" y="1630440"/>
              <a:ext cx="1998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06920" y="2077920"/>
              <a:ext cx="1796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0720" y="2154240"/>
              <a:ext cx="11880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4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91320" y="2077920"/>
              <a:ext cx="17928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49800" y="2063880"/>
              <a:ext cx="279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29520" y="2063880"/>
              <a:ext cx="258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l10"/>
                  <a:ea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06920" y="1628640"/>
              <a:ext cx="1081080" cy="6796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69240" y="1411200"/>
            <a:ext cx="663480" cy="100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4360" y="1411200"/>
            <a:ext cx="761760" cy="86364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835280" y="1771560"/>
            <a:ext cx="841320" cy="291960"/>
            <a:chOff x="1835280" y="1771560"/>
            <a:chExt cx="841320" cy="291960"/>
          </a:xfrm>
        </p:grpSpPr>
        <p:sp>
          <p:nvSpPr>
            <p:cNvPr id="109" name=""/>
            <p:cNvSpPr/>
            <p:nvPr/>
          </p:nvSpPr>
          <p:spPr>
            <a:xfrm>
              <a:off x="1835280" y="177300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0120" y="19015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89520" y="19652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38560" y="177300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43400" y="19015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35280" y="177156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18040" y="1555920"/>
            <a:ext cx="1486080" cy="333360"/>
            <a:chOff x="5918040" y="1555920"/>
            <a:chExt cx="1486080" cy="333360"/>
          </a:xfrm>
        </p:grpSpPr>
        <p:sp>
          <p:nvSpPr>
            <p:cNvPr id="116" name=""/>
            <p:cNvSpPr/>
            <p:nvPr/>
          </p:nvSpPr>
          <p:spPr>
            <a:xfrm>
              <a:off x="5918040" y="1579680"/>
              <a:ext cx="2383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3720" y="1627200"/>
              <a:ext cx="2221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126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8000" y="155736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56120" y="1592280"/>
              <a:ext cx="167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23160" y="177192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0760" y="1592280"/>
              <a:ext cx="1666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37440" y="1557360"/>
              <a:ext cx="1666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18040" y="1555920"/>
              <a:ext cx="1486080" cy="333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4000" y="4581360"/>
            <a:ext cx="835164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for 2-party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impossible in the plain (quantum)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ff0101"/>
                </a:solidFill>
                <a:latin typeface="Arial"/>
                <a:ea typeface="Arial"/>
              </a:rPr>
              <a:t>possible in the Bounded-Quantum-Stor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41240" y="2997360"/>
            <a:ext cx="7502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5867280" y="2139840"/>
            <a:ext cx="397080" cy="279360"/>
            <a:chOff x="5867280" y="2139840"/>
            <a:chExt cx="397080" cy="279360"/>
          </a:xfrm>
        </p:grpSpPr>
        <p:sp>
          <p:nvSpPr>
            <p:cNvPr id="127" name=""/>
            <p:cNvSpPr/>
            <p:nvPr/>
          </p:nvSpPr>
          <p:spPr>
            <a:xfrm>
              <a:off x="5867280" y="214128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2120" y="2260440"/>
              <a:ext cx="192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7280" y="2139840"/>
              <a:ext cx="395280" cy="277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3399"/>
                </a:solidFill>
                <a:latin typeface="Garamond"/>
              </a:rPr>
              <a:t>Outline</a:t>
            </a:r>
            <a:endParaRPr b="0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50840" y="1628280"/>
            <a:ext cx="704232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Motivation and Not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Quantum Uncertainty Rela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64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3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1557360"/>
            <a:ext cx="7201080" cy="71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3419640" y="5098680"/>
            <a:ext cx="865080" cy="955800"/>
            <a:chOff x="3419640" y="5098680"/>
            <a:chExt cx="865080" cy="955800"/>
          </a:xfrm>
        </p:grpSpPr>
        <p:sp>
          <p:nvSpPr>
            <p:cNvPr id="134" name=""/>
            <p:cNvSpPr/>
            <p:nvPr/>
          </p:nvSpPr>
          <p:spPr>
            <a:xfrm>
              <a:off x="3564000" y="524340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19640" y="5459400"/>
              <a:ext cx="86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851280" y="5098680"/>
              <a:ext cx="21600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484800" y="5340600"/>
              <a:ext cx="713520" cy="713880"/>
              <a:chOff x="3484800" y="5340600"/>
              <a:chExt cx="713520" cy="713880"/>
            </a:xfrm>
          </p:grpSpPr>
          <p:sp>
            <p:nvSpPr>
              <p:cNvPr id="138" name=""/>
              <p:cNvSpPr/>
              <p:nvPr/>
            </p:nvSpPr>
            <p:spPr>
              <a:xfrm rot="2700000">
                <a:off x="3589200" y="5445000"/>
                <a:ext cx="504720" cy="504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3707280" y="5534280"/>
                <a:ext cx="294120" cy="2941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3678120" y="5534640"/>
                <a:ext cx="304560" cy="2952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"/>
          <p:cNvGrpSpPr/>
          <p:nvPr/>
        </p:nvGrpSpPr>
        <p:grpSpPr>
          <a:xfrm>
            <a:off x="3409920" y="3739680"/>
            <a:ext cx="865080" cy="865440"/>
            <a:chOff x="3409920" y="3739680"/>
            <a:chExt cx="865080" cy="865440"/>
          </a:xfrm>
        </p:grpSpPr>
        <p:sp>
          <p:nvSpPr>
            <p:cNvPr id="142" name=""/>
            <p:cNvSpPr/>
            <p:nvPr/>
          </p:nvSpPr>
          <p:spPr>
            <a:xfrm>
              <a:off x="3554280" y="388440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09920" y="410040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41920" y="3739680"/>
              <a:ext cx="215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97120" y="4100400"/>
              <a:ext cx="505080" cy="50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3849840" y="4123800"/>
              <a:ext cx="1440" cy="459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648240" y="4352400"/>
              <a:ext cx="4032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Quantum Mechanics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31654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. 1 y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265400" y="5157360"/>
            <a:ext cx="0" cy="574920"/>
          </a:xfrm>
          <a:prstGeom prst="line">
            <a:avLst/>
          </a:prstGeom>
          <a:ln w="442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4941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. ½ yield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068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19640" y="3668760"/>
            <a:ext cx="86508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18920" y="417348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284720" y="4173480"/>
            <a:ext cx="22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5011560"/>
            <a:ext cx="865080" cy="100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618920" y="551664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284720" y="551664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32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prob. ½ yield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1171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r10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00000" y="1027080"/>
            <a:ext cx="719280" cy="720720"/>
            <a:chOff x="900000" y="1027080"/>
            <a:chExt cx="719280" cy="720720"/>
          </a:xfrm>
        </p:grpSpPr>
        <p:sp>
          <p:nvSpPr>
            <p:cNvPr id="162" name=""/>
            <p:cNvSpPr/>
            <p:nvPr/>
          </p:nvSpPr>
          <p:spPr>
            <a:xfrm>
              <a:off x="900000" y="102708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60360" y="1100160"/>
              <a:ext cx="0" cy="5745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1640" y="1387440"/>
              <a:ext cx="57600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900000" y="1844640"/>
            <a:ext cx="719280" cy="720720"/>
            <a:chOff x="900000" y="1844640"/>
            <a:chExt cx="719280" cy="720720"/>
          </a:xfrm>
        </p:grpSpPr>
        <p:sp>
          <p:nvSpPr>
            <p:cNvPr id="166" name=""/>
            <p:cNvSpPr/>
            <p:nvPr/>
          </p:nvSpPr>
          <p:spPr>
            <a:xfrm>
              <a:off x="900000" y="18446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059480" y="20005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55520" y="2002680"/>
              <a:ext cx="408600" cy="4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198900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781440" y="1052640"/>
            <a:ext cx="719280" cy="720720"/>
            <a:chOff x="3781440" y="1052640"/>
            <a:chExt cx="719280" cy="720720"/>
          </a:xfrm>
        </p:grpSpPr>
        <p:sp>
          <p:nvSpPr>
            <p:cNvPr id="171" name=""/>
            <p:cNvSpPr/>
            <p:nvPr/>
          </p:nvSpPr>
          <p:spPr>
            <a:xfrm>
              <a:off x="3781440" y="105264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2720" y="141300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38920" y="1054080"/>
            <a:ext cx="718920" cy="720720"/>
            <a:chOff x="5938920" y="1054080"/>
            <a:chExt cx="718920" cy="720720"/>
          </a:xfrm>
        </p:grpSpPr>
        <p:sp>
          <p:nvSpPr>
            <p:cNvPr id="174" name=""/>
            <p:cNvSpPr/>
            <p:nvPr/>
          </p:nvSpPr>
          <p:spPr>
            <a:xfrm>
              <a:off x="5938920" y="105408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300720" y="112500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780000" y="1844640"/>
            <a:ext cx="718920" cy="720720"/>
            <a:chOff x="3780000" y="1844640"/>
            <a:chExt cx="718920" cy="720720"/>
          </a:xfrm>
        </p:grpSpPr>
        <p:sp>
          <p:nvSpPr>
            <p:cNvPr id="177" name=""/>
            <p:cNvSpPr/>
            <p:nvPr/>
          </p:nvSpPr>
          <p:spPr>
            <a:xfrm>
              <a:off x="3780000" y="184464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939120" y="20005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40360" y="1844640"/>
            <a:ext cx="719280" cy="720720"/>
            <a:chOff x="5940360" y="1844640"/>
            <a:chExt cx="719280" cy="720720"/>
          </a:xfrm>
        </p:grpSpPr>
        <p:sp>
          <p:nvSpPr>
            <p:cNvPr id="180" name=""/>
            <p:cNvSpPr/>
            <p:nvPr/>
          </p:nvSpPr>
          <p:spPr>
            <a:xfrm>
              <a:off x="5940360" y="18446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95880" y="2002680"/>
              <a:ext cx="408600" cy="4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788000" y="1198440"/>
            <a:ext cx="647640" cy="412920"/>
            <a:chOff x="4788000" y="1198440"/>
            <a:chExt cx="647640" cy="412920"/>
          </a:xfrm>
        </p:grpSpPr>
        <p:sp>
          <p:nvSpPr>
            <p:cNvPr id="183" name=""/>
            <p:cNvSpPr/>
            <p:nvPr/>
          </p:nvSpPr>
          <p:spPr>
            <a:xfrm>
              <a:off x="4788000" y="11998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9520" y="12380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70240" y="11998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11720" y="142236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119844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020000" y="1270080"/>
            <a:ext cx="647640" cy="412560"/>
            <a:chOff x="7020000" y="1270080"/>
            <a:chExt cx="647640" cy="412560"/>
          </a:xfrm>
        </p:grpSpPr>
        <p:sp>
          <p:nvSpPr>
            <p:cNvPr id="189" name=""/>
            <p:cNvSpPr/>
            <p:nvPr/>
          </p:nvSpPr>
          <p:spPr>
            <a:xfrm>
              <a:off x="7020000" y="127116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21520" y="130932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2240" y="127116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43720" y="1493640"/>
              <a:ext cx="223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20000" y="1270080"/>
              <a:ext cx="64764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7020000" y="2062080"/>
            <a:ext cx="650880" cy="412920"/>
            <a:chOff x="7020000" y="2062080"/>
            <a:chExt cx="650880" cy="412920"/>
          </a:xfrm>
        </p:grpSpPr>
        <p:sp>
          <p:nvSpPr>
            <p:cNvPr id="195" name=""/>
            <p:cNvSpPr/>
            <p:nvPr/>
          </p:nvSpPr>
          <p:spPr>
            <a:xfrm>
              <a:off x="7020000" y="206352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21520" y="210168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2240" y="206352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43720" y="228600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20000" y="206208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788000" y="1989000"/>
            <a:ext cx="650880" cy="412920"/>
            <a:chOff x="4788000" y="1989000"/>
            <a:chExt cx="650880" cy="412920"/>
          </a:xfrm>
        </p:grpSpPr>
        <p:sp>
          <p:nvSpPr>
            <p:cNvPr id="201" name=""/>
            <p:cNvSpPr/>
            <p:nvPr/>
          </p:nvSpPr>
          <p:spPr>
            <a:xfrm>
              <a:off x="4788000" y="199044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9520" y="202860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70240" y="199044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11720" y="221292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8000" y="198900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4360" y="3740040"/>
            <a:ext cx="718920" cy="720720"/>
            <a:chOff x="684360" y="3740040"/>
            <a:chExt cx="718920" cy="720720"/>
          </a:xfrm>
        </p:grpSpPr>
        <p:sp>
          <p:nvSpPr>
            <p:cNvPr id="207" name=""/>
            <p:cNvSpPr/>
            <p:nvPr/>
          </p:nvSpPr>
          <p:spPr>
            <a:xfrm>
              <a:off x="684360" y="374004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046160" y="381096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659640" y="3813120"/>
            <a:ext cx="718920" cy="720720"/>
            <a:chOff x="6659640" y="3813120"/>
            <a:chExt cx="718920" cy="720720"/>
          </a:xfrm>
        </p:grpSpPr>
        <p:sp>
          <p:nvSpPr>
            <p:cNvPr id="210" name=""/>
            <p:cNvSpPr/>
            <p:nvPr/>
          </p:nvSpPr>
          <p:spPr>
            <a:xfrm>
              <a:off x="6659640" y="38131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021440" y="388404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84360" y="5157720"/>
            <a:ext cx="718920" cy="720720"/>
            <a:chOff x="684360" y="5157720"/>
            <a:chExt cx="718920" cy="720720"/>
          </a:xfrm>
        </p:grpSpPr>
        <p:sp>
          <p:nvSpPr>
            <p:cNvPr id="213" name=""/>
            <p:cNvSpPr/>
            <p:nvPr/>
          </p:nvSpPr>
          <p:spPr>
            <a:xfrm>
              <a:off x="684360" y="515772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046160" y="522864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956720" y="4724280"/>
            <a:ext cx="718920" cy="720720"/>
            <a:chOff x="7956720" y="4724280"/>
            <a:chExt cx="718920" cy="720720"/>
          </a:xfrm>
        </p:grpSpPr>
        <p:sp>
          <p:nvSpPr>
            <p:cNvPr id="216" name=""/>
            <p:cNvSpPr/>
            <p:nvPr/>
          </p:nvSpPr>
          <p:spPr>
            <a:xfrm>
              <a:off x="7956720" y="472428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15840" y="488016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956720" y="5589720"/>
            <a:ext cx="718920" cy="720720"/>
            <a:chOff x="7956720" y="5589720"/>
            <a:chExt cx="718920" cy="720720"/>
          </a:xfrm>
        </p:grpSpPr>
        <p:sp>
          <p:nvSpPr>
            <p:cNvPr id="219" name=""/>
            <p:cNvSpPr/>
            <p:nvPr/>
          </p:nvSpPr>
          <p:spPr>
            <a:xfrm>
              <a:off x="7956720" y="558972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11880" y="5747400"/>
              <a:ext cx="408240" cy="406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5753160" y="1301760"/>
            <a:ext cx="1307520" cy="2685960"/>
            <a:chOff x="5753160" y="1301760"/>
            <a:chExt cx="1307520" cy="2685960"/>
          </a:xfrm>
        </p:grpSpPr>
        <p:sp>
          <p:nvSpPr>
            <p:cNvPr id="222" name=""/>
            <p:cNvSpPr/>
            <p:nvPr/>
          </p:nvSpPr>
          <p:spPr>
            <a:xfrm>
              <a:off x="5753160" y="1301760"/>
              <a:ext cx="12999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24160" y="1419120"/>
              <a:ext cx="136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60960" y="141912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83000" y="1370160"/>
              <a:ext cx="106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16440" y="1351080"/>
              <a:ext cx="2044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21280" y="1347840"/>
              <a:ext cx="756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'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53160" y="1641600"/>
              <a:ext cx="12999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9520" y="17938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89520" y="223992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cmr10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89520" y="268452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89520" y="31305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9520" y="3575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53160" y="3971880"/>
              <a:ext cx="129996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60720" y="1308240"/>
              <a:ext cx="129996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Quantum 1-2 OT Protocol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479840" y="1123920"/>
            <a:ext cx="730440" cy="351000"/>
            <a:chOff x="4479840" y="1123920"/>
            <a:chExt cx="730440" cy="351000"/>
          </a:xfrm>
        </p:grpSpPr>
        <p:sp>
          <p:nvSpPr>
            <p:cNvPr id="240" name=""/>
            <p:cNvSpPr/>
            <p:nvPr/>
          </p:nvSpPr>
          <p:spPr>
            <a:xfrm>
              <a:off x="4479840" y="1125360"/>
              <a:ext cx="92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73440" y="1147680"/>
              <a:ext cx="276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5120" y="1125360"/>
              <a:ext cx="130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5440" y="1316160"/>
              <a:ext cx="204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79840" y="1123920"/>
              <a:ext cx="730440" cy="351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246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254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259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267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275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284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285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289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293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297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301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305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258360" y="1676520"/>
            <a:ext cx="611280" cy="2340360"/>
            <a:chOff x="3258360" y="1676520"/>
            <a:chExt cx="611280" cy="2340360"/>
          </a:xfrm>
        </p:grpSpPr>
        <p:sp>
          <p:nvSpPr>
            <p:cNvPr id="309" name=""/>
            <p:cNvSpPr/>
            <p:nvPr/>
          </p:nvSpPr>
          <p:spPr>
            <a:xfrm rot="2700000">
              <a:off x="3348000" y="21236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3423960" y="220140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48000" y="16765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27560" y="18918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25844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>
              <a:off x="3564000" y="260460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48000" y="304020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>
              <a:off x="3564000" y="3060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2700000">
              <a:off x="3348000" y="34952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44952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8317080" y="1268280"/>
            <a:ext cx="663480" cy="100836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7526160" y="2061720"/>
            <a:ext cx="865080" cy="865440"/>
            <a:chOff x="7526160" y="2061720"/>
            <a:chExt cx="865080" cy="865440"/>
          </a:xfrm>
        </p:grpSpPr>
        <p:sp>
          <p:nvSpPr>
            <p:cNvPr id="321" name=""/>
            <p:cNvSpPr/>
            <p:nvPr/>
          </p:nvSpPr>
          <p:spPr>
            <a:xfrm>
              <a:off x="7670520" y="220644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26160" y="242244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7958160" y="2061720"/>
              <a:ext cx="215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13360" y="2422440"/>
              <a:ext cx="505080" cy="50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7966080" y="2445840"/>
              <a:ext cx="1440" cy="459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764480" y="2674440"/>
              <a:ext cx="4032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937200" y="4513320"/>
            <a:ext cx="938160" cy="282600"/>
            <a:chOff x="6937200" y="4513320"/>
            <a:chExt cx="938160" cy="282600"/>
          </a:xfrm>
        </p:grpSpPr>
        <p:sp>
          <p:nvSpPr>
            <p:cNvPr id="328" name=""/>
            <p:cNvSpPr/>
            <p:nvPr/>
          </p:nvSpPr>
          <p:spPr>
            <a:xfrm>
              <a:off x="6937200" y="451800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42040" y="46465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85040" y="4622760"/>
              <a:ext cx="25848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560" bIns="-856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18400" y="4514760"/>
              <a:ext cx="156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?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7200" y="4513320"/>
              <a:ext cx="938160" cy="280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91360" y="4518000"/>
            <a:ext cx="338040" cy="279360"/>
            <a:chOff x="6291360" y="4518000"/>
            <a:chExt cx="338040" cy="279360"/>
          </a:xfrm>
        </p:grpSpPr>
        <p:sp>
          <p:nvSpPr>
            <p:cNvPr id="334" name=""/>
            <p:cNvSpPr/>
            <p:nvPr/>
          </p:nvSpPr>
          <p:spPr>
            <a:xfrm>
              <a:off x="6291360" y="45194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96200" y="46479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91360" y="4518000"/>
              <a:ext cx="338040" cy="277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461280" y="1916280"/>
            <a:ext cx="182520" cy="2519280"/>
            <a:chOff x="6461280" y="1916280"/>
            <a:chExt cx="182520" cy="2519280"/>
          </a:xfrm>
        </p:grpSpPr>
        <p:sp>
          <p:nvSpPr>
            <p:cNvPr id="338" name=""/>
            <p:cNvSpPr/>
            <p:nvPr/>
          </p:nvSpPr>
          <p:spPr>
            <a:xfrm>
              <a:off x="648036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46128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48036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48036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912000" y="2347920"/>
            <a:ext cx="163440" cy="2089080"/>
            <a:chOff x="6912000" y="2347920"/>
            <a:chExt cx="163440" cy="2089080"/>
          </a:xfrm>
        </p:grpSpPr>
        <p:sp>
          <p:nvSpPr>
            <p:cNvPr id="343" name=""/>
            <p:cNvSpPr/>
            <p:nvPr/>
          </p:nvSpPr>
          <p:spPr>
            <a:xfrm flipH="1">
              <a:off x="691200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5636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91200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516720" y="1235160"/>
            <a:ext cx="934920" cy="28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6588000" y="0"/>
            <a:ext cx="1873440" cy="1413000"/>
            <a:chOff x="6588000" y="0"/>
            <a:chExt cx="1873440" cy="1413000"/>
          </a:xfrm>
        </p:grpSpPr>
        <p:sp>
          <p:nvSpPr>
            <p:cNvPr id="348" name=""/>
            <p:cNvSpPr/>
            <p:nvPr/>
          </p:nvSpPr>
          <p:spPr>
            <a:xfrm>
              <a:off x="6588000" y="0"/>
              <a:ext cx="1873440" cy="1413000"/>
            </a:xfrm>
            <a:prstGeom prst="cloudCallout">
              <a:avLst>
                <a:gd name="adj1" fmla="val 45592"/>
                <a:gd name="adj2" fmla="val 46851"/>
              </a:avLst>
            </a:prstGeom>
            <a:solidFill>
              <a:srgbClr val="33cccc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6877080" y="404640"/>
              <a:ext cx="1222200" cy="662040"/>
              <a:chOff x="6877080" y="404640"/>
              <a:chExt cx="1222200" cy="662040"/>
            </a:xfrm>
          </p:grpSpPr>
          <p:sp>
            <p:nvSpPr>
              <p:cNvPr id="350" name=""/>
              <p:cNvSpPr/>
              <p:nvPr/>
            </p:nvSpPr>
            <p:spPr>
              <a:xfrm>
                <a:off x="6967440" y="404640"/>
                <a:ext cx="2379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71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  <a:ea typeface="Arial"/>
                  </a:rPr>
                  <a:t>C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323120" y="509400"/>
                <a:ext cx="2584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560" bIns="-856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75560" y="417600"/>
                <a:ext cx="166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1420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0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77080" y="811080"/>
                <a:ext cx="2584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716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£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37360" y="771480"/>
                <a:ext cx="75960" cy="1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2852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sy7"/>
                    <a:ea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3120" y="915840"/>
                <a:ext cx="2584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9560" bIns="-8568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675560" y="844560"/>
                <a:ext cx="25848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3680" bIns="270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  <a:ea typeface="Arial"/>
                  </a:rPr>
                  <a:t>+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34040" y="799920"/>
                <a:ext cx="165240" cy="10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0080" bIns="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  <a:ea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877080" y="404640"/>
                <a:ext cx="1222200" cy="66204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360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49440" y="18018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49440" y="22464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49440" y="26924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49440" y="31370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49440" y="35830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771640" y="5229360"/>
            <a:ext cx="638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32720" y="5805360"/>
            <a:ext cx="637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5300640"/>
            <a:ext cx="756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Correctness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Receiver-Security against Dishonest A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7569 -4.81481E-006 E">
                                      <p:cBhvr>
                                        <p:cTn id="74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Sender-Security?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284720" y="162864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479840" y="1123920"/>
            <a:ext cx="730440" cy="351000"/>
            <a:chOff x="4479840" y="1123920"/>
            <a:chExt cx="730440" cy="351000"/>
          </a:xfrm>
        </p:grpSpPr>
        <p:sp>
          <p:nvSpPr>
            <p:cNvPr id="398" name=""/>
            <p:cNvSpPr/>
            <p:nvPr/>
          </p:nvSpPr>
          <p:spPr>
            <a:xfrm>
              <a:off x="4479840" y="1125360"/>
              <a:ext cx="921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3440" y="1147680"/>
              <a:ext cx="276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75120" y="1125360"/>
              <a:ext cx="1303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82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05440" y="1316160"/>
              <a:ext cx="204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7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79840" y="1123920"/>
              <a:ext cx="730440" cy="351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404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4284720" y="4221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412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417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425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168800" y="3789360"/>
            <a:ext cx="1268280" cy="291960"/>
            <a:chOff x="4168800" y="3789360"/>
            <a:chExt cx="1268280" cy="291960"/>
          </a:xfrm>
        </p:grpSpPr>
        <p:sp>
          <p:nvSpPr>
            <p:cNvPr id="433" name=""/>
            <p:cNvSpPr/>
            <p:nvPr/>
          </p:nvSpPr>
          <p:spPr>
            <a:xfrm>
              <a:off x="4168800" y="3790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28720" y="3983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576320" y="3790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90880" y="3919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41720" y="3983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89320" y="3790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03520" y="3919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68800" y="3789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442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443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447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451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455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459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463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777640" y="1676520"/>
            <a:ext cx="611280" cy="2340360"/>
            <a:chOff x="5777640" y="1676520"/>
            <a:chExt cx="611280" cy="2340360"/>
          </a:xfrm>
        </p:grpSpPr>
        <p:sp>
          <p:nvSpPr>
            <p:cNvPr id="467" name=""/>
            <p:cNvSpPr/>
            <p:nvPr/>
          </p:nvSpPr>
          <p:spPr>
            <a:xfrm rot="2700000">
              <a:off x="5867280" y="21236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 flipV="1">
              <a:off x="5943240" y="2201400"/>
              <a:ext cx="260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867280" y="167652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946840" y="1891800"/>
              <a:ext cx="31896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67280" y="258444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6083280" y="260460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67280" y="3040200"/>
              <a:ext cx="432000" cy="431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6083280" y="3060360"/>
              <a:ext cx="1440" cy="358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700000">
              <a:off x="5867280" y="349524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968800" y="3571560"/>
              <a:ext cx="251280" cy="251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478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6200000">
            <a:off x="5552280" y="257220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174080" y="2679840"/>
            <a:ext cx="296640" cy="360360"/>
            <a:chOff x="7174080" y="2679840"/>
            <a:chExt cx="296640" cy="360360"/>
          </a:xfrm>
        </p:grpSpPr>
        <p:sp>
          <p:nvSpPr>
            <p:cNvPr id="487" name=""/>
            <p:cNvSpPr/>
            <p:nvPr/>
          </p:nvSpPr>
          <p:spPr>
            <a:xfrm>
              <a:off x="7174080" y="267984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74080" y="267984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 rot="14971200">
            <a:off x="7282080" y="1483200"/>
            <a:ext cx="216000" cy="79236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962480" y="981000"/>
            <a:ext cx="742680" cy="1066320"/>
            <a:chOff x="7962480" y="981000"/>
            <a:chExt cx="742680" cy="1066320"/>
          </a:xfrm>
        </p:grpSpPr>
        <p:sp>
          <p:nvSpPr>
            <p:cNvPr id="491" name=""/>
            <p:cNvSpPr/>
            <p:nvPr/>
          </p:nvSpPr>
          <p:spPr>
            <a:xfrm rot="12426000">
              <a:off x="8526600" y="1015920"/>
              <a:ext cx="13428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68320" y="981000"/>
              <a:ext cx="13392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962480" y="1058400"/>
              <a:ext cx="646200" cy="86364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08080" y="1078200"/>
              <a:ext cx="114480" cy="4824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70840" y="1139040"/>
              <a:ext cx="484200" cy="76644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472960" y="1161000"/>
              <a:ext cx="900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15600">
              <a:off x="8248320" y="1186560"/>
              <a:ext cx="75960" cy="8820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8184200">
              <a:off x="8395200" y="1198800"/>
              <a:ext cx="77400" cy="8496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199000" y="1250280"/>
              <a:ext cx="138960" cy="1900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256600" y="1265040"/>
              <a:ext cx="243360" cy="36576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211600" y="1267560"/>
              <a:ext cx="116280" cy="16344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57680" y="1271520"/>
              <a:ext cx="16920" cy="154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79720" y="1275840"/>
              <a:ext cx="110880" cy="17136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416800" y="1293120"/>
              <a:ext cx="15480" cy="1656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73040" y="1340640"/>
              <a:ext cx="1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556840" y="1397160"/>
              <a:ext cx="32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4000" y="1523520"/>
              <a:ext cx="88560" cy="1447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17960" y="1552680"/>
              <a:ext cx="77040" cy="91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81920" y="1558440"/>
              <a:ext cx="71280" cy="7020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543160" y="1557360"/>
              <a:ext cx="7200" cy="3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93840" y="1585080"/>
              <a:ext cx="101520" cy="12420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144280" y="1680840"/>
              <a:ext cx="282600" cy="89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02600" y="1807560"/>
              <a:ext cx="122040" cy="3240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83080" y="1920240"/>
              <a:ext cx="317880" cy="1270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95320" y="1931040"/>
              <a:ext cx="119160" cy="10656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276040" y="1936080"/>
              <a:ext cx="112680" cy="824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24560" y="1965240"/>
              <a:ext cx="38520" cy="3816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519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49440" y="18018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49440" y="224640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49440" y="26924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49440" y="313704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49440" y="358308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552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411280" y="3789000"/>
            <a:ext cx="865080" cy="865440"/>
            <a:chOff x="2411280" y="3789000"/>
            <a:chExt cx="865080" cy="865440"/>
          </a:xfrm>
        </p:grpSpPr>
        <p:sp>
          <p:nvSpPr>
            <p:cNvPr id="565" name=""/>
            <p:cNvSpPr/>
            <p:nvPr/>
          </p:nvSpPr>
          <p:spPr>
            <a:xfrm>
              <a:off x="2555640" y="3933720"/>
              <a:ext cx="576360" cy="57636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11280" y="4149720"/>
              <a:ext cx="86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843280" y="3789000"/>
              <a:ext cx="21564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98480" y="4149720"/>
              <a:ext cx="505080" cy="50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 flipV="1">
              <a:off x="2851200" y="4173120"/>
              <a:ext cx="1440" cy="4590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649600" y="4401720"/>
              <a:ext cx="403200" cy="180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713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Garamond"/>
              </a:rPr>
              <a:t>Quantum Mechanics II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2" name=""/>
          <p:cNvSpPr/>
          <p:nvPr/>
        </p:nvSpPr>
        <p:spPr>
          <a:xfrm>
            <a:off x="900000" y="1027080"/>
            <a:ext cx="71928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5280" y="1171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260360" y="1100160"/>
            <a:ext cx="0" cy="57456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71640" y="1387440"/>
            <a:ext cx="57600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00000" y="1844640"/>
            <a:ext cx="719280" cy="72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059480" y="2000520"/>
            <a:ext cx="405360" cy="407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055520" y="2002680"/>
            <a:ext cx="408600" cy="4064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35280" y="198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msy10"/>
                <a:ea typeface="Arial"/>
              </a:rPr>
              <a:t>£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421080" y="1052640"/>
            <a:ext cx="719280" cy="720720"/>
            <a:chOff x="3421080" y="1052640"/>
            <a:chExt cx="719280" cy="720720"/>
          </a:xfrm>
        </p:grpSpPr>
        <p:sp>
          <p:nvSpPr>
            <p:cNvPr id="581" name=""/>
            <p:cNvSpPr/>
            <p:nvPr/>
          </p:nvSpPr>
          <p:spPr>
            <a:xfrm>
              <a:off x="3421080" y="1052640"/>
              <a:ext cx="71928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92360" y="1413000"/>
              <a:ext cx="5763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578560" y="1054080"/>
            <a:ext cx="718920" cy="720720"/>
            <a:chOff x="5578560" y="1054080"/>
            <a:chExt cx="718920" cy="720720"/>
          </a:xfrm>
        </p:grpSpPr>
        <p:sp>
          <p:nvSpPr>
            <p:cNvPr id="584" name=""/>
            <p:cNvSpPr/>
            <p:nvPr/>
          </p:nvSpPr>
          <p:spPr>
            <a:xfrm>
              <a:off x="5578560" y="1054080"/>
              <a:ext cx="718920" cy="72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940360" y="1125000"/>
              <a:ext cx="0" cy="574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419640" y="1844640"/>
            <a:ext cx="718920" cy="720720"/>
            <a:chOff x="3419640" y="1844640"/>
            <a:chExt cx="718920" cy="720720"/>
          </a:xfrm>
        </p:grpSpPr>
        <p:sp>
          <p:nvSpPr>
            <p:cNvPr id="587" name=""/>
            <p:cNvSpPr/>
            <p:nvPr/>
          </p:nvSpPr>
          <p:spPr>
            <a:xfrm>
              <a:off x="3419640" y="1844640"/>
              <a:ext cx="71892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578760" y="2000520"/>
              <a:ext cx="405360" cy="4075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580000" y="1844640"/>
            <a:ext cx="719280" cy="720720"/>
            <a:chOff x="5580000" y="1844640"/>
            <a:chExt cx="719280" cy="720720"/>
          </a:xfrm>
        </p:grpSpPr>
        <p:sp>
          <p:nvSpPr>
            <p:cNvPr id="590" name=""/>
            <p:cNvSpPr/>
            <p:nvPr/>
          </p:nvSpPr>
          <p:spPr>
            <a:xfrm>
              <a:off x="5580000" y="1844640"/>
              <a:ext cx="719280" cy="72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35520" y="2002680"/>
              <a:ext cx="408600" cy="406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427640" y="1198440"/>
            <a:ext cx="647640" cy="412920"/>
            <a:chOff x="4427640" y="1198440"/>
            <a:chExt cx="647640" cy="412920"/>
          </a:xfrm>
        </p:grpSpPr>
        <p:sp>
          <p:nvSpPr>
            <p:cNvPr id="593" name=""/>
            <p:cNvSpPr/>
            <p:nvPr/>
          </p:nvSpPr>
          <p:spPr>
            <a:xfrm>
              <a:off x="4427640" y="119988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29160" y="123804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09880" y="119988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51360" y="1422360"/>
              <a:ext cx="223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27640" y="1198440"/>
              <a:ext cx="6476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659640" y="1270080"/>
            <a:ext cx="647640" cy="412560"/>
            <a:chOff x="6659640" y="1270080"/>
            <a:chExt cx="647640" cy="412560"/>
          </a:xfrm>
        </p:grpSpPr>
        <p:sp>
          <p:nvSpPr>
            <p:cNvPr id="599" name=""/>
            <p:cNvSpPr/>
            <p:nvPr/>
          </p:nvSpPr>
          <p:spPr>
            <a:xfrm>
              <a:off x="6659640" y="1271160"/>
              <a:ext cx="1015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61160" y="1309320"/>
              <a:ext cx="180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29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41880" y="1271160"/>
              <a:ext cx="1414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3360" y="1493640"/>
              <a:ext cx="223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600" bIns="2952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59640" y="1270080"/>
              <a:ext cx="647640" cy="412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6659640" y="2062080"/>
            <a:ext cx="650880" cy="412920"/>
            <a:chOff x="6659640" y="2062080"/>
            <a:chExt cx="650880" cy="412920"/>
          </a:xfrm>
        </p:grpSpPr>
        <p:sp>
          <p:nvSpPr>
            <p:cNvPr id="605" name=""/>
            <p:cNvSpPr/>
            <p:nvPr/>
          </p:nvSpPr>
          <p:spPr>
            <a:xfrm>
              <a:off x="6659640" y="206352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61160" y="210168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1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41880" y="206352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083360" y="228600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9640" y="206208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4427640" y="1989000"/>
            <a:ext cx="650880" cy="412920"/>
            <a:chOff x="4427640" y="1989000"/>
            <a:chExt cx="650880" cy="412920"/>
          </a:xfrm>
        </p:grpSpPr>
        <p:sp>
          <p:nvSpPr>
            <p:cNvPr id="611" name=""/>
            <p:cNvSpPr/>
            <p:nvPr/>
          </p:nvSpPr>
          <p:spPr>
            <a:xfrm>
              <a:off x="4427640" y="1990440"/>
              <a:ext cx="101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29160" y="2028600"/>
              <a:ext cx="18072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32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  <a:ea typeface="Arial"/>
                </a:rPr>
                <a:t>0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09880" y="1990440"/>
              <a:ext cx="1414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1440" bIns="90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  <a:ea typeface="Arial"/>
                </a:rPr>
                <a:t>i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51360" y="2212920"/>
              <a:ext cx="2271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6960" bIns="29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sy7"/>
                  <a:ea typeface="Arial"/>
                </a:rPr>
                <a:t>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427640" y="1989000"/>
              <a:ext cx="65088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826920" y="3716280"/>
            <a:ext cx="1008360" cy="187344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7546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09840" y="3716280"/>
            <a:ext cx="865080" cy="1008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71640" y="3860640"/>
            <a:ext cx="71892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332000" y="3933360"/>
            <a:ext cx="0" cy="574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42920" y="422100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127520" y="4016520"/>
            <a:ext cx="405720" cy="407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123920" y="4018680"/>
            <a:ext cx="408600" cy="4064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1763280" y="4219560"/>
            <a:ext cx="647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3276720" y="4221000"/>
            <a:ext cx="57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763280" y="508464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4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R pai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348000" y="3213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. ½ 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219640" y="3213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. ½ 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4642920" y="4581360"/>
            <a:ext cx="4032360" cy="1028520"/>
            <a:chOff x="4642920" y="4581360"/>
            <a:chExt cx="4032360" cy="1028520"/>
          </a:xfrm>
        </p:grpSpPr>
        <p:grpSp>
          <p:nvGrpSpPr>
            <p:cNvPr id="630" name=""/>
            <p:cNvGrpSpPr/>
            <p:nvPr/>
          </p:nvGrpSpPr>
          <p:grpSpPr>
            <a:xfrm>
              <a:off x="5362200" y="4654080"/>
              <a:ext cx="865080" cy="955800"/>
              <a:chOff x="5362200" y="4654080"/>
              <a:chExt cx="865080" cy="955800"/>
            </a:xfrm>
          </p:grpSpPr>
          <p:sp>
            <p:nvSpPr>
              <p:cNvPr id="631" name=""/>
              <p:cNvSpPr/>
              <p:nvPr/>
            </p:nvSpPr>
            <p:spPr>
              <a:xfrm>
                <a:off x="5506560" y="4798800"/>
                <a:ext cx="576360" cy="576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362200" y="5014800"/>
                <a:ext cx="8650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793840" y="4654080"/>
                <a:ext cx="2160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427360" y="4896000"/>
                <a:ext cx="713520" cy="713880"/>
                <a:chOff x="5427360" y="4896000"/>
                <a:chExt cx="713520" cy="713880"/>
              </a:xfrm>
            </p:grpSpPr>
            <p:sp>
              <p:nvSpPr>
                <p:cNvPr id="635" name=""/>
                <p:cNvSpPr/>
                <p:nvPr/>
              </p:nvSpPr>
              <p:spPr>
                <a:xfrm rot="2700000">
                  <a:off x="5531760" y="5000400"/>
                  <a:ext cx="504720" cy="504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5649840" y="5089680"/>
                  <a:ext cx="294120" cy="29412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 flipH="1" flipV="1">
                  <a:off x="5620680" y="5090040"/>
                  <a:ext cx="304560" cy="295200"/>
                </a:xfrm>
                <a:prstGeom prst="line">
                  <a:avLst/>
                </a:prstGeom>
                <a:ln w="4428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8" name=""/>
            <p:cNvSpPr/>
            <p:nvPr/>
          </p:nvSpPr>
          <p:spPr>
            <a:xfrm>
              <a:off x="5362200" y="4581360"/>
              <a:ext cx="865080" cy="1008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642920" y="5086080"/>
              <a:ext cx="718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226920" y="5086080"/>
              <a:ext cx="5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75280" y="465444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. ½ : 0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. ½ :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696920" y="4581360"/>
            <a:ext cx="3888000" cy="1008360"/>
            <a:chOff x="4696920" y="4581360"/>
            <a:chExt cx="3888000" cy="1008360"/>
          </a:xfrm>
        </p:grpSpPr>
        <p:grpSp>
          <p:nvGrpSpPr>
            <p:cNvPr id="643" name=""/>
            <p:cNvGrpSpPr/>
            <p:nvPr/>
          </p:nvGrpSpPr>
          <p:grpSpPr>
            <a:xfrm>
              <a:off x="5344920" y="4652640"/>
              <a:ext cx="865080" cy="865440"/>
              <a:chOff x="5344920" y="4652640"/>
              <a:chExt cx="865080" cy="865440"/>
            </a:xfrm>
          </p:grpSpPr>
          <p:sp>
            <p:nvSpPr>
              <p:cNvPr id="644" name=""/>
              <p:cNvSpPr/>
              <p:nvPr/>
            </p:nvSpPr>
            <p:spPr>
              <a:xfrm>
                <a:off x="5489280" y="4797360"/>
                <a:ext cx="576360" cy="57636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344920" y="5013360"/>
                <a:ext cx="865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776920" y="4652640"/>
                <a:ext cx="21564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32120" y="5013360"/>
                <a:ext cx="505080" cy="504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5784840" y="5036760"/>
                <a:ext cx="1440" cy="4590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583240" y="5265360"/>
                <a:ext cx="40320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5343120" y="4581360"/>
              <a:ext cx="865440" cy="1008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696920" y="5084280"/>
              <a:ext cx="647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6209640" y="5086440"/>
              <a:ext cx="5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784920" y="4795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. 1 :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971640" y="4724280"/>
            <a:ext cx="718920" cy="72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1332000" y="4797000"/>
            <a:ext cx="0" cy="5749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2920" y="5084640"/>
            <a:ext cx="576360" cy="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127520" y="4880160"/>
            <a:ext cx="405720" cy="407520"/>
          </a:xfrm>
          <a:prstGeom prst="line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123920" y="4882320"/>
            <a:ext cx="408600" cy="406440"/>
          </a:xfrm>
          <a:prstGeom prst="line">
            <a:avLst/>
          </a:prstGeom>
          <a:ln w="442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895560" y="4724280"/>
            <a:ext cx="719280" cy="720720"/>
            <a:chOff x="3895560" y="4724280"/>
            <a:chExt cx="719280" cy="720720"/>
          </a:xfrm>
        </p:grpSpPr>
        <p:sp>
          <p:nvSpPr>
            <p:cNvPr id="660" name=""/>
            <p:cNvSpPr/>
            <p:nvPr/>
          </p:nvSpPr>
          <p:spPr>
            <a:xfrm>
              <a:off x="3965400" y="5084640"/>
              <a:ext cx="576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3895560" y="4724280"/>
              <a:ext cx="719280" cy="720720"/>
              <a:chOff x="3895560" y="4724280"/>
              <a:chExt cx="719280" cy="720720"/>
            </a:xfrm>
          </p:grpSpPr>
          <p:sp>
            <p:nvSpPr>
              <p:cNvPr id="662" name=""/>
              <p:cNvSpPr/>
              <p:nvPr/>
            </p:nvSpPr>
            <p:spPr>
              <a:xfrm>
                <a:off x="3895560" y="4724280"/>
                <a:ext cx="71928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66840" y="5084640"/>
                <a:ext cx="57636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3895560" y="3844800"/>
            <a:ext cx="719280" cy="720720"/>
            <a:chOff x="3895560" y="3844800"/>
            <a:chExt cx="719280" cy="720720"/>
          </a:xfrm>
        </p:grpSpPr>
        <p:sp>
          <p:nvSpPr>
            <p:cNvPr id="665" name=""/>
            <p:cNvSpPr/>
            <p:nvPr/>
          </p:nvSpPr>
          <p:spPr>
            <a:xfrm>
              <a:off x="3995640" y="4205160"/>
              <a:ext cx="57636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3895560" y="3844800"/>
              <a:ext cx="719280" cy="720720"/>
              <a:chOff x="3895560" y="3844800"/>
              <a:chExt cx="719280" cy="720720"/>
            </a:xfrm>
          </p:grpSpPr>
          <p:sp>
            <p:nvSpPr>
              <p:cNvPr id="667" name=""/>
              <p:cNvSpPr/>
              <p:nvPr/>
            </p:nvSpPr>
            <p:spPr>
              <a:xfrm>
                <a:off x="3895560" y="3844800"/>
                <a:ext cx="71928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966840" y="4205160"/>
                <a:ext cx="57636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"/>
          <p:cNvGrpSpPr/>
          <p:nvPr/>
        </p:nvGrpSpPr>
        <p:grpSpPr>
          <a:xfrm>
            <a:off x="5435640" y="3843360"/>
            <a:ext cx="718920" cy="720720"/>
            <a:chOff x="5435640" y="3843360"/>
            <a:chExt cx="718920" cy="720720"/>
          </a:xfrm>
        </p:grpSpPr>
        <p:sp>
          <p:nvSpPr>
            <p:cNvPr id="670" name=""/>
            <p:cNvSpPr/>
            <p:nvPr/>
          </p:nvSpPr>
          <p:spPr>
            <a:xfrm flipV="1">
              <a:off x="5870520" y="3986280"/>
              <a:ext cx="0" cy="57456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5435640" y="3843360"/>
              <a:ext cx="718920" cy="720720"/>
              <a:chOff x="5435640" y="3843360"/>
              <a:chExt cx="718920" cy="720720"/>
            </a:xfrm>
          </p:grpSpPr>
          <p:sp>
            <p:nvSpPr>
              <p:cNvPr id="672" name=""/>
              <p:cNvSpPr/>
              <p:nvPr/>
            </p:nvSpPr>
            <p:spPr>
              <a:xfrm>
                <a:off x="5435640" y="3843360"/>
                <a:ext cx="71892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797440" y="3914280"/>
                <a:ext cx="0" cy="574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4" name=""/>
          <p:cNvGrpSpPr/>
          <p:nvPr/>
        </p:nvGrpSpPr>
        <p:grpSpPr>
          <a:xfrm>
            <a:off x="5435640" y="4724280"/>
            <a:ext cx="718920" cy="720720"/>
            <a:chOff x="5435640" y="4724280"/>
            <a:chExt cx="718920" cy="720720"/>
          </a:xfrm>
        </p:grpSpPr>
        <p:sp>
          <p:nvSpPr>
            <p:cNvPr id="675" name=""/>
            <p:cNvSpPr/>
            <p:nvPr/>
          </p:nvSpPr>
          <p:spPr>
            <a:xfrm flipV="1">
              <a:off x="5870520" y="4866840"/>
              <a:ext cx="0" cy="57492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5435640" y="4724280"/>
              <a:ext cx="718920" cy="720720"/>
              <a:chOff x="5435640" y="4724280"/>
              <a:chExt cx="718920" cy="720720"/>
            </a:xfrm>
          </p:grpSpPr>
          <p:sp>
            <p:nvSpPr>
              <p:cNvPr id="677" name=""/>
              <p:cNvSpPr/>
              <p:nvPr/>
            </p:nvSpPr>
            <p:spPr>
              <a:xfrm>
                <a:off x="5435640" y="4724280"/>
                <a:ext cx="718920" cy="720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797440" y="4795200"/>
                <a:ext cx="0" cy="574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771280" y="1692360"/>
            <a:ext cx="4248000" cy="2231640"/>
            <a:chOff x="2771280" y="1692360"/>
            <a:chExt cx="4248000" cy="2231640"/>
          </a:xfrm>
        </p:grpSpPr>
        <p:sp>
          <p:nvSpPr>
            <p:cNvPr id="680" name=""/>
            <p:cNvSpPr/>
            <p:nvPr/>
          </p:nvSpPr>
          <p:spPr>
            <a:xfrm rot="5400000">
              <a:off x="4727520" y="-12096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5400000">
              <a:off x="4656600" y="268920"/>
              <a:ext cx="477720" cy="41054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5400000">
              <a:off x="4584600" y="67788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5400000">
              <a:off x="4584960" y="1155960"/>
              <a:ext cx="47772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4584600" y="1632240"/>
              <a:ext cx="478080" cy="41050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3016080" y="1700280"/>
            <a:ext cx="1449720" cy="2231640"/>
            <a:chOff x="3016080" y="1700280"/>
            <a:chExt cx="1449720" cy="2231640"/>
          </a:xfrm>
        </p:grpSpPr>
        <p:sp>
          <p:nvSpPr>
            <p:cNvPr id="686" name=""/>
            <p:cNvSpPr/>
            <p:nvPr/>
          </p:nvSpPr>
          <p:spPr>
            <a:xfrm rot="5400000">
              <a:off x="3526200" y="1238400"/>
              <a:ext cx="47808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01720" y="1629000"/>
              <a:ext cx="47772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5400000">
              <a:off x="3477600" y="2037960"/>
              <a:ext cx="47808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3477600" y="2516040"/>
              <a:ext cx="47772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5400000">
              <a:off x="3477600" y="2992320"/>
              <a:ext cx="478080" cy="140112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546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5724360" y="1311120"/>
            <a:ext cx="700200" cy="2685960"/>
            <a:chOff x="5724360" y="1311120"/>
            <a:chExt cx="700200" cy="2685960"/>
          </a:xfrm>
        </p:grpSpPr>
        <p:sp>
          <p:nvSpPr>
            <p:cNvPr id="692" name=""/>
            <p:cNvSpPr/>
            <p:nvPr/>
          </p:nvSpPr>
          <p:spPr>
            <a:xfrm>
              <a:off x="5724360" y="131112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95720" y="1428480"/>
              <a:ext cx="1368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525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32520" y="1428480"/>
              <a:ext cx="12060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54560" y="1379520"/>
              <a:ext cx="1065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66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  <a:ea typeface="Arial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24360" y="165096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24360" y="3981240"/>
              <a:ext cx="69228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732280" y="1317600"/>
              <a:ext cx="692280" cy="26794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3399"/>
                </a:solidFill>
                <a:latin typeface="Garamond"/>
              </a:rPr>
              <a:t>Entanglement-Based Protocol</a:t>
            </a:r>
            <a:endParaRPr b="0" lang="en-US" sz="3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762120" cy="863640"/>
          </a:xfrm>
          <a:prstGeom prst="rect">
            <a:avLst/>
          </a:prstGeom>
          <a:ln w="0">
            <a:noFill/>
          </a:ln>
        </p:spPr>
      </p:pic>
      <p:grpSp>
        <p:nvGrpSpPr>
          <p:cNvPr id="701" name=""/>
          <p:cNvGrpSpPr/>
          <p:nvPr/>
        </p:nvGrpSpPr>
        <p:grpSpPr>
          <a:xfrm>
            <a:off x="2104920" y="4503600"/>
            <a:ext cx="841320" cy="291960"/>
            <a:chOff x="2104920" y="4503600"/>
            <a:chExt cx="841320" cy="291960"/>
          </a:xfrm>
        </p:grpSpPr>
        <p:sp>
          <p:nvSpPr>
            <p:cNvPr id="702" name=""/>
            <p:cNvSpPr/>
            <p:nvPr/>
          </p:nvSpPr>
          <p:spPr>
            <a:xfrm>
              <a:off x="210492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0976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459160" y="469728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08200" y="4505040"/>
              <a:ext cx="204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13040" y="463356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04920" y="4503600"/>
              <a:ext cx="8398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206800" y="1916280"/>
            <a:ext cx="182520" cy="2519280"/>
            <a:chOff x="2206800" y="1916280"/>
            <a:chExt cx="182520" cy="2519280"/>
          </a:xfrm>
        </p:grpSpPr>
        <p:sp>
          <p:nvSpPr>
            <p:cNvPr id="710" name=""/>
            <p:cNvSpPr/>
            <p:nvPr/>
          </p:nvSpPr>
          <p:spPr>
            <a:xfrm>
              <a:off x="2225880" y="1916280"/>
              <a:ext cx="0" cy="25192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206800" y="19162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2225880" y="2779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225880" y="321336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017880" y="4148280"/>
            <a:ext cx="1049400" cy="214200"/>
            <a:chOff x="3017880" y="4148280"/>
            <a:chExt cx="1049400" cy="214200"/>
          </a:xfrm>
        </p:grpSpPr>
        <p:sp>
          <p:nvSpPr>
            <p:cNvPr id="715" name=""/>
            <p:cNvSpPr/>
            <p:nvPr/>
          </p:nvSpPr>
          <p:spPr>
            <a:xfrm>
              <a:off x="3017880" y="4148280"/>
              <a:ext cx="16524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831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68880" y="4184640"/>
              <a:ext cx="171360" cy="1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880" bIns="9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40240" y="4240080"/>
              <a:ext cx="154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80000" y="4148280"/>
              <a:ext cx="18432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24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64320" y="4248000"/>
              <a:ext cx="1015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120" bIns="-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017880" y="4148280"/>
              <a:ext cx="1049400" cy="2142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001880" y="4097160"/>
            <a:ext cx="1049040" cy="214560"/>
            <a:chOff x="1001880" y="4097160"/>
            <a:chExt cx="1049040" cy="214560"/>
          </a:xfrm>
        </p:grpSpPr>
        <p:sp>
          <p:nvSpPr>
            <p:cNvPr id="723" name=""/>
            <p:cNvSpPr/>
            <p:nvPr/>
          </p:nvSpPr>
          <p:spPr>
            <a:xfrm>
              <a:off x="1001880" y="4097160"/>
              <a:ext cx="164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1667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52520" y="4133880"/>
              <a:ext cx="1710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8240" bIns="9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523880" y="4189320"/>
              <a:ext cx="1537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mi7"/>
                  <a:ea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63640" y="4097160"/>
              <a:ext cx="18396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66"/>
                  </a:solidFill>
                  <a:latin typeface="cmsy10"/>
                  <a:ea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947960" y="4197240"/>
              <a:ext cx="101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44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01880" y="4097160"/>
              <a:ext cx="1049040" cy="214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4168800" y="4005360"/>
            <a:ext cx="1268280" cy="291960"/>
            <a:chOff x="4168800" y="4005360"/>
            <a:chExt cx="1268280" cy="291960"/>
          </a:xfrm>
        </p:grpSpPr>
        <p:sp>
          <p:nvSpPr>
            <p:cNvPr id="731" name=""/>
            <p:cNvSpPr/>
            <p:nvPr/>
          </p:nvSpPr>
          <p:spPr>
            <a:xfrm>
              <a:off x="4168800" y="4006800"/>
              <a:ext cx="2584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  <a:ea typeface="Arial"/>
                </a:rPr>
                <a:t>£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28720" y="4199040"/>
              <a:ext cx="918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76320" y="4006800"/>
              <a:ext cx="214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790880" y="4135320"/>
              <a:ext cx="1328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1720" y="4199040"/>
              <a:ext cx="9144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4920" bIns="6336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89320" y="4006800"/>
              <a:ext cx="2138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71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339966"/>
                  </a:solidFill>
                  <a:latin typeface="cmmi10"/>
                  <a:ea typeface="Arial"/>
                </a:rPr>
                <a:t>F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03520" y="4135320"/>
              <a:ext cx="1332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9966"/>
                  </a:solidFill>
                  <a:latin typeface="cmr7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68800" y="4005360"/>
              <a:ext cx="1268280" cy="291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983160" y="1700280"/>
            <a:ext cx="610920" cy="2340360"/>
            <a:chOff x="983160" y="1700280"/>
            <a:chExt cx="610920" cy="2340360"/>
          </a:xfrm>
        </p:grpSpPr>
        <p:grpSp>
          <p:nvGrpSpPr>
            <p:cNvPr id="740" name=""/>
            <p:cNvGrpSpPr/>
            <p:nvPr/>
          </p:nvGrpSpPr>
          <p:grpSpPr>
            <a:xfrm>
              <a:off x="983160" y="2058480"/>
              <a:ext cx="610920" cy="610560"/>
              <a:chOff x="983160" y="2058480"/>
              <a:chExt cx="610920" cy="610560"/>
            </a:xfrm>
          </p:grpSpPr>
          <p:sp>
            <p:nvSpPr>
              <p:cNvPr id="741" name=""/>
              <p:cNvSpPr/>
              <p:nvPr/>
            </p:nvSpPr>
            <p:spPr>
              <a:xfrm rot="2700000">
                <a:off x="1072440" y="21477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1173600" y="22244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1148760" y="22240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1073160" y="1700280"/>
              <a:ext cx="431640" cy="431640"/>
              <a:chOff x="1073160" y="1700280"/>
              <a:chExt cx="431640" cy="431640"/>
            </a:xfrm>
          </p:grpSpPr>
          <p:sp>
            <p:nvSpPr>
              <p:cNvPr id="745" name=""/>
              <p:cNvSpPr/>
              <p:nvPr/>
            </p:nvSpPr>
            <p:spPr>
              <a:xfrm>
                <a:off x="1073160" y="170028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1288440" y="172044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1152360" y="191556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073160" y="2608200"/>
              <a:ext cx="431640" cy="431640"/>
              <a:chOff x="1073160" y="2608200"/>
              <a:chExt cx="431640" cy="431640"/>
            </a:xfrm>
          </p:grpSpPr>
          <p:sp>
            <p:nvSpPr>
              <p:cNvPr id="749" name=""/>
              <p:cNvSpPr/>
              <p:nvPr/>
            </p:nvSpPr>
            <p:spPr>
              <a:xfrm>
                <a:off x="1073160" y="260820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>
                <a:off x="1288440" y="262836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152360" y="282348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1073160" y="3063960"/>
              <a:ext cx="431640" cy="431640"/>
              <a:chOff x="1073160" y="3063960"/>
              <a:chExt cx="431640" cy="431640"/>
            </a:xfrm>
          </p:grpSpPr>
          <p:sp>
            <p:nvSpPr>
              <p:cNvPr id="753" name=""/>
              <p:cNvSpPr/>
              <p:nvPr/>
            </p:nvSpPr>
            <p:spPr>
              <a:xfrm>
                <a:off x="1073160" y="3063960"/>
                <a:ext cx="431640" cy="4316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 flipV="1">
                <a:off x="1288440" y="3084120"/>
                <a:ext cx="1800" cy="3589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1152360" y="3279240"/>
                <a:ext cx="318960" cy="180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983160" y="3430080"/>
              <a:ext cx="610920" cy="610560"/>
              <a:chOff x="983160" y="3430080"/>
              <a:chExt cx="610920" cy="610560"/>
            </a:xfrm>
          </p:grpSpPr>
          <p:sp>
            <p:nvSpPr>
              <p:cNvPr id="757" name=""/>
              <p:cNvSpPr/>
              <p:nvPr/>
            </p:nvSpPr>
            <p:spPr>
              <a:xfrm rot="2700000">
                <a:off x="1072440" y="3519360"/>
                <a:ext cx="43200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1173600" y="3596040"/>
                <a:ext cx="251280" cy="25128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1148760" y="3595680"/>
                <a:ext cx="260280" cy="25272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0" name=""/>
          <p:cNvGrpSpPr/>
          <p:nvPr/>
        </p:nvGrpSpPr>
        <p:grpSpPr>
          <a:xfrm>
            <a:off x="2657520" y="2347920"/>
            <a:ext cx="163440" cy="2089080"/>
            <a:chOff x="2657520" y="2347920"/>
            <a:chExt cx="163440" cy="2089080"/>
          </a:xfrm>
        </p:grpSpPr>
        <p:sp>
          <p:nvSpPr>
            <p:cNvPr id="761" name=""/>
            <p:cNvSpPr/>
            <p:nvPr/>
          </p:nvSpPr>
          <p:spPr>
            <a:xfrm flipH="1">
              <a:off x="2657520" y="366408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01880" y="2347920"/>
              <a:ext cx="0" cy="20890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2657520" y="2347920"/>
              <a:ext cx="163440" cy="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 rot="16200000">
            <a:off x="5552280" y="2572200"/>
            <a:ext cx="2305080" cy="502920"/>
          </a:xfrm>
          <a:custGeom>
            <a:avLst/>
            <a:gdLst>
              <a:gd name="textAreaLeft" fmla="*/ 538200 w 2305080"/>
              <a:gd name="textAreaRight" fmla="*/ 1766880 w 2305080"/>
              <a:gd name="textAreaTop" fmla="*/ 117360 h 502920"/>
              <a:gd name="textAreaBottom" fmla="*/ 385560 h 50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670" y="21600"/>
                </a:lnTo>
                <a:lnTo>
                  <a:pt x="5930" y="216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174080" y="2679840"/>
            <a:ext cx="296640" cy="360360"/>
            <a:chOff x="7174080" y="2679840"/>
            <a:chExt cx="296640" cy="360360"/>
          </a:xfrm>
        </p:grpSpPr>
        <p:sp>
          <p:nvSpPr>
            <p:cNvPr id="766" name=""/>
            <p:cNvSpPr/>
            <p:nvPr/>
          </p:nvSpPr>
          <p:spPr>
            <a:xfrm>
              <a:off x="7174080" y="2679840"/>
              <a:ext cx="29664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1112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0000"/>
                  </a:solidFill>
                  <a:latin typeface="cmmi10"/>
                  <a:ea typeface="Arial"/>
                </a:rPr>
                <a:t>½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74080" y="2679840"/>
              <a:ext cx="29664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 rot="14971200">
            <a:off x="7282080" y="1483200"/>
            <a:ext cx="216000" cy="792360"/>
          </a:xfrm>
          <a:custGeom>
            <a:avLst/>
            <a:gdLst/>
            <a:ahLst/>
            <a:rect l="l" t="t" r="r" b="b"/>
            <a:pathLst>
              <a:path w="132" h="551">
                <a:moveTo>
                  <a:pt x="74" y="0"/>
                </a:moveTo>
                <a:cubicBezTo>
                  <a:pt x="82" y="20"/>
                  <a:pt x="132" y="85"/>
                  <a:pt x="121" y="121"/>
                </a:cubicBezTo>
                <a:cubicBezTo>
                  <a:pt x="110" y="157"/>
                  <a:pt x="14" y="177"/>
                  <a:pt x="7" y="215"/>
                </a:cubicBezTo>
                <a:cubicBezTo>
                  <a:pt x="0" y="253"/>
                  <a:pt x="68" y="293"/>
                  <a:pt x="81" y="349"/>
                </a:cubicBezTo>
                <a:cubicBezTo>
                  <a:pt x="94" y="405"/>
                  <a:pt x="86" y="509"/>
                  <a:pt x="87" y="551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7962480" y="981000"/>
            <a:ext cx="742680" cy="1066320"/>
            <a:chOff x="7962480" y="981000"/>
            <a:chExt cx="742680" cy="1066320"/>
          </a:xfrm>
        </p:grpSpPr>
        <p:sp>
          <p:nvSpPr>
            <p:cNvPr id="770" name=""/>
            <p:cNvSpPr/>
            <p:nvPr/>
          </p:nvSpPr>
          <p:spPr>
            <a:xfrm rot="12426000">
              <a:off x="8526600" y="1015920"/>
              <a:ext cx="13428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068320" y="981000"/>
              <a:ext cx="133920" cy="226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62480" y="1058400"/>
              <a:ext cx="646200" cy="863640"/>
            </a:xfrm>
            <a:custGeom>
              <a:avLst/>
              <a:gdLst/>
              <a:ahLst/>
              <a:rect l="l" t="t" r="r" b="b"/>
              <a:pathLst>
                <a:path w="4154" h="5543">
                  <a:moveTo>
                    <a:pt x="3156" y="179"/>
                  </a:moveTo>
                  <a:lnTo>
                    <a:pt x="3235" y="230"/>
                  </a:lnTo>
                  <a:lnTo>
                    <a:pt x="3314" y="282"/>
                  </a:lnTo>
                  <a:lnTo>
                    <a:pt x="3393" y="337"/>
                  </a:lnTo>
                  <a:lnTo>
                    <a:pt x="3469" y="396"/>
                  </a:lnTo>
                  <a:lnTo>
                    <a:pt x="3538" y="459"/>
                  </a:lnTo>
                  <a:lnTo>
                    <a:pt x="3601" y="529"/>
                  </a:lnTo>
                  <a:lnTo>
                    <a:pt x="3653" y="608"/>
                  </a:lnTo>
                  <a:lnTo>
                    <a:pt x="3696" y="698"/>
                  </a:lnTo>
                  <a:lnTo>
                    <a:pt x="3727" y="760"/>
                  </a:lnTo>
                  <a:lnTo>
                    <a:pt x="3772" y="812"/>
                  </a:lnTo>
                  <a:lnTo>
                    <a:pt x="3826" y="856"/>
                  </a:lnTo>
                  <a:lnTo>
                    <a:pt x="3884" y="898"/>
                  </a:lnTo>
                  <a:lnTo>
                    <a:pt x="3938" y="941"/>
                  </a:lnTo>
                  <a:lnTo>
                    <a:pt x="3988" y="990"/>
                  </a:lnTo>
                  <a:lnTo>
                    <a:pt x="4026" y="1049"/>
                  </a:lnTo>
                  <a:lnTo>
                    <a:pt x="4048" y="1124"/>
                  </a:lnTo>
                  <a:lnTo>
                    <a:pt x="4096" y="1342"/>
                  </a:lnTo>
                  <a:lnTo>
                    <a:pt x="4121" y="1568"/>
                  </a:lnTo>
                  <a:lnTo>
                    <a:pt x="4123" y="1799"/>
                  </a:lnTo>
                  <a:lnTo>
                    <a:pt x="4109" y="2034"/>
                  </a:lnTo>
                  <a:lnTo>
                    <a:pt x="4076" y="2265"/>
                  </a:lnTo>
                  <a:lnTo>
                    <a:pt x="4031" y="2495"/>
                  </a:lnTo>
                  <a:lnTo>
                    <a:pt x="3975" y="2716"/>
                  </a:lnTo>
                  <a:lnTo>
                    <a:pt x="3913" y="2930"/>
                  </a:lnTo>
                  <a:lnTo>
                    <a:pt x="3893" y="2961"/>
                  </a:lnTo>
                  <a:lnTo>
                    <a:pt x="3875" y="2995"/>
                  </a:lnTo>
                  <a:lnTo>
                    <a:pt x="3858" y="3028"/>
                  </a:lnTo>
                  <a:lnTo>
                    <a:pt x="3843" y="3065"/>
                  </a:lnTo>
                  <a:lnTo>
                    <a:pt x="3827" y="3099"/>
                  </a:lnTo>
                  <a:lnTo>
                    <a:pt x="3813" y="3134"/>
                  </a:lnTo>
                  <a:lnTo>
                    <a:pt x="3801" y="3166"/>
                  </a:lnTo>
                  <a:lnTo>
                    <a:pt x="3789" y="3200"/>
                  </a:lnTo>
                  <a:lnTo>
                    <a:pt x="3816" y="3185"/>
                  </a:lnTo>
                  <a:lnTo>
                    <a:pt x="3847" y="3166"/>
                  </a:lnTo>
                  <a:lnTo>
                    <a:pt x="3878" y="3145"/>
                  </a:lnTo>
                  <a:lnTo>
                    <a:pt x="3913" y="3125"/>
                  </a:lnTo>
                  <a:lnTo>
                    <a:pt x="3948" y="3109"/>
                  </a:lnTo>
                  <a:lnTo>
                    <a:pt x="3986" y="3099"/>
                  </a:lnTo>
                  <a:lnTo>
                    <a:pt x="4026" y="3096"/>
                  </a:lnTo>
                  <a:lnTo>
                    <a:pt x="4069" y="3107"/>
                  </a:lnTo>
                  <a:lnTo>
                    <a:pt x="4107" y="3165"/>
                  </a:lnTo>
                  <a:lnTo>
                    <a:pt x="4134" y="3235"/>
                  </a:lnTo>
                  <a:lnTo>
                    <a:pt x="4148" y="3310"/>
                  </a:lnTo>
                  <a:lnTo>
                    <a:pt x="4154" y="3389"/>
                  </a:lnTo>
                  <a:lnTo>
                    <a:pt x="4147" y="3468"/>
                  </a:lnTo>
                  <a:lnTo>
                    <a:pt x="4134" y="3546"/>
                  </a:lnTo>
                  <a:lnTo>
                    <a:pt x="4114" y="3621"/>
                  </a:lnTo>
                  <a:lnTo>
                    <a:pt x="4090" y="3689"/>
                  </a:lnTo>
                  <a:lnTo>
                    <a:pt x="4033" y="3777"/>
                  </a:lnTo>
                  <a:lnTo>
                    <a:pt x="3968" y="3863"/>
                  </a:lnTo>
                  <a:lnTo>
                    <a:pt x="3895" y="3943"/>
                  </a:lnTo>
                  <a:lnTo>
                    <a:pt x="3816" y="4018"/>
                  </a:lnTo>
                  <a:lnTo>
                    <a:pt x="3730" y="4084"/>
                  </a:lnTo>
                  <a:lnTo>
                    <a:pt x="3642" y="4143"/>
                  </a:lnTo>
                  <a:lnTo>
                    <a:pt x="3549" y="4194"/>
                  </a:lnTo>
                  <a:lnTo>
                    <a:pt x="3457" y="4239"/>
                  </a:lnTo>
                  <a:lnTo>
                    <a:pt x="3384" y="4239"/>
                  </a:lnTo>
                  <a:lnTo>
                    <a:pt x="3308" y="4397"/>
                  </a:lnTo>
                  <a:lnTo>
                    <a:pt x="3220" y="4550"/>
                  </a:lnTo>
                  <a:lnTo>
                    <a:pt x="3116" y="4695"/>
                  </a:lnTo>
                  <a:lnTo>
                    <a:pt x="3004" y="4836"/>
                  </a:lnTo>
                  <a:lnTo>
                    <a:pt x="2882" y="4970"/>
                  </a:lnTo>
                  <a:lnTo>
                    <a:pt x="2754" y="5101"/>
                  </a:lnTo>
                  <a:lnTo>
                    <a:pt x="2623" y="5226"/>
                  </a:lnTo>
                  <a:lnTo>
                    <a:pt x="2492" y="5350"/>
                  </a:lnTo>
                  <a:lnTo>
                    <a:pt x="2388" y="5399"/>
                  </a:lnTo>
                  <a:lnTo>
                    <a:pt x="2281" y="5447"/>
                  </a:lnTo>
                  <a:lnTo>
                    <a:pt x="2172" y="5488"/>
                  </a:lnTo>
                  <a:lnTo>
                    <a:pt x="2061" y="5522"/>
                  </a:lnTo>
                  <a:lnTo>
                    <a:pt x="1947" y="5540"/>
                  </a:lnTo>
                  <a:lnTo>
                    <a:pt x="1833" y="5543"/>
                  </a:lnTo>
                  <a:lnTo>
                    <a:pt x="1716" y="5524"/>
                  </a:lnTo>
                  <a:lnTo>
                    <a:pt x="1601" y="5485"/>
                  </a:lnTo>
                  <a:lnTo>
                    <a:pt x="1390" y="5370"/>
                  </a:lnTo>
                  <a:lnTo>
                    <a:pt x="1211" y="5225"/>
                  </a:lnTo>
                  <a:lnTo>
                    <a:pt x="1062" y="5056"/>
                  </a:lnTo>
                  <a:lnTo>
                    <a:pt x="940" y="4867"/>
                  </a:lnTo>
                  <a:lnTo>
                    <a:pt x="841" y="4661"/>
                  </a:lnTo>
                  <a:lnTo>
                    <a:pt x="767" y="4447"/>
                  </a:lnTo>
                  <a:lnTo>
                    <a:pt x="712" y="4228"/>
                  </a:lnTo>
                  <a:lnTo>
                    <a:pt x="677" y="4010"/>
                  </a:lnTo>
                  <a:lnTo>
                    <a:pt x="657" y="3959"/>
                  </a:lnTo>
                  <a:lnTo>
                    <a:pt x="630" y="3979"/>
                  </a:lnTo>
                  <a:lnTo>
                    <a:pt x="603" y="3991"/>
                  </a:lnTo>
                  <a:lnTo>
                    <a:pt x="574" y="3994"/>
                  </a:lnTo>
                  <a:lnTo>
                    <a:pt x="544" y="3991"/>
                  </a:lnTo>
                  <a:lnTo>
                    <a:pt x="512" y="3983"/>
                  </a:lnTo>
                  <a:lnTo>
                    <a:pt x="480" y="3972"/>
                  </a:lnTo>
                  <a:lnTo>
                    <a:pt x="447" y="3959"/>
                  </a:lnTo>
                  <a:lnTo>
                    <a:pt x="418" y="3948"/>
                  </a:lnTo>
                  <a:lnTo>
                    <a:pt x="342" y="3898"/>
                  </a:lnTo>
                  <a:lnTo>
                    <a:pt x="273" y="3844"/>
                  </a:lnTo>
                  <a:lnTo>
                    <a:pt x="210" y="3779"/>
                  </a:lnTo>
                  <a:lnTo>
                    <a:pt x="155" y="3711"/>
                  </a:lnTo>
                  <a:lnTo>
                    <a:pt x="105" y="3637"/>
                  </a:lnTo>
                  <a:lnTo>
                    <a:pt x="63" y="3558"/>
                  </a:lnTo>
                  <a:lnTo>
                    <a:pt x="28" y="3477"/>
                  </a:lnTo>
                  <a:lnTo>
                    <a:pt x="3" y="3397"/>
                  </a:lnTo>
                  <a:lnTo>
                    <a:pt x="0" y="3330"/>
                  </a:lnTo>
                  <a:lnTo>
                    <a:pt x="4" y="3262"/>
                  </a:lnTo>
                  <a:lnTo>
                    <a:pt x="14" y="3196"/>
                  </a:lnTo>
                  <a:lnTo>
                    <a:pt x="32" y="3135"/>
                  </a:lnTo>
                  <a:lnTo>
                    <a:pt x="58" y="3076"/>
                  </a:lnTo>
                  <a:lnTo>
                    <a:pt x="97" y="3026"/>
                  </a:lnTo>
                  <a:lnTo>
                    <a:pt x="146" y="2983"/>
                  </a:lnTo>
                  <a:lnTo>
                    <a:pt x="211" y="2951"/>
                  </a:lnTo>
                  <a:lnTo>
                    <a:pt x="241" y="2937"/>
                  </a:lnTo>
                  <a:lnTo>
                    <a:pt x="273" y="2927"/>
                  </a:lnTo>
                  <a:lnTo>
                    <a:pt x="302" y="2921"/>
                  </a:lnTo>
                  <a:lnTo>
                    <a:pt x="335" y="2920"/>
                  </a:lnTo>
                  <a:lnTo>
                    <a:pt x="366" y="2921"/>
                  </a:lnTo>
                  <a:lnTo>
                    <a:pt x="397" y="2927"/>
                  </a:lnTo>
                  <a:lnTo>
                    <a:pt x="428" y="2937"/>
                  </a:lnTo>
                  <a:lnTo>
                    <a:pt x="460" y="2951"/>
                  </a:lnTo>
                  <a:lnTo>
                    <a:pt x="467" y="2959"/>
                  </a:lnTo>
                  <a:lnTo>
                    <a:pt x="474" y="2968"/>
                  </a:lnTo>
                  <a:lnTo>
                    <a:pt x="481" y="2973"/>
                  </a:lnTo>
                  <a:lnTo>
                    <a:pt x="489" y="2979"/>
                  </a:lnTo>
                  <a:lnTo>
                    <a:pt x="497" y="2982"/>
                  </a:lnTo>
                  <a:lnTo>
                    <a:pt x="505" y="2986"/>
                  </a:lnTo>
                  <a:lnTo>
                    <a:pt x="513" y="2989"/>
                  </a:lnTo>
                  <a:lnTo>
                    <a:pt x="522" y="2993"/>
                  </a:lnTo>
                  <a:lnTo>
                    <a:pt x="513" y="2931"/>
                  </a:lnTo>
                  <a:lnTo>
                    <a:pt x="511" y="2866"/>
                  </a:lnTo>
                  <a:lnTo>
                    <a:pt x="508" y="2799"/>
                  </a:lnTo>
                  <a:lnTo>
                    <a:pt x="508" y="2731"/>
                  </a:lnTo>
                  <a:lnTo>
                    <a:pt x="508" y="2661"/>
                  </a:lnTo>
                  <a:lnTo>
                    <a:pt x="509" y="2593"/>
                  </a:lnTo>
                  <a:lnTo>
                    <a:pt x="509" y="2526"/>
                  </a:lnTo>
                  <a:lnTo>
                    <a:pt x="511" y="2464"/>
                  </a:lnTo>
                  <a:lnTo>
                    <a:pt x="482" y="2355"/>
                  </a:lnTo>
                  <a:lnTo>
                    <a:pt x="471" y="2244"/>
                  </a:lnTo>
                  <a:lnTo>
                    <a:pt x="470" y="2130"/>
                  </a:lnTo>
                  <a:lnTo>
                    <a:pt x="480" y="2016"/>
                  </a:lnTo>
                  <a:lnTo>
                    <a:pt x="492" y="1901"/>
                  </a:lnTo>
                  <a:lnTo>
                    <a:pt x="511" y="1787"/>
                  </a:lnTo>
                  <a:lnTo>
                    <a:pt x="527" y="1675"/>
                  </a:lnTo>
                  <a:lnTo>
                    <a:pt x="543" y="1570"/>
                  </a:lnTo>
                  <a:lnTo>
                    <a:pt x="582" y="1433"/>
                  </a:lnTo>
                  <a:lnTo>
                    <a:pt x="640" y="1307"/>
                  </a:lnTo>
                  <a:lnTo>
                    <a:pt x="713" y="1188"/>
                  </a:lnTo>
                  <a:lnTo>
                    <a:pt x="800" y="1078"/>
                  </a:lnTo>
                  <a:lnTo>
                    <a:pt x="896" y="976"/>
                  </a:lnTo>
                  <a:lnTo>
                    <a:pt x="1004" y="881"/>
                  </a:lnTo>
                  <a:lnTo>
                    <a:pt x="1117" y="795"/>
                  </a:lnTo>
                  <a:lnTo>
                    <a:pt x="1238" y="719"/>
                  </a:lnTo>
                  <a:lnTo>
                    <a:pt x="1255" y="655"/>
                  </a:lnTo>
                  <a:lnTo>
                    <a:pt x="1283" y="600"/>
                  </a:lnTo>
                  <a:lnTo>
                    <a:pt x="1318" y="548"/>
                  </a:lnTo>
                  <a:lnTo>
                    <a:pt x="1362" y="501"/>
                  </a:lnTo>
                  <a:lnTo>
                    <a:pt x="1407" y="456"/>
                  </a:lnTo>
                  <a:lnTo>
                    <a:pt x="1454" y="413"/>
                  </a:lnTo>
                  <a:lnTo>
                    <a:pt x="1502" y="368"/>
                  </a:lnTo>
                  <a:lnTo>
                    <a:pt x="1549" y="324"/>
                  </a:lnTo>
                  <a:lnTo>
                    <a:pt x="1627" y="266"/>
                  </a:lnTo>
                  <a:lnTo>
                    <a:pt x="1715" y="222"/>
                  </a:lnTo>
                  <a:lnTo>
                    <a:pt x="1805" y="186"/>
                  </a:lnTo>
                  <a:lnTo>
                    <a:pt x="1897" y="155"/>
                  </a:lnTo>
                  <a:lnTo>
                    <a:pt x="1990" y="127"/>
                  </a:lnTo>
                  <a:lnTo>
                    <a:pt x="2085" y="99"/>
                  </a:lnTo>
                  <a:lnTo>
                    <a:pt x="2176" y="68"/>
                  </a:lnTo>
                  <a:lnTo>
                    <a:pt x="2265" y="34"/>
                  </a:lnTo>
                  <a:lnTo>
                    <a:pt x="2352" y="16"/>
                  </a:lnTo>
                  <a:lnTo>
                    <a:pt x="2443" y="4"/>
                  </a:lnTo>
                  <a:lnTo>
                    <a:pt x="2537" y="0"/>
                  </a:lnTo>
                  <a:lnTo>
                    <a:pt x="2632" y="4"/>
                  </a:lnTo>
                  <a:lnTo>
                    <a:pt x="2723" y="17"/>
                  </a:lnTo>
                  <a:lnTo>
                    <a:pt x="2812" y="39"/>
                  </a:lnTo>
                  <a:lnTo>
                    <a:pt x="2895" y="72"/>
                  </a:lnTo>
                  <a:lnTo>
                    <a:pt x="2969" y="117"/>
                  </a:lnTo>
                  <a:lnTo>
                    <a:pt x="315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308080" y="1078200"/>
              <a:ext cx="114480" cy="48240"/>
            </a:xfrm>
            <a:custGeom>
              <a:avLst/>
              <a:gdLst/>
              <a:ahLst/>
              <a:rect l="l" t="t" r="r" b="b"/>
              <a:pathLst>
                <a:path w="737" h="311">
                  <a:moveTo>
                    <a:pt x="197" y="0"/>
                  </a:moveTo>
                  <a:lnTo>
                    <a:pt x="190" y="7"/>
                  </a:lnTo>
                  <a:lnTo>
                    <a:pt x="187" y="15"/>
                  </a:lnTo>
                  <a:lnTo>
                    <a:pt x="187" y="22"/>
                  </a:lnTo>
                  <a:lnTo>
                    <a:pt x="187" y="31"/>
                  </a:lnTo>
                  <a:lnTo>
                    <a:pt x="218" y="42"/>
                  </a:lnTo>
                  <a:lnTo>
                    <a:pt x="252" y="50"/>
                  </a:lnTo>
                  <a:lnTo>
                    <a:pt x="286" y="55"/>
                  </a:lnTo>
                  <a:lnTo>
                    <a:pt x="322" y="56"/>
                  </a:lnTo>
                  <a:lnTo>
                    <a:pt x="356" y="55"/>
                  </a:lnTo>
                  <a:lnTo>
                    <a:pt x="391" y="53"/>
                  </a:lnTo>
                  <a:lnTo>
                    <a:pt x="424" y="52"/>
                  </a:lnTo>
                  <a:lnTo>
                    <a:pt x="458" y="52"/>
                  </a:lnTo>
                  <a:lnTo>
                    <a:pt x="422" y="63"/>
                  </a:lnTo>
                  <a:lnTo>
                    <a:pt x="386" y="70"/>
                  </a:lnTo>
                  <a:lnTo>
                    <a:pt x="348" y="73"/>
                  </a:lnTo>
                  <a:lnTo>
                    <a:pt x="310" y="77"/>
                  </a:lnTo>
                  <a:lnTo>
                    <a:pt x="272" y="81"/>
                  </a:lnTo>
                  <a:lnTo>
                    <a:pt x="238" y="91"/>
                  </a:lnTo>
                  <a:lnTo>
                    <a:pt x="209" y="108"/>
                  </a:lnTo>
                  <a:lnTo>
                    <a:pt x="187" y="135"/>
                  </a:lnTo>
                  <a:lnTo>
                    <a:pt x="223" y="143"/>
                  </a:lnTo>
                  <a:lnTo>
                    <a:pt x="263" y="145"/>
                  </a:lnTo>
                  <a:lnTo>
                    <a:pt x="304" y="141"/>
                  </a:lnTo>
                  <a:lnTo>
                    <a:pt x="348" y="136"/>
                  </a:lnTo>
                  <a:lnTo>
                    <a:pt x="389" y="132"/>
                  </a:lnTo>
                  <a:lnTo>
                    <a:pt x="431" y="135"/>
                  </a:lnTo>
                  <a:lnTo>
                    <a:pt x="472" y="149"/>
                  </a:lnTo>
                  <a:lnTo>
                    <a:pt x="510" y="177"/>
                  </a:lnTo>
                  <a:lnTo>
                    <a:pt x="633" y="177"/>
                  </a:lnTo>
                  <a:lnTo>
                    <a:pt x="608" y="177"/>
                  </a:lnTo>
                  <a:lnTo>
                    <a:pt x="580" y="176"/>
                  </a:lnTo>
                  <a:lnTo>
                    <a:pt x="552" y="172"/>
                  </a:lnTo>
                  <a:lnTo>
                    <a:pt x="524" y="170"/>
                  </a:lnTo>
                  <a:lnTo>
                    <a:pt x="497" y="170"/>
                  </a:lnTo>
                  <a:lnTo>
                    <a:pt x="474" y="177"/>
                  </a:lnTo>
                  <a:lnTo>
                    <a:pt x="456" y="191"/>
                  </a:lnTo>
                  <a:lnTo>
                    <a:pt x="446" y="218"/>
                  </a:lnTo>
                  <a:lnTo>
                    <a:pt x="480" y="228"/>
                  </a:lnTo>
                  <a:lnTo>
                    <a:pt x="515" y="236"/>
                  </a:lnTo>
                  <a:lnTo>
                    <a:pt x="550" y="243"/>
                  </a:lnTo>
                  <a:lnTo>
                    <a:pt x="587" y="252"/>
                  </a:lnTo>
                  <a:lnTo>
                    <a:pt x="624" y="256"/>
                  </a:lnTo>
                  <a:lnTo>
                    <a:pt x="660" y="260"/>
                  </a:lnTo>
                  <a:lnTo>
                    <a:pt x="698" y="264"/>
                  </a:lnTo>
                  <a:lnTo>
                    <a:pt x="737" y="270"/>
                  </a:lnTo>
                  <a:lnTo>
                    <a:pt x="661" y="270"/>
                  </a:lnTo>
                  <a:lnTo>
                    <a:pt x="586" y="270"/>
                  </a:lnTo>
                  <a:lnTo>
                    <a:pt x="508" y="270"/>
                  </a:lnTo>
                  <a:lnTo>
                    <a:pt x="431" y="274"/>
                  </a:lnTo>
                  <a:lnTo>
                    <a:pt x="352" y="279"/>
                  </a:lnTo>
                  <a:lnTo>
                    <a:pt x="276" y="286"/>
                  </a:lnTo>
                  <a:lnTo>
                    <a:pt x="199" y="295"/>
                  </a:lnTo>
                  <a:lnTo>
                    <a:pt x="126" y="311"/>
                  </a:lnTo>
                  <a:lnTo>
                    <a:pt x="151" y="291"/>
                  </a:lnTo>
                  <a:lnTo>
                    <a:pt x="183" y="277"/>
                  </a:lnTo>
                  <a:lnTo>
                    <a:pt x="217" y="267"/>
                  </a:lnTo>
                  <a:lnTo>
                    <a:pt x="254" y="262"/>
                  </a:lnTo>
                  <a:lnTo>
                    <a:pt x="287" y="252"/>
                  </a:lnTo>
                  <a:lnTo>
                    <a:pt x="321" y="239"/>
                  </a:lnTo>
                  <a:lnTo>
                    <a:pt x="349" y="222"/>
                  </a:lnTo>
                  <a:lnTo>
                    <a:pt x="375" y="197"/>
                  </a:lnTo>
                  <a:lnTo>
                    <a:pt x="341" y="179"/>
                  </a:lnTo>
                  <a:lnTo>
                    <a:pt x="304" y="173"/>
                  </a:lnTo>
                  <a:lnTo>
                    <a:pt x="265" y="174"/>
                  </a:lnTo>
                  <a:lnTo>
                    <a:pt x="227" y="183"/>
                  </a:lnTo>
                  <a:lnTo>
                    <a:pt x="186" y="194"/>
                  </a:lnTo>
                  <a:lnTo>
                    <a:pt x="147" y="210"/>
                  </a:lnTo>
                  <a:lnTo>
                    <a:pt x="109" y="225"/>
                  </a:lnTo>
                  <a:lnTo>
                    <a:pt x="74" y="239"/>
                  </a:lnTo>
                  <a:lnTo>
                    <a:pt x="82" y="231"/>
                  </a:lnTo>
                  <a:lnTo>
                    <a:pt x="90" y="219"/>
                  </a:lnTo>
                  <a:lnTo>
                    <a:pt x="95" y="204"/>
                  </a:lnTo>
                  <a:lnTo>
                    <a:pt x="100" y="188"/>
                  </a:lnTo>
                  <a:lnTo>
                    <a:pt x="102" y="170"/>
                  </a:lnTo>
                  <a:lnTo>
                    <a:pt x="103" y="153"/>
                  </a:lnTo>
                  <a:lnTo>
                    <a:pt x="103" y="136"/>
                  </a:lnTo>
                  <a:lnTo>
                    <a:pt x="104" y="125"/>
                  </a:lnTo>
                  <a:lnTo>
                    <a:pt x="92" y="111"/>
                  </a:lnTo>
                  <a:lnTo>
                    <a:pt x="76" y="104"/>
                  </a:lnTo>
                  <a:lnTo>
                    <a:pt x="58" y="101"/>
                  </a:lnTo>
                  <a:lnTo>
                    <a:pt x="40" y="101"/>
                  </a:lnTo>
                  <a:lnTo>
                    <a:pt x="21" y="101"/>
                  </a:lnTo>
                  <a:lnTo>
                    <a:pt x="9" y="104"/>
                  </a:lnTo>
                  <a:lnTo>
                    <a:pt x="0" y="104"/>
                  </a:lnTo>
                  <a:lnTo>
                    <a:pt x="26" y="93"/>
                  </a:lnTo>
                  <a:lnTo>
                    <a:pt x="55" y="87"/>
                  </a:lnTo>
                  <a:lnTo>
                    <a:pt x="85" y="80"/>
                  </a:lnTo>
                  <a:lnTo>
                    <a:pt x="116" y="74"/>
                  </a:lnTo>
                  <a:lnTo>
                    <a:pt x="141" y="65"/>
                  </a:lnTo>
                  <a:lnTo>
                    <a:pt x="162" y="50"/>
                  </a:lnTo>
                  <a:lnTo>
                    <a:pt x="173" y="29"/>
                  </a:lnTo>
                  <a:lnTo>
                    <a:pt x="178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070840" y="1139040"/>
              <a:ext cx="484200" cy="766440"/>
            </a:xfrm>
            <a:custGeom>
              <a:avLst/>
              <a:gdLst/>
              <a:ahLst/>
              <a:rect l="l" t="t" r="r" b="b"/>
              <a:pathLst>
                <a:path w="3111" h="4918">
                  <a:moveTo>
                    <a:pt x="1607" y="3"/>
                  </a:moveTo>
                  <a:lnTo>
                    <a:pt x="1599" y="11"/>
                  </a:lnTo>
                  <a:lnTo>
                    <a:pt x="1599" y="23"/>
                  </a:lnTo>
                  <a:lnTo>
                    <a:pt x="1602" y="35"/>
                  </a:lnTo>
                  <a:lnTo>
                    <a:pt x="1607" y="48"/>
                  </a:lnTo>
                  <a:lnTo>
                    <a:pt x="1609" y="56"/>
                  </a:lnTo>
                  <a:lnTo>
                    <a:pt x="1607" y="62"/>
                  </a:lnTo>
                  <a:lnTo>
                    <a:pt x="1596" y="61"/>
                  </a:lnTo>
                  <a:lnTo>
                    <a:pt x="1576" y="55"/>
                  </a:lnTo>
                  <a:lnTo>
                    <a:pt x="1568" y="72"/>
                  </a:lnTo>
                  <a:lnTo>
                    <a:pt x="1555" y="87"/>
                  </a:lnTo>
                  <a:lnTo>
                    <a:pt x="1540" y="102"/>
                  </a:lnTo>
                  <a:lnTo>
                    <a:pt x="1526" y="117"/>
                  </a:lnTo>
                  <a:lnTo>
                    <a:pt x="1515" y="130"/>
                  </a:lnTo>
                  <a:lnTo>
                    <a:pt x="1513" y="145"/>
                  </a:lnTo>
                  <a:lnTo>
                    <a:pt x="1522" y="161"/>
                  </a:lnTo>
                  <a:lnTo>
                    <a:pt x="1545" y="180"/>
                  </a:lnTo>
                  <a:lnTo>
                    <a:pt x="1619" y="158"/>
                  </a:lnTo>
                  <a:lnTo>
                    <a:pt x="1696" y="140"/>
                  </a:lnTo>
                  <a:lnTo>
                    <a:pt x="1773" y="123"/>
                  </a:lnTo>
                  <a:lnTo>
                    <a:pt x="1854" y="111"/>
                  </a:lnTo>
                  <a:lnTo>
                    <a:pt x="1934" y="102"/>
                  </a:lnTo>
                  <a:lnTo>
                    <a:pt x="2014" y="96"/>
                  </a:lnTo>
                  <a:lnTo>
                    <a:pt x="2095" y="94"/>
                  </a:lnTo>
                  <a:lnTo>
                    <a:pt x="2178" y="97"/>
                  </a:lnTo>
                  <a:lnTo>
                    <a:pt x="2140" y="118"/>
                  </a:lnTo>
                  <a:lnTo>
                    <a:pt x="2100" y="135"/>
                  </a:lnTo>
                  <a:lnTo>
                    <a:pt x="2057" y="148"/>
                  </a:lnTo>
                  <a:lnTo>
                    <a:pt x="2015" y="162"/>
                  </a:lnTo>
                  <a:lnTo>
                    <a:pt x="1973" y="175"/>
                  </a:lnTo>
                  <a:lnTo>
                    <a:pt x="1937" y="193"/>
                  </a:lnTo>
                  <a:lnTo>
                    <a:pt x="1903" y="217"/>
                  </a:lnTo>
                  <a:lnTo>
                    <a:pt x="1877" y="252"/>
                  </a:lnTo>
                  <a:lnTo>
                    <a:pt x="1893" y="261"/>
                  </a:lnTo>
                  <a:lnTo>
                    <a:pt x="1911" y="265"/>
                  </a:lnTo>
                  <a:lnTo>
                    <a:pt x="1931" y="265"/>
                  </a:lnTo>
                  <a:lnTo>
                    <a:pt x="1952" y="263"/>
                  </a:lnTo>
                  <a:lnTo>
                    <a:pt x="1973" y="259"/>
                  </a:lnTo>
                  <a:lnTo>
                    <a:pt x="1997" y="255"/>
                  </a:lnTo>
                  <a:lnTo>
                    <a:pt x="2020" y="252"/>
                  </a:lnTo>
                  <a:lnTo>
                    <a:pt x="2043" y="252"/>
                  </a:lnTo>
                  <a:lnTo>
                    <a:pt x="2072" y="235"/>
                  </a:lnTo>
                  <a:lnTo>
                    <a:pt x="2104" y="227"/>
                  </a:lnTo>
                  <a:lnTo>
                    <a:pt x="2138" y="221"/>
                  </a:lnTo>
                  <a:lnTo>
                    <a:pt x="2176" y="221"/>
                  </a:lnTo>
                  <a:lnTo>
                    <a:pt x="2212" y="221"/>
                  </a:lnTo>
                  <a:lnTo>
                    <a:pt x="2250" y="223"/>
                  </a:lnTo>
                  <a:lnTo>
                    <a:pt x="2287" y="223"/>
                  </a:lnTo>
                  <a:lnTo>
                    <a:pt x="2323" y="221"/>
                  </a:lnTo>
                  <a:lnTo>
                    <a:pt x="2311" y="224"/>
                  </a:lnTo>
                  <a:lnTo>
                    <a:pt x="2298" y="228"/>
                  </a:lnTo>
                  <a:lnTo>
                    <a:pt x="2285" y="231"/>
                  </a:lnTo>
                  <a:lnTo>
                    <a:pt x="2274" y="235"/>
                  </a:lnTo>
                  <a:lnTo>
                    <a:pt x="2261" y="239"/>
                  </a:lnTo>
                  <a:lnTo>
                    <a:pt x="2253" y="248"/>
                  </a:lnTo>
                  <a:lnTo>
                    <a:pt x="2245" y="258"/>
                  </a:lnTo>
                  <a:lnTo>
                    <a:pt x="2240" y="273"/>
                  </a:lnTo>
                  <a:lnTo>
                    <a:pt x="2292" y="304"/>
                  </a:lnTo>
                  <a:lnTo>
                    <a:pt x="2366" y="290"/>
                  </a:lnTo>
                  <a:lnTo>
                    <a:pt x="2441" y="280"/>
                  </a:lnTo>
                  <a:lnTo>
                    <a:pt x="2519" y="275"/>
                  </a:lnTo>
                  <a:lnTo>
                    <a:pt x="2596" y="273"/>
                  </a:lnTo>
                  <a:lnTo>
                    <a:pt x="2672" y="275"/>
                  </a:lnTo>
                  <a:lnTo>
                    <a:pt x="2748" y="280"/>
                  </a:lnTo>
                  <a:lnTo>
                    <a:pt x="2821" y="290"/>
                  </a:lnTo>
                  <a:lnTo>
                    <a:pt x="2894" y="304"/>
                  </a:lnTo>
                  <a:lnTo>
                    <a:pt x="2890" y="317"/>
                  </a:lnTo>
                  <a:lnTo>
                    <a:pt x="2892" y="328"/>
                  </a:lnTo>
                  <a:lnTo>
                    <a:pt x="2896" y="335"/>
                  </a:lnTo>
                  <a:lnTo>
                    <a:pt x="2903" y="342"/>
                  </a:lnTo>
                  <a:lnTo>
                    <a:pt x="2910" y="345"/>
                  </a:lnTo>
                  <a:lnTo>
                    <a:pt x="2918" y="349"/>
                  </a:lnTo>
                  <a:lnTo>
                    <a:pt x="2927" y="352"/>
                  </a:lnTo>
                  <a:lnTo>
                    <a:pt x="2935" y="356"/>
                  </a:lnTo>
                  <a:lnTo>
                    <a:pt x="2966" y="356"/>
                  </a:lnTo>
                  <a:lnTo>
                    <a:pt x="2965" y="404"/>
                  </a:lnTo>
                  <a:lnTo>
                    <a:pt x="2970" y="448"/>
                  </a:lnTo>
                  <a:lnTo>
                    <a:pt x="2982" y="489"/>
                  </a:lnTo>
                  <a:lnTo>
                    <a:pt x="2997" y="529"/>
                  </a:lnTo>
                  <a:lnTo>
                    <a:pt x="3013" y="568"/>
                  </a:lnTo>
                  <a:lnTo>
                    <a:pt x="3031" y="607"/>
                  </a:lnTo>
                  <a:lnTo>
                    <a:pt x="3046" y="645"/>
                  </a:lnTo>
                  <a:lnTo>
                    <a:pt x="3060" y="689"/>
                  </a:lnTo>
                  <a:lnTo>
                    <a:pt x="3098" y="928"/>
                  </a:lnTo>
                  <a:lnTo>
                    <a:pt x="3111" y="1171"/>
                  </a:lnTo>
                  <a:lnTo>
                    <a:pt x="3103" y="1416"/>
                  </a:lnTo>
                  <a:lnTo>
                    <a:pt x="3081" y="1666"/>
                  </a:lnTo>
                  <a:lnTo>
                    <a:pt x="3048" y="1913"/>
                  </a:lnTo>
                  <a:lnTo>
                    <a:pt x="3014" y="2161"/>
                  </a:lnTo>
                  <a:lnTo>
                    <a:pt x="2980" y="2406"/>
                  </a:lnTo>
                  <a:lnTo>
                    <a:pt x="2956" y="2651"/>
                  </a:lnTo>
                  <a:lnTo>
                    <a:pt x="2925" y="2748"/>
                  </a:lnTo>
                  <a:lnTo>
                    <a:pt x="2896" y="2847"/>
                  </a:lnTo>
                  <a:lnTo>
                    <a:pt x="2868" y="2945"/>
                  </a:lnTo>
                  <a:lnTo>
                    <a:pt x="2842" y="3047"/>
                  </a:lnTo>
                  <a:lnTo>
                    <a:pt x="2816" y="3147"/>
                  </a:lnTo>
                  <a:lnTo>
                    <a:pt x="2790" y="3248"/>
                  </a:lnTo>
                  <a:lnTo>
                    <a:pt x="2764" y="3349"/>
                  </a:lnTo>
                  <a:lnTo>
                    <a:pt x="2738" y="3451"/>
                  </a:lnTo>
                  <a:lnTo>
                    <a:pt x="2633" y="3673"/>
                  </a:lnTo>
                  <a:lnTo>
                    <a:pt x="2513" y="3897"/>
                  </a:lnTo>
                  <a:lnTo>
                    <a:pt x="2375" y="4114"/>
                  </a:lnTo>
                  <a:lnTo>
                    <a:pt x="2221" y="4321"/>
                  </a:lnTo>
                  <a:lnTo>
                    <a:pt x="2046" y="4507"/>
                  </a:lnTo>
                  <a:lnTo>
                    <a:pt x="1852" y="4671"/>
                  </a:lnTo>
                  <a:lnTo>
                    <a:pt x="1637" y="4805"/>
                  </a:lnTo>
                  <a:lnTo>
                    <a:pt x="1401" y="4904"/>
                  </a:lnTo>
                  <a:lnTo>
                    <a:pt x="1261" y="4918"/>
                  </a:lnTo>
                  <a:lnTo>
                    <a:pt x="1131" y="4912"/>
                  </a:lnTo>
                  <a:lnTo>
                    <a:pt x="1004" y="4885"/>
                  </a:lnTo>
                  <a:lnTo>
                    <a:pt x="886" y="4842"/>
                  </a:lnTo>
                  <a:lnTo>
                    <a:pt x="772" y="4781"/>
                  </a:lnTo>
                  <a:lnTo>
                    <a:pt x="664" y="4708"/>
                  </a:lnTo>
                  <a:lnTo>
                    <a:pt x="562" y="4624"/>
                  </a:lnTo>
                  <a:lnTo>
                    <a:pt x="467" y="4531"/>
                  </a:lnTo>
                  <a:lnTo>
                    <a:pt x="354" y="4383"/>
                  </a:lnTo>
                  <a:lnTo>
                    <a:pt x="268" y="4228"/>
                  </a:lnTo>
                  <a:lnTo>
                    <a:pt x="202" y="4063"/>
                  </a:lnTo>
                  <a:lnTo>
                    <a:pt x="152" y="3894"/>
                  </a:lnTo>
                  <a:lnTo>
                    <a:pt x="111" y="3720"/>
                  </a:lnTo>
                  <a:lnTo>
                    <a:pt x="77" y="3544"/>
                  </a:lnTo>
                  <a:lnTo>
                    <a:pt x="45" y="3366"/>
                  </a:lnTo>
                  <a:lnTo>
                    <a:pt x="11" y="3192"/>
                  </a:lnTo>
                  <a:lnTo>
                    <a:pt x="2" y="3075"/>
                  </a:lnTo>
                  <a:lnTo>
                    <a:pt x="0" y="2964"/>
                  </a:lnTo>
                  <a:lnTo>
                    <a:pt x="0" y="2852"/>
                  </a:lnTo>
                  <a:lnTo>
                    <a:pt x="5" y="2747"/>
                  </a:lnTo>
                  <a:lnTo>
                    <a:pt x="15" y="2640"/>
                  </a:lnTo>
                  <a:lnTo>
                    <a:pt x="33" y="2533"/>
                  </a:lnTo>
                  <a:lnTo>
                    <a:pt x="59" y="2426"/>
                  </a:lnTo>
                  <a:lnTo>
                    <a:pt x="94" y="2319"/>
                  </a:lnTo>
                  <a:lnTo>
                    <a:pt x="101" y="2184"/>
                  </a:lnTo>
                  <a:lnTo>
                    <a:pt x="118" y="2050"/>
                  </a:lnTo>
                  <a:lnTo>
                    <a:pt x="140" y="1913"/>
                  </a:lnTo>
                  <a:lnTo>
                    <a:pt x="170" y="1778"/>
                  </a:lnTo>
                  <a:lnTo>
                    <a:pt x="199" y="1642"/>
                  </a:lnTo>
                  <a:lnTo>
                    <a:pt x="233" y="1507"/>
                  </a:lnTo>
                  <a:lnTo>
                    <a:pt x="267" y="1371"/>
                  </a:lnTo>
                  <a:lnTo>
                    <a:pt x="301" y="1239"/>
                  </a:lnTo>
                  <a:lnTo>
                    <a:pt x="339" y="1118"/>
                  </a:lnTo>
                  <a:lnTo>
                    <a:pt x="372" y="995"/>
                  </a:lnTo>
                  <a:lnTo>
                    <a:pt x="403" y="870"/>
                  </a:lnTo>
                  <a:lnTo>
                    <a:pt x="437" y="748"/>
                  </a:lnTo>
                  <a:lnTo>
                    <a:pt x="475" y="627"/>
                  </a:lnTo>
                  <a:lnTo>
                    <a:pt x="521" y="511"/>
                  </a:lnTo>
                  <a:lnTo>
                    <a:pt x="579" y="401"/>
                  </a:lnTo>
                  <a:lnTo>
                    <a:pt x="654" y="304"/>
                  </a:lnTo>
                  <a:lnTo>
                    <a:pt x="682" y="293"/>
                  </a:lnTo>
                  <a:lnTo>
                    <a:pt x="710" y="277"/>
                  </a:lnTo>
                  <a:lnTo>
                    <a:pt x="737" y="259"/>
                  </a:lnTo>
                  <a:lnTo>
                    <a:pt x="763" y="244"/>
                  </a:lnTo>
                  <a:lnTo>
                    <a:pt x="789" y="228"/>
                  </a:lnTo>
                  <a:lnTo>
                    <a:pt x="818" y="217"/>
                  </a:lnTo>
                  <a:lnTo>
                    <a:pt x="848" y="214"/>
                  </a:lnTo>
                  <a:lnTo>
                    <a:pt x="882" y="221"/>
                  </a:lnTo>
                  <a:lnTo>
                    <a:pt x="921" y="192"/>
                  </a:lnTo>
                  <a:lnTo>
                    <a:pt x="963" y="163"/>
                  </a:lnTo>
                  <a:lnTo>
                    <a:pt x="1008" y="135"/>
                  </a:lnTo>
                  <a:lnTo>
                    <a:pt x="1055" y="113"/>
                  </a:lnTo>
                  <a:lnTo>
                    <a:pt x="1101" y="93"/>
                  </a:lnTo>
                  <a:lnTo>
                    <a:pt x="1149" y="83"/>
                  </a:lnTo>
                  <a:lnTo>
                    <a:pt x="1197" y="83"/>
                  </a:lnTo>
                  <a:lnTo>
                    <a:pt x="1244" y="97"/>
                  </a:lnTo>
                  <a:lnTo>
                    <a:pt x="1287" y="73"/>
                  </a:lnTo>
                  <a:lnTo>
                    <a:pt x="1329" y="54"/>
                  </a:lnTo>
                  <a:lnTo>
                    <a:pt x="1372" y="35"/>
                  </a:lnTo>
                  <a:lnTo>
                    <a:pt x="1417" y="23"/>
                  </a:lnTo>
                  <a:lnTo>
                    <a:pt x="1461" y="11"/>
                  </a:lnTo>
                  <a:lnTo>
                    <a:pt x="1509" y="4"/>
                  </a:lnTo>
                  <a:lnTo>
                    <a:pt x="1557" y="0"/>
                  </a:lnTo>
                  <a:lnTo>
                    <a:pt x="1607" y="3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72960" y="1161000"/>
              <a:ext cx="9000" cy="360"/>
            </a:xfrm>
            <a:custGeom>
              <a:avLst/>
              <a:gdLst/>
              <a:ahLst/>
              <a:rect l="l" t="t" r="r" b="b"/>
              <a:pathLst>
                <a:path w="61" h="0">
                  <a:moveTo>
                    <a:pt x="0" y="0"/>
                  </a:moveTo>
                  <a:lnTo>
                    <a:pt x="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4815600">
              <a:off x="8248320" y="1186560"/>
              <a:ext cx="75960" cy="88200"/>
            </a:xfrm>
            <a:custGeom>
              <a:avLst/>
              <a:gdLst/>
              <a:ahLst/>
              <a:rect l="l" t="t" r="r" b="b"/>
              <a:pathLst>
                <a:path w="488" h="569">
                  <a:moveTo>
                    <a:pt x="488" y="70"/>
                  </a:moveTo>
                  <a:lnTo>
                    <a:pt x="475" y="75"/>
                  </a:lnTo>
                  <a:lnTo>
                    <a:pt x="464" y="82"/>
                  </a:lnTo>
                  <a:lnTo>
                    <a:pt x="451" y="90"/>
                  </a:lnTo>
                  <a:lnTo>
                    <a:pt x="440" y="99"/>
                  </a:lnTo>
                  <a:lnTo>
                    <a:pt x="427" y="106"/>
                  </a:lnTo>
                  <a:lnTo>
                    <a:pt x="416" y="111"/>
                  </a:lnTo>
                  <a:lnTo>
                    <a:pt x="405" y="113"/>
                  </a:lnTo>
                  <a:lnTo>
                    <a:pt x="393" y="113"/>
                  </a:lnTo>
                  <a:lnTo>
                    <a:pt x="347" y="165"/>
                  </a:lnTo>
                  <a:lnTo>
                    <a:pt x="302" y="213"/>
                  </a:lnTo>
                  <a:lnTo>
                    <a:pt x="256" y="256"/>
                  </a:lnTo>
                  <a:lnTo>
                    <a:pt x="213" y="300"/>
                  </a:lnTo>
                  <a:lnTo>
                    <a:pt x="173" y="344"/>
                  </a:lnTo>
                  <a:lnTo>
                    <a:pt x="140" y="396"/>
                  </a:lnTo>
                  <a:lnTo>
                    <a:pt x="116" y="455"/>
                  </a:lnTo>
                  <a:lnTo>
                    <a:pt x="104" y="528"/>
                  </a:lnTo>
                  <a:lnTo>
                    <a:pt x="104" y="569"/>
                  </a:lnTo>
                  <a:lnTo>
                    <a:pt x="0" y="569"/>
                  </a:lnTo>
                  <a:lnTo>
                    <a:pt x="1" y="534"/>
                  </a:lnTo>
                  <a:lnTo>
                    <a:pt x="9" y="500"/>
                  </a:lnTo>
                  <a:lnTo>
                    <a:pt x="19" y="466"/>
                  </a:lnTo>
                  <a:lnTo>
                    <a:pt x="35" y="434"/>
                  </a:lnTo>
                  <a:lnTo>
                    <a:pt x="50" y="400"/>
                  </a:lnTo>
                  <a:lnTo>
                    <a:pt x="69" y="366"/>
                  </a:lnTo>
                  <a:lnTo>
                    <a:pt x="85" y="332"/>
                  </a:lnTo>
                  <a:lnTo>
                    <a:pt x="104" y="298"/>
                  </a:lnTo>
                  <a:lnTo>
                    <a:pt x="125" y="265"/>
                  </a:lnTo>
                  <a:lnTo>
                    <a:pt x="146" y="229"/>
                  </a:lnTo>
                  <a:lnTo>
                    <a:pt x="166" y="193"/>
                  </a:lnTo>
                  <a:lnTo>
                    <a:pt x="187" y="158"/>
                  </a:lnTo>
                  <a:lnTo>
                    <a:pt x="208" y="120"/>
                  </a:lnTo>
                  <a:lnTo>
                    <a:pt x="229" y="84"/>
                  </a:lnTo>
                  <a:lnTo>
                    <a:pt x="253" y="49"/>
                  </a:lnTo>
                  <a:lnTo>
                    <a:pt x="280" y="18"/>
                  </a:lnTo>
                  <a:lnTo>
                    <a:pt x="303" y="10"/>
                  </a:lnTo>
                  <a:lnTo>
                    <a:pt x="333" y="4"/>
                  </a:lnTo>
                  <a:lnTo>
                    <a:pt x="362" y="0"/>
                  </a:lnTo>
                  <a:lnTo>
                    <a:pt x="395" y="1"/>
                  </a:lnTo>
                  <a:lnTo>
                    <a:pt x="423" y="6"/>
                  </a:lnTo>
                  <a:lnTo>
                    <a:pt x="450" y="20"/>
                  </a:lnTo>
                  <a:lnTo>
                    <a:pt x="471" y="39"/>
                  </a:lnTo>
                  <a:lnTo>
                    <a:pt x="4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184200">
              <a:off x="8395200" y="1198800"/>
              <a:ext cx="77400" cy="84960"/>
            </a:xfrm>
            <a:custGeom>
              <a:avLst/>
              <a:gdLst/>
              <a:ahLst/>
              <a:rect l="l" t="t" r="r" b="b"/>
              <a:pathLst>
                <a:path w="362" h="511">
                  <a:moveTo>
                    <a:pt x="156" y="61"/>
                  </a:moveTo>
                  <a:lnTo>
                    <a:pt x="180" y="88"/>
                  </a:lnTo>
                  <a:lnTo>
                    <a:pt x="208" y="114"/>
                  </a:lnTo>
                  <a:lnTo>
                    <a:pt x="237" y="136"/>
                  </a:lnTo>
                  <a:lnTo>
                    <a:pt x="263" y="159"/>
                  </a:lnTo>
                  <a:lnTo>
                    <a:pt x="284" y="181"/>
                  </a:lnTo>
                  <a:lnTo>
                    <a:pt x="300" y="208"/>
                  </a:lnTo>
                  <a:lnTo>
                    <a:pt x="305" y="239"/>
                  </a:lnTo>
                  <a:lnTo>
                    <a:pt x="301" y="280"/>
                  </a:lnTo>
                  <a:lnTo>
                    <a:pt x="312" y="306"/>
                  </a:lnTo>
                  <a:lnTo>
                    <a:pt x="325" y="336"/>
                  </a:lnTo>
                  <a:lnTo>
                    <a:pt x="338" y="367"/>
                  </a:lnTo>
                  <a:lnTo>
                    <a:pt x="350" y="398"/>
                  </a:lnTo>
                  <a:lnTo>
                    <a:pt x="357" y="426"/>
                  </a:lnTo>
                  <a:lnTo>
                    <a:pt x="362" y="456"/>
                  </a:lnTo>
                  <a:lnTo>
                    <a:pt x="360" y="482"/>
                  </a:lnTo>
                  <a:lnTo>
                    <a:pt x="353" y="508"/>
                  </a:lnTo>
                  <a:lnTo>
                    <a:pt x="335" y="511"/>
                  </a:lnTo>
                  <a:lnTo>
                    <a:pt x="325" y="509"/>
                  </a:lnTo>
                  <a:lnTo>
                    <a:pt x="318" y="502"/>
                  </a:lnTo>
                  <a:lnTo>
                    <a:pt x="315" y="492"/>
                  </a:lnTo>
                  <a:lnTo>
                    <a:pt x="311" y="480"/>
                  </a:lnTo>
                  <a:lnTo>
                    <a:pt x="310" y="467"/>
                  </a:lnTo>
                  <a:lnTo>
                    <a:pt x="305" y="454"/>
                  </a:lnTo>
                  <a:lnTo>
                    <a:pt x="301" y="446"/>
                  </a:lnTo>
                  <a:lnTo>
                    <a:pt x="282" y="419"/>
                  </a:lnTo>
                  <a:lnTo>
                    <a:pt x="262" y="397"/>
                  </a:lnTo>
                  <a:lnTo>
                    <a:pt x="238" y="375"/>
                  </a:lnTo>
                  <a:lnTo>
                    <a:pt x="217" y="356"/>
                  </a:lnTo>
                  <a:lnTo>
                    <a:pt x="194" y="333"/>
                  </a:lnTo>
                  <a:lnTo>
                    <a:pt x="176" y="311"/>
                  </a:lnTo>
                  <a:lnTo>
                    <a:pt x="162" y="285"/>
                  </a:lnTo>
                  <a:lnTo>
                    <a:pt x="156" y="259"/>
                  </a:lnTo>
                  <a:lnTo>
                    <a:pt x="130" y="256"/>
                  </a:lnTo>
                  <a:lnTo>
                    <a:pt x="116" y="242"/>
                  </a:lnTo>
                  <a:lnTo>
                    <a:pt x="107" y="222"/>
                  </a:lnTo>
                  <a:lnTo>
                    <a:pt x="103" y="199"/>
                  </a:lnTo>
                  <a:lnTo>
                    <a:pt x="96" y="177"/>
                  </a:lnTo>
                  <a:lnTo>
                    <a:pt x="87" y="163"/>
                  </a:lnTo>
                  <a:lnTo>
                    <a:pt x="69" y="157"/>
                  </a:lnTo>
                  <a:lnTo>
                    <a:pt x="42" y="166"/>
                  </a:lnTo>
                  <a:lnTo>
                    <a:pt x="27" y="154"/>
                  </a:lnTo>
                  <a:lnTo>
                    <a:pt x="17" y="142"/>
                  </a:lnTo>
                  <a:lnTo>
                    <a:pt x="9" y="126"/>
                  </a:lnTo>
                  <a:lnTo>
                    <a:pt x="4" y="111"/>
                  </a:lnTo>
                  <a:lnTo>
                    <a:pt x="0" y="91"/>
                  </a:lnTo>
                  <a:lnTo>
                    <a:pt x="0" y="74"/>
                  </a:lnTo>
                  <a:lnTo>
                    <a:pt x="0" y="56"/>
                  </a:lnTo>
                  <a:lnTo>
                    <a:pt x="0" y="4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65" y="21"/>
                  </a:lnTo>
                  <a:lnTo>
                    <a:pt x="78" y="33"/>
                  </a:lnTo>
                  <a:lnTo>
                    <a:pt x="90" y="46"/>
                  </a:lnTo>
                  <a:lnTo>
                    <a:pt x="103" y="56"/>
                  </a:lnTo>
                  <a:lnTo>
                    <a:pt x="120" y="63"/>
                  </a:lnTo>
                  <a:lnTo>
                    <a:pt x="137" y="64"/>
                  </a:lnTo>
                  <a:lnTo>
                    <a:pt x="1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199000" y="1250280"/>
              <a:ext cx="138960" cy="190080"/>
            </a:xfrm>
            <a:custGeom>
              <a:avLst/>
              <a:gdLst/>
              <a:ahLst/>
              <a:rect l="l" t="t" r="r" b="b"/>
              <a:pathLst>
                <a:path w="897" h="1510">
                  <a:moveTo>
                    <a:pt x="587" y="0"/>
                  </a:moveTo>
                  <a:lnTo>
                    <a:pt x="575" y="5"/>
                  </a:lnTo>
                  <a:lnTo>
                    <a:pt x="562" y="12"/>
                  </a:lnTo>
                  <a:lnTo>
                    <a:pt x="548" y="19"/>
                  </a:lnTo>
                  <a:lnTo>
                    <a:pt x="535" y="26"/>
                  </a:lnTo>
                  <a:lnTo>
                    <a:pt x="521" y="32"/>
                  </a:lnTo>
                  <a:lnTo>
                    <a:pt x="507" y="41"/>
                  </a:lnTo>
                  <a:lnTo>
                    <a:pt x="495" y="49"/>
                  </a:lnTo>
                  <a:lnTo>
                    <a:pt x="483" y="62"/>
                  </a:lnTo>
                  <a:lnTo>
                    <a:pt x="512" y="52"/>
                  </a:lnTo>
                  <a:lnTo>
                    <a:pt x="544" y="48"/>
                  </a:lnTo>
                  <a:lnTo>
                    <a:pt x="578" y="48"/>
                  </a:lnTo>
                  <a:lnTo>
                    <a:pt x="613" y="52"/>
                  </a:lnTo>
                  <a:lnTo>
                    <a:pt x="647" y="60"/>
                  </a:lnTo>
                  <a:lnTo>
                    <a:pt x="682" y="74"/>
                  </a:lnTo>
                  <a:lnTo>
                    <a:pt x="714" y="91"/>
                  </a:lnTo>
                  <a:lnTo>
                    <a:pt x="744" y="114"/>
                  </a:lnTo>
                  <a:lnTo>
                    <a:pt x="797" y="187"/>
                  </a:lnTo>
                  <a:lnTo>
                    <a:pt x="838" y="269"/>
                  </a:lnTo>
                  <a:lnTo>
                    <a:pt x="866" y="356"/>
                  </a:lnTo>
                  <a:lnTo>
                    <a:pt x="886" y="449"/>
                  </a:lnTo>
                  <a:lnTo>
                    <a:pt x="894" y="545"/>
                  </a:lnTo>
                  <a:lnTo>
                    <a:pt x="897" y="643"/>
                  </a:lnTo>
                  <a:lnTo>
                    <a:pt x="894" y="742"/>
                  </a:lnTo>
                  <a:lnTo>
                    <a:pt x="888" y="840"/>
                  </a:lnTo>
                  <a:lnTo>
                    <a:pt x="866" y="933"/>
                  </a:lnTo>
                  <a:lnTo>
                    <a:pt x="842" y="1027"/>
                  </a:lnTo>
                  <a:lnTo>
                    <a:pt x="811" y="1119"/>
                  </a:lnTo>
                  <a:lnTo>
                    <a:pt x="776" y="1209"/>
                  </a:lnTo>
                  <a:lnTo>
                    <a:pt x="728" y="1291"/>
                  </a:lnTo>
                  <a:lnTo>
                    <a:pt x="670" y="1365"/>
                  </a:lnTo>
                  <a:lnTo>
                    <a:pt x="600" y="1430"/>
                  </a:lnTo>
                  <a:lnTo>
                    <a:pt x="516" y="1485"/>
                  </a:lnTo>
                  <a:lnTo>
                    <a:pt x="465" y="1502"/>
                  </a:lnTo>
                  <a:lnTo>
                    <a:pt x="416" y="1510"/>
                  </a:lnTo>
                  <a:lnTo>
                    <a:pt x="367" y="1509"/>
                  </a:lnTo>
                  <a:lnTo>
                    <a:pt x="322" y="1502"/>
                  </a:lnTo>
                  <a:lnTo>
                    <a:pt x="275" y="1485"/>
                  </a:lnTo>
                  <a:lnTo>
                    <a:pt x="232" y="1465"/>
                  </a:lnTo>
                  <a:lnTo>
                    <a:pt x="189" y="1440"/>
                  </a:lnTo>
                  <a:lnTo>
                    <a:pt x="151" y="1412"/>
                  </a:lnTo>
                  <a:lnTo>
                    <a:pt x="71" y="1308"/>
                  </a:lnTo>
                  <a:lnTo>
                    <a:pt x="23" y="1192"/>
                  </a:lnTo>
                  <a:lnTo>
                    <a:pt x="1" y="1064"/>
                  </a:lnTo>
                  <a:lnTo>
                    <a:pt x="0" y="932"/>
                  </a:lnTo>
                  <a:lnTo>
                    <a:pt x="12" y="795"/>
                  </a:lnTo>
                  <a:lnTo>
                    <a:pt x="36" y="661"/>
                  </a:lnTo>
                  <a:lnTo>
                    <a:pt x="63" y="533"/>
                  </a:lnTo>
                  <a:lnTo>
                    <a:pt x="90" y="415"/>
                  </a:lnTo>
                  <a:lnTo>
                    <a:pt x="123" y="336"/>
                  </a:lnTo>
                  <a:lnTo>
                    <a:pt x="167" y="262"/>
                  </a:lnTo>
                  <a:lnTo>
                    <a:pt x="219" y="191"/>
                  </a:lnTo>
                  <a:lnTo>
                    <a:pt x="279" y="129"/>
                  </a:lnTo>
                  <a:lnTo>
                    <a:pt x="346" y="76"/>
                  </a:lnTo>
                  <a:lnTo>
                    <a:pt x="420" y="35"/>
                  </a:lnTo>
                  <a:lnTo>
                    <a:pt x="499" y="8"/>
                  </a:lnTo>
                  <a:lnTo>
                    <a:pt x="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256600" y="1265040"/>
              <a:ext cx="243360" cy="365760"/>
            </a:xfrm>
            <a:custGeom>
              <a:avLst/>
              <a:gdLst/>
              <a:ahLst/>
              <a:rect l="l" t="t" r="r" b="b"/>
              <a:pathLst>
                <a:path w="1563" h="2664">
                  <a:moveTo>
                    <a:pt x="1558" y="296"/>
                  </a:moveTo>
                  <a:lnTo>
                    <a:pt x="1563" y="449"/>
                  </a:lnTo>
                  <a:lnTo>
                    <a:pt x="1558" y="603"/>
                  </a:lnTo>
                  <a:lnTo>
                    <a:pt x="1539" y="751"/>
                  </a:lnTo>
                  <a:lnTo>
                    <a:pt x="1508" y="896"/>
                  </a:lnTo>
                  <a:lnTo>
                    <a:pt x="1459" y="1031"/>
                  </a:lnTo>
                  <a:lnTo>
                    <a:pt x="1394" y="1160"/>
                  </a:lnTo>
                  <a:lnTo>
                    <a:pt x="1309" y="1279"/>
                  </a:lnTo>
                  <a:lnTo>
                    <a:pt x="1204" y="1387"/>
                  </a:lnTo>
                  <a:lnTo>
                    <a:pt x="1171" y="1397"/>
                  </a:lnTo>
                  <a:lnTo>
                    <a:pt x="1134" y="1405"/>
                  </a:lnTo>
                  <a:lnTo>
                    <a:pt x="1098" y="1410"/>
                  </a:lnTo>
                  <a:lnTo>
                    <a:pt x="1061" y="1412"/>
                  </a:lnTo>
                  <a:lnTo>
                    <a:pt x="1023" y="1410"/>
                  </a:lnTo>
                  <a:lnTo>
                    <a:pt x="991" y="1402"/>
                  </a:lnTo>
                  <a:lnTo>
                    <a:pt x="960" y="1391"/>
                  </a:lnTo>
                  <a:lnTo>
                    <a:pt x="934" y="1376"/>
                  </a:lnTo>
                  <a:lnTo>
                    <a:pt x="908" y="1362"/>
                  </a:lnTo>
                  <a:lnTo>
                    <a:pt x="882" y="1345"/>
                  </a:lnTo>
                  <a:lnTo>
                    <a:pt x="860" y="1324"/>
                  </a:lnTo>
                  <a:lnTo>
                    <a:pt x="840" y="1304"/>
                  </a:lnTo>
                  <a:lnTo>
                    <a:pt x="820" y="1280"/>
                  </a:lnTo>
                  <a:lnTo>
                    <a:pt x="805" y="1256"/>
                  </a:lnTo>
                  <a:lnTo>
                    <a:pt x="790" y="1232"/>
                  </a:lnTo>
                  <a:lnTo>
                    <a:pt x="778" y="1210"/>
                  </a:lnTo>
                  <a:lnTo>
                    <a:pt x="798" y="1346"/>
                  </a:lnTo>
                  <a:lnTo>
                    <a:pt x="833" y="1487"/>
                  </a:lnTo>
                  <a:lnTo>
                    <a:pt x="873" y="1631"/>
                  </a:lnTo>
                  <a:lnTo>
                    <a:pt x="906" y="1774"/>
                  </a:lnTo>
                  <a:lnTo>
                    <a:pt x="925" y="1915"/>
                  </a:lnTo>
                  <a:lnTo>
                    <a:pt x="922" y="2057"/>
                  </a:lnTo>
                  <a:lnTo>
                    <a:pt x="887" y="2195"/>
                  </a:lnTo>
                  <a:lnTo>
                    <a:pt x="811" y="2332"/>
                  </a:lnTo>
                  <a:lnTo>
                    <a:pt x="801" y="2344"/>
                  </a:lnTo>
                  <a:lnTo>
                    <a:pt x="791" y="2354"/>
                  </a:lnTo>
                  <a:lnTo>
                    <a:pt x="778" y="2363"/>
                  </a:lnTo>
                  <a:lnTo>
                    <a:pt x="767" y="2372"/>
                  </a:lnTo>
                  <a:lnTo>
                    <a:pt x="753" y="2380"/>
                  </a:lnTo>
                  <a:lnTo>
                    <a:pt x="740" y="2389"/>
                  </a:lnTo>
                  <a:lnTo>
                    <a:pt x="728" y="2399"/>
                  </a:lnTo>
                  <a:lnTo>
                    <a:pt x="716" y="2415"/>
                  </a:lnTo>
                  <a:lnTo>
                    <a:pt x="701" y="2449"/>
                  </a:lnTo>
                  <a:lnTo>
                    <a:pt x="681" y="2485"/>
                  </a:lnTo>
                  <a:lnTo>
                    <a:pt x="657" y="2519"/>
                  </a:lnTo>
                  <a:lnTo>
                    <a:pt x="629" y="2553"/>
                  </a:lnTo>
                  <a:lnTo>
                    <a:pt x="597" y="2582"/>
                  </a:lnTo>
                  <a:lnTo>
                    <a:pt x="563" y="2610"/>
                  </a:lnTo>
                  <a:lnTo>
                    <a:pt x="525" y="2633"/>
                  </a:lnTo>
                  <a:lnTo>
                    <a:pt x="489" y="2653"/>
                  </a:lnTo>
                  <a:lnTo>
                    <a:pt x="434" y="2660"/>
                  </a:lnTo>
                  <a:lnTo>
                    <a:pt x="380" y="2664"/>
                  </a:lnTo>
                  <a:lnTo>
                    <a:pt x="330" y="2658"/>
                  </a:lnTo>
                  <a:lnTo>
                    <a:pt x="280" y="2650"/>
                  </a:lnTo>
                  <a:lnTo>
                    <a:pt x="233" y="2632"/>
                  </a:lnTo>
                  <a:lnTo>
                    <a:pt x="188" y="2608"/>
                  </a:lnTo>
                  <a:lnTo>
                    <a:pt x="144" y="2577"/>
                  </a:lnTo>
                  <a:lnTo>
                    <a:pt x="105" y="2539"/>
                  </a:lnTo>
                  <a:lnTo>
                    <a:pt x="81" y="2489"/>
                  </a:lnTo>
                  <a:lnTo>
                    <a:pt x="61" y="2440"/>
                  </a:lnTo>
                  <a:lnTo>
                    <a:pt x="43" y="2387"/>
                  </a:lnTo>
                  <a:lnTo>
                    <a:pt x="29" y="2334"/>
                  </a:lnTo>
                  <a:lnTo>
                    <a:pt x="16" y="2280"/>
                  </a:lnTo>
                  <a:lnTo>
                    <a:pt x="7" y="2226"/>
                  </a:lnTo>
                  <a:lnTo>
                    <a:pt x="2" y="2174"/>
                  </a:lnTo>
                  <a:lnTo>
                    <a:pt x="0" y="2123"/>
                  </a:lnTo>
                  <a:lnTo>
                    <a:pt x="31" y="2092"/>
                  </a:lnTo>
                  <a:lnTo>
                    <a:pt x="48" y="2142"/>
                  </a:lnTo>
                  <a:lnTo>
                    <a:pt x="72" y="2197"/>
                  </a:lnTo>
                  <a:lnTo>
                    <a:pt x="102" y="2253"/>
                  </a:lnTo>
                  <a:lnTo>
                    <a:pt x="137" y="2309"/>
                  </a:lnTo>
                  <a:lnTo>
                    <a:pt x="178" y="2358"/>
                  </a:lnTo>
                  <a:lnTo>
                    <a:pt x="228" y="2402"/>
                  </a:lnTo>
                  <a:lnTo>
                    <a:pt x="286" y="2434"/>
                  </a:lnTo>
                  <a:lnTo>
                    <a:pt x="353" y="2456"/>
                  </a:lnTo>
                  <a:lnTo>
                    <a:pt x="404" y="2444"/>
                  </a:lnTo>
                  <a:lnTo>
                    <a:pt x="455" y="2439"/>
                  </a:lnTo>
                  <a:lnTo>
                    <a:pt x="503" y="2432"/>
                  </a:lnTo>
                  <a:lnTo>
                    <a:pt x="549" y="2426"/>
                  </a:lnTo>
                  <a:lnTo>
                    <a:pt x="593" y="2413"/>
                  </a:lnTo>
                  <a:lnTo>
                    <a:pt x="635" y="2398"/>
                  </a:lnTo>
                  <a:lnTo>
                    <a:pt x="676" y="2374"/>
                  </a:lnTo>
                  <a:lnTo>
                    <a:pt x="716" y="2342"/>
                  </a:lnTo>
                  <a:lnTo>
                    <a:pt x="806" y="2192"/>
                  </a:lnTo>
                  <a:lnTo>
                    <a:pt x="846" y="2036"/>
                  </a:lnTo>
                  <a:lnTo>
                    <a:pt x="846" y="1876"/>
                  </a:lnTo>
                  <a:lnTo>
                    <a:pt x="820" y="1711"/>
                  </a:lnTo>
                  <a:lnTo>
                    <a:pt x="778" y="1543"/>
                  </a:lnTo>
                  <a:lnTo>
                    <a:pt x="735" y="1376"/>
                  </a:lnTo>
                  <a:lnTo>
                    <a:pt x="700" y="1207"/>
                  </a:lnTo>
                  <a:lnTo>
                    <a:pt x="685" y="1043"/>
                  </a:lnTo>
                  <a:lnTo>
                    <a:pt x="694" y="922"/>
                  </a:lnTo>
                  <a:lnTo>
                    <a:pt x="708" y="804"/>
                  </a:lnTo>
                  <a:lnTo>
                    <a:pt x="726" y="686"/>
                  </a:lnTo>
                  <a:lnTo>
                    <a:pt x="752" y="570"/>
                  </a:lnTo>
                  <a:lnTo>
                    <a:pt x="780" y="455"/>
                  </a:lnTo>
                  <a:lnTo>
                    <a:pt x="815" y="344"/>
                  </a:lnTo>
                  <a:lnTo>
                    <a:pt x="856" y="234"/>
                  </a:lnTo>
                  <a:lnTo>
                    <a:pt x="903" y="130"/>
                  </a:lnTo>
                  <a:lnTo>
                    <a:pt x="954" y="100"/>
                  </a:lnTo>
                  <a:lnTo>
                    <a:pt x="1010" y="71"/>
                  </a:lnTo>
                  <a:lnTo>
                    <a:pt x="1068" y="42"/>
                  </a:lnTo>
                  <a:lnTo>
                    <a:pt x="1130" y="20"/>
                  </a:lnTo>
                  <a:lnTo>
                    <a:pt x="1190" y="4"/>
                  </a:lnTo>
                  <a:lnTo>
                    <a:pt x="1254" y="0"/>
                  </a:lnTo>
                  <a:lnTo>
                    <a:pt x="1317" y="10"/>
                  </a:lnTo>
                  <a:lnTo>
                    <a:pt x="1380" y="37"/>
                  </a:lnTo>
                  <a:lnTo>
                    <a:pt x="1417" y="58"/>
                  </a:lnTo>
                  <a:lnTo>
                    <a:pt x="1446" y="86"/>
                  </a:lnTo>
                  <a:lnTo>
                    <a:pt x="1469" y="117"/>
                  </a:lnTo>
                  <a:lnTo>
                    <a:pt x="1487" y="154"/>
                  </a:lnTo>
                  <a:lnTo>
                    <a:pt x="1503" y="189"/>
                  </a:lnTo>
                  <a:lnTo>
                    <a:pt x="1518" y="227"/>
                  </a:lnTo>
                  <a:lnTo>
                    <a:pt x="1535" y="262"/>
                  </a:lnTo>
                  <a:lnTo>
                    <a:pt x="155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211600" y="1267560"/>
              <a:ext cx="116280" cy="163440"/>
            </a:xfrm>
            <a:custGeom>
              <a:avLst/>
              <a:gdLst/>
              <a:ahLst/>
              <a:rect l="l" t="t" r="r" b="b"/>
              <a:pathLst>
                <a:path w="750" h="1299">
                  <a:moveTo>
                    <a:pt x="750" y="540"/>
                  </a:moveTo>
                  <a:lnTo>
                    <a:pt x="740" y="649"/>
                  </a:lnTo>
                  <a:lnTo>
                    <a:pt x="726" y="761"/>
                  </a:lnTo>
                  <a:lnTo>
                    <a:pt x="703" y="870"/>
                  </a:lnTo>
                  <a:lnTo>
                    <a:pt x="672" y="977"/>
                  </a:lnTo>
                  <a:lnTo>
                    <a:pt x="627" y="1074"/>
                  </a:lnTo>
                  <a:lnTo>
                    <a:pt x="567" y="1163"/>
                  </a:lnTo>
                  <a:lnTo>
                    <a:pt x="487" y="1237"/>
                  </a:lnTo>
                  <a:lnTo>
                    <a:pt x="387" y="1298"/>
                  </a:lnTo>
                  <a:lnTo>
                    <a:pt x="347" y="1299"/>
                  </a:lnTo>
                  <a:lnTo>
                    <a:pt x="311" y="1299"/>
                  </a:lnTo>
                  <a:lnTo>
                    <a:pt x="277" y="1296"/>
                  </a:lnTo>
                  <a:lnTo>
                    <a:pt x="245" y="1292"/>
                  </a:lnTo>
                  <a:lnTo>
                    <a:pt x="212" y="1281"/>
                  </a:lnTo>
                  <a:lnTo>
                    <a:pt x="183" y="1267"/>
                  </a:lnTo>
                  <a:lnTo>
                    <a:pt x="153" y="1249"/>
                  </a:lnTo>
                  <a:lnTo>
                    <a:pt x="126" y="1225"/>
                  </a:lnTo>
                  <a:lnTo>
                    <a:pt x="56" y="1112"/>
                  </a:lnTo>
                  <a:lnTo>
                    <a:pt x="17" y="991"/>
                  </a:lnTo>
                  <a:lnTo>
                    <a:pt x="0" y="861"/>
                  </a:lnTo>
                  <a:lnTo>
                    <a:pt x="5" y="730"/>
                  </a:lnTo>
                  <a:lnTo>
                    <a:pt x="24" y="595"/>
                  </a:lnTo>
                  <a:lnTo>
                    <a:pt x="55" y="466"/>
                  </a:lnTo>
                  <a:lnTo>
                    <a:pt x="90" y="342"/>
                  </a:lnTo>
                  <a:lnTo>
                    <a:pt x="126" y="228"/>
                  </a:lnTo>
                  <a:lnTo>
                    <a:pt x="131" y="249"/>
                  </a:lnTo>
                  <a:lnTo>
                    <a:pt x="139" y="270"/>
                  </a:lnTo>
                  <a:lnTo>
                    <a:pt x="149" y="290"/>
                  </a:lnTo>
                  <a:lnTo>
                    <a:pt x="163" y="308"/>
                  </a:lnTo>
                  <a:lnTo>
                    <a:pt x="176" y="325"/>
                  </a:lnTo>
                  <a:lnTo>
                    <a:pt x="193" y="342"/>
                  </a:lnTo>
                  <a:lnTo>
                    <a:pt x="209" y="357"/>
                  </a:lnTo>
                  <a:lnTo>
                    <a:pt x="231" y="374"/>
                  </a:lnTo>
                  <a:lnTo>
                    <a:pt x="253" y="377"/>
                  </a:lnTo>
                  <a:lnTo>
                    <a:pt x="278" y="383"/>
                  </a:lnTo>
                  <a:lnTo>
                    <a:pt x="302" y="385"/>
                  </a:lnTo>
                  <a:lnTo>
                    <a:pt x="326" y="388"/>
                  </a:lnTo>
                  <a:lnTo>
                    <a:pt x="347" y="385"/>
                  </a:lnTo>
                  <a:lnTo>
                    <a:pt x="370" y="378"/>
                  </a:lnTo>
                  <a:lnTo>
                    <a:pt x="388" y="364"/>
                  </a:lnTo>
                  <a:lnTo>
                    <a:pt x="406" y="342"/>
                  </a:lnTo>
                  <a:lnTo>
                    <a:pt x="433" y="312"/>
                  </a:lnTo>
                  <a:lnTo>
                    <a:pt x="460" y="281"/>
                  </a:lnTo>
                  <a:lnTo>
                    <a:pt x="484" y="248"/>
                  </a:lnTo>
                  <a:lnTo>
                    <a:pt x="506" y="212"/>
                  </a:lnTo>
                  <a:lnTo>
                    <a:pt x="522" y="173"/>
                  </a:lnTo>
                  <a:lnTo>
                    <a:pt x="530" y="133"/>
                  </a:lnTo>
                  <a:lnTo>
                    <a:pt x="530" y="93"/>
                  </a:lnTo>
                  <a:lnTo>
                    <a:pt x="522" y="52"/>
                  </a:lnTo>
                  <a:lnTo>
                    <a:pt x="480" y="0"/>
                  </a:lnTo>
                  <a:lnTo>
                    <a:pt x="567" y="25"/>
                  </a:lnTo>
                  <a:lnTo>
                    <a:pt x="629" y="73"/>
                  </a:lnTo>
                  <a:lnTo>
                    <a:pt x="671" y="135"/>
                  </a:lnTo>
                  <a:lnTo>
                    <a:pt x="699" y="211"/>
                  </a:lnTo>
                  <a:lnTo>
                    <a:pt x="714" y="291"/>
                  </a:lnTo>
                  <a:lnTo>
                    <a:pt x="727" y="377"/>
                  </a:lnTo>
                  <a:lnTo>
                    <a:pt x="736" y="460"/>
                  </a:lnTo>
                  <a:lnTo>
                    <a:pt x="750" y="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257680" y="1271520"/>
              <a:ext cx="16920" cy="1548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105" y="49"/>
                  </a:moveTo>
                  <a:lnTo>
                    <a:pt x="107" y="56"/>
                  </a:lnTo>
                  <a:lnTo>
                    <a:pt x="107" y="64"/>
                  </a:lnTo>
                  <a:lnTo>
                    <a:pt x="104" y="73"/>
                  </a:lnTo>
                  <a:lnTo>
                    <a:pt x="101" y="81"/>
                  </a:lnTo>
                  <a:lnTo>
                    <a:pt x="96" y="88"/>
                  </a:lnTo>
                  <a:lnTo>
                    <a:pt x="88" y="95"/>
                  </a:lnTo>
                  <a:lnTo>
                    <a:pt x="81" y="98"/>
                  </a:lnTo>
                  <a:lnTo>
                    <a:pt x="74" y="101"/>
                  </a:lnTo>
                  <a:lnTo>
                    <a:pt x="62" y="100"/>
                  </a:lnTo>
                  <a:lnTo>
                    <a:pt x="51" y="100"/>
                  </a:lnTo>
                  <a:lnTo>
                    <a:pt x="39" y="98"/>
                  </a:lnTo>
                  <a:lnTo>
                    <a:pt x="29" y="97"/>
                  </a:lnTo>
                  <a:lnTo>
                    <a:pt x="20" y="91"/>
                  </a:lnTo>
                  <a:lnTo>
                    <a:pt x="13" y="87"/>
                  </a:lnTo>
                  <a:lnTo>
                    <a:pt x="6" y="77"/>
                  </a:lnTo>
                  <a:lnTo>
                    <a:pt x="3" y="69"/>
                  </a:lnTo>
                  <a:lnTo>
                    <a:pt x="0" y="49"/>
                  </a:lnTo>
                  <a:lnTo>
                    <a:pt x="11" y="29"/>
                  </a:lnTo>
                  <a:lnTo>
                    <a:pt x="29" y="14"/>
                  </a:lnTo>
                  <a:lnTo>
                    <a:pt x="53" y="4"/>
                  </a:lnTo>
                  <a:lnTo>
                    <a:pt x="76" y="0"/>
                  </a:lnTo>
                  <a:lnTo>
                    <a:pt x="94" y="4"/>
                  </a:lnTo>
                  <a:lnTo>
                    <a:pt x="104" y="19"/>
                  </a:lnTo>
                  <a:lnTo>
                    <a:pt x="10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379720" y="1275840"/>
              <a:ext cx="110880" cy="171360"/>
            </a:xfrm>
            <a:custGeom>
              <a:avLst/>
              <a:gdLst/>
              <a:ahLst/>
              <a:rect l="l" t="t" r="r" b="b"/>
              <a:pathLst>
                <a:path w="714" h="1249">
                  <a:moveTo>
                    <a:pt x="694" y="259"/>
                  </a:moveTo>
                  <a:lnTo>
                    <a:pt x="713" y="377"/>
                  </a:lnTo>
                  <a:lnTo>
                    <a:pt x="714" y="494"/>
                  </a:lnTo>
                  <a:lnTo>
                    <a:pt x="703" y="607"/>
                  </a:lnTo>
                  <a:lnTo>
                    <a:pt x="680" y="719"/>
                  </a:lnTo>
                  <a:lnTo>
                    <a:pt x="647" y="828"/>
                  </a:lnTo>
                  <a:lnTo>
                    <a:pt x="607" y="935"/>
                  </a:lnTo>
                  <a:lnTo>
                    <a:pt x="564" y="1039"/>
                  </a:lnTo>
                  <a:lnTo>
                    <a:pt x="519" y="1142"/>
                  </a:lnTo>
                  <a:lnTo>
                    <a:pt x="490" y="1178"/>
                  </a:lnTo>
                  <a:lnTo>
                    <a:pt x="459" y="1206"/>
                  </a:lnTo>
                  <a:lnTo>
                    <a:pt x="424" y="1226"/>
                  </a:lnTo>
                  <a:lnTo>
                    <a:pt x="386" y="1240"/>
                  </a:lnTo>
                  <a:lnTo>
                    <a:pt x="344" y="1246"/>
                  </a:lnTo>
                  <a:lnTo>
                    <a:pt x="302" y="1249"/>
                  </a:lnTo>
                  <a:lnTo>
                    <a:pt x="260" y="1247"/>
                  </a:lnTo>
                  <a:lnTo>
                    <a:pt x="218" y="1246"/>
                  </a:lnTo>
                  <a:lnTo>
                    <a:pt x="153" y="1201"/>
                  </a:lnTo>
                  <a:lnTo>
                    <a:pt x="105" y="1147"/>
                  </a:lnTo>
                  <a:lnTo>
                    <a:pt x="67" y="1085"/>
                  </a:lnTo>
                  <a:lnTo>
                    <a:pt x="42" y="1021"/>
                  </a:lnTo>
                  <a:lnTo>
                    <a:pt x="22" y="949"/>
                  </a:lnTo>
                  <a:lnTo>
                    <a:pt x="11" y="876"/>
                  </a:lnTo>
                  <a:lnTo>
                    <a:pt x="2" y="799"/>
                  </a:lnTo>
                  <a:lnTo>
                    <a:pt x="0" y="726"/>
                  </a:lnTo>
                  <a:lnTo>
                    <a:pt x="7" y="702"/>
                  </a:lnTo>
                  <a:lnTo>
                    <a:pt x="11" y="680"/>
                  </a:lnTo>
                  <a:lnTo>
                    <a:pt x="11" y="657"/>
                  </a:lnTo>
                  <a:lnTo>
                    <a:pt x="9" y="636"/>
                  </a:lnTo>
                  <a:lnTo>
                    <a:pt x="7" y="612"/>
                  </a:lnTo>
                  <a:lnTo>
                    <a:pt x="7" y="590"/>
                  </a:lnTo>
                  <a:lnTo>
                    <a:pt x="11" y="564"/>
                  </a:lnTo>
                  <a:lnTo>
                    <a:pt x="21" y="539"/>
                  </a:lnTo>
                  <a:lnTo>
                    <a:pt x="29" y="511"/>
                  </a:lnTo>
                  <a:lnTo>
                    <a:pt x="36" y="483"/>
                  </a:lnTo>
                  <a:lnTo>
                    <a:pt x="42" y="453"/>
                  </a:lnTo>
                  <a:lnTo>
                    <a:pt x="47" y="425"/>
                  </a:lnTo>
                  <a:lnTo>
                    <a:pt x="52" y="395"/>
                  </a:lnTo>
                  <a:lnTo>
                    <a:pt x="59" y="366"/>
                  </a:lnTo>
                  <a:lnTo>
                    <a:pt x="68" y="338"/>
                  </a:lnTo>
                  <a:lnTo>
                    <a:pt x="83" y="311"/>
                  </a:lnTo>
                  <a:lnTo>
                    <a:pt x="75" y="335"/>
                  </a:lnTo>
                  <a:lnTo>
                    <a:pt x="77" y="355"/>
                  </a:lnTo>
                  <a:lnTo>
                    <a:pt x="85" y="369"/>
                  </a:lnTo>
                  <a:lnTo>
                    <a:pt x="101" y="383"/>
                  </a:lnTo>
                  <a:lnTo>
                    <a:pt x="118" y="393"/>
                  </a:lnTo>
                  <a:lnTo>
                    <a:pt x="137" y="404"/>
                  </a:lnTo>
                  <a:lnTo>
                    <a:pt x="157" y="412"/>
                  </a:lnTo>
                  <a:lnTo>
                    <a:pt x="175" y="425"/>
                  </a:lnTo>
                  <a:lnTo>
                    <a:pt x="216" y="433"/>
                  </a:lnTo>
                  <a:lnTo>
                    <a:pt x="256" y="431"/>
                  </a:lnTo>
                  <a:lnTo>
                    <a:pt x="292" y="418"/>
                  </a:lnTo>
                  <a:lnTo>
                    <a:pt x="329" y="398"/>
                  </a:lnTo>
                  <a:lnTo>
                    <a:pt x="361" y="372"/>
                  </a:lnTo>
                  <a:lnTo>
                    <a:pt x="392" y="342"/>
                  </a:lnTo>
                  <a:lnTo>
                    <a:pt x="420" y="311"/>
                  </a:lnTo>
                  <a:lnTo>
                    <a:pt x="445" y="280"/>
                  </a:lnTo>
                  <a:lnTo>
                    <a:pt x="451" y="256"/>
                  </a:lnTo>
                  <a:lnTo>
                    <a:pt x="458" y="232"/>
                  </a:lnTo>
                  <a:lnTo>
                    <a:pt x="464" y="208"/>
                  </a:lnTo>
                  <a:lnTo>
                    <a:pt x="468" y="186"/>
                  </a:lnTo>
                  <a:lnTo>
                    <a:pt x="468" y="162"/>
                  </a:lnTo>
                  <a:lnTo>
                    <a:pt x="465" y="139"/>
                  </a:lnTo>
                  <a:lnTo>
                    <a:pt x="457" y="115"/>
                  </a:lnTo>
                  <a:lnTo>
                    <a:pt x="445" y="93"/>
                  </a:lnTo>
                  <a:lnTo>
                    <a:pt x="431" y="86"/>
                  </a:lnTo>
                  <a:lnTo>
                    <a:pt x="422" y="77"/>
                  </a:lnTo>
                  <a:lnTo>
                    <a:pt x="414" y="65"/>
                  </a:lnTo>
                  <a:lnTo>
                    <a:pt x="410" y="53"/>
                  </a:lnTo>
                  <a:lnTo>
                    <a:pt x="406" y="38"/>
                  </a:lnTo>
                  <a:lnTo>
                    <a:pt x="403" y="25"/>
                  </a:lnTo>
                  <a:lnTo>
                    <a:pt x="398" y="11"/>
                  </a:lnTo>
                  <a:lnTo>
                    <a:pt x="393" y="0"/>
                  </a:lnTo>
                  <a:lnTo>
                    <a:pt x="451" y="3"/>
                  </a:lnTo>
                  <a:lnTo>
                    <a:pt x="502" y="18"/>
                  </a:lnTo>
                  <a:lnTo>
                    <a:pt x="547" y="43"/>
                  </a:lnTo>
                  <a:lnTo>
                    <a:pt x="586" y="79"/>
                  </a:lnTo>
                  <a:lnTo>
                    <a:pt x="618" y="119"/>
                  </a:lnTo>
                  <a:lnTo>
                    <a:pt x="648" y="165"/>
                  </a:lnTo>
                  <a:lnTo>
                    <a:pt x="672" y="211"/>
                  </a:lnTo>
                  <a:lnTo>
                    <a:pt x="694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416800" y="1293120"/>
              <a:ext cx="15480" cy="1656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92" y="2"/>
                  </a:moveTo>
                  <a:lnTo>
                    <a:pt x="97" y="13"/>
                  </a:lnTo>
                  <a:lnTo>
                    <a:pt x="100" y="26"/>
                  </a:lnTo>
                  <a:lnTo>
                    <a:pt x="98" y="40"/>
                  </a:lnTo>
                  <a:lnTo>
                    <a:pt x="95" y="54"/>
                  </a:lnTo>
                  <a:lnTo>
                    <a:pt x="88" y="67"/>
                  </a:lnTo>
                  <a:lnTo>
                    <a:pt x="81" y="81"/>
                  </a:lnTo>
                  <a:lnTo>
                    <a:pt x="71" y="93"/>
                  </a:lnTo>
                  <a:lnTo>
                    <a:pt x="62" y="106"/>
                  </a:lnTo>
                  <a:lnTo>
                    <a:pt x="47" y="103"/>
                  </a:lnTo>
                  <a:lnTo>
                    <a:pt x="35" y="100"/>
                  </a:lnTo>
                  <a:lnTo>
                    <a:pt x="22" y="93"/>
                  </a:lnTo>
                  <a:lnTo>
                    <a:pt x="12" y="86"/>
                  </a:lnTo>
                  <a:lnTo>
                    <a:pt x="2" y="76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9" y="44"/>
                  </a:lnTo>
                  <a:lnTo>
                    <a:pt x="11" y="26"/>
                  </a:lnTo>
                  <a:lnTo>
                    <a:pt x="18" y="15"/>
                  </a:lnTo>
                  <a:lnTo>
                    <a:pt x="26" y="6"/>
                  </a:lnTo>
                  <a:lnTo>
                    <a:pt x="39" y="3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573040" y="1340640"/>
              <a:ext cx="144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556840" y="1397160"/>
              <a:ext cx="3240" cy="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974000" y="1523520"/>
              <a:ext cx="88560" cy="144720"/>
            </a:xfrm>
            <a:custGeom>
              <a:avLst/>
              <a:gdLst/>
              <a:ahLst/>
              <a:rect l="l" t="t" r="r" b="b"/>
              <a:pathLst>
                <a:path w="573" h="932">
                  <a:moveTo>
                    <a:pt x="480" y="177"/>
                  </a:moveTo>
                  <a:lnTo>
                    <a:pt x="519" y="262"/>
                  </a:lnTo>
                  <a:lnTo>
                    <a:pt x="542" y="350"/>
                  </a:lnTo>
                  <a:lnTo>
                    <a:pt x="550" y="438"/>
                  </a:lnTo>
                  <a:lnTo>
                    <a:pt x="553" y="528"/>
                  </a:lnTo>
                  <a:lnTo>
                    <a:pt x="550" y="618"/>
                  </a:lnTo>
                  <a:lnTo>
                    <a:pt x="550" y="712"/>
                  </a:lnTo>
                  <a:lnTo>
                    <a:pt x="556" y="807"/>
                  </a:lnTo>
                  <a:lnTo>
                    <a:pt x="573" y="904"/>
                  </a:lnTo>
                  <a:lnTo>
                    <a:pt x="547" y="919"/>
                  </a:lnTo>
                  <a:lnTo>
                    <a:pt x="522" y="929"/>
                  </a:lnTo>
                  <a:lnTo>
                    <a:pt x="495" y="932"/>
                  </a:lnTo>
                  <a:lnTo>
                    <a:pt x="469" y="932"/>
                  </a:lnTo>
                  <a:lnTo>
                    <a:pt x="440" y="925"/>
                  </a:lnTo>
                  <a:lnTo>
                    <a:pt x="415" y="914"/>
                  </a:lnTo>
                  <a:lnTo>
                    <a:pt x="388" y="900"/>
                  </a:lnTo>
                  <a:lnTo>
                    <a:pt x="366" y="883"/>
                  </a:lnTo>
                  <a:lnTo>
                    <a:pt x="284" y="809"/>
                  </a:lnTo>
                  <a:lnTo>
                    <a:pt x="208" y="735"/>
                  </a:lnTo>
                  <a:lnTo>
                    <a:pt x="139" y="655"/>
                  </a:lnTo>
                  <a:lnTo>
                    <a:pt x="83" y="571"/>
                  </a:lnTo>
                  <a:lnTo>
                    <a:pt x="38" y="481"/>
                  </a:lnTo>
                  <a:lnTo>
                    <a:pt x="10" y="387"/>
                  </a:lnTo>
                  <a:lnTo>
                    <a:pt x="0" y="286"/>
                  </a:lnTo>
                  <a:lnTo>
                    <a:pt x="13" y="177"/>
                  </a:lnTo>
                  <a:lnTo>
                    <a:pt x="27" y="143"/>
                  </a:lnTo>
                  <a:lnTo>
                    <a:pt x="48" y="114"/>
                  </a:lnTo>
                  <a:lnTo>
                    <a:pt x="72" y="89"/>
                  </a:lnTo>
                  <a:lnTo>
                    <a:pt x="101" y="69"/>
                  </a:lnTo>
                  <a:lnTo>
                    <a:pt x="132" y="48"/>
                  </a:lnTo>
                  <a:lnTo>
                    <a:pt x="165" y="31"/>
                  </a:lnTo>
                  <a:lnTo>
                    <a:pt x="197" y="14"/>
                  </a:lnTo>
                  <a:lnTo>
                    <a:pt x="231" y="0"/>
                  </a:lnTo>
                  <a:lnTo>
                    <a:pt x="272" y="3"/>
                  </a:lnTo>
                  <a:lnTo>
                    <a:pt x="311" y="13"/>
                  </a:lnTo>
                  <a:lnTo>
                    <a:pt x="348" y="29"/>
                  </a:lnTo>
                  <a:lnTo>
                    <a:pt x="381" y="52"/>
                  </a:lnTo>
                  <a:lnTo>
                    <a:pt x="411" y="77"/>
                  </a:lnTo>
                  <a:lnTo>
                    <a:pt x="439" y="108"/>
                  </a:lnTo>
                  <a:lnTo>
                    <a:pt x="460" y="141"/>
                  </a:lnTo>
                  <a:lnTo>
                    <a:pt x="480" y="177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517960" y="1552680"/>
              <a:ext cx="77040" cy="91440"/>
            </a:xfrm>
            <a:custGeom>
              <a:avLst/>
              <a:gdLst/>
              <a:ahLst/>
              <a:rect l="l" t="t" r="r" b="b"/>
              <a:pathLst>
                <a:path w="498" h="589">
                  <a:moveTo>
                    <a:pt x="498" y="112"/>
                  </a:moveTo>
                  <a:lnTo>
                    <a:pt x="498" y="164"/>
                  </a:lnTo>
                  <a:lnTo>
                    <a:pt x="436" y="167"/>
                  </a:lnTo>
                  <a:lnTo>
                    <a:pt x="379" y="184"/>
                  </a:lnTo>
                  <a:lnTo>
                    <a:pt x="322" y="212"/>
                  </a:lnTo>
                  <a:lnTo>
                    <a:pt x="272" y="249"/>
                  </a:lnTo>
                  <a:lnTo>
                    <a:pt x="221" y="290"/>
                  </a:lnTo>
                  <a:lnTo>
                    <a:pt x="176" y="337"/>
                  </a:lnTo>
                  <a:lnTo>
                    <a:pt x="133" y="385"/>
                  </a:lnTo>
                  <a:lnTo>
                    <a:pt x="93" y="435"/>
                  </a:lnTo>
                  <a:lnTo>
                    <a:pt x="78" y="453"/>
                  </a:lnTo>
                  <a:lnTo>
                    <a:pt x="68" y="474"/>
                  </a:lnTo>
                  <a:lnTo>
                    <a:pt x="58" y="495"/>
                  </a:lnTo>
                  <a:lnTo>
                    <a:pt x="51" y="516"/>
                  </a:lnTo>
                  <a:lnTo>
                    <a:pt x="40" y="535"/>
                  </a:lnTo>
                  <a:lnTo>
                    <a:pt x="30" y="554"/>
                  </a:lnTo>
                  <a:lnTo>
                    <a:pt x="16" y="571"/>
                  </a:lnTo>
                  <a:lnTo>
                    <a:pt x="0" y="589"/>
                  </a:lnTo>
                  <a:lnTo>
                    <a:pt x="93" y="237"/>
                  </a:lnTo>
                  <a:lnTo>
                    <a:pt x="133" y="192"/>
                  </a:lnTo>
                  <a:lnTo>
                    <a:pt x="182" y="138"/>
                  </a:lnTo>
                  <a:lnTo>
                    <a:pt x="237" y="81"/>
                  </a:lnTo>
                  <a:lnTo>
                    <a:pt x="296" y="33"/>
                  </a:lnTo>
                  <a:lnTo>
                    <a:pt x="352" y="2"/>
                  </a:lnTo>
                  <a:lnTo>
                    <a:pt x="408" y="0"/>
                  </a:lnTo>
                  <a:lnTo>
                    <a:pt x="457" y="32"/>
                  </a:lnTo>
                  <a:lnTo>
                    <a:pt x="498" y="112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81920" y="1558440"/>
              <a:ext cx="71280" cy="70200"/>
            </a:xfrm>
            <a:custGeom>
              <a:avLst/>
              <a:gdLst/>
              <a:ahLst/>
              <a:rect l="l" t="t" r="r" b="b"/>
              <a:pathLst>
                <a:path w="459" h="452">
                  <a:moveTo>
                    <a:pt x="459" y="286"/>
                  </a:moveTo>
                  <a:lnTo>
                    <a:pt x="454" y="297"/>
                  </a:lnTo>
                  <a:lnTo>
                    <a:pt x="454" y="309"/>
                  </a:lnTo>
                  <a:lnTo>
                    <a:pt x="454" y="322"/>
                  </a:lnTo>
                  <a:lnTo>
                    <a:pt x="456" y="335"/>
                  </a:lnTo>
                  <a:lnTo>
                    <a:pt x="454" y="346"/>
                  </a:lnTo>
                  <a:lnTo>
                    <a:pt x="452" y="359"/>
                  </a:lnTo>
                  <a:lnTo>
                    <a:pt x="446" y="369"/>
                  </a:lnTo>
                  <a:lnTo>
                    <a:pt x="438" y="378"/>
                  </a:lnTo>
                  <a:lnTo>
                    <a:pt x="426" y="376"/>
                  </a:lnTo>
                  <a:lnTo>
                    <a:pt x="418" y="369"/>
                  </a:lnTo>
                  <a:lnTo>
                    <a:pt x="412" y="359"/>
                  </a:lnTo>
                  <a:lnTo>
                    <a:pt x="408" y="347"/>
                  </a:lnTo>
                  <a:lnTo>
                    <a:pt x="404" y="333"/>
                  </a:lnTo>
                  <a:lnTo>
                    <a:pt x="402" y="321"/>
                  </a:lnTo>
                  <a:lnTo>
                    <a:pt x="398" y="307"/>
                  </a:lnTo>
                  <a:lnTo>
                    <a:pt x="397" y="295"/>
                  </a:lnTo>
                  <a:lnTo>
                    <a:pt x="383" y="300"/>
                  </a:lnTo>
                  <a:lnTo>
                    <a:pt x="370" y="302"/>
                  </a:lnTo>
                  <a:lnTo>
                    <a:pt x="356" y="301"/>
                  </a:lnTo>
                  <a:lnTo>
                    <a:pt x="343" y="298"/>
                  </a:lnTo>
                  <a:lnTo>
                    <a:pt x="331" y="290"/>
                  </a:lnTo>
                  <a:lnTo>
                    <a:pt x="322" y="280"/>
                  </a:lnTo>
                  <a:lnTo>
                    <a:pt x="315" y="267"/>
                  </a:lnTo>
                  <a:lnTo>
                    <a:pt x="314" y="255"/>
                  </a:lnTo>
                  <a:lnTo>
                    <a:pt x="305" y="255"/>
                  </a:lnTo>
                  <a:lnTo>
                    <a:pt x="297" y="257"/>
                  </a:lnTo>
                  <a:lnTo>
                    <a:pt x="290" y="260"/>
                  </a:lnTo>
                  <a:lnTo>
                    <a:pt x="284" y="266"/>
                  </a:lnTo>
                  <a:lnTo>
                    <a:pt x="277" y="271"/>
                  </a:lnTo>
                  <a:lnTo>
                    <a:pt x="274" y="278"/>
                  </a:lnTo>
                  <a:lnTo>
                    <a:pt x="272" y="287"/>
                  </a:lnTo>
                  <a:lnTo>
                    <a:pt x="272" y="295"/>
                  </a:lnTo>
                  <a:lnTo>
                    <a:pt x="266" y="314"/>
                  </a:lnTo>
                  <a:lnTo>
                    <a:pt x="267" y="332"/>
                  </a:lnTo>
                  <a:lnTo>
                    <a:pt x="273" y="349"/>
                  </a:lnTo>
                  <a:lnTo>
                    <a:pt x="284" y="366"/>
                  </a:lnTo>
                  <a:lnTo>
                    <a:pt x="296" y="378"/>
                  </a:lnTo>
                  <a:lnTo>
                    <a:pt x="312" y="390"/>
                  </a:lnTo>
                  <a:lnTo>
                    <a:pt x="328" y="397"/>
                  </a:lnTo>
                  <a:lnTo>
                    <a:pt x="345" y="400"/>
                  </a:lnTo>
                  <a:lnTo>
                    <a:pt x="359" y="402"/>
                  </a:lnTo>
                  <a:lnTo>
                    <a:pt x="374" y="404"/>
                  </a:lnTo>
                  <a:lnTo>
                    <a:pt x="386" y="404"/>
                  </a:lnTo>
                  <a:lnTo>
                    <a:pt x="397" y="409"/>
                  </a:lnTo>
                  <a:lnTo>
                    <a:pt x="394" y="419"/>
                  </a:lnTo>
                  <a:lnTo>
                    <a:pt x="391" y="429"/>
                  </a:lnTo>
                  <a:lnTo>
                    <a:pt x="384" y="438"/>
                  </a:lnTo>
                  <a:lnTo>
                    <a:pt x="377" y="445"/>
                  </a:lnTo>
                  <a:lnTo>
                    <a:pt x="367" y="449"/>
                  </a:lnTo>
                  <a:lnTo>
                    <a:pt x="357" y="452"/>
                  </a:lnTo>
                  <a:lnTo>
                    <a:pt x="346" y="452"/>
                  </a:lnTo>
                  <a:lnTo>
                    <a:pt x="335" y="452"/>
                  </a:lnTo>
                  <a:lnTo>
                    <a:pt x="310" y="452"/>
                  </a:lnTo>
                  <a:lnTo>
                    <a:pt x="287" y="449"/>
                  </a:lnTo>
                  <a:lnTo>
                    <a:pt x="265" y="442"/>
                  </a:lnTo>
                  <a:lnTo>
                    <a:pt x="245" y="432"/>
                  </a:lnTo>
                  <a:lnTo>
                    <a:pt x="225" y="416"/>
                  </a:lnTo>
                  <a:lnTo>
                    <a:pt x="210" y="400"/>
                  </a:lnTo>
                  <a:lnTo>
                    <a:pt x="197" y="378"/>
                  </a:lnTo>
                  <a:lnTo>
                    <a:pt x="189" y="357"/>
                  </a:lnTo>
                  <a:lnTo>
                    <a:pt x="187" y="328"/>
                  </a:lnTo>
                  <a:lnTo>
                    <a:pt x="191" y="298"/>
                  </a:lnTo>
                  <a:lnTo>
                    <a:pt x="200" y="267"/>
                  </a:lnTo>
                  <a:lnTo>
                    <a:pt x="213" y="238"/>
                  </a:lnTo>
                  <a:lnTo>
                    <a:pt x="228" y="210"/>
                  </a:lnTo>
                  <a:lnTo>
                    <a:pt x="248" y="186"/>
                  </a:lnTo>
                  <a:lnTo>
                    <a:pt x="269" y="164"/>
                  </a:lnTo>
                  <a:lnTo>
                    <a:pt x="293" y="150"/>
                  </a:lnTo>
                  <a:lnTo>
                    <a:pt x="273" y="121"/>
                  </a:lnTo>
                  <a:lnTo>
                    <a:pt x="252" y="101"/>
                  </a:lnTo>
                  <a:lnTo>
                    <a:pt x="227" y="87"/>
                  </a:lnTo>
                  <a:lnTo>
                    <a:pt x="198" y="80"/>
                  </a:lnTo>
                  <a:lnTo>
                    <a:pt x="168" y="76"/>
                  </a:lnTo>
                  <a:lnTo>
                    <a:pt x="137" y="76"/>
                  </a:lnTo>
                  <a:lnTo>
                    <a:pt x="104" y="80"/>
                  </a:lnTo>
                  <a:lnTo>
                    <a:pt x="75" y="88"/>
                  </a:lnTo>
                  <a:lnTo>
                    <a:pt x="65" y="91"/>
                  </a:lnTo>
                  <a:lnTo>
                    <a:pt x="52" y="93"/>
                  </a:lnTo>
                  <a:lnTo>
                    <a:pt x="44" y="93"/>
                  </a:lnTo>
                  <a:lnTo>
                    <a:pt x="37" y="93"/>
                  </a:lnTo>
                  <a:lnTo>
                    <a:pt x="30" y="94"/>
                  </a:lnTo>
                  <a:lnTo>
                    <a:pt x="23" y="98"/>
                  </a:lnTo>
                  <a:lnTo>
                    <a:pt x="14" y="93"/>
                  </a:lnTo>
                  <a:lnTo>
                    <a:pt x="9" y="87"/>
                  </a:lnTo>
                  <a:lnTo>
                    <a:pt x="4" y="79"/>
                  </a:lnTo>
                  <a:lnTo>
                    <a:pt x="2" y="72"/>
                  </a:lnTo>
                  <a:lnTo>
                    <a:pt x="0" y="63"/>
                  </a:lnTo>
                  <a:lnTo>
                    <a:pt x="2" y="56"/>
                  </a:lnTo>
                  <a:lnTo>
                    <a:pt x="4" y="49"/>
                  </a:lnTo>
                  <a:lnTo>
                    <a:pt x="13" y="46"/>
                  </a:lnTo>
                  <a:lnTo>
                    <a:pt x="40" y="22"/>
                  </a:lnTo>
                  <a:lnTo>
                    <a:pt x="68" y="8"/>
                  </a:lnTo>
                  <a:lnTo>
                    <a:pt x="97" y="0"/>
                  </a:lnTo>
                  <a:lnTo>
                    <a:pt x="127" y="0"/>
                  </a:lnTo>
                  <a:lnTo>
                    <a:pt x="155" y="1"/>
                  </a:lnTo>
                  <a:lnTo>
                    <a:pt x="184" y="8"/>
                  </a:lnTo>
                  <a:lnTo>
                    <a:pt x="213" y="17"/>
                  </a:lnTo>
                  <a:lnTo>
                    <a:pt x="241" y="25"/>
                  </a:lnTo>
                  <a:lnTo>
                    <a:pt x="280" y="49"/>
                  </a:lnTo>
                  <a:lnTo>
                    <a:pt x="315" y="76"/>
                  </a:lnTo>
                  <a:lnTo>
                    <a:pt x="345" y="104"/>
                  </a:lnTo>
                  <a:lnTo>
                    <a:pt x="373" y="136"/>
                  </a:lnTo>
                  <a:lnTo>
                    <a:pt x="395" y="169"/>
                  </a:lnTo>
                  <a:lnTo>
                    <a:pt x="418" y="204"/>
                  </a:lnTo>
                  <a:lnTo>
                    <a:pt x="438" y="242"/>
                  </a:lnTo>
                  <a:lnTo>
                    <a:pt x="45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43160" y="1557360"/>
              <a:ext cx="7200" cy="396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5" y="31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5" y="10"/>
                  </a:lnTo>
                  <a:lnTo>
                    <a:pt x="14" y="11"/>
                  </a:lnTo>
                  <a:lnTo>
                    <a:pt x="22" y="11"/>
                  </a:lnTo>
                  <a:lnTo>
                    <a:pt x="32" y="11"/>
                  </a:lnTo>
                  <a:lnTo>
                    <a:pt x="40" y="7"/>
                  </a:lnTo>
                  <a:lnTo>
                    <a:pt x="47" y="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493840" y="1585080"/>
              <a:ext cx="101520" cy="124200"/>
            </a:xfrm>
            <a:custGeom>
              <a:avLst/>
              <a:gdLst/>
              <a:ahLst/>
              <a:rect l="l" t="t" r="r" b="b"/>
              <a:pathLst>
                <a:path w="654" h="798">
                  <a:moveTo>
                    <a:pt x="291" y="664"/>
                  </a:moveTo>
                  <a:lnTo>
                    <a:pt x="256" y="684"/>
                  </a:lnTo>
                  <a:lnTo>
                    <a:pt x="222" y="705"/>
                  </a:lnTo>
                  <a:lnTo>
                    <a:pt x="187" y="727"/>
                  </a:lnTo>
                  <a:lnTo>
                    <a:pt x="153" y="750"/>
                  </a:lnTo>
                  <a:lnTo>
                    <a:pt x="117" y="768"/>
                  </a:lnTo>
                  <a:lnTo>
                    <a:pt x="80" y="784"/>
                  </a:lnTo>
                  <a:lnTo>
                    <a:pt x="41" y="794"/>
                  </a:lnTo>
                  <a:lnTo>
                    <a:pt x="0" y="798"/>
                  </a:lnTo>
                  <a:lnTo>
                    <a:pt x="125" y="477"/>
                  </a:lnTo>
                  <a:lnTo>
                    <a:pt x="162" y="467"/>
                  </a:lnTo>
                  <a:lnTo>
                    <a:pt x="191" y="446"/>
                  </a:lnTo>
                  <a:lnTo>
                    <a:pt x="217" y="415"/>
                  </a:lnTo>
                  <a:lnTo>
                    <a:pt x="241" y="381"/>
                  </a:lnTo>
                  <a:lnTo>
                    <a:pt x="263" y="344"/>
                  </a:lnTo>
                  <a:lnTo>
                    <a:pt x="290" y="313"/>
                  </a:lnTo>
                  <a:lnTo>
                    <a:pt x="321" y="290"/>
                  </a:lnTo>
                  <a:lnTo>
                    <a:pt x="364" y="280"/>
                  </a:lnTo>
                  <a:lnTo>
                    <a:pt x="374" y="318"/>
                  </a:lnTo>
                  <a:lnTo>
                    <a:pt x="363" y="353"/>
                  </a:lnTo>
                  <a:lnTo>
                    <a:pt x="338" y="382"/>
                  </a:lnTo>
                  <a:lnTo>
                    <a:pt x="305" y="411"/>
                  </a:lnTo>
                  <a:lnTo>
                    <a:pt x="270" y="437"/>
                  </a:lnTo>
                  <a:lnTo>
                    <a:pt x="245" y="466"/>
                  </a:lnTo>
                  <a:lnTo>
                    <a:pt x="231" y="495"/>
                  </a:lnTo>
                  <a:lnTo>
                    <a:pt x="239" y="529"/>
                  </a:lnTo>
                  <a:lnTo>
                    <a:pt x="274" y="512"/>
                  </a:lnTo>
                  <a:lnTo>
                    <a:pt x="307" y="492"/>
                  </a:lnTo>
                  <a:lnTo>
                    <a:pt x="336" y="468"/>
                  </a:lnTo>
                  <a:lnTo>
                    <a:pt x="363" y="440"/>
                  </a:lnTo>
                  <a:lnTo>
                    <a:pt x="387" y="409"/>
                  </a:lnTo>
                  <a:lnTo>
                    <a:pt x="411" y="378"/>
                  </a:lnTo>
                  <a:lnTo>
                    <a:pt x="433" y="349"/>
                  </a:lnTo>
                  <a:lnTo>
                    <a:pt x="457" y="320"/>
                  </a:lnTo>
                  <a:lnTo>
                    <a:pt x="470" y="292"/>
                  </a:lnTo>
                  <a:lnTo>
                    <a:pt x="473" y="268"/>
                  </a:lnTo>
                  <a:lnTo>
                    <a:pt x="466" y="244"/>
                  </a:lnTo>
                  <a:lnTo>
                    <a:pt x="455" y="225"/>
                  </a:lnTo>
                  <a:lnTo>
                    <a:pt x="435" y="208"/>
                  </a:lnTo>
                  <a:lnTo>
                    <a:pt x="415" y="195"/>
                  </a:lnTo>
                  <a:lnTo>
                    <a:pt x="394" y="187"/>
                  </a:lnTo>
                  <a:lnTo>
                    <a:pt x="374" y="185"/>
                  </a:lnTo>
                  <a:lnTo>
                    <a:pt x="400" y="147"/>
                  </a:lnTo>
                  <a:lnTo>
                    <a:pt x="429" y="118"/>
                  </a:lnTo>
                  <a:lnTo>
                    <a:pt x="462" y="91"/>
                  </a:lnTo>
                  <a:lnTo>
                    <a:pt x="498" y="68"/>
                  </a:lnTo>
                  <a:lnTo>
                    <a:pt x="535" y="47"/>
                  </a:lnTo>
                  <a:lnTo>
                    <a:pt x="574" y="30"/>
                  </a:lnTo>
                  <a:lnTo>
                    <a:pt x="613" y="14"/>
                  </a:lnTo>
                  <a:lnTo>
                    <a:pt x="654" y="0"/>
                  </a:lnTo>
                  <a:lnTo>
                    <a:pt x="653" y="95"/>
                  </a:lnTo>
                  <a:lnTo>
                    <a:pt x="639" y="190"/>
                  </a:lnTo>
                  <a:lnTo>
                    <a:pt x="611" y="281"/>
                  </a:lnTo>
                  <a:lnTo>
                    <a:pt x="570" y="370"/>
                  </a:lnTo>
                  <a:lnTo>
                    <a:pt x="515" y="451"/>
                  </a:lnTo>
                  <a:lnTo>
                    <a:pt x="452" y="529"/>
                  </a:lnTo>
                  <a:lnTo>
                    <a:pt x="376" y="601"/>
                  </a:lnTo>
                  <a:lnTo>
                    <a:pt x="291" y="664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144280" y="1680840"/>
              <a:ext cx="282600" cy="89640"/>
            </a:xfrm>
            <a:custGeom>
              <a:avLst/>
              <a:gdLst/>
              <a:ahLst/>
              <a:rect l="l" t="t" r="r" b="b"/>
              <a:pathLst>
                <a:path w="1816" h="574">
                  <a:moveTo>
                    <a:pt x="1407" y="552"/>
                  </a:moveTo>
                  <a:lnTo>
                    <a:pt x="1552" y="542"/>
                  </a:lnTo>
                  <a:lnTo>
                    <a:pt x="1547" y="487"/>
                  </a:lnTo>
                  <a:lnTo>
                    <a:pt x="1529" y="433"/>
                  </a:lnTo>
                  <a:lnTo>
                    <a:pt x="1503" y="380"/>
                  </a:lnTo>
                  <a:lnTo>
                    <a:pt x="1464" y="328"/>
                  </a:lnTo>
                  <a:lnTo>
                    <a:pt x="1416" y="277"/>
                  </a:lnTo>
                  <a:lnTo>
                    <a:pt x="1360" y="227"/>
                  </a:lnTo>
                  <a:lnTo>
                    <a:pt x="1297" y="179"/>
                  </a:lnTo>
                  <a:lnTo>
                    <a:pt x="1224" y="132"/>
                  </a:lnTo>
                  <a:lnTo>
                    <a:pt x="1027" y="358"/>
                  </a:lnTo>
                  <a:lnTo>
                    <a:pt x="974" y="55"/>
                  </a:lnTo>
                  <a:lnTo>
                    <a:pt x="882" y="44"/>
                  </a:lnTo>
                  <a:lnTo>
                    <a:pt x="790" y="43"/>
                  </a:lnTo>
                  <a:lnTo>
                    <a:pt x="707" y="358"/>
                  </a:lnTo>
                  <a:lnTo>
                    <a:pt x="521" y="82"/>
                  </a:lnTo>
                  <a:lnTo>
                    <a:pt x="452" y="108"/>
                  </a:lnTo>
                  <a:lnTo>
                    <a:pt x="387" y="136"/>
                  </a:lnTo>
                  <a:lnTo>
                    <a:pt x="327" y="169"/>
                  </a:lnTo>
                  <a:lnTo>
                    <a:pt x="269" y="205"/>
                  </a:lnTo>
                  <a:lnTo>
                    <a:pt x="221" y="245"/>
                  </a:lnTo>
                  <a:lnTo>
                    <a:pt x="176" y="285"/>
                  </a:lnTo>
                  <a:lnTo>
                    <a:pt x="139" y="329"/>
                  </a:lnTo>
                  <a:lnTo>
                    <a:pt x="106" y="371"/>
                  </a:lnTo>
                  <a:lnTo>
                    <a:pt x="138" y="393"/>
                  </a:lnTo>
                  <a:lnTo>
                    <a:pt x="148" y="389"/>
                  </a:lnTo>
                  <a:lnTo>
                    <a:pt x="159" y="389"/>
                  </a:lnTo>
                  <a:lnTo>
                    <a:pt x="170" y="392"/>
                  </a:lnTo>
                  <a:lnTo>
                    <a:pt x="179" y="390"/>
                  </a:lnTo>
                  <a:lnTo>
                    <a:pt x="184" y="395"/>
                  </a:lnTo>
                  <a:lnTo>
                    <a:pt x="188" y="400"/>
                  </a:lnTo>
                  <a:lnTo>
                    <a:pt x="194" y="403"/>
                  </a:lnTo>
                  <a:lnTo>
                    <a:pt x="197" y="408"/>
                  </a:lnTo>
                  <a:lnTo>
                    <a:pt x="206" y="416"/>
                  </a:lnTo>
                  <a:lnTo>
                    <a:pt x="207" y="424"/>
                  </a:lnTo>
                  <a:lnTo>
                    <a:pt x="189" y="434"/>
                  </a:lnTo>
                  <a:lnTo>
                    <a:pt x="167" y="440"/>
                  </a:lnTo>
                  <a:lnTo>
                    <a:pt x="146" y="443"/>
                  </a:lnTo>
                  <a:lnTo>
                    <a:pt x="124" y="442"/>
                  </a:lnTo>
                  <a:lnTo>
                    <a:pt x="104" y="440"/>
                  </a:lnTo>
                  <a:lnTo>
                    <a:pt x="83" y="435"/>
                  </a:lnTo>
                  <a:lnTo>
                    <a:pt x="63" y="429"/>
                  </a:lnTo>
                  <a:lnTo>
                    <a:pt x="42" y="420"/>
                  </a:lnTo>
                  <a:lnTo>
                    <a:pt x="27" y="411"/>
                  </a:lnTo>
                  <a:lnTo>
                    <a:pt x="15" y="398"/>
                  </a:lnTo>
                  <a:lnTo>
                    <a:pt x="7" y="386"/>
                  </a:lnTo>
                  <a:lnTo>
                    <a:pt x="1" y="370"/>
                  </a:lnTo>
                  <a:lnTo>
                    <a:pt x="1" y="356"/>
                  </a:lnTo>
                  <a:lnTo>
                    <a:pt x="0" y="340"/>
                  </a:lnTo>
                  <a:lnTo>
                    <a:pt x="4" y="326"/>
                  </a:lnTo>
                  <a:lnTo>
                    <a:pt x="8" y="313"/>
                  </a:lnTo>
                  <a:lnTo>
                    <a:pt x="59" y="336"/>
                  </a:lnTo>
                  <a:lnTo>
                    <a:pt x="120" y="261"/>
                  </a:lnTo>
                  <a:lnTo>
                    <a:pt x="206" y="192"/>
                  </a:lnTo>
                  <a:lnTo>
                    <a:pt x="311" y="133"/>
                  </a:lnTo>
                  <a:lnTo>
                    <a:pt x="429" y="84"/>
                  </a:lnTo>
                  <a:lnTo>
                    <a:pt x="562" y="46"/>
                  </a:lnTo>
                  <a:lnTo>
                    <a:pt x="700" y="17"/>
                  </a:lnTo>
                  <a:lnTo>
                    <a:pt x="842" y="4"/>
                  </a:lnTo>
                  <a:lnTo>
                    <a:pt x="982" y="0"/>
                  </a:lnTo>
                  <a:lnTo>
                    <a:pt x="1071" y="26"/>
                  </a:lnTo>
                  <a:lnTo>
                    <a:pt x="1155" y="54"/>
                  </a:lnTo>
                  <a:lnTo>
                    <a:pt x="1239" y="86"/>
                  </a:lnTo>
                  <a:lnTo>
                    <a:pt x="1314" y="122"/>
                  </a:lnTo>
                  <a:lnTo>
                    <a:pt x="1388" y="165"/>
                  </a:lnTo>
                  <a:lnTo>
                    <a:pt x="1451" y="211"/>
                  </a:lnTo>
                  <a:lnTo>
                    <a:pt x="1509" y="263"/>
                  </a:lnTo>
                  <a:lnTo>
                    <a:pt x="1557" y="318"/>
                  </a:lnTo>
                  <a:lnTo>
                    <a:pt x="1637" y="500"/>
                  </a:lnTo>
                  <a:lnTo>
                    <a:pt x="1665" y="499"/>
                  </a:lnTo>
                  <a:lnTo>
                    <a:pt x="1686" y="488"/>
                  </a:lnTo>
                  <a:lnTo>
                    <a:pt x="1707" y="475"/>
                  </a:lnTo>
                  <a:lnTo>
                    <a:pt x="1725" y="461"/>
                  </a:lnTo>
                  <a:lnTo>
                    <a:pt x="1745" y="450"/>
                  </a:lnTo>
                  <a:lnTo>
                    <a:pt x="1767" y="443"/>
                  </a:lnTo>
                  <a:lnTo>
                    <a:pt x="1790" y="446"/>
                  </a:lnTo>
                  <a:lnTo>
                    <a:pt x="1816" y="459"/>
                  </a:lnTo>
                  <a:lnTo>
                    <a:pt x="1780" y="483"/>
                  </a:lnTo>
                  <a:lnTo>
                    <a:pt x="1737" y="504"/>
                  </a:lnTo>
                  <a:lnTo>
                    <a:pt x="1693" y="526"/>
                  </a:lnTo>
                  <a:lnTo>
                    <a:pt x="1644" y="543"/>
                  </a:lnTo>
                  <a:lnTo>
                    <a:pt x="1594" y="559"/>
                  </a:lnTo>
                  <a:lnTo>
                    <a:pt x="1539" y="568"/>
                  </a:lnTo>
                  <a:lnTo>
                    <a:pt x="1483" y="574"/>
                  </a:lnTo>
                  <a:lnTo>
                    <a:pt x="1424" y="573"/>
                  </a:lnTo>
                  <a:lnTo>
                    <a:pt x="1407" y="5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202600" y="1807560"/>
              <a:ext cx="122040" cy="32400"/>
            </a:xfrm>
            <a:custGeom>
              <a:avLst/>
              <a:gdLst/>
              <a:ahLst/>
              <a:rect l="l" t="t" r="r" b="b"/>
              <a:pathLst>
                <a:path w="787" h="207">
                  <a:moveTo>
                    <a:pt x="778" y="62"/>
                  </a:moveTo>
                  <a:lnTo>
                    <a:pt x="787" y="72"/>
                  </a:lnTo>
                  <a:lnTo>
                    <a:pt x="761" y="109"/>
                  </a:lnTo>
                  <a:lnTo>
                    <a:pt x="730" y="138"/>
                  </a:lnTo>
                  <a:lnTo>
                    <a:pt x="693" y="160"/>
                  </a:lnTo>
                  <a:lnTo>
                    <a:pt x="655" y="178"/>
                  </a:lnTo>
                  <a:lnTo>
                    <a:pt x="613" y="188"/>
                  </a:lnTo>
                  <a:lnTo>
                    <a:pt x="572" y="196"/>
                  </a:lnTo>
                  <a:lnTo>
                    <a:pt x="529" y="202"/>
                  </a:lnTo>
                  <a:lnTo>
                    <a:pt x="486" y="207"/>
                  </a:lnTo>
                  <a:lnTo>
                    <a:pt x="415" y="203"/>
                  </a:lnTo>
                  <a:lnTo>
                    <a:pt x="346" y="196"/>
                  </a:lnTo>
                  <a:lnTo>
                    <a:pt x="278" y="182"/>
                  </a:lnTo>
                  <a:lnTo>
                    <a:pt x="215" y="162"/>
                  </a:lnTo>
                  <a:lnTo>
                    <a:pt x="153" y="134"/>
                  </a:lnTo>
                  <a:lnTo>
                    <a:pt x="97" y="100"/>
                  </a:lnTo>
                  <a:lnTo>
                    <a:pt x="45" y="6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91" y="45"/>
                  </a:lnTo>
                  <a:lnTo>
                    <a:pt x="184" y="86"/>
                  </a:lnTo>
                  <a:lnTo>
                    <a:pt x="282" y="119"/>
                  </a:lnTo>
                  <a:lnTo>
                    <a:pt x="385" y="143"/>
                  </a:lnTo>
                  <a:lnTo>
                    <a:pt x="486" y="151"/>
                  </a:lnTo>
                  <a:lnTo>
                    <a:pt x="589" y="143"/>
                  </a:lnTo>
                  <a:lnTo>
                    <a:pt x="686" y="114"/>
                  </a:lnTo>
                  <a:lnTo>
                    <a:pt x="77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83080" y="1920240"/>
              <a:ext cx="317880" cy="127080"/>
            </a:xfrm>
            <a:custGeom>
              <a:avLst/>
              <a:gdLst/>
              <a:ahLst/>
              <a:rect l="l" t="t" r="r" b="b"/>
              <a:pathLst>
                <a:path w="2044" h="818">
                  <a:moveTo>
                    <a:pt x="234" y="28"/>
                  </a:moveTo>
                  <a:lnTo>
                    <a:pt x="318" y="43"/>
                  </a:lnTo>
                  <a:lnTo>
                    <a:pt x="404" y="63"/>
                  </a:lnTo>
                  <a:lnTo>
                    <a:pt x="487" y="87"/>
                  </a:lnTo>
                  <a:lnTo>
                    <a:pt x="571" y="117"/>
                  </a:lnTo>
                  <a:lnTo>
                    <a:pt x="650" y="149"/>
                  </a:lnTo>
                  <a:lnTo>
                    <a:pt x="729" y="191"/>
                  </a:lnTo>
                  <a:lnTo>
                    <a:pt x="805" y="239"/>
                  </a:lnTo>
                  <a:lnTo>
                    <a:pt x="878" y="298"/>
                  </a:lnTo>
                  <a:lnTo>
                    <a:pt x="945" y="262"/>
                  </a:lnTo>
                  <a:lnTo>
                    <a:pt x="1018" y="243"/>
                  </a:lnTo>
                  <a:lnTo>
                    <a:pt x="1093" y="235"/>
                  </a:lnTo>
                  <a:lnTo>
                    <a:pt x="1170" y="231"/>
                  </a:lnTo>
                  <a:lnTo>
                    <a:pt x="1245" y="224"/>
                  </a:lnTo>
                  <a:lnTo>
                    <a:pt x="1317" y="209"/>
                  </a:lnTo>
                  <a:lnTo>
                    <a:pt x="1384" y="181"/>
                  </a:lnTo>
                  <a:lnTo>
                    <a:pt x="1447" y="132"/>
                  </a:lnTo>
                  <a:lnTo>
                    <a:pt x="1506" y="110"/>
                  </a:lnTo>
                  <a:lnTo>
                    <a:pt x="1570" y="91"/>
                  </a:lnTo>
                  <a:lnTo>
                    <a:pt x="1634" y="76"/>
                  </a:lnTo>
                  <a:lnTo>
                    <a:pt x="1702" y="64"/>
                  </a:lnTo>
                  <a:lnTo>
                    <a:pt x="1767" y="52"/>
                  </a:lnTo>
                  <a:lnTo>
                    <a:pt x="1831" y="43"/>
                  </a:lnTo>
                  <a:lnTo>
                    <a:pt x="1895" y="35"/>
                  </a:lnTo>
                  <a:lnTo>
                    <a:pt x="1957" y="28"/>
                  </a:lnTo>
                  <a:lnTo>
                    <a:pt x="2007" y="87"/>
                  </a:lnTo>
                  <a:lnTo>
                    <a:pt x="2035" y="157"/>
                  </a:lnTo>
                  <a:lnTo>
                    <a:pt x="2044" y="233"/>
                  </a:lnTo>
                  <a:lnTo>
                    <a:pt x="2041" y="316"/>
                  </a:lnTo>
                  <a:lnTo>
                    <a:pt x="2030" y="400"/>
                  </a:lnTo>
                  <a:lnTo>
                    <a:pt x="2020" y="485"/>
                  </a:lnTo>
                  <a:lnTo>
                    <a:pt x="2013" y="570"/>
                  </a:lnTo>
                  <a:lnTo>
                    <a:pt x="2018" y="652"/>
                  </a:lnTo>
                  <a:lnTo>
                    <a:pt x="1938" y="694"/>
                  </a:lnTo>
                  <a:lnTo>
                    <a:pt x="1857" y="708"/>
                  </a:lnTo>
                  <a:lnTo>
                    <a:pt x="1771" y="698"/>
                  </a:lnTo>
                  <a:lnTo>
                    <a:pt x="1687" y="675"/>
                  </a:lnTo>
                  <a:lnTo>
                    <a:pt x="1598" y="645"/>
                  </a:lnTo>
                  <a:lnTo>
                    <a:pt x="1511" y="616"/>
                  </a:lnTo>
                  <a:lnTo>
                    <a:pt x="1422" y="598"/>
                  </a:lnTo>
                  <a:lnTo>
                    <a:pt x="1333" y="599"/>
                  </a:lnTo>
                  <a:lnTo>
                    <a:pt x="1283" y="592"/>
                  </a:lnTo>
                  <a:lnTo>
                    <a:pt x="1232" y="594"/>
                  </a:lnTo>
                  <a:lnTo>
                    <a:pt x="1182" y="601"/>
                  </a:lnTo>
                  <a:lnTo>
                    <a:pt x="1131" y="611"/>
                  </a:lnTo>
                  <a:lnTo>
                    <a:pt x="1080" y="618"/>
                  </a:lnTo>
                  <a:lnTo>
                    <a:pt x="1030" y="621"/>
                  </a:lnTo>
                  <a:lnTo>
                    <a:pt x="979" y="615"/>
                  </a:lnTo>
                  <a:lnTo>
                    <a:pt x="930" y="599"/>
                  </a:lnTo>
                  <a:lnTo>
                    <a:pt x="888" y="547"/>
                  </a:lnTo>
                  <a:lnTo>
                    <a:pt x="778" y="564"/>
                  </a:lnTo>
                  <a:lnTo>
                    <a:pt x="677" y="605"/>
                  </a:lnTo>
                  <a:lnTo>
                    <a:pt x="580" y="659"/>
                  </a:lnTo>
                  <a:lnTo>
                    <a:pt x="487" y="718"/>
                  </a:lnTo>
                  <a:lnTo>
                    <a:pt x="391" y="770"/>
                  </a:lnTo>
                  <a:lnTo>
                    <a:pt x="293" y="806"/>
                  </a:lnTo>
                  <a:lnTo>
                    <a:pt x="190" y="818"/>
                  </a:lnTo>
                  <a:lnTo>
                    <a:pt x="79" y="797"/>
                  </a:lnTo>
                  <a:lnTo>
                    <a:pt x="34" y="711"/>
                  </a:lnTo>
                  <a:lnTo>
                    <a:pt x="10" y="621"/>
                  </a:lnTo>
                  <a:lnTo>
                    <a:pt x="0" y="526"/>
                  </a:lnTo>
                  <a:lnTo>
                    <a:pt x="3" y="431"/>
                  </a:lnTo>
                  <a:lnTo>
                    <a:pt x="10" y="332"/>
                  </a:lnTo>
                  <a:lnTo>
                    <a:pt x="21" y="235"/>
                  </a:lnTo>
                  <a:lnTo>
                    <a:pt x="31" y="139"/>
                  </a:lnTo>
                  <a:lnTo>
                    <a:pt x="37" y="49"/>
                  </a:lnTo>
                  <a:lnTo>
                    <a:pt x="53" y="32"/>
                  </a:lnTo>
                  <a:lnTo>
                    <a:pt x="77" y="19"/>
                  </a:lnTo>
                  <a:lnTo>
                    <a:pt x="103" y="8"/>
                  </a:lnTo>
                  <a:lnTo>
                    <a:pt x="131" y="3"/>
                  </a:lnTo>
                  <a:lnTo>
                    <a:pt x="158" y="0"/>
                  </a:lnTo>
                  <a:lnTo>
                    <a:pt x="186" y="3"/>
                  </a:lnTo>
                  <a:lnTo>
                    <a:pt x="211" y="11"/>
                  </a:lnTo>
                  <a:lnTo>
                    <a:pt x="2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8095320" y="1931040"/>
              <a:ext cx="119160" cy="106560"/>
            </a:xfrm>
            <a:custGeom>
              <a:avLst/>
              <a:gdLst/>
              <a:ahLst/>
              <a:rect l="l" t="t" r="r" b="b"/>
              <a:pathLst>
                <a:path w="768" h="686">
                  <a:moveTo>
                    <a:pt x="757" y="290"/>
                  </a:moveTo>
                  <a:lnTo>
                    <a:pt x="692" y="269"/>
                  </a:lnTo>
                  <a:lnTo>
                    <a:pt x="621" y="255"/>
                  </a:lnTo>
                  <a:lnTo>
                    <a:pt x="544" y="245"/>
                  </a:lnTo>
                  <a:lnTo>
                    <a:pt x="465" y="244"/>
                  </a:lnTo>
                  <a:lnTo>
                    <a:pt x="384" y="245"/>
                  </a:lnTo>
                  <a:lnTo>
                    <a:pt x="305" y="255"/>
                  </a:lnTo>
                  <a:lnTo>
                    <a:pt x="230" y="269"/>
                  </a:lnTo>
                  <a:lnTo>
                    <a:pt x="166" y="290"/>
                  </a:lnTo>
                  <a:lnTo>
                    <a:pt x="166" y="311"/>
                  </a:lnTo>
                  <a:lnTo>
                    <a:pt x="242" y="314"/>
                  </a:lnTo>
                  <a:lnTo>
                    <a:pt x="322" y="313"/>
                  </a:lnTo>
                  <a:lnTo>
                    <a:pt x="403" y="308"/>
                  </a:lnTo>
                  <a:lnTo>
                    <a:pt x="485" y="310"/>
                  </a:lnTo>
                  <a:lnTo>
                    <a:pt x="564" y="315"/>
                  </a:lnTo>
                  <a:lnTo>
                    <a:pt x="638" y="335"/>
                  </a:lnTo>
                  <a:lnTo>
                    <a:pt x="707" y="369"/>
                  </a:lnTo>
                  <a:lnTo>
                    <a:pt x="768" y="425"/>
                  </a:lnTo>
                  <a:lnTo>
                    <a:pt x="683" y="439"/>
                  </a:lnTo>
                  <a:lnTo>
                    <a:pt x="606" y="468"/>
                  </a:lnTo>
                  <a:lnTo>
                    <a:pt x="533" y="504"/>
                  </a:lnTo>
                  <a:lnTo>
                    <a:pt x="463" y="546"/>
                  </a:lnTo>
                  <a:lnTo>
                    <a:pt x="389" y="589"/>
                  </a:lnTo>
                  <a:lnTo>
                    <a:pt x="318" y="629"/>
                  </a:lnTo>
                  <a:lnTo>
                    <a:pt x="243" y="662"/>
                  </a:lnTo>
                  <a:lnTo>
                    <a:pt x="166" y="686"/>
                  </a:lnTo>
                  <a:lnTo>
                    <a:pt x="132" y="682"/>
                  </a:lnTo>
                  <a:lnTo>
                    <a:pt x="104" y="670"/>
                  </a:lnTo>
                  <a:lnTo>
                    <a:pt x="79" y="653"/>
                  </a:lnTo>
                  <a:lnTo>
                    <a:pt x="60" y="634"/>
                  </a:lnTo>
                  <a:lnTo>
                    <a:pt x="42" y="608"/>
                  </a:lnTo>
                  <a:lnTo>
                    <a:pt x="28" y="580"/>
                  </a:lnTo>
                  <a:lnTo>
                    <a:pt x="17" y="549"/>
                  </a:lnTo>
                  <a:lnTo>
                    <a:pt x="10" y="520"/>
                  </a:lnTo>
                  <a:lnTo>
                    <a:pt x="1" y="452"/>
                  </a:lnTo>
                  <a:lnTo>
                    <a:pt x="0" y="387"/>
                  </a:lnTo>
                  <a:lnTo>
                    <a:pt x="3" y="323"/>
                  </a:lnTo>
                  <a:lnTo>
                    <a:pt x="11" y="259"/>
                  </a:lnTo>
                  <a:lnTo>
                    <a:pt x="18" y="194"/>
                  </a:lnTo>
                  <a:lnTo>
                    <a:pt x="27" y="130"/>
                  </a:lnTo>
                  <a:lnTo>
                    <a:pt x="31" y="65"/>
                  </a:lnTo>
                  <a:lnTo>
                    <a:pt x="31" y="0"/>
                  </a:lnTo>
                  <a:lnTo>
                    <a:pt x="132" y="10"/>
                  </a:lnTo>
                  <a:lnTo>
                    <a:pt x="232" y="28"/>
                  </a:lnTo>
                  <a:lnTo>
                    <a:pt x="328" y="52"/>
                  </a:lnTo>
                  <a:lnTo>
                    <a:pt x="420" y="86"/>
                  </a:lnTo>
                  <a:lnTo>
                    <a:pt x="509" y="124"/>
                  </a:lnTo>
                  <a:lnTo>
                    <a:pt x="595" y="172"/>
                  </a:lnTo>
                  <a:lnTo>
                    <a:pt x="676" y="227"/>
                  </a:lnTo>
                  <a:lnTo>
                    <a:pt x="757" y="29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76040" y="1936080"/>
              <a:ext cx="112680" cy="82440"/>
            </a:xfrm>
            <a:custGeom>
              <a:avLst/>
              <a:gdLst/>
              <a:ahLst/>
              <a:rect l="l" t="t" r="r" b="b"/>
              <a:pathLst>
                <a:path w="725" h="530">
                  <a:moveTo>
                    <a:pt x="725" y="110"/>
                  </a:moveTo>
                  <a:lnTo>
                    <a:pt x="725" y="504"/>
                  </a:lnTo>
                  <a:lnTo>
                    <a:pt x="652" y="527"/>
                  </a:lnTo>
                  <a:lnTo>
                    <a:pt x="582" y="530"/>
                  </a:lnTo>
                  <a:lnTo>
                    <a:pt x="513" y="517"/>
                  </a:lnTo>
                  <a:lnTo>
                    <a:pt x="446" y="497"/>
                  </a:lnTo>
                  <a:lnTo>
                    <a:pt x="377" y="471"/>
                  </a:lnTo>
                  <a:lnTo>
                    <a:pt x="308" y="447"/>
                  </a:lnTo>
                  <a:lnTo>
                    <a:pt x="237" y="427"/>
                  </a:lnTo>
                  <a:lnTo>
                    <a:pt x="166" y="421"/>
                  </a:lnTo>
                  <a:lnTo>
                    <a:pt x="0" y="411"/>
                  </a:lnTo>
                  <a:lnTo>
                    <a:pt x="9" y="307"/>
                  </a:lnTo>
                  <a:lnTo>
                    <a:pt x="24" y="323"/>
                  </a:lnTo>
                  <a:lnTo>
                    <a:pt x="45" y="326"/>
                  </a:lnTo>
                  <a:lnTo>
                    <a:pt x="69" y="318"/>
                  </a:lnTo>
                  <a:lnTo>
                    <a:pt x="98" y="309"/>
                  </a:lnTo>
                  <a:lnTo>
                    <a:pt x="129" y="292"/>
                  </a:lnTo>
                  <a:lnTo>
                    <a:pt x="161" y="276"/>
                  </a:lnTo>
                  <a:lnTo>
                    <a:pt x="194" y="262"/>
                  </a:lnTo>
                  <a:lnTo>
                    <a:pt x="227" y="255"/>
                  </a:lnTo>
                  <a:lnTo>
                    <a:pt x="243" y="257"/>
                  </a:lnTo>
                  <a:lnTo>
                    <a:pt x="263" y="257"/>
                  </a:lnTo>
                  <a:lnTo>
                    <a:pt x="282" y="254"/>
                  </a:lnTo>
                  <a:lnTo>
                    <a:pt x="303" y="249"/>
                  </a:lnTo>
                  <a:lnTo>
                    <a:pt x="322" y="242"/>
                  </a:lnTo>
                  <a:lnTo>
                    <a:pt x="341" y="234"/>
                  </a:lnTo>
                  <a:lnTo>
                    <a:pt x="358" y="224"/>
                  </a:lnTo>
                  <a:lnTo>
                    <a:pt x="372" y="214"/>
                  </a:lnTo>
                  <a:lnTo>
                    <a:pt x="319" y="204"/>
                  </a:lnTo>
                  <a:lnTo>
                    <a:pt x="270" y="203"/>
                  </a:lnTo>
                  <a:lnTo>
                    <a:pt x="222" y="204"/>
                  </a:lnTo>
                  <a:lnTo>
                    <a:pt x="178" y="213"/>
                  </a:lnTo>
                  <a:lnTo>
                    <a:pt x="135" y="224"/>
                  </a:lnTo>
                  <a:lnTo>
                    <a:pt x="92" y="240"/>
                  </a:lnTo>
                  <a:lnTo>
                    <a:pt x="50" y="255"/>
                  </a:lnTo>
                  <a:lnTo>
                    <a:pt x="9" y="276"/>
                  </a:lnTo>
                  <a:lnTo>
                    <a:pt x="4" y="237"/>
                  </a:lnTo>
                  <a:lnTo>
                    <a:pt x="11" y="207"/>
                  </a:lnTo>
                  <a:lnTo>
                    <a:pt x="26" y="183"/>
                  </a:lnTo>
                  <a:lnTo>
                    <a:pt x="52" y="165"/>
                  </a:lnTo>
                  <a:lnTo>
                    <a:pt x="78" y="147"/>
                  </a:lnTo>
                  <a:lnTo>
                    <a:pt x="109" y="133"/>
                  </a:lnTo>
                  <a:lnTo>
                    <a:pt x="139" y="117"/>
                  </a:lnTo>
                  <a:lnTo>
                    <a:pt x="166" y="100"/>
                  </a:lnTo>
                  <a:lnTo>
                    <a:pt x="232" y="76"/>
                  </a:lnTo>
                  <a:lnTo>
                    <a:pt x="306" y="50"/>
                  </a:lnTo>
                  <a:lnTo>
                    <a:pt x="384" y="24"/>
                  </a:lnTo>
                  <a:lnTo>
                    <a:pt x="464" y="7"/>
                  </a:lnTo>
                  <a:lnTo>
                    <a:pt x="540" y="0"/>
                  </a:lnTo>
                  <a:lnTo>
                    <a:pt x="611" y="13"/>
                  </a:lnTo>
                  <a:lnTo>
                    <a:pt x="673" y="47"/>
                  </a:lnTo>
                  <a:lnTo>
                    <a:pt x="725" y="1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224560" y="1965240"/>
              <a:ext cx="38520" cy="38160"/>
            </a:xfrm>
            <a:custGeom>
              <a:avLst/>
              <a:gdLst/>
              <a:ahLst/>
              <a:rect l="l" t="t" r="r" b="b"/>
              <a:pathLst>
                <a:path w="249" h="248">
                  <a:moveTo>
                    <a:pt x="249" y="10"/>
                  </a:moveTo>
                  <a:lnTo>
                    <a:pt x="247" y="41"/>
                  </a:lnTo>
                  <a:lnTo>
                    <a:pt x="247" y="74"/>
                  </a:lnTo>
                  <a:lnTo>
                    <a:pt x="244" y="106"/>
                  </a:lnTo>
                  <a:lnTo>
                    <a:pt x="240" y="140"/>
                  </a:lnTo>
                  <a:lnTo>
                    <a:pt x="232" y="168"/>
                  </a:lnTo>
                  <a:lnTo>
                    <a:pt x="222" y="196"/>
                  </a:lnTo>
                  <a:lnTo>
                    <a:pt x="206" y="219"/>
                  </a:lnTo>
                  <a:lnTo>
                    <a:pt x="187" y="238"/>
                  </a:lnTo>
                  <a:lnTo>
                    <a:pt x="166" y="244"/>
                  </a:lnTo>
                  <a:lnTo>
                    <a:pt x="146" y="248"/>
                  </a:lnTo>
                  <a:lnTo>
                    <a:pt x="125" y="248"/>
                  </a:lnTo>
                  <a:lnTo>
                    <a:pt x="107" y="247"/>
                  </a:lnTo>
                  <a:lnTo>
                    <a:pt x="88" y="238"/>
                  </a:lnTo>
                  <a:lnTo>
                    <a:pt x="73" y="227"/>
                  </a:lnTo>
                  <a:lnTo>
                    <a:pt x="60" y="209"/>
                  </a:lnTo>
                  <a:lnTo>
                    <a:pt x="52" y="186"/>
                  </a:lnTo>
                  <a:lnTo>
                    <a:pt x="0" y="52"/>
                  </a:lnTo>
                  <a:lnTo>
                    <a:pt x="29" y="41"/>
                  </a:lnTo>
                  <a:lnTo>
                    <a:pt x="62" y="31"/>
                  </a:lnTo>
                  <a:lnTo>
                    <a:pt x="91" y="20"/>
                  </a:lnTo>
                  <a:lnTo>
                    <a:pt x="123" y="12"/>
                  </a:lnTo>
                  <a:lnTo>
                    <a:pt x="154" y="3"/>
                  </a:lnTo>
                  <a:lnTo>
                    <a:pt x="185" y="0"/>
                  </a:lnTo>
                  <a:lnTo>
                    <a:pt x="216" y="0"/>
                  </a:lnTo>
                  <a:lnTo>
                    <a:pt x="249" y="10"/>
                  </a:lnTo>
                  <a:close/>
                </a:path>
              </a:pathLst>
            </a:custGeom>
            <a:solidFill>
              <a:srgbClr val="ff40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4356000" y="1557360"/>
            <a:ext cx="1150920" cy="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232080" y="1682640"/>
            <a:ext cx="441000" cy="2250720"/>
            <a:chOff x="3232080" y="1682640"/>
            <a:chExt cx="441000" cy="2250720"/>
          </a:xfrm>
        </p:grpSpPr>
        <p:grpSp>
          <p:nvGrpSpPr>
            <p:cNvPr id="799" name=""/>
            <p:cNvGrpSpPr/>
            <p:nvPr/>
          </p:nvGrpSpPr>
          <p:grpSpPr>
            <a:xfrm>
              <a:off x="3232080" y="1682640"/>
              <a:ext cx="431640" cy="431640"/>
              <a:chOff x="3232080" y="1682640"/>
              <a:chExt cx="431640" cy="431640"/>
            </a:xfrm>
          </p:grpSpPr>
          <p:sp>
            <p:nvSpPr>
              <p:cNvPr id="800" name=""/>
              <p:cNvSpPr/>
              <p:nvPr/>
            </p:nvSpPr>
            <p:spPr>
              <a:xfrm>
                <a:off x="3232080" y="1682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 flipV="1">
                <a:off x="3447360" y="1702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3311280" y="1898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330000" y="1764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3304800" y="1766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3232080" y="2139840"/>
              <a:ext cx="431640" cy="431640"/>
              <a:chOff x="3232080" y="2139840"/>
              <a:chExt cx="431640" cy="431640"/>
            </a:xfrm>
          </p:grpSpPr>
          <p:sp>
            <p:nvSpPr>
              <p:cNvPr id="806" name=""/>
              <p:cNvSpPr/>
              <p:nvPr/>
            </p:nvSpPr>
            <p:spPr>
              <a:xfrm>
                <a:off x="3232080" y="21398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>
                <a:off x="3447360" y="21600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3311280" y="23558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3330000" y="22219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flipV="1">
                <a:off x="3304800" y="22237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241440" y="2587320"/>
              <a:ext cx="431640" cy="431640"/>
              <a:chOff x="3241440" y="2587320"/>
              <a:chExt cx="431640" cy="431640"/>
            </a:xfrm>
          </p:grpSpPr>
          <p:sp>
            <p:nvSpPr>
              <p:cNvPr id="812" name=""/>
              <p:cNvSpPr/>
              <p:nvPr/>
            </p:nvSpPr>
            <p:spPr>
              <a:xfrm>
                <a:off x="3241440" y="25873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3456720" y="26074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3320640" y="28033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3339360" y="26694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3314160" y="26712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3232080" y="3035160"/>
              <a:ext cx="431640" cy="431640"/>
              <a:chOff x="3232080" y="3035160"/>
              <a:chExt cx="431640" cy="431640"/>
            </a:xfrm>
          </p:grpSpPr>
          <p:sp>
            <p:nvSpPr>
              <p:cNvPr id="818" name=""/>
              <p:cNvSpPr/>
              <p:nvPr/>
            </p:nvSpPr>
            <p:spPr>
              <a:xfrm>
                <a:off x="3232080" y="30351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3447360" y="30553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311280" y="32511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330000" y="31172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flipV="1">
                <a:off x="3304800" y="31190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3232080" y="3501720"/>
              <a:ext cx="431640" cy="431640"/>
              <a:chOff x="3232080" y="3501720"/>
              <a:chExt cx="431640" cy="431640"/>
            </a:xfrm>
          </p:grpSpPr>
          <p:sp>
            <p:nvSpPr>
              <p:cNvPr id="824" name=""/>
              <p:cNvSpPr/>
              <p:nvPr/>
            </p:nvSpPr>
            <p:spPr>
              <a:xfrm>
                <a:off x="3232080" y="35017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3447360" y="35218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311280" y="37177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3330000" y="35838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3304800" y="35856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9" name=""/>
          <p:cNvGrpSpPr/>
          <p:nvPr/>
        </p:nvGrpSpPr>
        <p:grpSpPr>
          <a:xfrm>
            <a:off x="3808440" y="1682640"/>
            <a:ext cx="441000" cy="2250720"/>
            <a:chOff x="3808440" y="1682640"/>
            <a:chExt cx="441000" cy="2250720"/>
          </a:xfrm>
        </p:grpSpPr>
        <p:grpSp>
          <p:nvGrpSpPr>
            <p:cNvPr id="830" name=""/>
            <p:cNvGrpSpPr/>
            <p:nvPr/>
          </p:nvGrpSpPr>
          <p:grpSpPr>
            <a:xfrm>
              <a:off x="3808440" y="1682640"/>
              <a:ext cx="431640" cy="431640"/>
              <a:chOff x="3808440" y="1682640"/>
              <a:chExt cx="431640" cy="431640"/>
            </a:xfrm>
          </p:grpSpPr>
          <p:sp>
            <p:nvSpPr>
              <p:cNvPr id="831" name=""/>
              <p:cNvSpPr/>
              <p:nvPr/>
            </p:nvSpPr>
            <p:spPr>
              <a:xfrm>
                <a:off x="3808440" y="16826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flipV="1">
                <a:off x="4023720" y="17028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3887640" y="18986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3906360" y="17647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 flipV="1">
                <a:off x="3881160" y="17665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3808440" y="2139840"/>
              <a:ext cx="431640" cy="431640"/>
              <a:chOff x="3808440" y="2139840"/>
              <a:chExt cx="431640" cy="431640"/>
            </a:xfrm>
          </p:grpSpPr>
          <p:sp>
            <p:nvSpPr>
              <p:cNvPr id="837" name=""/>
              <p:cNvSpPr/>
              <p:nvPr/>
            </p:nvSpPr>
            <p:spPr>
              <a:xfrm>
                <a:off x="3808440" y="213984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 flipV="1">
                <a:off x="4023720" y="216000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3887640" y="235584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3906360" y="222192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 flipV="1">
                <a:off x="3881160" y="222372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3817800" y="2587320"/>
              <a:ext cx="431640" cy="431640"/>
              <a:chOff x="3817800" y="2587320"/>
              <a:chExt cx="431640" cy="431640"/>
            </a:xfrm>
          </p:grpSpPr>
          <p:sp>
            <p:nvSpPr>
              <p:cNvPr id="843" name=""/>
              <p:cNvSpPr/>
              <p:nvPr/>
            </p:nvSpPr>
            <p:spPr>
              <a:xfrm>
                <a:off x="3817800" y="25873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 flipV="1">
                <a:off x="4033080" y="26074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3897000" y="28033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3915720" y="26694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 flipV="1">
                <a:off x="3890520" y="26712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3808440" y="3035160"/>
              <a:ext cx="431640" cy="431640"/>
              <a:chOff x="3808440" y="3035160"/>
              <a:chExt cx="431640" cy="431640"/>
            </a:xfrm>
          </p:grpSpPr>
          <p:sp>
            <p:nvSpPr>
              <p:cNvPr id="849" name=""/>
              <p:cNvSpPr/>
              <p:nvPr/>
            </p:nvSpPr>
            <p:spPr>
              <a:xfrm>
                <a:off x="3808440" y="303516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 flipV="1">
                <a:off x="4023720" y="305532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3887640" y="325116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3906360" y="311724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 flipV="1">
                <a:off x="3881160" y="311904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3808440" y="3501720"/>
              <a:ext cx="431640" cy="431640"/>
              <a:chOff x="3808440" y="3501720"/>
              <a:chExt cx="431640" cy="431640"/>
            </a:xfrm>
          </p:grpSpPr>
          <p:sp>
            <p:nvSpPr>
              <p:cNvPr id="855" name=""/>
              <p:cNvSpPr/>
              <p:nvPr/>
            </p:nvSpPr>
            <p:spPr>
              <a:xfrm>
                <a:off x="3808440" y="3501720"/>
                <a:ext cx="431640" cy="431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4023720" y="3521880"/>
                <a:ext cx="1800" cy="35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3887640" y="3717720"/>
                <a:ext cx="319320" cy="14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3906360" y="3583800"/>
                <a:ext cx="25128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3881160" y="3585600"/>
                <a:ext cx="260640" cy="25128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"/>
          <p:cNvGrpSpPr/>
          <p:nvPr/>
        </p:nvGrpSpPr>
        <p:grpSpPr>
          <a:xfrm>
            <a:off x="4427640" y="1125360"/>
            <a:ext cx="947160" cy="265320"/>
            <a:chOff x="4427640" y="1125360"/>
            <a:chExt cx="947160" cy="265320"/>
          </a:xfrm>
        </p:grpSpPr>
        <p:sp>
          <p:nvSpPr>
            <p:cNvPr id="861" name=""/>
            <p:cNvSpPr/>
            <p:nvPr/>
          </p:nvSpPr>
          <p:spPr>
            <a:xfrm>
              <a:off x="4427640" y="1218960"/>
              <a:ext cx="1854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14840" y="1218960"/>
              <a:ext cx="1850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p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00240" y="1218960"/>
              <a:ext cx="20124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136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csc10"/>
                  <a:ea typeface="Arial"/>
                </a:rPr>
                <a:t>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000400" y="1125360"/>
              <a:ext cx="207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270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sy7"/>
                  <a:ea typeface="Arial"/>
                </a:rPr>
                <a:t>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09920" y="1170000"/>
              <a:ext cx="1648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0080" bIns="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427640" y="1125360"/>
              <a:ext cx="945720" cy="265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5856120" y="1719360"/>
            <a:ext cx="431640" cy="431640"/>
            <a:chOff x="5856120" y="1719360"/>
            <a:chExt cx="431640" cy="431640"/>
          </a:xfrm>
        </p:grpSpPr>
        <p:sp>
          <p:nvSpPr>
            <p:cNvPr id="868" name=""/>
            <p:cNvSpPr/>
            <p:nvPr/>
          </p:nvSpPr>
          <p:spPr>
            <a:xfrm>
              <a:off x="5856120" y="1719360"/>
              <a:ext cx="431640" cy="431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6071400" y="1739520"/>
              <a:ext cx="1800" cy="358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5935320" y="1935360"/>
              <a:ext cx="31932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954040" y="1801440"/>
              <a:ext cx="25128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>
              <a:off x="5928840" y="1803240"/>
              <a:ext cx="260640" cy="251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6813720" y="3614760"/>
            <a:ext cx="2114280" cy="307800"/>
            <a:chOff x="6813720" y="3614760"/>
            <a:chExt cx="2114280" cy="307800"/>
          </a:xfrm>
        </p:grpSpPr>
        <p:sp>
          <p:nvSpPr>
            <p:cNvPr id="874" name=""/>
            <p:cNvSpPr/>
            <p:nvPr/>
          </p:nvSpPr>
          <p:spPr>
            <a:xfrm>
              <a:off x="6813720" y="3633840"/>
              <a:ext cx="25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2280" y="3714840"/>
              <a:ext cx="16308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586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335720" y="3714840"/>
              <a:ext cx="1710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507080" y="3633840"/>
              <a:ext cx="171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678440" y="3641760"/>
              <a:ext cx="856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762680" y="3657600"/>
              <a:ext cx="12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883280" y="3714840"/>
              <a:ext cx="12204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107200" y="3681360"/>
              <a:ext cx="23940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11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32640" y="3714840"/>
              <a:ext cx="18540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1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618400" y="3616200"/>
              <a:ext cx="1537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0040" bIns="76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mi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772480" y="3648240"/>
              <a:ext cx="153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8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mr10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13720" y="3614760"/>
              <a:ext cx="2114280" cy="3078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539640" y="508464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  <a:ea typeface="Arial"/>
              </a:rPr>
              <a:t>Sender-Security: One of the strings looks completely random to dishonest B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641520" y="981000"/>
            <a:ext cx="3307680" cy="3014640"/>
            <a:chOff x="641520" y="981000"/>
            <a:chExt cx="3307680" cy="3014640"/>
          </a:xfrm>
        </p:grpSpPr>
        <p:sp>
          <p:nvSpPr>
            <p:cNvPr id="888" name=""/>
            <p:cNvSpPr/>
            <p:nvPr/>
          </p:nvSpPr>
          <p:spPr>
            <a:xfrm>
              <a:off x="641520" y="98100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73080" y="1030320"/>
              <a:ext cx="2124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260360" y="1069920"/>
              <a:ext cx="1821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442880" y="1127160"/>
              <a:ext cx="164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74760" y="1030320"/>
              <a:ext cx="226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498400" y="1069920"/>
              <a:ext cx="18252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6160" bIns="9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681280" y="1127160"/>
              <a:ext cx="16452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99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52600" y="1098360"/>
              <a:ext cx="1076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60600" y="1098360"/>
              <a:ext cx="12024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82640" y="1098360"/>
              <a:ext cx="152280" cy="1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7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633480" y="1027080"/>
              <a:ext cx="1522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1252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49320" y="1386000"/>
              <a:ext cx="2120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161720" y="1515960"/>
              <a:ext cx="7596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284120" y="1386000"/>
              <a:ext cx="21240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8400" bIns="21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495080" y="1339920"/>
              <a:ext cx="1364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3188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0960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246040" y="1370160"/>
              <a:ext cx="1364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82840" y="1515960"/>
              <a:ext cx="75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40" bIns="52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03440" y="1370160"/>
              <a:ext cx="1360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39880" y="1339920"/>
              <a:ext cx="1360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4480" bIns="680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76320" y="1363680"/>
              <a:ext cx="1346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1520" y="164772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52680" y="17874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452680" y="223200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452680" y="26780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52680" y="312264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52680" y="3568680"/>
              <a:ext cx="1281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9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1520" y="3978360"/>
              <a:ext cx="3300120" cy="0"/>
            </a:xfrm>
            <a:prstGeom prst="line">
              <a:avLst/>
            </a:prstGeom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9080" y="987480"/>
              <a:ext cx="3300120" cy="3008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7 L 0.23264 -3.7037E-007 E">
                                      <p:cBhvr>
                                        <p:cTn id="211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2T04:22:54Z</dcterms:created>
  <dc:creator>Christian Schaffner</dc:creator>
  <dc:description/>
  <dc:language>en-US</dc:language>
  <cp:lastModifiedBy>cwi</cp:lastModifiedBy>
  <dcterms:modified xsi:type="dcterms:W3CDTF">2007-09-20T04:07:13Z</dcterms:modified>
  <cp:revision>180</cp:revision>
  <dc:subject/>
  <dc:title>TeX4PPT</dc:title>
</cp:coreProperties>
</file>