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comments/comment2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hristian Schaffner" initials="C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<Relationship Id="rId34" Type="http://schemas.openxmlformats.org/officeDocument/2006/relationships/commentAuthors" Target="commentAuthors.xml"/>
</Relationships>
</file>

<file path=ppt/comments/comment28.xml><?xml version="1.0" encoding="UTF-8" standalone="yes"?>
<p:cmLst xmlns:p="http://schemas.openxmlformats.org/presentationml/2006/main"><p:cm authorId="0" dt="2006-04-21T16:39:44.580000000" idx="1"><p:pos x="5329" y="1570"/><p:text>chain rule: H(X|Y) = H(XY)-H(Y)
sub-additivity: H(XY) <= H(X) + H(Y)
monoton: H(X) <= H(XY)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982-7737-4F3E-BD19-1106EF97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256-7D50-4978-BE63-64160D41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B8D-D3CC-4808-B52B-95EACCCA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0F1-5EF9-461A-821A-7FCE4607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6DAC-E854-4E75-81EB-452A0F3B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093-4C3C-45D4-AE08-B09D87C5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9895-ED2D-4D76-BA78-6AA37890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D7B-B0C1-4206-B0F4-3BC43919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30A-8304-4106-9AA0-80D496B2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F912-4681-48CA-8B82-AF74494B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45B-565B-4C5B-84DC-D22F0BBD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760-8B98-427A-9C18-679D7A3B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6453360"/>
            <a:ext cx="17272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69F9-61CD-4C3E-8069-C2E6B9782230}" type="slidenum"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/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9214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43A8-AFAA-44E3-9E42-AEB18DEC0B0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04640"/>
            <a:ext cx="792468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3284640"/>
            <a:ext cx="66578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848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Garamond"/>
              </a:rPr>
              <a:t>A Tight High-Order Entropic Quantum Uncertainty Relation</a:t>
            </a:r>
            <a:br>
              <a:rPr sz="4400"/>
            </a:br>
            <a:r>
              <a:rPr b="0" lang="en-US" sz="4400" spc="-1" strike="noStrike">
                <a:solidFill>
                  <a:srgbClr val="003399"/>
                </a:solidFill>
                <a:latin typeface="Garamond"/>
              </a:rPr>
              <a:t>with Applications</a:t>
            </a:r>
            <a:r>
              <a:rPr b="0" lang="en-US" sz="40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3314520"/>
            <a:ext cx="835344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erge Fehr, </a:t>
            </a:r>
            <a:r>
              <a:rPr b="0" lang="de-CH" sz="2800" spc="-1" strike="noStrike">
                <a:solidFill>
                  <a:srgbClr val="0000ff"/>
                </a:solidFill>
                <a:latin typeface="Arial"/>
              </a:rPr>
              <a:t>Christian Schaffner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(CWI Amsterdam, NL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Renato Renner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(University of Cambridge, UK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Ivan Damgård, Louis Salvail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(University of Århus, D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5734080"/>
            <a:ext cx="36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o-Workshop Dagstu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ursday, September 2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9" name=""/>
          <p:cNvGrpSpPr/>
          <p:nvPr/>
        </p:nvGrpSpPr>
        <p:grpSpPr>
          <a:xfrm>
            <a:off x="5724360" y="1311120"/>
            <a:ext cx="700200" cy="2685960"/>
            <a:chOff x="5724360" y="1311120"/>
            <a:chExt cx="700200" cy="2685960"/>
          </a:xfrm>
        </p:grpSpPr>
        <p:sp>
          <p:nvSpPr>
            <p:cNvPr id="920" name=""/>
            <p:cNvSpPr/>
            <p:nvPr/>
          </p:nvSpPr>
          <p:spPr>
            <a:xfrm>
              <a:off x="5724360" y="131112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895720" y="1428480"/>
              <a:ext cx="1368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32520" y="142848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54560" y="1379520"/>
              <a:ext cx="106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24360" y="165096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724360" y="398124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732280" y="1317600"/>
              <a:ext cx="692280" cy="26794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Entanglement-Based Protocol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762120" cy="86364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4284720" y="1628640"/>
            <a:ext cx="1150920" cy="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4479840" y="1123920"/>
            <a:ext cx="730440" cy="351000"/>
            <a:chOff x="4479840" y="1123920"/>
            <a:chExt cx="730440" cy="351000"/>
          </a:xfrm>
        </p:grpSpPr>
        <p:sp>
          <p:nvSpPr>
            <p:cNvPr id="931" name=""/>
            <p:cNvSpPr/>
            <p:nvPr/>
          </p:nvSpPr>
          <p:spPr>
            <a:xfrm>
              <a:off x="4479840" y="1125360"/>
              <a:ext cx="92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573440" y="1147680"/>
              <a:ext cx="2764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875120" y="1125360"/>
              <a:ext cx="1303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05440" y="1316160"/>
              <a:ext cx="204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479840" y="1123920"/>
              <a:ext cx="730440" cy="3510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2104920" y="4503600"/>
            <a:ext cx="841320" cy="291960"/>
            <a:chOff x="2104920" y="4503600"/>
            <a:chExt cx="841320" cy="291960"/>
          </a:xfrm>
        </p:grpSpPr>
        <p:sp>
          <p:nvSpPr>
            <p:cNvPr id="937" name=""/>
            <p:cNvSpPr/>
            <p:nvPr/>
          </p:nvSpPr>
          <p:spPr>
            <a:xfrm>
              <a:off x="2104920" y="4505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309760" y="4633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59160" y="469728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608200" y="4505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13040" y="4633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04920" y="4503600"/>
              <a:ext cx="8398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4284720" y="4221000"/>
            <a:ext cx="12240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2206800" y="1916280"/>
            <a:ext cx="182520" cy="2519280"/>
            <a:chOff x="2206800" y="1916280"/>
            <a:chExt cx="182520" cy="2519280"/>
          </a:xfrm>
        </p:grpSpPr>
        <p:sp>
          <p:nvSpPr>
            <p:cNvPr id="945" name=""/>
            <p:cNvSpPr/>
            <p:nvPr/>
          </p:nvSpPr>
          <p:spPr>
            <a:xfrm>
              <a:off x="2225880" y="1916280"/>
              <a:ext cx="0" cy="2519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2206800" y="19162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2225880" y="2779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2225880" y="321336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3017880" y="4148280"/>
            <a:ext cx="1049400" cy="214200"/>
            <a:chOff x="3017880" y="4148280"/>
            <a:chExt cx="1049400" cy="214200"/>
          </a:xfrm>
        </p:grpSpPr>
        <p:sp>
          <p:nvSpPr>
            <p:cNvPr id="950" name=""/>
            <p:cNvSpPr/>
            <p:nvPr/>
          </p:nvSpPr>
          <p:spPr>
            <a:xfrm>
              <a:off x="3017880" y="4148280"/>
              <a:ext cx="16524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1831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368880" y="4184640"/>
              <a:ext cx="171360" cy="14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880" bIns="9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540240" y="4240080"/>
              <a:ext cx="15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780000" y="4148280"/>
              <a:ext cx="18432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9643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017880" y="4148280"/>
              <a:ext cx="1049400" cy="2142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1001880" y="4097160"/>
            <a:ext cx="1049040" cy="214560"/>
            <a:chOff x="1001880" y="4097160"/>
            <a:chExt cx="1049040" cy="214560"/>
          </a:xfrm>
        </p:grpSpPr>
        <p:sp>
          <p:nvSpPr>
            <p:cNvPr id="958" name=""/>
            <p:cNvSpPr/>
            <p:nvPr/>
          </p:nvSpPr>
          <p:spPr>
            <a:xfrm>
              <a:off x="1001880" y="4097160"/>
              <a:ext cx="1648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1667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352520" y="4133880"/>
              <a:ext cx="1710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824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523880" y="4189320"/>
              <a:ext cx="1537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763640" y="4097160"/>
              <a:ext cx="1839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9479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001880" y="4097160"/>
              <a:ext cx="1049040" cy="214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4168800" y="3789360"/>
            <a:ext cx="1268280" cy="291960"/>
            <a:chOff x="4168800" y="3789360"/>
            <a:chExt cx="1268280" cy="291960"/>
          </a:xfrm>
        </p:grpSpPr>
        <p:sp>
          <p:nvSpPr>
            <p:cNvPr id="966" name=""/>
            <p:cNvSpPr/>
            <p:nvPr/>
          </p:nvSpPr>
          <p:spPr>
            <a:xfrm>
              <a:off x="4168800" y="3790800"/>
              <a:ext cx="2584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428720" y="398304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576320" y="3790800"/>
              <a:ext cx="2142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790880" y="3919320"/>
              <a:ext cx="1328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41720" y="3983040"/>
              <a:ext cx="9144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089320" y="3790800"/>
              <a:ext cx="213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303520" y="391932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168800" y="3789360"/>
              <a:ext cx="12682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983160" y="1700280"/>
            <a:ext cx="610920" cy="2340360"/>
            <a:chOff x="983160" y="1700280"/>
            <a:chExt cx="610920" cy="2340360"/>
          </a:xfrm>
        </p:grpSpPr>
        <p:grpSp>
          <p:nvGrpSpPr>
            <p:cNvPr id="975" name=""/>
            <p:cNvGrpSpPr/>
            <p:nvPr/>
          </p:nvGrpSpPr>
          <p:grpSpPr>
            <a:xfrm>
              <a:off x="983160" y="2058480"/>
              <a:ext cx="610920" cy="610560"/>
              <a:chOff x="983160" y="2058480"/>
              <a:chExt cx="610920" cy="610560"/>
            </a:xfrm>
          </p:grpSpPr>
          <p:sp>
            <p:nvSpPr>
              <p:cNvPr id="976" name=""/>
              <p:cNvSpPr/>
              <p:nvPr/>
            </p:nvSpPr>
            <p:spPr>
              <a:xfrm rot="2700000">
                <a:off x="1072440" y="2147760"/>
                <a:ext cx="43200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1173600" y="222444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 flipV="1">
                <a:off x="1148760" y="222408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1073160" y="1700280"/>
              <a:ext cx="431640" cy="431640"/>
              <a:chOff x="1073160" y="1700280"/>
              <a:chExt cx="431640" cy="431640"/>
            </a:xfrm>
          </p:grpSpPr>
          <p:sp>
            <p:nvSpPr>
              <p:cNvPr id="980" name=""/>
              <p:cNvSpPr/>
              <p:nvPr/>
            </p:nvSpPr>
            <p:spPr>
              <a:xfrm>
                <a:off x="1073160" y="170028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 flipV="1">
                <a:off x="1288440" y="172044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1152360" y="191556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1073160" y="2608200"/>
              <a:ext cx="431640" cy="431640"/>
              <a:chOff x="1073160" y="2608200"/>
              <a:chExt cx="431640" cy="431640"/>
            </a:xfrm>
          </p:grpSpPr>
          <p:sp>
            <p:nvSpPr>
              <p:cNvPr id="984" name=""/>
              <p:cNvSpPr/>
              <p:nvPr/>
            </p:nvSpPr>
            <p:spPr>
              <a:xfrm>
                <a:off x="1073160" y="260820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 flipV="1">
                <a:off x="1288440" y="262836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1152360" y="282348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1073160" y="3063960"/>
              <a:ext cx="431640" cy="431640"/>
              <a:chOff x="1073160" y="3063960"/>
              <a:chExt cx="431640" cy="431640"/>
            </a:xfrm>
          </p:grpSpPr>
          <p:sp>
            <p:nvSpPr>
              <p:cNvPr id="988" name=""/>
              <p:cNvSpPr/>
              <p:nvPr/>
            </p:nvSpPr>
            <p:spPr>
              <a:xfrm>
                <a:off x="1073160" y="306396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 flipV="1">
                <a:off x="1288440" y="308412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1152360" y="327924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983160" y="3430080"/>
              <a:ext cx="610920" cy="610560"/>
              <a:chOff x="983160" y="3430080"/>
              <a:chExt cx="610920" cy="610560"/>
            </a:xfrm>
          </p:grpSpPr>
          <p:sp>
            <p:nvSpPr>
              <p:cNvPr id="992" name=""/>
              <p:cNvSpPr/>
              <p:nvPr/>
            </p:nvSpPr>
            <p:spPr>
              <a:xfrm rot="2700000">
                <a:off x="1072440" y="3519360"/>
                <a:ext cx="43200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V="1">
                <a:off x="1173600" y="359604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 flipV="1">
                <a:off x="1148760" y="359568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5" name=""/>
          <p:cNvGrpSpPr/>
          <p:nvPr/>
        </p:nvGrpSpPr>
        <p:grpSpPr>
          <a:xfrm>
            <a:off x="2657520" y="2347920"/>
            <a:ext cx="163440" cy="2089080"/>
            <a:chOff x="2657520" y="2347920"/>
            <a:chExt cx="163440" cy="2089080"/>
          </a:xfrm>
        </p:grpSpPr>
        <p:sp>
          <p:nvSpPr>
            <p:cNvPr id="996" name=""/>
            <p:cNvSpPr/>
            <p:nvPr/>
          </p:nvSpPr>
          <p:spPr>
            <a:xfrm flipH="1">
              <a:off x="2657520" y="36640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01880" y="2347920"/>
              <a:ext cx="0" cy="20890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2657520" y="2347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5841000" y="1676520"/>
            <a:ext cx="610920" cy="2340360"/>
            <a:chOff x="5841000" y="1676520"/>
            <a:chExt cx="610920" cy="2340360"/>
          </a:xfrm>
        </p:grpSpPr>
        <p:sp>
          <p:nvSpPr>
            <p:cNvPr id="1000" name=""/>
            <p:cNvSpPr/>
            <p:nvPr/>
          </p:nvSpPr>
          <p:spPr>
            <a:xfrm rot="2700000">
              <a:off x="5930280" y="212400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6006960" y="2201040"/>
              <a:ext cx="259920" cy="251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931000" y="167652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6010200" y="1891800"/>
              <a:ext cx="31860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931000" y="258444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 flipV="1">
              <a:off x="6146280" y="2604600"/>
              <a:ext cx="108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931000" y="304020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6146280" y="3060360"/>
              <a:ext cx="108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2700000">
              <a:off x="5930280" y="349560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6031800" y="357156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"/>
          <p:cNvSpPr/>
          <p:nvPr/>
        </p:nvSpPr>
        <p:spPr>
          <a:xfrm rot="16200000">
            <a:off x="5552280" y="2572200"/>
            <a:ext cx="2305080" cy="502920"/>
          </a:xfrm>
          <a:custGeom>
            <a:avLst/>
            <a:gdLst>
              <a:gd name="textAreaLeft" fmla="*/ 538200 w 2305080"/>
              <a:gd name="textAreaRight" fmla="*/ 1766880 w 2305080"/>
              <a:gd name="textAreaTop" fmla="*/ 117360 h 502920"/>
              <a:gd name="textAreaBottom" fmla="*/ 38556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7174080" y="2679840"/>
            <a:ext cx="296640" cy="360360"/>
            <a:chOff x="7174080" y="2679840"/>
            <a:chExt cx="296640" cy="360360"/>
          </a:xfrm>
        </p:grpSpPr>
        <p:sp>
          <p:nvSpPr>
            <p:cNvPr id="1012" name=""/>
            <p:cNvSpPr/>
            <p:nvPr/>
          </p:nvSpPr>
          <p:spPr>
            <a:xfrm>
              <a:off x="7174080" y="2679840"/>
              <a:ext cx="296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1112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0000"/>
                  </a:solidFill>
                  <a:latin typeface="cmmi10"/>
                  <a:ea typeface="Arial"/>
                </a:rPr>
                <a:t>½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174080" y="2679840"/>
              <a:ext cx="296640" cy="360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"/>
          <p:cNvSpPr/>
          <p:nvPr/>
        </p:nvSpPr>
        <p:spPr>
          <a:xfrm rot="14971200">
            <a:off x="7282080" y="1483200"/>
            <a:ext cx="216000" cy="792360"/>
          </a:xfrm>
          <a:custGeom>
            <a:avLst/>
            <a:gdLst/>
            <a:ahLst/>
            <a:rect l="l" t="t" r="r" b="b"/>
            <a:pathLst>
              <a:path w="132" h="551">
                <a:moveTo>
                  <a:pt x="74" y="0"/>
                </a:moveTo>
                <a:cubicBezTo>
                  <a:pt x="82" y="20"/>
                  <a:pt x="132" y="85"/>
                  <a:pt x="121" y="121"/>
                </a:cubicBezTo>
                <a:cubicBezTo>
                  <a:pt x="110" y="157"/>
                  <a:pt x="14" y="177"/>
                  <a:pt x="7" y="215"/>
                </a:cubicBezTo>
                <a:cubicBezTo>
                  <a:pt x="0" y="253"/>
                  <a:pt x="68" y="293"/>
                  <a:pt x="81" y="349"/>
                </a:cubicBezTo>
                <a:cubicBezTo>
                  <a:pt x="94" y="405"/>
                  <a:pt x="86" y="509"/>
                  <a:pt x="87" y="551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7962480" y="981000"/>
            <a:ext cx="742680" cy="1066320"/>
            <a:chOff x="7962480" y="981000"/>
            <a:chExt cx="742680" cy="1066320"/>
          </a:xfrm>
        </p:grpSpPr>
        <p:sp>
          <p:nvSpPr>
            <p:cNvPr id="1016" name=""/>
            <p:cNvSpPr/>
            <p:nvPr/>
          </p:nvSpPr>
          <p:spPr>
            <a:xfrm rot="12426000">
              <a:off x="8526600" y="1015920"/>
              <a:ext cx="134280" cy="22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068320" y="981000"/>
              <a:ext cx="133920" cy="22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962480" y="1058400"/>
              <a:ext cx="646200" cy="863640"/>
            </a:xfrm>
            <a:custGeom>
              <a:avLst/>
              <a:gdLst/>
              <a:ahLst/>
              <a:rect l="l" t="t" r="r" b="b"/>
              <a:pathLst>
                <a:path w="4154" h="5543">
                  <a:moveTo>
                    <a:pt x="3156" y="179"/>
                  </a:moveTo>
                  <a:lnTo>
                    <a:pt x="3235" y="230"/>
                  </a:lnTo>
                  <a:lnTo>
                    <a:pt x="3314" y="282"/>
                  </a:lnTo>
                  <a:lnTo>
                    <a:pt x="3393" y="337"/>
                  </a:lnTo>
                  <a:lnTo>
                    <a:pt x="3469" y="396"/>
                  </a:lnTo>
                  <a:lnTo>
                    <a:pt x="3538" y="459"/>
                  </a:lnTo>
                  <a:lnTo>
                    <a:pt x="3601" y="529"/>
                  </a:lnTo>
                  <a:lnTo>
                    <a:pt x="3653" y="608"/>
                  </a:lnTo>
                  <a:lnTo>
                    <a:pt x="3696" y="698"/>
                  </a:lnTo>
                  <a:lnTo>
                    <a:pt x="3727" y="760"/>
                  </a:lnTo>
                  <a:lnTo>
                    <a:pt x="3772" y="812"/>
                  </a:lnTo>
                  <a:lnTo>
                    <a:pt x="3826" y="856"/>
                  </a:lnTo>
                  <a:lnTo>
                    <a:pt x="3884" y="898"/>
                  </a:lnTo>
                  <a:lnTo>
                    <a:pt x="3938" y="941"/>
                  </a:lnTo>
                  <a:lnTo>
                    <a:pt x="3988" y="990"/>
                  </a:lnTo>
                  <a:lnTo>
                    <a:pt x="4026" y="1049"/>
                  </a:lnTo>
                  <a:lnTo>
                    <a:pt x="4048" y="1124"/>
                  </a:lnTo>
                  <a:lnTo>
                    <a:pt x="4096" y="1342"/>
                  </a:lnTo>
                  <a:lnTo>
                    <a:pt x="4121" y="1568"/>
                  </a:lnTo>
                  <a:lnTo>
                    <a:pt x="4123" y="1799"/>
                  </a:lnTo>
                  <a:lnTo>
                    <a:pt x="4109" y="2034"/>
                  </a:lnTo>
                  <a:lnTo>
                    <a:pt x="4076" y="2265"/>
                  </a:lnTo>
                  <a:lnTo>
                    <a:pt x="4031" y="2495"/>
                  </a:lnTo>
                  <a:lnTo>
                    <a:pt x="3975" y="2716"/>
                  </a:lnTo>
                  <a:lnTo>
                    <a:pt x="3913" y="2930"/>
                  </a:lnTo>
                  <a:lnTo>
                    <a:pt x="3893" y="2961"/>
                  </a:lnTo>
                  <a:lnTo>
                    <a:pt x="3875" y="2995"/>
                  </a:lnTo>
                  <a:lnTo>
                    <a:pt x="3858" y="3028"/>
                  </a:lnTo>
                  <a:lnTo>
                    <a:pt x="3843" y="3065"/>
                  </a:lnTo>
                  <a:lnTo>
                    <a:pt x="3827" y="3099"/>
                  </a:lnTo>
                  <a:lnTo>
                    <a:pt x="3813" y="3134"/>
                  </a:lnTo>
                  <a:lnTo>
                    <a:pt x="3801" y="3166"/>
                  </a:lnTo>
                  <a:lnTo>
                    <a:pt x="3789" y="3200"/>
                  </a:lnTo>
                  <a:lnTo>
                    <a:pt x="3816" y="3185"/>
                  </a:lnTo>
                  <a:lnTo>
                    <a:pt x="3847" y="3166"/>
                  </a:lnTo>
                  <a:lnTo>
                    <a:pt x="3878" y="3145"/>
                  </a:lnTo>
                  <a:lnTo>
                    <a:pt x="3913" y="3125"/>
                  </a:lnTo>
                  <a:lnTo>
                    <a:pt x="3948" y="3109"/>
                  </a:lnTo>
                  <a:lnTo>
                    <a:pt x="3986" y="3099"/>
                  </a:lnTo>
                  <a:lnTo>
                    <a:pt x="4026" y="3096"/>
                  </a:lnTo>
                  <a:lnTo>
                    <a:pt x="4069" y="3107"/>
                  </a:lnTo>
                  <a:lnTo>
                    <a:pt x="4107" y="3165"/>
                  </a:lnTo>
                  <a:lnTo>
                    <a:pt x="4134" y="3235"/>
                  </a:lnTo>
                  <a:lnTo>
                    <a:pt x="4148" y="3310"/>
                  </a:lnTo>
                  <a:lnTo>
                    <a:pt x="4154" y="3389"/>
                  </a:lnTo>
                  <a:lnTo>
                    <a:pt x="4147" y="3468"/>
                  </a:lnTo>
                  <a:lnTo>
                    <a:pt x="4134" y="3546"/>
                  </a:lnTo>
                  <a:lnTo>
                    <a:pt x="4114" y="3621"/>
                  </a:lnTo>
                  <a:lnTo>
                    <a:pt x="4090" y="3689"/>
                  </a:lnTo>
                  <a:lnTo>
                    <a:pt x="4033" y="3777"/>
                  </a:lnTo>
                  <a:lnTo>
                    <a:pt x="3968" y="3863"/>
                  </a:lnTo>
                  <a:lnTo>
                    <a:pt x="3895" y="3943"/>
                  </a:lnTo>
                  <a:lnTo>
                    <a:pt x="3816" y="4018"/>
                  </a:lnTo>
                  <a:lnTo>
                    <a:pt x="3730" y="4084"/>
                  </a:lnTo>
                  <a:lnTo>
                    <a:pt x="3642" y="4143"/>
                  </a:lnTo>
                  <a:lnTo>
                    <a:pt x="3549" y="4194"/>
                  </a:lnTo>
                  <a:lnTo>
                    <a:pt x="3457" y="4239"/>
                  </a:lnTo>
                  <a:lnTo>
                    <a:pt x="3384" y="4239"/>
                  </a:lnTo>
                  <a:lnTo>
                    <a:pt x="3308" y="4397"/>
                  </a:lnTo>
                  <a:lnTo>
                    <a:pt x="3220" y="4550"/>
                  </a:lnTo>
                  <a:lnTo>
                    <a:pt x="3116" y="4695"/>
                  </a:lnTo>
                  <a:lnTo>
                    <a:pt x="3004" y="4836"/>
                  </a:lnTo>
                  <a:lnTo>
                    <a:pt x="2882" y="4970"/>
                  </a:lnTo>
                  <a:lnTo>
                    <a:pt x="2754" y="5101"/>
                  </a:lnTo>
                  <a:lnTo>
                    <a:pt x="2623" y="5226"/>
                  </a:lnTo>
                  <a:lnTo>
                    <a:pt x="2492" y="5350"/>
                  </a:lnTo>
                  <a:lnTo>
                    <a:pt x="2388" y="5399"/>
                  </a:lnTo>
                  <a:lnTo>
                    <a:pt x="2281" y="5447"/>
                  </a:lnTo>
                  <a:lnTo>
                    <a:pt x="2172" y="5488"/>
                  </a:lnTo>
                  <a:lnTo>
                    <a:pt x="2061" y="5522"/>
                  </a:lnTo>
                  <a:lnTo>
                    <a:pt x="1947" y="5540"/>
                  </a:lnTo>
                  <a:lnTo>
                    <a:pt x="1833" y="5543"/>
                  </a:lnTo>
                  <a:lnTo>
                    <a:pt x="1716" y="5524"/>
                  </a:lnTo>
                  <a:lnTo>
                    <a:pt x="1601" y="5485"/>
                  </a:lnTo>
                  <a:lnTo>
                    <a:pt x="1390" y="5370"/>
                  </a:lnTo>
                  <a:lnTo>
                    <a:pt x="1211" y="5225"/>
                  </a:lnTo>
                  <a:lnTo>
                    <a:pt x="1062" y="5056"/>
                  </a:lnTo>
                  <a:lnTo>
                    <a:pt x="940" y="4867"/>
                  </a:lnTo>
                  <a:lnTo>
                    <a:pt x="841" y="4661"/>
                  </a:lnTo>
                  <a:lnTo>
                    <a:pt x="767" y="4447"/>
                  </a:lnTo>
                  <a:lnTo>
                    <a:pt x="712" y="4228"/>
                  </a:lnTo>
                  <a:lnTo>
                    <a:pt x="677" y="4010"/>
                  </a:lnTo>
                  <a:lnTo>
                    <a:pt x="657" y="3959"/>
                  </a:lnTo>
                  <a:lnTo>
                    <a:pt x="630" y="3979"/>
                  </a:lnTo>
                  <a:lnTo>
                    <a:pt x="603" y="3991"/>
                  </a:lnTo>
                  <a:lnTo>
                    <a:pt x="574" y="3994"/>
                  </a:lnTo>
                  <a:lnTo>
                    <a:pt x="544" y="3991"/>
                  </a:lnTo>
                  <a:lnTo>
                    <a:pt x="512" y="3983"/>
                  </a:lnTo>
                  <a:lnTo>
                    <a:pt x="480" y="3972"/>
                  </a:lnTo>
                  <a:lnTo>
                    <a:pt x="447" y="3959"/>
                  </a:lnTo>
                  <a:lnTo>
                    <a:pt x="418" y="3948"/>
                  </a:lnTo>
                  <a:lnTo>
                    <a:pt x="342" y="3898"/>
                  </a:lnTo>
                  <a:lnTo>
                    <a:pt x="273" y="3844"/>
                  </a:lnTo>
                  <a:lnTo>
                    <a:pt x="210" y="3779"/>
                  </a:lnTo>
                  <a:lnTo>
                    <a:pt x="155" y="3711"/>
                  </a:lnTo>
                  <a:lnTo>
                    <a:pt x="105" y="3637"/>
                  </a:lnTo>
                  <a:lnTo>
                    <a:pt x="63" y="3558"/>
                  </a:lnTo>
                  <a:lnTo>
                    <a:pt x="28" y="3477"/>
                  </a:lnTo>
                  <a:lnTo>
                    <a:pt x="3" y="3397"/>
                  </a:lnTo>
                  <a:lnTo>
                    <a:pt x="0" y="3330"/>
                  </a:lnTo>
                  <a:lnTo>
                    <a:pt x="4" y="3262"/>
                  </a:lnTo>
                  <a:lnTo>
                    <a:pt x="14" y="3196"/>
                  </a:lnTo>
                  <a:lnTo>
                    <a:pt x="32" y="3135"/>
                  </a:lnTo>
                  <a:lnTo>
                    <a:pt x="58" y="3076"/>
                  </a:lnTo>
                  <a:lnTo>
                    <a:pt x="97" y="3026"/>
                  </a:lnTo>
                  <a:lnTo>
                    <a:pt x="146" y="2983"/>
                  </a:lnTo>
                  <a:lnTo>
                    <a:pt x="211" y="2951"/>
                  </a:lnTo>
                  <a:lnTo>
                    <a:pt x="241" y="2937"/>
                  </a:lnTo>
                  <a:lnTo>
                    <a:pt x="273" y="2927"/>
                  </a:lnTo>
                  <a:lnTo>
                    <a:pt x="302" y="2921"/>
                  </a:lnTo>
                  <a:lnTo>
                    <a:pt x="335" y="2920"/>
                  </a:lnTo>
                  <a:lnTo>
                    <a:pt x="366" y="2921"/>
                  </a:lnTo>
                  <a:lnTo>
                    <a:pt x="397" y="2927"/>
                  </a:lnTo>
                  <a:lnTo>
                    <a:pt x="428" y="2937"/>
                  </a:lnTo>
                  <a:lnTo>
                    <a:pt x="460" y="2951"/>
                  </a:lnTo>
                  <a:lnTo>
                    <a:pt x="467" y="2959"/>
                  </a:lnTo>
                  <a:lnTo>
                    <a:pt x="474" y="2968"/>
                  </a:lnTo>
                  <a:lnTo>
                    <a:pt x="481" y="2973"/>
                  </a:lnTo>
                  <a:lnTo>
                    <a:pt x="489" y="2979"/>
                  </a:lnTo>
                  <a:lnTo>
                    <a:pt x="497" y="2982"/>
                  </a:lnTo>
                  <a:lnTo>
                    <a:pt x="505" y="2986"/>
                  </a:lnTo>
                  <a:lnTo>
                    <a:pt x="513" y="2989"/>
                  </a:lnTo>
                  <a:lnTo>
                    <a:pt x="522" y="2993"/>
                  </a:lnTo>
                  <a:lnTo>
                    <a:pt x="513" y="2931"/>
                  </a:lnTo>
                  <a:lnTo>
                    <a:pt x="511" y="2866"/>
                  </a:lnTo>
                  <a:lnTo>
                    <a:pt x="508" y="2799"/>
                  </a:lnTo>
                  <a:lnTo>
                    <a:pt x="508" y="2731"/>
                  </a:lnTo>
                  <a:lnTo>
                    <a:pt x="508" y="2661"/>
                  </a:lnTo>
                  <a:lnTo>
                    <a:pt x="509" y="2593"/>
                  </a:lnTo>
                  <a:lnTo>
                    <a:pt x="509" y="2526"/>
                  </a:lnTo>
                  <a:lnTo>
                    <a:pt x="511" y="2464"/>
                  </a:lnTo>
                  <a:lnTo>
                    <a:pt x="482" y="2355"/>
                  </a:lnTo>
                  <a:lnTo>
                    <a:pt x="471" y="2244"/>
                  </a:lnTo>
                  <a:lnTo>
                    <a:pt x="470" y="2130"/>
                  </a:lnTo>
                  <a:lnTo>
                    <a:pt x="480" y="2016"/>
                  </a:lnTo>
                  <a:lnTo>
                    <a:pt x="492" y="1901"/>
                  </a:lnTo>
                  <a:lnTo>
                    <a:pt x="511" y="1787"/>
                  </a:lnTo>
                  <a:lnTo>
                    <a:pt x="527" y="1675"/>
                  </a:lnTo>
                  <a:lnTo>
                    <a:pt x="543" y="1570"/>
                  </a:lnTo>
                  <a:lnTo>
                    <a:pt x="582" y="1433"/>
                  </a:lnTo>
                  <a:lnTo>
                    <a:pt x="640" y="1307"/>
                  </a:lnTo>
                  <a:lnTo>
                    <a:pt x="713" y="1188"/>
                  </a:lnTo>
                  <a:lnTo>
                    <a:pt x="800" y="1078"/>
                  </a:lnTo>
                  <a:lnTo>
                    <a:pt x="896" y="976"/>
                  </a:lnTo>
                  <a:lnTo>
                    <a:pt x="1004" y="881"/>
                  </a:lnTo>
                  <a:lnTo>
                    <a:pt x="1117" y="795"/>
                  </a:lnTo>
                  <a:lnTo>
                    <a:pt x="1238" y="719"/>
                  </a:lnTo>
                  <a:lnTo>
                    <a:pt x="1255" y="655"/>
                  </a:lnTo>
                  <a:lnTo>
                    <a:pt x="1283" y="600"/>
                  </a:lnTo>
                  <a:lnTo>
                    <a:pt x="1318" y="548"/>
                  </a:lnTo>
                  <a:lnTo>
                    <a:pt x="1362" y="501"/>
                  </a:lnTo>
                  <a:lnTo>
                    <a:pt x="1407" y="456"/>
                  </a:lnTo>
                  <a:lnTo>
                    <a:pt x="1454" y="413"/>
                  </a:lnTo>
                  <a:lnTo>
                    <a:pt x="1502" y="368"/>
                  </a:lnTo>
                  <a:lnTo>
                    <a:pt x="1549" y="324"/>
                  </a:lnTo>
                  <a:lnTo>
                    <a:pt x="1627" y="266"/>
                  </a:lnTo>
                  <a:lnTo>
                    <a:pt x="1715" y="222"/>
                  </a:lnTo>
                  <a:lnTo>
                    <a:pt x="1805" y="186"/>
                  </a:lnTo>
                  <a:lnTo>
                    <a:pt x="1897" y="155"/>
                  </a:lnTo>
                  <a:lnTo>
                    <a:pt x="1990" y="127"/>
                  </a:lnTo>
                  <a:lnTo>
                    <a:pt x="2085" y="99"/>
                  </a:lnTo>
                  <a:lnTo>
                    <a:pt x="2176" y="68"/>
                  </a:lnTo>
                  <a:lnTo>
                    <a:pt x="2265" y="34"/>
                  </a:lnTo>
                  <a:lnTo>
                    <a:pt x="2352" y="16"/>
                  </a:lnTo>
                  <a:lnTo>
                    <a:pt x="2443" y="4"/>
                  </a:lnTo>
                  <a:lnTo>
                    <a:pt x="2537" y="0"/>
                  </a:lnTo>
                  <a:lnTo>
                    <a:pt x="2632" y="4"/>
                  </a:lnTo>
                  <a:lnTo>
                    <a:pt x="2723" y="17"/>
                  </a:lnTo>
                  <a:lnTo>
                    <a:pt x="2812" y="39"/>
                  </a:lnTo>
                  <a:lnTo>
                    <a:pt x="2895" y="72"/>
                  </a:lnTo>
                  <a:lnTo>
                    <a:pt x="2969" y="117"/>
                  </a:lnTo>
                  <a:lnTo>
                    <a:pt x="3156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308080" y="1078200"/>
              <a:ext cx="114480" cy="48240"/>
            </a:xfrm>
            <a:custGeom>
              <a:avLst/>
              <a:gdLst/>
              <a:ahLst/>
              <a:rect l="l" t="t" r="r" b="b"/>
              <a:pathLst>
                <a:path w="737" h="311">
                  <a:moveTo>
                    <a:pt x="197" y="0"/>
                  </a:moveTo>
                  <a:lnTo>
                    <a:pt x="190" y="7"/>
                  </a:lnTo>
                  <a:lnTo>
                    <a:pt x="187" y="15"/>
                  </a:lnTo>
                  <a:lnTo>
                    <a:pt x="187" y="22"/>
                  </a:lnTo>
                  <a:lnTo>
                    <a:pt x="187" y="31"/>
                  </a:lnTo>
                  <a:lnTo>
                    <a:pt x="218" y="42"/>
                  </a:lnTo>
                  <a:lnTo>
                    <a:pt x="252" y="50"/>
                  </a:lnTo>
                  <a:lnTo>
                    <a:pt x="286" y="55"/>
                  </a:lnTo>
                  <a:lnTo>
                    <a:pt x="322" y="56"/>
                  </a:lnTo>
                  <a:lnTo>
                    <a:pt x="356" y="55"/>
                  </a:lnTo>
                  <a:lnTo>
                    <a:pt x="391" y="53"/>
                  </a:lnTo>
                  <a:lnTo>
                    <a:pt x="424" y="52"/>
                  </a:lnTo>
                  <a:lnTo>
                    <a:pt x="458" y="52"/>
                  </a:lnTo>
                  <a:lnTo>
                    <a:pt x="422" y="63"/>
                  </a:lnTo>
                  <a:lnTo>
                    <a:pt x="386" y="70"/>
                  </a:lnTo>
                  <a:lnTo>
                    <a:pt x="348" y="73"/>
                  </a:lnTo>
                  <a:lnTo>
                    <a:pt x="310" y="77"/>
                  </a:lnTo>
                  <a:lnTo>
                    <a:pt x="272" y="81"/>
                  </a:lnTo>
                  <a:lnTo>
                    <a:pt x="238" y="91"/>
                  </a:lnTo>
                  <a:lnTo>
                    <a:pt x="209" y="108"/>
                  </a:lnTo>
                  <a:lnTo>
                    <a:pt x="187" y="135"/>
                  </a:lnTo>
                  <a:lnTo>
                    <a:pt x="223" y="143"/>
                  </a:lnTo>
                  <a:lnTo>
                    <a:pt x="263" y="145"/>
                  </a:lnTo>
                  <a:lnTo>
                    <a:pt x="304" y="141"/>
                  </a:lnTo>
                  <a:lnTo>
                    <a:pt x="348" y="136"/>
                  </a:lnTo>
                  <a:lnTo>
                    <a:pt x="389" y="132"/>
                  </a:lnTo>
                  <a:lnTo>
                    <a:pt x="431" y="135"/>
                  </a:lnTo>
                  <a:lnTo>
                    <a:pt x="472" y="149"/>
                  </a:lnTo>
                  <a:lnTo>
                    <a:pt x="510" y="177"/>
                  </a:lnTo>
                  <a:lnTo>
                    <a:pt x="633" y="177"/>
                  </a:lnTo>
                  <a:lnTo>
                    <a:pt x="608" y="177"/>
                  </a:lnTo>
                  <a:lnTo>
                    <a:pt x="580" y="176"/>
                  </a:lnTo>
                  <a:lnTo>
                    <a:pt x="552" y="172"/>
                  </a:lnTo>
                  <a:lnTo>
                    <a:pt x="524" y="170"/>
                  </a:lnTo>
                  <a:lnTo>
                    <a:pt x="497" y="170"/>
                  </a:lnTo>
                  <a:lnTo>
                    <a:pt x="474" y="177"/>
                  </a:lnTo>
                  <a:lnTo>
                    <a:pt x="456" y="191"/>
                  </a:lnTo>
                  <a:lnTo>
                    <a:pt x="446" y="218"/>
                  </a:lnTo>
                  <a:lnTo>
                    <a:pt x="480" y="228"/>
                  </a:lnTo>
                  <a:lnTo>
                    <a:pt x="515" y="236"/>
                  </a:lnTo>
                  <a:lnTo>
                    <a:pt x="550" y="243"/>
                  </a:lnTo>
                  <a:lnTo>
                    <a:pt x="587" y="252"/>
                  </a:lnTo>
                  <a:lnTo>
                    <a:pt x="624" y="256"/>
                  </a:lnTo>
                  <a:lnTo>
                    <a:pt x="660" y="260"/>
                  </a:lnTo>
                  <a:lnTo>
                    <a:pt x="698" y="264"/>
                  </a:lnTo>
                  <a:lnTo>
                    <a:pt x="737" y="270"/>
                  </a:lnTo>
                  <a:lnTo>
                    <a:pt x="661" y="270"/>
                  </a:lnTo>
                  <a:lnTo>
                    <a:pt x="586" y="270"/>
                  </a:lnTo>
                  <a:lnTo>
                    <a:pt x="508" y="270"/>
                  </a:lnTo>
                  <a:lnTo>
                    <a:pt x="431" y="274"/>
                  </a:lnTo>
                  <a:lnTo>
                    <a:pt x="352" y="279"/>
                  </a:lnTo>
                  <a:lnTo>
                    <a:pt x="276" y="286"/>
                  </a:lnTo>
                  <a:lnTo>
                    <a:pt x="199" y="295"/>
                  </a:lnTo>
                  <a:lnTo>
                    <a:pt x="126" y="311"/>
                  </a:lnTo>
                  <a:lnTo>
                    <a:pt x="151" y="291"/>
                  </a:lnTo>
                  <a:lnTo>
                    <a:pt x="183" y="277"/>
                  </a:lnTo>
                  <a:lnTo>
                    <a:pt x="217" y="267"/>
                  </a:lnTo>
                  <a:lnTo>
                    <a:pt x="254" y="262"/>
                  </a:lnTo>
                  <a:lnTo>
                    <a:pt x="287" y="252"/>
                  </a:lnTo>
                  <a:lnTo>
                    <a:pt x="321" y="239"/>
                  </a:lnTo>
                  <a:lnTo>
                    <a:pt x="349" y="222"/>
                  </a:lnTo>
                  <a:lnTo>
                    <a:pt x="375" y="197"/>
                  </a:lnTo>
                  <a:lnTo>
                    <a:pt x="341" y="179"/>
                  </a:lnTo>
                  <a:lnTo>
                    <a:pt x="304" y="173"/>
                  </a:lnTo>
                  <a:lnTo>
                    <a:pt x="265" y="174"/>
                  </a:lnTo>
                  <a:lnTo>
                    <a:pt x="227" y="183"/>
                  </a:lnTo>
                  <a:lnTo>
                    <a:pt x="186" y="194"/>
                  </a:lnTo>
                  <a:lnTo>
                    <a:pt x="147" y="210"/>
                  </a:lnTo>
                  <a:lnTo>
                    <a:pt x="109" y="225"/>
                  </a:lnTo>
                  <a:lnTo>
                    <a:pt x="74" y="239"/>
                  </a:lnTo>
                  <a:lnTo>
                    <a:pt x="82" y="231"/>
                  </a:lnTo>
                  <a:lnTo>
                    <a:pt x="90" y="219"/>
                  </a:lnTo>
                  <a:lnTo>
                    <a:pt x="95" y="204"/>
                  </a:lnTo>
                  <a:lnTo>
                    <a:pt x="100" y="188"/>
                  </a:lnTo>
                  <a:lnTo>
                    <a:pt x="102" y="170"/>
                  </a:lnTo>
                  <a:lnTo>
                    <a:pt x="103" y="153"/>
                  </a:lnTo>
                  <a:lnTo>
                    <a:pt x="103" y="136"/>
                  </a:lnTo>
                  <a:lnTo>
                    <a:pt x="104" y="125"/>
                  </a:lnTo>
                  <a:lnTo>
                    <a:pt x="92" y="111"/>
                  </a:lnTo>
                  <a:lnTo>
                    <a:pt x="76" y="104"/>
                  </a:lnTo>
                  <a:lnTo>
                    <a:pt x="58" y="101"/>
                  </a:lnTo>
                  <a:lnTo>
                    <a:pt x="40" y="101"/>
                  </a:lnTo>
                  <a:lnTo>
                    <a:pt x="21" y="101"/>
                  </a:lnTo>
                  <a:lnTo>
                    <a:pt x="9" y="104"/>
                  </a:lnTo>
                  <a:lnTo>
                    <a:pt x="0" y="104"/>
                  </a:lnTo>
                  <a:lnTo>
                    <a:pt x="26" y="93"/>
                  </a:lnTo>
                  <a:lnTo>
                    <a:pt x="55" y="87"/>
                  </a:lnTo>
                  <a:lnTo>
                    <a:pt x="85" y="80"/>
                  </a:lnTo>
                  <a:lnTo>
                    <a:pt x="116" y="74"/>
                  </a:lnTo>
                  <a:lnTo>
                    <a:pt x="141" y="65"/>
                  </a:lnTo>
                  <a:lnTo>
                    <a:pt x="162" y="50"/>
                  </a:lnTo>
                  <a:lnTo>
                    <a:pt x="173" y="29"/>
                  </a:lnTo>
                  <a:lnTo>
                    <a:pt x="178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070840" y="1139040"/>
              <a:ext cx="484200" cy="766440"/>
            </a:xfrm>
            <a:custGeom>
              <a:avLst/>
              <a:gdLst/>
              <a:ahLst/>
              <a:rect l="l" t="t" r="r" b="b"/>
              <a:pathLst>
                <a:path w="3111" h="4918">
                  <a:moveTo>
                    <a:pt x="1607" y="3"/>
                  </a:moveTo>
                  <a:lnTo>
                    <a:pt x="1599" y="11"/>
                  </a:lnTo>
                  <a:lnTo>
                    <a:pt x="1599" y="23"/>
                  </a:lnTo>
                  <a:lnTo>
                    <a:pt x="1602" y="35"/>
                  </a:lnTo>
                  <a:lnTo>
                    <a:pt x="1607" y="48"/>
                  </a:lnTo>
                  <a:lnTo>
                    <a:pt x="1609" y="56"/>
                  </a:lnTo>
                  <a:lnTo>
                    <a:pt x="1607" y="62"/>
                  </a:lnTo>
                  <a:lnTo>
                    <a:pt x="1596" y="61"/>
                  </a:lnTo>
                  <a:lnTo>
                    <a:pt x="1576" y="55"/>
                  </a:lnTo>
                  <a:lnTo>
                    <a:pt x="1568" y="72"/>
                  </a:lnTo>
                  <a:lnTo>
                    <a:pt x="1555" y="87"/>
                  </a:lnTo>
                  <a:lnTo>
                    <a:pt x="1540" y="102"/>
                  </a:lnTo>
                  <a:lnTo>
                    <a:pt x="1526" y="117"/>
                  </a:lnTo>
                  <a:lnTo>
                    <a:pt x="1515" y="130"/>
                  </a:lnTo>
                  <a:lnTo>
                    <a:pt x="1513" y="145"/>
                  </a:lnTo>
                  <a:lnTo>
                    <a:pt x="1522" y="161"/>
                  </a:lnTo>
                  <a:lnTo>
                    <a:pt x="1545" y="180"/>
                  </a:lnTo>
                  <a:lnTo>
                    <a:pt x="1619" y="158"/>
                  </a:lnTo>
                  <a:lnTo>
                    <a:pt x="1696" y="140"/>
                  </a:lnTo>
                  <a:lnTo>
                    <a:pt x="1773" y="123"/>
                  </a:lnTo>
                  <a:lnTo>
                    <a:pt x="1854" y="111"/>
                  </a:lnTo>
                  <a:lnTo>
                    <a:pt x="1934" y="102"/>
                  </a:lnTo>
                  <a:lnTo>
                    <a:pt x="2014" y="96"/>
                  </a:lnTo>
                  <a:lnTo>
                    <a:pt x="2095" y="94"/>
                  </a:lnTo>
                  <a:lnTo>
                    <a:pt x="2178" y="97"/>
                  </a:lnTo>
                  <a:lnTo>
                    <a:pt x="2140" y="118"/>
                  </a:lnTo>
                  <a:lnTo>
                    <a:pt x="2100" y="135"/>
                  </a:lnTo>
                  <a:lnTo>
                    <a:pt x="2057" y="148"/>
                  </a:lnTo>
                  <a:lnTo>
                    <a:pt x="2015" y="162"/>
                  </a:lnTo>
                  <a:lnTo>
                    <a:pt x="1973" y="175"/>
                  </a:lnTo>
                  <a:lnTo>
                    <a:pt x="1937" y="193"/>
                  </a:lnTo>
                  <a:lnTo>
                    <a:pt x="1903" y="217"/>
                  </a:lnTo>
                  <a:lnTo>
                    <a:pt x="1877" y="252"/>
                  </a:lnTo>
                  <a:lnTo>
                    <a:pt x="1893" y="261"/>
                  </a:lnTo>
                  <a:lnTo>
                    <a:pt x="1911" y="265"/>
                  </a:lnTo>
                  <a:lnTo>
                    <a:pt x="1931" y="265"/>
                  </a:lnTo>
                  <a:lnTo>
                    <a:pt x="1952" y="263"/>
                  </a:lnTo>
                  <a:lnTo>
                    <a:pt x="1973" y="259"/>
                  </a:lnTo>
                  <a:lnTo>
                    <a:pt x="1997" y="255"/>
                  </a:lnTo>
                  <a:lnTo>
                    <a:pt x="2020" y="252"/>
                  </a:lnTo>
                  <a:lnTo>
                    <a:pt x="2043" y="252"/>
                  </a:lnTo>
                  <a:lnTo>
                    <a:pt x="2072" y="235"/>
                  </a:lnTo>
                  <a:lnTo>
                    <a:pt x="2104" y="227"/>
                  </a:lnTo>
                  <a:lnTo>
                    <a:pt x="2138" y="221"/>
                  </a:lnTo>
                  <a:lnTo>
                    <a:pt x="2176" y="221"/>
                  </a:lnTo>
                  <a:lnTo>
                    <a:pt x="2212" y="221"/>
                  </a:lnTo>
                  <a:lnTo>
                    <a:pt x="2250" y="223"/>
                  </a:lnTo>
                  <a:lnTo>
                    <a:pt x="2287" y="223"/>
                  </a:lnTo>
                  <a:lnTo>
                    <a:pt x="2323" y="221"/>
                  </a:lnTo>
                  <a:lnTo>
                    <a:pt x="2311" y="224"/>
                  </a:lnTo>
                  <a:lnTo>
                    <a:pt x="2298" y="228"/>
                  </a:lnTo>
                  <a:lnTo>
                    <a:pt x="2285" y="231"/>
                  </a:lnTo>
                  <a:lnTo>
                    <a:pt x="2274" y="235"/>
                  </a:lnTo>
                  <a:lnTo>
                    <a:pt x="2261" y="239"/>
                  </a:lnTo>
                  <a:lnTo>
                    <a:pt x="2253" y="248"/>
                  </a:lnTo>
                  <a:lnTo>
                    <a:pt x="2245" y="258"/>
                  </a:lnTo>
                  <a:lnTo>
                    <a:pt x="2240" y="273"/>
                  </a:lnTo>
                  <a:lnTo>
                    <a:pt x="2292" y="304"/>
                  </a:lnTo>
                  <a:lnTo>
                    <a:pt x="2366" y="290"/>
                  </a:lnTo>
                  <a:lnTo>
                    <a:pt x="2441" y="280"/>
                  </a:lnTo>
                  <a:lnTo>
                    <a:pt x="2519" y="275"/>
                  </a:lnTo>
                  <a:lnTo>
                    <a:pt x="2596" y="273"/>
                  </a:lnTo>
                  <a:lnTo>
                    <a:pt x="2672" y="275"/>
                  </a:lnTo>
                  <a:lnTo>
                    <a:pt x="2748" y="280"/>
                  </a:lnTo>
                  <a:lnTo>
                    <a:pt x="2821" y="290"/>
                  </a:lnTo>
                  <a:lnTo>
                    <a:pt x="2894" y="304"/>
                  </a:lnTo>
                  <a:lnTo>
                    <a:pt x="2890" y="317"/>
                  </a:lnTo>
                  <a:lnTo>
                    <a:pt x="2892" y="328"/>
                  </a:lnTo>
                  <a:lnTo>
                    <a:pt x="2896" y="335"/>
                  </a:lnTo>
                  <a:lnTo>
                    <a:pt x="2903" y="342"/>
                  </a:lnTo>
                  <a:lnTo>
                    <a:pt x="2910" y="345"/>
                  </a:lnTo>
                  <a:lnTo>
                    <a:pt x="2918" y="349"/>
                  </a:lnTo>
                  <a:lnTo>
                    <a:pt x="2927" y="352"/>
                  </a:lnTo>
                  <a:lnTo>
                    <a:pt x="2935" y="356"/>
                  </a:lnTo>
                  <a:lnTo>
                    <a:pt x="2966" y="356"/>
                  </a:lnTo>
                  <a:lnTo>
                    <a:pt x="2965" y="404"/>
                  </a:lnTo>
                  <a:lnTo>
                    <a:pt x="2970" y="448"/>
                  </a:lnTo>
                  <a:lnTo>
                    <a:pt x="2982" y="489"/>
                  </a:lnTo>
                  <a:lnTo>
                    <a:pt x="2997" y="529"/>
                  </a:lnTo>
                  <a:lnTo>
                    <a:pt x="3013" y="568"/>
                  </a:lnTo>
                  <a:lnTo>
                    <a:pt x="3031" y="607"/>
                  </a:lnTo>
                  <a:lnTo>
                    <a:pt x="3046" y="645"/>
                  </a:lnTo>
                  <a:lnTo>
                    <a:pt x="3060" y="689"/>
                  </a:lnTo>
                  <a:lnTo>
                    <a:pt x="3098" y="928"/>
                  </a:lnTo>
                  <a:lnTo>
                    <a:pt x="3111" y="1171"/>
                  </a:lnTo>
                  <a:lnTo>
                    <a:pt x="3103" y="1416"/>
                  </a:lnTo>
                  <a:lnTo>
                    <a:pt x="3081" y="1666"/>
                  </a:lnTo>
                  <a:lnTo>
                    <a:pt x="3048" y="1913"/>
                  </a:lnTo>
                  <a:lnTo>
                    <a:pt x="3014" y="2161"/>
                  </a:lnTo>
                  <a:lnTo>
                    <a:pt x="2980" y="2406"/>
                  </a:lnTo>
                  <a:lnTo>
                    <a:pt x="2956" y="2651"/>
                  </a:lnTo>
                  <a:lnTo>
                    <a:pt x="2925" y="2748"/>
                  </a:lnTo>
                  <a:lnTo>
                    <a:pt x="2896" y="2847"/>
                  </a:lnTo>
                  <a:lnTo>
                    <a:pt x="2868" y="2945"/>
                  </a:lnTo>
                  <a:lnTo>
                    <a:pt x="2842" y="3047"/>
                  </a:lnTo>
                  <a:lnTo>
                    <a:pt x="2816" y="3147"/>
                  </a:lnTo>
                  <a:lnTo>
                    <a:pt x="2790" y="3248"/>
                  </a:lnTo>
                  <a:lnTo>
                    <a:pt x="2764" y="3349"/>
                  </a:lnTo>
                  <a:lnTo>
                    <a:pt x="2738" y="3451"/>
                  </a:lnTo>
                  <a:lnTo>
                    <a:pt x="2633" y="3673"/>
                  </a:lnTo>
                  <a:lnTo>
                    <a:pt x="2513" y="3897"/>
                  </a:lnTo>
                  <a:lnTo>
                    <a:pt x="2375" y="4114"/>
                  </a:lnTo>
                  <a:lnTo>
                    <a:pt x="2221" y="4321"/>
                  </a:lnTo>
                  <a:lnTo>
                    <a:pt x="2046" y="4507"/>
                  </a:lnTo>
                  <a:lnTo>
                    <a:pt x="1852" y="4671"/>
                  </a:lnTo>
                  <a:lnTo>
                    <a:pt x="1637" y="4805"/>
                  </a:lnTo>
                  <a:lnTo>
                    <a:pt x="1401" y="4904"/>
                  </a:lnTo>
                  <a:lnTo>
                    <a:pt x="1261" y="4918"/>
                  </a:lnTo>
                  <a:lnTo>
                    <a:pt x="1131" y="4912"/>
                  </a:lnTo>
                  <a:lnTo>
                    <a:pt x="1004" y="4885"/>
                  </a:lnTo>
                  <a:lnTo>
                    <a:pt x="886" y="4842"/>
                  </a:lnTo>
                  <a:lnTo>
                    <a:pt x="772" y="4781"/>
                  </a:lnTo>
                  <a:lnTo>
                    <a:pt x="664" y="4708"/>
                  </a:lnTo>
                  <a:lnTo>
                    <a:pt x="562" y="4624"/>
                  </a:lnTo>
                  <a:lnTo>
                    <a:pt x="467" y="4531"/>
                  </a:lnTo>
                  <a:lnTo>
                    <a:pt x="354" y="4383"/>
                  </a:lnTo>
                  <a:lnTo>
                    <a:pt x="268" y="4228"/>
                  </a:lnTo>
                  <a:lnTo>
                    <a:pt x="202" y="4063"/>
                  </a:lnTo>
                  <a:lnTo>
                    <a:pt x="152" y="3894"/>
                  </a:lnTo>
                  <a:lnTo>
                    <a:pt x="111" y="3720"/>
                  </a:lnTo>
                  <a:lnTo>
                    <a:pt x="77" y="3544"/>
                  </a:lnTo>
                  <a:lnTo>
                    <a:pt x="45" y="3366"/>
                  </a:lnTo>
                  <a:lnTo>
                    <a:pt x="11" y="3192"/>
                  </a:lnTo>
                  <a:lnTo>
                    <a:pt x="2" y="3075"/>
                  </a:lnTo>
                  <a:lnTo>
                    <a:pt x="0" y="2964"/>
                  </a:lnTo>
                  <a:lnTo>
                    <a:pt x="0" y="2852"/>
                  </a:lnTo>
                  <a:lnTo>
                    <a:pt x="5" y="2747"/>
                  </a:lnTo>
                  <a:lnTo>
                    <a:pt x="15" y="2640"/>
                  </a:lnTo>
                  <a:lnTo>
                    <a:pt x="33" y="2533"/>
                  </a:lnTo>
                  <a:lnTo>
                    <a:pt x="59" y="2426"/>
                  </a:lnTo>
                  <a:lnTo>
                    <a:pt x="94" y="2319"/>
                  </a:lnTo>
                  <a:lnTo>
                    <a:pt x="101" y="2184"/>
                  </a:lnTo>
                  <a:lnTo>
                    <a:pt x="118" y="2050"/>
                  </a:lnTo>
                  <a:lnTo>
                    <a:pt x="140" y="1913"/>
                  </a:lnTo>
                  <a:lnTo>
                    <a:pt x="170" y="1778"/>
                  </a:lnTo>
                  <a:lnTo>
                    <a:pt x="199" y="1642"/>
                  </a:lnTo>
                  <a:lnTo>
                    <a:pt x="233" y="1507"/>
                  </a:lnTo>
                  <a:lnTo>
                    <a:pt x="267" y="1371"/>
                  </a:lnTo>
                  <a:lnTo>
                    <a:pt x="301" y="1239"/>
                  </a:lnTo>
                  <a:lnTo>
                    <a:pt x="339" y="1118"/>
                  </a:lnTo>
                  <a:lnTo>
                    <a:pt x="372" y="995"/>
                  </a:lnTo>
                  <a:lnTo>
                    <a:pt x="403" y="870"/>
                  </a:lnTo>
                  <a:lnTo>
                    <a:pt x="437" y="748"/>
                  </a:lnTo>
                  <a:lnTo>
                    <a:pt x="475" y="627"/>
                  </a:lnTo>
                  <a:lnTo>
                    <a:pt x="521" y="511"/>
                  </a:lnTo>
                  <a:lnTo>
                    <a:pt x="579" y="401"/>
                  </a:lnTo>
                  <a:lnTo>
                    <a:pt x="654" y="304"/>
                  </a:lnTo>
                  <a:lnTo>
                    <a:pt x="682" y="293"/>
                  </a:lnTo>
                  <a:lnTo>
                    <a:pt x="710" y="277"/>
                  </a:lnTo>
                  <a:lnTo>
                    <a:pt x="737" y="259"/>
                  </a:lnTo>
                  <a:lnTo>
                    <a:pt x="763" y="244"/>
                  </a:lnTo>
                  <a:lnTo>
                    <a:pt x="789" y="228"/>
                  </a:lnTo>
                  <a:lnTo>
                    <a:pt x="818" y="217"/>
                  </a:lnTo>
                  <a:lnTo>
                    <a:pt x="848" y="214"/>
                  </a:lnTo>
                  <a:lnTo>
                    <a:pt x="882" y="221"/>
                  </a:lnTo>
                  <a:lnTo>
                    <a:pt x="921" y="192"/>
                  </a:lnTo>
                  <a:lnTo>
                    <a:pt x="963" y="163"/>
                  </a:lnTo>
                  <a:lnTo>
                    <a:pt x="1008" y="135"/>
                  </a:lnTo>
                  <a:lnTo>
                    <a:pt x="1055" y="113"/>
                  </a:lnTo>
                  <a:lnTo>
                    <a:pt x="1101" y="93"/>
                  </a:lnTo>
                  <a:lnTo>
                    <a:pt x="1149" y="83"/>
                  </a:lnTo>
                  <a:lnTo>
                    <a:pt x="1197" y="83"/>
                  </a:lnTo>
                  <a:lnTo>
                    <a:pt x="1244" y="97"/>
                  </a:lnTo>
                  <a:lnTo>
                    <a:pt x="1287" y="73"/>
                  </a:lnTo>
                  <a:lnTo>
                    <a:pt x="1329" y="54"/>
                  </a:lnTo>
                  <a:lnTo>
                    <a:pt x="1372" y="35"/>
                  </a:lnTo>
                  <a:lnTo>
                    <a:pt x="1417" y="23"/>
                  </a:lnTo>
                  <a:lnTo>
                    <a:pt x="1461" y="11"/>
                  </a:lnTo>
                  <a:lnTo>
                    <a:pt x="1509" y="4"/>
                  </a:lnTo>
                  <a:lnTo>
                    <a:pt x="1557" y="0"/>
                  </a:lnTo>
                  <a:lnTo>
                    <a:pt x="1607" y="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472960" y="1161000"/>
              <a:ext cx="9000" cy="36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4815600">
              <a:off x="8248320" y="1186560"/>
              <a:ext cx="75960" cy="88200"/>
            </a:xfrm>
            <a:custGeom>
              <a:avLst/>
              <a:gdLst/>
              <a:ahLst/>
              <a:rect l="l" t="t" r="r" b="b"/>
              <a:pathLst>
                <a:path w="488" h="569">
                  <a:moveTo>
                    <a:pt x="488" y="70"/>
                  </a:moveTo>
                  <a:lnTo>
                    <a:pt x="475" y="75"/>
                  </a:lnTo>
                  <a:lnTo>
                    <a:pt x="464" y="82"/>
                  </a:lnTo>
                  <a:lnTo>
                    <a:pt x="451" y="90"/>
                  </a:lnTo>
                  <a:lnTo>
                    <a:pt x="440" y="99"/>
                  </a:lnTo>
                  <a:lnTo>
                    <a:pt x="427" y="106"/>
                  </a:lnTo>
                  <a:lnTo>
                    <a:pt x="416" y="111"/>
                  </a:lnTo>
                  <a:lnTo>
                    <a:pt x="405" y="113"/>
                  </a:lnTo>
                  <a:lnTo>
                    <a:pt x="393" y="113"/>
                  </a:lnTo>
                  <a:lnTo>
                    <a:pt x="347" y="165"/>
                  </a:lnTo>
                  <a:lnTo>
                    <a:pt x="302" y="213"/>
                  </a:lnTo>
                  <a:lnTo>
                    <a:pt x="256" y="256"/>
                  </a:lnTo>
                  <a:lnTo>
                    <a:pt x="213" y="300"/>
                  </a:lnTo>
                  <a:lnTo>
                    <a:pt x="173" y="344"/>
                  </a:lnTo>
                  <a:lnTo>
                    <a:pt x="140" y="396"/>
                  </a:lnTo>
                  <a:lnTo>
                    <a:pt x="116" y="455"/>
                  </a:lnTo>
                  <a:lnTo>
                    <a:pt x="104" y="528"/>
                  </a:lnTo>
                  <a:lnTo>
                    <a:pt x="104" y="569"/>
                  </a:lnTo>
                  <a:lnTo>
                    <a:pt x="0" y="569"/>
                  </a:lnTo>
                  <a:lnTo>
                    <a:pt x="1" y="534"/>
                  </a:lnTo>
                  <a:lnTo>
                    <a:pt x="9" y="500"/>
                  </a:lnTo>
                  <a:lnTo>
                    <a:pt x="19" y="466"/>
                  </a:lnTo>
                  <a:lnTo>
                    <a:pt x="35" y="434"/>
                  </a:lnTo>
                  <a:lnTo>
                    <a:pt x="50" y="400"/>
                  </a:lnTo>
                  <a:lnTo>
                    <a:pt x="69" y="366"/>
                  </a:lnTo>
                  <a:lnTo>
                    <a:pt x="85" y="332"/>
                  </a:lnTo>
                  <a:lnTo>
                    <a:pt x="104" y="298"/>
                  </a:lnTo>
                  <a:lnTo>
                    <a:pt x="125" y="265"/>
                  </a:lnTo>
                  <a:lnTo>
                    <a:pt x="146" y="229"/>
                  </a:lnTo>
                  <a:lnTo>
                    <a:pt x="166" y="193"/>
                  </a:lnTo>
                  <a:lnTo>
                    <a:pt x="187" y="158"/>
                  </a:lnTo>
                  <a:lnTo>
                    <a:pt x="208" y="120"/>
                  </a:lnTo>
                  <a:lnTo>
                    <a:pt x="229" y="84"/>
                  </a:lnTo>
                  <a:lnTo>
                    <a:pt x="253" y="49"/>
                  </a:lnTo>
                  <a:lnTo>
                    <a:pt x="280" y="18"/>
                  </a:lnTo>
                  <a:lnTo>
                    <a:pt x="303" y="10"/>
                  </a:lnTo>
                  <a:lnTo>
                    <a:pt x="333" y="4"/>
                  </a:lnTo>
                  <a:lnTo>
                    <a:pt x="362" y="0"/>
                  </a:lnTo>
                  <a:lnTo>
                    <a:pt x="395" y="1"/>
                  </a:lnTo>
                  <a:lnTo>
                    <a:pt x="423" y="6"/>
                  </a:lnTo>
                  <a:lnTo>
                    <a:pt x="450" y="20"/>
                  </a:lnTo>
                  <a:lnTo>
                    <a:pt x="471" y="39"/>
                  </a:lnTo>
                  <a:lnTo>
                    <a:pt x="48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18184200">
              <a:off x="8395200" y="1198800"/>
              <a:ext cx="77400" cy="84960"/>
            </a:xfrm>
            <a:custGeom>
              <a:avLst/>
              <a:gdLst/>
              <a:ahLst/>
              <a:rect l="l" t="t" r="r" b="b"/>
              <a:pathLst>
                <a:path w="362" h="511">
                  <a:moveTo>
                    <a:pt x="156" y="61"/>
                  </a:moveTo>
                  <a:lnTo>
                    <a:pt x="180" y="88"/>
                  </a:lnTo>
                  <a:lnTo>
                    <a:pt x="208" y="114"/>
                  </a:lnTo>
                  <a:lnTo>
                    <a:pt x="237" y="136"/>
                  </a:lnTo>
                  <a:lnTo>
                    <a:pt x="263" y="159"/>
                  </a:lnTo>
                  <a:lnTo>
                    <a:pt x="284" y="181"/>
                  </a:lnTo>
                  <a:lnTo>
                    <a:pt x="300" y="208"/>
                  </a:lnTo>
                  <a:lnTo>
                    <a:pt x="305" y="239"/>
                  </a:lnTo>
                  <a:lnTo>
                    <a:pt x="301" y="280"/>
                  </a:lnTo>
                  <a:lnTo>
                    <a:pt x="312" y="306"/>
                  </a:lnTo>
                  <a:lnTo>
                    <a:pt x="325" y="336"/>
                  </a:lnTo>
                  <a:lnTo>
                    <a:pt x="338" y="367"/>
                  </a:lnTo>
                  <a:lnTo>
                    <a:pt x="350" y="398"/>
                  </a:lnTo>
                  <a:lnTo>
                    <a:pt x="357" y="426"/>
                  </a:lnTo>
                  <a:lnTo>
                    <a:pt x="362" y="456"/>
                  </a:lnTo>
                  <a:lnTo>
                    <a:pt x="360" y="482"/>
                  </a:lnTo>
                  <a:lnTo>
                    <a:pt x="353" y="508"/>
                  </a:lnTo>
                  <a:lnTo>
                    <a:pt x="335" y="511"/>
                  </a:lnTo>
                  <a:lnTo>
                    <a:pt x="325" y="509"/>
                  </a:lnTo>
                  <a:lnTo>
                    <a:pt x="318" y="502"/>
                  </a:lnTo>
                  <a:lnTo>
                    <a:pt x="315" y="492"/>
                  </a:lnTo>
                  <a:lnTo>
                    <a:pt x="311" y="480"/>
                  </a:lnTo>
                  <a:lnTo>
                    <a:pt x="310" y="467"/>
                  </a:lnTo>
                  <a:lnTo>
                    <a:pt x="305" y="454"/>
                  </a:lnTo>
                  <a:lnTo>
                    <a:pt x="301" y="446"/>
                  </a:lnTo>
                  <a:lnTo>
                    <a:pt x="282" y="419"/>
                  </a:lnTo>
                  <a:lnTo>
                    <a:pt x="262" y="397"/>
                  </a:lnTo>
                  <a:lnTo>
                    <a:pt x="238" y="375"/>
                  </a:lnTo>
                  <a:lnTo>
                    <a:pt x="217" y="356"/>
                  </a:lnTo>
                  <a:lnTo>
                    <a:pt x="194" y="333"/>
                  </a:lnTo>
                  <a:lnTo>
                    <a:pt x="176" y="311"/>
                  </a:lnTo>
                  <a:lnTo>
                    <a:pt x="162" y="285"/>
                  </a:lnTo>
                  <a:lnTo>
                    <a:pt x="156" y="259"/>
                  </a:lnTo>
                  <a:lnTo>
                    <a:pt x="130" y="256"/>
                  </a:lnTo>
                  <a:lnTo>
                    <a:pt x="116" y="242"/>
                  </a:lnTo>
                  <a:lnTo>
                    <a:pt x="107" y="222"/>
                  </a:lnTo>
                  <a:lnTo>
                    <a:pt x="103" y="199"/>
                  </a:lnTo>
                  <a:lnTo>
                    <a:pt x="96" y="177"/>
                  </a:lnTo>
                  <a:lnTo>
                    <a:pt x="87" y="163"/>
                  </a:lnTo>
                  <a:lnTo>
                    <a:pt x="69" y="157"/>
                  </a:lnTo>
                  <a:lnTo>
                    <a:pt x="42" y="166"/>
                  </a:lnTo>
                  <a:lnTo>
                    <a:pt x="27" y="154"/>
                  </a:lnTo>
                  <a:lnTo>
                    <a:pt x="17" y="142"/>
                  </a:lnTo>
                  <a:lnTo>
                    <a:pt x="9" y="126"/>
                  </a:lnTo>
                  <a:lnTo>
                    <a:pt x="4" y="111"/>
                  </a:lnTo>
                  <a:lnTo>
                    <a:pt x="0" y="91"/>
                  </a:lnTo>
                  <a:lnTo>
                    <a:pt x="0" y="74"/>
                  </a:lnTo>
                  <a:lnTo>
                    <a:pt x="0" y="56"/>
                  </a:lnTo>
                  <a:lnTo>
                    <a:pt x="0" y="40"/>
                  </a:lnTo>
                  <a:lnTo>
                    <a:pt x="42" y="0"/>
                  </a:lnTo>
                  <a:lnTo>
                    <a:pt x="54" y="8"/>
                  </a:lnTo>
                  <a:lnTo>
                    <a:pt x="65" y="21"/>
                  </a:lnTo>
                  <a:lnTo>
                    <a:pt x="78" y="33"/>
                  </a:lnTo>
                  <a:lnTo>
                    <a:pt x="90" y="46"/>
                  </a:lnTo>
                  <a:lnTo>
                    <a:pt x="103" y="56"/>
                  </a:lnTo>
                  <a:lnTo>
                    <a:pt x="120" y="63"/>
                  </a:lnTo>
                  <a:lnTo>
                    <a:pt x="137" y="64"/>
                  </a:lnTo>
                  <a:lnTo>
                    <a:pt x="15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199000" y="1250280"/>
              <a:ext cx="138960" cy="190080"/>
            </a:xfrm>
            <a:custGeom>
              <a:avLst/>
              <a:gdLst/>
              <a:ahLst/>
              <a:rect l="l" t="t" r="r" b="b"/>
              <a:pathLst>
                <a:path w="897" h="1510">
                  <a:moveTo>
                    <a:pt x="587" y="0"/>
                  </a:moveTo>
                  <a:lnTo>
                    <a:pt x="575" y="5"/>
                  </a:lnTo>
                  <a:lnTo>
                    <a:pt x="562" y="12"/>
                  </a:lnTo>
                  <a:lnTo>
                    <a:pt x="548" y="19"/>
                  </a:lnTo>
                  <a:lnTo>
                    <a:pt x="535" y="26"/>
                  </a:lnTo>
                  <a:lnTo>
                    <a:pt x="521" y="32"/>
                  </a:lnTo>
                  <a:lnTo>
                    <a:pt x="507" y="41"/>
                  </a:lnTo>
                  <a:lnTo>
                    <a:pt x="495" y="49"/>
                  </a:lnTo>
                  <a:lnTo>
                    <a:pt x="483" y="62"/>
                  </a:lnTo>
                  <a:lnTo>
                    <a:pt x="512" y="52"/>
                  </a:lnTo>
                  <a:lnTo>
                    <a:pt x="544" y="48"/>
                  </a:lnTo>
                  <a:lnTo>
                    <a:pt x="578" y="48"/>
                  </a:lnTo>
                  <a:lnTo>
                    <a:pt x="613" y="52"/>
                  </a:lnTo>
                  <a:lnTo>
                    <a:pt x="647" y="60"/>
                  </a:lnTo>
                  <a:lnTo>
                    <a:pt x="682" y="74"/>
                  </a:lnTo>
                  <a:lnTo>
                    <a:pt x="714" y="91"/>
                  </a:lnTo>
                  <a:lnTo>
                    <a:pt x="744" y="114"/>
                  </a:lnTo>
                  <a:lnTo>
                    <a:pt x="797" y="187"/>
                  </a:lnTo>
                  <a:lnTo>
                    <a:pt x="838" y="269"/>
                  </a:lnTo>
                  <a:lnTo>
                    <a:pt x="866" y="356"/>
                  </a:lnTo>
                  <a:lnTo>
                    <a:pt x="886" y="449"/>
                  </a:lnTo>
                  <a:lnTo>
                    <a:pt x="894" y="545"/>
                  </a:lnTo>
                  <a:lnTo>
                    <a:pt x="897" y="643"/>
                  </a:lnTo>
                  <a:lnTo>
                    <a:pt x="894" y="742"/>
                  </a:lnTo>
                  <a:lnTo>
                    <a:pt x="888" y="840"/>
                  </a:lnTo>
                  <a:lnTo>
                    <a:pt x="866" y="933"/>
                  </a:lnTo>
                  <a:lnTo>
                    <a:pt x="842" y="1027"/>
                  </a:lnTo>
                  <a:lnTo>
                    <a:pt x="811" y="1119"/>
                  </a:lnTo>
                  <a:lnTo>
                    <a:pt x="776" y="1209"/>
                  </a:lnTo>
                  <a:lnTo>
                    <a:pt x="728" y="1291"/>
                  </a:lnTo>
                  <a:lnTo>
                    <a:pt x="670" y="1365"/>
                  </a:lnTo>
                  <a:lnTo>
                    <a:pt x="600" y="1430"/>
                  </a:lnTo>
                  <a:lnTo>
                    <a:pt x="516" y="1485"/>
                  </a:lnTo>
                  <a:lnTo>
                    <a:pt x="465" y="1502"/>
                  </a:lnTo>
                  <a:lnTo>
                    <a:pt x="416" y="1510"/>
                  </a:lnTo>
                  <a:lnTo>
                    <a:pt x="367" y="1509"/>
                  </a:lnTo>
                  <a:lnTo>
                    <a:pt x="322" y="1502"/>
                  </a:lnTo>
                  <a:lnTo>
                    <a:pt x="275" y="1485"/>
                  </a:lnTo>
                  <a:lnTo>
                    <a:pt x="232" y="1465"/>
                  </a:lnTo>
                  <a:lnTo>
                    <a:pt x="189" y="1440"/>
                  </a:lnTo>
                  <a:lnTo>
                    <a:pt x="151" y="1412"/>
                  </a:lnTo>
                  <a:lnTo>
                    <a:pt x="71" y="1308"/>
                  </a:lnTo>
                  <a:lnTo>
                    <a:pt x="23" y="1192"/>
                  </a:lnTo>
                  <a:lnTo>
                    <a:pt x="1" y="1064"/>
                  </a:lnTo>
                  <a:lnTo>
                    <a:pt x="0" y="932"/>
                  </a:lnTo>
                  <a:lnTo>
                    <a:pt x="12" y="795"/>
                  </a:lnTo>
                  <a:lnTo>
                    <a:pt x="36" y="661"/>
                  </a:lnTo>
                  <a:lnTo>
                    <a:pt x="63" y="533"/>
                  </a:lnTo>
                  <a:lnTo>
                    <a:pt x="90" y="415"/>
                  </a:lnTo>
                  <a:lnTo>
                    <a:pt x="123" y="336"/>
                  </a:lnTo>
                  <a:lnTo>
                    <a:pt x="167" y="262"/>
                  </a:lnTo>
                  <a:lnTo>
                    <a:pt x="219" y="191"/>
                  </a:lnTo>
                  <a:lnTo>
                    <a:pt x="279" y="129"/>
                  </a:lnTo>
                  <a:lnTo>
                    <a:pt x="346" y="76"/>
                  </a:lnTo>
                  <a:lnTo>
                    <a:pt x="420" y="35"/>
                  </a:lnTo>
                  <a:lnTo>
                    <a:pt x="499" y="8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256600" y="1265040"/>
              <a:ext cx="243360" cy="365760"/>
            </a:xfrm>
            <a:custGeom>
              <a:avLst/>
              <a:gdLst/>
              <a:ahLst/>
              <a:rect l="l" t="t" r="r" b="b"/>
              <a:pathLst>
                <a:path w="1563" h="2664">
                  <a:moveTo>
                    <a:pt x="1558" y="296"/>
                  </a:moveTo>
                  <a:lnTo>
                    <a:pt x="1563" y="449"/>
                  </a:lnTo>
                  <a:lnTo>
                    <a:pt x="1558" y="603"/>
                  </a:lnTo>
                  <a:lnTo>
                    <a:pt x="1539" y="751"/>
                  </a:lnTo>
                  <a:lnTo>
                    <a:pt x="1508" y="896"/>
                  </a:lnTo>
                  <a:lnTo>
                    <a:pt x="1459" y="1031"/>
                  </a:lnTo>
                  <a:lnTo>
                    <a:pt x="1394" y="1160"/>
                  </a:lnTo>
                  <a:lnTo>
                    <a:pt x="1309" y="1279"/>
                  </a:lnTo>
                  <a:lnTo>
                    <a:pt x="1204" y="1387"/>
                  </a:lnTo>
                  <a:lnTo>
                    <a:pt x="1171" y="1397"/>
                  </a:lnTo>
                  <a:lnTo>
                    <a:pt x="1134" y="1405"/>
                  </a:lnTo>
                  <a:lnTo>
                    <a:pt x="1098" y="1410"/>
                  </a:lnTo>
                  <a:lnTo>
                    <a:pt x="1061" y="1412"/>
                  </a:lnTo>
                  <a:lnTo>
                    <a:pt x="1023" y="1410"/>
                  </a:lnTo>
                  <a:lnTo>
                    <a:pt x="991" y="1402"/>
                  </a:lnTo>
                  <a:lnTo>
                    <a:pt x="960" y="1391"/>
                  </a:lnTo>
                  <a:lnTo>
                    <a:pt x="934" y="1376"/>
                  </a:lnTo>
                  <a:lnTo>
                    <a:pt x="908" y="1362"/>
                  </a:lnTo>
                  <a:lnTo>
                    <a:pt x="882" y="1345"/>
                  </a:lnTo>
                  <a:lnTo>
                    <a:pt x="860" y="1324"/>
                  </a:lnTo>
                  <a:lnTo>
                    <a:pt x="840" y="1304"/>
                  </a:lnTo>
                  <a:lnTo>
                    <a:pt x="820" y="1280"/>
                  </a:lnTo>
                  <a:lnTo>
                    <a:pt x="805" y="1256"/>
                  </a:lnTo>
                  <a:lnTo>
                    <a:pt x="790" y="1232"/>
                  </a:lnTo>
                  <a:lnTo>
                    <a:pt x="778" y="1210"/>
                  </a:lnTo>
                  <a:lnTo>
                    <a:pt x="798" y="1346"/>
                  </a:lnTo>
                  <a:lnTo>
                    <a:pt x="833" y="1487"/>
                  </a:lnTo>
                  <a:lnTo>
                    <a:pt x="873" y="1631"/>
                  </a:lnTo>
                  <a:lnTo>
                    <a:pt x="906" y="1774"/>
                  </a:lnTo>
                  <a:lnTo>
                    <a:pt x="925" y="1915"/>
                  </a:lnTo>
                  <a:lnTo>
                    <a:pt x="922" y="2057"/>
                  </a:lnTo>
                  <a:lnTo>
                    <a:pt x="887" y="2195"/>
                  </a:lnTo>
                  <a:lnTo>
                    <a:pt x="811" y="2332"/>
                  </a:lnTo>
                  <a:lnTo>
                    <a:pt x="801" y="2344"/>
                  </a:lnTo>
                  <a:lnTo>
                    <a:pt x="791" y="2354"/>
                  </a:lnTo>
                  <a:lnTo>
                    <a:pt x="778" y="2363"/>
                  </a:lnTo>
                  <a:lnTo>
                    <a:pt x="767" y="2372"/>
                  </a:lnTo>
                  <a:lnTo>
                    <a:pt x="753" y="2380"/>
                  </a:lnTo>
                  <a:lnTo>
                    <a:pt x="740" y="2389"/>
                  </a:lnTo>
                  <a:lnTo>
                    <a:pt x="728" y="2399"/>
                  </a:lnTo>
                  <a:lnTo>
                    <a:pt x="716" y="2415"/>
                  </a:lnTo>
                  <a:lnTo>
                    <a:pt x="701" y="2449"/>
                  </a:lnTo>
                  <a:lnTo>
                    <a:pt x="681" y="2485"/>
                  </a:lnTo>
                  <a:lnTo>
                    <a:pt x="657" y="2519"/>
                  </a:lnTo>
                  <a:lnTo>
                    <a:pt x="629" y="2553"/>
                  </a:lnTo>
                  <a:lnTo>
                    <a:pt x="597" y="2582"/>
                  </a:lnTo>
                  <a:lnTo>
                    <a:pt x="563" y="2610"/>
                  </a:lnTo>
                  <a:lnTo>
                    <a:pt x="525" y="2633"/>
                  </a:lnTo>
                  <a:lnTo>
                    <a:pt x="489" y="2653"/>
                  </a:lnTo>
                  <a:lnTo>
                    <a:pt x="434" y="2660"/>
                  </a:lnTo>
                  <a:lnTo>
                    <a:pt x="380" y="2664"/>
                  </a:lnTo>
                  <a:lnTo>
                    <a:pt x="330" y="2658"/>
                  </a:lnTo>
                  <a:lnTo>
                    <a:pt x="280" y="2650"/>
                  </a:lnTo>
                  <a:lnTo>
                    <a:pt x="233" y="2632"/>
                  </a:lnTo>
                  <a:lnTo>
                    <a:pt x="188" y="2608"/>
                  </a:lnTo>
                  <a:lnTo>
                    <a:pt x="144" y="2577"/>
                  </a:lnTo>
                  <a:lnTo>
                    <a:pt x="105" y="2539"/>
                  </a:lnTo>
                  <a:lnTo>
                    <a:pt x="81" y="2489"/>
                  </a:lnTo>
                  <a:lnTo>
                    <a:pt x="61" y="2440"/>
                  </a:lnTo>
                  <a:lnTo>
                    <a:pt x="43" y="2387"/>
                  </a:lnTo>
                  <a:lnTo>
                    <a:pt x="29" y="2334"/>
                  </a:lnTo>
                  <a:lnTo>
                    <a:pt x="16" y="2280"/>
                  </a:lnTo>
                  <a:lnTo>
                    <a:pt x="7" y="2226"/>
                  </a:lnTo>
                  <a:lnTo>
                    <a:pt x="2" y="2174"/>
                  </a:lnTo>
                  <a:lnTo>
                    <a:pt x="0" y="2123"/>
                  </a:lnTo>
                  <a:lnTo>
                    <a:pt x="31" y="2092"/>
                  </a:lnTo>
                  <a:lnTo>
                    <a:pt x="48" y="2142"/>
                  </a:lnTo>
                  <a:lnTo>
                    <a:pt x="72" y="2197"/>
                  </a:lnTo>
                  <a:lnTo>
                    <a:pt x="102" y="2253"/>
                  </a:lnTo>
                  <a:lnTo>
                    <a:pt x="137" y="2309"/>
                  </a:lnTo>
                  <a:lnTo>
                    <a:pt x="178" y="2358"/>
                  </a:lnTo>
                  <a:lnTo>
                    <a:pt x="228" y="2402"/>
                  </a:lnTo>
                  <a:lnTo>
                    <a:pt x="286" y="2434"/>
                  </a:lnTo>
                  <a:lnTo>
                    <a:pt x="353" y="2456"/>
                  </a:lnTo>
                  <a:lnTo>
                    <a:pt x="404" y="2444"/>
                  </a:lnTo>
                  <a:lnTo>
                    <a:pt x="455" y="2439"/>
                  </a:lnTo>
                  <a:lnTo>
                    <a:pt x="503" y="2432"/>
                  </a:lnTo>
                  <a:lnTo>
                    <a:pt x="549" y="2426"/>
                  </a:lnTo>
                  <a:lnTo>
                    <a:pt x="593" y="2413"/>
                  </a:lnTo>
                  <a:lnTo>
                    <a:pt x="635" y="2398"/>
                  </a:lnTo>
                  <a:lnTo>
                    <a:pt x="676" y="2374"/>
                  </a:lnTo>
                  <a:lnTo>
                    <a:pt x="716" y="2342"/>
                  </a:lnTo>
                  <a:lnTo>
                    <a:pt x="806" y="2192"/>
                  </a:lnTo>
                  <a:lnTo>
                    <a:pt x="846" y="2036"/>
                  </a:lnTo>
                  <a:lnTo>
                    <a:pt x="846" y="1876"/>
                  </a:lnTo>
                  <a:lnTo>
                    <a:pt x="820" y="1711"/>
                  </a:lnTo>
                  <a:lnTo>
                    <a:pt x="778" y="1543"/>
                  </a:lnTo>
                  <a:lnTo>
                    <a:pt x="735" y="1376"/>
                  </a:lnTo>
                  <a:lnTo>
                    <a:pt x="700" y="1207"/>
                  </a:lnTo>
                  <a:lnTo>
                    <a:pt x="685" y="1043"/>
                  </a:lnTo>
                  <a:lnTo>
                    <a:pt x="694" y="922"/>
                  </a:lnTo>
                  <a:lnTo>
                    <a:pt x="708" y="804"/>
                  </a:lnTo>
                  <a:lnTo>
                    <a:pt x="726" y="686"/>
                  </a:lnTo>
                  <a:lnTo>
                    <a:pt x="752" y="570"/>
                  </a:lnTo>
                  <a:lnTo>
                    <a:pt x="780" y="455"/>
                  </a:lnTo>
                  <a:lnTo>
                    <a:pt x="815" y="344"/>
                  </a:lnTo>
                  <a:lnTo>
                    <a:pt x="856" y="234"/>
                  </a:lnTo>
                  <a:lnTo>
                    <a:pt x="903" y="130"/>
                  </a:lnTo>
                  <a:lnTo>
                    <a:pt x="954" y="100"/>
                  </a:lnTo>
                  <a:lnTo>
                    <a:pt x="1010" y="71"/>
                  </a:lnTo>
                  <a:lnTo>
                    <a:pt x="1068" y="42"/>
                  </a:lnTo>
                  <a:lnTo>
                    <a:pt x="1130" y="20"/>
                  </a:lnTo>
                  <a:lnTo>
                    <a:pt x="1190" y="4"/>
                  </a:lnTo>
                  <a:lnTo>
                    <a:pt x="1254" y="0"/>
                  </a:lnTo>
                  <a:lnTo>
                    <a:pt x="1317" y="10"/>
                  </a:lnTo>
                  <a:lnTo>
                    <a:pt x="1380" y="37"/>
                  </a:lnTo>
                  <a:lnTo>
                    <a:pt x="1417" y="58"/>
                  </a:lnTo>
                  <a:lnTo>
                    <a:pt x="1446" y="86"/>
                  </a:lnTo>
                  <a:lnTo>
                    <a:pt x="1469" y="117"/>
                  </a:lnTo>
                  <a:lnTo>
                    <a:pt x="1487" y="154"/>
                  </a:lnTo>
                  <a:lnTo>
                    <a:pt x="1503" y="189"/>
                  </a:lnTo>
                  <a:lnTo>
                    <a:pt x="1518" y="227"/>
                  </a:lnTo>
                  <a:lnTo>
                    <a:pt x="1535" y="262"/>
                  </a:lnTo>
                  <a:lnTo>
                    <a:pt x="155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211600" y="1267560"/>
              <a:ext cx="116280" cy="163440"/>
            </a:xfrm>
            <a:custGeom>
              <a:avLst/>
              <a:gdLst/>
              <a:ahLst/>
              <a:rect l="l" t="t" r="r" b="b"/>
              <a:pathLst>
                <a:path w="750" h="1299">
                  <a:moveTo>
                    <a:pt x="750" y="540"/>
                  </a:moveTo>
                  <a:lnTo>
                    <a:pt x="740" y="649"/>
                  </a:lnTo>
                  <a:lnTo>
                    <a:pt x="726" y="761"/>
                  </a:lnTo>
                  <a:lnTo>
                    <a:pt x="703" y="870"/>
                  </a:lnTo>
                  <a:lnTo>
                    <a:pt x="672" y="977"/>
                  </a:lnTo>
                  <a:lnTo>
                    <a:pt x="627" y="1074"/>
                  </a:lnTo>
                  <a:lnTo>
                    <a:pt x="567" y="1163"/>
                  </a:lnTo>
                  <a:lnTo>
                    <a:pt x="487" y="1237"/>
                  </a:lnTo>
                  <a:lnTo>
                    <a:pt x="387" y="1298"/>
                  </a:lnTo>
                  <a:lnTo>
                    <a:pt x="347" y="1299"/>
                  </a:lnTo>
                  <a:lnTo>
                    <a:pt x="311" y="1299"/>
                  </a:lnTo>
                  <a:lnTo>
                    <a:pt x="277" y="1296"/>
                  </a:lnTo>
                  <a:lnTo>
                    <a:pt x="245" y="1292"/>
                  </a:lnTo>
                  <a:lnTo>
                    <a:pt x="212" y="1281"/>
                  </a:lnTo>
                  <a:lnTo>
                    <a:pt x="183" y="1267"/>
                  </a:lnTo>
                  <a:lnTo>
                    <a:pt x="153" y="1249"/>
                  </a:lnTo>
                  <a:lnTo>
                    <a:pt x="126" y="1225"/>
                  </a:lnTo>
                  <a:lnTo>
                    <a:pt x="56" y="1112"/>
                  </a:lnTo>
                  <a:lnTo>
                    <a:pt x="17" y="991"/>
                  </a:lnTo>
                  <a:lnTo>
                    <a:pt x="0" y="861"/>
                  </a:lnTo>
                  <a:lnTo>
                    <a:pt x="5" y="730"/>
                  </a:lnTo>
                  <a:lnTo>
                    <a:pt x="24" y="595"/>
                  </a:lnTo>
                  <a:lnTo>
                    <a:pt x="55" y="466"/>
                  </a:lnTo>
                  <a:lnTo>
                    <a:pt x="90" y="342"/>
                  </a:lnTo>
                  <a:lnTo>
                    <a:pt x="126" y="228"/>
                  </a:lnTo>
                  <a:lnTo>
                    <a:pt x="131" y="249"/>
                  </a:lnTo>
                  <a:lnTo>
                    <a:pt x="139" y="270"/>
                  </a:lnTo>
                  <a:lnTo>
                    <a:pt x="149" y="290"/>
                  </a:lnTo>
                  <a:lnTo>
                    <a:pt x="163" y="308"/>
                  </a:lnTo>
                  <a:lnTo>
                    <a:pt x="176" y="325"/>
                  </a:lnTo>
                  <a:lnTo>
                    <a:pt x="193" y="342"/>
                  </a:lnTo>
                  <a:lnTo>
                    <a:pt x="209" y="357"/>
                  </a:lnTo>
                  <a:lnTo>
                    <a:pt x="231" y="374"/>
                  </a:lnTo>
                  <a:lnTo>
                    <a:pt x="253" y="377"/>
                  </a:lnTo>
                  <a:lnTo>
                    <a:pt x="278" y="383"/>
                  </a:lnTo>
                  <a:lnTo>
                    <a:pt x="302" y="385"/>
                  </a:lnTo>
                  <a:lnTo>
                    <a:pt x="326" y="388"/>
                  </a:lnTo>
                  <a:lnTo>
                    <a:pt x="347" y="385"/>
                  </a:lnTo>
                  <a:lnTo>
                    <a:pt x="370" y="378"/>
                  </a:lnTo>
                  <a:lnTo>
                    <a:pt x="388" y="364"/>
                  </a:lnTo>
                  <a:lnTo>
                    <a:pt x="406" y="342"/>
                  </a:lnTo>
                  <a:lnTo>
                    <a:pt x="433" y="312"/>
                  </a:lnTo>
                  <a:lnTo>
                    <a:pt x="460" y="281"/>
                  </a:lnTo>
                  <a:lnTo>
                    <a:pt x="484" y="248"/>
                  </a:lnTo>
                  <a:lnTo>
                    <a:pt x="506" y="212"/>
                  </a:lnTo>
                  <a:lnTo>
                    <a:pt x="522" y="173"/>
                  </a:lnTo>
                  <a:lnTo>
                    <a:pt x="530" y="133"/>
                  </a:lnTo>
                  <a:lnTo>
                    <a:pt x="530" y="93"/>
                  </a:lnTo>
                  <a:lnTo>
                    <a:pt x="522" y="52"/>
                  </a:lnTo>
                  <a:lnTo>
                    <a:pt x="480" y="0"/>
                  </a:lnTo>
                  <a:lnTo>
                    <a:pt x="567" y="25"/>
                  </a:lnTo>
                  <a:lnTo>
                    <a:pt x="629" y="73"/>
                  </a:lnTo>
                  <a:lnTo>
                    <a:pt x="671" y="135"/>
                  </a:lnTo>
                  <a:lnTo>
                    <a:pt x="699" y="211"/>
                  </a:lnTo>
                  <a:lnTo>
                    <a:pt x="714" y="291"/>
                  </a:lnTo>
                  <a:lnTo>
                    <a:pt x="727" y="377"/>
                  </a:lnTo>
                  <a:lnTo>
                    <a:pt x="736" y="460"/>
                  </a:lnTo>
                  <a:lnTo>
                    <a:pt x="750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257680" y="1271520"/>
              <a:ext cx="16920" cy="1548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105" y="49"/>
                  </a:moveTo>
                  <a:lnTo>
                    <a:pt x="107" y="56"/>
                  </a:lnTo>
                  <a:lnTo>
                    <a:pt x="107" y="64"/>
                  </a:lnTo>
                  <a:lnTo>
                    <a:pt x="104" y="73"/>
                  </a:lnTo>
                  <a:lnTo>
                    <a:pt x="101" y="81"/>
                  </a:lnTo>
                  <a:lnTo>
                    <a:pt x="96" y="88"/>
                  </a:lnTo>
                  <a:lnTo>
                    <a:pt x="88" y="95"/>
                  </a:lnTo>
                  <a:lnTo>
                    <a:pt x="81" y="98"/>
                  </a:lnTo>
                  <a:lnTo>
                    <a:pt x="74" y="101"/>
                  </a:lnTo>
                  <a:lnTo>
                    <a:pt x="62" y="100"/>
                  </a:lnTo>
                  <a:lnTo>
                    <a:pt x="51" y="100"/>
                  </a:lnTo>
                  <a:lnTo>
                    <a:pt x="39" y="98"/>
                  </a:lnTo>
                  <a:lnTo>
                    <a:pt x="29" y="97"/>
                  </a:lnTo>
                  <a:lnTo>
                    <a:pt x="20" y="91"/>
                  </a:lnTo>
                  <a:lnTo>
                    <a:pt x="13" y="87"/>
                  </a:lnTo>
                  <a:lnTo>
                    <a:pt x="6" y="77"/>
                  </a:lnTo>
                  <a:lnTo>
                    <a:pt x="3" y="69"/>
                  </a:lnTo>
                  <a:lnTo>
                    <a:pt x="0" y="49"/>
                  </a:lnTo>
                  <a:lnTo>
                    <a:pt x="11" y="29"/>
                  </a:lnTo>
                  <a:lnTo>
                    <a:pt x="29" y="14"/>
                  </a:lnTo>
                  <a:lnTo>
                    <a:pt x="53" y="4"/>
                  </a:lnTo>
                  <a:lnTo>
                    <a:pt x="76" y="0"/>
                  </a:lnTo>
                  <a:lnTo>
                    <a:pt x="94" y="4"/>
                  </a:lnTo>
                  <a:lnTo>
                    <a:pt x="104" y="19"/>
                  </a:lnTo>
                  <a:lnTo>
                    <a:pt x="10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79720" y="1275840"/>
              <a:ext cx="110880" cy="171360"/>
            </a:xfrm>
            <a:custGeom>
              <a:avLst/>
              <a:gdLst/>
              <a:ahLst/>
              <a:rect l="l" t="t" r="r" b="b"/>
              <a:pathLst>
                <a:path w="714" h="1249">
                  <a:moveTo>
                    <a:pt x="694" y="259"/>
                  </a:moveTo>
                  <a:lnTo>
                    <a:pt x="713" y="377"/>
                  </a:lnTo>
                  <a:lnTo>
                    <a:pt x="714" y="494"/>
                  </a:lnTo>
                  <a:lnTo>
                    <a:pt x="703" y="607"/>
                  </a:lnTo>
                  <a:lnTo>
                    <a:pt x="680" y="719"/>
                  </a:lnTo>
                  <a:lnTo>
                    <a:pt x="647" y="828"/>
                  </a:lnTo>
                  <a:lnTo>
                    <a:pt x="607" y="935"/>
                  </a:lnTo>
                  <a:lnTo>
                    <a:pt x="564" y="1039"/>
                  </a:lnTo>
                  <a:lnTo>
                    <a:pt x="519" y="1142"/>
                  </a:lnTo>
                  <a:lnTo>
                    <a:pt x="490" y="1178"/>
                  </a:lnTo>
                  <a:lnTo>
                    <a:pt x="459" y="1206"/>
                  </a:lnTo>
                  <a:lnTo>
                    <a:pt x="424" y="1226"/>
                  </a:lnTo>
                  <a:lnTo>
                    <a:pt x="386" y="1240"/>
                  </a:lnTo>
                  <a:lnTo>
                    <a:pt x="344" y="1246"/>
                  </a:lnTo>
                  <a:lnTo>
                    <a:pt x="302" y="1249"/>
                  </a:lnTo>
                  <a:lnTo>
                    <a:pt x="260" y="1247"/>
                  </a:lnTo>
                  <a:lnTo>
                    <a:pt x="218" y="1246"/>
                  </a:lnTo>
                  <a:lnTo>
                    <a:pt x="153" y="1201"/>
                  </a:lnTo>
                  <a:lnTo>
                    <a:pt x="105" y="1147"/>
                  </a:lnTo>
                  <a:lnTo>
                    <a:pt x="67" y="1085"/>
                  </a:lnTo>
                  <a:lnTo>
                    <a:pt x="42" y="1021"/>
                  </a:lnTo>
                  <a:lnTo>
                    <a:pt x="22" y="949"/>
                  </a:lnTo>
                  <a:lnTo>
                    <a:pt x="11" y="876"/>
                  </a:lnTo>
                  <a:lnTo>
                    <a:pt x="2" y="799"/>
                  </a:lnTo>
                  <a:lnTo>
                    <a:pt x="0" y="726"/>
                  </a:lnTo>
                  <a:lnTo>
                    <a:pt x="7" y="702"/>
                  </a:lnTo>
                  <a:lnTo>
                    <a:pt x="11" y="680"/>
                  </a:lnTo>
                  <a:lnTo>
                    <a:pt x="11" y="657"/>
                  </a:lnTo>
                  <a:lnTo>
                    <a:pt x="9" y="636"/>
                  </a:lnTo>
                  <a:lnTo>
                    <a:pt x="7" y="612"/>
                  </a:lnTo>
                  <a:lnTo>
                    <a:pt x="7" y="590"/>
                  </a:lnTo>
                  <a:lnTo>
                    <a:pt x="11" y="564"/>
                  </a:lnTo>
                  <a:lnTo>
                    <a:pt x="21" y="539"/>
                  </a:lnTo>
                  <a:lnTo>
                    <a:pt x="29" y="511"/>
                  </a:lnTo>
                  <a:lnTo>
                    <a:pt x="36" y="483"/>
                  </a:lnTo>
                  <a:lnTo>
                    <a:pt x="42" y="453"/>
                  </a:lnTo>
                  <a:lnTo>
                    <a:pt x="47" y="425"/>
                  </a:lnTo>
                  <a:lnTo>
                    <a:pt x="52" y="395"/>
                  </a:lnTo>
                  <a:lnTo>
                    <a:pt x="59" y="366"/>
                  </a:lnTo>
                  <a:lnTo>
                    <a:pt x="68" y="338"/>
                  </a:lnTo>
                  <a:lnTo>
                    <a:pt x="83" y="311"/>
                  </a:lnTo>
                  <a:lnTo>
                    <a:pt x="75" y="335"/>
                  </a:lnTo>
                  <a:lnTo>
                    <a:pt x="77" y="355"/>
                  </a:lnTo>
                  <a:lnTo>
                    <a:pt x="85" y="369"/>
                  </a:lnTo>
                  <a:lnTo>
                    <a:pt x="101" y="383"/>
                  </a:lnTo>
                  <a:lnTo>
                    <a:pt x="118" y="393"/>
                  </a:lnTo>
                  <a:lnTo>
                    <a:pt x="137" y="404"/>
                  </a:lnTo>
                  <a:lnTo>
                    <a:pt x="157" y="412"/>
                  </a:lnTo>
                  <a:lnTo>
                    <a:pt x="175" y="425"/>
                  </a:lnTo>
                  <a:lnTo>
                    <a:pt x="216" y="433"/>
                  </a:lnTo>
                  <a:lnTo>
                    <a:pt x="256" y="431"/>
                  </a:lnTo>
                  <a:lnTo>
                    <a:pt x="292" y="418"/>
                  </a:lnTo>
                  <a:lnTo>
                    <a:pt x="329" y="398"/>
                  </a:lnTo>
                  <a:lnTo>
                    <a:pt x="361" y="372"/>
                  </a:lnTo>
                  <a:lnTo>
                    <a:pt x="392" y="342"/>
                  </a:lnTo>
                  <a:lnTo>
                    <a:pt x="420" y="311"/>
                  </a:lnTo>
                  <a:lnTo>
                    <a:pt x="445" y="280"/>
                  </a:lnTo>
                  <a:lnTo>
                    <a:pt x="451" y="256"/>
                  </a:lnTo>
                  <a:lnTo>
                    <a:pt x="458" y="232"/>
                  </a:lnTo>
                  <a:lnTo>
                    <a:pt x="464" y="208"/>
                  </a:lnTo>
                  <a:lnTo>
                    <a:pt x="468" y="186"/>
                  </a:lnTo>
                  <a:lnTo>
                    <a:pt x="468" y="162"/>
                  </a:lnTo>
                  <a:lnTo>
                    <a:pt x="465" y="139"/>
                  </a:lnTo>
                  <a:lnTo>
                    <a:pt x="457" y="115"/>
                  </a:lnTo>
                  <a:lnTo>
                    <a:pt x="445" y="93"/>
                  </a:lnTo>
                  <a:lnTo>
                    <a:pt x="431" y="86"/>
                  </a:lnTo>
                  <a:lnTo>
                    <a:pt x="422" y="77"/>
                  </a:lnTo>
                  <a:lnTo>
                    <a:pt x="414" y="65"/>
                  </a:lnTo>
                  <a:lnTo>
                    <a:pt x="410" y="53"/>
                  </a:lnTo>
                  <a:lnTo>
                    <a:pt x="406" y="38"/>
                  </a:lnTo>
                  <a:lnTo>
                    <a:pt x="403" y="25"/>
                  </a:lnTo>
                  <a:lnTo>
                    <a:pt x="398" y="11"/>
                  </a:lnTo>
                  <a:lnTo>
                    <a:pt x="393" y="0"/>
                  </a:lnTo>
                  <a:lnTo>
                    <a:pt x="451" y="3"/>
                  </a:lnTo>
                  <a:lnTo>
                    <a:pt x="502" y="18"/>
                  </a:lnTo>
                  <a:lnTo>
                    <a:pt x="547" y="43"/>
                  </a:lnTo>
                  <a:lnTo>
                    <a:pt x="586" y="79"/>
                  </a:lnTo>
                  <a:lnTo>
                    <a:pt x="618" y="119"/>
                  </a:lnTo>
                  <a:lnTo>
                    <a:pt x="648" y="165"/>
                  </a:lnTo>
                  <a:lnTo>
                    <a:pt x="672" y="211"/>
                  </a:lnTo>
                  <a:lnTo>
                    <a:pt x="694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416800" y="1293120"/>
              <a:ext cx="15480" cy="16560"/>
            </a:xfrm>
            <a:custGeom>
              <a:avLst/>
              <a:gdLst/>
              <a:ahLst/>
              <a:rect l="l" t="t" r="r" b="b"/>
              <a:pathLst>
                <a:path w="100" h="106">
                  <a:moveTo>
                    <a:pt x="92" y="2"/>
                  </a:moveTo>
                  <a:lnTo>
                    <a:pt x="97" y="13"/>
                  </a:lnTo>
                  <a:lnTo>
                    <a:pt x="100" y="26"/>
                  </a:lnTo>
                  <a:lnTo>
                    <a:pt x="98" y="40"/>
                  </a:lnTo>
                  <a:lnTo>
                    <a:pt x="95" y="54"/>
                  </a:lnTo>
                  <a:lnTo>
                    <a:pt x="88" y="67"/>
                  </a:lnTo>
                  <a:lnTo>
                    <a:pt x="81" y="81"/>
                  </a:lnTo>
                  <a:lnTo>
                    <a:pt x="71" y="93"/>
                  </a:lnTo>
                  <a:lnTo>
                    <a:pt x="62" y="106"/>
                  </a:lnTo>
                  <a:lnTo>
                    <a:pt x="47" y="103"/>
                  </a:lnTo>
                  <a:lnTo>
                    <a:pt x="35" y="100"/>
                  </a:lnTo>
                  <a:lnTo>
                    <a:pt x="22" y="93"/>
                  </a:lnTo>
                  <a:lnTo>
                    <a:pt x="12" y="86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9" y="44"/>
                  </a:lnTo>
                  <a:lnTo>
                    <a:pt x="11" y="26"/>
                  </a:lnTo>
                  <a:lnTo>
                    <a:pt x="18" y="15"/>
                  </a:lnTo>
                  <a:lnTo>
                    <a:pt x="26" y="6"/>
                  </a:lnTo>
                  <a:lnTo>
                    <a:pt x="39" y="3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573040" y="1340640"/>
              <a:ext cx="144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556840" y="1397160"/>
              <a:ext cx="3240" cy="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974000" y="1523520"/>
              <a:ext cx="88560" cy="144720"/>
            </a:xfrm>
            <a:custGeom>
              <a:avLst/>
              <a:gdLst/>
              <a:ahLst/>
              <a:rect l="l" t="t" r="r" b="b"/>
              <a:pathLst>
                <a:path w="573" h="932">
                  <a:moveTo>
                    <a:pt x="480" y="177"/>
                  </a:moveTo>
                  <a:lnTo>
                    <a:pt x="519" y="262"/>
                  </a:lnTo>
                  <a:lnTo>
                    <a:pt x="542" y="350"/>
                  </a:lnTo>
                  <a:lnTo>
                    <a:pt x="550" y="438"/>
                  </a:lnTo>
                  <a:lnTo>
                    <a:pt x="553" y="528"/>
                  </a:lnTo>
                  <a:lnTo>
                    <a:pt x="550" y="618"/>
                  </a:lnTo>
                  <a:lnTo>
                    <a:pt x="550" y="712"/>
                  </a:lnTo>
                  <a:lnTo>
                    <a:pt x="556" y="807"/>
                  </a:lnTo>
                  <a:lnTo>
                    <a:pt x="573" y="904"/>
                  </a:lnTo>
                  <a:lnTo>
                    <a:pt x="547" y="919"/>
                  </a:lnTo>
                  <a:lnTo>
                    <a:pt x="522" y="929"/>
                  </a:lnTo>
                  <a:lnTo>
                    <a:pt x="495" y="932"/>
                  </a:lnTo>
                  <a:lnTo>
                    <a:pt x="469" y="932"/>
                  </a:lnTo>
                  <a:lnTo>
                    <a:pt x="440" y="925"/>
                  </a:lnTo>
                  <a:lnTo>
                    <a:pt x="415" y="914"/>
                  </a:lnTo>
                  <a:lnTo>
                    <a:pt x="388" y="900"/>
                  </a:lnTo>
                  <a:lnTo>
                    <a:pt x="366" y="883"/>
                  </a:lnTo>
                  <a:lnTo>
                    <a:pt x="284" y="809"/>
                  </a:lnTo>
                  <a:lnTo>
                    <a:pt x="208" y="735"/>
                  </a:lnTo>
                  <a:lnTo>
                    <a:pt x="139" y="655"/>
                  </a:lnTo>
                  <a:lnTo>
                    <a:pt x="83" y="571"/>
                  </a:lnTo>
                  <a:lnTo>
                    <a:pt x="38" y="481"/>
                  </a:lnTo>
                  <a:lnTo>
                    <a:pt x="10" y="387"/>
                  </a:lnTo>
                  <a:lnTo>
                    <a:pt x="0" y="286"/>
                  </a:lnTo>
                  <a:lnTo>
                    <a:pt x="13" y="177"/>
                  </a:lnTo>
                  <a:lnTo>
                    <a:pt x="27" y="143"/>
                  </a:lnTo>
                  <a:lnTo>
                    <a:pt x="48" y="114"/>
                  </a:lnTo>
                  <a:lnTo>
                    <a:pt x="72" y="89"/>
                  </a:lnTo>
                  <a:lnTo>
                    <a:pt x="101" y="69"/>
                  </a:lnTo>
                  <a:lnTo>
                    <a:pt x="132" y="48"/>
                  </a:lnTo>
                  <a:lnTo>
                    <a:pt x="165" y="31"/>
                  </a:lnTo>
                  <a:lnTo>
                    <a:pt x="197" y="14"/>
                  </a:lnTo>
                  <a:lnTo>
                    <a:pt x="231" y="0"/>
                  </a:lnTo>
                  <a:lnTo>
                    <a:pt x="272" y="3"/>
                  </a:lnTo>
                  <a:lnTo>
                    <a:pt x="311" y="13"/>
                  </a:lnTo>
                  <a:lnTo>
                    <a:pt x="348" y="29"/>
                  </a:lnTo>
                  <a:lnTo>
                    <a:pt x="381" y="52"/>
                  </a:lnTo>
                  <a:lnTo>
                    <a:pt x="411" y="77"/>
                  </a:lnTo>
                  <a:lnTo>
                    <a:pt x="439" y="108"/>
                  </a:lnTo>
                  <a:lnTo>
                    <a:pt x="460" y="141"/>
                  </a:lnTo>
                  <a:lnTo>
                    <a:pt x="480" y="177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17960" y="1552680"/>
              <a:ext cx="77040" cy="91440"/>
            </a:xfrm>
            <a:custGeom>
              <a:avLst/>
              <a:gdLst/>
              <a:ahLst/>
              <a:rect l="l" t="t" r="r" b="b"/>
              <a:pathLst>
                <a:path w="498" h="589">
                  <a:moveTo>
                    <a:pt x="498" y="112"/>
                  </a:moveTo>
                  <a:lnTo>
                    <a:pt x="498" y="164"/>
                  </a:lnTo>
                  <a:lnTo>
                    <a:pt x="436" y="167"/>
                  </a:lnTo>
                  <a:lnTo>
                    <a:pt x="379" y="184"/>
                  </a:lnTo>
                  <a:lnTo>
                    <a:pt x="322" y="212"/>
                  </a:lnTo>
                  <a:lnTo>
                    <a:pt x="272" y="249"/>
                  </a:lnTo>
                  <a:lnTo>
                    <a:pt x="221" y="290"/>
                  </a:lnTo>
                  <a:lnTo>
                    <a:pt x="176" y="337"/>
                  </a:lnTo>
                  <a:lnTo>
                    <a:pt x="133" y="385"/>
                  </a:lnTo>
                  <a:lnTo>
                    <a:pt x="93" y="435"/>
                  </a:lnTo>
                  <a:lnTo>
                    <a:pt x="78" y="453"/>
                  </a:lnTo>
                  <a:lnTo>
                    <a:pt x="68" y="474"/>
                  </a:lnTo>
                  <a:lnTo>
                    <a:pt x="58" y="495"/>
                  </a:lnTo>
                  <a:lnTo>
                    <a:pt x="51" y="516"/>
                  </a:lnTo>
                  <a:lnTo>
                    <a:pt x="40" y="535"/>
                  </a:lnTo>
                  <a:lnTo>
                    <a:pt x="30" y="554"/>
                  </a:lnTo>
                  <a:lnTo>
                    <a:pt x="16" y="571"/>
                  </a:lnTo>
                  <a:lnTo>
                    <a:pt x="0" y="589"/>
                  </a:lnTo>
                  <a:lnTo>
                    <a:pt x="93" y="237"/>
                  </a:lnTo>
                  <a:lnTo>
                    <a:pt x="133" y="192"/>
                  </a:lnTo>
                  <a:lnTo>
                    <a:pt x="182" y="138"/>
                  </a:lnTo>
                  <a:lnTo>
                    <a:pt x="237" y="81"/>
                  </a:lnTo>
                  <a:lnTo>
                    <a:pt x="296" y="33"/>
                  </a:lnTo>
                  <a:lnTo>
                    <a:pt x="352" y="2"/>
                  </a:lnTo>
                  <a:lnTo>
                    <a:pt x="408" y="0"/>
                  </a:lnTo>
                  <a:lnTo>
                    <a:pt x="457" y="32"/>
                  </a:lnTo>
                  <a:lnTo>
                    <a:pt x="498" y="112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981920" y="1558440"/>
              <a:ext cx="71280" cy="70200"/>
            </a:xfrm>
            <a:custGeom>
              <a:avLst/>
              <a:gdLst/>
              <a:ahLst/>
              <a:rect l="l" t="t" r="r" b="b"/>
              <a:pathLst>
                <a:path w="459" h="452">
                  <a:moveTo>
                    <a:pt x="459" y="286"/>
                  </a:moveTo>
                  <a:lnTo>
                    <a:pt x="454" y="297"/>
                  </a:lnTo>
                  <a:lnTo>
                    <a:pt x="454" y="309"/>
                  </a:lnTo>
                  <a:lnTo>
                    <a:pt x="454" y="322"/>
                  </a:lnTo>
                  <a:lnTo>
                    <a:pt x="456" y="335"/>
                  </a:lnTo>
                  <a:lnTo>
                    <a:pt x="454" y="346"/>
                  </a:lnTo>
                  <a:lnTo>
                    <a:pt x="452" y="359"/>
                  </a:lnTo>
                  <a:lnTo>
                    <a:pt x="446" y="369"/>
                  </a:lnTo>
                  <a:lnTo>
                    <a:pt x="438" y="378"/>
                  </a:lnTo>
                  <a:lnTo>
                    <a:pt x="426" y="376"/>
                  </a:lnTo>
                  <a:lnTo>
                    <a:pt x="418" y="369"/>
                  </a:lnTo>
                  <a:lnTo>
                    <a:pt x="412" y="359"/>
                  </a:lnTo>
                  <a:lnTo>
                    <a:pt x="408" y="347"/>
                  </a:lnTo>
                  <a:lnTo>
                    <a:pt x="404" y="333"/>
                  </a:lnTo>
                  <a:lnTo>
                    <a:pt x="402" y="321"/>
                  </a:lnTo>
                  <a:lnTo>
                    <a:pt x="398" y="307"/>
                  </a:lnTo>
                  <a:lnTo>
                    <a:pt x="397" y="295"/>
                  </a:lnTo>
                  <a:lnTo>
                    <a:pt x="383" y="300"/>
                  </a:lnTo>
                  <a:lnTo>
                    <a:pt x="370" y="302"/>
                  </a:lnTo>
                  <a:lnTo>
                    <a:pt x="356" y="301"/>
                  </a:lnTo>
                  <a:lnTo>
                    <a:pt x="343" y="298"/>
                  </a:lnTo>
                  <a:lnTo>
                    <a:pt x="331" y="290"/>
                  </a:lnTo>
                  <a:lnTo>
                    <a:pt x="322" y="280"/>
                  </a:lnTo>
                  <a:lnTo>
                    <a:pt x="315" y="267"/>
                  </a:lnTo>
                  <a:lnTo>
                    <a:pt x="314" y="255"/>
                  </a:lnTo>
                  <a:lnTo>
                    <a:pt x="305" y="255"/>
                  </a:lnTo>
                  <a:lnTo>
                    <a:pt x="297" y="257"/>
                  </a:lnTo>
                  <a:lnTo>
                    <a:pt x="290" y="260"/>
                  </a:lnTo>
                  <a:lnTo>
                    <a:pt x="284" y="266"/>
                  </a:lnTo>
                  <a:lnTo>
                    <a:pt x="277" y="271"/>
                  </a:lnTo>
                  <a:lnTo>
                    <a:pt x="274" y="278"/>
                  </a:lnTo>
                  <a:lnTo>
                    <a:pt x="272" y="287"/>
                  </a:lnTo>
                  <a:lnTo>
                    <a:pt x="272" y="295"/>
                  </a:lnTo>
                  <a:lnTo>
                    <a:pt x="266" y="314"/>
                  </a:lnTo>
                  <a:lnTo>
                    <a:pt x="267" y="332"/>
                  </a:lnTo>
                  <a:lnTo>
                    <a:pt x="273" y="349"/>
                  </a:lnTo>
                  <a:lnTo>
                    <a:pt x="284" y="366"/>
                  </a:lnTo>
                  <a:lnTo>
                    <a:pt x="296" y="378"/>
                  </a:lnTo>
                  <a:lnTo>
                    <a:pt x="312" y="390"/>
                  </a:lnTo>
                  <a:lnTo>
                    <a:pt x="328" y="397"/>
                  </a:lnTo>
                  <a:lnTo>
                    <a:pt x="345" y="400"/>
                  </a:lnTo>
                  <a:lnTo>
                    <a:pt x="359" y="402"/>
                  </a:lnTo>
                  <a:lnTo>
                    <a:pt x="374" y="404"/>
                  </a:lnTo>
                  <a:lnTo>
                    <a:pt x="386" y="404"/>
                  </a:lnTo>
                  <a:lnTo>
                    <a:pt x="397" y="409"/>
                  </a:lnTo>
                  <a:lnTo>
                    <a:pt x="394" y="419"/>
                  </a:lnTo>
                  <a:lnTo>
                    <a:pt x="391" y="429"/>
                  </a:lnTo>
                  <a:lnTo>
                    <a:pt x="384" y="438"/>
                  </a:lnTo>
                  <a:lnTo>
                    <a:pt x="377" y="445"/>
                  </a:lnTo>
                  <a:lnTo>
                    <a:pt x="367" y="449"/>
                  </a:lnTo>
                  <a:lnTo>
                    <a:pt x="357" y="452"/>
                  </a:lnTo>
                  <a:lnTo>
                    <a:pt x="346" y="452"/>
                  </a:lnTo>
                  <a:lnTo>
                    <a:pt x="335" y="452"/>
                  </a:lnTo>
                  <a:lnTo>
                    <a:pt x="310" y="452"/>
                  </a:lnTo>
                  <a:lnTo>
                    <a:pt x="287" y="449"/>
                  </a:lnTo>
                  <a:lnTo>
                    <a:pt x="265" y="442"/>
                  </a:lnTo>
                  <a:lnTo>
                    <a:pt x="245" y="432"/>
                  </a:lnTo>
                  <a:lnTo>
                    <a:pt x="225" y="416"/>
                  </a:lnTo>
                  <a:lnTo>
                    <a:pt x="210" y="400"/>
                  </a:lnTo>
                  <a:lnTo>
                    <a:pt x="197" y="378"/>
                  </a:lnTo>
                  <a:lnTo>
                    <a:pt x="189" y="357"/>
                  </a:lnTo>
                  <a:lnTo>
                    <a:pt x="187" y="328"/>
                  </a:lnTo>
                  <a:lnTo>
                    <a:pt x="191" y="298"/>
                  </a:lnTo>
                  <a:lnTo>
                    <a:pt x="200" y="267"/>
                  </a:lnTo>
                  <a:lnTo>
                    <a:pt x="213" y="238"/>
                  </a:lnTo>
                  <a:lnTo>
                    <a:pt x="228" y="210"/>
                  </a:lnTo>
                  <a:lnTo>
                    <a:pt x="248" y="186"/>
                  </a:lnTo>
                  <a:lnTo>
                    <a:pt x="269" y="164"/>
                  </a:lnTo>
                  <a:lnTo>
                    <a:pt x="293" y="150"/>
                  </a:lnTo>
                  <a:lnTo>
                    <a:pt x="273" y="121"/>
                  </a:lnTo>
                  <a:lnTo>
                    <a:pt x="252" y="101"/>
                  </a:lnTo>
                  <a:lnTo>
                    <a:pt x="227" y="87"/>
                  </a:lnTo>
                  <a:lnTo>
                    <a:pt x="198" y="80"/>
                  </a:lnTo>
                  <a:lnTo>
                    <a:pt x="168" y="76"/>
                  </a:lnTo>
                  <a:lnTo>
                    <a:pt x="137" y="76"/>
                  </a:lnTo>
                  <a:lnTo>
                    <a:pt x="104" y="80"/>
                  </a:lnTo>
                  <a:lnTo>
                    <a:pt x="75" y="88"/>
                  </a:lnTo>
                  <a:lnTo>
                    <a:pt x="65" y="91"/>
                  </a:lnTo>
                  <a:lnTo>
                    <a:pt x="52" y="93"/>
                  </a:lnTo>
                  <a:lnTo>
                    <a:pt x="44" y="93"/>
                  </a:lnTo>
                  <a:lnTo>
                    <a:pt x="37" y="93"/>
                  </a:lnTo>
                  <a:lnTo>
                    <a:pt x="30" y="94"/>
                  </a:lnTo>
                  <a:lnTo>
                    <a:pt x="23" y="98"/>
                  </a:lnTo>
                  <a:lnTo>
                    <a:pt x="14" y="93"/>
                  </a:lnTo>
                  <a:lnTo>
                    <a:pt x="9" y="87"/>
                  </a:lnTo>
                  <a:lnTo>
                    <a:pt x="4" y="79"/>
                  </a:lnTo>
                  <a:lnTo>
                    <a:pt x="2" y="72"/>
                  </a:lnTo>
                  <a:lnTo>
                    <a:pt x="0" y="63"/>
                  </a:lnTo>
                  <a:lnTo>
                    <a:pt x="2" y="56"/>
                  </a:lnTo>
                  <a:lnTo>
                    <a:pt x="4" y="49"/>
                  </a:lnTo>
                  <a:lnTo>
                    <a:pt x="13" y="46"/>
                  </a:lnTo>
                  <a:lnTo>
                    <a:pt x="40" y="22"/>
                  </a:lnTo>
                  <a:lnTo>
                    <a:pt x="68" y="8"/>
                  </a:lnTo>
                  <a:lnTo>
                    <a:pt x="97" y="0"/>
                  </a:lnTo>
                  <a:lnTo>
                    <a:pt x="127" y="0"/>
                  </a:lnTo>
                  <a:lnTo>
                    <a:pt x="155" y="1"/>
                  </a:lnTo>
                  <a:lnTo>
                    <a:pt x="184" y="8"/>
                  </a:lnTo>
                  <a:lnTo>
                    <a:pt x="213" y="17"/>
                  </a:lnTo>
                  <a:lnTo>
                    <a:pt x="241" y="25"/>
                  </a:lnTo>
                  <a:lnTo>
                    <a:pt x="280" y="49"/>
                  </a:lnTo>
                  <a:lnTo>
                    <a:pt x="315" y="76"/>
                  </a:lnTo>
                  <a:lnTo>
                    <a:pt x="345" y="104"/>
                  </a:lnTo>
                  <a:lnTo>
                    <a:pt x="373" y="136"/>
                  </a:lnTo>
                  <a:lnTo>
                    <a:pt x="395" y="169"/>
                  </a:lnTo>
                  <a:lnTo>
                    <a:pt x="418" y="204"/>
                  </a:lnTo>
                  <a:lnTo>
                    <a:pt x="438" y="242"/>
                  </a:lnTo>
                  <a:lnTo>
                    <a:pt x="459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543160" y="1557360"/>
              <a:ext cx="7200" cy="396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5" y="31"/>
                  </a:moveTo>
                  <a:lnTo>
                    <a:pt x="0" y="17"/>
                  </a:lnTo>
                  <a:lnTo>
                    <a:pt x="1" y="13"/>
                  </a:lnTo>
                  <a:lnTo>
                    <a:pt x="5" y="10"/>
                  </a:lnTo>
                  <a:lnTo>
                    <a:pt x="14" y="11"/>
                  </a:lnTo>
                  <a:lnTo>
                    <a:pt x="22" y="11"/>
                  </a:lnTo>
                  <a:lnTo>
                    <a:pt x="32" y="11"/>
                  </a:lnTo>
                  <a:lnTo>
                    <a:pt x="40" y="7"/>
                  </a:lnTo>
                  <a:lnTo>
                    <a:pt x="47" y="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493840" y="1585080"/>
              <a:ext cx="101520" cy="124200"/>
            </a:xfrm>
            <a:custGeom>
              <a:avLst/>
              <a:gdLst/>
              <a:ahLst/>
              <a:rect l="l" t="t" r="r" b="b"/>
              <a:pathLst>
                <a:path w="654" h="798">
                  <a:moveTo>
                    <a:pt x="291" y="664"/>
                  </a:moveTo>
                  <a:lnTo>
                    <a:pt x="256" y="684"/>
                  </a:lnTo>
                  <a:lnTo>
                    <a:pt x="222" y="705"/>
                  </a:lnTo>
                  <a:lnTo>
                    <a:pt x="187" y="727"/>
                  </a:lnTo>
                  <a:lnTo>
                    <a:pt x="153" y="750"/>
                  </a:lnTo>
                  <a:lnTo>
                    <a:pt x="117" y="768"/>
                  </a:lnTo>
                  <a:lnTo>
                    <a:pt x="80" y="784"/>
                  </a:lnTo>
                  <a:lnTo>
                    <a:pt x="41" y="794"/>
                  </a:lnTo>
                  <a:lnTo>
                    <a:pt x="0" y="798"/>
                  </a:lnTo>
                  <a:lnTo>
                    <a:pt x="125" y="477"/>
                  </a:lnTo>
                  <a:lnTo>
                    <a:pt x="162" y="467"/>
                  </a:lnTo>
                  <a:lnTo>
                    <a:pt x="191" y="446"/>
                  </a:lnTo>
                  <a:lnTo>
                    <a:pt x="217" y="415"/>
                  </a:lnTo>
                  <a:lnTo>
                    <a:pt x="241" y="381"/>
                  </a:lnTo>
                  <a:lnTo>
                    <a:pt x="263" y="344"/>
                  </a:lnTo>
                  <a:lnTo>
                    <a:pt x="290" y="313"/>
                  </a:lnTo>
                  <a:lnTo>
                    <a:pt x="321" y="290"/>
                  </a:lnTo>
                  <a:lnTo>
                    <a:pt x="364" y="280"/>
                  </a:lnTo>
                  <a:lnTo>
                    <a:pt x="374" y="318"/>
                  </a:lnTo>
                  <a:lnTo>
                    <a:pt x="363" y="353"/>
                  </a:lnTo>
                  <a:lnTo>
                    <a:pt x="338" y="382"/>
                  </a:lnTo>
                  <a:lnTo>
                    <a:pt x="305" y="411"/>
                  </a:lnTo>
                  <a:lnTo>
                    <a:pt x="270" y="437"/>
                  </a:lnTo>
                  <a:lnTo>
                    <a:pt x="245" y="466"/>
                  </a:lnTo>
                  <a:lnTo>
                    <a:pt x="231" y="495"/>
                  </a:lnTo>
                  <a:lnTo>
                    <a:pt x="239" y="529"/>
                  </a:lnTo>
                  <a:lnTo>
                    <a:pt x="274" y="512"/>
                  </a:lnTo>
                  <a:lnTo>
                    <a:pt x="307" y="492"/>
                  </a:lnTo>
                  <a:lnTo>
                    <a:pt x="336" y="468"/>
                  </a:lnTo>
                  <a:lnTo>
                    <a:pt x="363" y="440"/>
                  </a:lnTo>
                  <a:lnTo>
                    <a:pt x="387" y="409"/>
                  </a:lnTo>
                  <a:lnTo>
                    <a:pt x="411" y="378"/>
                  </a:lnTo>
                  <a:lnTo>
                    <a:pt x="433" y="349"/>
                  </a:lnTo>
                  <a:lnTo>
                    <a:pt x="457" y="320"/>
                  </a:lnTo>
                  <a:lnTo>
                    <a:pt x="470" y="292"/>
                  </a:lnTo>
                  <a:lnTo>
                    <a:pt x="473" y="268"/>
                  </a:lnTo>
                  <a:lnTo>
                    <a:pt x="466" y="244"/>
                  </a:lnTo>
                  <a:lnTo>
                    <a:pt x="455" y="225"/>
                  </a:lnTo>
                  <a:lnTo>
                    <a:pt x="435" y="208"/>
                  </a:lnTo>
                  <a:lnTo>
                    <a:pt x="415" y="195"/>
                  </a:lnTo>
                  <a:lnTo>
                    <a:pt x="394" y="187"/>
                  </a:lnTo>
                  <a:lnTo>
                    <a:pt x="374" y="185"/>
                  </a:lnTo>
                  <a:lnTo>
                    <a:pt x="400" y="147"/>
                  </a:lnTo>
                  <a:lnTo>
                    <a:pt x="429" y="118"/>
                  </a:lnTo>
                  <a:lnTo>
                    <a:pt x="462" y="91"/>
                  </a:lnTo>
                  <a:lnTo>
                    <a:pt x="498" y="68"/>
                  </a:lnTo>
                  <a:lnTo>
                    <a:pt x="535" y="47"/>
                  </a:lnTo>
                  <a:lnTo>
                    <a:pt x="574" y="30"/>
                  </a:lnTo>
                  <a:lnTo>
                    <a:pt x="613" y="14"/>
                  </a:lnTo>
                  <a:lnTo>
                    <a:pt x="654" y="0"/>
                  </a:lnTo>
                  <a:lnTo>
                    <a:pt x="653" y="95"/>
                  </a:lnTo>
                  <a:lnTo>
                    <a:pt x="639" y="190"/>
                  </a:lnTo>
                  <a:lnTo>
                    <a:pt x="611" y="281"/>
                  </a:lnTo>
                  <a:lnTo>
                    <a:pt x="570" y="370"/>
                  </a:lnTo>
                  <a:lnTo>
                    <a:pt x="515" y="451"/>
                  </a:lnTo>
                  <a:lnTo>
                    <a:pt x="452" y="529"/>
                  </a:lnTo>
                  <a:lnTo>
                    <a:pt x="376" y="601"/>
                  </a:lnTo>
                  <a:lnTo>
                    <a:pt x="291" y="66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144280" y="1680840"/>
              <a:ext cx="282600" cy="89640"/>
            </a:xfrm>
            <a:custGeom>
              <a:avLst/>
              <a:gdLst/>
              <a:ahLst/>
              <a:rect l="l" t="t" r="r" b="b"/>
              <a:pathLst>
                <a:path w="1816" h="574">
                  <a:moveTo>
                    <a:pt x="1407" y="552"/>
                  </a:moveTo>
                  <a:lnTo>
                    <a:pt x="1552" y="542"/>
                  </a:lnTo>
                  <a:lnTo>
                    <a:pt x="1547" y="487"/>
                  </a:lnTo>
                  <a:lnTo>
                    <a:pt x="1529" y="433"/>
                  </a:lnTo>
                  <a:lnTo>
                    <a:pt x="1503" y="380"/>
                  </a:lnTo>
                  <a:lnTo>
                    <a:pt x="1464" y="328"/>
                  </a:lnTo>
                  <a:lnTo>
                    <a:pt x="1416" y="277"/>
                  </a:lnTo>
                  <a:lnTo>
                    <a:pt x="1360" y="227"/>
                  </a:lnTo>
                  <a:lnTo>
                    <a:pt x="1297" y="179"/>
                  </a:lnTo>
                  <a:lnTo>
                    <a:pt x="1224" y="132"/>
                  </a:lnTo>
                  <a:lnTo>
                    <a:pt x="1027" y="358"/>
                  </a:lnTo>
                  <a:lnTo>
                    <a:pt x="974" y="55"/>
                  </a:lnTo>
                  <a:lnTo>
                    <a:pt x="882" y="44"/>
                  </a:lnTo>
                  <a:lnTo>
                    <a:pt x="790" y="43"/>
                  </a:lnTo>
                  <a:lnTo>
                    <a:pt x="707" y="358"/>
                  </a:lnTo>
                  <a:lnTo>
                    <a:pt x="521" y="82"/>
                  </a:lnTo>
                  <a:lnTo>
                    <a:pt x="452" y="108"/>
                  </a:lnTo>
                  <a:lnTo>
                    <a:pt x="387" y="136"/>
                  </a:lnTo>
                  <a:lnTo>
                    <a:pt x="327" y="169"/>
                  </a:lnTo>
                  <a:lnTo>
                    <a:pt x="269" y="205"/>
                  </a:lnTo>
                  <a:lnTo>
                    <a:pt x="221" y="245"/>
                  </a:lnTo>
                  <a:lnTo>
                    <a:pt x="176" y="285"/>
                  </a:lnTo>
                  <a:lnTo>
                    <a:pt x="139" y="329"/>
                  </a:lnTo>
                  <a:lnTo>
                    <a:pt x="106" y="371"/>
                  </a:lnTo>
                  <a:lnTo>
                    <a:pt x="138" y="393"/>
                  </a:lnTo>
                  <a:lnTo>
                    <a:pt x="148" y="389"/>
                  </a:lnTo>
                  <a:lnTo>
                    <a:pt x="159" y="389"/>
                  </a:lnTo>
                  <a:lnTo>
                    <a:pt x="170" y="392"/>
                  </a:lnTo>
                  <a:lnTo>
                    <a:pt x="179" y="390"/>
                  </a:lnTo>
                  <a:lnTo>
                    <a:pt x="184" y="395"/>
                  </a:lnTo>
                  <a:lnTo>
                    <a:pt x="188" y="400"/>
                  </a:lnTo>
                  <a:lnTo>
                    <a:pt x="194" y="403"/>
                  </a:lnTo>
                  <a:lnTo>
                    <a:pt x="197" y="408"/>
                  </a:lnTo>
                  <a:lnTo>
                    <a:pt x="206" y="416"/>
                  </a:lnTo>
                  <a:lnTo>
                    <a:pt x="207" y="424"/>
                  </a:lnTo>
                  <a:lnTo>
                    <a:pt x="189" y="434"/>
                  </a:lnTo>
                  <a:lnTo>
                    <a:pt x="167" y="440"/>
                  </a:lnTo>
                  <a:lnTo>
                    <a:pt x="146" y="443"/>
                  </a:lnTo>
                  <a:lnTo>
                    <a:pt x="124" y="442"/>
                  </a:lnTo>
                  <a:lnTo>
                    <a:pt x="104" y="440"/>
                  </a:lnTo>
                  <a:lnTo>
                    <a:pt x="83" y="435"/>
                  </a:lnTo>
                  <a:lnTo>
                    <a:pt x="63" y="429"/>
                  </a:lnTo>
                  <a:lnTo>
                    <a:pt x="42" y="420"/>
                  </a:lnTo>
                  <a:lnTo>
                    <a:pt x="27" y="411"/>
                  </a:lnTo>
                  <a:lnTo>
                    <a:pt x="15" y="398"/>
                  </a:lnTo>
                  <a:lnTo>
                    <a:pt x="7" y="386"/>
                  </a:lnTo>
                  <a:lnTo>
                    <a:pt x="1" y="370"/>
                  </a:lnTo>
                  <a:lnTo>
                    <a:pt x="1" y="356"/>
                  </a:lnTo>
                  <a:lnTo>
                    <a:pt x="0" y="340"/>
                  </a:lnTo>
                  <a:lnTo>
                    <a:pt x="4" y="326"/>
                  </a:lnTo>
                  <a:lnTo>
                    <a:pt x="8" y="313"/>
                  </a:lnTo>
                  <a:lnTo>
                    <a:pt x="59" y="336"/>
                  </a:lnTo>
                  <a:lnTo>
                    <a:pt x="120" y="261"/>
                  </a:lnTo>
                  <a:lnTo>
                    <a:pt x="206" y="192"/>
                  </a:lnTo>
                  <a:lnTo>
                    <a:pt x="311" y="133"/>
                  </a:lnTo>
                  <a:lnTo>
                    <a:pt x="429" y="84"/>
                  </a:lnTo>
                  <a:lnTo>
                    <a:pt x="562" y="46"/>
                  </a:lnTo>
                  <a:lnTo>
                    <a:pt x="700" y="17"/>
                  </a:lnTo>
                  <a:lnTo>
                    <a:pt x="842" y="4"/>
                  </a:lnTo>
                  <a:lnTo>
                    <a:pt x="982" y="0"/>
                  </a:lnTo>
                  <a:lnTo>
                    <a:pt x="1071" y="26"/>
                  </a:lnTo>
                  <a:lnTo>
                    <a:pt x="1155" y="54"/>
                  </a:lnTo>
                  <a:lnTo>
                    <a:pt x="1239" y="86"/>
                  </a:lnTo>
                  <a:lnTo>
                    <a:pt x="1314" y="122"/>
                  </a:lnTo>
                  <a:lnTo>
                    <a:pt x="1388" y="165"/>
                  </a:lnTo>
                  <a:lnTo>
                    <a:pt x="1451" y="211"/>
                  </a:lnTo>
                  <a:lnTo>
                    <a:pt x="1509" y="263"/>
                  </a:lnTo>
                  <a:lnTo>
                    <a:pt x="1557" y="318"/>
                  </a:lnTo>
                  <a:lnTo>
                    <a:pt x="1637" y="500"/>
                  </a:lnTo>
                  <a:lnTo>
                    <a:pt x="1665" y="499"/>
                  </a:lnTo>
                  <a:lnTo>
                    <a:pt x="1686" y="488"/>
                  </a:lnTo>
                  <a:lnTo>
                    <a:pt x="1707" y="475"/>
                  </a:lnTo>
                  <a:lnTo>
                    <a:pt x="1725" y="461"/>
                  </a:lnTo>
                  <a:lnTo>
                    <a:pt x="1745" y="450"/>
                  </a:lnTo>
                  <a:lnTo>
                    <a:pt x="1767" y="443"/>
                  </a:lnTo>
                  <a:lnTo>
                    <a:pt x="1790" y="446"/>
                  </a:lnTo>
                  <a:lnTo>
                    <a:pt x="1816" y="459"/>
                  </a:lnTo>
                  <a:lnTo>
                    <a:pt x="1780" y="483"/>
                  </a:lnTo>
                  <a:lnTo>
                    <a:pt x="1737" y="504"/>
                  </a:lnTo>
                  <a:lnTo>
                    <a:pt x="1693" y="526"/>
                  </a:lnTo>
                  <a:lnTo>
                    <a:pt x="1644" y="543"/>
                  </a:lnTo>
                  <a:lnTo>
                    <a:pt x="1594" y="559"/>
                  </a:lnTo>
                  <a:lnTo>
                    <a:pt x="1539" y="568"/>
                  </a:lnTo>
                  <a:lnTo>
                    <a:pt x="1483" y="574"/>
                  </a:lnTo>
                  <a:lnTo>
                    <a:pt x="1424" y="573"/>
                  </a:lnTo>
                  <a:lnTo>
                    <a:pt x="1407" y="5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202600" y="1807560"/>
              <a:ext cx="122040" cy="32400"/>
            </a:xfrm>
            <a:custGeom>
              <a:avLst/>
              <a:gdLst/>
              <a:ahLst/>
              <a:rect l="l" t="t" r="r" b="b"/>
              <a:pathLst>
                <a:path w="787" h="207">
                  <a:moveTo>
                    <a:pt x="778" y="62"/>
                  </a:moveTo>
                  <a:lnTo>
                    <a:pt x="787" y="72"/>
                  </a:lnTo>
                  <a:lnTo>
                    <a:pt x="761" y="109"/>
                  </a:lnTo>
                  <a:lnTo>
                    <a:pt x="730" y="138"/>
                  </a:lnTo>
                  <a:lnTo>
                    <a:pt x="693" y="160"/>
                  </a:lnTo>
                  <a:lnTo>
                    <a:pt x="655" y="178"/>
                  </a:lnTo>
                  <a:lnTo>
                    <a:pt x="613" y="188"/>
                  </a:lnTo>
                  <a:lnTo>
                    <a:pt x="572" y="196"/>
                  </a:lnTo>
                  <a:lnTo>
                    <a:pt x="529" y="202"/>
                  </a:lnTo>
                  <a:lnTo>
                    <a:pt x="486" y="207"/>
                  </a:lnTo>
                  <a:lnTo>
                    <a:pt x="415" y="203"/>
                  </a:lnTo>
                  <a:lnTo>
                    <a:pt x="346" y="196"/>
                  </a:lnTo>
                  <a:lnTo>
                    <a:pt x="278" y="182"/>
                  </a:lnTo>
                  <a:lnTo>
                    <a:pt x="215" y="162"/>
                  </a:lnTo>
                  <a:lnTo>
                    <a:pt x="153" y="134"/>
                  </a:lnTo>
                  <a:lnTo>
                    <a:pt x="97" y="100"/>
                  </a:lnTo>
                  <a:lnTo>
                    <a:pt x="45" y="6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91" y="45"/>
                  </a:lnTo>
                  <a:lnTo>
                    <a:pt x="184" y="86"/>
                  </a:lnTo>
                  <a:lnTo>
                    <a:pt x="282" y="119"/>
                  </a:lnTo>
                  <a:lnTo>
                    <a:pt x="385" y="143"/>
                  </a:lnTo>
                  <a:lnTo>
                    <a:pt x="486" y="151"/>
                  </a:lnTo>
                  <a:lnTo>
                    <a:pt x="589" y="143"/>
                  </a:lnTo>
                  <a:lnTo>
                    <a:pt x="686" y="114"/>
                  </a:lnTo>
                  <a:lnTo>
                    <a:pt x="778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83080" y="1920240"/>
              <a:ext cx="317880" cy="127080"/>
            </a:xfrm>
            <a:custGeom>
              <a:avLst/>
              <a:gdLst/>
              <a:ahLst/>
              <a:rect l="l" t="t" r="r" b="b"/>
              <a:pathLst>
                <a:path w="2044" h="818">
                  <a:moveTo>
                    <a:pt x="234" y="28"/>
                  </a:moveTo>
                  <a:lnTo>
                    <a:pt x="318" y="43"/>
                  </a:lnTo>
                  <a:lnTo>
                    <a:pt x="404" y="63"/>
                  </a:lnTo>
                  <a:lnTo>
                    <a:pt x="487" y="87"/>
                  </a:lnTo>
                  <a:lnTo>
                    <a:pt x="571" y="117"/>
                  </a:lnTo>
                  <a:lnTo>
                    <a:pt x="650" y="149"/>
                  </a:lnTo>
                  <a:lnTo>
                    <a:pt x="729" y="191"/>
                  </a:lnTo>
                  <a:lnTo>
                    <a:pt x="805" y="239"/>
                  </a:lnTo>
                  <a:lnTo>
                    <a:pt x="878" y="298"/>
                  </a:lnTo>
                  <a:lnTo>
                    <a:pt x="945" y="262"/>
                  </a:lnTo>
                  <a:lnTo>
                    <a:pt x="1018" y="243"/>
                  </a:lnTo>
                  <a:lnTo>
                    <a:pt x="1093" y="235"/>
                  </a:lnTo>
                  <a:lnTo>
                    <a:pt x="1170" y="231"/>
                  </a:lnTo>
                  <a:lnTo>
                    <a:pt x="1245" y="224"/>
                  </a:lnTo>
                  <a:lnTo>
                    <a:pt x="1317" y="209"/>
                  </a:lnTo>
                  <a:lnTo>
                    <a:pt x="1384" y="181"/>
                  </a:lnTo>
                  <a:lnTo>
                    <a:pt x="1447" y="132"/>
                  </a:lnTo>
                  <a:lnTo>
                    <a:pt x="1506" y="110"/>
                  </a:lnTo>
                  <a:lnTo>
                    <a:pt x="1570" y="91"/>
                  </a:lnTo>
                  <a:lnTo>
                    <a:pt x="1634" y="76"/>
                  </a:lnTo>
                  <a:lnTo>
                    <a:pt x="1702" y="64"/>
                  </a:lnTo>
                  <a:lnTo>
                    <a:pt x="1767" y="52"/>
                  </a:lnTo>
                  <a:lnTo>
                    <a:pt x="1831" y="43"/>
                  </a:lnTo>
                  <a:lnTo>
                    <a:pt x="1895" y="35"/>
                  </a:lnTo>
                  <a:lnTo>
                    <a:pt x="1957" y="28"/>
                  </a:lnTo>
                  <a:lnTo>
                    <a:pt x="2007" y="87"/>
                  </a:lnTo>
                  <a:lnTo>
                    <a:pt x="2035" y="157"/>
                  </a:lnTo>
                  <a:lnTo>
                    <a:pt x="2044" y="233"/>
                  </a:lnTo>
                  <a:lnTo>
                    <a:pt x="2041" y="316"/>
                  </a:lnTo>
                  <a:lnTo>
                    <a:pt x="2030" y="400"/>
                  </a:lnTo>
                  <a:lnTo>
                    <a:pt x="2020" y="485"/>
                  </a:lnTo>
                  <a:lnTo>
                    <a:pt x="2013" y="570"/>
                  </a:lnTo>
                  <a:lnTo>
                    <a:pt x="2018" y="652"/>
                  </a:lnTo>
                  <a:lnTo>
                    <a:pt x="1938" y="694"/>
                  </a:lnTo>
                  <a:lnTo>
                    <a:pt x="1857" y="708"/>
                  </a:lnTo>
                  <a:lnTo>
                    <a:pt x="1771" y="698"/>
                  </a:lnTo>
                  <a:lnTo>
                    <a:pt x="1687" y="675"/>
                  </a:lnTo>
                  <a:lnTo>
                    <a:pt x="1598" y="645"/>
                  </a:lnTo>
                  <a:lnTo>
                    <a:pt x="1511" y="616"/>
                  </a:lnTo>
                  <a:lnTo>
                    <a:pt x="1422" y="598"/>
                  </a:lnTo>
                  <a:lnTo>
                    <a:pt x="1333" y="599"/>
                  </a:lnTo>
                  <a:lnTo>
                    <a:pt x="1283" y="592"/>
                  </a:lnTo>
                  <a:lnTo>
                    <a:pt x="1232" y="594"/>
                  </a:lnTo>
                  <a:lnTo>
                    <a:pt x="1182" y="601"/>
                  </a:lnTo>
                  <a:lnTo>
                    <a:pt x="1131" y="611"/>
                  </a:lnTo>
                  <a:lnTo>
                    <a:pt x="1080" y="618"/>
                  </a:lnTo>
                  <a:lnTo>
                    <a:pt x="1030" y="621"/>
                  </a:lnTo>
                  <a:lnTo>
                    <a:pt x="979" y="615"/>
                  </a:lnTo>
                  <a:lnTo>
                    <a:pt x="930" y="599"/>
                  </a:lnTo>
                  <a:lnTo>
                    <a:pt x="888" y="547"/>
                  </a:lnTo>
                  <a:lnTo>
                    <a:pt x="778" y="564"/>
                  </a:lnTo>
                  <a:lnTo>
                    <a:pt x="677" y="605"/>
                  </a:lnTo>
                  <a:lnTo>
                    <a:pt x="580" y="659"/>
                  </a:lnTo>
                  <a:lnTo>
                    <a:pt x="487" y="718"/>
                  </a:lnTo>
                  <a:lnTo>
                    <a:pt x="391" y="770"/>
                  </a:lnTo>
                  <a:lnTo>
                    <a:pt x="293" y="806"/>
                  </a:lnTo>
                  <a:lnTo>
                    <a:pt x="190" y="818"/>
                  </a:lnTo>
                  <a:lnTo>
                    <a:pt x="79" y="797"/>
                  </a:lnTo>
                  <a:lnTo>
                    <a:pt x="34" y="711"/>
                  </a:lnTo>
                  <a:lnTo>
                    <a:pt x="10" y="621"/>
                  </a:lnTo>
                  <a:lnTo>
                    <a:pt x="0" y="526"/>
                  </a:lnTo>
                  <a:lnTo>
                    <a:pt x="3" y="431"/>
                  </a:lnTo>
                  <a:lnTo>
                    <a:pt x="10" y="332"/>
                  </a:lnTo>
                  <a:lnTo>
                    <a:pt x="21" y="235"/>
                  </a:lnTo>
                  <a:lnTo>
                    <a:pt x="31" y="139"/>
                  </a:lnTo>
                  <a:lnTo>
                    <a:pt x="37" y="49"/>
                  </a:lnTo>
                  <a:lnTo>
                    <a:pt x="53" y="32"/>
                  </a:lnTo>
                  <a:lnTo>
                    <a:pt x="77" y="19"/>
                  </a:lnTo>
                  <a:lnTo>
                    <a:pt x="103" y="8"/>
                  </a:lnTo>
                  <a:lnTo>
                    <a:pt x="131" y="3"/>
                  </a:lnTo>
                  <a:lnTo>
                    <a:pt x="158" y="0"/>
                  </a:lnTo>
                  <a:lnTo>
                    <a:pt x="186" y="3"/>
                  </a:lnTo>
                  <a:lnTo>
                    <a:pt x="211" y="11"/>
                  </a:lnTo>
                  <a:lnTo>
                    <a:pt x="23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095320" y="1931040"/>
              <a:ext cx="119160" cy="106560"/>
            </a:xfrm>
            <a:custGeom>
              <a:avLst/>
              <a:gdLst/>
              <a:ahLst/>
              <a:rect l="l" t="t" r="r" b="b"/>
              <a:pathLst>
                <a:path w="768" h="686">
                  <a:moveTo>
                    <a:pt x="757" y="290"/>
                  </a:moveTo>
                  <a:lnTo>
                    <a:pt x="692" y="269"/>
                  </a:lnTo>
                  <a:lnTo>
                    <a:pt x="621" y="255"/>
                  </a:lnTo>
                  <a:lnTo>
                    <a:pt x="544" y="245"/>
                  </a:lnTo>
                  <a:lnTo>
                    <a:pt x="465" y="244"/>
                  </a:lnTo>
                  <a:lnTo>
                    <a:pt x="384" y="245"/>
                  </a:lnTo>
                  <a:lnTo>
                    <a:pt x="305" y="255"/>
                  </a:lnTo>
                  <a:lnTo>
                    <a:pt x="230" y="269"/>
                  </a:lnTo>
                  <a:lnTo>
                    <a:pt x="166" y="290"/>
                  </a:lnTo>
                  <a:lnTo>
                    <a:pt x="166" y="311"/>
                  </a:lnTo>
                  <a:lnTo>
                    <a:pt x="242" y="314"/>
                  </a:lnTo>
                  <a:lnTo>
                    <a:pt x="322" y="313"/>
                  </a:lnTo>
                  <a:lnTo>
                    <a:pt x="403" y="308"/>
                  </a:lnTo>
                  <a:lnTo>
                    <a:pt x="485" y="310"/>
                  </a:lnTo>
                  <a:lnTo>
                    <a:pt x="564" y="315"/>
                  </a:lnTo>
                  <a:lnTo>
                    <a:pt x="638" y="335"/>
                  </a:lnTo>
                  <a:lnTo>
                    <a:pt x="707" y="369"/>
                  </a:lnTo>
                  <a:lnTo>
                    <a:pt x="768" y="425"/>
                  </a:lnTo>
                  <a:lnTo>
                    <a:pt x="683" y="439"/>
                  </a:lnTo>
                  <a:lnTo>
                    <a:pt x="606" y="468"/>
                  </a:lnTo>
                  <a:lnTo>
                    <a:pt x="533" y="504"/>
                  </a:lnTo>
                  <a:lnTo>
                    <a:pt x="463" y="546"/>
                  </a:lnTo>
                  <a:lnTo>
                    <a:pt x="389" y="589"/>
                  </a:lnTo>
                  <a:lnTo>
                    <a:pt x="318" y="629"/>
                  </a:lnTo>
                  <a:lnTo>
                    <a:pt x="243" y="662"/>
                  </a:lnTo>
                  <a:lnTo>
                    <a:pt x="166" y="686"/>
                  </a:lnTo>
                  <a:lnTo>
                    <a:pt x="132" y="682"/>
                  </a:lnTo>
                  <a:lnTo>
                    <a:pt x="104" y="670"/>
                  </a:lnTo>
                  <a:lnTo>
                    <a:pt x="79" y="653"/>
                  </a:lnTo>
                  <a:lnTo>
                    <a:pt x="60" y="634"/>
                  </a:lnTo>
                  <a:lnTo>
                    <a:pt x="42" y="608"/>
                  </a:lnTo>
                  <a:lnTo>
                    <a:pt x="28" y="580"/>
                  </a:lnTo>
                  <a:lnTo>
                    <a:pt x="17" y="549"/>
                  </a:lnTo>
                  <a:lnTo>
                    <a:pt x="10" y="520"/>
                  </a:lnTo>
                  <a:lnTo>
                    <a:pt x="1" y="452"/>
                  </a:lnTo>
                  <a:lnTo>
                    <a:pt x="0" y="387"/>
                  </a:lnTo>
                  <a:lnTo>
                    <a:pt x="3" y="323"/>
                  </a:lnTo>
                  <a:lnTo>
                    <a:pt x="11" y="259"/>
                  </a:lnTo>
                  <a:lnTo>
                    <a:pt x="18" y="194"/>
                  </a:lnTo>
                  <a:lnTo>
                    <a:pt x="27" y="130"/>
                  </a:lnTo>
                  <a:lnTo>
                    <a:pt x="31" y="65"/>
                  </a:lnTo>
                  <a:lnTo>
                    <a:pt x="31" y="0"/>
                  </a:lnTo>
                  <a:lnTo>
                    <a:pt x="132" y="10"/>
                  </a:lnTo>
                  <a:lnTo>
                    <a:pt x="232" y="28"/>
                  </a:lnTo>
                  <a:lnTo>
                    <a:pt x="328" y="52"/>
                  </a:lnTo>
                  <a:lnTo>
                    <a:pt x="420" y="86"/>
                  </a:lnTo>
                  <a:lnTo>
                    <a:pt x="509" y="124"/>
                  </a:lnTo>
                  <a:lnTo>
                    <a:pt x="595" y="172"/>
                  </a:lnTo>
                  <a:lnTo>
                    <a:pt x="676" y="227"/>
                  </a:lnTo>
                  <a:lnTo>
                    <a:pt x="757" y="29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276040" y="1936080"/>
              <a:ext cx="112680" cy="82440"/>
            </a:xfrm>
            <a:custGeom>
              <a:avLst/>
              <a:gdLst/>
              <a:ahLst/>
              <a:rect l="l" t="t" r="r" b="b"/>
              <a:pathLst>
                <a:path w="725" h="530">
                  <a:moveTo>
                    <a:pt x="725" y="110"/>
                  </a:moveTo>
                  <a:lnTo>
                    <a:pt x="725" y="504"/>
                  </a:lnTo>
                  <a:lnTo>
                    <a:pt x="652" y="527"/>
                  </a:lnTo>
                  <a:lnTo>
                    <a:pt x="582" y="530"/>
                  </a:lnTo>
                  <a:lnTo>
                    <a:pt x="513" y="517"/>
                  </a:lnTo>
                  <a:lnTo>
                    <a:pt x="446" y="497"/>
                  </a:lnTo>
                  <a:lnTo>
                    <a:pt x="377" y="471"/>
                  </a:lnTo>
                  <a:lnTo>
                    <a:pt x="308" y="447"/>
                  </a:lnTo>
                  <a:lnTo>
                    <a:pt x="237" y="427"/>
                  </a:lnTo>
                  <a:lnTo>
                    <a:pt x="166" y="421"/>
                  </a:lnTo>
                  <a:lnTo>
                    <a:pt x="0" y="411"/>
                  </a:lnTo>
                  <a:lnTo>
                    <a:pt x="9" y="307"/>
                  </a:lnTo>
                  <a:lnTo>
                    <a:pt x="24" y="323"/>
                  </a:lnTo>
                  <a:lnTo>
                    <a:pt x="45" y="326"/>
                  </a:lnTo>
                  <a:lnTo>
                    <a:pt x="69" y="318"/>
                  </a:lnTo>
                  <a:lnTo>
                    <a:pt x="98" y="309"/>
                  </a:lnTo>
                  <a:lnTo>
                    <a:pt x="129" y="292"/>
                  </a:lnTo>
                  <a:lnTo>
                    <a:pt x="161" y="276"/>
                  </a:lnTo>
                  <a:lnTo>
                    <a:pt x="194" y="262"/>
                  </a:lnTo>
                  <a:lnTo>
                    <a:pt x="227" y="255"/>
                  </a:lnTo>
                  <a:lnTo>
                    <a:pt x="243" y="257"/>
                  </a:lnTo>
                  <a:lnTo>
                    <a:pt x="263" y="257"/>
                  </a:lnTo>
                  <a:lnTo>
                    <a:pt x="282" y="254"/>
                  </a:lnTo>
                  <a:lnTo>
                    <a:pt x="303" y="249"/>
                  </a:lnTo>
                  <a:lnTo>
                    <a:pt x="322" y="242"/>
                  </a:lnTo>
                  <a:lnTo>
                    <a:pt x="341" y="234"/>
                  </a:lnTo>
                  <a:lnTo>
                    <a:pt x="358" y="224"/>
                  </a:lnTo>
                  <a:lnTo>
                    <a:pt x="372" y="214"/>
                  </a:lnTo>
                  <a:lnTo>
                    <a:pt x="319" y="204"/>
                  </a:lnTo>
                  <a:lnTo>
                    <a:pt x="270" y="203"/>
                  </a:lnTo>
                  <a:lnTo>
                    <a:pt x="222" y="204"/>
                  </a:lnTo>
                  <a:lnTo>
                    <a:pt x="178" y="213"/>
                  </a:lnTo>
                  <a:lnTo>
                    <a:pt x="135" y="224"/>
                  </a:lnTo>
                  <a:lnTo>
                    <a:pt x="92" y="240"/>
                  </a:lnTo>
                  <a:lnTo>
                    <a:pt x="50" y="255"/>
                  </a:lnTo>
                  <a:lnTo>
                    <a:pt x="9" y="276"/>
                  </a:lnTo>
                  <a:lnTo>
                    <a:pt x="4" y="237"/>
                  </a:lnTo>
                  <a:lnTo>
                    <a:pt x="11" y="207"/>
                  </a:lnTo>
                  <a:lnTo>
                    <a:pt x="26" y="183"/>
                  </a:lnTo>
                  <a:lnTo>
                    <a:pt x="52" y="165"/>
                  </a:lnTo>
                  <a:lnTo>
                    <a:pt x="78" y="147"/>
                  </a:lnTo>
                  <a:lnTo>
                    <a:pt x="109" y="133"/>
                  </a:lnTo>
                  <a:lnTo>
                    <a:pt x="139" y="117"/>
                  </a:lnTo>
                  <a:lnTo>
                    <a:pt x="166" y="100"/>
                  </a:lnTo>
                  <a:lnTo>
                    <a:pt x="232" y="76"/>
                  </a:lnTo>
                  <a:lnTo>
                    <a:pt x="306" y="50"/>
                  </a:lnTo>
                  <a:lnTo>
                    <a:pt x="384" y="24"/>
                  </a:lnTo>
                  <a:lnTo>
                    <a:pt x="464" y="7"/>
                  </a:lnTo>
                  <a:lnTo>
                    <a:pt x="540" y="0"/>
                  </a:lnTo>
                  <a:lnTo>
                    <a:pt x="611" y="13"/>
                  </a:lnTo>
                  <a:lnTo>
                    <a:pt x="673" y="47"/>
                  </a:lnTo>
                  <a:lnTo>
                    <a:pt x="725" y="11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224560" y="1965240"/>
              <a:ext cx="38520" cy="38160"/>
            </a:xfrm>
            <a:custGeom>
              <a:avLst/>
              <a:gdLst/>
              <a:ahLst/>
              <a:rect l="l" t="t" r="r" b="b"/>
              <a:pathLst>
                <a:path w="249" h="248">
                  <a:moveTo>
                    <a:pt x="249" y="10"/>
                  </a:moveTo>
                  <a:lnTo>
                    <a:pt x="247" y="41"/>
                  </a:lnTo>
                  <a:lnTo>
                    <a:pt x="247" y="74"/>
                  </a:lnTo>
                  <a:lnTo>
                    <a:pt x="244" y="106"/>
                  </a:lnTo>
                  <a:lnTo>
                    <a:pt x="240" y="140"/>
                  </a:lnTo>
                  <a:lnTo>
                    <a:pt x="232" y="168"/>
                  </a:lnTo>
                  <a:lnTo>
                    <a:pt x="222" y="196"/>
                  </a:lnTo>
                  <a:lnTo>
                    <a:pt x="206" y="219"/>
                  </a:lnTo>
                  <a:lnTo>
                    <a:pt x="187" y="238"/>
                  </a:lnTo>
                  <a:lnTo>
                    <a:pt x="166" y="244"/>
                  </a:lnTo>
                  <a:lnTo>
                    <a:pt x="146" y="248"/>
                  </a:lnTo>
                  <a:lnTo>
                    <a:pt x="125" y="248"/>
                  </a:lnTo>
                  <a:lnTo>
                    <a:pt x="107" y="247"/>
                  </a:lnTo>
                  <a:lnTo>
                    <a:pt x="88" y="238"/>
                  </a:lnTo>
                  <a:lnTo>
                    <a:pt x="73" y="227"/>
                  </a:lnTo>
                  <a:lnTo>
                    <a:pt x="60" y="209"/>
                  </a:lnTo>
                  <a:lnTo>
                    <a:pt x="52" y="186"/>
                  </a:lnTo>
                  <a:lnTo>
                    <a:pt x="0" y="52"/>
                  </a:lnTo>
                  <a:lnTo>
                    <a:pt x="29" y="41"/>
                  </a:lnTo>
                  <a:lnTo>
                    <a:pt x="62" y="31"/>
                  </a:lnTo>
                  <a:lnTo>
                    <a:pt x="91" y="20"/>
                  </a:lnTo>
                  <a:lnTo>
                    <a:pt x="123" y="12"/>
                  </a:lnTo>
                  <a:lnTo>
                    <a:pt x="154" y="3"/>
                  </a:lnTo>
                  <a:lnTo>
                    <a:pt x="185" y="0"/>
                  </a:lnTo>
                  <a:lnTo>
                    <a:pt x="216" y="0"/>
                  </a:lnTo>
                  <a:lnTo>
                    <a:pt x="249" y="1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3158280" y="1676520"/>
            <a:ext cx="611280" cy="2340360"/>
            <a:chOff x="3158280" y="1676520"/>
            <a:chExt cx="611280" cy="2340360"/>
          </a:xfrm>
        </p:grpSpPr>
        <p:sp>
          <p:nvSpPr>
            <p:cNvPr id="1044" name=""/>
            <p:cNvSpPr/>
            <p:nvPr/>
          </p:nvSpPr>
          <p:spPr>
            <a:xfrm rot="2700000">
              <a:off x="3247920" y="2123640"/>
              <a:ext cx="43200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 flipV="1">
              <a:off x="3323880" y="2201400"/>
              <a:ext cx="260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47920" y="167652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3327480" y="189180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47920" y="258444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 flipV="1">
              <a:off x="3463920" y="260460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47920" y="304020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 flipV="1">
              <a:off x="3463920" y="306036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2700000">
              <a:off x="3247920" y="3495240"/>
              <a:ext cx="43200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3349440" y="357156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6813720" y="3614760"/>
            <a:ext cx="2114280" cy="307800"/>
            <a:chOff x="6813720" y="3614760"/>
            <a:chExt cx="2114280" cy="307800"/>
          </a:xfrm>
        </p:grpSpPr>
        <p:sp>
          <p:nvSpPr>
            <p:cNvPr id="1055" name=""/>
            <p:cNvSpPr/>
            <p:nvPr/>
          </p:nvSpPr>
          <p:spPr>
            <a:xfrm>
              <a:off x="6813720" y="3633840"/>
              <a:ext cx="257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172280" y="3714840"/>
              <a:ext cx="163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335720" y="3714840"/>
              <a:ext cx="1710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507080" y="3633840"/>
              <a:ext cx="1710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678440" y="3641760"/>
              <a:ext cx="856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762680" y="3657600"/>
              <a:ext cx="1202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883280" y="3714840"/>
              <a:ext cx="1220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07200" y="3681360"/>
              <a:ext cx="23940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111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432640" y="3714840"/>
              <a:ext cx="1854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618400" y="3616200"/>
              <a:ext cx="1537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004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772480" y="3648240"/>
              <a:ext cx="153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813720" y="3614760"/>
              <a:ext cx="2114280" cy="3078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539640" y="5084640"/>
            <a:ext cx="80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Arial"/>
              </a:rPr>
              <a:t>Sender-Security: One of the strings looks completely random to dishonest 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641520" y="981000"/>
            <a:ext cx="3307680" cy="3014640"/>
            <a:chOff x="641520" y="981000"/>
            <a:chExt cx="3307680" cy="3014640"/>
          </a:xfrm>
        </p:grpSpPr>
        <p:sp>
          <p:nvSpPr>
            <p:cNvPr id="1069" name=""/>
            <p:cNvSpPr/>
            <p:nvPr/>
          </p:nvSpPr>
          <p:spPr>
            <a:xfrm>
              <a:off x="641520" y="98100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973080" y="1030320"/>
              <a:ext cx="2124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260360" y="1069920"/>
              <a:ext cx="1821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442880" y="1127160"/>
              <a:ext cx="164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174760" y="1030320"/>
              <a:ext cx="2264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498400" y="106992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81280" y="1127160"/>
              <a:ext cx="1645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52600" y="1098360"/>
              <a:ext cx="1076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60600" y="1098360"/>
              <a:ext cx="1202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482640" y="1098360"/>
              <a:ext cx="1522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33480" y="1027080"/>
              <a:ext cx="152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1252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949320" y="1386000"/>
              <a:ext cx="21204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161720" y="1515960"/>
              <a:ext cx="7596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284120" y="138600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49508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3188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10960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246040" y="1370160"/>
              <a:ext cx="136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382840" y="1515960"/>
              <a:ext cx="75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503440" y="137016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3988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77632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1520" y="164772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449440" y="180180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49440" y="224640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449440" y="269244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449440" y="313704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449440" y="358308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1520" y="397836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49080" y="987480"/>
              <a:ext cx="3300120" cy="30081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0" name=""/>
          <p:cNvGrpSpPr/>
          <p:nvPr/>
        </p:nvGrpSpPr>
        <p:grpSpPr>
          <a:xfrm>
            <a:off x="641520" y="981000"/>
            <a:ext cx="3307680" cy="3014640"/>
            <a:chOff x="641520" y="981000"/>
            <a:chExt cx="3307680" cy="3014640"/>
          </a:xfrm>
        </p:grpSpPr>
        <p:sp>
          <p:nvSpPr>
            <p:cNvPr id="1101" name=""/>
            <p:cNvSpPr/>
            <p:nvPr/>
          </p:nvSpPr>
          <p:spPr>
            <a:xfrm>
              <a:off x="641520" y="98100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973080" y="1030320"/>
              <a:ext cx="2124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260360" y="1069920"/>
              <a:ext cx="1821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442880" y="1127160"/>
              <a:ext cx="164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174760" y="1030320"/>
              <a:ext cx="2264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498400" y="106992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681280" y="1127160"/>
              <a:ext cx="1645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252600" y="1098360"/>
              <a:ext cx="1076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60600" y="1098360"/>
              <a:ext cx="1202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82640" y="1098360"/>
              <a:ext cx="1522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33480" y="1027080"/>
              <a:ext cx="152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252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949320" y="1386000"/>
              <a:ext cx="21204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161720" y="1515960"/>
              <a:ext cx="7596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284120" y="138600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49508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63188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10960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246040" y="1370160"/>
              <a:ext cx="136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382840" y="1515960"/>
              <a:ext cx="75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503440" y="137016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63988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77632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41520" y="164772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452680" y="178740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452680" y="223200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52680" y="267804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52680" y="312264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452680" y="356868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41520" y="397836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49080" y="987480"/>
              <a:ext cx="3300120" cy="30081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700000" y="1735200"/>
            <a:ext cx="4248000" cy="2231640"/>
            <a:chOff x="2700000" y="1735200"/>
            <a:chExt cx="4248000" cy="2231640"/>
          </a:xfrm>
        </p:grpSpPr>
        <p:sp>
          <p:nvSpPr>
            <p:cNvPr id="1133" name=""/>
            <p:cNvSpPr/>
            <p:nvPr/>
          </p:nvSpPr>
          <p:spPr>
            <a:xfrm rot="5400000">
              <a:off x="4656240" y="-78120"/>
              <a:ext cx="47808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rot="5400000">
              <a:off x="4585320" y="311760"/>
              <a:ext cx="477720" cy="41054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rot="5400000">
              <a:off x="4513320" y="720720"/>
              <a:ext cx="47808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5400000">
              <a:off x="4513680" y="1198800"/>
              <a:ext cx="47772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5400000">
              <a:off x="4513320" y="1675080"/>
              <a:ext cx="47808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6516720" y="1235160"/>
            <a:ext cx="934920" cy="28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Let Bob Act First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140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762120" cy="86364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4284720" y="1628640"/>
            <a:ext cx="1150920" cy="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206800" y="1916280"/>
            <a:ext cx="182520" cy="2519280"/>
            <a:chOff x="2206800" y="1916280"/>
            <a:chExt cx="182520" cy="2519280"/>
          </a:xfrm>
        </p:grpSpPr>
        <p:sp>
          <p:nvSpPr>
            <p:cNvPr id="1143" name=""/>
            <p:cNvSpPr/>
            <p:nvPr/>
          </p:nvSpPr>
          <p:spPr>
            <a:xfrm>
              <a:off x="2225880" y="1916280"/>
              <a:ext cx="0" cy="2519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2206800" y="19162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2225880" y="2779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2225880" y="321336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3017880" y="4148280"/>
            <a:ext cx="1049400" cy="214200"/>
            <a:chOff x="3017880" y="4148280"/>
            <a:chExt cx="1049400" cy="214200"/>
          </a:xfrm>
        </p:grpSpPr>
        <p:sp>
          <p:nvSpPr>
            <p:cNvPr id="1148" name=""/>
            <p:cNvSpPr/>
            <p:nvPr/>
          </p:nvSpPr>
          <p:spPr>
            <a:xfrm>
              <a:off x="3017880" y="4148280"/>
              <a:ext cx="16524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1831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368880" y="4184640"/>
              <a:ext cx="171360" cy="14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880" bIns="9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540240" y="4240080"/>
              <a:ext cx="15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80000" y="4148280"/>
              <a:ext cx="18432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9643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17880" y="4148280"/>
              <a:ext cx="1049400" cy="2142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1001880" y="4097160"/>
            <a:ext cx="1049040" cy="214560"/>
            <a:chOff x="1001880" y="4097160"/>
            <a:chExt cx="1049040" cy="214560"/>
          </a:xfrm>
        </p:grpSpPr>
        <p:sp>
          <p:nvSpPr>
            <p:cNvPr id="1156" name=""/>
            <p:cNvSpPr/>
            <p:nvPr/>
          </p:nvSpPr>
          <p:spPr>
            <a:xfrm>
              <a:off x="1001880" y="4097160"/>
              <a:ext cx="1648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1667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352520" y="4133880"/>
              <a:ext cx="1710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824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523880" y="4189320"/>
              <a:ext cx="1537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763640" y="4097160"/>
              <a:ext cx="1839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9479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001880" y="4097160"/>
              <a:ext cx="1049040" cy="214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2657520" y="2347920"/>
            <a:ext cx="163440" cy="2089080"/>
            <a:chOff x="2657520" y="2347920"/>
            <a:chExt cx="163440" cy="2089080"/>
          </a:xfrm>
        </p:grpSpPr>
        <p:sp>
          <p:nvSpPr>
            <p:cNvPr id="1164" name=""/>
            <p:cNvSpPr/>
            <p:nvPr/>
          </p:nvSpPr>
          <p:spPr>
            <a:xfrm flipH="1">
              <a:off x="2657520" y="36640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801880" y="2347920"/>
              <a:ext cx="0" cy="20890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2657520" y="2347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7818840" y="692280"/>
            <a:ext cx="890280" cy="1277280"/>
            <a:chOff x="7818840" y="692280"/>
            <a:chExt cx="890280" cy="1277280"/>
          </a:xfrm>
        </p:grpSpPr>
        <p:sp>
          <p:nvSpPr>
            <p:cNvPr id="1168" name=""/>
            <p:cNvSpPr/>
            <p:nvPr/>
          </p:nvSpPr>
          <p:spPr>
            <a:xfrm rot="12426000">
              <a:off x="8495280" y="733680"/>
              <a:ext cx="160920" cy="27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945920" y="692280"/>
              <a:ext cx="160560" cy="27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818840" y="784800"/>
              <a:ext cx="774720" cy="1035000"/>
            </a:xfrm>
            <a:custGeom>
              <a:avLst/>
              <a:gdLst/>
              <a:ahLst/>
              <a:rect l="l" t="t" r="r" b="b"/>
              <a:pathLst>
                <a:path w="4154" h="5543">
                  <a:moveTo>
                    <a:pt x="3156" y="179"/>
                  </a:moveTo>
                  <a:lnTo>
                    <a:pt x="3235" y="230"/>
                  </a:lnTo>
                  <a:lnTo>
                    <a:pt x="3314" y="282"/>
                  </a:lnTo>
                  <a:lnTo>
                    <a:pt x="3393" y="337"/>
                  </a:lnTo>
                  <a:lnTo>
                    <a:pt x="3469" y="396"/>
                  </a:lnTo>
                  <a:lnTo>
                    <a:pt x="3538" y="459"/>
                  </a:lnTo>
                  <a:lnTo>
                    <a:pt x="3601" y="529"/>
                  </a:lnTo>
                  <a:lnTo>
                    <a:pt x="3653" y="608"/>
                  </a:lnTo>
                  <a:lnTo>
                    <a:pt x="3696" y="698"/>
                  </a:lnTo>
                  <a:lnTo>
                    <a:pt x="3727" y="760"/>
                  </a:lnTo>
                  <a:lnTo>
                    <a:pt x="3772" y="812"/>
                  </a:lnTo>
                  <a:lnTo>
                    <a:pt x="3826" y="856"/>
                  </a:lnTo>
                  <a:lnTo>
                    <a:pt x="3884" y="898"/>
                  </a:lnTo>
                  <a:lnTo>
                    <a:pt x="3938" y="941"/>
                  </a:lnTo>
                  <a:lnTo>
                    <a:pt x="3988" y="990"/>
                  </a:lnTo>
                  <a:lnTo>
                    <a:pt x="4026" y="1049"/>
                  </a:lnTo>
                  <a:lnTo>
                    <a:pt x="4048" y="1124"/>
                  </a:lnTo>
                  <a:lnTo>
                    <a:pt x="4096" y="1342"/>
                  </a:lnTo>
                  <a:lnTo>
                    <a:pt x="4121" y="1568"/>
                  </a:lnTo>
                  <a:lnTo>
                    <a:pt x="4123" y="1799"/>
                  </a:lnTo>
                  <a:lnTo>
                    <a:pt x="4109" y="2034"/>
                  </a:lnTo>
                  <a:lnTo>
                    <a:pt x="4076" y="2265"/>
                  </a:lnTo>
                  <a:lnTo>
                    <a:pt x="4031" y="2495"/>
                  </a:lnTo>
                  <a:lnTo>
                    <a:pt x="3975" y="2716"/>
                  </a:lnTo>
                  <a:lnTo>
                    <a:pt x="3913" y="2930"/>
                  </a:lnTo>
                  <a:lnTo>
                    <a:pt x="3893" y="2961"/>
                  </a:lnTo>
                  <a:lnTo>
                    <a:pt x="3875" y="2995"/>
                  </a:lnTo>
                  <a:lnTo>
                    <a:pt x="3858" y="3028"/>
                  </a:lnTo>
                  <a:lnTo>
                    <a:pt x="3843" y="3065"/>
                  </a:lnTo>
                  <a:lnTo>
                    <a:pt x="3827" y="3099"/>
                  </a:lnTo>
                  <a:lnTo>
                    <a:pt x="3813" y="3134"/>
                  </a:lnTo>
                  <a:lnTo>
                    <a:pt x="3801" y="3166"/>
                  </a:lnTo>
                  <a:lnTo>
                    <a:pt x="3789" y="3200"/>
                  </a:lnTo>
                  <a:lnTo>
                    <a:pt x="3816" y="3185"/>
                  </a:lnTo>
                  <a:lnTo>
                    <a:pt x="3847" y="3166"/>
                  </a:lnTo>
                  <a:lnTo>
                    <a:pt x="3878" y="3145"/>
                  </a:lnTo>
                  <a:lnTo>
                    <a:pt x="3913" y="3125"/>
                  </a:lnTo>
                  <a:lnTo>
                    <a:pt x="3948" y="3109"/>
                  </a:lnTo>
                  <a:lnTo>
                    <a:pt x="3986" y="3099"/>
                  </a:lnTo>
                  <a:lnTo>
                    <a:pt x="4026" y="3096"/>
                  </a:lnTo>
                  <a:lnTo>
                    <a:pt x="4069" y="3107"/>
                  </a:lnTo>
                  <a:lnTo>
                    <a:pt x="4107" y="3165"/>
                  </a:lnTo>
                  <a:lnTo>
                    <a:pt x="4134" y="3235"/>
                  </a:lnTo>
                  <a:lnTo>
                    <a:pt x="4148" y="3310"/>
                  </a:lnTo>
                  <a:lnTo>
                    <a:pt x="4154" y="3389"/>
                  </a:lnTo>
                  <a:lnTo>
                    <a:pt x="4147" y="3468"/>
                  </a:lnTo>
                  <a:lnTo>
                    <a:pt x="4134" y="3546"/>
                  </a:lnTo>
                  <a:lnTo>
                    <a:pt x="4114" y="3621"/>
                  </a:lnTo>
                  <a:lnTo>
                    <a:pt x="4090" y="3689"/>
                  </a:lnTo>
                  <a:lnTo>
                    <a:pt x="4033" y="3777"/>
                  </a:lnTo>
                  <a:lnTo>
                    <a:pt x="3968" y="3863"/>
                  </a:lnTo>
                  <a:lnTo>
                    <a:pt x="3895" y="3943"/>
                  </a:lnTo>
                  <a:lnTo>
                    <a:pt x="3816" y="4018"/>
                  </a:lnTo>
                  <a:lnTo>
                    <a:pt x="3730" y="4084"/>
                  </a:lnTo>
                  <a:lnTo>
                    <a:pt x="3642" y="4143"/>
                  </a:lnTo>
                  <a:lnTo>
                    <a:pt x="3549" y="4194"/>
                  </a:lnTo>
                  <a:lnTo>
                    <a:pt x="3457" y="4239"/>
                  </a:lnTo>
                  <a:lnTo>
                    <a:pt x="3384" y="4239"/>
                  </a:lnTo>
                  <a:lnTo>
                    <a:pt x="3308" y="4397"/>
                  </a:lnTo>
                  <a:lnTo>
                    <a:pt x="3220" y="4550"/>
                  </a:lnTo>
                  <a:lnTo>
                    <a:pt x="3116" y="4695"/>
                  </a:lnTo>
                  <a:lnTo>
                    <a:pt x="3004" y="4836"/>
                  </a:lnTo>
                  <a:lnTo>
                    <a:pt x="2882" y="4970"/>
                  </a:lnTo>
                  <a:lnTo>
                    <a:pt x="2754" y="5101"/>
                  </a:lnTo>
                  <a:lnTo>
                    <a:pt x="2623" y="5226"/>
                  </a:lnTo>
                  <a:lnTo>
                    <a:pt x="2492" y="5350"/>
                  </a:lnTo>
                  <a:lnTo>
                    <a:pt x="2388" y="5399"/>
                  </a:lnTo>
                  <a:lnTo>
                    <a:pt x="2281" y="5447"/>
                  </a:lnTo>
                  <a:lnTo>
                    <a:pt x="2172" y="5488"/>
                  </a:lnTo>
                  <a:lnTo>
                    <a:pt x="2061" y="5522"/>
                  </a:lnTo>
                  <a:lnTo>
                    <a:pt x="1947" y="5540"/>
                  </a:lnTo>
                  <a:lnTo>
                    <a:pt x="1833" y="5543"/>
                  </a:lnTo>
                  <a:lnTo>
                    <a:pt x="1716" y="5524"/>
                  </a:lnTo>
                  <a:lnTo>
                    <a:pt x="1601" y="5485"/>
                  </a:lnTo>
                  <a:lnTo>
                    <a:pt x="1390" y="5370"/>
                  </a:lnTo>
                  <a:lnTo>
                    <a:pt x="1211" y="5225"/>
                  </a:lnTo>
                  <a:lnTo>
                    <a:pt x="1062" y="5056"/>
                  </a:lnTo>
                  <a:lnTo>
                    <a:pt x="940" y="4867"/>
                  </a:lnTo>
                  <a:lnTo>
                    <a:pt x="841" y="4661"/>
                  </a:lnTo>
                  <a:lnTo>
                    <a:pt x="767" y="4447"/>
                  </a:lnTo>
                  <a:lnTo>
                    <a:pt x="712" y="4228"/>
                  </a:lnTo>
                  <a:lnTo>
                    <a:pt x="677" y="4010"/>
                  </a:lnTo>
                  <a:lnTo>
                    <a:pt x="657" y="3959"/>
                  </a:lnTo>
                  <a:lnTo>
                    <a:pt x="630" y="3979"/>
                  </a:lnTo>
                  <a:lnTo>
                    <a:pt x="603" y="3991"/>
                  </a:lnTo>
                  <a:lnTo>
                    <a:pt x="574" y="3994"/>
                  </a:lnTo>
                  <a:lnTo>
                    <a:pt x="544" y="3991"/>
                  </a:lnTo>
                  <a:lnTo>
                    <a:pt x="512" y="3983"/>
                  </a:lnTo>
                  <a:lnTo>
                    <a:pt x="480" y="3972"/>
                  </a:lnTo>
                  <a:lnTo>
                    <a:pt x="447" y="3959"/>
                  </a:lnTo>
                  <a:lnTo>
                    <a:pt x="418" y="3948"/>
                  </a:lnTo>
                  <a:lnTo>
                    <a:pt x="342" y="3898"/>
                  </a:lnTo>
                  <a:lnTo>
                    <a:pt x="273" y="3844"/>
                  </a:lnTo>
                  <a:lnTo>
                    <a:pt x="210" y="3779"/>
                  </a:lnTo>
                  <a:lnTo>
                    <a:pt x="155" y="3711"/>
                  </a:lnTo>
                  <a:lnTo>
                    <a:pt x="105" y="3637"/>
                  </a:lnTo>
                  <a:lnTo>
                    <a:pt x="63" y="3558"/>
                  </a:lnTo>
                  <a:lnTo>
                    <a:pt x="28" y="3477"/>
                  </a:lnTo>
                  <a:lnTo>
                    <a:pt x="3" y="3397"/>
                  </a:lnTo>
                  <a:lnTo>
                    <a:pt x="0" y="3330"/>
                  </a:lnTo>
                  <a:lnTo>
                    <a:pt x="4" y="3262"/>
                  </a:lnTo>
                  <a:lnTo>
                    <a:pt x="14" y="3196"/>
                  </a:lnTo>
                  <a:lnTo>
                    <a:pt x="32" y="3135"/>
                  </a:lnTo>
                  <a:lnTo>
                    <a:pt x="58" y="3076"/>
                  </a:lnTo>
                  <a:lnTo>
                    <a:pt x="97" y="3026"/>
                  </a:lnTo>
                  <a:lnTo>
                    <a:pt x="146" y="2983"/>
                  </a:lnTo>
                  <a:lnTo>
                    <a:pt x="211" y="2951"/>
                  </a:lnTo>
                  <a:lnTo>
                    <a:pt x="241" y="2937"/>
                  </a:lnTo>
                  <a:lnTo>
                    <a:pt x="273" y="2927"/>
                  </a:lnTo>
                  <a:lnTo>
                    <a:pt x="302" y="2921"/>
                  </a:lnTo>
                  <a:lnTo>
                    <a:pt x="335" y="2920"/>
                  </a:lnTo>
                  <a:lnTo>
                    <a:pt x="366" y="2921"/>
                  </a:lnTo>
                  <a:lnTo>
                    <a:pt x="397" y="2927"/>
                  </a:lnTo>
                  <a:lnTo>
                    <a:pt x="428" y="2937"/>
                  </a:lnTo>
                  <a:lnTo>
                    <a:pt x="460" y="2951"/>
                  </a:lnTo>
                  <a:lnTo>
                    <a:pt x="467" y="2959"/>
                  </a:lnTo>
                  <a:lnTo>
                    <a:pt x="474" y="2968"/>
                  </a:lnTo>
                  <a:lnTo>
                    <a:pt x="481" y="2973"/>
                  </a:lnTo>
                  <a:lnTo>
                    <a:pt x="489" y="2979"/>
                  </a:lnTo>
                  <a:lnTo>
                    <a:pt x="497" y="2982"/>
                  </a:lnTo>
                  <a:lnTo>
                    <a:pt x="505" y="2986"/>
                  </a:lnTo>
                  <a:lnTo>
                    <a:pt x="513" y="2989"/>
                  </a:lnTo>
                  <a:lnTo>
                    <a:pt x="522" y="2993"/>
                  </a:lnTo>
                  <a:lnTo>
                    <a:pt x="513" y="2931"/>
                  </a:lnTo>
                  <a:lnTo>
                    <a:pt x="511" y="2866"/>
                  </a:lnTo>
                  <a:lnTo>
                    <a:pt x="508" y="2799"/>
                  </a:lnTo>
                  <a:lnTo>
                    <a:pt x="508" y="2731"/>
                  </a:lnTo>
                  <a:lnTo>
                    <a:pt x="508" y="2661"/>
                  </a:lnTo>
                  <a:lnTo>
                    <a:pt x="509" y="2593"/>
                  </a:lnTo>
                  <a:lnTo>
                    <a:pt x="509" y="2526"/>
                  </a:lnTo>
                  <a:lnTo>
                    <a:pt x="511" y="2464"/>
                  </a:lnTo>
                  <a:lnTo>
                    <a:pt x="482" y="2355"/>
                  </a:lnTo>
                  <a:lnTo>
                    <a:pt x="471" y="2244"/>
                  </a:lnTo>
                  <a:lnTo>
                    <a:pt x="470" y="2130"/>
                  </a:lnTo>
                  <a:lnTo>
                    <a:pt x="480" y="2016"/>
                  </a:lnTo>
                  <a:lnTo>
                    <a:pt x="492" y="1901"/>
                  </a:lnTo>
                  <a:lnTo>
                    <a:pt x="511" y="1787"/>
                  </a:lnTo>
                  <a:lnTo>
                    <a:pt x="527" y="1675"/>
                  </a:lnTo>
                  <a:lnTo>
                    <a:pt x="543" y="1570"/>
                  </a:lnTo>
                  <a:lnTo>
                    <a:pt x="582" y="1433"/>
                  </a:lnTo>
                  <a:lnTo>
                    <a:pt x="640" y="1307"/>
                  </a:lnTo>
                  <a:lnTo>
                    <a:pt x="713" y="1188"/>
                  </a:lnTo>
                  <a:lnTo>
                    <a:pt x="800" y="1078"/>
                  </a:lnTo>
                  <a:lnTo>
                    <a:pt x="896" y="976"/>
                  </a:lnTo>
                  <a:lnTo>
                    <a:pt x="1004" y="881"/>
                  </a:lnTo>
                  <a:lnTo>
                    <a:pt x="1117" y="795"/>
                  </a:lnTo>
                  <a:lnTo>
                    <a:pt x="1238" y="719"/>
                  </a:lnTo>
                  <a:lnTo>
                    <a:pt x="1255" y="655"/>
                  </a:lnTo>
                  <a:lnTo>
                    <a:pt x="1283" y="600"/>
                  </a:lnTo>
                  <a:lnTo>
                    <a:pt x="1318" y="548"/>
                  </a:lnTo>
                  <a:lnTo>
                    <a:pt x="1362" y="501"/>
                  </a:lnTo>
                  <a:lnTo>
                    <a:pt x="1407" y="456"/>
                  </a:lnTo>
                  <a:lnTo>
                    <a:pt x="1454" y="413"/>
                  </a:lnTo>
                  <a:lnTo>
                    <a:pt x="1502" y="368"/>
                  </a:lnTo>
                  <a:lnTo>
                    <a:pt x="1549" y="324"/>
                  </a:lnTo>
                  <a:lnTo>
                    <a:pt x="1627" y="266"/>
                  </a:lnTo>
                  <a:lnTo>
                    <a:pt x="1715" y="222"/>
                  </a:lnTo>
                  <a:lnTo>
                    <a:pt x="1805" y="186"/>
                  </a:lnTo>
                  <a:lnTo>
                    <a:pt x="1897" y="155"/>
                  </a:lnTo>
                  <a:lnTo>
                    <a:pt x="1990" y="127"/>
                  </a:lnTo>
                  <a:lnTo>
                    <a:pt x="2085" y="99"/>
                  </a:lnTo>
                  <a:lnTo>
                    <a:pt x="2176" y="68"/>
                  </a:lnTo>
                  <a:lnTo>
                    <a:pt x="2265" y="34"/>
                  </a:lnTo>
                  <a:lnTo>
                    <a:pt x="2352" y="16"/>
                  </a:lnTo>
                  <a:lnTo>
                    <a:pt x="2443" y="4"/>
                  </a:lnTo>
                  <a:lnTo>
                    <a:pt x="2537" y="0"/>
                  </a:lnTo>
                  <a:lnTo>
                    <a:pt x="2632" y="4"/>
                  </a:lnTo>
                  <a:lnTo>
                    <a:pt x="2723" y="17"/>
                  </a:lnTo>
                  <a:lnTo>
                    <a:pt x="2812" y="39"/>
                  </a:lnTo>
                  <a:lnTo>
                    <a:pt x="2895" y="72"/>
                  </a:lnTo>
                  <a:lnTo>
                    <a:pt x="2969" y="117"/>
                  </a:lnTo>
                  <a:lnTo>
                    <a:pt x="3156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233560" y="808920"/>
              <a:ext cx="137520" cy="57960"/>
            </a:xfrm>
            <a:custGeom>
              <a:avLst/>
              <a:gdLst/>
              <a:ahLst/>
              <a:rect l="l" t="t" r="r" b="b"/>
              <a:pathLst>
                <a:path w="737" h="311">
                  <a:moveTo>
                    <a:pt x="197" y="0"/>
                  </a:moveTo>
                  <a:lnTo>
                    <a:pt x="190" y="7"/>
                  </a:lnTo>
                  <a:lnTo>
                    <a:pt x="187" y="15"/>
                  </a:lnTo>
                  <a:lnTo>
                    <a:pt x="187" y="22"/>
                  </a:lnTo>
                  <a:lnTo>
                    <a:pt x="187" y="31"/>
                  </a:lnTo>
                  <a:lnTo>
                    <a:pt x="218" y="42"/>
                  </a:lnTo>
                  <a:lnTo>
                    <a:pt x="252" y="50"/>
                  </a:lnTo>
                  <a:lnTo>
                    <a:pt x="286" y="55"/>
                  </a:lnTo>
                  <a:lnTo>
                    <a:pt x="322" y="56"/>
                  </a:lnTo>
                  <a:lnTo>
                    <a:pt x="356" y="55"/>
                  </a:lnTo>
                  <a:lnTo>
                    <a:pt x="391" y="53"/>
                  </a:lnTo>
                  <a:lnTo>
                    <a:pt x="424" y="52"/>
                  </a:lnTo>
                  <a:lnTo>
                    <a:pt x="458" y="52"/>
                  </a:lnTo>
                  <a:lnTo>
                    <a:pt x="422" y="63"/>
                  </a:lnTo>
                  <a:lnTo>
                    <a:pt x="386" y="70"/>
                  </a:lnTo>
                  <a:lnTo>
                    <a:pt x="348" y="73"/>
                  </a:lnTo>
                  <a:lnTo>
                    <a:pt x="310" y="77"/>
                  </a:lnTo>
                  <a:lnTo>
                    <a:pt x="272" y="81"/>
                  </a:lnTo>
                  <a:lnTo>
                    <a:pt x="238" y="91"/>
                  </a:lnTo>
                  <a:lnTo>
                    <a:pt x="209" y="108"/>
                  </a:lnTo>
                  <a:lnTo>
                    <a:pt x="187" y="135"/>
                  </a:lnTo>
                  <a:lnTo>
                    <a:pt x="223" y="143"/>
                  </a:lnTo>
                  <a:lnTo>
                    <a:pt x="263" y="145"/>
                  </a:lnTo>
                  <a:lnTo>
                    <a:pt x="304" y="141"/>
                  </a:lnTo>
                  <a:lnTo>
                    <a:pt x="348" y="136"/>
                  </a:lnTo>
                  <a:lnTo>
                    <a:pt x="389" y="132"/>
                  </a:lnTo>
                  <a:lnTo>
                    <a:pt x="431" y="135"/>
                  </a:lnTo>
                  <a:lnTo>
                    <a:pt x="472" y="149"/>
                  </a:lnTo>
                  <a:lnTo>
                    <a:pt x="510" y="177"/>
                  </a:lnTo>
                  <a:lnTo>
                    <a:pt x="633" y="177"/>
                  </a:lnTo>
                  <a:lnTo>
                    <a:pt x="608" y="177"/>
                  </a:lnTo>
                  <a:lnTo>
                    <a:pt x="580" y="176"/>
                  </a:lnTo>
                  <a:lnTo>
                    <a:pt x="552" y="172"/>
                  </a:lnTo>
                  <a:lnTo>
                    <a:pt x="524" y="170"/>
                  </a:lnTo>
                  <a:lnTo>
                    <a:pt x="497" y="170"/>
                  </a:lnTo>
                  <a:lnTo>
                    <a:pt x="474" y="177"/>
                  </a:lnTo>
                  <a:lnTo>
                    <a:pt x="456" y="191"/>
                  </a:lnTo>
                  <a:lnTo>
                    <a:pt x="446" y="218"/>
                  </a:lnTo>
                  <a:lnTo>
                    <a:pt x="480" y="228"/>
                  </a:lnTo>
                  <a:lnTo>
                    <a:pt x="515" y="236"/>
                  </a:lnTo>
                  <a:lnTo>
                    <a:pt x="550" y="243"/>
                  </a:lnTo>
                  <a:lnTo>
                    <a:pt x="587" y="252"/>
                  </a:lnTo>
                  <a:lnTo>
                    <a:pt x="624" y="256"/>
                  </a:lnTo>
                  <a:lnTo>
                    <a:pt x="660" y="260"/>
                  </a:lnTo>
                  <a:lnTo>
                    <a:pt x="698" y="264"/>
                  </a:lnTo>
                  <a:lnTo>
                    <a:pt x="737" y="270"/>
                  </a:lnTo>
                  <a:lnTo>
                    <a:pt x="661" y="270"/>
                  </a:lnTo>
                  <a:lnTo>
                    <a:pt x="586" y="270"/>
                  </a:lnTo>
                  <a:lnTo>
                    <a:pt x="508" y="270"/>
                  </a:lnTo>
                  <a:lnTo>
                    <a:pt x="431" y="274"/>
                  </a:lnTo>
                  <a:lnTo>
                    <a:pt x="352" y="279"/>
                  </a:lnTo>
                  <a:lnTo>
                    <a:pt x="276" y="286"/>
                  </a:lnTo>
                  <a:lnTo>
                    <a:pt x="199" y="295"/>
                  </a:lnTo>
                  <a:lnTo>
                    <a:pt x="126" y="311"/>
                  </a:lnTo>
                  <a:lnTo>
                    <a:pt x="151" y="291"/>
                  </a:lnTo>
                  <a:lnTo>
                    <a:pt x="183" y="277"/>
                  </a:lnTo>
                  <a:lnTo>
                    <a:pt x="217" y="267"/>
                  </a:lnTo>
                  <a:lnTo>
                    <a:pt x="254" y="262"/>
                  </a:lnTo>
                  <a:lnTo>
                    <a:pt x="287" y="252"/>
                  </a:lnTo>
                  <a:lnTo>
                    <a:pt x="321" y="239"/>
                  </a:lnTo>
                  <a:lnTo>
                    <a:pt x="349" y="222"/>
                  </a:lnTo>
                  <a:lnTo>
                    <a:pt x="375" y="197"/>
                  </a:lnTo>
                  <a:lnTo>
                    <a:pt x="341" y="179"/>
                  </a:lnTo>
                  <a:lnTo>
                    <a:pt x="304" y="173"/>
                  </a:lnTo>
                  <a:lnTo>
                    <a:pt x="265" y="174"/>
                  </a:lnTo>
                  <a:lnTo>
                    <a:pt x="227" y="183"/>
                  </a:lnTo>
                  <a:lnTo>
                    <a:pt x="186" y="194"/>
                  </a:lnTo>
                  <a:lnTo>
                    <a:pt x="147" y="210"/>
                  </a:lnTo>
                  <a:lnTo>
                    <a:pt x="109" y="225"/>
                  </a:lnTo>
                  <a:lnTo>
                    <a:pt x="74" y="239"/>
                  </a:lnTo>
                  <a:lnTo>
                    <a:pt x="82" y="231"/>
                  </a:lnTo>
                  <a:lnTo>
                    <a:pt x="90" y="219"/>
                  </a:lnTo>
                  <a:lnTo>
                    <a:pt x="95" y="204"/>
                  </a:lnTo>
                  <a:lnTo>
                    <a:pt x="100" y="188"/>
                  </a:lnTo>
                  <a:lnTo>
                    <a:pt x="102" y="170"/>
                  </a:lnTo>
                  <a:lnTo>
                    <a:pt x="103" y="153"/>
                  </a:lnTo>
                  <a:lnTo>
                    <a:pt x="103" y="136"/>
                  </a:lnTo>
                  <a:lnTo>
                    <a:pt x="104" y="125"/>
                  </a:lnTo>
                  <a:lnTo>
                    <a:pt x="92" y="111"/>
                  </a:lnTo>
                  <a:lnTo>
                    <a:pt x="76" y="104"/>
                  </a:lnTo>
                  <a:lnTo>
                    <a:pt x="58" y="101"/>
                  </a:lnTo>
                  <a:lnTo>
                    <a:pt x="40" y="101"/>
                  </a:lnTo>
                  <a:lnTo>
                    <a:pt x="21" y="101"/>
                  </a:lnTo>
                  <a:lnTo>
                    <a:pt x="9" y="104"/>
                  </a:lnTo>
                  <a:lnTo>
                    <a:pt x="0" y="104"/>
                  </a:lnTo>
                  <a:lnTo>
                    <a:pt x="26" y="93"/>
                  </a:lnTo>
                  <a:lnTo>
                    <a:pt x="55" y="87"/>
                  </a:lnTo>
                  <a:lnTo>
                    <a:pt x="85" y="80"/>
                  </a:lnTo>
                  <a:lnTo>
                    <a:pt x="116" y="74"/>
                  </a:lnTo>
                  <a:lnTo>
                    <a:pt x="141" y="65"/>
                  </a:lnTo>
                  <a:lnTo>
                    <a:pt x="162" y="50"/>
                  </a:lnTo>
                  <a:lnTo>
                    <a:pt x="173" y="29"/>
                  </a:lnTo>
                  <a:lnTo>
                    <a:pt x="178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948800" y="882000"/>
              <a:ext cx="580320" cy="918000"/>
            </a:xfrm>
            <a:custGeom>
              <a:avLst/>
              <a:gdLst/>
              <a:ahLst/>
              <a:rect l="l" t="t" r="r" b="b"/>
              <a:pathLst>
                <a:path w="3111" h="4918">
                  <a:moveTo>
                    <a:pt x="1607" y="3"/>
                  </a:moveTo>
                  <a:lnTo>
                    <a:pt x="1599" y="11"/>
                  </a:lnTo>
                  <a:lnTo>
                    <a:pt x="1599" y="23"/>
                  </a:lnTo>
                  <a:lnTo>
                    <a:pt x="1602" y="35"/>
                  </a:lnTo>
                  <a:lnTo>
                    <a:pt x="1607" y="48"/>
                  </a:lnTo>
                  <a:lnTo>
                    <a:pt x="1609" y="56"/>
                  </a:lnTo>
                  <a:lnTo>
                    <a:pt x="1607" y="62"/>
                  </a:lnTo>
                  <a:lnTo>
                    <a:pt x="1596" y="61"/>
                  </a:lnTo>
                  <a:lnTo>
                    <a:pt x="1576" y="55"/>
                  </a:lnTo>
                  <a:lnTo>
                    <a:pt x="1568" y="72"/>
                  </a:lnTo>
                  <a:lnTo>
                    <a:pt x="1555" y="87"/>
                  </a:lnTo>
                  <a:lnTo>
                    <a:pt x="1540" y="102"/>
                  </a:lnTo>
                  <a:lnTo>
                    <a:pt x="1526" y="117"/>
                  </a:lnTo>
                  <a:lnTo>
                    <a:pt x="1515" y="130"/>
                  </a:lnTo>
                  <a:lnTo>
                    <a:pt x="1513" y="145"/>
                  </a:lnTo>
                  <a:lnTo>
                    <a:pt x="1522" y="161"/>
                  </a:lnTo>
                  <a:lnTo>
                    <a:pt x="1545" y="180"/>
                  </a:lnTo>
                  <a:lnTo>
                    <a:pt x="1619" y="158"/>
                  </a:lnTo>
                  <a:lnTo>
                    <a:pt x="1696" y="140"/>
                  </a:lnTo>
                  <a:lnTo>
                    <a:pt x="1773" y="123"/>
                  </a:lnTo>
                  <a:lnTo>
                    <a:pt x="1854" y="111"/>
                  </a:lnTo>
                  <a:lnTo>
                    <a:pt x="1934" y="102"/>
                  </a:lnTo>
                  <a:lnTo>
                    <a:pt x="2014" y="96"/>
                  </a:lnTo>
                  <a:lnTo>
                    <a:pt x="2095" y="94"/>
                  </a:lnTo>
                  <a:lnTo>
                    <a:pt x="2178" y="97"/>
                  </a:lnTo>
                  <a:lnTo>
                    <a:pt x="2140" y="118"/>
                  </a:lnTo>
                  <a:lnTo>
                    <a:pt x="2100" y="135"/>
                  </a:lnTo>
                  <a:lnTo>
                    <a:pt x="2057" y="148"/>
                  </a:lnTo>
                  <a:lnTo>
                    <a:pt x="2015" y="162"/>
                  </a:lnTo>
                  <a:lnTo>
                    <a:pt x="1973" y="175"/>
                  </a:lnTo>
                  <a:lnTo>
                    <a:pt x="1937" y="193"/>
                  </a:lnTo>
                  <a:lnTo>
                    <a:pt x="1903" y="217"/>
                  </a:lnTo>
                  <a:lnTo>
                    <a:pt x="1877" y="252"/>
                  </a:lnTo>
                  <a:lnTo>
                    <a:pt x="1893" y="261"/>
                  </a:lnTo>
                  <a:lnTo>
                    <a:pt x="1911" y="265"/>
                  </a:lnTo>
                  <a:lnTo>
                    <a:pt x="1931" y="265"/>
                  </a:lnTo>
                  <a:lnTo>
                    <a:pt x="1952" y="263"/>
                  </a:lnTo>
                  <a:lnTo>
                    <a:pt x="1973" y="259"/>
                  </a:lnTo>
                  <a:lnTo>
                    <a:pt x="1997" y="255"/>
                  </a:lnTo>
                  <a:lnTo>
                    <a:pt x="2020" y="252"/>
                  </a:lnTo>
                  <a:lnTo>
                    <a:pt x="2043" y="252"/>
                  </a:lnTo>
                  <a:lnTo>
                    <a:pt x="2072" y="235"/>
                  </a:lnTo>
                  <a:lnTo>
                    <a:pt x="2104" y="227"/>
                  </a:lnTo>
                  <a:lnTo>
                    <a:pt x="2138" y="221"/>
                  </a:lnTo>
                  <a:lnTo>
                    <a:pt x="2176" y="221"/>
                  </a:lnTo>
                  <a:lnTo>
                    <a:pt x="2212" y="221"/>
                  </a:lnTo>
                  <a:lnTo>
                    <a:pt x="2250" y="223"/>
                  </a:lnTo>
                  <a:lnTo>
                    <a:pt x="2287" y="223"/>
                  </a:lnTo>
                  <a:lnTo>
                    <a:pt x="2323" y="221"/>
                  </a:lnTo>
                  <a:lnTo>
                    <a:pt x="2311" y="224"/>
                  </a:lnTo>
                  <a:lnTo>
                    <a:pt x="2298" y="228"/>
                  </a:lnTo>
                  <a:lnTo>
                    <a:pt x="2285" y="231"/>
                  </a:lnTo>
                  <a:lnTo>
                    <a:pt x="2274" y="235"/>
                  </a:lnTo>
                  <a:lnTo>
                    <a:pt x="2261" y="239"/>
                  </a:lnTo>
                  <a:lnTo>
                    <a:pt x="2253" y="248"/>
                  </a:lnTo>
                  <a:lnTo>
                    <a:pt x="2245" y="258"/>
                  </a:lnTo>
                  <a:lnTo>
                    <a:pt x="2240" y="273"/>
                  </a:lnTo>
                  <a:lnTo>
                    <a:pt x="2292" y="304"/>
                  </a:lnTo>
                  <a:lnTo>
                    <a:pt x="2366" y="290"/>
                  </a:lnTo>
                  <a:lnTo>
                    <a:pt x="2441" y="280"/>
                  </a:lnTo>
                  <a:lnTo>
                    <a:pt x="2519" y="275"/>
                  </a:lnTo>
                  <a:lnTo>
                    <a:pt x="2596" y="273"/>
                  </a:lnTo>
                  <a:lnTo>
                    <a:pt x="2672" y="275"/>
                  </a:lnTo>
                  <a:lnTo>
                    <a:pt x="2748" y="280"/>
                  </a:lnTo>
                  <a:lnTo>
                    <a:pt x="2821" y="290"/>
                  </a:lnTo>
                  <a:lnTo>
                    <a:pt x="2894" y="304"/>
                  </a:lnTo>
                  <a:lnTo>
                    <a:pt x="2890" y="317"/>
                  </a:lnTo>
                  <a:lnTo>
                    <a:pt x="2892" y="328"/>
                  </a:lnTo>
                  <a:lnTo>
                    <a:pt x="2896" y="335"/>
                  </a:lnTo>
                  <a:lnTo>
                    <a:pt x="2903" y="342"/>
                  </a:lnTo>
                  <a:lnTo>
                    <a:pt x="2910" y="345"/>
                  </a:lnTo>
                  <a:lnTo>
                    <a:pt x="2918" y="349"/>
                  </a:lnTo>
                  <a:lnTo>
                    <a:pt x="2927" y="352"/>
                  </a:lnTo>
                  <a:lnTo>
                    <a:pt x="2935" y="356"/>
                  </a:lnTo>
                  <a:lnTo>
                    <a:pt x="2966" y="356"/>
                  </a:lnTo>
                  <a:lnTo>
                    <a:pt x="2965" y="404"/>
                  </a:lnTo>
                  <a:lnTo>
                    <a:pt x="2970" y="448"/>
                  </a:lnTo>
                  <a:lnTo>
                    <a:pt x="2982" y="489"/>
                  </a:lnTo>
                  <a:lnTo>
                    <a:pt x="2997" y="529"/>
                  </a:lnTo>
                  <a:lnTo>
                    <a:pt x="3013" y="568"/>
                  </a:lnTo>
                  <a:lnTo>
                    <a:pt x="3031" y="607"/>
                  </a:lnTo>
                  <a:lnTo>
                    <a:pt x="3046" y="645"/>
                  </a:lnTo>
                  <a:lnTo>
                    <a:pt x="3060" y="689"/>
                  </a:lnTo>
                  <a:lnTo>
                    <a:pt x="3098" y="928"/>
                  </a:lnTo>
                  <a:lnTo>
                    <a:pt x="3111" y="1171"/>
                  </a:lnTo>
                  <a:lnTo>
                    <a:pt x="3103" y="1416"/>
                  </a:lnTo>
                  <a:lnTo>
                    <a:pt x="3081" y="1666"/>
                  </a:lnTo>
                  <a:lnTo>
                    <a:pt x="3048" y="1913"/>
                  </a:lnTo>
                  <a:lnTo>
                    <a:pt x="3014" y="2161"/>
                  </a:lnTo>
                  <a:lnTo>
                    <a:pt x="2980" y="2406"/>
                  </a:lnTo>
                  <a:lnTo>
                    <a:pt x="2956" y="2651"/>
                  </a:lnTo>
                  <a:lnTo>
                    <a:pt x="2925" y="2748"/>
                  </a:lnTo>
                  <a:lnTo>
                    <a:pt x="2896" y="2847"/>
                  </a:lnTo>
                  <a:lnTo>
                    <a:pt x="2868" y="2945"/>
                  </a:lnTo>
                  <a:lnTo>
                    <a:pt x="2842" y="3047"/>
                  </a:lnTo>
                  <a:lnTo>
                    <a:pt x="2816" y="3147"/>
                  </a:lnTo>
                  <a:lnTo>
                    <a:pt x="2790" y="3248"/>
                  </a:lnTo>
                  <a:lnTo>
                    <a:pt x="2764" y="3349"/>
                  </a:lnTo>
                  <a:lnTo>
                    <a:pt x="2738" y="3451"/>
                  </a:lnTo>
                  <a:lnTo>
                    <a:pt x="2633" y="3673"/>
                  </a:lnTo>
                  <a:lnTo>
                    <a:pt x="2513" y="3897"/>
                  </a:lnTo>
                  <a:lnTo>
                    <a:pt x="2375" y="4114"/>
                  </a:lnTo>
                  <a:lnTo>
                    <a:pt x="2221" y="4321"/>
                  </a:lnTo>
                  <a:lnTo>
                    <a:pt x="2046" y="4507"/>
                  </a:lnTo>
                  <a:lnTo>
                    <a:pt x="1852" y="4671"/>
                  </a:lnTo>
                  <a:lnTo>
                    <a:pt x="1637" y="4805"/>
                  </a:lnTo>
                  <a:lnTo>
                    <a:pt x="1401" y="4904"/>
                  </a:lnTo>
                  <a:lnTo>
                    <a:pt x="1261" y="4918"/>
                  </a:lnTo>
                  <a:lnTo>
                    <a:pt x="1131" y="4912"/>
                  </a:lnTo>
                  <a:lnTo>
                    <a:pt x="1004" y="4885"/>
                  </a:lnTo>
                  <a:lnTo>
                    <a:pt x="886" y="4842"/>
                  </a:lnTo>
                  <a:lnTo>
                    <a:pt x="772" y="4781"/>
                  </a:lnTo>
                  <a:lnTo>
                    <a:pt x="664" y="4708"/>
                  </a:lnTo>
                  <a:lnTo>
                    <a:pt x="562" y="4624"/>
                  </a:lnTo>
                  <a:lnTo>
                    <a:pt x="467" y="4531"/>
                  </a:lnTo>
                  <a:lnTo>
                    <a:pt x="354" y="4383"/>
                  </a:lnTo>
                  <a:lnTo>
                    <a:pt x="268" y="4228"/>
                  </a:lnTo>
                  <a:lnTo>
                    <a:pt x="202" y="4063"/>
                  </a:lnTo>
                  <a:lnTo>
                    <a:pt x="152" y="3894"/>
                  </a:lnTo>
                  <a:lnTo>
                    <a:pt x="111" y="3720"/>
                  </a:lnTo>
                  <a:lnTo>
                    <a:pt x="77" y="3544"/>
                  </a:lnTo>
                  <a:lnTo>
                    <a:pt x="45" y="3366"/>
                  </a:lnTo>
                  <a:lnTo>
                    <a:pt x="11" y="3192"/>
                  </a:lnTo>
                  <a:lnTo>
                    <a:pt x="2" y="3075"/>
                  </a:lnTo>
                  <a:lnTo>
                    <a:pt x="0" y="2964"/>
                  </a:lnTo>
                  <a:lnTo>
                    <a:pt x="0" y="2852"/>
                  </a:lnTo>
                  <a:lnTo>
                    <a:pt x="5" y="2747"/>
                  </a:lnTo>
                  <a:lnTo>
                    <a:pt x="15" y="2640"/>
                  </a:lnTo>
                  <a:lnTo>
                    <a:pt x="33" y="2533"/>
                  </a:lnTo>
                  <a:lnTo>
                    <a:pt x="59" y="2426"/>
                  </a:lnTo>
                  <a:lnTo>
                    <a:pt x="94" y="2319"/>
                  </a:lnTo>
                  <a:lnTo>
                    <a:pt x="101" y="2184"/>
                  </a:lnTo>
                  <a:lnTo>
                    <a:pt x="118" y="2050"/>
                  </a:lnTo>
                  <a:lnTo>
                    <a:pt x="140" y="1913"/>
                  </a:lnTo>
                  <a:lnTo>
                    <a:pt x="170" y="1778"/>
                  </a:lnTo>
                  <a:lnTo>
                    <a:pt x="199" y="1642"/>
                  </a:lnTo>
                  <a:lnTo>
                    <a:pt x="233" y="1507"/>
                  </a:lnTo>
                  <a:lnTo>
                    <a:pt x="267" y="1371"/>
                  </a:lnTo>
                  <a:lnTo>
                    <a:pt x="301" y="1239"/>
                  </a:lnTo>
                  <a:lnTo>
                    <a:pt x="339" y="1118"/>
                  </a:lnTo>
                  <a:lnTo>
                    <a:pt x="372" y="995"/>
                  </a:lnTo>
                  <a:lnTo>
                    <a:pt x="403" y="870"/>
                  </a:lnTo>
                  <a:lnTo>
                    <a:pt x="437" y="748"/>
                  </a:lnTo>
                  <a:lnTo>
                    <a:pt x="475" y="627"/>
                  </a:lnTo>
                  <a:lnTo>
                    <a:pt x="521" y="511"/>
                  </a:lnTo>
                  <a:lnTo>
                    <a:pt x="579" y="401"/>
                  </a:lnTo>
                  <a:lnTo>
                    <a:pt x="654" y="304"/>
                  </a:lnTo>
                  <a:lnTo>
                    <a:pt x="682" y="293"/>
                  </a:lnTo>
                  <a:lnTo>
                    <a:pt x="710" y="277"/>
                  </a:lnTo>
                  <a:lnTo>
                    <a:pt x="737" y="259"/>
                  </a:lnTo>
                  <a:lnTo>
                    <a:pt x="763" y="244"/>
                  </a:lnTo>
                  <a:lnTo>
                    <a:pt x="789" y="228"/>
                  </a:lnTo>
                  <a:lnTo>
                    <a:pt x="818" y="217"/>
                  </a:lnTo>
                  <a:lnTo>
                    <a:pt x="848" y="214"/>
                  </a:lnTo>
                  <a:lnTo>
                    <a:pt x="882" y="221"/>
                  </a:lnTo>
                  <a:lnTo>
                    <a:pt x="921" y="192"/>
                  </a:lnTo>
                  <a:lnTo>
                    <a:pt x="963" y="163"/>
                  </a:lnTo>
                  <a:lnTo>
                    <a:pt x="1008" y="135"/>
                  </a:lnTo>
                  <a:lnTo>
                    <a:pt x="1055" y="113"/>
                  </a:lnTo>
                  <a:lnTo>
                    <a:pt x="1101" y="93"/>
                  </a:lnTo>
                  <a:lnTo>
                    <a:pt x="1149" y="83"/>
                  </a:lnTo>
                  <a:lnTo>
                    <a:pt x="1197" y="83"/>
                  </a:lnTo>
                  <a:lnTo>
                    <a:pt x="1244" y="97"/>
                  </a:lnTo>
                  <a:lnTo>
                    <a:pt x="1287" y="73"/>
                  </a:lnTo>
                  <a:lnTo>
                    <a:pt x="1329" y="54"/>
                  </a:lnTo>
                  <a:lnTo>
                    <a:pt x="1372" y="35"/>
                  </a:lnTo>
                  <a:lnTo>
                    <a:pt x="1417" y="23"/>
                  </a:lnTo>
                  <a:lnTo>
                    <a:pt x="1461" y="11"/>
                  </a:lnTo>
                  <a:lnTo>
                    <a:pt x="1509" y="4"/>
                  </a:lnTo>
                  <a:lnTo>
                    <a:pt x="1557" y="0"/>
                  </a:lnTo>
                  <a:lnTo>
                    <a:pt x="1607" y="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430840" y="907920"/>
              <a:ext cx="11160" cy="36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4815600">
              <a:off x="8162640" y="938520"/>
              <a:ext cx="91080" cy="105840"/>
            </a:xfrm>
            <a:custGeom>
              <a:avLst/>
              <a:gdLst/>
              <a:ahLst/>
              <a:rect l="l" t="t" r="r" b="b"/>
              <a:pathLst>
                <a:path w="488" h="569">
                  <a:moveTo>
                    <a:pt x="488" y="70"/>
                  </a:moveTo>
                  <a:lnTo>
                    <a:pt x="475" y="75"/>
                  </a:lnTo>
                  <a:lnTo>
                    <a:pt x="464" y="82"/>
                  </a:lnTo>
                  <a:lnTo>
                    <a:pt x="451" y="90"/>
                  </a:lnTo>
                  <a:lnTo>
                    <a:pt x="440" y="99"/>
                  </a:lnTo>
                  <a:lnTo>
                    <a:pt x="427" y="106"/>
                  </a:lnTo>
                  <a:lnTo>
                    <a:pt x="416" y="111"/>
                  </a:lnTo>
                  <a:lnTo>
                    <a:pt x="405" y="113"/>
                  </a:lnTo>
                  <a:lnTo>
                    <a:pt x="393" y="113"/>
                  </a:lnTo>
                  <a:lnTo>
                    <a:pt x="347" y="165"/>
                  </a:lnTo>
                  <a:lnTo>
                    <a:pt x="302" y="213"/>
                  </a:lnTo>
                  <a:lnTo>
                    <a:pt x="256" y="256"/>
                  </a:lnTo>
                  <a:lnTo>
                    <a:pt x="213" y="300"/>
                  </a:lnTo>
                  <a:lnTo>
                    <a:pt x="173" y="344"/>
                  </a:lnTo>
                  <a:lnTo>
                    <a:pt x="140" y="396"/>
                  </a:lnTo>
                  <a:lnTo>
                    <a:pt x="116" y="455"/>
                  </a:lnTo>
                  <a:lnTo>
                    <a:pt x="104" y="528"/>
                  </a:lnTo>
                  <a:lnTo>
                    <a:pt x="104" y="569"/>
                  </a:lnTo>
                  <a:lnTo>
                    <a:pt x="0" y="569"/>
                  </a:lnTo>
                  <a:lnTo>
                    <a:pt x="1" y="534"/>
                  </a:lnTo>
                  <a:lnTo>
                    <a:pt x="9" y="500"/>
                  </a:lnTo>
                  <a:lnTo>
                    <a:pt x="19" y="466"/>
                  </a:lnTo>
                  <a:lnTo>
                    <a:pt x="35" y="434"/>
                  </a:lnTo>
                  <a:lnTo>
                    <a:pt x="50" y="400"/>
                  </a:lnTo>
                  <a:lnTo>
                    <a:pt x="69" y="366"/>
                  </a:lnTo>
                  <a:lnTo>
                    <a:pt x="85" y="332"/>
                  </a:lnTo>
                  <a:lnTo>
                    <a:pt x="104" y="298"/>
                  </a:lnTo>
                  <a:lnTo>
                    <a:pt x="125" y="265"/>
                  </a:lnTo>
                  <a:lnTo>
                    <a:pt x="146" y="229"/>
                  </a:lnTo>
                  <a:lnTo>
                    <a:pt x="166" y="193"/>
                  </a:lnTo>
                  <a:lnTo>
                    <a:pt x="187" y="158"/>
                  </a:lnTo>
                  <a:lnTo>
                    <a:pt x="208" y="120"/>
                  </a:lnTo>
                  <a:lnTo>
                    <a:pt x="229" y="84"/>
                  </a:lnTo>
                  <a:lnTo>
                    <a:pt x="253" y="49"/>
                  </a:lnTo>
                  <a:lnTo>
                    <a:pt x="280" y="18"/>
                  </a:lnTo>
                  <a:lnTo>
                    <a:pt x="303" y="10"/>
                  </a:lnTo>
                  <a:lnTo>
                    <a:pt x="333" y="4"/>
                  </a:lnTo>
                  <a:lnTo>
                    <a:pt x="362" y="0"/>
                  </a:lnTo>
                  <a:lnTo>
                    <a:pt x="395" y="1"/>
                  </a:lnTo>
                  <a:lnTo>
                    <a:pt x="423" y="6"/>
                  </a:lnTo>
                  <a:lnTo>
                    <a:pt x="450" y="20"/>
                  </a:lnTo>
                  <a:lnTo>
                    <a:pt x="471" y="39"/>
                  </a:lnTo>
                  <a:lnTo>
                    <a:pt x="48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18184200">
              <a:off x="8336880" y="953280"/>
              <a:ext cx="92520" cy="101520"/>
            </a:xfrm>
            <a:custGeom>
              <a:avLst/>
              <a:gdLst/>
              <a:ahLst/>
              <a:rect l="l" t="t" r="r" b="b"/>
              <a:pathLst>
                <a:path w="362" h="511">
                  <a:moveTo>
                    <a:pt x="156" y="61"/>
                  </a:moveTo>
                  <a:lnTo>
                    <a:pt x="180" y="88"/>
                  </a:lnTo>
                  <a:lnTo>
                    <a:pt x="208" y="114"/>
                  </a:lnTo>
                  <a:lnTo>
                    <a:pt x="237" y="136"/>
                  </a:lnTo>
                  <a:lnTo>
                    <a:pt x="263" y="159"/>
                  </a:lnTo>
                  <a:lnTo>
                    <a:pt x="284" y="181"/>
                  </a:lnTo>
                  <a:lnTo>
                    <a:pt x="300" y="208"/>
                  </a:lnTo>
                  <a:lnTo>
                    <a:pt x="305" y="239"/>
                  </a:lnTo>
                  <a:lnTo>
                    <a:pt x="301" y="280"/>
                  </a:lnTo>
                  <a:lnTo>
                    <a:pt x="312" y="306"/>
                  </a:lnTo>
                  <a:lnTo>
                    <a:pt x="325" y="336"/>
                  </a:lnTo>
                  <a:lnTo>
                    <a:pt x="338" y="367"/>
                  </a:lnTo>
                  <a:lnTo>
                    <a:pt x="350" y="398"/>
                  </a:lnTo>
                  <a:lnTo>
                    <a:pt x="357" y="426"/>
                  </a:lnTo>
                  <a:lnTo>
                    <a:pt x="362" y="456"/>
                  </a:lnTo>
                  <a:lnTo>
                    <a:pt x="360" y="482"/>
                  </a:lnTo>
                  <a:lnTo>
                    <a:pt x="353" y="508"/>
                  </a:lnTo>
                  <a:lnTo>
                    <a:pt x="335" y="511"/>
                  </a:lnTo>
                  <a:lnTo>
                    <a:pt x="325" y="509"/>
                  </a:lnTo>
                  <a:lnTo>
                    <a:pt x="318" y="502"/>
                  </a:lnTo>
                  <a:lnTo>
                    <a:pt x="315" y="492"/>
                  </a:lnTo>
                  <a:lnTo>
                    <a:pt x="311" y="480"/>
                  </a:lnTo>
                  <a:lnTo>
                    <a:pt x="310" y="467"/>
                  </a:lnTo>
                  <a:lnTo>
                    <a:pt x="305" y="454"/>
                  </a:lnTo>
                  <a:lnTo>
                    <a:pt x="301" y="446"/>
                  </a:lnTo>
                  <a:lnTo>
                    <a:pt x="282" y="419"/>
                  </a:lnTo>
                  <a:lnTo>
                    <a:pt x="262" y="397"/>
                  </a:lnTo>
                  <a:lnTo>
                    <a:pt x="238" y="375"/>
                  </a:lnTo>
                  <a:lnTo>
                    <a:pt x="217" y="356"/>
                  </a:lnTo>
                  <a:lnTo>
                    <a:pt x="194" y="333"/>
                  </a:lnTo>
                  <a:lnTo>
                    <a:pt x="176" y="311"/>
                  </a:lnTo>
                  <a:lnTo>
                    <a:pt x="162" y="285"/>
                  </a:lnTo>
                  <a:lnTo>
                    <a:pt x="156" y="259"/>
                  </a:lnTo>
                  <a:lnTo>
                    <a:pt x="130" y="256"/>
                  </a:lnTo>
                  <a:lnTo>
                    <a:pt x="116" y="242"/>
                  </a:lnTo>
                  <a:lnTo>
                    <a:pt x="107" y="222"/>
                  </a:lnTo>
                  <a:lnTo>
                    <a:pt x="103" y="199"/>
                  </a:lnTo>
                  <a:lnTo>
                    <a:pt x="96" y="177"/>
                  </a:lnTo>
                  <a:lnTo>
                    <a:pt x="87" y="163"/>
                  </a:lnTo>
                  <a:lnTo>
                    <a:pt x="69" y="157"/>
                  </a:lnTo>
                  <a:lnTo>
                    <a:pt x="42" y="166"/>
                  </a:lnTo>
                  <a:lnTo>
                    <a:pt x="27" y="154"/>
                  </a:lnTo>
                  <a:lnTo>
                    <a:pt x="17" y="142"/>
                  </a:lnTo>
                  <a:lnTo>
                    <a:pt x="9" y="126"/>
                  </a:lnTo>
                  <a:lnTo>
                    <a:pt x="4" y="111"/>
                  </a:lnTo>
                  <a:lnTo>
                    <a:pt x="0" y="91"/>
                  </a:lnTo>
                  <a:lnTo>
                    <a:pt x="0" y="74"/>
                  </a:lnTo>
                  <a:lnTo>
                    <a:pt x="0" y="56"/>
                  </a:lnTo>
                  <a:lnTo>
                    <a:pt x="0" y="40"/>
                  </a:lnTo>
                  <a:lnTo>
                    <a:pt x="42" y="0"/>
                  </a:lnTo>
                  <a:lnTo>
                    <a:pt x="54" y="8"/>
                  </a:lnTo>
                  <a:lnTo>
                    <a:pt x="65" y="21"/>
                  </a:lnTo>
                  <a:lnTo>
                    <a:pt x="78" y="33"/>
                  </a:lnTo>
                  <a:lnTo>
                    <a:pt x="90" y="46"/>
                  </a:lnTo>
                  <a:lnTo>
                    <a:pt x="103" y="56"/>
                  </a:lnTo>
                  <a:lnTo>
                    <a:pt x="120" y="63"/>
                  </a:lnTo>
                  <a:lnTo>
                    <a:pt x="137" y="64"/>
                  </a:lnTo>
                  <a:lnTo>
                    <a:pt x="15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102520" y="1014840"/>
              <a:ext cx="166680" cy="227880"/>
            </a:xfrm>
            <a:custGeom>
              <a:avLst/>
              <a:gdLst/>
              <a:ahLst/>
              <a:rect l="l" t="t" r="r" b="b"/>
              <a:pathLst>
                <a:path w="897" h="1510">
                  <a:moveTo>
                    <a:pt x="587" y="0"/>
                  </a:moveTo>
                  <a:lnTo>
                    <a:pt x="575" y="5"/>
                  </a:lnTo>
                  <a:lnTo>
                    <a:pt x="562" y="12"/>
                  </a:lnTo>
                  <a:lnTo>
                    <a:pt x="548" y="19"/>
                  </a:lnTo>
                  <a:lnTo>
                    <a:pt x="535" y="26"/>
                  </a:lnTo>
                  <a:lnTo>
                    <a:pt x="521" y="32"/>
                  </a:lnTo>
                  <a:lnTo>
                    <a:pt x="507" y="41"/>
                  </a:lnTo>
                  <a:lnTo>
                    <a:pt x="495" y="49"/>
                  </a:lnTo>
                  <a:lnTo>
                    <a:pt x="483" y="62"/>
                  </a:lnTo>
                  <a:lnTo>
                    <a:pt x="512" y="52"/>
                  </a:lnTo>
                  <a:lnTo>
                    <a:pt x="544" y="48"/>
                  </a:lnTo>
                  <a:lnTo>
                    <a:pt x="578" y="48"/>
                  </a:lnTo>
                  <a:lnTo>
                    <a:pt x="613" y="52"/>
                  </a:lnTo>
                  <a:lnTo>
                    <a:pt x="647" y="60"/>
                  </a:lnTo>
                  <a:lnTo>
                    <a:pt x="682" y="74"/>
                  </a:lnTo>
                  <a:lnTo>
                    <a:pt x="714" y="91"/>
                  </a:lnTo>
                  <a:lnTo>
                    <a:pt x="744" y="114"/>
                  </a:lnTo>
                  <a:lnTo>
                    <a:pt x="797" y="187"/>
                  </a:lnTo>
                  <a:lnTo>
                    <a:pt x="838" y="269"/>
                  </a:lnTo>
                  <a:lnTo>
                    <a:pt x="866" y="356"/>
                  </a:lnTo>
                  <a:lnTo>
                    <a:pt x="886" y="449"/>
                  </a:lnTo>
                  <a:lnTo>
                    <a:pt x="894" y="545"/>
                  </a:lnTo>
                  <a:lnTo>
                    <a:pt x="897" y="643"/>
                  </a:lnTo>
                  <a:lnTo>
                    <a:pt x="894" y="742"/>
                  </a:lnTo>
                  <a:lnTo>
                    <a:pt x="888" y="840"/>
                  </a:lnTo>
                  <a:lnTo>
                    <a:pt x="866" y="933"/>
                  </a:lnTo>
                  <a:lnTo>
                    <a:pt x="842" y="1027"/>
                  </a:lnTo>
                  <a:lnTo>
                    <a:pt x="811" y="1119"/>
                  </a:lnTo>
                  <a:lnTo>
                    <a:pt x="776" y="1209"/>
                  </a:lnTo>
                  <a:lnTo>
                    <a:pt x="728" y="1291"/>
                  </a:lnTo>
                  <a:lnTo>
                    <a:pt x="670" y="1365"/>
                  </a:lnTo>
                  <a:lnTo>
                    <a:pt x="600" y="1430"/>
                  </a:lnTo>
                  <a:lnTo>
                    <a:pt x="516" y="1485"/>
                  </a:lnTo>
                  <a:lnTo>
                    <a:pt x="465" y="1502"/>
                  </a:lnTo>
                  <a:lnTo>
                    <a:pt x="416" y="1510"/>
                  </a:lnTo>
                  <a:lnTo>
                    <a:pt x="367" y="1509"/>
                  </a:lnTo>
                  <a:lnTo>
                    <a:pt x="322" y="1502"/>
                  </a:lnTo>
                  <a:lnTo>
                    <a:pt x="275" y="1485"/>
                  </a:lnTo>
                  <a:lnTo>
                    <a:pt x="232" y="1465"/>
                  </a:lnTo>
                  <a:lnTo>
                    <a:pt x="189" y="1440"/>
                  </a:lnTo>
                  <a:lnTo>
                    <a:pt x="151" y="1412"/>
                  </a:lnTo>
                  <a:lnTo>
                    <a:pt x="71" y="1308"/>
                  </a:lnTo>
                  <a:lnTo>
                    <a:pt x="23" y="1192"/>
                  </a:lnTo>
                  <a:lnTo>
                    <a:pt x="1" y="1064"/>
                  </a:lnTo>
                  <a:lnTo>
                    <a:pt x="0" y="932"/>
                  </a:lnTo>
                  <a:lnTo>
                    <a:pt x="12" y="795"/>
                  </a:lnTo>
                  <a:lnTo>
                    <a:pt x="36" y="661"/>
                  </a:lnTo>
                  <a:lnTo>
                    <a:pt x="63" y="533"/>
                  </a:lnTo>
                  <a:lnTo>
                    <a:pt x="90" y="415"/>
                  </a:lnTo>
                  <a:lnTo>
                    <a:pt x="123" y="336"/>
                  </a:lnTo>
                  <a:lnTo>
                    <a:pt x="167" y="262"/>
                  </a:lnTo>
                  <a:lnTo>
                    <a:pt x="219" y="191"/>
                  </a:lnTo>
                  <a:lnTo>
                    <a:pt x="279" y="129"/>
                  </a:lnTo>
                  <a:lnTo>
                    <a:pt x="346" y="76"/>
                  </a:lnTo>
                  <a:lnTo>
                    <a:pt x="420" y="35"/>
                  </a:lnTo>
                  <a:lnTo>
                    <a:pt x="499" y="8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171280" y="1032840"/>
              <a:ext cx="291600" cy="438120"/>
            </a:xfrm>
            <a:custGeom>
              <a:avLst/>
              <a:gdLst/>
              <a:ahLst/>
              <a:rect l="l" t="t" r="r" b="b"/>
              <a:pathLst>
                <a:path w="1563" h="2664">
                  <a:moveTo>
                    <a:pt x="1558" y="296"/>
                  </a:moveTo>
                  <a:lnTo>
                    <a:pt x="1563" y="449"/>
                  </a:lnTo>
                  <a:lnTo>
                    <a:pt x="1558" y="603"/>
                  </a:lnTo>
                  <a:lnTo>
                    <a:pt x="1539" y="751"/>
                  </a:lnTo>
                  <a:lnTo>
                    <a:pt x="1508" y="896"/>
                  </a:lnTo>
                  <a:lnTo>
                    <a:pt x="1459" y="1031"/>
                  </a:lnTo>
                  <a:lnTo>
                    <a:pt x="1394" y="1160"/>
                  </a:lnTo>
                  <a:lnTo>
                    <a:pt x="1309" y="1279"/>
                  </a:lnTo>
                  <a:lnTo>
                    <a:pt x="1204" y="1387"/>
                  </a:lnTo>
                  <a:lnTo>
                    <a:pt x="1171" y="1397"/>
                  </a:lnTo>
                  <a:lnTo>
                    <a:pt x="1134" y="1405"/>
                  </a:lnTo>
                  <a:lnTo>
                    <a:pt x="1098" y="1410"/>
                  </a:lnTo>
                  <a:lnTo>
                    <a:pt x="1061" y="1412"/>
                  </a:lnTo>
                  <a:lnTo>
                    <a:pt x="1023" y="1410"/>
                  </a:lnTo>
                  <a:lnTo>
                    <a:pt x="991" y="1402"/>
                  </a:lnTo>
                  <a:lnTo>
                    <a:pt x="960" y="1391"/>
                  </a:lnTo>
                  <a:lnTo>
                    <a:pt x="934" y="1376"/>
                  </a:lnTo>
                  <a:lnTo>
                    <a:pt x="908" y="1362"/>
                  </a:lnTo>
                  <a:lnTo>
                    <a:pt x="882" y="1345"/>
                  </a:lnTo>
                  <a:lnTo>
                    <a:pt x="860" y="1324"/>
                  </a:lnTo>
                  <a:lnTo>
                    <a:pt x="840" y="1304"/>
                  </a:lnTo>
                  <a:lnTo>
                    <a:pt x="820" y="1280"/>
                  </a:lnTo>
                  <a:lnTo>
                    <a:pt x="805" y="1256"/>
                  </a:lnTo>
                  <a:lnTo>
                    <a:pt x="790" y="1232"/>
                  </a:lnTo>
                  <a:lnTo>
                    <a:pt x="778" y="1210"/>
                  </a:lnTo>
                  <a:lnTo>
                    <a:pt x="798" y="1346"/>
                  </a:lnTo>
                  <a:lnTo>
                    <a:pt x="833" y="1487"/>
                  </a:lnTo>
                  <a:lnTo>
                    <a:pt x="873" y="1631"/>
                  </a:lnTo>
                  <a:lnTo>
                    <a:pt x="906" y="1774"/>
                  </a:lnTo>
                  <a:lnTo>
                    <a:pt x="925" y="1915"/>
                  </a:lnTo>
                  <a:lnTo>
                    <a:pt x="922" y="2057"/>
                  </a:lnTo>
                  <a:lnTo>
                    <a:pt x="887" y="2195"/>
                  </a:lnTo>
                  <a:lnTo>
                    <a:pt x="811" y="2332"/>
                  </a:lnTo>
                  <a:lnTo>
                    <a:pt x="801" y="2344"/>
                  </a:lnTo>
                  <a:lnTo>
                    <a:pt x="791" y="2354"/>
                  </a:lnTo>
                  <a:lnTo>
                    <a:pt x="778" y="2363"/>
                  </a:lnTo>
                  <a:lnTo>
                    <a:pt x="767" y="2372"/>
                  </a:lnTo>
                  <a:lnTo>
                    <a:pt x="753" y="2380"/>
                  </a:lnTo>
                  <a:lnTo>
                    <a:pt x="740" y="2389"/>
                  </a:lnTo>
                  <a:lnTo>
                    <a:pt x="728" y="2399"/>
                  </a:lnTo>
                  <a:lnTo>
                    <a:pt x="716" y="2415"/>
                  </a:lnTo>
                  <a:lnTo>
                    <a:pt x="701" y="2449"/>
                  </a:lnTo>
                  <a:lnTo>
                    <a:pt x="681" y="2485"/>
                  </a:lnTo>
                  <a:lnTo>
                    <a:pt x="657" y="2519"/>
                  </a:lnTo>
                  <a:lnTo>
                    <a:pt x="629" y="2553"/>
                  </a:lnTo>
                  <a:lnTo>
                    <a:pt x="597" y="2582"/>
                  </a:lnTo>
                  <a:lnTo>
                    <a:pt x="563" y="2610"/>
                  </a:lnTo>
                  <a:lnTo>
                    <a:pt x="525" y="2633"/>
                  </a:lnTo>
                  <a:lnTo>
                    <a:pt x="489" y="2653"/>
                  </a:lnTo>
                  <a:lnTo>
                    <a:pt x="434" y="2660"/>
                  </a:lnTo>
                  <a:lnTo>
                    <a:pt x="380" y="2664"/>
                  </a:lnTo>
                  <a:lnTo>
                    <a:pt x="330" y="2658"/>
                  </a:lnTo>
                  <a:lnTo>
                    <a:pt x="280" y="2650"/>
                  </a:lnTo>
                  <a:lnTo>
                    <a:pt x="233" y="2632"/>
                  </a:lnTo>
                  <a:lnTo>
                    <a:pt x="188" y="2608"/>
                  </a:lnTo>
                  <a:lnTo>
                    <a:pt x="144" y="2577"/>
                  </a:lnTo>
                  <a:lnTo>
                    <a:pt x="105" y="2539"/>
                  </a:lnTo>
                  <a:lnTo>
                    <a:pt x="81" y="2489"/>
                  </a:lnTo>
                  <a:lnTo>
                    <a:pt x="61" y="2440"/>
                  </a:lnTo>
                  <a:lnTo>
                    <a:pt x="43" y="2387"/>
                  </a:lnTo>
                  <a:lnTo>
                    <a:pt x="29" y="2334"/>
                  </a:lnTo>
                  <a:lnTo>
                    <a:pt x="16" y="2280"/>
                  </a:lnTo>
                  <a:lnTo>
                    <a:pt x="7" y="2226"/>
                  </a:lnTo>
                  <a:lnTo>
                    <a:pt x="2" y="2174"/>
                  </a:lnTo>
                  <a:lnTo>
                    <a:pt x="0" y="2123"/>
                  </a:lnTo>
                  <a:lnTo>
                    <a:pt x="31" y="2092"/>
                  </a:lnTo>
                  <a:lnTo>
                    <a:pt x="48" y="2142"/>
                  </a:lnTo>
                  <a:lnTo>
                    <a:pt x="72" y="2197"/>
                  </a:lnTo>
                  <a:lnTo>
                    <a:pt x="102" y="2253"/>
                  </a:lnTo>
                  <a:lnTo>
                    <a:pt x="137" y="2309"/>
                  </a:lnTo>
                  <a:lnTo>
                    <a:pt x="178" y="2358"/>
                  </a:lnTo>
                  <a:lnTo>
                    <a:pt x="228" y="2402"/>
                  </a:lnTo>
                  <a:lnTo>
                    <a:pt x="286" y="2434"/>
                  </a:lnTo>
                  <a:lnTo>
                    <a:pt x="353" y="2456"/>
                  </a:lnTo>
                  <a:lnTo>
                    <a:pt x="404" y="2444"/>
                  </a:lnTo>
                  <a:lnTo>
                    <a:pt x="455" y="2439"/>
                  </a:lnTo>
                  <a:lnTo>
                    <a:pt x="503" y="2432"/>
                  </a:lnTo>
                  <a:lnTo>
                    <a:pt x="549" y="2426"/>
                  </a:lnTo>
                  <a:lnTo>
                    <a:pt x="593" y="2413"/>
                  </a:lnTo>
                  <a:lnTo>
                    <a:pt x="635" y="2398"/>
                  </a:lnTo>
                  <a:lnTo>
                    <a:pt x="676" y="2374"/>
                  </a:lnTo>
                  <a:lnTo>
                    <a:pt x="716" y="2342"/>
                  </a:lnTo>
                  <a:lnTo>
                    <a:pt x="806" y="2192"/>
                  </a:lnTo>
                  <a:lnTo>
                    <a:pt x="846" y="2036"/>
                  </a:lnTo>
                  <a:lnTo>
                    <a:pt x="846" y="1876"/>
                  </a:lnTo>
                  <a:lnTo>
                    <a:pt x="820" y="1711"/>
                  </a:lnTo>
                  <a:lnTo>
                    <a:pt x="778" y="1543"/>
                  </a:lnTo>
                  <a:lnTo>
                    <a:pt x="735" y="1376"/>
                  </a:lnTo>
                  <a:lnTo>
                    <a:pt x="700" y="1207"/>
                  </a:lnTo>
                  <a:lnTo>
                    <a:pt x="685" y="1043"/>
                  </a:lnTo>
                  <a:lnTo>
                    <a:pt x="694" y="922"/>
                  </a:lnTo>
                  <a:lnTo>
                    <a:pt x="708" y="804"/>
                  </a:lnTo>
                  <a:lnTo>
                    <a:pt x="726" y="686"/>
                  </a:lnTo>
                  <a:lnTo>
                    <a:pt x="752" y="570"/>
                  </a:lnTo>
                  <a:lnTo>
                    <a:pt x="780" y="455"/>
                  </a:lnTo>
                  <a:lnTo>
                    <a:pt x="815" y="344"/>
                  </a:lnTo>
                  <a:lnTo>
                    <a:pt x="856" y="234"/>
                  </a:lnTo>
                  <a:lnTo>
                    <a:pt x="903" y="130"/>
                  </a:lnTo>
                  <a:lnTo>
                    <a:pt x="954" y="100"/>
                  </a:lnTo>
                  <a:lnTo>
                    <a:pt x="1010" y="71"/>
                  </a:lnTo>
                  <a:lnTo>
                    <a:pt x="1068" y="42"/>
                  </a:lnTo>
                  <a:lnTo>
                    <a:pt x="1130" y="20"/>
                  </a:lnTo>
                  <a:lnTo>
                    <a:pt x="1190" y="4"/>
                  </a:lnTo>
                  <a:lnTo>
                    <a:pt x="1254" y="0"/>
                  </a:lnTo>
                  <a:lnTo>
                    <a:pt x="1317" y="10"/>
                  </a:lnTo>
                  <a:lnTo>
                    <a:pt x="1380" y="37"/>
                  </a:lnTo>
                  <a:lnTo>
                    <a:pt x="1417" y="58"/>
                  </a:lnTo>
                  <a:lnTo>
                    <a:pt x="1446" y="86"/>
                  </a:lnTo>
                  <a:lnTo>
                    <a:pt x="1469" y="117"/>
                  </a:lnTo>
                  <a:lnTo>
                    <a:pt x="1487" y="154"/>
                  </a:lnTo>
                  <a:lnTo>
                    <a:pt x="1503" y="189"/>
                  </a:lnTo>
                  <a:lnTo>
                    <a:pt x="1518" y="227"/>
                  </a:lnTo>
                  <a:lnTo>
                    <a:pt x="1535" y="262"/>
                  </a:lnTo>
                  <a:lnTo>
                    <a:pt x="155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117280" y="1035720"/>
              <a:ext cx="139320" cy="196200"/>
            </a:xfrm>
            <a:custGeom>
              <a:avLst/>
              <a:gdLst/>
              <a:ahLst/>
              <a:rect l="l" t="t" r="r" b="b"/>
              <a:pathLst>
                <a:path w="750" h="1299">
                  <a:moveTo>
                    <a:pt x="750" y="540"/>
                  </a:moveTo>
                  <a:lnTo>
                    <a:pt x="740" y="649"/>
                  </a:lnTo>
                  <a:lnTo>
                    <a:pt x="726" y="761"/>
                  </a:lnTo>
                  <a:lnTo>
                    <a:pt x="703" y="870"/>
                  </a:lnTo>
                  <a:lnTo>
                    <a:pt x="672" y="977"/>
                  </a:lnTo>
                  <a:lnTo>
                    <a:pt x="627" y="1074"/>
                  </a:lnTo>
                  <a:lnTo>
                    <a:pt x="567" y="1163"/>
                  </a:lnTo>
                  <a:lnTo>
                    <a:pt x="487" y="1237"/>
                  </a:lnTo>
                  <a:lnTo>
                    <a:pt x="387" y="1298"/>
                  </a:lnTo>
                  <a:lnTo>
                    <a:pt x="347" y="1299"/>
                  </a:lnTo>
                  <a:lnTo>
                    <a:pt x="311" y="1299"/>
                  </a:lnTo>
                  <a:lnTo>
                    <a:pt x="277" y="1296"/>
                  </a:lnTo>
                  <a:lnTo>
                    <a:pt x="245" y="1292"/>
                  </a:lnTo>
                  <a:lnTo>
                    <a:pt x="212" y="1281"/>
                  </a:lnTo>
                  <a:lnTo>
                    <a:pt x="183" y="1267"/>
                  </a:lnTo>
                  <a:lnTo>
                    <a:pt x="153" y="1249"/>
                  </a:lnTo>
                  <a:lnTo>
                    <a:pt x="126" y="1225"/>
                  </a:lnTo>
                  <a:lnTo>
                    <a:pt x="56" y="1112"/>
                  </a:lnTo>
                  <a:lnTo>
                    <a:pt x="17" y="991"/>
                  </a:lnTo>
                  <a:lnTo>
                    <a:pt x="0" y="861"/>
                  </a:lnTo>
                  <a:lnTo>
                    <a:pt x="5" y="730"/>
                  </a:lnTo>
                  <a:lnTo>
                    <a:pt x="24" y="595"/>
                  </a:lnTo>
                  <a:lnTo>
                    <a:pt x="55" y="466"/>
                  </a:lnTo>
                  <a:lnTo>
                    <a:pt x="90" y="342"/>
                  </a:lnTo>
                  <a:lnTo>
                    <a:pt x="126" y="228"/>
                  </a:lnTo>
                  <a:lnTo>
                    <a:pt x="131" y="249"/>
                  </a:lnTo>
                  <a:lnTo>
                    <a:pt x="139" y="270"/>
                  </a:lnTo>
                  <a:lnTo>
                    <a:pt x="149" y="290"/>
                  </a:lnTo>
                  <a:lnTo>
                    <a:pt x="163" y="308"/>
                  </a:lnTo>
                  <a:lnTo>
                    <a:pt x="176" y="325"/>
                  </a:lnTo>
                  <a:lnTo>
                    <a:pt x="193" y="342"/>
                  </a:lnTo>
                  <a:lnTo>
                    <a:pt x="209" y="357"/>
                  </a:lnTo>
                  <a:lnTo>
                    <a:pt x="231" y="374"/>
                  </a:lnTo>
                  <a:lnTo>
                    <a:pt x="253" y="377"/>
                  </a:lnTo>
                  <a:lnTo>
                    <a:pt x="278" y="383"/>
                  </a:lnTo>
                  <a:lnTo>
                    <a:pt x="302" y="385"/>
                  </a:lnTo>
                  <a:lnTo>
                    <a:pt x="326" y="388"/>
                  </a:lnTo>
                  <a:lnTo>
                    <a:pt x="347" y="385"/>
                  </a:lnTo>
                  <a:lnTo>
                    <a:pt x="370" y="378"/>
                  </a:lnTo>
                  <a:lnTo>
                    <a:pt x="388" y="364"/>
                  </a:lnTo>
                  <a:lnTo>
                    <a:pt x="406" y="342"/>
                  </a:lnTo>
                  <a:lnTo>
                    <a:pt x="433" y="312"/>
                  </a:lnTo>
                  <a:lnTo>
                    <a:pt x="460" y="281"/>
                  </a:lnTo>
                  <a:lnTo>
                    <a:pt x="484" y="248"/>
                  </a:lnTo>
                  <a:lnTo>
                    <a:pt x="506" y="212"/>
                  </a:lnTo>
                  <a:lnTo>
                    <a:pt x="522" y="173"/>
                  </a:lnTo>
                  <a:lnTo>
                    <a:pt x="530" y="133"/>
                  </a:lnTo>
                  <a:lnTo>
                    <a:pt x="530" y="93"/>
                  </a:lnTo>
                  <a:lnTo>
                    <a:pt x="522" y="52"/>
                  </a:lnTo>
                  <a:lnTo>
                    <a:pt x="480" y="0"/>
                  </a:lnTo>
                  <a:lnTo>
                    <a:pt x="567" y="25"/>
                  </a:lnTo>
                  <a:lnTo>
                    <a:pt x="629" y="73"/>
                  </a:lnTo>
                  <a:lnTo>
                    <a:pt x="671" y="135"/>
                  </a:lnTo>
                  <a:lnTo>
                    <a:pt x="699" y="211"/>
                  </a:lnTo>
                  <a:lnTo>
                    <a:pt x="714" y="291"/>
                  </a:lnTo>
                  <a:lnTo>
                    <a:pt x="727" y="377"/>
                  </a:lnTo>
                  <a:lnTo>
                    <a:pt x="736" y="460"/>
                  </a:lnTo>
                  <a:lnTo>
                    <a:pt x="750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172720" y="1040400"/>
              <a:ext cx="20160" cy="1872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105" y="49"/>
                  </a:moveTo>
                  <a:lnTo>
                    <a:pt x="107" y="56"/>
                  </a:lnTo>
                  <a:lnTo>
                    <a:pt x="107" y="64"/>
                  </a:lnTo>
                  <a:lnTo>
                    <a:pt x="104" y="73"/>
                  </a:lnTo>
                  <a:lnTo>
                    <a:pt x="101" y="81"/>
                  </a:lnTo>
                  <a:lnTo>
                    <a:pt x="96" y="88"/>
                  </a:lnTo>
                  <a:lnTo>
                    <a:pt x="88" y="95"/>
                  </a:lnTo>
                  <a:lnTo>
                    <a:pt x="81" y="98"/>
                  </a:lnTo>
                  <a:lnTo>
                    <a:pt x="74" y="101"/>
                  </a:lnTo>
                  <a:lnTo>
                    <a:pt x="62" y="100"/>
                  </a:lnTo>
                  <a:lnTo>
                    <a:pt x="51" y="100"/>
                  </a:lnTo>
                  <a:lnTo>
                    <a:pt x="39" y="98"/>
                  </a:lnTo>
                  <a:lnTo>
                    <a:pt x="29" y="97"/>
                  </a:lnTo>
                  <a:lnTo>
                    <a:pt x="20" y="91"/>
                  </a:lnTo>
                  <a:lnTo>
                    <a:pt x="13" y="87"/>
                  </a:lnTo>
                  <a:lnTo>
                    <a:pt x="6" y="77"/>
                  </a:lnTo>
                  <a:lnTo>
                    <a:pt x="3" y="69"/>
                  </a:lnTo>
                  <a:lnTo>
                    <a:pt x="0" y="49"/>
                  </a:lnTo>
                  <a:lnTo>
                    <a:pt x="11" y="29"/>
                  </a:lnTo>
                  <a:lnTo>
                    <a:pt x="29" y="14"/>
                  </a:lnTo>
                  <a:lnTo>
                    <a:pt x="53" y="4"/>
                  </a:lnTo>
                  <a:lnTo>
                    <a:pt x="76" y="0"/>
                  </a:lnTo>
                  <a:lnTo>
                    <a:pt x="94" y="4"/>
                  </a:lnTo>
                  <a:lnTo>
                    <a:pt x="104" y="19"/>
                  </a:lnTo>
                  <a:lnTo>
                    <a:pt x="10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318880" y="1045440"/>
              <a:ext cx="132840" cy="205200"/>
            </a:xfrm>
            <a:custGeom>
              <a:avLst/>
              <a:gdLst/>
              <a:ahLst/>
              <a:rect l="l" t="t" r="r" b="b"/>
              <a:pathLst>
                <a:path w="714" h="1249">
                  <a:moveTo>
                    <a:pt x="694" y="259"/>
                  </a:moveTo>
                  <a:lnTo>
                    <a:pt x="713" y="377"/>
                  </a:lnTo>
                  <a:lnTo>
                    <a:pt x="714" y="494"/>
                  </a:lnTo>
                  <a:lnTo>
                    <a:pt x="703" y="607"/>
                  </a:lnTo>
                  <a:lnTo>
                    <a:pt x="680" y="719"/>
                  </a:lnTo>
                  <a:lnTo>
                    <a:pt x="647" y="828"/>
                  </a:lnTo>
                  <a:lnTo>
                    <a:pt x="607" y="935"/>
                  </a:lnTo>
                  <a:lnTo>
                    <a:pt x="564" y="1039"/>
                  </a:lnTo>
                  <a:lnTo>
                    <a:pt x="519" y="1142"/>
                  </a:lnTo>
                  <a:lnTo>
                    <a:pt x="490" y="1178"/>
                  </a:lnTo>
                  <a:lnTo>
                    <a:pt x="459" y="1206"/>
                  </a:lnTo>
                  <a:lnTo>
                    <a:pt x="424" y="1226"/>
                  </a:lnTo>
                  <a:lnTo>
                    <a:pt x="386" y="1240"/>
                  </a:lnTo>
                  <a:lnTo>
                    <a:pt x="344" y="1246"/>
                  </a:lnTo>
                  <a:lnTo>
                    <a:pt x="302" y="1249"/>
                  </a:lnTo>
                  <a:lnTo>
                    <a:pt x="260" y="1247"/>
                  </a:lnTo>
                  <a:lnTo>
                    <a:pt x="218" y="1246"/>
                  </a:lnTo>
                  <a:lnTo>
                    <a:pt x="153" y="1201"/>
                  </a:lnTo>
                  <a:lnTo>
                    <a:pt x="105" y="1147"/>
                  </a:lnTo>
                  <a:lnTo>
                    <a:pt x="67" y="1085"/>
                  </a:lnTo>
                  <a:lnTo>
                    <a:pt x="42" y="1021"/>
                  </a:lnTo>
                  <a:lnTo>
                    <a:pt x="22" y="949"/>
                  </a:lnTo>
                  <a:lnTo>
                    <a:pt x="11" y="876"/>
                  </a:lnTo>
                  <a:lnTo>
                    <a:pt x="2" y="799"/>
                  </a:lnTo>
                  <a:lnTo>
                    <a:pt x="0" y="726"/>
                  </a:lnTo>
                  <a:lnTo>
                    <a:pt x="7" y="702"/>
                  </a:lnTo>
                  <a:lnTo>
                    <a:pt x="11" y="680"/>
                  </a:lnTo>
                  <a:lnTo>
                    <a:pt x="11" y="657"/>
                  </a:lnTo>
                  <a:lnTo>
                    <a:pt x="9" y="636"/>
                  </a:lnTo>
                  <a:lnTo>
                    <a:pt x="7" y="612"/>
                  </a:lnTo>
                  <a:lnTo>
                    <a:pt x="7" y="590"/>
                  </a:lnTo>
                  <a:lnTo>
                    <a:pt x="11" y="564"/>
                  </a:lnTo>
                  <a:lnTo>
                    <a:pt x="21" y="539"/>
                  </a:lnTo>
                  <a:lnTo>
                    <a:pt x="29" y="511"/>
                  </a:lnTo>
                  <a:lnTo>
                    <a:pt x="36" y="483"/>
                  </a:lnTo>
                  <a:lnTo>
                    <a:pt x="42" y="453"/>
                  </a:lnTo>
                  <a:lnTo>
                    <a:pt x="47" y="425"/>
                  </a:lnTo>
                  <a:lnTo>
                    <a:pt x="52" y="395"/>
                  </a:lnTo>
                  <a:lnTo>
                    <a:pt x="59" y="366"/>
                  </a:lnTo>
                  <a:lnTo>
                    <a:pt x="68" y="338"/>
                  </a:lnTo>
                  <a:lnTo>
                    <a:pt x="83" y="311"/>
                  </a:lnTo>
                  <a:lnTo>
                    <a:pt x="75" y="335"/>
                  </a:lnTo>
                  <a:lnTo>
                    <a:pt x="77" y="355"/>
                  </a:lnTo>
                  <a:lnTo>
                    <a:pt x="85" y="369"/>
                  </a:lnTo>
                  <a:lnTo>
                    <a:pt x="101" y="383"/>
                  </a:lnTo>
                  <a:lnTo>
                    <a:pt x="118" y="393"/>
                  </a:lnTo>
                  <a:lnTo>
                    <a:pt x="137" y="404"/>
                  </a:lnTo>
                  <a:lnTo>
                    <a:pt x="157" y="412"/>
                  </a:lnTo>
                  <a:lnTo>
                    <a:pt x="175" y="425"/>
                  </a:lnTo>
                  <a:lnTo>
                    <a:pt x="216" y="433"/>
                  </a:lnTo>
                  <a:lnTo>
                    <a:pt x="256" y="431"/>
                  </a:lnTo>
                  <a:lnTo>
                    <a:pt x="292" y="418"/>
                  </a:lnTo>
                  <a:lnTo>
                    <a:pt x="329" y="398"/>
                  </a:lnTo>
                  <a:lnTo>
                    <a:pt x="361" y="372"/>
                  </a:lnTo>
                  <a:lnTo>
                    <a:pt x="392" y="342"/>
                  </a:lnTo>
                  <a:lnTo>
                    <a:pt x="420" y="311"/>
                  </a:lnTo>
                  <a:lnTo>
                    <a:pt x="445" y="280"/>
                  </a:lnTo>
                  <a:lnTo>
                    <a:pt x="451" y="256"/>
                  </a:lnTo>
                  <a:lnTo>
                    <a:pt x="458" y="232"/>
                  </a:lnTo>
                  <a:lnTo>
                    <a:pt x="464" y="208"/>
                  </a:lnTo>
                  <a:lnTo>
                    <a:pt x="468" y="186"/>
                  </a:lnTo>
                  <a:lnTo>
                    <a:pt x="468" y="162"/>
                  </a:lnTo>
                  <a:lnTo>
                    <a:pt x="465" y="139"/>
                  </a:lnTo>
                  <a:lnTo>
                    <a:pt x="457" y="115"/>
                  </a:lnTo>
                  <a:lnTo>
                    <a:pt x="445" y="93"/>
                  </a:lnTo>
                  <a:lnTo>
                    <a:pt x="431" y="86"/>
                  </a:lnTo>
                  <a:lnTo>
                    <a:pt x="422" y="77"/>
                  </a:lnTo>
                  <a:lnTo>
                    <a:pt x="414" y="65"/>
                  </a:lnTo>
                  <a:lnTo>
                    <a:pt x="410" y="53"/>
                  </a:lnTo>
                  <a:lnTo>
                    <a:pt x="406" y="38"/>
                  </a:lnTo>
                  <a:lnTo>
                    <a:pt x="403" y="25"/>
                  </a:lnTo>
                  <a:lnTo>
                    <a:pt x="398" y="11"/>
                  </a:lnTo>
                  <a:lnTo>
                    <a:pt x="393" y="0"/>
                  </a:lnTo>
                  <a:lnTo>
                    <a:pt x="451" y="3"/>
                  </a:lnTo>
                  <a:lnTo>
                    <a:pt x="502" y="18"/>
                  </a:lnTo>
                  <a:lnTo>
                    <a:pt x="547" y="43"/>
                  </a:lnTo>
                  <a:lnTo>
                    <a:pt x="586" y="79"/>
                  </a:lnTo>
                  <a:lnTo>
                    <a:pt x="618" y="119"/>
                  </a:lnTo>
                  <a:lnTo>
                    <a:pt x="648" y="165"/>
                  </a:lnTo>
                  <a:lnTo>
                    <a:pt x="672" y="211"/>
                  </a:lnTo>
                  <a:lnTo>
                    <a:pt x="694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363160" y="1066320"/>
              <a:ext cx="18720" cy="19800"/>
            </a:xfrm>
            <a:custGeom>
              <a:avLst/>
              <a:gdLst/>
              <a:ahLst/>
              <a:rect l="l" t="t" r="r" b="b"/>
              <a:pathLst>
                <a:path w="100" h="106">
                  <a:moveTo>
                    <a:pt x="92" y="2"/>
                  </a:moveTo>
                  <a:lnTo>
                    <a:pt x="97" y="13"/>
                  </a:lnTo>
                  <a:lnTo>
                    <a:pt x="100" y="26"/>
                  </a:lnTo>
                  <a:lnTo>
                    <a:pt x="98" y="40"/>
                  </a:lnTo>
                  <a:lnTo>
                    <a:pt x="95" y="54"/>
                  </a:lnTo>
                  <a:lnTo>
                    <a:pt x="88" y="67"/>
                  </a:lnTo>
                  <a:lnTo>
                    <a:pt x="81" y="81"/>
                  </a:lnTo>
                  <a:lnTo>
                    <a:pt x="71" y="93"/>
                  </a:lnTo>
                  <a:lnTo>
                    <a:pt x="62" y="106"/>
                  </a:lnTo>
                  <a:lnTo>
                    <a:pt x="47" y="103"/>
                  </a:lnTo>
                  <a:lnTo>
                    <a:pt x="35" y="100"/>
                  </a:lnTo>
                  <a:lnTo>
                    <a:pt x="22" y="93"/>
                  </a:lnTo>
                  <a:lnTo>
                    <a:pt x="12" y="86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9" y="44"/>
                  </a:lnTo>
                  <a:lnTo>
                    <a:pt x="11" y="26"/>
                  </a:lnTo>
                  <a:lnTo>
                    <a:pt x="18" y="15"/>
                  </a:lnTo>
                  <a:lnTo>
                    <a:pt x="26" y="6"/>
                  </a:lnTo>
                  <a:lnTo>
                    <a:pt x="39" y="3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550720" y="1122840"/>
              <a:ext cx="180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531280" y="1190880"/>
              <a:ext cx="39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832880" y="1342080"/>
              <a:ext cx="106200" cy="173520"/>
            </a:xfrm>
            <a:custGeom>
              <a:avLst/>
              <a:gdLst/>
              <a:ahLst/>
              <a:rect l="l" t="t" r="r" b="b"/>
              <a:pathLst>
                <a:path w="573" h="932">
                  <a:moveTo>
                    <a:pt x="480" y="177"/>
                  </a:moveTo>
                  <a:lnTo>
                    <a:pt x="519" y="262"/>
                  </a:lnTo>
                  <a:lnTo>
                    <a:pt x="542" y="350"/>
                  </a:lnTo>
                  <a:lnTo>
                    <a:pt x="550" y="438"/>
                  </a:lnTo>
                  <a:lnTo>
                    <a:pt x="553" y="528"/>
                  </a:lnTo>
                  <a:lnTo>
                    <a:pt x="550" y="618"/>
                  </a:lnTo>
                  <a:lnTo>
                    <a:pt x="550" y="712"/>
                  </a:lnTo>
                  <a:lnTo>
                    <a:pt x="556" y="807"/>
                  </a:lnTo>
                  <a:lnTo>
                    <a:pt x="573" y="904"/>
                  </a:lnTo>
                  <a:lnTo>
                    <a:pt x="547" y="919"/>
                  </a:lnTo>
                  <a:lnTo>
                    <a:pt x="522" y="929"/>
                  </a:lnTo>
                  <a:lnTo>
                    <a:pt x="495" y="932"/>
                  </a:lnTo>
                  <a:lnTo>
                    <a:pt x="469" y="932"/>
                  </a:lnTo>
                  <a:lnTo>
                    <a:pt x="440" y="925"/>
                  </a:lnTo>
                  <a:lnTo>
                    <a:pt x="415" y="914"/>
                  </a:lnTo>
                  <a:lnTo>
                    <a:pt x="388" y="900"/>
                  </a:lnTo>
                  <a:lnTo>
                    <a:pt x="366" y="883"/>
                  </a:lnTo>
                  <a:lnTo>
                    <a:pt x="284" y="809"/>
                  </a:lnTo>
                  <a:lnTo>
                    <a:pt x="208" y="735"/>
                  </a:lnTo>
                  <a:lnTo>
                    <a:pt x="139" y="655"/>
                  </a:lnTo>
                  <a:lnTo>
                    <a:pt x="83" y="571"/>
                  </a:lnTo>
                  <a:lnTo>
                    <a:pt x="38" y="481"/>
                  </a:lnTo>
                  <a:lnTo>
                    <a:pt x="10" y="387"/>
                  </a:lnTo>
                  <a:lnTo>
                    <a:pt x="0" y="286"/>
                  </a:lnTo>
                  <a:lnTo>
                    <a:pt x="13" y="177"/>
                  </a:lnTo>
                  <a:lnTo>
                    <a:pt x="27" y="143"/>
                  </a:lnTo>
                  <a:lnTo>
                    <a:pt x="48" y="114"/>
                  </a:lnTo>
                  <a:lnTo>
                    <a:pt x="72" y="89"/>
                  </a:lnTo>
                  <a:lnTo>
                    <a:pt x="101" y="69"/>
                  </a:lnTo>
                  <a:lnTo>
                    <a:pt x="132" y="48"/>
                  </a:lnTo>
                  <a:lnTo>
                    <a:pt x="165" y="31"/>
                  </a:lnTo>
                  <a:lnTo>
                    <a:pt x="197" y="14"/>
                  </a:lnTo>
                  <a:lnTo>
                    <a:pt x="231" y="0"/>
                  </a:lnTo>
                  <a:lnTo>
                    <a:pt x="272" y="3"/>
                  </a:lnTo>
                  <a:lnTo>
                    <a:pt x="311" y="13"/>
                  </a:lnTo>
                  <a:lnTo>
                    <a:pt x="348" y="29"/>
                  </a:lnTo>
                  <a:lnTo>
                    <a:pt x="381" y="52"/>
                  </a:lnTo>
                  <a:lnTo>
                    <a:pt x="411" y="77"/>
                  </a:lnTo>
                  <a:lnTo>
                    <a:pt x="439" y="108"/>
                  </a:lnTo>
                  <a:lnTo>
                    <a:pt x="460" y="141"/>
                  </a:lnTo>
                  <a:lnTo>
                    <a:pt x="480" y="177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484840" y="1377360"/>
              <a:ext cx="92520" cy="109440"/>
            </a:xfrm>
            <a:custGeom>
              <a:avLst/>
              <a:gdLst/>
              <a:ahLst/>
              <a:rect l="l" t="t" r="r" b="b"/>
              <a:pathLst>
                <a:path w="498" h="589">
                  <a:moveTo>
                    <a:pt x="498" y="112"/>
                  </a:moveTo>
                  <a:lnTo>
                    <a:pt x="498" y="164"/>
                  </a:lnTo>
                  <a:lnTo>
                    <a:pt x="436" y="167"/>
                  </a:lnTo>
                  <a:lnTo>
                    <a:pt x="379" y="184"/>
                  </a:lnTo>
                  <a:lnTo>
                    <a:pt x="322" y="212"/>
                  </a:lnTo>
                  <a:lnTo>
                    <a:pt x="272" y="249"/>
                  </a:lnTo>
                  <a:lnTo>
                    <a:pt x="221" y="290"/>
                  </a:lnTo>
                  <a:lnTo>
                    <a:pt x="176" y="337"/>
                  </a:lnTo>
                  <a:lnTo>
                    <a:pt x="133" y="385"/>
                  </a:lnTo>
                  <a:lnTo>
                    <a:pt x="93" y="435"/>
                  </a:lnTo>
                  <a:lnTo>
                    <a:pt x="78" y="453"/>
                  </a:lnTo>
                  <a:lnTo>
                    <a:pt x="68" y="474"/>
                  </a:lnTo>
                  <a:lnTo>
                    <a:pt x="58" y="495"/>
                  </a:lnTo>
                  <a:lnTo>
                    <a:pt x="51" y="516"/>
                  </a:lnTo>
                  <a:lnTo>
                    <a:pt x="40" y="535"/>
                  </a:lnTo>
                  <a:lnTo>
                    <a:pt x="30" y="554"/>
                  </a:lnTo>
                  <a:lnTo>
                    <a:pt x="16" y="571"/>
                  </a:lnTo>
                  <a:lnTo>
                    <a:pt x="0" y="589"/>
                  </a:lnTo>
                  <a:lnTo>
                    <a:pt x="93" y="237"/>
                  </a:lnTo>
                  <a:lnTo>
                    <a:pt x="133" y="192"/>
                  </a:lnTo>
                  <a:lnTo>
                    <a:pt x="182" y="138"/>
                  </a:lnTo>
                  <a:lnTo>
                    <a:pt x="237" y="81"/>
                  </a:lnTo>
                  <a:lnTo>
                    <a:pt x="296" y="33"/>
                  </a:lnTo>
                  <a:lnTo>
                    <a:pt x="352" y="2"/>
                  </a:lnTo>
                  <a:lnTo>
                    <a:pt x="408" y="0"/>
                  </a:lnTo>
                  <a:lnTo>
                    <a:pt x="457" y="32"/>
                  </a:lnTo>
                  <a:lnTo>
                    <a:pt x="498" y="112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842240" y="1383840"/>
              <a:ext cx="85320" cy="83880"/>
            </a:xfrm>
            <a:custGeom>
              <a:avLst/>
              <a:gdLst/>
              <a:ahLst/>
              <a:rect l="l" t="t" r="r" b="b"/>
              <a:pathLst>
                <a:path w="459" h="452">
                  <a:moveTo>
                    <a:pt x="459" y="286"/>
                  </a:moveTo>
                  <a:lnTo>
                    <a:pt x="454" y="297"/>
                  </a:lnTo>
                  <a:lnTo>
                    <a:pt x="454" y="309"/>
                  </a:lnTo>
                  <a:lnTo>
                    <a:pt x="454" y="322"/>
                  </a:lnTo>
                  <a:lnTo>
                    <a:pt x="456" y="335"/>
                  </a:lnTo>
                  <a:lnTo>
                    <a:pt x="454" y="346"/>
                  </a:lnTo>
                  <a:lnTo>
                    <a:pt x="452" y="359"/>
                  </a:lnTo>
                  <a:lnTo>
                    <a:pt x="446" y="369"/>
                  </a:lnTo>
                  <a:lnTo>
                    <a:pt x="438" y="378"/>
                  </a:lnTo>
                  <a:lnTo>
                    <a:pt x="426" y="376"/>
                  </a:lnTo>
                  <a:lnTo>
                    <a:pt x="418" y="369"/>
                  </a:lnTo>
                  <a:lnTo>
                    <a:pt x="412" y="359"/>
                  </a:lnTo>
                  <a:lnTo>
                    <a:pt x="408" y="347"/>
                  </a:lnTo>
                  <a:lnTo>
                    <a:pt x="404" y="333"/>
                  </a:lnTo>
                  <a:lnTo>
                    <a:pt x="402" y="321"/>
                  </a:lnTo>
                  <a:lnTo>
                    <a:pt x="398" y="307"/>
                  </a:lnTo>
                  <a:lnTo>
                    <a:pt x="397" y="295"/>
                  </a:lnTo>
                  <a:lnTo>
                    <a:pt x="383" y="300"/>
                  </a:lnTo>
                  <a:lnTo>
                    <a:pt x="370" y="302"/>
                  </a:lnTo>
                  <a:lnTo>
                    <a:pt x="356" y="301"/>
                  </a:lnTo>
                  <a:lnTo>
                    <a:pt x="343" y="298"/>
                  </a:lnTo>
                  <a:lnTo>
                    <a:pt x="331" y="290"/>
                  </a:lnTo>
                  <a:lnTo>
                    <a:pt x="322" y="280"/>
                  </a:lnTo>
                  <a:lnTo>
                    <a:pt x="315" y="267"/>
                  </a:lnTo>
                  <a:lnTo>
                    <a:pt x="314" y="255"/>
                  </a:lnTo>
                  <a:lnTo>
                    <a:pt x="305" y="255"/>
                  </a:lnTo>
                  <a:lnTo>
                    <a:pt x="297" y="257"/>
                  </a:lnTo>
                  <a:lnTo>
                    <a:pt x="290" y="260"/>
                  </a:lnTo>
                  <a:lnTo>
                    <a:pt x="284" y="266"/>
                  </a:lnTo>
                  <a:lnTo>
                    <a:pt x="277" y="271"/>
                  </a:lnTo>
                  <a:lnTo>
                    <a:pt x="274" y="278"/>
                  </a:lnTo>
                  <a:lnTo>
                    <a:pt x="272" y="287"/>
                  </a:lnTo>
                  <a:lnTo>
                    <a:pt x="272" y="295"/>
                  </a:lnTo>
                  <a:lnTo>
                    <a:pt x="266" y="314"/>
                  </a:lnTo>
                  <a:lnTo>
                    <a:pt x="267" y="332"/>
                  </a:lnTo>
                  <a:lnTo>
                    <a:pt x="273" y="349"/>
                  </a:lnTo>
                  <a:lnTo>
                    <a:pt x="284" y="366"/>
                  </a:lnTo>
                  <a:lnTo>
                    <a:pt x="296" y="378"/>
                  </a:lnTo>
                  <a:lnTo>
                    <a:pt x="312" y="390"/>
                  </a:lnTo>
                  <a:lnTo>
                    <a:pt x="328" y="397"/>
                  </a:lnTo>
                  <a:lnTo>
                    <a:pt x="345" y="400"/>
                  </a:lnTo>
                  <a:lnTo>
                    <a:pt x="359" y="402"/>
                  </a:lnTo>
                  <a:lnTo>
                    <a:pt x="374" y="404"/>
                  </a:lnTo>
                  <a:lnTo>
                    <a:pt x="386" y="404"/>
                  </a:lnTo>
                  <a:lnTo>
                    <a:pt x="397" y="409"/>
                  </a:lnTo>
                  <a:lnTo>
                    <a:pt x="394" y="419"/>
                  </a:lnTo>
                  <a:lnTo>
                    <a:pt x="391" y="429"/>
                  </a:lnTo>
                  <a:lnTo>
                    <a:pt x="384" y="438"/>
                  </a:lnTo>
                  <a:lnTo>
                    <a:pt x="377" y="445"/>
                  </a:lnTo>
                  <a:lnTo>
                    <a:pt x="367" y="449"/>
                  </a:lnTo>
                  <a:lnTo>
                    <a:pt x="357" y="452"/>
                  </a:lnTo>
                  <a:lnTo>
                    <a:pt x="346" y="452"/>
                  </a:lnTo>
                  <a:lnTo>
                    <a:pt x="335" y="452"/>
                  </a:lnTo>
                  <a:lnTo>
                    <a:pt x="310" y="452"/>
                  </a:lnTo>
                  <a:lnTo>
                    <a:pt x="287" y="449"/>
                  </a:lnTo>
                  <a:lnTo>
                    <a:pt x="265" y="442"/>
                  </a:lnTo>
                  <a:lnTo>
                    <a:pt x="245" y="432"/>
                  </a:lnTo>
                  <a:lnTo>
                    <a:pt x="225" y="416"/>
                  </a:lnTo>
                  <a:lnTo>
                    <a:pt x="210" y="400"/>
                  </a:lnTo>
                  <a:lnTo>
                    <a:pt x="197" y="378"/>
                  </a:lnTo>
                  <a:lnTo>
                    <a:pt x="189" y="357"/>
                  </a:lnTo>
                  <a:lnTo>
                    <a:pt x="187" y="328"/>
                  </a:lnTo>
                  <a:lnTo>
                    <a:pt x="191" y="298"/>
                  </a:lnTo>
                  <a:lnTo>
                    <a:pt x="200" y="267"/>
                  </a:lnTo>
                  <a:lnTo>
                    <a:pt x="213" y="238"/>
                  </a:lnTo>
                  <a:lnTo>
                    <a:pt x="228" y="210"/>
                  </a:lnTo>
                  <a:lnTo>
                    <a:pt x="248" y="186"/>
                  </a:lnTo>
                  <a:lnTo>
                    <a:pt x="269" y="164"/>
                  </a:lnTo>
                  <a:lnTo>
                    <a:pt x="293" y="150"/>
                  </a:lnTo>
                  <a:lnTo>
                    <a:pt x="273" y="121"/>
                  </a:lnTo>
                  <a:lnTo>
                    <a:pt x="252" y="101"/>
                  </a:lnTo>
                  <a:lnTo>
                    <a:pt x="227" y="87"/>
                  </a:lnTo>
                  <a:lnTo>
                    <a:pt x="198" y="80"/>
                  </a:lnTo>
                  <a:lnTo>
                    <a:pt x="168" y="76"/>
                  </a:lnTo>
                  <a:lnTo>
                    <a:pt x="137" y="76"/>
                  </a:lnTo>
                  <a:lnTo>
                    <a:pt x="104" y="80"/>
                  </a:lnTo>
                  <a:lnTo>
                    <a:pt x="75" y="88"/>
                  </a:lnTo>
                  <a:lnTo>
                    <a:pt x="65" y="91"/>
                  </a:lnTo>
                  <a:lnTo>
                    <a:pt x="52" y="93"/>
                  </a:lnTo>
                  <a:lnTo>
                    <a:pt x="44" y="93"/>
                  </a:lnTo>
                  <a:lnTo>
                    <a:pt x="37" y="93"/>
                  </a:lnTo>
                  <a:lnTo>
                    <a:pt x="30" y="94"/>
                  </a:lnTo>
                  <a:lnTo>
                    <a:pt x="23" y="98"/>
                  </a:lnTo>
                  <a:lnTo>
                    <a:pt x="14" y="93"/>
                  </a:lnTo>
                  <a:lnTo>
                    <a:pt x="9" y="87"/>
                  </a:lnTo>
                  <a:lnTo>
                    <a:pt x="4" y="79"/>
                  </a:lnTo>
                  <a:lnTo>
                    <a:pt x="2" y="72"/>
                  </a:lnTo>
                  <a:lnTo>
                    <a:pt x="0" y="63"/>
                  </a:lnTo>
                  <a:lnTo>
                    <a:pt x="2" y="56"/>
                  </a:lnTo>
                  <a:lnTo>
                    <a:pt x="4" y="49"/>
                  </a:lnTo>
                  <a:lnTo>
                    <a:pt x="13" y="46"/>
                  </a:lnTo>
                  <a:lnTo>
                    <a:pt x="40" y="22"/>
                  </a:lnTo>
                  <a:lnTo>
                    <a:pt x="68" y="8"/>
                  </a:lnTo>
                  <a:lnTo>
                    <a:pt x="97" y="0"/>
                  </a:lnTo>
                  <a:lnTo>
                    <a:pt x="127" y="0"/>
                  </a:lnTo>
                  <a:lnTo>
                    <a:pt x="155" y="1"/>
                  </a:lnTo>
                  <a:lnTo>
                    <a:pt x="184" y="8"/>
                  </a:lnTo>
                  <a:lnTo>
                    <a:pt x="213" y="17"/>
                  </a:lnTo>
                  <a:lnTo>
                    <a:pt x="241" y="25"/>
                  </a:lnTo>
                  <a:lnTo>
                    <a:pt x="280" y="49"/>
                  </a:lnTo>
                  <a:lnTo>
                    <a:pt x="315" y="76"/>
                  </a:lnTo>
                  <a:lnTo>
                    <a:pt x="345" y="104"/>
                  </a:lnTo>
                  <a:lnTo>
                    <a:pt x="373" y="136"/>
                  </a:lnTo>
                  <a:lnTo>
                    <a:pt x="395" y="169"/>
                  </a:lnTo>
                  <a:lnTo>
                    <a:pt x="418" y="204"/>
                  </a:lnTo>
                  <a:lnTo>
                    <a:pt x="438" y="242"/>
                  </a:lnTo>
                  <a:lnTo>
                    <a:pt x="459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515080" y="1383120"/>
              <a:ext cx="8640" cy="504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5" y="31"/>
                  </a:moveTo>
                  <a:lnTo>
                    <a:pt x="0" y="17"/>
                  </a:lnTo>
                  <a:lnTo>
                    <a:pt x="1" y="13"/>
                  </a:lnTo>
                  <a:lnTo>
                    <a:pt x="5" y="10"/>
                  </a:lnTo>
                  <a:lnTo>
                    <a:pt x="14" y="11"/>
                  </a:lnTo>
                  <a:lnTo>
                    <a:pt x="22" y="11"/>
                  </a:lnTo>
                  <a:lnTo>
                    <a:pt x="32" y="11"/>
                  </a:lnTo>
                  <a:lnTo>
                    <a:pt x="40" y="7"/>
                  </a:lnTo>
                  <a:lnTo>
                    <a:pt x="47" y="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456040" y="1416240"/>
              <a:ext cx="121680" cy="148680"/>
            </a:xfrm>
            <a:custGeom>
              <a:avLst/>
              <a:gdLst/>
              <a:ahLst/>
              <a:rect l="l" t="t" r="r" b="b"/>
              <a:pathLst>
                <a:path w="654" h="798">
                  <a:moveTo>
                    <a:pt x="291" y="664"/>
                  </a:moveTo>
                  <a:lnTo>
                    <a:pt x="256" y="684"/>
                  </a:lnTo>
                  <a:lnTo>
                    <a:pt x="222" y="705"/>
                  </a:lnTo>
                  <a:lnTo>
                    <a:pt x="187" y="727"/>
                  </a:lnTo>
                  <a:lnTo>
                    <a:pt x="153" y="750"/>
                  </a:lnTo>
                  <a:lnTo>
                    <a:pt x="117" y="768"/>
                  </a:lnTo>
                  <a:lnTo>
                    <a:pt x="80" y="784"/>
                  </a:lnTo>
                  <a:lnTo>
                    <a:pt x="41" y="794"/>
                  </a:lnTo>
                  <a:lnTo>
                    <a:pt x="0" y="798"/>
                  </a:lnTo>
                  <a:lnTo>
                    <a:pt x="125" y="477"/>
                  </a:lnTo>
                  <a:lnTo>
                    <a:pt x="162" y="467"/>
                  </a:lnTo>
                  <a:lnTo>
                    <a:pt x="191" y="446"/>
                  </a:lnTo>
                  <a:lnTo>
                    <a:pt x="217" y="415"/>
                  </a:lnTo>
                  <a:lnTo>
                    <a:pt x="241" y="381"/>
                  </a:lnTo>
                  <a:lnTo>
                    <a:pt x="263" y="344"/>
                  </a:lnTo>
                  <a:lnTo>
                    <a:pt x="290" y="313"/>
                  </a:lnTo>
                  <a:lnTo>
                    <a:pt x="321" y="290"/>
                  </a:lnTo>
                  <a:lnTo>
                    <a:pt x="364" y="280"/>
                  </a:lnTo>
                  <a:lnTo>
                    <a:pt x="374" y="318"/>
                  </a:lnTo>
                  <a:lnTo>
                    <a:pt x="363" y="353"/>
                  </a:lnTo>
                  <a:lnTo>
                    <a:pt x="338" y="382"/>
                  </a:lnTo>
                  <a:lnTo>
                    <a:pt x="305" y="411"/>
                  </a:lnTo>
                  <a:lnTo>
                    <a:pt x="270" y="437"/>
                  </a:lnTo>
                  <a:lnTo>
                    <a:pt x="245" y="466"/>
                  </a:lnTo>
                  <a:lnTo>
                    <a:pt x="231" y="495"/>
                  </a:lnTo>
                  <a:lnTo>
                    <a:pt x="239" y="529"/>
                  </a:lnTo>
                  <a:lnTo>
                    <a:pt x="274" y="512"/>
                  </a:lnTo>
                  <a:lnTo>
                    <a:pt x="307" y="492"/>
                  </a:lnTo>
                  <a:lnTo>
                    <a:pt x="336" y="468"/>
                  </a:lnTo>
                  <a:lnTo>
                    <a:pt x="363" y="440"/>
                  </a:lnTo>
                  <a:lnTo>
                    <a:pt x="387" y="409"/>
                  </a:lnTo>
                  <a:lnTo>
                    <a:pt x="411" y="378"/>
                  </a:lnTo>
                  <a:lnTo>
                    <a:pt x="433" y="349"/>
                  </a:lnTo>
                  <a:lnTo>
                    <a:pt x="457" y="320"/>
                  </a:lnTo>
                  <a:lnTo>
                    <a:pt x="470" y="292"/>
                  </a:lnTo>
                  <a:lnTo>
                    <a:pt x="473" y="268"/>
                  </a:lnTo>
                  <a:lnTo>
                    <a:pt x="466" y="244"/>
                  </a:lnTo>
                  <a:lnTo>
                    <a:pt x="455" y="225"/>
                  </a:lnTo>
                  <a:lnTo>
                    <a:pt x="435" y="208"/>
                  </a:lnTo>
                  <a:lnTo>
                    <a:pt x="415" y="195"/>
                  </a:lnTo>
                  <a:lnTo>
                    <a:pt x="394" y="187"/>
                  </a:lnTo>
                  <a:lnTo>
                    <a:pt x="374" y="185"/>
                  </a:lnTo>
                  <a:lnTo>
                    <a:pt x="400" y="147"/>
                  </a:lnTo>
                  <a:lnTo>
                    <a:pt x="429" y="118"/>
                  </a:lnTo>
                  <a:lnTo>
                    <a:pt x="462" y="91"/>
                  </a:lnTo>
                  <a:lnTo>
                    <a:pt x="498" y="68"/>
                  </a:lnTo>
                  <a:lnTo>
                    <a:pt x="535" y="47"/>
                  </a:lnTo>
                  <a:lnTo>
                    <a:pt x="574" y="30"/>
                  </a:lnTo>
                  <a:lnTo>
                    <a:pt x="613" y="14"/>
                  </a:lnTo>
                  <a:lnTo>
                    <a:pt x="654" y="0"/>
                  </a:lnTo>
                  <a:lnTo>
                    <a:pt x="653" y="95"/>
                  </a:lnTo>
                  <a:lnTo>
                    <a:pt x="639" y="190"/>
                  </a:lnTo>
                  <a:lnTo>
                    <a:pt x="611" y="281"/>
                  </a:lnTo>
                  <a:lnTo>
                    <a:pt x="570" y="370"/>
                  </a:lnTo>
                  <a:lnTo>
                    <a:pt x="515" y="451"/>
                  </a:lnTo>
                  <a:lnTo>
                    <a:pt x="452" y="529"/>
                  </a:lnTo>
                  <a:lnTo>
                    <a:pt x="376" y="601"/>
                  </a:lnTo>
                  <a:lnTo>
                    <a:pt x="291" y="66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037000" y="1530720"/>
              <a:ext cx="339120" cy="107640"/>
            </a:xfrm>
            <a:custGeom>
              <a:avLst/>
              <a:gdLst/>
              <a:ahLst/>
              <a:rect l="l" t="t" r="r" b="b"/>
              <a:pathLst>
                <a:path w="1816" h="574">
                  <a:moveTo>
                    <a:pt x="1407" y="552"/>
                  </a:moveTo>
                  <a:lnTo>
                    <a:pt x="1552" y="542"/>
                  </a:lnTo>
                  <a:lnTo>
                    <a:pt x="1547" y="487"/>
                  </a:lnTo>
                  <a:lnTo>
                    <a:pt x="1529" y="433"/>
                  </a:lnTo>
                  <a:lnTo>
                    <a:pt x="1503" y="380"/>
                  </a:lnTo>
                  <a:lnTo>
                    <a:pt x="1464" y="328"/>
                  </a:lnTo>
                  <a:lnTo>
                    <a:pt x="1416" y="277"/>
                  </a:lnTo>
                  <a:lnTo>
                    <a:pt x="1360" y="227"/>
                  </a:lnTo>
                  <a:lnTo>
                    <a:pt x="1297" y="179"/>
                  </a:lnTo>
                  <a:lnTo>
                    <a:pt x="1224" y="132"/>
                  </a:lnTo>
                  <a:lnTo>
                    <a:pt x="1027" y="358"/>
                  </a:lnTo>
                  <a:lnTo>
                    <a:pt x="974" y="55"/>
                  </a:lnTo>
                  <a:lnTo>
                    <a:pt x="882" y="44"/>
                  </a:lnTo>
                  <a:lnTo>
                    <a:pt x="790" y="43"/>
                  </a:lnTo>
                  <a:lnTo>
                    <a:pt x="707" y="358"/>
                  </a:lnTo>
                  <a:lnTo>
                    <a:pt x="521" y="82"/>
                  </a:lnTo>
                  <a:lnTo>
                    <a:pt x="452" y="108"/>
                  </a:lnTo>
                  <a:lnTo>
                    <a:pt x="387" y="136"/>
                  </a:lnTo>
                  <a:lnTo>
                    <a:pt x="327" y="169"/>
                  </a:lnTo>
                  <a:lnTo>
                    <a:pt x="269" y="205"/>
                  </a:lnTo>
                  <a:lnTo>
                    <a:pt x="221" y="245"/>
                  </a:lnTo>
                  <a:lnTo>
                    <a:pt x="176" y="285"/>
                  </a:lnTo>
                  <a:lnTo>
                    <a:pt x="139" y="329"/>
                  </a:lnTo>
                  <a:lnTo>
                    <a:pt x="106" y="371"/>
                  </a:lnTo>
                  <a:lnTo>
                    <a:pt x="138" y="393"/>
                  </a:lnTo>
                  <a:lnTo>
                    <a:pt x="148" y="389"/>
                  </a:lnTo>
                  <a:lnTo>
                    <a:pt x="159" y="389"/>
                  </a:lnTo>
                  <a:lnTo>
                    <a:pt x="170" y="392"/>
                  </a:lnTo>
                  <a:lnTo>
                    <a:pt x="179" y="390"/>
                  </a:lnTo>
                  <a:lnTo>
                    <a:pt x="184" y="395"/>
                  </a:lnTo>
                  <a:lnTo>
                    <a:pt x="188" y="400"/>
                  </a:lnTo>
                  <a:lnTo>
                    <a:pt x="194" y="403"/>
                  </a:lnTo>
                  <a:lnTo>
                    <a:pt x="197" y="408"/>
                  </a:lnTo>
                  <a:lnTo>
                    <a:pt x="206" y="416"/>
                  </a:lnTo>
                  <a:lnTo>
                    <a:pt x="207" y="424"/>
                  </a:lnTo>
                  <a:lnTo>
                    <a:pt x="189" y="434"/>
                  </a:lnTo>
                  <a:lnTo>
                    <a:pt x="167" y="440"/>
                  </a:lnTo>
                  <a:lnTo>
                    <a:pt x="146" y="443"/>
                  </a:lnTo>
                  <a:lnTo>
                    <a:pt x="124" y="442"/>
                  </a:lnTo>
                  <a:lnTo>
                    <a:pt x="104" y="440"/>
                  </a:lnTo>
                  <a:lnTo>
                    <a:pt x="83" y="435"/>
                  </a:lnTo>
                  <a:lnTo>
                    <a:pt x="63" y="429"/>
                  </a:lnTo>
                  <a:lnTo>
                    <a:pt x="42" y="420"/>
                  </a:lnTo>
                  <a:lnTo>
                    <a:pt x="27" y="411"/>
                  </a:lnTo>
                  <a:lnTo>
                    <a:pt x="15" y="398"/>
                  </a:lnTo>
                  <a:lnTo>
                    <a:pt x="7" y="386"/>
                  </a:lnTo>
                  <a:lnTo>
                    <a:pt x="1" y="370"/>
                  </a:lnTo>
                  <a:lnTo>
                    <a:pt x="1" y="356"/>
                  </a:lnTo>
                  <a:lnTo>
                    <a:pt x="0" y="340"/>
                  </a:lnTo>
                  <a:lnTo>
                    <a:pt x="4" y="326"/>
                  </a:lnTo>
                  <a:lnTo>
                    <a:pt x="8" y="313"/>
                  </a:lnTo>
                  <a:lnTo>
                    <a:pt x="59" y="336"/>
                  </a:lnTo>
                  <a:lnTo>
                    <a:pt x="120" y="261"/>
                  </a:lnTo>
                  <a:lnTo>
                    <a:pt x="206" y="192"/>
                  </a:lnTo>
                  <a:lnTo>
                    <a:pt x="311" y="133"/>
                  </a:lnTo>
                  <a:lnTo>
                    <a:pt x="429" y="84"/>
                  </a:lnTo>
                  <a:lnTo>
                    <a:pt x="562" y="46"/>
                  </a:lnTo>
                  <a:lnTo>
                    <a:pt x="700" y="17"/>
                  </a:lnTo>
                  <a:lnTo>
                    <a:pt x="842" y="4"/>
                  </a:lnTo>
                  <a:lnTo>
                    <a:pt x="982" y="0"/>
                  </a:lnTo>
                  <a:lnTo>
                    <a:pt x="1071" y="26"/>
                  </a:lnTo>
                  <a:lnTo>
                    <a:pt x="1155" y="54"/>
                  </a:lnTo>
                  <a:lnTo>
                    <a:pt x="1239" y="86"/>
                  </a:lnTo>
                  <a:lnTo>
                    <a:pt x="1314" y="122"/>
                  </a:lnTo>
                  <a:lnTo>
                    <a:pt x="1388" y="165"/>
                  </a:lnTo>
                  <a:lnTo>
                    <a:pt x="1451" y="211"/>
                  </a:lnTo>
                  <a:lnTo>
                    <a:pt x="1509" y="263"/>
                  </a:lnTo>
                  <a:lnTo>
                    <a:pt x="1557" y="318"/>
                  </a:lnTo>
                  <a:lnTo>
                    <a:pt x="1637" y="500"/>
                  </a:lnTo>
                  <a:lnTo>
                    <a:pt x="1665" y="499"/>
                  </a:lnTo>
                  <a:lnTo>
                    <a:pt x="1686" y="488"/>
                  </a:lnTo>
                  <a:lnTo>
                    <a:pt x="1707" y="475"/>
                  </a:lnTo>
                  <a:lnTo>
                    <a:pt x="1725" y="461"/>
                  </a:lnTo>
                  <a:lnTo>
                    <a:pt x="1745" y="450"/>
                  </a:lnTo>
                  <a:lnTo>
                    <a:pt x="1767" y="443"/>
                  </a:lnTo>
                  <a:lnTo>
                    <a:pt x="1790" y="446"/>
                  </a:lnTo>
                  <a:lnTo>
                    <a:pt x="1816" y="459"/>
                  </a:lnTo>
                  <a:lnTo>
                    <a:pt x="1780" y="483"/>
                  </a:lnTo>
                  <a:lnTo>
                    <a:pt x="1737" y="504"/>
                  </a:lnTo>
                  <a:lnTo>
                    <a:pt x="1693" y="526"/>
                  </a:lnTo>
                  <a:lnTo>
                    <a:pt x="1644" y="543"/>
                  </a:lnTo>
                  <a:lnTo>
                    <a:pt x="1594" y="559"/>
                  </a:lnTo>
                  <a:lnTo>
                    <a:pt x="1539" y="568"/>
                  </a:lnTo>
                  <a:lnTo>
                    <a:pt x="1483" y="574"/>
                  </a:lnTo>
                  <a:lnTo>
                    <a:pt x="1424" y="573"/>
                  </a:lnTo>
                  <a:lnTo>
                    <a:pt x="1407" y="5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106480" y="1682640"/>
              <a:ext cx="146520" cy="38520"/>
            </a:xfrm>
            <a:custGeom>
              <a:avLst/>
              <a:gdLst/>
              <a:ahLst/>
              <a:rect l="l" t="t" r="r" b="b"/>
              <a:pathLst>
                <a:path w="787" h="207">
                  <a:moveTo>
                    <a:pt x="778" y="62"/>
                  </a:moveTo>
                  <a:lnTo>
                    <a:pt x="787" y="72"/>
                  </a:lnTo>
                  <a:lnTo>
                    <a:pt x="761" y="109"/>
                  </a:lnTo>
                  <a:lnTo>
                    <a:pt x="730" y="138"/>
                  </a:lnTo>
                  <a:lnTo>
                    <a:pt x="693" y="160"/>
                  </a:lnTo>
                  <a:lnTo>
                    <a:pt x="655" y="178"/>
                  </a:lnTo>
                  <a:lnTo>
                    <a:pt x="613" y="188"/>
                  </a:lnTo>
                  <a:lnTo>
                    <a:pt x="572" y="196"/>
                  </a:lnTo>
                  <a:lnTo>
                    <a:pt x="529" y="202"/>
                  </a:lnTo>
                  <a:lnTo>
                    <a:pt x="486" y="207"/>
                  </a:lnTo>
                  <a:lnTo>
                    <a:pt x="415" y="203"/>
                  </a:lnTo>
                  <a:lnTo>
                    <a:pt x="346" y="196"/>
                  </a:lnTo>
                  <a:lnTo>
                    <a:pt x="278" y="182"/>
                  </a:lnTo>
                  <a:lnTo>
                    <a:pt x="215" y="162"/>
                  </a:lnTo>
                  <a:lnTo>
                    <a:pt x="153" y="134"/>
                  </a:lnTo>
                  <a:lnTo>
                    <a:pt x="97" y="100"/>
                  </a:lnTo>
                  <a:lnTo>
                    <a:pt x="45" y="6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91" y="45"/>
                  </a:lnTo>
                  <a:lnTo>
                    <a:pt x="184" y="86"/>
                  </a:lnTo>
                  <a:lnTo>
                    <a:pt x="282" y="119"/>
                  </a:lnTo>
                  <a:lnTo>
                    <a:pt x="385" y="143"/>
                  </a:lnTo>
                  <a:lnTo>
                    <a:pt x="486" y="151"/>
                  </a:lnTo>
                  <a:lnTo>
                    <a:pt x="589" y="143"/>
                  </a:lnTo>
                  <a:lnTo>
                    <a:pt x="686" y="114"/>
                  </a:lnTo>
                  <a:lnTo>
                    <a:pt x="778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963560" y="1817280"/>
              <a:ext cx="381240" cy="152280"/>
            </a:xfrm>
            <a:custGeom>
              <a:avLst/>
              <a:gdLst/>
              <a:ahLst/>
              <a:rect l="l" t="t" r="r" b="b"/>
              <a:pathLst>
                <a:path w="2044" h="818">
                  <a:moveTo>
                    <a:pt x="234" y="28"/>
                  </a:moveTo>
                  <a:lnTo>
                    <a:pt x="318" y="43"/>
                  </a:lnTo>
                  <a:lnTo>
                    <a:pt x="404" y="63"/>
                  </a:lnTo>
                  <a:lnTo>
                    <a:pt x="487" y="87"/>
                  </a:lnTo>
                  <a:lnTo>
                    <a:pt x="571" y="117"/>
                  </a:lnTo>
                  <a:lnTo>
                    <a:pt x="650" y="149"/>
                  </a:lnTo>
                  <a:lnTo>
                    <a:pt x="729" y="191"/>
                  </a:lnTo>
                  <a:lnTo>
                    <a:pt x="805" y="239"/>
                  </a:lnTo>
                  <a:lnTo>
                    <a:pt x="878" y="298"/>
                  </a:lnTo>
                  <a:lnTo>
                    <a:pt x="945" y="262"/>
                  </a:lnTo>
                  <a:lnTo>
                    <a:pt x="1018" y="243"/>
                  </a:lnTo>
                  <a:lnTo>
                    <a:pt x="1093" y="235"/>
                  </a:lnTo>
                  <a:lnTo>
                    <a:pt x="1170" y="231"/>
                  </a:lnTo>
                  <a:lnTo>
                    <a:pt x="1245" y="224"/>
                  </a:lnTo>
                  <a:lnTo>
                    <a:pt x="1317" y="209"/>
                  </a:lnTo>
                  <a:lnTo>
                    <a:pt x="1384" y="181"/>
                  </a:lnTo>
                  <a:lnTo>
                    <a:pt x="1447" y="132"/>
                  </a:lnTo>
                  <a:lnTo>
                    <a:pt x="1506" y="110"/>
                  </a:lnTo>
                  <a:lnTo>
                    <a:pt x="1570" y="91"/>
                  </a:lnTo>
                  <a:lnTo>
                    <a:pt x="1634" y="76"/>
                  </a:lnTo>
                  <a:lnTo>
                    <a:pt x="1702" y="64"/>
                  </a:lnTo>
                  <a:lnTo>
                    <a:pt x="1767" y="52"/>
                  </a:lnTo>
                  <a:lnTo>
                    <a:pt x="1831" y="43"/>
                  </a:lnTo>
                  <a:lnTo>
                    <a:pt x="1895" y="35"/>
                  </a:lnTo>
                  <a:lnTo>
                    <a:pt x="1957" y="28"/>
                  </a:lnTo>
                  <a:lnTo>
                    <a:pt x="2007" y="87"/>
                  </a:lnTo>
                  <a:lnTo>
                    <a:pt x="2035" y="157"/>
                  </a:lnTo>
                  <a:lnTo>
                    <a:pt x="2044" y="233"/>
                  </a:lnTo>
                  <a:lnTo>
                    <a:pt x="2041" y="316"/>
                  </a:lnTo>
                  <a:lnTo>
                    <a:pt x="2030" y="400"/>
                  </a:lnTo>
                  <a:lnTo>
                    <a:pt x="2020" y="485"/>
                  </a:lnTo>
                  <a:lnTo>
                    <a:pt x="2013" y="570"/>
                  </a:lnTo>
                  <a:lnTo>
                    <a:pt x="2018" y="652"/>
                  </a:lnTo>
                  <a:lnTo>
                    <a:pt x="1938" y="694"/>
                  </a:lnTo>
                  <a:lnTo>
                    <a:pt x="1857" y="708"/>
                  </a:lnTo>
                  <a:lnTo>
                    <a:pt x="1771" y="698"/>
                  </a:lnTo>
                  <a:lnTo>
                    <a:pt x="1687" y="675"/>
                  </a:lnTo>
                  <a:lnTo>
                    <a:pt x="1598" y="645"/>
                  </a:lnTo>
                  <a:lnTo>
                    <a:pt x="1511" y="616"/>
                  </a:lnTo>
                  <a:lnTo>
                    <a:pt x="1422" y="598"/>
                  </a:lnTo>
                  <a:lnTo>
                    <a:pt x="1333" y="599"/>
                  </a:lnTo>
                  <a:lnTo>
                    <a:pt x="1283" y="592"/>
                  </a:lnTo>
                  <a:lnTo>
                    <a:pt x="1232" y="594"/>
                  </a:lnTo>
                  <a:lnTo>
                    <a:pt x="1182" y="601"/>
                  </a:lnTo>
                  <a:lnTo>
                    <a:pt x="1131" y="611"/>
                  </a:lnTo>
                  <a:lnTo>
                    <a:pt x="1080" y="618"/>
                  </a:lnTo>
                  <a:lnTo>
                    <a:pt x="1030" y="621"/>
                  </a:lnTo>
                  <a:lnTo>
                    <a:pt x="979" y="615"/>
                  </a:lnTo>
                  <a:lnTo>
                    <a:pt x="930" y="599"/>
                  </a:lnTo>
                  <a:lnTo>
                    <a:pt x="888" y="547"/>
                  </a:lnTo>
                  <a:lnTo>
                    <a:pt x="778" y="564"/>
                  </a:lnTo>
                  <a:lnTo>
                    <a:pt x="677" y="605"/>
                  </a:lnTo>
                  <a:lnTo>
                    <a:pt x="580" y="659"/>
                  </a:lnTo>
                  <a:lnTo>
                    <a:pt x="487" y="718"/>
                  </a:lnTo>
                  <a:lnTo>
                    <a:pt x="391" y="770"/>
                  </a:lnTo>
                  <a:lnTo>
                    <a:pt x="293" y="806"/>
                  </a:lnTo>
                  <a:lnTo>
                    <a:pt x="190" y="818"/>
                  </a:lnTo>
                  <a:lnTo>
                    <a:pt x="79" y="797"/>
                  </a:lnTo>
                  <a:lnTo>
                    <a:pt x="34" y="711"/>
                  </a:lnTo>
                  <a:lnTo>
                    <a:pt x="10" y="621"/>
                  </a:lnTo>
                  <a:lnTo>
                    <a:pt x="0" y="526"/>
                  </a:lnTo>
                  <a:lnTo>
                    <a:pt x="3" y="431"/>
                  </a:lnTo>
                  <a:lnTo>
                    <a:pt x="10" y="332"/>
                  </a:lnTo>
                  <a:lnTo>
                    <a:pt x="21" y="235"/>
                  </a:lnTo>
                  <a:lnTo>
                    <a:pt x="31" y="139"/>
                  </a:lnTo>
                  <a:lnTo>
                    <a:pt x="37" y="49"/>
                  </a:lnTo>
                  <a:lnTo>
                    <a:pt x="53" y="32"/>
                  </a:lnTo>
                  <a:lnTo>
                    <a:pt x="77" y="19"/>
                  </a:lnTo>
                  <a:lnTo>
                    <a:pt x="103" y="8"/>
                  </a:lnTo>
                  <a:lnTo>
                    <a:pt x="131" y="3"/>
                  </a:lnTo>
                  <a:lnTo>
                    <a:pt x="158" y="0"/>
                  </a:lnTo>
                  <a:lnTo>
                    <a:pt x="186" y="3"/>
                  </a:lnTo>
                  <a:lnTo>
                    <a:pt x="211" y="11"/>
                  </a:lnTo>
                  <a:lnTo>
                    <a:pt x="23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978320" y="1830600"/>
              <a:ext cx="142920" cy="127800"/>
            </a:xfrm>
            <a:custGeom>
              <a:avLst/>
              <a:gdLst/>
              <a:ahLst/>
              <a:rect l="l" t="t" r="r" b="b"/>
              <a:pathLst>
                <a:path w="768" h="686">
                  <a:moveTo>
                    <a:pt x="757" y="290"/>
                  </a:moveTo>
                  <a:lnTo>
                    <a:pt x="692" y="269"/>
                  </a:lnTo>
                  <a:lnTo>
                    <a:pt x="621" y="255"/>
                  </a:lnTo>
                  <a:lnTo>
                    <a:pt x="544" y="245"/>
                  </a:lnTo>
                  <a:lnTo>
                    <a:pt x="465" y="244"/>
                  </a:lnTo>
                  <a:lnTo>
                    <a:pt x="384" y="245"/>
                  </a:lnTo>
                  <a:lnTo>
                    <a:pt x="305" y="255"/>
                  </a:lnTo>
                  <a:lnTo>
                    <a:pt x="230" y="269"/>
                  </a:lnTo>
                  <a:lnTo>
                    <a:pt x="166" y="290"/>
                  </a:lnTo>
                  <a:lnTo>
                    <a:pt x="166" y="311"/>
                  </a:lnTo>
                  <a:lnTo>
                    <a:pt x="242" y="314"/>
                  </a:lnTo>
                  <a:lnTo>
                    <a:pt x="322" y="313"/>
                  </a:lnTo>
                  <a:lnTo>
                    <a:pt x="403" y="308"/>
                  </a:lnTo>
                  <a:lnTo>
                    <a:pt x="485" y="310"/>
                  </a:lnTo>
                  <a:lnTo>
                    <a:pt x="564" y="315"/>
                  </a:lnTo>
                  <a:lnTo>
                    <a:pt x="638" y="335"/>
                  </a:lnTo>
                  <a:lnTo>
                    <a:pt x="707" y="369"/>
                  </a:lnTo>
                  <a:lnTo>
                    <a:pt x="768" y="425"/>
                  </a:lnTo>
                  <a:lnTo>
                    <a:pt x="683" y="439"/>
                  </a:lnTo>
                  <a:lnTo>
                    <a:pt x="606" y="468"/>
                  </a:lnTo>
                  <a:lnTo>
                    <a:pt x="533" y="504"/>
                  </a:lnTo>
                  <a:lnTo>
                    <a:pt x="463" y="546"/>
                  </a:lnTo>
                  <a:lnTo>
                    <a:pt x="389" y="589"/>
                  </a:lnTo>
                  <a:lnTo>
                    <a:pt x="318" y="629"/>
                  </a:lnTo>
                  <a:lnTo>
                    <a:pt x="243" y="662"/>
                  </a:lnTo>
                  <a:lnTo>
                    <a:pt x="166" y="686"/>
                  </a:lnTo>
                  <a:lnTo>
                    <a:pt x="132" y="682"/>
                  </a:lnTo>
                  <a:lnTo>
                    <a:pt x="104" y="670"/>
                  </a:lnTo>
                  <a:lnTo>
                    <a:pt x="79" y="653"/>
                  </a:lnTo>
                  <a:lnTo>
                    <a:pt x="60" y="634"/>
                  </a:lnTo>
                  <a:lnTo>
                    <a:pt x="42" y="608"/>
                  </a:lnTo>
                  <a:lnTo>
                    <a:pt x="28" y="580"/>
                  </a:lnTo>
                  <a:lnTo>
                    <a:pt x="17" y="549"/>
                  </a:lnTo>
                  <a:lnTo>
                    <a:pt x="10" y="520"/>
                  </a:lnTo>
                  <a:lnTo>
                    <a:pt x="1" y="452"/>
                  </a:lnTo>
                  <a:lnTo>
                    <a:pt x="0" y="387"/>
                  </a:lnTo>
                  <a:lnTo>
                    <a:pt x="3" y="323"/>
                  </a:lnTo>
                  <a:lnTo>
                    <a:pt x="11" y="259"/>
                  </a:lnTo>
                  <a:lnTo>
                    <a:pt x="18" y="194"/>
                  </a:lnTo>
                  <a:lnTo>
                    <a:pt x="27" y="130"/>
                  </a:lnTo>
                  <a:lnTo>
                    <a:pt x="31" y="65"/>
                  </a:lnTo>
                  <a:lnTo>
                    <a:pt x="31" y="0"/>
                  </a:lnTo>
                  <a:lnTo>
                    <a:pt x="132" y="10"/>
                  </a:lnTo>
                  <a:lnTo>
                    <a:pt x="232" y="28"/>
                  </a:lnTo>
                  <a:lnTo>
                    <a:pt x="328" y="52"/>
                  </a:lnTo>
                  <a:lnTo>
                    <a:pt x="420" y="86"/>
                  </a:lnTo>
                  <a:lnTo>
                    <a:pt x="509" y="124"/>
                  </a:lnTo>
                  <a:lnTo>
                    <a:pt x="595" y="172"/>
                  </a:lnTo>
                  <a:lnTo>
                    <a:pt x="676" y="227"/>
                  </a:lnTo>
                  <a:lnTo>
                    <a:pt x="757" y="29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194680" y="1836720"/>
              <a:ext cx="135360" cy="98640"/>
            </a:xfrm>
            <a:custGeom>
              <a:avLst/>
              <a:gdLst/>
              <a:ahLst/>
              <a:rect l="l" t="t" r="r" b="b"/>
              <a:pathLst>
                <a:path w="725" h="530">
                  <a:moveTo>
                    <a:pt x="725" y="110"/>
                  </a:moveTo>
                  <a:lnTo>
                    <a:pt x="725" y="504"/>
                  </a:lnTo>
                  <a:lnTo>
                    <a:pt x="652" y="527"/>
                  </a:lnTo>
                  <a:lnTo>
                    <a:pt x="582" y="530"/>
                  </a:lnTo>
                  <a:lnTo>
                    <a:pt x="513" y="517"/>
                  </a:lnTo>
                  <a:lnTo>
                    <a:pt x="446" y="497"/>
                  </a:lnTo>
                  <a:lnTo>
                    <a:pt x="377" y="471"/>
                  </a:lnTo>
                  <a:lnTo>
                    <a:pt x="308" y="447"/>
                  </a:lnTo>
                  <a:lnTo>
                    <a:pt x="237" y="427"/>
                  </a:lnTo>
                  <a:lnTo>
                    <a:pt x="166" y="421"/>
                  </a:lnTo>
                  <a:lnTo>
                    <a:pt x="0" y="411"/>
                  </a:lnTo>
                  <a:lnTo>
                    <a:pt x="9" y="307"/>
                  </a:lnTo>
                  <a:lnTo>
                    <a:pt x="24" y="323"/>
                  </a:lnTo>
                  <a:lnTo>
                    <a:pt x="45" y="326"/>
                  </a:lnTo>
                  <a:lnTo>
                    <a:pt x="69" y="318"/>
                  </a:lnTo>
                  <a:lnTo>
                    <a:pt x="98" y="309"/>
                  </a:lnTo>
                  <a:lnTo>
                    <a:pt x="129" y="292"/>
                  </a:lnTo>
                  <a:lnTo>
                    <a:pt x="161" y="276"/>
                  </a:lnTo>
                  <a:lnTo>
                    <a:pt x="194" y="262"/>
                  </a:lnTo>
                  <a:lnTo>
                    <a:pt x="227" y="255"/>
                  </a:lnTo>
                  <a:lnTo>
                    <a:pt x="243" y="257"/>
                  </a:lnTo>
                  <a:lnTo>
                    <a:pt x="263" y="257"/>
                  </a:lnTo>
                  <a:lnTo>
                    <a:pt x="282" y="254"/>
                  </a:lnTo>
                  <a:lnTo>
                    <a:pt x="303" y="249"/>
                  </a:lnTo>
                  <a:lnTo>
                    <a:pt x="322" y="242"/>
                  </a:lnTo>
                  <a:lnTo>
                    <a:pt x="341" y="234"/>
                  </a:lnTo>
                  <a:lnTo>
                    <a:pt x="358" y="224"/>
                  </a:lnTo>
                  <a:lnTo>
                    <a:pt x="372" y="214"/>
                  </a:lnTo>
                  <a:lnTo>
                    <a:pt x="319" y="204"/>
                  </a:lnTo>
                  <a:lnTo>
                    <a:pt x="270" y="203"/>
                  </a:lnTo>
                  <a:lnTo>
                    <a:pt x="222" y="204"/>
                  </a:lnTo>
                  <a:lnTo>
                    <a:pt x="178" y="213"/>
                  </a:lnTo>
                  <a:lnTo>
                    <a:pt x="135" y="224"/>
                  </a:lnTo>
                  <a:lnTo>
                    <a:pt x="92" y="240"/>
                  </a:lnTo>
                  <a:lnTo>
                    <a:pt x="50" y="255"/>
                  </a:lnTo>
                  <a:lnTo>
                    <a:pt x="9" y="276"/>
                  </a:lnTo>
                  <a:lnTo>
                    <a:pt x="4" y="237"/>
                  </a:lnTo>
                  <a:lnTo>
                    <a:pt x="11" y="207"/>
                  </a:lnTo>
                  <a:lnTo>
                    <a:pt x="26" y="183"/>
                  </a:lnTo>
                  <a:lnTo>
                    <a:pt x="52" y="165"/>
                  </a:lnTo>
                  <a:lnTo>
                    <a:pt x="78" y="147"/>
                  </a:lnTo>
                  <a:lnTo>
                    <a:pt x="109" y="133"/>
                  </a:lnTo>
                  <a:lnTo>
                    <a:pt x="139" y="117"/>
                  </a:lnTo>
                  <a:lnTo>
                    <a:pt x="166" y="100"/>
                  </a:lnTo>
                  <a:lnTo>
                    <a:pt x="232" y="76"/>
                  </a:lnTo>
                  <a:lnTo>
                    <a:pt x="306" y="50"/>
                  </a:lnTo>
                  <a:lnTo>
                    <a:pt x="384" y="24"/>
                  </a:lnTo>
                  <a:lnTo>
                    <a:pt x="464" y="7"/>
                  </a:lnTo>
                  <a:lnTo>
                    <a:pt x="540" y="0"/>
                  </a:lnTo>
                  <a:lnTo>
                    <a:pt x="611" y="13"/>
                  </a:lnTo>
                  <a:lnTo>
                    <a:pt x="673" y="47"/>
                  </a:lnTo>
                  <a:lnTo>
                    <a:pt x="725" y="11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133120" y="1871280"/>
              <a:ext cx="46080" cy="45720"/>
            </a:xfrm>
            <a:custGeom>
              <a:avLst/>
              <a:gdLst/>
              <a:ahLst/>
              <a:rect l="l" t="t" r="r" b="b"/>
              <a:pathLst>
                <a:path w="249" h="248">
                  <a:moveTo>
                    <a:pt x="249" y="10"/>
                  </a:moveTo>
                  <a:lnTo>
                    <a:pt x="247" y="41"/>
                  </a:lnTo>
                  <a:lnTo>
                    <a:pt x="247" y="74"/>
                  </a:lnTo>
                  <a:lnTo>
                    <a:pt x="244" y="106"/>
                  </a:lnTo>
                  <a:lnTo>
                    <a:pt x="240" y="140"/>
                  </a:lnTo>
                  <a:lnTo>
                    <a:pt x="232" y="168"/>
                  </a:lnTo>
                  <a:lnTo>
                    <a:pt x="222" y="196"/>
                  </a:lnTo>
                  <a:lnTo>
                    <a:pt x="206" y="219"/>
                  </a:lnTo>
                  <a:lnTo>
                    <a:pt x="187" y="238"/>
                  </a:lnTo>
                  <a:lnTo>
                    <a:pt x="166" y="244"/>
                  </a:lnTo>
                  <a:lnTo>
                    <a:pt x="146" y="248"/>
                  </a:lnTo>
                  <a:lnTo>
                    <a:pt x="125" y="248"/>
                  </a:lnTo>
                  <a:lnTo>
                    <a:pt x="107" y="247"/>
                  </a:lnTo>
                  <a:lnTo>
                    <a:pt x="88" y="238"/>
                  </a:lnTo>
                  <a:lnTo>
                    <a:pt x="73" y="227"/>
                  </a:lnTo>
                  <a:lnTo>
                    <a:pt x="60" y="209"/>
                  </a:lnTo>
                  <a:lnTo>
                    <a:pt x="52" y="186"/>
                  </a:lnTo>
                  <a:lnTo>
                    <a:pt x="0" y="52"/>
                  </a:lnTo>
                  <a:lnTo>
                    <a:pt x="29" y="41"/>
                  </a:lnTo>
                  <a:lnTo>
                    <a:pt x="62" y="31"/>
                  </a:lnTo>
                  <a:lnTo>
                    <a:pt x="91" y="20"/>
                  </a:lnTo>
                  <a:lnTo>
                    <a:pt x="123" y="12"/>
                  </a:lnTo>
                  <a:lnTo>
                    <a:pt x="154" y="3"/>
                  </a:lnTo>
                  <a:lnTo>
                    <a:pt x="185" y="0"/>
                  </a:lnTo>
                  <a:lnTo>
                    <a:pt x="216" y="0"/>
                  </a:lnTo>
                  <a:lnTo>
                    <a:pt x="249" y="1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5" name=""/>
          <p:cNvSpPr/>
          <p:nvPr/>
        </p:nvSpPr>
        <p:spPr>
          <a:xfrm rot="16200000">
            <a:off x="5533200" y="2581920"/>
            <a:ext cx="2305080" cy="502920"/>
          </a:xfrm>
          <a:custGeom>
            <a:avLst/>
            <a:gdLst>
              <a:gd name="textAreaLeft" fmla="*/ 538200 w 2305080"/>
              <a:gd name="textAreaRight" fmla="*/ 1766880 w 2305080"/>
              <a:gd name="textAreaTop" fmla="*/ 117360 h 502920"/>
              <a:gd name="textAreaBottom" fmla="*/ 38556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7093080" y="2708280"/>
            <a:ext cx="296640" cy="360360"/>
            <a:chOff x="7093080" y="2708280"/>
            <a:chExt cx="296640" cy="360360"/>
          </a:xfrm>
        </p:grpSpPr>
        <p:sp>
          <p:nvSpPr>
            <p:cNvPr id="1197" name=""/>
            <p:cNvSpPr/>
            <p:nvPr/>
          </p:nvSpPr>
          <p:spPr>
            <a:xfrm>
              <a:off x="7093080" y="2708280"/>
              <a:ext cx="296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1112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0000"/>
                  </a:solidFill>
                  <a:latin typeface="cmmi10"/>
                  <a:ea typeface="Arial"/>
                </a:rPr>
                <a:t>½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093080" y="2708280"/>
              <a:ext cx="296640" cy="360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4284720" y="4221000"/>
            <a:ext cx="12240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4168800" y="3789360"/>
            <a:ext cx="1268280" cy="291960"/>
            <a:chOff x="4168800" y="3789360"/>
            <a:chExt cx="1268280" cy="291960"/>
          </a:xfrm>
        </p:grpSpPr>
        <p:sp>
          <p:nvSpPr>
            <p:cNvPr id="1201" name=""/>
            <p:cNvSpPr/>
            <p:nvPr/>
          </p:nvSpPr>
          <p:spPr>
            <a:xfrm>
              <a:off x="4168800" y="3790800"/>
              <a:ext cx="2584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428720" y="398304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576320" y="3790800"/>
              <a:ext cx="2142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790880" y="3919320"/>
              <a:ext cx="1328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941720" y="3983040"/>
              <a:ext cx="9144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089320" y="3790800"/>
              <a:ext cx="213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303520" y="391932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168800" y="3789360"/>
              <a:ext cx="12682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3314880" y="1690560"/>
            <a:ext cx="441000" cy="2250720"/>
            <a:chOff x="3314880" y="1690560"/>
            <a:chExt cx="441000" cy="2250720"/>
          </a:xfrm>
        </p:grpSpPr>
        <p:grpSp>
          <p:nvGrpSpPr>
            <p:cNvPr id="1210" name=""/>
            <p:cNvGrpSpPr/>
            <p:nvPr/>
          </p:nvGrpSpPr>
          <p:grpSpPr>
            <a:xfrm>
              <a:off x="3314880" y="1690560"/>
              <a:ext cx="431640" cy="431640"/>
              <a:chOff x="3314880" y="1690560"/>
              <a:chExt cx="431640" cy="431640"/>
            </a:xfrm>
          </p:grpSpPr>
          <p:sp>
            <p:nvSpPr>
              <p:cNvPr id="1211" name=""/>
              <p:cNvSpPr/>
              <p:nvPr/>
            </p:nvSpPr>
            <p:spPr>
              <a:xfrm>
                <a:off x="3314880" y="169056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 flipV="1">
                <a:off x="3530160" y="171072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V="1">
                <a:off x="3394080" y="190656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V="1">
                <a:off x="3412800" y="177264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 flipV="1">
                <a:off x="3387600" y="177444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3314880" y="2147760"/>
              <a:ext cx="431640" cy="431640"/>
              <a:chOff x="3314880" y="2147760"/>
              <a:chExt cx="431640" cy="431640"/>
            </a:xfrm>
          </p:grpSpPr>
          <p:sp>
            <p:nvSpPr>
              <p:cNvPr id="1217" name=""/>
              <p:cNvSpPr/>
              <p:nvPr/>
            </p:nvSpPr>
            <p:spPr>
              <a:xfrm>
                <a:off x="3314880" y="214776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 flipV="1">
                <a:off x="3530160" y="216792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V="1">
                <a:off x="3394080" y="236376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3412800" y="222984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H="1" flipV="1">
                <a:off x="3387600" y="223164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3324240" y="2595240"/>
              <a:ext cx="431640" cy="431640"/>
              <a:chOff x="3324240" y="2595240"/>
              <a:chExt cx="431640" cy="431640"/>
            </a:xfrm>
          </p:grpSpPr>
          <p:sp>
            <p:nvSpPr>
              <p:cNvPr id="1223" name=""/>
              <p:cNvSpPr/>
              <p:nvPr/>
            </p:nvSpPr>
            <p:spPr>
              <a:xfrm>
                <a:off x="3324240" y="259524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H="1" flipV="1">
                <a:off x="3539520" y="261540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V="1">
                <a:off x="3403440" y="281124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V="1">
                <a:off x="3422160" y="267732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H="1" flipV="1">
                <a:off x="3396960" y="267912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3314880" y="3043080"/>
              <a:ext cx="431640" cy="431640"/>
              <a:chOff x="3314880" y="3043080"/>
              <a:chExt cx="431640" cy="431640"/>
            </a:xfrm>
          </p:grpSpPr>
          <p:sp>
            <p:nvSpPr>
              <p:cNvPr id="1229" name=""/>
              <p:cNvSpPr/>
              <p:nvPr/>
            </p:nvSpPr>
            <p:spPr>
              <a:xfrm>
                <a:off x="3314880" y="304308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 flipV="1">
                <a:off x="3530160" y="306324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V="1">
                <a:off x="3394080" y="325908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3412800" y="312516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H="1" flipV="1">
                <a:off x="3387600" y="312696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3314880" y="3509640"/>
              <a:ext cx="431640" cy="431640"/>
              <a:chOff x="3314880" y="3509640"/>
              <a:chExt cx="431640" cy="431640"/>
            </a:xfrm>
          </p:grpSpPr>
          <p:sp>
            <p:nvSpPr>
              <p:cNvPr id="1235" name=""/>
              <p:cNvSpPr/>
              <p:nvPr/>
            </p:nvSpPr>
            <p:spPr>
              <a:xfrm>
                <a:off x="3314880" y="350964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 flipV="1">
                <a:off x="3530160" y="352980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V="1">
                <a:off x="3394080" y="372564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3412800" y="359172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 flipV="1">
                <a:off x="3387600" y="359352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0" name=""/>
          <p:cNvGrpSpPr/>
          <p:nvPr/>
        </p:nvGrpSpPr>
        <p:grpSpPr>
          <a:xfrm>
            <a:off x="5905440" y="1690560"/>
            <a:ext cx="441000" cy="2250720"/>
            <a:chOff x="5905440" y="1690560"/>
            <a:chExt cx="441000" cy="2250720"/>
          </a:xfrm>
        </p:grpSpPr>
        <p:grpSp>
          <p:nvGrpSpPr>
            <p:cNvPr id="1241" name=""/>
            <p:cNvGrpSpPr/>
            <p:nvPr/>
          </p:nvGrpSpPr>
          <p:grpSpPr>
            <a:xfrm>
              <a:off x="5905440" y="1690560"/>
              <a:ext cx="431640" cy="431640"/>
              <a:chOff x="5905440" y="1690560"/>
              <a:chExt cx="431640" cy="431640"/>
            </a:xfrm>
          </p:grpSpPr>
          <p:sp>
            <p:nvSpPr>
              <p:cNvPr id="1242" name=""/>
              <p:cNvSpPr/>
              <p:nvPr/>
            </p:nvSpPr>
            <p:spPr>
              <a:xfrm>
                <a:off x="5905440" y="169056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 flipV="1">
                <a:off x="6120720" y="171072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V="1">
                <a:off x="5984640" y="190656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V="1">
                <a:off x="6003360" y="177264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 flipV="1">
                <a:off x="5978160" y="177444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5905440" y="2147760"/>
              <a:ext cx="431640" cy="431640"/>
              <a:chOff x="5905440" y="2147760"/>
              <a:chExt cx="431640" cy="431640"/>
            </a:xfrm>
          </p:grpSpPr>
          <p:sp>
            <p:nvSpPr>
              <p:cNvPr id="1248" name=""/>
              <p:cNvSpPr/>
              <p:nvPr/>
            </p:nvSpPr>
            <p:spPr>
              <a:xfrm>
                <a:off x="5905440" y="214776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 flipV="1">
                <a:off x="6120720" y="216792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V="1">
                <a:off x="5984640" y="236376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V="1">
                <a:off x="6003360" y="222984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 flipV="1">
                <a:off x="5978160" y="223164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5914800" y="2595240"/>
              <a:ext cx="431640" cy="431640"/>
              <a:chOff x="5914800" y="2595240"/>
              <a:chExt cx="431640" cy="431640"/>
            </a:xfrm>
          </p:grpSpPr>
          <p:sp>
            <p:nvSpPr>
              <p:cNvPr id="1254" name=""/>
              <p:cNvSpPr/>
              <p:nvPr/>
            </p:nvSpPr>
            <p:spPr>
              <a:xfrm>
                <a:off x="5914800" y="259524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 flipV="1">
                <a:off x="6130080" y="261540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V="1">
                <a:off x="5994000" y="281124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6012720" y="267732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 flipV="1">
                <a:off x="5987520" y="267912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5905440" y="3043080"/>
              <a:ext cx="431640" cy="431640"/>
              <a:chOff x="5905440" y="3043080"/>
              <a:chExt cx="431640" cy="431640"/>
            </a:xfrm>
          </p:grpSpPr>
          <p:sp>
            <p:nvSpPr>
              <p:cNvPr id="1260" name=""/>
              <p:cNvSpPr/>
              <p:nvPr/>
            </p:nvSpPr>
            <p:spPr>
              <a:xfrm>
                <a:off x="5905440" y="304308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 flipV="1">
                <a:off x="6120720" y="306324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5984640" y="325908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6003360" y="312516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 flipV="1">
                <a:off x="5978160" y="312696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5905440" y="3509640"/>
              <a:ext cx="431640" cy="431640"/>
              <a:chOff x="5905440" y="3509640"/>
              <a:chExt cx="431640" cy="431640"/>
            </a:xfrm>
          </p:grpSpPr>
          <p:sp>
            <p:nvSpPr>
              <p:cNvPr id="1266" name=""/>
              <p:cNvSpPr/>
              <p:nvPr/>
            </p:nvSpPr>
            <p:spPr>
              <a:xfrm>
                <a:off x="5905440" y="350964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 flipV="1">
                <a:off x="6120720" y="352980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5984640" y="372564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V="1">
                <a:off x="6003360" y="359172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H="1" flipV="1">
                <a:off x="5978160" y="359352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7541640" y="2569680"/>
            <a:ext cx="725040" cy="803880"/>
            <a:chOff x="7541640" y="2569680"/>
            <a:chExt cx="725040" cy="803880"/>
          </a:xfrm>
        </p:grpSpPr>
        <p:sp>
          <p:nvSpPr>
            <p:cNvPr id="1272" name=""/>
            <p:cNvSpPr/>
            <p:nvPr/>
          </p:nvSpPr>
          <p:spPr>
            <a:xfrm rot="1512000">
              <a:off x="7657920" y="2643120"/>
              <a:ext cx="492120" cy="657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7778520" y="2700720"/>
              <a:ext cx="250920" cy="54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 flipV="1">
              <a:off x="7701120" y="2876040"/>
              <a:ext cx="405720" cy="189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 flipV="1">
              <a:off x="7809480" y="2710800"/>
              <a:ext cx="189000" cy="515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7675560" y="2889000"/>
              <a:ext cx="458280" cy="164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8118720" y="2572560"/>
            <a:ext cx="662040" cy="662040"/>
            <a:chOff x="8118720" y="2572560"/>
            <a:chExt cx="662040" cy="662040"/>
          </a:xfrm>
        </p:grpSpPr>
        <p:sp>
          <p:nvSpPr>
            <p:cNvPr id="1278" name=""/>
            <p:cNvSpPr/>
            <p:nvPr/>
          </p:nvSpPr>
          <p:spPr>
            <a:xfrm rot="2700000">
              <a:off x="8197200" y="2687760"/>
              <a:ext cx="504720" cy="431640"/>
            </a:xfrm>
            <a:prstGeom prst="ellipse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8310960" y="2763000"/>
              <a:ext cx="276120" cy="278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8286120" y="2740320"/>
              <a:ext cx="325800" cy="323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flipV="1">
              <a:off x="8449560" y="2674800"/>
              <a:ext cx="1800" cy="458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8254440" y="2903400"/>
              <a:ext cx="39204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3170160" y="1681200"/>
            <a:ext cx="665280" cy="2260440"/>
            <a:chOff x="3170160" y="1681200"/>
            <a:chExt cx="665280" cy="2260440"/>
          </a:xfrm>
        </p:grpSpPr>
        <p:grpSp>
          <p:nvGrpSpPr>
            <p:cNvPr id="1284" name=""/>
            <p:cNvGrpSpPr/>
            <p:nvPr/>
          </p:nvGrpSpPr>
          <p:grpSpPr>
            <a:xfrm>
              <a:off x="3170160" y="2112840"/>
              <a:ext cx="647280" cy="431640"/>
              <a:chOff x="3170160" y="2112840"/>
              <a:chExt cx="647280" cy="431640"/>
            </a:xfrm>
          </p:grpSpPr>
          <p:sp>
            <p:nvSpPr>
              <p:cNvPr id="1285" name=""/>
              <p:cNvSpPr/>
              <p:nvPr/>
            </p:nvSpPr>
            <p:spPr>
              <a:xfrm>
                <a:off x="3170160" y="2112840"/>
                <a:ext cx="64728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 flipV="1">
                <a:off x="3493080" y="2133000"/>
                <a:ext cx="252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3288960" y="2328840"/>
                <a:ext cx="4788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3317400" y="2132280"/>
                <a:ext cx="376560" cy="376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 flipV="1">
                <a:off x="3342600" y="2197800"/>
                <a:ext cx="263160" cy="2491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3229200" y="2472480"/>
              <a:ext cx="602280" cy="618480"/>
              <a:chOff x="3229200" y="2472480"/>
              <a:chExt cx="602280" cy="618480"/>
            </a:xfrm>
          </p:grpSpPr>
          <p:sp>
            <p:nvSpPr>
              <p:cNvPr id="1291" name=""/>
              <p:cNvSpPr/>
              <p:nvPr/>
            </p:nvSpPr>
            <p:spPr>
              <a:xfrm rot="19923600">
                <a:off x="3314160" y="2545920"/>
                <a:ext cx="431640" cy="4712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 flipV="1">
                <a:off x="3429720" y="2593440"/>
                <a:ext cx="185040" cy="345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3410280" y="2696400"/>
                <a:ext cx="281520" cy="150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V="1">
                <a:off x="3480840" y="2600280"/>
                <a:ext cx="104400" cy="339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 flipV="1">
                <a:off x="3325320" y="2726640"/>
                <a:ext cx="380160" cy="109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6" name=""/>
            <p:cNvSpPr/>
            <p:nvPr/>
          </p:nvSpPr>
          <p:spPr>
            <a:xfrm>
              <a:off x="3314520" y="168120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 flipV="1">
              <a:off x="3530520" y="170136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 rot="2700000">
              <a:off x="3313800" y="304956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 flipV="1">
              <a:off x="3390480" y="3126960"/>
              <a:ext cx="260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0" name=""/>
            <p:cNvGrpSpPr/>
            <p:nvPr/>
          </p:nvGrpSpPr>
          <p:grpSpPr>
            <a:xfrm>
              <a:off x="3314520" y="3510000"/>
              <a:ext cx="431640" cy="431640"/>
              <a:chOff x="3314520" y="3510000"/>
              <a:chExt cx="431640" cy="431640"/>
            </a:xfrm>
          </p:grpSpPr>
          <p:sp>
            <p:nvSpPr>
              <p:cNvPr id="1301" name=""/>
              <p:cNvSpPr/>
              <p:nvPr/>
            </p:nvSpPr>
            <p:spPr>
              <a:xfrm>
                <a:off x="3314520" y="351000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 flipV="1">
                <a:off x="3529800" y="353016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3393720" y="372600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3412440" y="359208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 flipV="1">
                <a:off x="3387240" y="359388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6" name=""/>
          <p:cNvGrpSpPr/>
          <p:nvPr/>
        </p:nvGrpSpPr>
        <p:grpSpPr>
          <a:xfrm>
            <a:off x="5724360" y="1311120"/>
            <a:ext cx="700200" cy="2685960"/>
            <a:chOff x="5724360" y="1311120"/>
            <a:chExt cx="700200" cy="2685960"/>
          </a:xfrm>
        </p:grpSpPr>
        <p:sp>
          <p:nvSpPr>
            <p:cNvPr id="1307" name=""/>
            <p:cNvSpPr/>
            <p:nvPr/>
          </p:nvSpPr>
          <p:spPr>
            <a:xfrm>
              <a:off x="5724360" y="131112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895720" y="1428480"/>
              <a:ext cx="1368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032520" y="142848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154560" y="1379520"/>
              <a:ext cx="106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24360" y="165096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24360" y="398124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32280" y="1317600"/>
              <a:ext cx="692280" cy="26794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4427640" y="1125360"/>
            <a:ext cx="947160" cy="265320"/>
            <a:chOff x="4427640" y="1125360"/>
            <a:chExt cx="947160" cy="265320"/>
          </a:xfrm>
        </p:grpSpPr>
        <p:sp>
          <p:nvSpPr>
            <p:cNvPr id="1315" name=""/>
            <p:cNvSpPr/>
            <p:nvPr/>
          </p:nvSpPr>
          <p:spPr>
            <a:xfrm>
              <a:off x="4427640" y="1218960"/>
              <a:ext cx="18540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csc10"/>
                  <a:ea typeface="Arial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614840" y="1218960"/>
              <a:ext cx="18504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csc10"/>
                  <a:ea typeface="Arial"/>
                </a:rPr>
                <a:t>p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800240" y="1218960"/>
              <a:ext cx="20124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csc10"/>
                  <a:ea typeface="Arial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00400" y="1125360"/>
              <a:ext cx="2077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27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sy7"/>
                  <a:ea typeface="Arial"/>
                </a:rPr>
                <a:t>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209920" y="1170000"/>
              <a:ext cx="16488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0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427640" y="1125360"/>
              <a:ext cx="945720" cy="2653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"/>
          <p:cNvSpPr/>
          <p:nvPr/>
        </p:nvSpPr>
        <p:spPr>
          <a:xfrm rot="14971200">
            <a:off x="7164720" y="1412280"/>
            <a:ext cx="216000" cy="792000"/>
          </a:xfrm>
          <a:custGeom>
            <a:avLst/>
            <a:gdLst/>
            <a:ahLst/>
            <a:rect l="l" t="t" r="r" b="b"/>
            <a:pathLst>
              <a:path w="132" h="551">
                <a:moveTo>
                  <a:pt x="74" y="0"/>
                </a:moveTo>
                <a:cubicBezTo>
                  <a:pt x="82" y="20"/>
                  <a:pt x="132" y="85"/>
                  <a:pt x="121" y="121"/>
                </a:cubicBezTo>
                <a:cubicBezTo>
                  <a:pt x="110" y="157"/>
                  <a:pt x="14" y="177"/>
                  <a:pt x="7" y="215"/>
                </a:cubicBezTo>
                <a:cubicBezTo>
                  <a:pt x="0" y="253"/>
                  <a:pt x="68" y="293"/>
                  <a:pt x="81" y="349"/>
                </a:cubicBezTo>
                <a:cubicBezTo>
                  <a:pt x="94" y="405"/>
                  <a:pt x="86" y="509"/>
                  <a:pt x="87" y="551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785880" y="1557360"/>
            <a:ext cx="1168560" cy="703440"/>
            <a:chOff x="785880" y="1557360"/>
            <a:chExt cx="1168560" cy="703440"/>
          </a:xfrm>
        </p:grpSpPr>
        <p:grpSp>
          <p:nvGrpSpPr>
            <p:cNvPr id="1323" name=""/>
            <p:cNvGrpSpPr/>
            <p:nvPr/>
          </p:nvGrpSpPr>
          <p:grpSpPr>
            <a:xfrm>
              <a:off x="1343520" y="1612440"/>
              <a:ext cx="610920" cy="610560"/>
              <a:chOff x="1343520" y="1612440"/>
              <a:chExt cx="610920" cy="610560"/>
            </a:xfrm>
          </p:grpSpPr>
          <p:sp>
            <p:nvSpPr>
              <p:cNvPr id="1324" name=""/>
              <p:cNvSpPr/>
              <p:nvPr/>
            </p:nvSpPr>
            <p:spPr>
              <a:xfrm rot="2700000">
                <a:off x="1432800" y="1701720"/>
                <a:ext cx="43200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V="1">
                <a:off x="1533960" y="177840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 flipV="1">
                <a:off x="1509120" y="177804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785880" y="1701720"/>
              <a:ext cx="431640" cy="431640"/>
              <a:chOff x="785880" y="1701720"/>
              <a:chExt cx="431640" cy="431640"/>
            </a:xfrm>
          </p:grpSpPr>
          <p:sp>
            <p:nvSpPr>
              <p:cNvPr id="1328" name=""/>
              <p:cNvSpPr/>
              <p:nvPr/>
            </p:nvSpPr>
            <p:spPr>
              <a:xfrm>
                <a:off x="785880" y="170172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 flipV="1">
                <a:off x="1001160" y="172188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865080" y="191700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1" name=""/>
            <p:cNvSpPr/>
            <p:nvPr/>
          </p:nvSpPr>
          <p:spPr>
            <a:xfrm>
              <a:off x="982800" y="1557360"/>
              <a:ext cx="68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/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696240" y="2043000"/>
            <a:ext cx="1168920" cy="703440"/>
            <a:chOff x="696240" y="2043000"/>
            <a:chExt cx="1168920" cy="703440"/>
          </a:xfrm>
        </p:grpSpPr>
        <p:grpSp>
          <p:nvGrpSpPr>
            <p:cNvPr id="1333" name=""/>
            <p:cNvGrpSpPr/>
            <p:nvPr/>
          </p:nvGrpSpPr>
          <p:grpSpPr>
            <a:xfrm>
              <a:off x="1433520" y="2166840"/>
              <a:ext cx="431640" cy="431640"/>
              <a:chOff x="1433520" y="2166840"/>
              <a:chExt cx="431640" cy="431640"/>
            </a:xfrm>
          </p:grpSpPr>
          <p:sp>
            <p:nvSpPr>
              <p:cNvPr id="1334" name=""/>
              <p:cNvSpPr/>
              <p:nvPr/>
            </p:nvSpPr>
            <p:spPr>
              <a:xfrm>
                <a:off x="1433520" y="216684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H="1" flipV="1">
                <a:off x="1648800" y="218700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V="1">
                <a:off x="1512720" y="238212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696240" y="2084040"/>
              <a:ext cx="610560" cy="610560"/>
              <a:chOff x="696240" y="2084040"/>
              <a:chExt cx="610560" cy="610560"/>
            </a:xfrm>
          </p:grpSpPr>
          <p:sp>
            <p:nvSpPr>
              <p:cNvPr id="1338" name=""/>
              <p:cNvSpPr/>
              <p:nvPr/>
            </p:nvSpPr>
            <p:spPr>
              <a:xfrm rot="2700000">
                <a:off x="785520" y="2173320"/>
                <a:ext cx="43164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886320" y="224964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 flipV="1">
                <a:off x="861480" y="224928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965160" y="2043000"/>
              <a:ext cx="68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/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1239840" y="2924280"/>
            <a:ext cx="92160" cy="301680"/>
            <a:chOff x="1239840" y="2924280"/>
            <a:chExt cx="92160" cy="301680"/>
          </a:xfrm>
        </p:grpSpPr>
        <p:sp>
          <p:nvSpPr>
            <p:cNvPr id="1343" name=""/>
            <p:cNvSpPr/>
            <p:nvPr/>
          </p:nvSpPr>
          <p:spPr>
            <a:xfrm>
              <a:off x="1239840" y="2924280"/>
              <a:ext cx="9216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239840" y="3057840"/>
              <a:ext cx="9216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239840" y="3191040"/>
              <a:ext cx="9216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239840" y="2924280"/>
              <a:ext cx="92160" cy="3016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6813720" y="3614760"/>
            <a:ext cx="2114280" cy="307800"/>
            <a:chOff x="6813720" y="3614760"/>
            <a:chExt cx="2114280" cy="307800"/>
          </a:xfrm>
        </p:grpSpPr>
        <p:sp>
          <p:nvSpPr>
            <p:cNvPr id="1348" name=""/>
            <p:cNvSpPr/>
            <p:nvPr/>
          </p:nvSpPr>
          <p:spPr>
            <a:xfrm>
              <a:off x="6813720" y="3633840"/>
              <a:ext cx="257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172280" y="3714840"/>
              <a:ext cx="163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335720" y="3714840"/>
              <a:ext cx="1710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507080" y="3633840"/>
              <a:ext cx="1710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678440" y="3641760"/>
              <a:ext cx="856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762680" y="3657600"/>
              <a:ext cx="1202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883280" y="3714840"/>
              <a:ext cx="1220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107200" y="3681360"/>
              <a:ext cx="23940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111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32640" y="3714840"/>
              <a:ext cx="1854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618400" y="3616200"/>
              <a:ext cx="1537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004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772480" y="3648240"/>
              <a:ext cx="153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813720" y="3614760"/>
              <a:ext cx="2114280" cy="3078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250920" y="486900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  <a:ea typeface="Arial"/>
              </a:rPr>
              <a:t>Sender-Security: One of the strings looks completely random to dishonest B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1" name=""/>
          <p:cNvGrpSpPr/>
          <p:nvPr/>
        </p:nvGrpSpPr>
        <p:grpSpPr>
          <a:xfrm>
            <a:off x="2104920" y="4503600"/>
            <a:ext cx="2192400" cy="366480"/>
            <a:chOff x="2104920" y="4503600"/>
            <a:chExt cx="2192400" cy="366480"/>
          </a:xfrm>
        </p:grpSpPr>
        <p:sp>
          <p:nvSpPr>
            <p:cNvPr id="1362" name=""/>
            <p:cNvSpPr/>
            <p:nvPr/>
          </p:nvSpPr>
          <p:spPr>
            <a:xfrm>
              <a:off x="2104920" y="4559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309760" y="4687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459160" y="475128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08200" y="4559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813040" y="4687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054240" y="4606560"/>
              <a:ext cx="2224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9280" bIns="12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370320" y="4536720"/>
              <a:ext cx="1666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537000" y="4571640"/>
              <a:ext cx="1666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703680" y="4751280"/>
              <a:ext cx="9216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52720" y="4571640"/>
              <a:ext cx="1666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019400" y="4536720"/>
              <a:ext cx="1666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86080" y="4503600"/>
              <a:ext cx="1112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2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`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104920" y="4503600"/>
              <a:ext cx="2192400" cy="3664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484200" y="6299280"/>
            <a:ext cx="2935080" cy="225360"/>
            <a:chOff x="484200" y="6299280"/>
            <a:chExt cx="2935080" cy="225360"/>
          </a:xfrm>
        </p:grpSpPr>
        <p:sp>
          <p:nvSpPr>
            <p:cNvPr id="1376" name=""/>
            <p:cNvSpPr/>
            <p:nvPr/>
          </p:nvSpPr>
          <p:spPr>
            <a:xfrm>
              <a:off x="484200" y="6300720"/>
              <a:ext cx="619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55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[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120" y="6316560"/>
              <a:ext cx="16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2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11000" y="6372360"/>
              <a:ext cx="1000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11080" y="6372360"/>
              <a:ext cx="1256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936720" y="6372360"/>
              <a:ext cx="1252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062000" y="6372360"/>
              <a:ext cx="1000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162080" y="6372360"/>
              <a:ext cx="889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325520" y="6316560"/>
              <a:ext cx="17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2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500120" y="6319800"/>
              <a:ext cx="1126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500120" y="6372360"/>
              <a:ext cx="112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612800" y="6372360"/>
              <a:ext cx="1252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38080" y="6319800"/>
              <a:ext cx="619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801800" y="6372360"/>
              <a:ext cx="112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42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989000" y="6324480"/>
              <a:ext cx="1126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101680" y="6324480"/>
              <a:ext cx="1126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214360" y="6446880"/>
              <a:ext cx="619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20" bIns="42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351160" y="6316560"/>
              <a:ext cx="16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2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517840" y="6372360"/>
              <a:ext cx="997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17560" y="6372360"/>
              <a:ext cx="1256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43200" y="6372360"/>
              <a:ext cx="1252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867040" y="6372360"/>
              <a:ext cx="1000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67120" y="6372360"/>
              <a:ext cx="889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130560" y="6324480"/>
              <a:ext cx="1126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243240" y="6324480"/>
              <a:ext cx="1126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355920" y="6300720"/>
              <a:ext cx="619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55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84200" y="6299280"/>
              <a:ext cx="2935080" cy="225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2" name=""/>
          <p:cNvGrpSpPr/>
          <p:nvPr/>
        </p:nvGrpSpPr>
        <p:grpSpPr>
          <a:xfrm>
            <a:off x="539640" y="5846760"/>
            <a:ext cx="3429000" cy="325440"/>
            <a:chOff x="539640" y="5846760"/>
            <a:chExt cx="3429000" cy="325440"/>
          </a:xfrm>
        </p:grpSpPr>
        <p:sp>
          <p:nvSpPr>
            <p:cNvPr id="1403" name=""/>
            <p:cNvSpPr/>
            <p:nvPr/>
          </p:nvSpPr>
          <p:spPr>
            <a:xfrm>
              <a:off x="539640" y="5869080"/>
              <a:ext cx="2556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bx10"/>
                </a:rPr>
                <a:t>P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65000" y="5869080"/>
              <a:ext cx="2826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136520" y="5951520"/>
              <a:ext cx="90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334880" y="5883480"/>
              <a:ext cx="1620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498320" y="5865840"/>
              <a:ext cx="1350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`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723680" y="593568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0840" bIns="-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¼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066760" y="5870520"/>
              <a:ext cx="2426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309400" y="6043680"/>
              <a:ext cx="2588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84080" y="58485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711160" y="5870520"/>
              <a:ext cx="2682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095280" y="5848560"/>
              <a:ext cx="90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276360" y="5870520"/>
              <a:ext cx="252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528720" y="6058080"/>
              <a:ext cx="9036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61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673080" y="5951520"/>
              <a:ext cx="168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619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½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841560" y="58485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39640" y="5846760"/>
              <a:ext cx="3427200" cy="325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9" name=""/>
          <p:cNvGrpSpPr/>
          <p:nvPr/>
        </p:nvGrpSpPr>
        <p:grpSpPr>
          <a:xfrm>
            <a:off x="5724360" y="1311120"/>
            <a:ext cx="700200" cy="2685960"/>
            <a:chOff x="5724360" y="1311120"/>
            <a:chExt cx="700200" cy="2685960"/>
          </a:xfrm>
        </p:grpSpPr>
        <p:sp>
          <p:nvSpPr>
            <p:cNvPr id="1420" name=""/>
            <p:cNvSpPr/>
            <p:nvPr/>
          </p:nvSpPr>
          <p:spPr>
            <a:xfrm>
              <a:off x="5724360" y="131112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95720" y="1428480"/>
              <a:ext cx="1368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032520" y="142848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154560" y="1379520"/>
              <a:ext cx="106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724360" y="165096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724360" y="398124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732280" y="1317600"/>
              <a:ext cx="692280" cy="26794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641520" y="981000"/>
            <a:ext cx="3307680" cy="3014640"/>
            <a:chOff x="641520" y="981000"/>
            <a:chExt cx="3307680" cy="3014640"/>
          </a:xfrm>
        </p:grpSpPr>
        <p:sp>
          <p:nvSpPr>
            <p:cNvPr id="1428" name=""/>
            <p:cNvSpPr/>
            <p:nvPr/>
          </p:nvSpPr>
          <p:spPr>
            <a:xfrm>
              <a:off x="641520" y="98100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973080" y="1030320"/>
              <a:ext cx="2124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260360" y="1069920"/>
              <a:ext cx="1821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442880" y="1127160"/>
              <a:ext cx="164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174760" y="1030320"/>
              <a:ext cx="2264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498400" y="106992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681280" y="1127160"/>
              <a:ext cx="1645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252600" y="1098360"/>
              <a:ext cx="1076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360600" y="1098360"/>
              <a:ext cx="1202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482640" y="1098360"/>
              <a:ext cx="1522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633480" y="1027080"/>
              <a:ext cx="152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81252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949320" y="1386000"/>
              <a:ext cx="21204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161720" y="1515960"/>
              <a:ext cx="7596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284120" y="138600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49508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63188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10960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246040" y="1370160"/>
              <a:ext cx="136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382840" y="1515960"/>
              <a:ext cx="75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503440" y="137016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3988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77632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41520" y="164772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452680" y="178740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452680" y="223200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452680" y="267804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452680" y="312264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452680" y="356868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41520" y="397836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49080" y="987480"/>
              <a:ext cx="3300120" cy="30081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2700000" y="1735200"/>
            <a:ext cx="4248000" cy="2231640"/>
            <a:chOff x="2700000" y="1735200"/>
            <a:chExt cx="4248000" cy="2231640"/>
          </a:xfrm>
        </p:grpSpPr>
        <p:sp>
          <p:nvSpPr>
            <p:cNvPr id="1460" name=""/>
            <p:cNvSpPr/>
            <p:nvPr/>
          </p:nvSpPr>
          <p:spPr>
            <a:xfrm rot="5400000">
              <a:off x="4656240" y="-78120"/>
              <a:ext cx="47808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rot="5400000">
              <a:off x="4585320" y="311760"/>
              <a:ext cx="477720" cy="41054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rot="5400000">
              <a:off x="4513320" y="720720"/>
              <a:ext cx="47808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 rot="5400000">
              <a:off x="4513680" y="1198800"/>
              <a:ext cx="47772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5400000">
              <a:off x="4513320" y="1675080"/>
              <a:ext cx="47808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5" name=""/>
          <p:cNvSpPr/>
          <p:nvPr/>
        </p:nvSpPr>
        <p:spPr>
          <a:xfrm>
            <a:off x="6516720" y="1235160"/>
            <a:ext cx="934920" cy="28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Sender-Security </a:t>
            </a:r>
            <a:r>
              <a:rPr b="0" lang="fr-CH" sz="3600" spc="-1" strike="noStrike">
                <a:solidFill>
                  <a:srgbClr val="003399"/>
                </a:solidFill>
                <a:latin typeface="Wingdings 3"/>
                <a:ea typeface="Wingdings 3"/>
              </a:rPr>
              <a:t></a:t>
            </a: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 Uncertainty Relation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46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762120" cy="863640"/>
          </a:xfrm>
          <a:prstGeom prst="rect">
            <a:avLst/>
          </a:prstGeom>
          <a:ln w="0">
            <a:noFill/>
          </a:ln>
        </p:spPr>
      </p:pic>
      <p:sp>
        <p:nvSpPr>
          <p:cNvPr id="1468" name=""/>
          <p:cNvSpPr/>
          <p:nvPr/>
        </p:nvSpPr>
        <p:spPr>
          <a:xfrm>
            <a:off x="4284720" y="1628640"/>
            <a:ext cx="1150920" cy="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2206800" y="1916280"/>
            <a:ext cx="182520" cy="2519280"/>
            <a:chOff x="2206800" y="1916280"/>
            <a:chExt cx="182520" cy="2519280"/>
          </a:xfrm>
        </p:grpSpPr>
        <p:sp>
          <p:nvSpPr>
            <p:cNvPr id="1470" name=""/>
            <p:cNvSpPr/>
            <p:nvPr/>
          </p:nvSpPr>
          <p:spPr>
            <a:xfrm>
              <a:off x="2225880" y="1916280"/>
              <a:ext cx="0" cy="2519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2206800" y="19162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2225880" y="2779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2225880" y="321336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3017880" y="4148280"/>
            <a:ext cx="1049400" cy="214200"/>
            <a:chOff x="3017880" y="4148280"/>
            <a:chExt cx="1049400" cy="214200"/>
          </a:xfrm>
        </p:grpSpPr>
        <p:sp>
          <p:nvSpPr>
            <p:cNvPr id="1475" name=""/>
            <p:cNvSpPr/>
            <p:nvPr/>
          </p:nvSpPr>
          <p:spPr>
            <a:xfrm>
              <a:off x="3017880" y="4148280"/>
              <a:ext cx="16524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1831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368880" y="4184640"/>
              <a:ext cx="171360" cy="14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880" bIns="9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540240" y="4240080"/>
              <a:ext cx="15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780000" y="4148280"/>
              <a:ext cx="18432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9643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017880" y="4148280"/>
              <a:ext cx="1049400" cy="2142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1001880" y="4097160"/>
            <a:ext cx="1049040" cy="214560"/>
            <a:chOff x="1001880" y="4097160"/>
            <a:chExt cx="1049040" cy="214560"/>
          </a:xfrm>
        </p:grpSpPr>
        <p:sp>
          <p:nvSpPr>
            <p:cNvPr id="1483" name=""/>
            <p:cNvSpPr/>
            <p:nvPr/>
          </p:nvSpPr>
          <p:spPr>
            <a:xfrm>
              <a:off x="1001880" y="4097160"/>
              <a:ext cx="1648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1667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52520" y="4133880"/>
              <a:ext cx="1710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824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523880" y="4189320"/>
              <a:ext cx="1537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763640" y="4097160"/>
              <a:ext cx="1839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9479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001880" y="4097160"/>
              <a:ext cx="1049040" cy="214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2657520" y="2347920"/>
            <a:ext cx="163440" cy="2089080"/>
            <a:chOff x="2657520" y="2347920"/>
            <a:chExt cx="163440" cy="2089080"/>
          </a:xfrm>
        </p:grpSpPr>
        <p:sp>
          <p:nvSpPr>
            <p:cNvPr id="1491" name=""/>
            <p:cNvSpPr/>
            <p:nvPr/>
          </p:nvSpPr>
          <p:spPr>
            <a:xfrm flipH="1">
              <a:off x="2657520" y="36640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801880" y="2347920"/>
              <a:ext cx="0" cy="20890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2657520" y="2347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7818840" y="692280"/>
            <a:ext cx="890280" cy="1277280"/>
            <a:chOff x="7818840" y="692280"/>
            <a:chExt cx="890280" cy="1277280"/>
          </a:xfrm>
        </p:grpSpPr>
        <p:sp>
          <p:nvSpPr>
            <p:cNvPr id="1495" name=""/>
            <p:cNvSpPr/>
            <p:nvPr/>
          </p:nvSpPr>
          <p:spPr>
            <a:xfrm rot="12426000">
              <a:off x="8495280" y="733680"/>
              <a:ext cx="160920" cy="27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945920" y="692280"/>
              <a:ext cx="160560" cy="27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818840" y="784800"/>
              <a:ext cx="774720" cy="1035000"/>
            </a:xfrm>
            <a:custGeom>
              <a:avLst/>
              <a:gdLst/>
              <a:ahLst/>
              <a:rect l="l" t="t" r="r" b="b"/>
              <a:pathLst>
                <a:path w="4154" h="5543">
                  <a:moveTo>
                    <a:pt x="3156" y="179"/>
                  </a:moveTo>
                  <a:lnTo>
                    <a:pt x="3235" y="230"/>
                  </a:lnTo>
                  <a:lnTo>
                    <a:pt x="3314" y="282"/>
                  </a:lnTo>
                  <a:lnTo>
                    <a:pt x="3393" y="337"/>
                  </a:lnTo>
                  <a:lnTo>
                    <a:pt x="3469" y="396"/>
                  </a:lnTo>
                  <a:lnTo>
                    <a:pt x="3538" y="459"/>
                  </a:lnTo>
                  <a:lnTo>
                    <a:pt x="3601" y="529"/>
                  </a:lnTo>
                  <a:lnTo>
                    <a:pt x="3653" y="608"/>
                  </a:lnTo>
                  <a:lnTo>
                    <a:pt x="3696" y="698"/>
                  </a:lnTo>
                  <a:lnTo>
                    <a:pt x="3727" y="760"/>
                  </a:lnTo>
                  <a:lnTo>
                    <a:pt x="3772" y="812"/>
                  </a:lnTo>
                  <a:lnTo>
                    <a:pt x="3826" y="856"/>
                  </a:lnTo>
                  <a:lnTo>
                    <a:pt x="3884" y="898"/>
                  </a:lnTo>
                  <a:lnTo>
                    <a:pt x="3938" y="941"/>
                  </a:lnTo>
                  <a:lnTo>
                    <a:pt x="3988" y="990"/>
                  </a:lnTo>
                  <a:lnTo>
                    <a:pt x="4026" y="1049"/>
                  </a:lnTo>
                  <a:lnTo>
                    <a:pt x="4048" y="1124"/>
                  </a:lnTo>
                  <a:lnTo>
                    <a:pt x="4096" y="1342"/>
                  </a:lnTo>
                  <a:lnTo>
                    <a:pt x="4121" y="1568"/>
                  </a:lnTo>
                  <a:lnTo>
                    <a:pt x="4123" y="1799"/>
                  </a:lnTo>
                  <a:lnTo>
                    <a:pt x="4109" y="2034"/>
                  </a:lnTo>
                  <a:lnTo>
                    <a:pt x="4076" y="2265"/>
                  </a:lnTo>
                  <a:lnTo>
                    <a:pt x="4031" y="2495"/>
                  </a:lnTo>
                  <a:lnTo>
                    <a:pt x="3975" y="2716"/>
                  </a:lnTo>
                  <a:lnTo>
                    <a:pt x="3913" y="2930"/>
                  </a:lnTo>
                  <a:lnTo>
                    <a:pt x="3893" y="2961"/>
                  </a:lnTo>
                  <a:lnTo>
                    <a:pt x="3875" y="2995"/>
                  </a:lnTo>
                  <a:lnTo>
                    <a:pt x="3858" y="3028"/>
                  </a:lnTo>
                  <a:lnTo>
                    <a:pt x="3843" y="3065"/>
                  </a:lnTo>
                  <a:lnTo>
                    <a:pt x="3827" y="3099"/>
                  </a:lnTo>
                  <a:lnTo>
                    <a:pt x="3813" y="3134"/>
                  </a:lnTo>
                  <a:lnTo>
                    <a:pt x="3801" y="3166"/>
                  </a:lnTo>
                  <a:lnTo>
                    <a:pt x="3789" y="3200"/>
                  </a:lnTo>
                  <a:lnTo>
                    <a:pt x="3816" y="3185"/>
                  </a:lnTo>
                  <a:lnTo>
                    <a:pt x="3847" y="3166"/>
                  </a:lnTo>
                  <a:lnTo>
                    <a:pt x="3878" y="3145"/>
                  </a:lnTo>
                  <a:lnTo>
                    <a:pt x="3913" y="3125"/>
                  </a:lnTo>
                  <a:lnTo>
                    <a:pt x="3948" y="3109"/>
                  </a:lnTo>
                  <a:lnTo>
                    <a:pt x="3986" y="3099"/>
                  </a:lnTo>
                  <a:lnTo>
                    <a:pt x="4026" y="3096"/>
                  </a:lnTo>
                  <a:lnTo>
                    <a:pt x="4069" y="3107"/>
                  </a:lnTo>
                  <a:lnTo>
                    <a:pt x="4107" y="3165"/>
                  </a:lnTo>
                  <a:lnTo>
                    <a:pt x="4134" y="3235"/>
                  </a:lnTo>
                  <a:lnTo>
                    <a:pt x="4148" y="3310"/>
                  </a:lnTo>
                  <a:lnTo>
                    <a:pt x="4154" y="3389"/>
                  </a:lnTo>
                  <a:lnTo>
                    <a:pt x="4147" y="3468"/>
                  </a:lnTo>
                  <a:lnTo>
                    <a:pt x="4134" y="3546"/>
                  </a:lnTo>
                  <a:lnTo>
                    <a:pt x="4114" y="3621"/>
                  </a:lnTo>
                  <a:lnTo>
                    <a:pt x="4090" y="3689"/>
                  </a:lnTo>
                  <a:lnTo>
                    <a:pt x="4033" y="3777"/>
                  </a:lnTo>
                  <a:lnTo>
                    <a:pt x="3968" y="3863"/>
                  </a:lnTo>
                  <a:lnTo>
                    <a:pt x="3895" y="3943"/>
                  </a:lnTo>
                  <a:lnTo>
                    <a:pt x="3816" y="4018"/>
                  </a:lnTo>
                  <a:lnTo>
                    <a:pt x="3730" y="4084"/>
                  </a:lnTo>
                  <a:lnTo>
                    <a:pt x="3642" y="4143"/>
                  </a:lnTo>
                  <a:lnTo>
                    <a:pt x="3549" y="4194"/>
                  </a:lnTo>
                  <a:lnTo>
                    <a:pt x="3457" y="4239"/>
                  </a:lnTo>
                  <a:lnTo>
                    <a:pt x="3384" y="4239"/>
                  </a:lnTo>
                  <a:lnTo>
                    <a:pt x="3308" y="4397"/>
                  </a:lnTo>
                  <a:lnTo>
                    <a:pt x="3220" y="4550"/>
                  </a:lnTo>
                  <a:lnTo>
                    <a:pt x="3116" y="4695"/>
                  </a:lnTo>
                  <a:lnTo>
                    <a:pt x="3004" y="4836"/>
                  </a:lnTo>
                  <a:lnTo>
                    <a:pt x="2882" y="4970"/>
                  </a:lnTo>
                  <a:lnTo>
                    <a:pt x="2754" y="5101"/>
                  </a:lnTo>
                  <a:lnTo>
                    <a:pt x="2623" y="5226"/>
                  </a:lnTo>
                  <a:lnTo>
                    <a:pt x="2492" y="5350"/>
                  </a:lnTo>
                  <a:lnTo>
                    <a:pt x="2388" y="5399"/>
                  </a:lnTo>
                  <a:lnTo>
                    <a:pt x="2281" y="5447"/>
                  </a:lnTo>
                  <a:lnTo>
                    <a:pt x="2172" y="5488"/>
                  </a:lnTo>
                  <a:lnTo>
                    <a:pt x="2061" y="5522"/>
                  </a:lnTo>
                  <a:lnTo>
                    <a:pt x="1947" y="5540"/>
                  </a:lnTo>
                  <a:lnTo>
                    <a:pt x="1833" y="5543"/>
                  </a:lnTo>
                  <a:lnTo>
                    <a:pt x="1716" y="5524"/>
                  </a:lnTo>
                  <a:lnTo>
                    <a:pt x="1601" y="5485"/>
                  </a:lnTo>
                  <a:lnTo>
                    <a:pt x="1390" y="5370"/>
                  </a:lnTo>
                  <a:lnTo>
                    <a:pt x="1211" y="5225"/>
                  </a:lnTo>
                  <a:lnTo>
                    <a:pt x="1062" y="5056"/>
                  </a:lnTo>
                  <a:lnTo>
                    <a:pt x="940" y="4867"/>
                  </a:lnTo>
                  <a:lnTo>
                    <a:pt x="841" y="4661"/>
                  </a:lnTo>
                  <a:lnTo>
                    <a:pt x="767" y="4447"/>
                  </a:lnTo>
                  <a:lnTo>
                    <a:pt x="712" y="4228"/>
                  </a:lnTo>
                  <a:lnTo>
                    <a:pt x="677" y="4010"/>
                  </a:lnTo>
                  <a:lnTo>
                    <a:pt x="657" y="3959"/>
                  </a:lnTo>
                  <a:lnTo>
                    <a:pt x="630" y="3979"/>
                  </a:lnTo>
                  <a:lnTo>
                    <a:pt x="603" y="3991"/>
                  </a:lnTo>
                  <a:lnTo>
                    <a:pt x="574" y="3994"/>
                  </a:lnTo>
                  <a:lnTo>
                    <a:pt x="544" y="3991"/>
                  </a:lnTo>
                  <a:lnTo>
                    <a:pt x="512" y="3983"/>
                  </a:lnTo>
                  <a:lnTo>
                    <a:pt x="480" y="3972"/>
                  </a:lnTo>
                  <a:lnTo>
                    <a:pt x="447" y="3959"/>
                  </a:lnTo>
                  <a:lnTo>
                    <a:pt x="418" y="3948"/>
                  </a:lnTo>
                  <a:lnTo>
                    <a:pt x="342" y="3898"/>
                  </a:lnTo>
                  <a:lnTo>
                    <a:pt x="273" y="3844"/>
                  </a:lnTo>
                  <a:lnTo>
                    <a:pt x="210" y="3779"/>
                  </a:lnTo>
                  <a:lnTo>
                    <a:pt x="155" y="3711"/>
                  </a:lnTo>
                  <a:lnTo>
                    <a:pt x="105" y="3637"/>
                  </a:lnTo>
                  <a:lnTo>
                    <a:pt x="63" y="3558"/>
                  </a:lnTo>
                  <a:lnTo>
                    <a:pt x="28" y="3477"/>
                  </a:lnTo>
                  <a:lnTo>
                    <a:pt x="3" y="3397"/>
                  </a:lnTo>
                  <a:lnTo>
                    <a:pt x="0" y="3330"/>
                  </a:lnTo>
                  <a:lnTo>
                    <a:pt x="4" y="3262"/>
                  </a:lnTo>
                  <a:lnTo>
                    <a:pt x="14" y="3196"/>
                  </a:lnTo>
                  <a:lnTo>
                    <a:pt x="32" y="3135"/>
                  </a:lnTo>
                  <a:lnTo>
                    <a:pt x="58" y="3076"/>
                  </a:lnTo>
                  <a:lnTo>
                    <a:pt x="97" y="3026"/>
                  </a:lnTo>
                  <a:lnTo>
                    <a:pt x="146" y="2983"/>
                  </a:lnTo>
                  <a:lnTo>
                    <a:pt x="211" y="2951"/>
                  </a:lnTo>
                  <a:lnTo>
                    <a:pt x="241" y="2937"/>
                  </a:lnTo>
                  <a:lnTo>
                    <a:pt x="273" y="2927"/>
                  </a:lnTo>
                  <a:lnTo>
                    <a:pt x="302" y="2921"/>
                  </a:lnTo>
                  <a:lnTo>
                    <a:pt x="335" y="2920"/>
                  </a:lnTo>
                  <a:lnTo>
                    <a:pt x="366" y="2921"/>
                  </a:lnTo>
                  <a:lnTo>
                    <a:pt x="397" y="2927"/>
                  </a:lnTo>
                  <a:lnTo>
                    <a:pt x="428" y="2937"/>
                  </a:lnTo>
                  <a:lnTo>
                    <a:pt x="460" y="2951"/>
                  </a:lnTo>
                  <a:lnTo>
                    <a:pt x="467" y="2959"/>
                  </a:lnTo>
                  <a:lnTo>
                    <a:pt x="474" y="2968"/>
                  </a:lnTo>
                  <a:lnTo>
                    <a:pt x="481" y="2973"/>
                  </a:lnTo>
                  <a:lnTo>
                    <a:pt x="489" y="2979"/>
                  </a:lnTo>
                  <a:lnTo>
                    <a:pt x="497" y="2982"/>
                  </a:lnTo>
                  <a:lnTo>
                    <a:pt x="505" y="2986"/>
                  </a:lnTo>
                  <a:lnTo>
                    <a:pt x="513" y="2989"/>
                  </a:lnTo>
                  <a:lnTo>
                    <a:pt x="522" y="2993"/>
                  </a:lnTo>
                  <a:lnTo>
                    <a:pt x="513" y="2931"/>
                  </a:lnTo>
                  <a:lnTo>
                    <a:pt x="511" y="2866"/>
                  </a:lnTo>
                  <a:lnTo>
                    <a:pt x="508" y="2799"/>
                  </a:lnTo>
                  <a:lnTo>
                    <a:pt x="508" y="2731"/>
                  </a:lnTo>
                  <a:lnTo>
                    <a:pt x="508" y="2661"/>
                  </a:lnTo>
                  <a:lnTo>
                    <a:pt x="509" y="2593"/>
                  </a:lnTo>
                  <a:lnTo>
                    <a:pt x="509" y="2526"/>
                  </a:lnTo>
                  <a:lnTo>
                    <a:pt x="511" y="2464"/>
                  </a:lnTo>
                  <a:lnTo>
                    <a:pt x="482" y="2355"/>
                  </a:lnTo>
                  <a:lnTo>
                    <a:pt x="471" y="2244"/>
                  </a:lnTo>
                  <a:lnTo>
                    <a:pt x="470" y="2130"/>
                  </a:lnTo>
                  <a:lnTo>
                    <a:pt x="480" y="2016"/>
                  </a:lnTo>
                  <a:lnTo>
                    <a:pt x="492" y="1901"/>
                  </a:lnTo>
                  <a:lnTo>
                    <a:pt x="511" y="1787"/>
                  </a:lnTo>
                  <a:lnTo>
                    <a:pt x="527" y="1675"/>
                  </a:lnTo>
                  <a:lnTo>
                    <a:pt x="543" y="1570"/>
                  </a:lnTo>
                  <a:lnTo>
                    <a:pt x="582" y="1433"/>
                  </a:lnTo>
                  <a:lnTo>
                    <a:pt x="640" y="1307"/>
                  </a:lnTo>
                  <a:lnTo>
                    <a:pt x="713" y="1188"/>
                  </a:lnTo>
                  <a:lnTo>
                    <a:pt x="800" y="1078"/>
                  </a:lnTo>
                  <a:lnTo>
                    <a:pt x="896" y="976"/>
                  </a:lnTo>
                  <a:lnTo>
                    <a:pt x="1004" y="881"/>
                  </a:lnTo>
                  <a:lnTo>
                    <a:pt x="1117" y="795"/>
                  </a:lnTo>
                  <a:lnTo>
                    <a:pt x="1238" y="719"/>
                  </a:lnTo>
                  <a:lnTo>
                    <a:pt x="1255" y="655"/>
                  </a:lnTo>
                  <a:lnTo>
                    <a:pt x="1283" y="600"/>
                  </a:lnTo>
                  <a:lnTo>
                    <a:pt x="1318" y="548"/>
                  </a:lnTo>
                  <a:lnTo>
                    <a:pt x="1362" y="501"/>
                  </a:lnTo>
                  <a:lnTo>
                    <a:pt x="1407" y="456"/>
                  </a:lnTo>
                  <a:lnTo>
                    <a:pt x="1454" y="413"/>
                  </a:lnTo>
                  <a:lnTo>
                    <a:pt x="1502" y="368"/>
                  </a:lnTo>
                  <a:lnTo>
                    <a:pt x="1549" y="324"/>
                  </a:lnTo>
                  <a:lnTo>
                    <a:pt x="1627" y="266"/>
                  </a:lnTo>
                  <a:lnTo>
                    <a:pt x="1715" y="222"/>
                  </a:lnTo>
                  <a:lnTo>
                    <a:pt x="1805" y="186"/>
                  </a:lnTo>
                  <a:lnTo>
                    <a:pt x="1897" y="155"/>
                  </a:lnTo>
                  <a:lnTo>
                    <a:pt x="1990" y="127"/>
                  </a:lnTo>
                  <a:lnTo>
                    <a:pt x="2085" y="99"/>
                  </a:lnTo>
                  <a:lnTo>
                    <a:pt x="2176" y="68"/>
                  </a:lnTo>
                  <a:lnTo>
                    <a:pt x="2265" y="34"/>
                  </a:lnTo>
                  <a:lnTo>
                    <a:pt x="2352" y="16"/>
                  </a:lnTo>
                  <a:lnTo>
                    <a:pt x="2443" y="4"/>
                  </a:lnTo>
                  <a:lnTo>
                    <a:pt x="2537" y="0"/>
                  </a:lnTo>
                  <a:lnTo>
                    <a:pt x="2632" y="4"/>
                  </a:lnTo>
                  <a:lnTo>
                    <a:pt x="2723" y="17"/>
                  </a:lnTo>
                  <a:lnTo>
                    <a:pt x="2812" y="39"/>
                  </a:lnTo>
                  <a:lnTo>
                    <a:pt x="2895" y="72"/>
                  </a:lnTo>
                  <a:lnTo>
                    <a:pt x="2969" y="117"/>
                  </a:lnTo>
                  <a:lnTo>
                    <a:pt x="3156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233560" y="808920"/>
              <a:ext cx="137520" cy="57960"/>
            </a:xfrm>
            <a:custGeom>
              <a:avLst/>
              <a:gdLst/>
              <a:ahLst/>
              <a:rect l="l" t="t" r="r" b="b"/>
              <a:pathLst>
                <a:path w="737" h="311">
                  <a:moveTo>
                    <a:pt x="197" y="0"/>
                  </a:moveTo>
                  <a:lnTo>
                    <a:pt x="190" y="7"/>
                  </a:lnTo>
                  <a:lnTo>
                    <a:pt x="187" y="15"/>
                  </a:lnTo>
                  <a:lnTo>
                    <a:pt x="187" y="22"/>
                  </a:lnTo>
                  <a:lnTo>
                    <a:pt x="187" y="31"/>
                  </a:lnTo>
                  <a:lnTo>
                    <a:pt x="218" y="42"/>
                  </a:lnTo>
                  <a:lnTo>
                    <a:pt x="252" y="50"/>
                  </a:lnTo>
                  <a:lnTo>
                    <a:pt x="286" y="55"/>
                  </a:lnTo>
                  <a:lnTo>
                    <a:pt x="322" y="56"/>
                  </a:lnTo>
                  <a:lnTo>
                    <a:pt x="356" y="55"/>
                  </a:lnTo>
                  <a:lnTo>
                    <a:pt x="391" y="53"/>
                  </a:lnTo>
                  <a:lnTo>
                    <a:pt x="424" y="52"/>
                  </a:lnTo>
                  <a:lnTo>
                    <a:pt x="458" y="52"/>
                  </a:lnTo>
                  <a:lnTo>
                    <a:pt x="422" y="63"/>
                  </a:lnTo>
                  <a:lnTo>
                    <a:pt x="386" y="70"/>
                  </a:lnTo>
                  <a:lnTo>
                    <a:pt x="348" y="73"/>
                  </a:lnTo>
                  <a:lnTo>
                    <a:pt x="310" y="77"/>
                  </a:lnTo>
                  <a:lnTo>
                    <a:pt x="272" y="81"/>
                  </a:lnTo>
                  <a:lnTo>
                    <a:pt x="238" y="91"/>
                  </a:lnTo>
                  <a:lnTo>
                    <a:pt x="209" y="108"/>
                  </a:lnTo>
                  <a:lnTo>
                    <a:pt x="187" y="135"/>
                  </a:lnTo>
                  <a:lnTo>
                    <a:pt x="223" y="143"/>
                  </a:lnTo>
                  <a:lnTo>
                    <a:pt x="263" y="145"/>
                  </a:lnTo>
                  <a:lnTo>
                    <a:pt x="304" y="141"/>
                  </a:lnTo>
                  <a:lnTo>
                    <a:pt x="348" y="136"/>
                  </a:lnTo>
                  <a:lnTo>
                    <a:pt x="389" y="132"/>
                  </a:lnTo>
                  <a:lnTo>
                    <a:pt x="431" y="135"/>
                  </a:lnTo>
                  <a:lnTo>
                    <a:pt x="472" y="149"/>
                  </a:lnTo>
                  <a:lnTo>
                    <a:pt x="510" y="177"/>
                  </a:lnTo>
                  <a:lnTo>
                    <a:pt x="633" y="177"/>
                  </a:lnTo>
                  <a:lnTo>
                    <a:pt x="608" y="177"/>
                  </a:lnTo>
                  <a:lnTo>
                    <a:pt x="580" y="176"/>
                  </a:lnTo>
                  <a:lnTo>
                    <a:pt x="552" y="172"/>
                  </a:lnTo>
                  <a:lnTo>
                    <a:pt x="524" y="170"/>
                  </a:lnTo>
                  <a:lnTo>
                    <a:pt x="497" y="170"/>
                  </a:lnTo>
                  <a:lnTo>
                    <a:pt x="474" y="177"/>
                  </a:lnTo>
                  <a:lnTo>
                    <a:pt x="456" y="191"/>
                  </a:lnTo>
                  <a:lnTo>
                    <a:pt x="446" y="218"/>
                  </a:lnTo>
                  <a:lnTo>
                    <a:pt x="480" y="228"/>
                  </a:lnTo>
                  <a:lnTo>
                    <a:pt x="515" y="236"/>
                  </a:lnTo>
                  <a:lnTo>
                    <a:pt x="550" y="243"/>
                  </a:lnTo>
                  <a:lnTo>
                    <a:pt x="587" y="252"/>
                  </a:lnTo>
                  <a:lnTo>
                    <a:pt x="624" y="256"/>
                  </a:lnTo>
                  <a:lnTo>
                    <a:pt x="660" y="260"/>
                  </a:lnTo>
                  <a:lnTo>
                    <a:pt x="698" y="264"/>
                  </a:lnTo>
                  <a:lnTo>
                    <a:pt x="737" y="270"/>
                  </a:lnTo>
                  <a:lnTo>
                    <a:pt x="661" y="270"/>
                  </a:lnTo>
                  <a:lnTo>
                    <a:pt x="586" y="270"/>
                  </a:lnTo>
                  <a:lnTo>
                    <a:pt x="508" y="270"/>
                  </a:lnTo>
                  <a:lnTo>
                    <a:pt x="431" y="274"/>
                  </a:lnTo>
                  <a:lnTo>
                    <a:pt x="352" y="279"/>
                  </a:lnTo>
                  <a:lnTo>
                    <a:pt x="276" y="286"/>
                  </a:lnTo>
                  <a:lnTo>
                    <a:pt x="199" y="295"/>
                  </a:lnTo>
                  <a:lnTo>
                    <a:pt x="126" y="311"/>
                  </a:lnTo>
                  <a:lnTo>
                    <a:pt x="151" y="291"/>
                  </a:lnTo>
                  <a:lnTo>
                    <a:pt x="183" y="277"/>
                  </a:lnTo>
                  <a:lnTo>
                    <a:pt x="217" y="267"/>
                  </a:lnTo>
                  <a:lnTo>
                    <a:pt x="254" y="262"/>
                  </a:lnTo>
                  <a:lnTo>
                    <a:pt x="287" y="252"/>
                  </a:lnTo>
                  <a:lnTo>
                    <a:pt x="321" y="239"/>
                  </a:lnTo>
                  <a:lnTo>
                    <a:pt x="349" y="222"/>
                  </a:lnTo>
                  <a:lnTo>
                    <a:pt x="375" y="197"/>
                  </a:lnTo>
                  <a:lnTo>
                    <a:pt x="341" y="179"/>
                  </a:lnTo>
                  <a:lnTo>
                    <a:pt x="304" y="173"/>
                  </a:lnTo>
                  <a:lnTo>
                    <a:pt x="265" y="174"/>
                  </a:lnTo>
                  <a:lnTo>
                    <a:pt x="227" y="183"/>
                  </a:lnTo>
                  <a:lnTo>
                    <a:pt x="186" y="194"/>
                  </a:lnTo>
                  <a:lnTo>
                    <a:pt x="147" y="210"/>
                  </a:lnTo>
                  <a:lnTo>
                    <a:pt x="109" y="225"/>
                  </a:lnTo>
                  <a:lnTo>
                    <a:pt x="74" y="239"/>
                  </a:lnTo>
                  <a:lnTo>
                    <a:pt x="82" y="231"/>
                  </a:lnTo>
                  <a:lnTo>
                    <a:pt x="90" y="219"/>
                  </a:lnTo>
                  <a:lnTo>
                    <a:pt x="95" y="204"/>
                  </a:lnTo>
                  <a:lnTo>
                    <a:pt x="100" y="188"/>
                  </a:lnTo>
                  <a:lnTo>
                    <a:pt x="102" y="170"/>
                  </a:lnTo>
                  <a:lnTo>
                    <a:pt x="103" y="153"/>
                  </a:lnTo>
                  <a:lnTo>
                    <a:pt x="103" y="136"/>
                  </a:lnTo>
                  <a:lnTo>
                    <a:pt x="104" y="125"/>
                  </a:lnTo>
                  <a:lnTo>
                    <a:pt x="92" y="111"/>
                  </a:lnTo>
                  <a:lnTo>
                    <a:pt x="76" y="104"/>
                  </a:lnTo>
                  <a:lnTo>
                    <a:pt x="58" y="101"/>
                  </a:lnTo>
                  <a:lnTo>
                    <a:pt x="40" y="101"/>
                  </a:lnTo>
                  <a:lnTo>
                    <a:pt x="21" y="101"/>
                  </a:lnTo>
                  <a:lnTo>
                    <a:pt x="9" y="104"/>
                  </a:lnTo>
                  <a:lnTo>
                    <a:pt x="0" y="104"/>
                  </a:lnTo>
                  <a:lnTo>
                    <a:pt x="26" y="93"/>
                  </a:lnTo>
                  <a:lnTo>
                    <a:pt x="55" y="87"/>
                  </a:lnTo>
                  <a:lnTo>
                    <a:pt x="85" y="80"/>
                  </a:lnTo>
                  <a:lnTo>
                    <a:pt x="116" y="74"/>
                  </a:lnTo>
                  <a:lnTo>
                    <a:pt x="141" y="65"/>
                  </a:lnTo>
                  <a:lnTo>
                    <a:pt x="162" y="50"/>
                  </a:lnTo>
                  <a:lnTo>
                    <a:pt x="173" y="29"/>
                  </a:lnTo>
                  <a:lnTo>
                    <a:pt x="178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948800" y="882000"/>
              <a:ext cx="580320" cy="918000"/>
            </a:xfrm>
            <a:custGeom>
              <a:avLst/>
              <a:gdLst/>
              <a:ahLst/>
              <a:rect l="l" t="t" r="r" b="b"/>
              <a:pathLst>
                <a:path w="3111" h="4918">
                  <a:moveTo>
                    <a:pt x="1607" y="3"/>
                  </a:moveTo>
                  <a:lnTo>
                    <a:pt x="1599" y="11"/>
                  </a:lnTo>
                  <a:lnTo>
                    <a:pt x="1599" y="23"/>
                  </a:lnTo>
                  <a:lnTo>
                    <a:pt x="1602" y="35"/>
                  </a:lnTo>
                  <a:lnTo>
                    <a:pt x="1607" y="48"/>
                  </a:lnTo>
                  <a:lnTo>
                    <a:pt x="1609" y="56"/>
                  </a:lnTo>
                  <a:lnTo>
                    <a:pt x="1607" y="62"/>
                  </a:lnTo>
                  <a:lnTo>
                    <a:pt x="1596" y="61"/>
                  </a:lnTo>
                  <a:lnTo>
                    <a:pt x="1576" y="55"/>
                  </a:lnTo>
                  <a:lnTo>
                    <a:pt x="1568" y="72"/>
                  </a:lnTo>
                  <a:lnTo>
                    <a:pt x="1555" y="87"/>
                  </a:lnTo>
                  <a:lnTo>
                    <a:pt x="1540" y="102"/>
                  </a:lnTo>
                  <a:lnTo>
                    <a:pt x="1526" y="117"/>
                  </a:lnTo>
                  <a:lnTo>
                    <a:pt x="1515" y="130"/>
                  </a:lnTo>
                  <a:lnTo>
                    <a:pt x="1513" y="145"/>
                  </a:lnTo>
                  <a:lnTo>
                    <a:pt x="1522" y="161"/>
                  </a:lnTo>
                  <a:lnTo>
                    <a:pt x="1545" y="180"/>
                  </a:lnTo>
                  <a:lnTo>
                    <a:pt x="1619" y="158"/>
                  </a:lnTo>
                  <a:lnTo>
                    <a:pt x="1696" y="140"/>
                  </a:lnTo>
                  <a:lnTo>
                    <a:pt x="1773" y="123"/>
                  </a:lnTo>
                  <a:lnTo>
                    <a:pt x="1854" y="111"/>
                  </a:lnTo>
                  <a:lnTo>
                    <a:pt x="1934" y="102"/>
                  </a:lnTo>
                  <a:lnTo>
                    <a:pt x="2014" y="96"/>
                  </a:lnTo>
                  <a:lnTo>
                    <a:pt x="2095" y="94"/>
                  </a:lnTo>
                  <a:lnTo>
                    <a:pt x="2178" y="97"/>
                  </a:lnTo>
                  <a:lnTo>
                    <a:pt x="2140" y="118"/>
                  </a:lnTo>
                  <a:lnTo>
                    <a:pt x="2100" y="135"/>
                  </a:lnTo>
                  <a:lnTo>
                    <a:pt x="2057" y="148"/>
                  </a:lnTo>
                  <a:lnTo>
                    <a:pt x="2015" y="162"/>
                  </a:lnTo>
                  <a:lnTo>
                    <a:pt x="1973" y="175"/>
                  </a:lnTo>
                  <a:lnTo>
                    <a:pt x="1937" y="193"/>
                  </a:lnTo>
                  <a:lnTo>
                    <a:pt x="1903" y="217"/>
                  </a:lnTo>
                  <a:lnTo>
                    <a:pt x="1877" y="252"/>
                  </a:lnTo>
                  <a:lnTo>
                    <a:pt x="1893" y="261"/>
                  </a:lnTo>
                  <a:lnTo>
                    <a:pt x="1911" y="265"/>
                  </a:lnTo>
                  <a:lnTo>
                    <a:pt x="1931" y="265"/>
                  </a:lnTo>
                  <a:lnTo>
                    <a:pt x="1952" y="263"/>
                  </a:lnTo>
                  <a:lnTo>
                    <a:pt x="1973" y="259"/>
                  </a:lnTo>
                  <a:lnTo>
                    <a:pt x="1997" y="255"/>
                  </a:lnTo>
                  <a:lnTo>
                    <a:pt x="2020" y="252"/>
                  </a:lnTo>
                  <a:lnTo>
                    <a:pt x="2043" y="252"/>
                  </a:lnTo>
                  <a:lnTo>
                    <a:pt x="2072" y="235"/>
                  </a:lnTo>
                  <a:lnTo>
                    <a:pt x="2104" y="227"/>
                  </a:lnTo>
                  <a:lnTo>
                    <a:pt x="2138" y="221"/>
                  </a:lnTo>
                  <a:lnTo>
                    <a:pt x="2176" y="221"/>
                  </a:lnTo>
                  <a:lnTo>
                    <a:pt x="2212" y="221"/>
                  </a:lnTo>
                  <a:lnTo>
                    <a:pt x="2250" y="223"/>
                  </a:lnTo>
                  <a:lnTo>
                    <a:pt x="2287" y="223"/>
                  </a:lnTo>
                  <a:lnTo>
                    <a:pt x="2323" y="221"/>
                  </a:lnTo>
                  <a:lnTo>
                    <a:pt x="2311" y="224"/>
                  </a:lnTo>
                  <a:lnTo>
                    <a:pt x="2298" y="228"/>
                  </a:lnTo>
                  <a:lnTo>
                    <a:pt x="2285" y="231"/>
                  </a:lnTo>
                  <a:lnTo>
                    <a:pt x="2274" y="235"/>
                  </a:lnTo>
                  <a:lnTo>
                    <a:pt x="2261" y="239"/>
                  </a:lnTo>
                  <a:lnTo>
                    <a:pt x="2253" y="248"/>
                  </a:lnTo>
                  <a:lnTo>
                    <a:pt x="2245" y="258"/>
                  </a:lnTo>
                  <a:lnTo>
                    <a:pt x="2240" y="273"/>
                  </a:lnTo>
                  <a:lnTo>
                    <a:pt x="2292" y="304"/>
                  </a:lnTo>
                  <a:lnTo>
                    <a:pt x="2366" y="290"/>
                  </a:lnTo>
                  <a:lnTo>
                    <a:pt x="2441" y="280"/>
                  </a:lnTo>
                  <a:lnTo>
                    <a:pt x="2519" y="275"/>
                  </a:lnTo>
                  <a:lnTo>
                    <a:pt x="2596" y="273"/>
                  </a:lnTo>
                  <a:lnTo>
                    <a:pt x="2672" y="275"/>
                  </a:lnTo>
                  <a:lnTo>
                    <a:pt x="2748" y="280"/>
                  </a:lnTo>
                  <a:lnTo>
                    <a:pt x="2821" y="290"/>
                  </a:lnTo>
                  <a:lnTo>
                    <a:pt x="2894" y="304"/>
                  </a:lnTo>
                  <a:lnTo>
                    <a:pt x="2890" y="317"/>
                  </a:lnTo>
                  <a:lnTo>
                    <a:pt x="2892" y="328"/>
                  </a:lnTo>
                  <a:lnTo>
                    <a:pt x="2896" y="335"/>
                  </a:lnTo>
                  <a:lnTo>
                    <a:pt x="2903" y="342"/>
                  </a:lnTo>
                  <a:lnTo>
                    <a:pt x="2910" y="345"/>
                  </a:lnTo>
                  <a:lnTo>
                    <a:pt x="2918" y="349"/>
                  </a:lnTo>
                  <a:lnTo>
                    <a:pt x="2927" y="352"/>
                  </a:lnTo>
                  <a:lnTo>
                    <a:pt x="2935" y="356"/>
                  </a:lnTo>
                  <a:lnTo>
                    <a:pt x="2966" y="356"/>
                  </a:lnTo>
                  <a:lnTo>
                    <a:pt x="2965" y="404"/>
                  </a:lnTo>
                  <a:lnTo>
                    <a:pt x="2970" y="448"/>
                  </a:lnTo>
                  <a:lnTo>
                    <a:pt x="2982" y="489"/>
                  </a:lnTo>
                  <a:lnTo>
                    <a:pt x="2997" y="529"/>
                  </a:lnTo>
                  <a:lnTo>
                    <a:pt x="3013" y="568"/>
                  </a:lnTo>
                  <a:lnTo>
                    <a:pt x="3031" y="607"/>
                  </a:lnTo>
                  <a:lnTo>
                    <a:pt x="3046" y="645"/>
                  </a:lnTo>
                  <a:lnTo>
                    <a:pt x="3060" y="689"/>
                  </a:lnTo>
                  <a:lnTo>
                    <a:pt x="3098" y="928"/>
                  </a:lnTo>
                  <a:lnTo>
                    <a:pt x="3111" y="1171"/>
                  </a:lnTo>
                  <a:lnTo>
                    <a:pt x="3103" y="1416"/>
                  </a:lnTo>
                  <a:lnTo>
                    <a:pt x="3081" y="1666"/>
                  </a:lnTo>
                  <a:lnTo>
                    <a:pt x="3048" y="1913"/>
                  </a:lnTo>
                  <a:lnTo>
                    <a:pt x="3014" y="2161"/>
                  </a:lnTo>
                  <a:lnTo>
                    <a:pt x="2980" y="2406"/>
                  </a:lnTo>
                  <a:lnTo>
                    <a:pt x="2956" y="2651"/>
                  </a:lnTo>
                  <a:lnTo>
                    <a:pt x="2925" y="2748"/>
                  </a:lnTo>
                  <a:lnTo>
                    <a:pt x="2896" y="2847"/>
                  </a:lnTo>
                  <a:lnTo>
                    <a:pt x="2868" y="2945"/>
                  </a:lnTo>
                  <a:lnTo>
                    <a:pt x="2842" y="3047"/>
                  </a:lnTo>
                  <a:lnTo>
                    <a:pt x="2816" y="3147"/>
                  </a:lnTo>
                  <a:lnTo>
                    <a:pt x="2790" y="3248"/>
                  </a:lnTo>
                  <a:lnTo>
                    <a:pt x="2764" y="3349"/>
                  </a:lnTo>
                  <a:lnTo>
                    <a:pt x="2738" y="3451"/>
                  </a:lnTo>
                  <a:lnTo>
                    <a:pt x="2633" y="3673"/>
                  </a:lnTo>
                  <a:lnTo>
                    <a:pt x="2513" y="3897"/>
                  </a:lnTo>
                  <a:lnTo>
                    <a:pt x="2375" y="4114"/>
                  </a:lnTo>
                  <a:lnTo>
                    <a:pt x="2221" y="4321"/>
                  </a:lnTo>
                  <a:lnTo>
                    <a:pt x="2046" y="4507"/>
                  </a:lnTo>
                  <a:lnTo>
                    <a:pt x="1852" y="4671"/>
                  </a:lnTo>
                  <a:lnTo>
                    <a:pt x="1637" y="4805"/>
                  </a:lnTo>
                  <a:lnTo>
                    <a:pt x="1401" y="4904"/>
                  </a:lnTo>
                  <a:lnTo>
                    <a:pt x="1261" y="4918"/>
                  </a:lnTo>
                  <a:lnTo>
                    <a:pt x="1131" y="4912"/>
                  </a:lnTo>
                  <a:lnTo>
                    <a:pt x="1004" y="4885"/>
                  </a:lnTo>
                  <a:lnTo>
                    <a:pt x="886" y="4842"/>
                  </a:lnTo>
                  <a:lnTo>
                    <a:pt x="772" y="4781"/>
                  </a:lnTo>
                  <a:lnTo>
                    <a:pt x="664" y="4708"/>
                  </a:lnTo>
                  <a:lnTo>
                    <a:pt x="562" y="4624"/>
                  </a:lnTo>
                  <a:lnTo>
                    <a:pt x="467" y="4531"/>
                  </a:lnTo>
                  <a:lnTo>
                    <a:pt x="354" y="4383"/>
                  </a:lnTo>
                  <a:lnTo>
                    <a:pt x="268" y="4228"/>
                  </a:lnTo>
                  <a:lnTo>
                    <a:pt x="202" y="4063"/>
                  </a:lnTo>
                  <a:lnTo>
                    <a:pt x="152" y="3894"/>
                  </a:lnTo>
                  <a:lnTo>
                    <a:pt x="111" y="3720"/>
                  </a:lnTo>
                  <a:lnTo>
                    <a:pt x="77" y="3544"/>
                  </a:lnTo>
                  <a:lnTo>
                    <a:pt x="45" y="3366"/>
                  </a:lnTo>
                  <a:lnTo>
                    <a:pt x="11" y="3192"/>
                  </a:lnTo>
                  <a:lnTo>
                    <a:pt x="2" y="3075"/>
                  </a:lnTo>
                  <a:lnTo>
                    <a:pt x="0" y="2964"/>
                  </a:lnTo>
                  <a:lnTo>
                    <a:pt x="0" y="2852"/>
                  </a:lnTo>
                  <a:lnTo>
                    <a:pt x="5" y="2747"/>
                  </a:lnTo>
                  <a:lnTo>
                    <a:pt x="15" y="2640"/>
                  </a:lnTo>
                  <a:lnTo>
                    <a:pt x="33" y="2533"/>
                  </a:lnTo>
                  <a:lnTo>
                    <a:pt x="59" y="2426"/>
                  </a:lnTo>
                  <a:lnTo>
                    <a:pt x="94" y="2319"/>
                  </a:lnTo>
                  <a:lnTo>
                    <a:pt x="101" y="2184"/>
                  </a:lnTo>
                  <a:lnTo>
                    <a:pt x="118" y="2050"/>
                  </a:lnTo>
                  <a:lnTo>
                    <a:pt x="140" y="1913"/>
                  </a:lnTo>
                  <a:lnTo>
                    <a:pt x="170" y="1778"/>
                  </a:lnTo>
                  <a:lnTo>
                    <a:pt x="199" y="1642"/>
                  </a:lnTo>
                  <a:lnTo>
                    <a:pt x="233" y="1507"/>
                  </a:lnTo>
                  <a:lnTo>
                    <a:pt x="267" y="1371"/>
                  </a:lnTo>
                  <a:lnTo>
                    <a:pt x="301" y="1239"/>
                  </a:lnTo>
                  <a:lnTo>
                    <a:pt x="339" y="1118"/>
                  </a:lnTo>
                  <a:lnTo>
                    <a:pt x="372" y="995"/>
                  </a:lnTo>
                  <a:lnTo>
                    <a:pt x="403" y="870"/>
                  </a:lnTo>
                  <a:lnTo>
                    <a:pt x="437" y="748"/>
                  </a:lnTo>
                  <a:lnTo>
                    <a:pt x="475" y="627"/>
                  </a:lnTo>
                  <a:lnTo>
                    <a:pt x="521" y="511"/>
                  </a:lnTo>
                  <a:lnTo>
                    <a:pt x="579" y="401"/>
                  </a:lnTo>
                  <a:lnTo>
                    <a:pt x="654" y="304"/>
                  </a:lnTo>
                  <a:lnTo>
                    <a:pt x="682" y="293"/>
                  </a:lnTo>
                  <a:lnTo>
                    <a:pt x="710" y="277"/>
                  </a:lnTo>
                  <a:lnTo>
                    <a:pt x="737" y="259"/>
                  </a:lnTo>
                  <a:lnTo>
                    <a:pt x="763" y="244"/>
                  </a:lnTo>
                  <a:lnTo>
                    <a:pt x="789" y="228"/>
                  </a:lnTo>
                  <a:lnTo>
                    <a:pt x="818" y="217"/>
                  </a:lnTo>
                  <a:lnTo>
                    <a:pt x="848" y="214"/>
                  </a:lnTo>
                  <a:lnTo>
                    <a:pt x="882" y="221"/>
                  </a:lnTo>
                  <a:lnTo>
                    <a:pt x="921" y="192"/>
                  </a:lnTo>
                  <a:lnTo>
                    <a:pt x="963" y="163"/>
                  </a:lnTo>
                  <a:lnTo>
                    <a:pt x="1008" y="135"/>
                  </a:lnTo>
                  <a:lnTo>
                    <a:pt x="1055" y="113"/>
                  </a:lnTo>
                  <a:lnTo>
                    <a:pt x="1101" y="93"/>
                  </a:lnTo>
                  <a:lnTo>
                    <a:pt x="1149" y="83"/>
                  </a:lnTo>
                  <a:lnTo>
                    <a:pt x="1197" y="83"/>
                  </a:lnTo>
                  <a:lnTo>
                    <a:pt x="1244" y="97"/>
                  </a:lnTo>
                  <a:lnTo>
                    <a:pt x="1287" y="73"/>
                  </a:lnTo>
                  <a:lnTo>
                    <a:pt x="1329" y="54"/>
                  </a:lnTo>
                  <a:lnTo>
                    <a:pt x="1372" y="35"/>
                  </a:lnTo>
                  <a:lnTo>
                    <a:pt x="1417" y="23"/>
                  </a:lnTo>
                  <a:lnTo>
                    <a:pt x="1461" y="11"/>
                  </a:lnTo>
                  <a:lnTo>
                    <a:pt x="1509" y="4"/>
                  </a:lnTo>
                  <a:lnTo>
                    <a:pt x="1557" y="0"/>
                  </a:lnTo>
                  <a:lnTo>
                    <a:pt x="1607" y="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430840" y="907920"/>
              <a:ext cx="11160" cy="36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 rot="4815600">
              <a:off x="8162640" y="938520"/>
              <a:ext cx="91080" cy="105840"/>
            </a:xfrm>
            <a:custGeom>
              <a:avLst/>
              <a:gdLst/>
              <a:ahLst/>
              <a:rect l="l" t="t" r="r" b="b"/>
              <a:pathLst>
                <a:path w="488" h="569">
                  <a:moveTo>
                    <a:pt x="488" y="70"/>
                  </a:moveTo>
                  <a:lnTo>
                    <a:pt x="475" y="75"/>
                  </a:lnTo>
                  <a:lnTo>
                    <a:pt x="464" y="82"/>
                  </a:lnTo>
                  <a:lnTo>
                    <a:pt x="451" y="90"/>
                  </a:lnTo>
                  <a:lnTo>
                    <a:pt x="440" y="99"/>
                  </a:lnTo>
                  <a:lnTo>
                    <a:pt x="427" y="106"/>
                  </a:lnTo>
                  <a:lnTo>
                    <a:pt x="416" y="111"/>
                  </a:lnTo>
                  <a:lnTo>
                    <a:pt x="405" y="113"/>
                  </a:lnTo>
                  <a:lnTo>
                    <a:pt x="393" y="113"/>
                  </a:lnTo>
                  <a:lnTo>
                    <a:pt x="347" y="165"/>
                  </a:lnTo>
                  <a:lnTo>
                    <a:pt x="302" y="213"/>
                  </a:lnTo>
                  <a:lnTo>
                    <a:pt x="256" y="256"/>
                  </a:lnTo>
                  <a:lnTo>
                    <a:pt x="213" y="300"/>
                  </a:lnTo>
                  <a:lnTo>
                    <a:pt x="173" y="344"/>
                  </a:lnTo>
                  <a:lnTo>
                    <a:pt x="140" y="396"/>
                  </a:lnTo>
                  <a:lnTo>
                    <a:pt x="116" y="455"/>
                  </a:lnTo>
                  <a:lnTo>
                    <a:pt x="104" y="528"/>
                  </a:lnTo>
                  <a:lnTo>
                    <a:pt x="104" y="569"/>
                  </a:lnTo>
                  <a:lnTo>
                    <a:pt x="0" y="569"/>
                  </a:lnTo>
                  <a:lnTo>
                    <a:pt x="1" y="534"/>
                  </a:lnTo>
                  <a:lnTo>
                    <a:pt x="9" y="500"/>
                  </a:lnTo>
                  <a:lnTo>
                    <a:pt x="19" y="466"/>
                  </a:lnTo>
                  <a:lnTo>
                    <a:pt x="35" y="434"/>
                  </a:lnTo>
                  <a:lnTo>
                    <a:pt x="50" y="400"/>
                  </a:lnTo>
                  <a:lnTo>
                    <a:pt x="69" y="366"/>
                  </a:lnTo>
                  <a:lnTo>
                    <a:pt x="85" y="332"/>
                  </a:lnTo>
                  <a:lnTo>
                    <a:pt x="104" y="298"/>
                  </a:lnTo>
                  <a:lnTo>
                    <a:pt x="125" y="265"/>
                  </a:lnTo>
                  <a:lnTo>
                    <a:pt x="146" y="229"/>
                  </a:lnTo>
                  <a:lnTo>
                    <a:pt x="166" y="193"/>
                  </a:lnTo>
                  <a:lnTo>
                    <a:pt x="187" y="158"/>
                  </a:lnTo>
                  <a:lnTo>
                    <a:pt x="208" y="120"/>
                  </a:lnTo>
                  <a:lnTo>
                    <a:pt x="229" y="84"/>
                  </a:lnTo>
                  <a:lnTo>
                    <a:pt x="253" y="49"/>
                  </a:lnTo>
                  <a:lnTo>
                    <a:pt x="280" y="18"/>
                  </a:lnTo>
                  <a:lnTo>
                    <a:pt x="303" y="10"/>
                  </a:lnTo>
                  <a:lnTo>
                    <a:pt x="333" y="4"/>
                  </a:lnTo>
                  <a:lnTo>
                    <a:pt x="362" y="0"/>
                  </a:lnTo>
                  <a:lnTo>
                    <a:pt x="395" y="1"/>
                  </a:lnTo>
                  <a:lnTo>
                    <a:pt x="423" y="6"/>
                  </a:lnTo>
                  <a:lnTo>
                    <a:pt x="450" y="20"/>
                  </a:lnTo>
                  <a:lnTo>
                    <a:pt x="471" y="39"/>
                  </a:lnTo>
                  <a:lnTo>
                    <a:pt x="48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 rot="18184200">
              <a:off x="8336880" y="953280"/>
              <a:ext cx="92520" cy="101520"/>
            </a:xfrm>
            <a:custGeom>
              <a:avLst/>
              <a:gdLst/>
              <a:ahLst/>
              <a:rect l="l" t="t" r="r" b="b"/>
              <a:pathLst>
                <a:path w="362" h="511">
                  <a:moveTo>
                    <a:pt x="156" y="61"/>
                  </a:moveTo>
                  <a:lnTo>
                    <a:pt x="180" y="88"/>
                  </a:lnTo>
                  <a:lnTo>
                    <a:pt x="208" y="114"/>
                  </a:lnTo>
                  <a:lnTo>
                    <a:pt x="237" y="136"/>
                  </a:lnTo>
                  <a:lnTo>
                    <a:pt x="263" y="159"/>
                  </a:lnTo>
                  <a:lnTo>
                    <a:pt x="284" y="181"/>
                  </a:lnTo>
                  <a:lnTo>
                    <a:pt x="300" y="208"/>
                  </a:lnTo>
                  <a:lnTo>
                    <a:pt x="305" y="239"/>
                  </a:lnTo>
                  <a:lnTo>
                    <a:pt x="301" y="280"/>
                  </a:lnTo>
                  <a:lnTo>
                    <a:pt x="312" y="306"/>
                  </a:lnTo>
                  <a:lnTo>
                    <a:pt x="325" y="336"/>
                  </a:lnTo>
                  <a:lnTo>
                    <a:pt x="338" y="367"/>
                  </a:lnTo>
                  <a:lnTo>
                    <a:pt x="350" y="398"/>
                  </a:lnTo>
                  <a:lnTo>
                    <a:pt x="357" y="426"/>
                  </a:lnTo>
                  <a:lnTo>
                    <a:pt x="362" y="456"/>
                  </a:lnTo>
                  <a:lnTo>
                    <a:pt x="360" y="482"/>
                  </a:lnTo>
                  <a:lnTo>
                    <a:pt x="353" y="508"/>
                  </a:lnTo>
                  <a:lnTo>
                    <a:pt x="335" y="511"/>
                  </a:lnTo>
                  <a:lnTo>
                    <a:pt x="325" y="509"/>
                  </a:lnTo>
                  <a:lnTo>
                    <a:pt x="318" y="502"/>
                  </a:lnTo>
                  <a:lnTo>
                    <a:pt x="315" y="492"/>
                  </a:lnTo>
                  <a:lnTo>
                    <a:pt x="311" y="480"/>
                  </a:lnTo>
                  <a:lnTo>
                    <a:pt x="310" y="467"/>
                  </a:lnTo>
                  <a:lnTo>
                    <a:pt x="305" y="454"/>
                  </a:lnTo>
                  <a:lnTo>
                    <a:pt x="301" y="446"/>
                  </a:lnTo>
                  <a:lnTo>
                    <a:pt x="282" y="419"/>
                  </a:lnTo>
                  <a:lnTo>
                    <a:pt x="262" y="397"/>
                  </a:lnTo>
                  <a:lnTo>
                    <a:pt x="238" y="375"/>
                  </a:lnTo>
                  <a:lnTo>
                    <a:pt x="217" y="356"/>
                  </a:lnTo>
                  <a:lnTo>
                    <a:pt x="194" y="333"/>
                  </a:lnTo>
                  <a:lnTo>
                    <a:pt x="176" y="311"/>
                  </a:lnTo>
                  <a:lnTo>
                    <a:pt x="162" y="285"/>
                  </a:lnTo>
                  <a:lnTo>
                    <a:pt x="156" y="259"/>
                  </a:lnTo>
                  <a:lnTo>
                    <a:pt x="130" y="256"/>
                  </a:lnTo>
                  <a:lnTo>
                    <a:pt x="116" y="242"/>
                  </a:lnTo>
                  <a:lnTo>
                    <a:pt x="107" y="222"/>
                  </a:lnTo>
                  <a:lnTo>
                    <a:pt x="103" y="199"/>
                  </a:lnTo>
                  <a:lnTo>
                    <a:pt x="96" y="177"/>
                  </a:lnTo>
                  <a:lnTo>
                    <a:pt x="87" y="163"/>
                  </a:lnTo>
                  <a:lnTo>
                    <a:pt x="69" y="157"/>
                  </a:lnTo>
                  <a:lnTo>
                    <a:pt x="42" y="166"/>
                  </a:lnTo>
                  <a:lnTo>
                    <a:pt x="27" y="154"/>
                  </a:lnTo>
                  <a:lnTo>
                    <a:pt x="17" y="142"/>
                  </a:lnTo>
                  <a:lnTo>
                    <a:pt x="9" y="126"/>
                  </a:lnTo>
                  <a:lnTo>
                    <a:pt x="4" y="111"/>
                  </a:lnTo>
                  <a:lnTo>
                    <a:pt x="0" y="91"/>
                  </a:lnTo>
                  <a:lnTo>
                    <a:pt x="0" y="74"/>
                  </a:lnTo>
                  <a:lnTo>
                    <a:pt x="0" y="56"/>
                  </a:lnTo>
                  <a:lnTo>
                    <a:pt x="0" y="40"/>
                  </a:lnTo>
                  <a:lnTo>
                    <a:pt x="42" y="0"/>
                  </a:lnTo>
                  <a:lnTo>
                    <a:pt x="54" y="8"/>
                  </a:lnTo>
                  <a:lnTo>
                    <a:pt x="65" y="21"/>
                  </a:lnTo>
                  <a:lnTo>
                    <a:pt x="78" y="33"/>
                  </a:lnTo>
                  <a:lnTo>
                    <a:pt x="90" y="46"/>
                  </a:lnTo>
                  <a:lnTo>
                    <a:pt x="103" y="56"/>
                  </a:lnTo>
                  <a:lnTo>
                    <a:pt x="120" y="63"/>
                  </a:lnTo>
                  <a:lnTo>
                    <a:pt x="137" y="64"/>
                  </a:lnTo>
                  <a:lnTo>
                    <a:pt x="15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102520" y="1014840"/>
              <a:ext cx="166680" cy="227880"/>
            </a:xfrm>
            <a:custGeom>
              <a:avLst/>
              <a:gdLst/>
              <a:ahLst/>
              <a:rect l="l" t="t" r="r" b="b"/>
              <a:pathLst>
                <a:path w="897" h="1510">
                  <a:moveTo>
                    <a:pt x="587" y="0"/>
                  </a:moveTo>
                  <a:lnTo>
                    <a:pt x="575" y="5"/>
                  </a:lnTo>
                  <a:lnTo>
                    <a:pt x="562" y="12"/>
                  </a:lnTo>
                  <a:lnTo>
                    <a:pt x="548" y="19"/>
                  </a:lnTo>
                  <a:lnTo>
                    <a:pt x="535" y="26"/>
                  </a:lnTo>
                  <a:lnTo>
                    <a:pt x="521" y="32"/>
                  </a:lnTo>
                  <a:lnTo>
                    <a:pt x="507" y="41"/>
                  </a:lnTo>
                  <a:lnTo>
                    <a:pt x="495" y="49"/>
                  </a:lnTo>
                  <a:lnTo>
                    <a:pt x="483" y="62"/>
                  </a:lnTo>
                  <a:lnTo>
                    <a:pt x="512" y="52"/>
                  </a:lnTo>
                  <a:lnTo>
                    <a:pt x="544" y="48"/>
                  </a:lnTo>
                  <a:lnTo>
                    <a:pt x="578" y="48"/>
                  </a:lnTo>
                  <a:lnTo>
                    <a:pt x="613" y="52"/>
                  </a:lnTo>
                  <a:lnTo>
                    <a:pt x="647" y="60"/>
                  </a:lnTo>
                  <a:lnTo>
                    <a:pt x="682" y="74"/>
                  </a:lnTo>
                  <a:lnTo>
                    <a:pt x="714" y="91"/>
                  </a:lnTo>
                  <a:lnTo>
                    <a:pt x="744" y="114"/>
                  </a:lnTo>
                  <a:lnTo>
                    <a:pt x="797" y="187"/>
                  </a:lnTo>
                  <a:lnTo>
                    <a:pt x="838" y="269"/>
                  </a:lnTo>
                  <a:lnTo>
                    <a:pt x="866" y="356"/>
                  </a:lnTo>
                  <a:lnTo>
                    <a:pt x="886" y="449"/>
                  </a:lnTo>
                  <a:lnTo>
                    <a:pt x="894" y="545"/>
                  </a:lnTo>
                  <a:lnTo>
                    <a:pt x="897" y="643"/>
                  </a:lnTo>
                  <a:lnTo>
                    <a:pt x="894" y="742"/>
                  </a:lnTo>
                  <a:lnTo>
                    <a:pt x="888" y="840"/>
                  </a:lnTo>
                  <a:lnTo>
                    <a:pt x="866" y="933"/>
                  </a:lnTo>
                  <a:lnTo>
                    <a:pt x="842" y="1027"/>
                  </a:lnTo>
                  <a:lnTo>
                    <a:pt x="811" y="1119"/>
                  </a:lnTo>
                  <a:lnTo>
                    <a:pt x="776" y="1209"/>
                  </a:lnTo>
                  <a:lnTo>
                    <a:pt x="728" y="1291"/>
                  </a:lnTo>
                  <a:lnTo>
                    <a:pt x="670" y="1365"/>
                  </a:lnTo>
                  <a:lnTo>
                    <a:pt x="600" y="1430"/>
                  </a:lnTo>
                  <a:lnTo>
                    <a:pt x="516" y="1485"/>
                  </a:lnTo>
                  <a:lnTo>
                    <a:pt x="465" y="1502"/>
                  </a:lnTo>
                  <a:lnTo>
                    <a:pt x="416" y="1510"/>
                  </a:lnTo>
                  <a:lnTo>
                    <a:pt x="367" y="1509"/>
                  </a:lnTo>
                  <a:lnTo>
                    <a:pt x="322" y="1502"/>
                  </a:lnTo>
                  <a:lnTo>
                    <a:pt x="275" y="1485"/>
                  </a:lnTo>
                  <a:lnTo>
                    <a:pt x="232" y="1465"/>
                  </a:lnTo>
                  <a:lnTo>
                    <a:pt x="189" y="1440"/>
                  </a:lnTo>
                  <a:lnTo>
                    <a:pt x="151" y="1412"/>
                  </a:lnTo>
                  <a:lnTo>
                    <a:pt x="71" y="1308"/>
                  </a:lnTo>
                  <a:lnTo>
                    <a:pt x="23" y="1192"/>
                  </a:lnTo>
                  <a:lnTo>
                    <a:pt x="1" y="1064"/>
                  </a:lnTo>
                  <a:lnTo>
                    <a:pt x="0" y="932"/>
                  </a:lnTo>
                  <a:lnTo>
                    <a:pt x="12" y="795"/>
                  </a:lnTo>
                  <a:lnTo>
                    <a:pt x="36" y="661"/>
                  </a:lnTo>
                  <a:lnTo>
                    <a:pt x="63" y="533"/>
                  </a:lnTo>
                  <a:lnTo>
                    <a:pt x="90" y="415"/>
                  </a:lnTo>
                  <a:lnTo>
                    <a:pt x="123" y="336"/>
                  </a:lnTo>
                  <a:lnTo>
                    <a:pt x="167" y="262"/>
                  </a:lnTo>
                  <a:lnTo>
                    <a:pt x="219" y="191"/>
                  </a:lnTo>
                  <a:lnTo>
                    <a:pt x="279" y="129"/>
                  </a:lnTo>
                  <a:lnTo>
                    <a:pt x="346" y="76"/>
                  </a:lnTo>
                  <a:lnTo>
                    <a:pt x="420" y="35"/>
                  </a:lnTo>
                  <a:lnTo>
                    <a:pt x="499" y="8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171280" y="1032840"/>
              <a:ext cx="291600" cy="438120"/>
            </a:xfrm>
            <a:custGeom>
              <a:avLst/>
              <a:gdLst/>
              <a:ahLst/>
              <a:rect l="l" t="t" r="r" b="b"/>
              <a:pathLst>
                <a:path w="1563" h="2664">
                  <a:moveTo>
                    <a:pt x="1558" y="296"/>
                  </a:moveTo>
                  <a:lnTo>
                    <a:pt x="1563" y="449"/>
                  </a:lnTo>
                  <a:lnTo>
                    <a:pt x="1558" y="603"/>
                  </a:lnTo>
                  <a:lnTo>
                    <a:pt x="1539" y="751"/>
                  </a:lnTo>
                  <a:lnTo>
                    <a:pt x="1508" y="896"/>
                  </a:lnTo>
                  <a:lnTo>
                    <a:pt x="1459" y="1031"/>
                  </a:lnTo>
                  <a:lnTo>
                    <a:pt x="1394" y="1160"/>
                  </a:lnTo>
                  <a:lnTo>
                    <a:pt x="1309" y="1279"/>
                  </a:lnTo>
                  <a:lnTo>
                    <a:pt x="1204" y="1387"/>
                  </a:lnTo>
                  <a:lnTo>
                    <a:pt x="1171" y="1397"/>
                  </a:lnTo>
                  <a:lnTo>
                    <a:pt x="1134" y="1405"/>
                  </a:lnTo>
                  <a:lnTo>
                    <a:pt x="1098" y="1410"/>
                  </a:lnTo>
                  <a:lnTo>
                    <a:pt x="1061" y="1412"/>
                  </a:lnTo>
                  <a:lnTo>
                    <a:pt x="1023" y="1410"/>
                  </a:lnTo>
                  <a:lnTo>
                    <a:pt x="991" y="1402"/>
                  </a:lnTo>
                  <a:lnTo>
                    <a:pt x="960" y="1391"/>
                  </a:lnTo>
                  <a:lnTo>
                    <a:pt x="934" y="1376"/>
                  </a:lnTo>
                  <a:lnTo>
                    <a:pt x="908" y="1362"/>
                  </a:lnTo>
                  <a:lnTo>
                    <a:pt x="882" y="1345"/>
                  </a:lnTo>
                  <a:lnTo>
                    <a:pt x="860" y="1324"/>
                  </a:lnTo>
                  <a:lnTo>
                    <a:pt x="840" y="1304"/>
                  </a:lnTo>
                  <a:lnTo>
                    <a:pt x="820" y="1280"/>
                  </a:lnTo>
                  <a:lnTo>
                    <a:pt x="805" y="1256"/>
                  </a:lnTo>
                  <a:lnTo>
                    <a:pt x="790" y="1232"/>
                  </a:lnTo>
                  <a:lnTo>
                    <a:pt x="778" y="1210"/>
                  </a:lnTo>
                  <a:lnTo>
                    <a:pt x="798" y="1346"/>
                  </a:lnTo>
                  <a:lnTo>
                    <a:pt x="833" y="1487"/>
                  </a:lnTo>
                  <a:lnTo>
                    <a:pt x="873" y="1631"/>
                  </a:lnTo>
                  <a:lnTo>
                    <a:pt x="906" y="1774"/>
                  </a:lnTo>
                  <a:lnTo>
                    <a:pt x="925" y="1915"/>
                  </a:lnTo>
                  <a:lnTo>
                    <a:pt x="922" y="2057"/>
                  </a:lnTo>
                  <a:lnTo>
                    <a:pt x="887" y="2195"/>
                  </a:lnTo>
                  <a:lnTo>
                    <a:pt x="811" y="2332"/>
                  </a:lnTo>
                  <a:lnTo>
                    <a:pt x="801" y="2344"/>
                  </a:lnTo>
                  <a:lnTo>
                    <a:pt x="791" y="2354"/>
                  </a:lnTo>
                  <a:lnTo>
                    <a:pt x="778" y="2363"/>
                  </a:lnTo>
                  <a:lnTo>
                    <a:pt x="767" y="2372"/>
                  </a:lnTo>
                  <a:lnTo>
                    <a:pt x="753" y="2380"/>
                  </a:lnTo>
                  <a:lnTo>
                    <a:pt x="740" y="2389"/>
                  </a:lnTo>
                  <a:lnTo>
                    <a:pt x="728" y="2399"/>
                  </a:lnTo>
                  <a:lnTo>
                    <a:pt x="716" y="2415"/>
                  </a:lnTo>
                  <a:lnTo>
                    <a:pt x="701" y="2449"/>
                  </a:lnTo>
                  <a:lnTo>
                    <a:pt x="681" y="2485"/>
                  </a:lnTo>
                  <a:lnTo>
                    <a:pt x="657" y="2519"/>
                  </a:lnTo>
                  <a:lnTo>
                    <a:pt x="629" y="2553"/>
                  </a:lnTo>
                  <a:lnTo>
                    <a:pt x="597" y="2582"/>
                  </a:lnTo>
                  <a:lnTo>
                    <a:pt x="563" y="2610"/>
                  </a:lnTo>
                  <a:lnTo>
                    <a:pt x="525" y="2633"/>
                  </a:lnTo>
                  <a:lnTo>
                    <a:pt x="489" y="2653"/>
                  </a:lnTo>
                  <a:lnTo>
                    <a:pt x="434" y="2660"/>
                  </a:lnTo>
                  <a:lnTo>
                    <a:pt x="380" y="2664"/>
                  </a:lnTo>
                  <a:lnTo>
                    <a:pt x="330" y="2658"/>
                  </a:lnTo>
                  <a:lnTo>
                    <a:pt x="280" y="2650"/>
                  </a:lnTo>
                  <a:lnTo>
                    <a:pt x="233" y="2632"/>
                  </a:lnTo>
                  <a:lnTo>
                    <a:pt x="188" y="2608"/>
                  </a:lnTo>
                  <a:lnTo>
                    <a:pt x="144" y="2577"/>
                  </a:lnTo>
                  <a:lnTo>
                    <a:pt x="105" y="2539"/>
                  </a:lnTo>
                  <a:lnTo>
                    <a:pt x="81" y="2489"/>
                  </a:lnTo>
                  <a:lnTo>
                    <a:pt x="61" y="2440"/>
                  </a:lnTo>
                  <a:lnTo>
                    <a:pt x="43" y="2387"/>
                  </a:lnTo>
                  <a:lnTo>
                    <a:pt x="29" y="2334"/>
                  </a:lnTo>
                  <a:lnTo>
                    <a:pt x="16" y="2280"/>
                  </a:lnTo>
                  <a:lnTo>
                    <a:pt x="7" y="2226"/>
                  </a:lnTo>
                  <a:lnTo>
                    <a:pt x="2" y="2174"/>
                  </a:lnTo>
                  <a:lnTo>
                    <a:pt x="0" y="2123"/>
                  </a:lnTo>
                  <a:lnTo>
                    <a:pt x="31" y="2092"/>
                  </a:lnTo>
                  <a:lnTo>
                    <a:pt x="48" y="2142"/>
                  </a:lnTo>
                  <a:lnTo>
                    <a:pt x="72" y="2197"/>
                  </a:lnTo>
                  <a:lnTo>
                    <a:pt x="102" y="2253"/>
                  </a:lnTo>
                  <a:lnTo>
                    <a:pt x="137" y="2309"/>
                  </a:lnTo>
                  <a:lnTo>
                    <a:pt x="178" y="2358"/>
                  </a:lnTo>
                  <a:lnTo>
                    <a:pt x="228" y="2402"/>
                  </a:lnTo>
                  <a:lnTo>
                    <a:pt x="286" y="2434"/>
                  </a:lnTo>
                  <a:lnTo>
                    <a:pt x="353" y="2456"/>
                  </a:lnTo>
                  <a:lnTo>
                    <a:pt x="404" y="2444"/>
                  </a:lnTo>
                  <a:lnTo>
                    <a:pt x="455" y="2439"/>
                  </a:lnTo>
                  <a:lnTo>
                    <a:pt x="503" y="2432"/>
                  </a:lnTo>
                  <a:lnTo>
                    <a:pt x="549" y="2426"/>
                  </a:lnTo>
                  <a:lnTo>
                    <a:pt x="593" y="2413"/>
                  </a:lnTo>
                  <a:lnTo>
                    <a:pt x="635" y="2398"/>
                  </a:lnTo>
                  <a:lnTo>
                    <a:pt x="676" y="2374"/>
                  </a:lnTo>
                  <a:lnTo>
                    <a:pt x="716" y="2342"/>
                  </a:lnTo>
                  <a:lnTo>
                    <a:pt x="806" y="2192"/>
                  </a:lnTo>
                  <a:lnTo>
                    <a:pt x="846" y="2036"/>
                  </a:lnTo>
                  <a:lnTo>
                    <a:pt x="846" y="1876"/>
                  </a:lnTo>
                  <a:lnTo>
                    <a:pt x="820" y="1711"/>
                  </a:lnTo>
                  <a:lnTo>
                    <a:pt x="778" y="1543"/>
                  </a:lnTo>
                  <a:lnTo>
                    <a:pt x="735" y="1376"/>
                  </a:lnTo>
                  <a:lnTo>
                    <a:pt x="700" y="1207"/>
                  </a:lnTo>
                  <a:lnTo>
                    <a:pt x="685" y="1043"/>
                  </a:lnTo>
                  <a:lnTo>
                    <a:pt x="694" y="922"/>
                  </a:lnTo>
                  <a:lnTo>
                    <a:pt x="708" y="804"/>
                  </a:lnTo>
                  <a:lnTo>
                    <a:pt x="726" y="686"/>
                  </a:lnTo>
                  <a:lnTo>
                    <a:pt x="752" y="570"/>
                  </a:lnTo>
                  <a:lnTo>
                    <a:pt x="780" y="455"/>
                  </a:lnTo>
                  <a:lnTo>
                    <a:pt x="815" y="344"/>
                  </a:lnTo>
                  <a:lnTo>
                    <a:pt x="856" y="234"/>
                  </a:lnTo>
                  <a:lnTo>
                    <a:pt x="903" y="130"/>
                  </a:lnTo>
                  <a:lnTo>
                    <a:pt x="954" y="100"/>
                  </a:lnTo>
                  <a:lnTo>
                    <a:pt x="1010" y="71"/>
                  </a:lnTo>
                  <a:lnTo>
                    <a:pt x="1068" y="42"/>
                  </a:lnTo>
                  <a:lnTo>
                    <a:pt x="1130" y="20"/>
                  </a:lnTo>
                  <a:lnTo>
                    <a:pt x="1190" y="4"/>
                  </a:lnTo>
                  <a:lnTo>
                    <a:pt x="1254" y="0"/>
                  </a:lnTo>
                  <a:lnTo>
                    <a:pt x="1317" y="10"/>
                  </a:lnTo>
                  <a:lnTo>
                    <a:pt x="1380" y="37"/>
                  </a:lnTo>
                  <a:lnTo>
                    <a:pt x="1417" y="58"/>
                  </a:lnTo>
                  <a:lnTo>
                    <a:pt x="1446" y="86"/>
                  </a:lnTo>
                  <a:lnTo>
                    <a:pt x="1469" y="117"/>
                  </a:lnTo>
                  <a:lnTo>
                    <a:pt x="1487" y="154"/>
                  </a:lnTo>
                  <a:lnTo>
                    <a:pt x="1503" y="189"/>
                  </a:lnTo>
                  <a:lnTo>
                    <a:pt x="1518" y="227"/>
                  </a:lnTo>
                  <a:lnTo>
                    <a:pt x="1535" y="262"/>
                  </a:lnTo>
                  <a:lnTo>
                    <a:pt x="155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117280" y="1035720"/>
              <a:ext cx="139320" cy="196200"/>
            </a:xfrm>
            <a:custGeom>
              <a:avLst/>
              <a:gdLst/>
              <a:ahLst/>
              <a:rect l="l" t="t" r="r" b="b"/>
              <a:pathLst>
                <a:path w="750" h="1299">
                  <a:moveTo>
                    <a:pt x="750" y="540"/>
                  </a:moveTo>
                  <a:lnTo>
                    <a:pt x="740" y="649"/>
                  </a:lnTo>
                  <a:lnTo>
                    <a:pt x="726" y="761"/>
                  </a:lnTo>
                  <a:lnTo>
                    <a:pt x="703" y="870"/>
                  </a:lnTo>
                  <a:lnTo>
                    <a:pt x="672" y="977"/>
                  </a:lnTo>
                  <a:lnTo>
                    <a:pt x="627" y="1074"/>
                  </a:lnTo>
                  <a:lnTo>
                    <a:pt x="567" y="1163"/>
                  </a:lnTo>
                  <a:lnTo>
                    <a:pt x="487" y="1237"/>
                  </a:lnTo>
                  <a:lnTo>
                    <a:pt x="387" y="1298"/>
                  </a:lnTo>
                  <a:lnTo>
                    <a:pt x="347" y="1299"/>
                  </a:lnTo>
                  <a:lnTo>
                    <a:pt x="311" y="1299"/>
                  </a:lnTo>
                  <a:lnTo>
                    <a:pt x="277" y="1296"/>
                  </a:lnTo>
                  <a:lnTo>
                    <a:pt x="245" y="1292"/>
                  </a:lnTo>
                  <a:lnTo>
                    <a:pt x="212" y="1281"/>
                  </a:lnTo>
                  <a:lnTo>
                    <a:pt x="183" y="1267"/>
                  </a:lnTo>
                  <a:lnTo>
                    <a:pt x="153" y="1249"/>
                  </a:lnTo>
                  <a:lnTo>
                    <a:pt x="126" y="1225"/>
                  </a:lnTo>
                  <a:lnTo>
                    <a:pt x="56" y="1112"/>
                  </a:lnTo>
                  <a:lnTo>
                    <a:pt x="17" y="991"/>
                  </a:lnTo>
                  <a:lnTo>
                    <a:pt x="0" y="861"/>
                  </a:lnTo>
                  <a:lnTo>
                    <a:pt x="5" y="730"/>
                  </a:lnTo>
                  <a:lnTo>
                    <a:pt x="24" y="595"/>
                  </a:lnTo>
                  <a:lnTo>
                    <a:pt x="55" y="466"/>
                  </a:lnTo>
                  <a:lnTo>
                    <a:pt x="90" y="342"/>
                  </a:lnTo>
                  <a:lnTo>
                    <a:pt x="126" y="228"/>
                  </a:lnTo>
                  <a:lnTo>
                    <a:pt x="131" y="249"/>
                  </a:lnTo>
                  <a:lnTo>
                    <a:pt x="139" y="270"/>
                  </a:lnTo>
                  <a:lnTo>
                    <a:pt x="149" y="290"/>
                  </a:lnTo>
                  <a:lnTo>
                    <a:pt x="163" y="308"/>
                  </a:lnTo>
                  <a:lnTo>
                    <a:pt x="176" y="325"/>
                  </a:lnTo>
                  <a:lnTo>
                    <a:pt x="193" y="342"/>
                  </a:lnTo>
                  <a:lnTo>
                    <a:pt x="209" y="357"/>
                  </a:lnTo>
                  <a:lnTo>
                    <a:pt x="231" y="374"/>
                  </a:lnTo>
                  <a:lnTo>
                    <a:pt x="253" y="377"/>
                  </a:lnTo>
                  <a:lnTo>
                    <a:pt x="278" y="383"/>
                  </a:lnTo>
                  <a:lnTo>
                    <a:pt x="302" y="385"/>
                  </a:lnTo>
                  <a:lnTo>
                    <a:pt x="326" y="388"/>
                  </a:lnTo>
                  <a:lnTo>
                    <a:pt x="347" y="385"/>
                  </a:lnTo>
                  <a:lnTo>
                    <a:pt x="370" y="378"/>
                  </a:lnTo>
                  <a:lnTo>
                    <a:pt x="388" y="364"/>
                  </a:lnTo>
                  <a:lnTo>
                    <a:pt x="406" y="342"/>
                  </a:lnTo>
                  <a:lnTo>
                    <a:pt x="433" y="312"/>
                  </a:lnTo>
                  <a:lnTo>
                    <a:pt x="460" y="281"/>
                  </a:lnTo>
                  <a:lnTo>
                    <a:pt x="484" y="248"/>
                  </a:lnTo>
                  <a:lnTo>
                    <a:pt x="506" y="212"/>
                  </a:lnTo>
                  <a:lnTo>
                    <a:pt x="522" y="173"/>
                  </a:lnTo>
                  <a:lnTo>
                    <a:pt x="530" y="133"/>
                  </a:lnTo>
                  <a:lnTo>
                    <a:pt x="530" y="93"/>
                  </a:lnTo>
                  <a:lnTo>
                    <a:pt x="522" y="52"/>
                  </a:lnTo>
                  <a:lnTo>
                    <a:pt x="480" y="0"/>
                  </a:lnTo>
                  <a:lnTo>
                    <a:pt x="567" y="25"/>
                  </a:lnTo>
                  <a:lnTo>
                    <a:pt x="629" y="73"/>
                  </a:lnTo>
                  <a:lnTo>
                    <a:pt x="671" y="135"/>
                  </a:lnTo>
                  <a:lnTo>
                    <a:pt x="699" y="211"/>
                  </a:lnTo>
                  <a:lnTo>
                    <a:pt x="714" y="291"/>
                  </a:lnTo>
                  <a:lnTo>
                    <a:pt x="727" y="377"/>
                  </a:lnTo>
                  <a:lnTo>
                    <a:pt x="736" y="460"/>
                  </a:lnTo>
                  <a:lnTo>
                    <a:pt x="750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172720" y="1040400"/>
              <a:ext cx="20160" cy="1872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105" y="49"/>
                  </a:moveTo>
                  <a:lnTo>
                    <a:pt x="107" y="56"/>
                  </a:lnTo>
                  <a:lnTo>
                    <a:pt x="107" y="64"/>
                  </a:lnTo>
                  <a:lnTo>
                    <a:pt x="104" y="73"/>
                  </a:lnTo>
                  <a:lnTo>
                    <a:pt x="101" y="81"/>
                  </a:lnTo>
                  <a:lnTo>
                    <a:pt x="96" y="88"/>
                  </a:lnTo>
                  <a:lnTo>
                    <a:pt x="88" y="95"/>
                  </a:lnTo>
                  <a:lnTo>
                    <a:pt x="81" y="98"/>
                  </a:lnTo>
                  <a:lnTo>
                    <a:pt x="74" y="101"/>
                  </a:lnTo>
                  <a:lnTo>
                    <a:pt x="62" y="100"/>
                  </a:lnTo>
                  <a:lnTo>
                    <a:pt x="51" y="100"/>
                  </a:lnTo>
                  <a:lnTo>
                    <a:pt x="39" y="98"/>
                  </a:lnTo>
                  <a:lnTo>
                    <a:pt x="29" y="97"/>
                  </a:lnTo>
                  <a:lnTo>
                    <a:pt x="20" y="91"/>
                  </a:lnTo>
                  <a:lnTo>
                    <a:pt x="13" y="87"/>
                  </a:lnTo>
                  <a:lnTo>
                    <a:pt x="6" y="77"/>
                  </a:lnTo>
                  <a:lnTo>
                    <a:pt x="3" y="69"/>
                  </a:lnTo>
                  <a:lnTo>
                    <a:pt x="0" y="49"/>
                  </a:lnTo>
                  <a:lnTo>
                    <a:pt x="11" y="29"/>
                  </a:lnTo>
                  <a:lnTo>
                    <a:pt x="29" y="14"/>
                  </a:lnTo>
                  <a:lnTo>
                    <a:pt x="53" y="4"/>
                  </a:lnTo>
                  <a:lnTo>
                    <a:pt x="76" y="0"/>
                  </a:lnTo>
                  <a:lnTo>
                    <a:pt x="94" y="4"/>
                  </a:lnTo>
                  <a:lnTo>
                    <a:pt x="104" y="19"/>
                  </a:lnTo>
                  <a:lnTo>
                    <a:pt x="10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318880" y="1045440"/>
              <a:ext cx="132840" cy="205200"/>
            </a:xfrm>
            <a:custGeom>
              <a:avLst/>
              <a:gdLst/>
              <a:ahLst/>
              <a:rect l="l" t="t" r="r" b="b"/>
              <a:pathLst>
                <a:path w="714" h="1249">
                  <a:moveTo>
                    <a:pt x="694" y="259"/>
                  </a:moveTo>
                  <a:lnTo>
                    <a:pt x="713" y="377"/>
                  </a:lnTo>
                  <a:lnTo>
                    <a:pt x="714" y="494"/>
                  </a:lnTo>
                  <a:lnTo>
                    <a:pt x="703" y="607"/>
                  </a:lnTo>
                  <a:lnTo>
                    <a:pt x="680" y="719"/>
                  </a:lnTo>
                  <a:lnTo>
                    <a:pt x="647" y="828"/>
                  </a:lnTo>
                  <a:lnTo>
                    <a:pt x="607" y="935"/>
                  </a:lnTo>
                  <a:lnTo>
                    <a:pt x="564" y="1039"/>
                  </a:lnTo>
                  <a:lnTo>
                    <a:pt x="519" y="1142"/>
                  </a:lnTo>
                  <a:lnTo>
                    <a:pt x="490" y="1178"/>
                  </a:lnTo>
                  <a:lnTo>
                    <a:pt x="459" y="1206"/>
                  </a:lnTo>
                  <a:lnTo>
                    <a:pt x="424" y="1226"/>
                  </a:lnTo>
                  <a:lnTo>
                    <a:pt x="386" y="1240"/>
                  </a:lnTo>
                  <a:lnTo>
                    <a:pt x="344" y="1246"/>
                  </a:lnTo>
                  <a:lnTo>
                    <a:pt x="302" y="1249"/>
                  </a:lnTo>
                  <a:lnTo>
                    <a:pt x="260" y="1247"/>
                  </a:lnTo>
                  <a:lnTo>
                    <a:pt x="218" y="1246"/>
                  </a:lnTo>
                  <a:lnTo>
                    <a:pt x="153" y="1201"/>
                  </a:lnTo>
                  <a:lnTo>
                    <a:pt x="105" y="1147"/>
                  </a:lnTo>
                  <a:lnTo>
                    <a:pt x="67" y="1085"/>
                  </a:lnTo>
                  <a:lnTo>
                    <a:pt x="42" y="1021"/>
                  </a:lnTo>
                  <a:lnTo>
                    <a:pt x="22" y="949"/>
                  </a:lnTo>
                  <a:lnTo>
                    <a:pt x="11" y="876"/>
                  </a:lnTo>
                  <a:lnTo>
                    <a:pt x="2" y="799"/>
                  </a:lnTo>
                  <a:lnTo>
                    <a:pt x="0" y="726"/>
                  </a:lnTo>
                  <a:lnTo>
                    <a:pt x="7" y="702"/>
                  </a:lnTo>
                  <a:lnTo>
                    <a:pt x="11" y="680"/>
                  </a:lnTo>
                  <a:lnTo>
                    <a:pt x="11" y="657"/>
                  </a:lnTo>
                  <a:lnTo>
                    <a:pt x="9" y="636"/>
                  </a:lnTo>
                  <a:lnTo>
                    <a:pt x="7" y="612"/>
                  </a:lnTo>
                  <a:lnTo>
                    <a:pt x="7" y="590"/>
                  </a:lnTo>
                  <a:lnTo>
                    <a:pt x="11" y="564"/>
                  </a:lnTo>
                  <a:lnTo>
                    <a:pt x="21" y="539"/>
                  </a:lnTo>
                  <a:lnTo>
                    <a:pt x="29" y="511"/>
                  </a:lnTo>
                  <a:lnTo>
                    <a:pt x="36" y="483"/>
                  </a:lnTo>
                  <a:lnTo>
                    <a:pt x="42" y="453"/>
                  </a:lnTo>
                  <a:lnTo>
                    <a:pt x="47" y="425"/>
                  </a:lnTo>
                  <a:lnTo>
                    <a:pt x="52" y="395"/>
                  </a:lnTo>
                  <a:lnTo>
                    <a:pt x="59" y="366"/>
                  </a:lnTo>
                  <a:lnTo>
                    <a:pt x="68" y="338"/>
                  </a:lnTo>
                  <a:lnTo>
                    <a:pt x="83" y="311"/>
                  </a:lnTo>
                  <a:lnTo>
                    <a:pt x="75" y="335"/>
                  </a:lnTo>
                  <a:lnTo>
                    <a:pt x="77" y="355"/>
                  </a:lnTo>
                  <a:lnTo>
                    <a:pt x="85" y="369"/>
                  </a:lnTo>
                  <a:lnTo>
                    <a:pt x="101" y="383"/>
                  </a:lnTo>
                  <a:lnTo>
                    <a:pt x="118" y="393"/>
                  </a:lnTo>
                  <a:lnTo>
                    <a:pt x="137" y="404"/>
                  </a:lnTo>
                  <a:lnTo>
                    <a:pt x="157" y="412"/>
                  </a:lnTo>
                  <a:lnTo>
                    <a:pt x="175" y="425"/>
                  </a:lnTo>
                  <a:lnTo>
                    <a:pt x="216" y="433"/>
                  </a:lnTo>
                  <a:lnTo>
                    <a:pt x="256" y="431"/>
                  </a:lnTo>
                  <a:lnTo>
                    <a:pt x="292" y="418"/>
                  </a:lnTo>
                  <a:lnTo>
                    <a:pt x="329" y="398"/>
                  </a:lnTo>
                  <a:lnTo>
                    <a:pt x="361" y="372"/>
                  </a:lnTo>
                  <a:lnTo>
                    <a:pt x="392" y="342"/>
                  </a:lnTo>
                  <a:lnTo>
                    <a:pt x="420" y="311"/>
                  </a:lnTo>
                  <a:lnTo>
                    <a:pt x="445" y="280"/>
                  </a:lnTo>
                  <a:lnTo>
                    <a:pt x="451" y="256"/>
                  </a:lnTo>
                  <a:lnTo>
                    <a:pt x="458" y="232"/>
                  </a:lnTo>
                  <a:lnTo>
                    <a:pt x="464" y="208"/>
                  </a:lnTo>
                  <a:lnTo>
                    <a:pt x="468" y="186"/>
                  </a:lnTo>
                  <a:lnTo>
                    <a:pt x="468" y="162"/>
                  </a:lnTo>
                  <a:lnTo>
                    <a:pt x="465" y="139"/>
                  </a:lnTo>
                  <a:lnTo>
                    <a:pt x="457" y="115"/>
                  </a:lnTo>
                  <a:lnTo>
                    <a:pt x="445" y="93"/>
                  </a:lnTo>
                  <a:lnTo>
                    <a:pt x="431" y="86"/>
                  </a:lnTo>
                  <a:lnTo>
                    <a:pt x="422" y="77"/>
                  </a:lnTo>
                  <a:lnTo>
                    <a:pt x="414" y="65"/>
                  </a:lnTo>
                  <a:lnTo>
                    <a:pt x="410" y="53"/>
                  </a:lnTo>
                  <a:lnTo>
                    <a:pt x="406" y="38"/>
                  </a:lnTo>
                  <a:lnTo>
                    <a:pt x="403" y="25"/>
                  </a:lnTo>
                  <a:lnTo>
                    <a:pt x="398" y="11"/>
                  </a:lnTo>
                  <a:lnTo>
                    <a:pt x="393" y="0"/>
                  </a:lnTo>
                  <a:lnTo>
                    <a:pt x="451" y="3"/>
                  </a:lnTo>
                  <a:lnTo>
                    <a:pt x="502" y="18"/>
                  </a:lnTo>
                  <a:lnTo>
                    <a:pt x="547" y="43"/>
                  </a:lnTo>
                  <a:lnTo>
                    <a:pt x="586" y="79"/>
                  </a:lnTo>
                  <a:lnTo>
                    <a:pt x="618" y="119"/>
                  </a:lnTo>
                  <a:lnTo>
                    <a:pt x="648" y="165"/>
                  </a:lnTo>
                  <a:lnTo>
                    <a:pt x="672" y="211"/>
                  </a:lnTo>
                  <a:lnTo>
                    <a:pt x="694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363160" y="1066320"/>
              <a:ext cx="18720" cy="19800"/>
            </a:xfrm>
            <a:custGeom>
              <a:avLst/>
              <a:gdLst/>
              <a:ahLst/>
              <a:rect l="l" t="t" r="r" b="b"/>
              <a:pathLst>
                <a:path w="100" h="106">
                  <a:moveTo>
                    <a:pt x="92" y="2"/>
                  </a:moveTo>
                  <a:lnTo>
                    <a:pt x="97" y="13"/>
                  </a:lnTo>
                  <a:lnTo>
                    <a:pt x="100" y="26"/>
                  </a:lnTo>
                  <a:lnTo>
                    <a:pt x="98" y="40"/>
                  </a:lnTo>
                  <a:lnTo>
                    <a:pt x="95" y="54"/>
                  </a:lnTo>
                  <a:lnTo>
                    <a:pt x="88" y="67"/>
                  </a:lnTo>
                  <a:lnTo>
                    <a:pt x="81" y="81"/>
                  </a:lnTo>
                  <a:lnTo>
                    <a:pt x="71" y="93"/>
                  </a:lnTo>
                  <a:lnTo>
                    <a:pt x="62" y="106"/>
                  </a:lnTo>
                  <a:lnTo>
                    <a:pt x="47" y="103"/>
                  </a:lnTo>
                  <a:lnTo>
                    <a:pt x="35" y="100"/>
                  </a:lnTo>
                  <a:lnTo>
                    <a:pt x="22" y="93"/>
                  </a:lnTo>
                  <a:lnTo>
                    <a:pt x="12" y="86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9" y="44"/>
                  </a:lnTo>
                  <a:lnTo>
                    <a:pt x="11" y="26"/>
                  </a:lnTo>
                  <a:lnTo>
                    <a:pt x="18" y="15"/>
                  </a:lnTo>
                  <a:lnTo>
                    <a:pt x="26" y="6"/>
                  </a:lnTo>
                  <a:lnTo>
                    <a:pt x="39" y="3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550720" y="1122840"/>
              <a:ext cx="180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531280" y="1190880"/>
              <a:ext cx="39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832880" y="1342080"/>
              <a:ext cx="106200" cy="173520"/>
            </a:xfrm>
            <a:custGeom>
              <a:avLst/>
              <a:gdLst/>
              <a:ahLst/>
              <a:rect l="l" t="t" r="r" b="b"/>
              <a:pathLst>
                <a:path w="573" h="932">
                  <a:moveTo>
                    <a:pt x="480" y="177"/>
                  </a:moveTo>
                  <a:lnTo>
                    <a:pt x="519" y="262"/>
                  </a:lnTo>
                  <a:lnTo>
                    <a:pt x="542" y="350"/>
                  </a:lnTo>
                  <a:lnTo>
                    <a:pt x="550" y="438"/>
                  </a:lnTo>
                  <a:lnTo>
                    <a:pt x="553" y="528"/>
                  </a:lnTo>
                  <a:lnTo>
                    <a:pt x="550" y="618"/>
                  </a:lnTo>
                  <a:lnTo>
                    <a:pt x="550" y="712"/>
                  </a:lnTo>
                  <a:lnTo>
                    <a:pt x="556" y="807"/>
                  </a:lnTo>
                  <a:lnTo>
                    <a:pt x="573" y="904"/>
                  </a:lnTo>
                  <a:lnTo>
                    <a:pt x="547" y="919"/>
                  </a:lnTo>
                  <a:lnTo>
                    <a:pt x="522" y="929"/>
                  </a:lnTo>
                  <a:lnTo>
                    <a:pt x="495" y="932"/>
                  </a:lnTo>
                  <a:lnTo>
                    <a:pt x="469" y="932"/>
                  </a:lnTo>
                  <a:lnTo>
                    <a:pt x="440" y="925"/>
                  </a:lnTo>
                  <a:lnTo>
                    <a:pt x="415" y="914"/>
                  </a:lnTo>
                  <a:lnTo>
                    <a:pt x="388" y="900"/>
                  </a:lnTo>
                  <a:lnTo>
                    <a:pt x="366" y="883"/>
                  </a:lnTo>
                  <a:lnTo>
                    <a:pt x="284" y="809"/>
                  </a:lnTo>
                  <a:lnTo>
                    <a:pt x="208" y="735"/>
                  </a:lnTo>
                  <a:lnTo>
                    <a:pt x="139" y="655"/>
                  </a:lnTo>
                  <a:lnTo>
                    <a:pt x="83" y="571"/>
                  </a:lnTo>
                  <a:lnTo>
                    <a:pt x="38" y="481"/>
                  </a:lnTo>
                  <a:lnTo>
                    <a:pt x="10" y="387"/>
                  </a:lnTo>
                  <a:lnTo>
                    <a:pt x="0" y="286"/>
                  </a:lnTo>
                  <a:lnTo>
                    <a:pt x="13" y="177"/>
                  </a:lnTo>
                  <a:lnTo>
                    <a:pt x="27" y="143"/>
                  </a:lnTo>
                  <a:lnTo>
                    <a:pt x="48" y="114"/>
                  </a:lnTo>
                  <a:lnTo>
                    <a:pt x="72" y="89"/>
                  </a:lnTo>
                  <a:lnTo>
                    <a:pt x="101" y="69"/>
                  </a:lnTo>
                  <a:lnTo>
                    <a:pt x="132" y="48"/>
                  </a:lnTo>
                  <a:lnTo>
                    <a:pt x="165" y="31"/>
                  </a:lnTo>
                  <a:lnTo>
                    <a:pt x="197" y="14"/>
                  </a:lnTo>
                  <a:lnTo>
                    <a:pt x="231" y="0"/>
                  </a:lnTo>
                  <a:lnTo>
                    <a:pt x="272" y="3"/>
                  </a:lnTo>
                  <a:lnTo>
                    <a:pt x="311" y="13"/>
                  </a:lnTo>
                  <a:lnTo>
                    <a:pt x="348" y="29"/>
                  </a:lnTo>
                  <a:lnTo>
                    <a:pt x="381" y="52"/>
                  </a:lnTo>
                  <a:lnTo>
                    <a:pt x="411" y="77"/>
                  </a:lnTo>
                  <a:lnTo>
                    <a:pt x="439" y="108"/>
                  </a:lnTo>
                  <a:lnTo>
                    <a:pt x="460" y="141"/>
                  </a:lnTo>
                  <a:lnTo>
                    <a:pt x="480" y="177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484840" y="1377360"/>
              <a:ext cx="92520" cy="109440"/>
            </a:xfrm>
            <a:custGeom>
              <a:avLst/>
              <a:gdLst/>
              <a:ahLst/>
              <a:rect l="l" t="t" r="r" b="b"/>
              <a:pathLst>
                <a:path w="498" h="589">
                  <a:moveTo>
                    <a:pt x="498" y="112"/>
                  </a:moveTo>
                  <a:lnTo>
                    <a:pt x="498" y="164"/>
                  </a:lnTo>
                  <a:lnTo>
                    <a:pt x="436" y="167"/>
                  </a:lnTo>
                  <a:lnTo>
                    <a:pt x="379" y="184"/>
                  </a:lnTo>
                  <a:lnTo>
                    <a:pt x="322" y="212"/>
                  </a:lnTo>
                  <a:lnTo>
                    <a:pt x="272" y="249"/>
                  </a:lnTo>
                  <a:lnTo>
                    <a:pt x="221" y="290"/>
                  </a:lnTo>
                  <a:lnTo>
                    <a:pt x="176" y="337"/>
                  </a:lnTo>
                  <a:lnTo>
                    <a:pt x="133" y="385"/>
                  </a:lnTo>
                  <a:lnTo>
                    <a:pt x="93" y="435"/>
                  </a:lnTo>
                  <a:lnTo>
                    <a:pt x="78" y="453"/>
                  </a:lnTo>
                  <a:lnTo>
                    <a:pt x="68" y="474"/>
                  </a:lnTo>
                  <a:lnTo>
                    <a:pt x="58" y="495"/>
                  </a:lnTo>
                  <a:lnTo>
                    <a:pt x="51" y="516"/>
                  </a:lnTo>
                  <a:lnTo>
                    <a:pt x="40" y="535"/>
                  </a:lnTo>
                  <a:lnTo>
                    <a:pt x="30" y="554"/>
                  </a:lnTo>
                  <a:lnTo>
                    <a:pt x="16" y="571"/>
                  </a:lnTo>
                  <a:lnTo>
                    <a:pt x="0" y="589"/>
                  </a:lnTo>
                  <a:lnTo>
                    <a:pt x="93" y="237"/>
                  </a:lnTo>
                  <a:lnTo>
                    <a:pt x="133" y="192"/>
                  </a:lnTo>
                  <a:lnTo>
                    <a:pt x="182" y="138"/>
                  </a:lnTo>
                  <a:lnTo>
                    <a:pt x="237" y="81"/>
                  </a:lnTo>
                  <a:lnTo>
                    <a:pt x="296" y="33"/>
                  </a:lnTo>
                  <a:lnTo>
                    <a:pt x="352" y="2"/>
                  </a:lnTo>
                  <a:lnTo>
                    <a:pt x="408" y="0"/>
                  </a:lnTo>
                  <a:lnTo>
                    <a:pt x="457" y="32"/>
                  </a:lnTo>
                  <a:lnTo>
                    <a:pt x="498" y="112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842240" y="1383840"/>
              <a:ext cx="85320" cy="83880"/>
            </a:xfrm>
            <a:custGeom>
              <a:avLst/>
              <a:gdLst/>
              <a:ahLst/>
              <a:rect l="l" t="t" r="r" b="b"/>
              <a:pathLst>
                <a:path w="459" h="452">
                  <a:moveTo>
                    <a:pt x="459" y="286"/>
                  </a:moveTo>
                  <a:lnTo>
                    <a:pt x="454" y="297"/>
                  </a:lnTo>
                  <a:lnTo>
                    <a:pt x="454" y="309"/>
                  </a:lnTo>
                  <a:lnTo>
                    <a:pt x="454" y="322"/>
                  </a:lnTo>
                  <a:lnTo>
                    <a:pt x="456" y="335"/>
                  </a:lnTo>
                  <a:lnTo>
                    <a:pt x="454" y="346"/>
                  </a:lnTo>
                  <a:lnTo>
                    <a:pt x="452" y="359"/>
                  </a:lnTo>
                  <a:lnTo>
                    <a:pt x="446" y="369"/>
                  </a:lnTo>
                  <a:lnTo>
                    <a:pt x="438" y="378"/>
                  </a:lnTo>
                  <a:lnTo>
                    <a:pt x="426" y="376"/>
                  </a:lnTo>
                  <a:lnTo>
                    <a:pt x="418" y="369"/>
                  </a:lnTo>
                  <a:lnTo>
                    <a:pt x="412" y="359"/>
                  </a:lnTo>
                  <a:lnTo>
                    <a:pt x="408" y="347"/>
                  </a:lnTo>
                  <a:lnTo>
                    <a:pt x="404" y="333"/>
                  </a:lnTo>
                  <a:lnTo>
                    <a:pt x="402" y="321"/>
                  </a:lnTo>
                  <a:lnTo>
                    <a:pt x="398" y="307"/>
                  </a:lnTo>
                  <a:lnTo>
                    <a:pt x="397" y="295"/>
                  </a:lnTo>
                  <a:lnTo>
                    <a:pt x="383" y="300"/>
                  </a:lnTo>
                  <a:lnTo>
                    <a:pt x="370" y="302"/>
                  </a:lnTo>
                  <a:lnTo>
                    <a:pt x="356" y="301"/>
                  </a:lnTo>
                  <a:lnTo>
                    <a:pt x="343" y="298"/>
                  </a:lnTo>
                  <a:lnTo>
                    <a:pt x="331" y="290"/>
                  </a:lnTo>
                  <a:lnTo>
                    <a:pt x="322" y="280"/>
                  </a:lnTo>
                  <a:lnTo>
                    <a:pt x="315" y="267"/>
                  </a:lnTo>
                  <a:lnTo>
                    <a:pt x="314" y="255"/>
                  </a:lnTo>
                  <a:lnTo>
                    <a:pt x="305" y="255"/>
                  </a:lnTo>
                  <a:lnTo>
                    <a:pt x="297" y="257"/>
                  </a:lnTo>
                  <a:lnTo>
                    <a:pt x="290" y="260"/>
                  </a:lnTo>
                  <a:lnTo>
                    <a:pt x="284" y="266"/>
                  </a:lnTo>
                  <a:lnTo>
                    <a:pt x="277" y="271"/>
                  </a:lnTo>
                  <a:lnTo>
                    <a:pt x="274" y="278"/>
                  </a:lnTo>
                  <a:lnTo>
                    <a:pt x="272" y="287"/>
                  </a:lnTo>
                  <a:lnTo>
                    <a:pt x="272" y="295"/>
                  </a:lnTo>
                  <a:lnTo>
                    <a:pt x="266" y="314"/>
                  </a:lnTo>
                  <a:lnTo>
                    <a:pt x="267" y="332"/>
                  </a:lnTo>
                  <a:lnTo>
                    <a:pt x="273" y="349"/>
                  </a:lnTo>
                  <a:lnTo>
                    <a:pt x="284" y="366"/>
                  </a:lnTo>
                  <a:lnTo>
                    <a:pt x="296" y="378"/>
                  </a:lnTo>
                  <a:lnTo>
                    <a:pt x="312" y="390"/>
                  </a:lnTo>
                  <a:lnTo>
                    <a:pt x="328" y="397"/>
                  </a:lnTo>
                  <a:lnTo>
                    <a:pt x="345" y="400"/>
                  </a:lnTo>
                  <a:lnTo>
                    <a:pt x="359" y="402"/>
                  </a:lnTo>
                  <a:lnTo>
                    <a:pt x="374" y="404"/>
                  </a:lnTo>
                  <a:lnTo>
                    <a:pt x="386" y="404"/>
                  </a:lnTo>
                  <a:lnTo>
                    <a:pt x="397" y="409"/>
                  </a:lnTo>
                  <a:lnTo>
                    <a:pt x="394" y="419"/>
                  </a:lnTo>
                  <a:lnTo>
                    <a:pt x="391" y="429"/>
                  </a:lnTo>
                  <a:lnTo>
                    <a:pt x="384" y="438"/>
                  </a:lnTo>
                  <a:lnTo>
                    <a:pt x="377" y="445"/>
                  </a:lnTo>
                  <a:lnTo>
                    <a:pt x="367" y="449"/>
                  </a:lnTo>
                  <a:lnTo>
                    <a:pt x="357" y="452"/>
                  </a:lnTo>
                  <a:lnTo>
                    <a:pt x="346" y="452"/>
                  </a:lnTo>
                  <a:lnTo>
                    <a:pt x="335" y="452"/>
                  </a:lnTo>
                  <a:lnTo>
                    <a:pt x="310" y="452"/>
                  </a:lnTo>
                  <a:lnTo>
                    <a:pt x="287" y="449"/>
                  </a:lnTo>
                  <a:lnTo>
                    <a:pt x="265" y="442"/>
                  </a:lnTo>
                  <a:lnTo>
                    <a:pt x="245" y="432"/>
                  </a:lnTo>
                  <a:lnTo>
                    <a:pt x="225" y="416"/>
                  </a:lnTo>
                  <a:lnTo>
                    <a:pt x="210" y="400"/>
                  </a:lnTo>
                  <a:lnTo>
                    <a:pt x="197" y="378"/>
                  </a:lnTo>
                  <a:lnTo>
                    <a:pt x="189" y="357"/>
                  </a:lnTo>
                  <a:lnTo>
                    <a:pt x="187" y="328"/>
                  </a:lnTo>
                  <a:lnTo>
                    <a:pt x="191" y="298"/>
                  </a:lnTo>
                  <a:lnTo>
                    <a:pt x="200" y="267"/>
                  </a:lnTo>
                  <a:lnTo>
                    <a:pt x="213" y="238"/>
                  </a:lnTo>
                  <a:lnTo>
                    <a:pt x="228" y="210"/>
                  </a:lnTo>
                  <a:lnTo>
                    <a:pt x="248" y="186"/>
                  </a:lnTo>
                  <a:lnTo>
                    <a:pt x="269" y="164"/>
                  </a:lnTo>
                  <a:lnTo>
                    <a:pt x="293" y="150"/>
                  </a:lnTo>
                  <a:lnTo>
                    <a:pt x="273" y="121"/>
                  </a:lnTo>
                  <a:lnTo>
                    <a:pt x="252" y="101"/>
                  </a:lnTo>
                  <a:lnTo>
                    <a:pt x="227" y="87"/>
                  </a:lnTo>
                  <a:lnTo>
                    <a:pt x="198" y="80"/>
                  </a:lnTo>
                  <a:lnTo>
                    <a:pt x="168" y="76"/>
                  </a:lnTo>
                  <a:lnTo>
                    <a:pt x="137" y="76"/>
                  </a:lnTo>
                  <a:lnTo>
                    <a:pt x="104" y="80"/>
                  </a:lnTo>
                  <a:lnTo>
                    <a:pt x="75" y="88"/>
                  </a:lnTo>
                  <a:lnTo>
                    <a:pt x="65" y="91"/>
                  </a:lnTo>
                  <a:lnTo>
                    <a:pt x="52" y="93"/>
                  </a:lnTo>
                  <a:lnTo>
                    <a:pt x="44" y="93"/>
                  </a:lnTo>
                  <a:lnTo>
                    <a:pt x="37" y="93"/>
                  </a:lnTo>
                  <a:lnTo>
                    <a:pt x="30" y="94"/>
                  </a:lnTo>
                  <a:lnTo>
                    <a:pt x="23" y="98"/>
                  </a:lnTo>
                  <a:lnTo>
                    <a:pt x="14" y="93"/>
                  </a:lnTo>
                  <a:lnTo>
                    <a:pt x="9" y="87"/>
                  </a:lnTo>
                  <a:lnTo>
                    <a:pt x="4" y="79"/>
                  </a:lnTo>
                  <a:lnTo>
                    <a:pt x="2" y="72"/>
                  </a:lnTo>
                  <a:lnTo>
                    <a:pt x="0" y="63"/>
                  </a:lnTo>
                  <a:lnTo>
                    <a:pt x="2" y="56"/>
                  </a:lnTo>
                  <a:lnTo>
                    <a:pt x="4" y="49"/>
                  </a:lnTo>
                  <a:lnTo>
                    <a:pt x="13" y="46"/>
                  </a:lnTo>
                  <a:lnTo>
                    <a:pt x="40" y="22"/>
                  </a:lnTo>
                  <a:lnTo>
                    <a:pt x="68" y="8"/>
                  </a:lnTo>
                  <a:lnTo>
                    <a:pt x="97" y="0"/>
                  </a:lnTo>
                  <a:lnTo>
                    <a:pt x="127" y="0"/>
                  </a:lnTo>
                  <a:lnTo>
                    <a:pt x="155" y="1"/>
                  </a:lnTo>
                  <a:lnTo>
                    <a:pt x="184" y="8"/>
                  </a:lnTo>
                  <a:lnTo>
                    <a:pt x="213" y="17"/>
                  </a:lnTo>
                  <a:lnTo>
                    <a:pt x="241" y="25"/>
                  </a:lnTo>
                  <a:lnTo>
                    <a:pt x="280" y="49"/>
                  </a:lnTo>
                  <a:lnTo>
                    <a:pt x="315" y="76"/>
                  </a:lnTo>
                  <a:lnTo>
                    <a:pt x="345" y="104"/>
                  </a:lnTo>
                  <a:lnTo>
                    <a:pt x="373" y="136"/>
                  </a:lnTo>
                  <a:lnTo>
                    <a:pt x="395" y="169"/>
                  </a:lnTo>
                  <a:lnTo>
                    <a:pt x="418" y="204"/>
                  </a:lnTo>
                  <a:lnTo>
                    <a:pt x="438" y="242"/>
                  </a:lnTo>
                  <a:lnTo>
                    <a:pt x="459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515080" y="1383120"/>
              <a:ext cx="8640" cy="504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5" y="31"/>
                  </a:moveTo>
                  <a:lnTo>
                    <a:pt x="0" y="17"/>
                  </a:lnTo>
                  <a:lnTo>
                    <a:pt x="1" y="13"/>
                  </a:lnTo>
                  <a:lnTo>
                    <a:pt x="5" y="10"/>
                  </a:lnTo>
                  <a:lnTo>
                    <a:pt x="14" y="11"/>
                  </a:lnTo>
                  <a:lnTo>
                    <a:pt x="22" y="11"/>
                  </a:lnTo>
                  <a:lnTo>
                    <a:pt x="32" y="11"/>
                  </a:lnTo>
                  <a:lnTo>
                    <a:pt x="40" y="7"/>
                  </a:lnTo>
                  <a:lnTo>
                    <a:pt x="47" y="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456040" y="1416240"/>
              <a:ext cx="121680" cy="148680"/>
            </a:xfrm>
            <a:custGeom>
              <a:avLst/>
              <a:gdLst/>
              <a:ahLst/>
              <a:rect l="l" t="t" r="r" b="b"/>
              <a:pathLst>
                <a:path w="654" h="798">
                  <a:moveTo>
                    <a:pt x="291" y="664"/>
                  </a:moveTo>
                  <a:lnTo>
                    <a:pt x="256" y="684"/>
                  </a:lnTo>
                  <a:lnTo>
                    <a:pt x="222" y="705"/>
                  </a:lnTo>
                  <a:lnTo>
                    <a:pt x="187" y="727"/>
                  </a:lnTo>
                  <a:lnTo>
                    <a:pt x="153" y="750"/>
                  </a:lnTo>
                  <a:lnTo>
                    <a:pt x="117" y="768"/>
                  </a:lnTo>
                  <a:lnTo>
                    <a:pt x="80" y="784"/>
                  </a:lnTo>
                  <a:lnTo>
                    <a:pt x="41" y="794"/>
                  </a:lnTo>
                  <a:lnTo>
                    <a:pt x="0" y="798"/>
                  </a:lnTo>
                  <a:lnTo>
                    <a:pt x="125" y="477"/>
                  </a:lnTo>
                  <a:lnTo>
                    <a:pt x="162" y="467"/>
                  </a:lnTo>
                  <a:lnTo>
                    <a:pt x="191" y="446"/>
                  </a:lnTo>
                  <a:lnTo>
                    <a:pt x="217" y="415"/>
                  </a:lnTo>
                  <a:lnTo>
                    <a:pt x="241" y="381"/>
                  </a:lnTo>
                  <a:lnTo>
                    <a:pt x="263" y="344"/>
                  </a:lnTo>
                  <a:lnTo>
                    <a:pt x="290" y="313"/>
                  </a:lnTo>
                  <a:lnTo>
                    <a:pt x="321" y="290"/>
                  </a:lnTo>
                  <a:lnTo>
                    <a:pt x="364" y="280"/>
                  </a:lnTo>
                  <a:lnTo>
                    <a:pt x="374" y="318"/>
                  </a:lnTo>
                  <a:lnTo>
                    <a:pt x="363" y="353"/>
                  </a:lnTo>
                  <a:lnTo>
                    <a:pt x="338" y="382"/>
                  </a:lnTo>
                  <a:lnTo>
                    <a:pt x="305" y="411"/>
                  </a:lnTo>
                  <a:lnTo>
                    <a:pt x="270" y="437"/>
                  </a:lnTo>
                  <a:lnTo>
                    <a:pt x="245" y="466"/>
                  </a:lnTo>
                  <a:lnTo>
                    <a:pt x="231" y="495"/>
                  </a:lnTo>
                  <a:lnTo>
                    <a:pt x="239" y="529"/>
                  </a:lnTo>
                  <a:lnTo>
                    <a:pt x="274" y="512"/>
                  </a:lnTo>
                  <a:lnTo>
                    <a:pt x="307" y="492"/>
                  </a:lnTo>
                  <a:lnTo>
                    <a:pt x="336" y="468"/>
                  </a:lnTo>
                  <a:lnTo>
                    <a:pt x="363" y="440"/>
                  </a:lnTo>
                  <a:lnTo>
                    <a:pt x="387" y="409"/>
                  </a:lnTo>
                  <a:lnTo>
                    <a:pt x="411" y="378"/>
                  </a:lnTo>
                  <a:lnTo>
                    <a:pt x="433" y="349"/>
                  </a:lnTo>
                  <a:lnTo>
                    <a:pt x="457" y="320"/>
                  </a:lnTo>
                  <a:lnTo>
                    <a:pt x="470" y="292"/>
                  </a:lnTo>
                  <a:lnTo>
                    <a:pt x="473" y="268"/>
                  </a:lnTo>
                  <a:lnTo>
                    <a:pt x="466" y="244"/>
                  </a:lnTo>
                  <a:lnTo>
                    <a:pt x="455" y="225"/>
                  </a:lnTo>
                  <a:lnTo>
                    <a:pt x="435" y="208"/>
                  </a:lnTo>
                  <a:lnTo>
                    <a:pt x="415" y="195"/>
                  </a:lnTo>
                  <a:lnTo>
                    <a:pt x="394" y="187"/>
                  </a:lnTo>
                  <a:lnTo>
                    <a:pt x="374" y="185"/>
                  </a:lnTo>
                  <a:lnTo>
                    <a:pt x="400" y="147"/>
                  </a:lnTo>
                  <a:lnTo>
                    <a:pt x="429" y="118"/>
                  </a:lnTo>
                  <a:lnTo>
                    <a:pt x="462" y="91"/>
                  </a:lnTo>
                  <a:lnTo>
                    <a:pt x="498" y="68"/>
                  </a:lnTo>
                  <a:lnTo>
                    <a:pt x="535" y="47"/>
                  </a:lnTo>
                  <a:lnTo>
                    <a:pt x="574" y="30"/>
                  </a:lnTo>
                  <a:lnTo>
                    <a:pt x="613" y="14"/>
                  </a:lnTo>
                  <a:lnTo>
                    <a:pt x="654" y="0"/>
                  </a:lnTo>
                  <a:lnTo>
                    <a:pt x="653" y="95"/>
                  </a:lnTo>
                  <a:lnTo>
                    <a:pt x="639" y="190"/>
                  </a:lnTo>
                  <a:lnTo>
                    <a:pt x="611" y="281"/>
                  </a:lnTo>
                  <a:lnTo>
                    <a:pt x="570" y="370"/>
                  </a:lnTo>
                  <a:lnTo>
                    <a:pt x="515" y="451"/>
                  </a:lnTo>
                  <a:lnTo>
                    <a:pt x="452" y="529"/>
                  </a:lnTo>
                  <a:lnTo>
                    <a:pt x="376" y="601"/>
                  </a:lnTo>
                  <a:lnTo>
                    <a:pt x="291" y="66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037000" y="1530720"/>
              <a:ext cx="339120" cy="107640"/>
            </a:xfrm>
            <a:custGeom>
              <a:avLst/>
              <a:gdLst/>
              <a:ahLst/>
              <a:rect l="l" t="t" r="r" b="b"/>
              <a:pathLst>
                <a:path w="1816" h="574">
                  <a:moveTo>
                    <a:pt x="1407" y="552"/>
                  </a:moveTo>
                  <a:lnTo>
                    <a:pt x="1552" y="542"/>
                  </a:lnTo>
                  <a:lnTo>
                    <a:pt x="1547" y="487"/>
                  </a:lnTo>
                  <a:lnTo>
                    <a:pt x="1529" y="433"/>
                  </a:lnTo>
                  <a:lnTo>
                    <a:pt x="1503" y="380"/>
                  </a:lnTo>
                  <a:lnTo>
                    <a:pt x="1464" y="328"/>
                  </a:lnTo>
                  <a:lnTo>
                    <a:pt x="1416" y="277"/>
                  </a:lnTo>
                  <a:lnTo>
                    <a:pt x="1360" y="227"/>
                  </a:lnTo>
                  <a:lnTo>
                    <a:pt x="1297" y="179"/>
                  </a:lnTo>
                  <a:lnTo>
                    <a:pt x="1224" y="132"/>
                  </a:lnTo>
                  <a:lnTo>
                    <a:pt x="1027" y="358"/>
                  </a:lnTo>
                  <a:lnTo>
                    <a:pt x="974" y="55"/>
                  </a:lnTo>
                  <a:lnTo>
                    <a:pt x="882" y="44"/>
                  </a:lnTo>
                  <a:lnTo>
                    <a:pt x="790" y="43"/>
                  </a:lnTo>
                  <a:lnTo>
                    <a:pt x="707" y="358"/>
                  </a:lnTo>
                  <a:lnTo>
                    <a:pt x="521" y="82"/>
                  </a:lnTo>
                  <a:lnTo>
                    <a:pt x="452" y="108"/>
                  </a:lnTo>
                  <a:lnTo>
                    <a:pt x="387" y="136"/>
                  </a:lnTo>
                  <a:lnTo>
                    <a:pt x="327" y="169"/>
                  </a:lnTo>
                  <a:lnTo>
                    <a:pt x="269" y="205"/>
                  </a:lnTo>
                  <a:lnTo>
                    <a:pt x="221" y="245"/>
                  </a:lnTo>
                  <a:lnTo>
                    <a:pt x="176" y="285"/>
                  </a:lnTo>
                  <a:lnTo>
                    <a:pt x="139" y="329"/>
                  </a:lnTo>
                  <a:lnTo>
                    <a:pt x="106" y="371"/>
                  </a:lnTo>
                  <a:lnTo>
                    <a:pt x="138" y="393"/>
                  </a:lnTo>
                  <a:lnTo>
                    <a:pt x="148" y="389"/>
                  </a:lnTo>
                  <a:lnTo>
                    <a:pt x="159" y="389"/>
                  </a:lnTo>
                  <a:lnTo>
                    <a:pt x="170" y="392"/>
                  </a:lnTo>
                  <a:lnTo>
                    <a:pt x="179" y="390"/>
                  </a:lnTo>
                  <a:lnTo>
                    <a:pt x="184" y="395"/>
                  </a:lnTo>
                  <a:lnTo>
                    <a:pt x="188" y="400"/>
                  </a:lnTo>
                  <a:lnTo>
                    <a:pt x="194" y="403"/>
                  </a:lnTo>
                  <a:lnTo>
                    <a:pt x="197" y="408"/>
                  </a:lnTo>
                  <a:lnTo>
                    <a:pt x="206" y="416"/>
                  </a:lnTo>
                  <a:lnTo>
                    <a:pt x="207" y="424"/>
                  </a:lnTo>
                  <a:lnTo>
                    <a:pt x="189" y="434"/>
                  </a:lnTo>
                  <a:lnTo>
                    <a:pt x="167" y="440"/>
                  </a:lnTo>
                  <a:lnTo>
                    <a:pt x="146" y="443"/>
                  </a:lnTo>
                  <a:lnTo>
                    <a:pt x="124" y="442"/>
                  </a:lnTo>
                  <a:lnTo>
                    <a:pt x="104" y="440"/>
                  </a:lnTo>
                  <a:lnTo>
                    <a:pt x="83" y="435"/>
                  </a:lnTo>
                  <a:lnTo>
                    <a:pt x="63" y="429"/>
                  </a:lnTo>
                  <a:lnTo>
                    <a:pt x="42" y="420"/>
                  </a:lnTo>
                  <a:lnTo>
                    <a:pt x="27" y="411"/>
                  </a:lnTo>
                  <a:lnTo>
                    <a:pt x="15" y="398"/>
                  </a:lnTo>
                  <a:lnTo>
                    <a:pt x="7" y="386"/>
                  </a:lnTo>
                  <a:lnTo>
                    <a:pt x="1" y="370"/>
                  </a:lnTo>
                  <a:lnTo>
                    <a:pt x="1" y="356"/>
                  </a:lnTo>
                  <a:lnTo>
                    <a:pt x="0" y="340"/>
                  </a:lnTo>
                  <a:lnTo>
                    <a:pt x="4" y="326"/>
                  </a:lnTo>
                  <a:lnTo>
                    <a:pt x="8" y="313"/>
                  </a:lnTo>
                  <a:lnTo>
                    <a:pt x="59" y="336"/>
                  </a:lnTo>
                  <a:lnTo>
                    <a:pt x="120" y="261"/>
                  </a:lnTo>
                  <a:lnTo>
                    <a:pt x="206" y="192"/>
                  </a:lnTo>
                  <a:lnTo>
                    <a:pt x="311" y="133"/>
                  </a:lnTo>
                  <a:lnTo>
                    <a:pt x="429" y="84"/>
                  </a:lnTo>
                  <a:lnTo>
                    <a:pt x="562" y="46"/>
                  </a:lnTo>
                  <a:lnTo>
                    <a:pt x="700" y="17"/>
                  </a:lnTo>
                  <a:lnTo>
                    <a:pt x="842" y="4"/>
                  </a:lnTo>
                  <a:lnTo>
                    <a:pt x="982" y="0"/>
                  </a:lnTo>
                  <a:lnTo>
                    <a:pt x="1071" y="26"/>
                  </a:lnTo>
                  <a:lnTo>
                    <a:pt x="1155" y="54"/>
                  </a:lnTo>
                  <a:lnTo>
                    <a:pt x="1239" y="86"/>
                  </a:lnTo>
                  <a:lnTo>
                    <a:pt x="1314" y="122"/>
                  </a:lnTo>
                  <a:lnTo>
                    <a:pt x="1388" y="165"/>
                  </a:lnTo>
                  <a:lnTo>
                    <a:pt x="1451" y="211"/>
                  </a:lnTo>
                  <a:lnTo>
                    <a:pt x="1509" y="263"/>
                  </a:lnTo>
                  <a:lnTo>
                    <a:pt x="1557" y="318"/>
                  </a:lnTo>
                  <a:lnTo>
                    <a:pt x="1637" y="500"/>
                  </a:lnTo>
                  <a:lnTo>
                    <a:pt x="1665" y="499"/>
                  </a:lnTo>
                  <a:lnTo>
                    <a:pt x="1686" y="488"/>
                  </a:lnTo>
                  <a:lnTo>
                    <a:pt x="1707" y="475"/>
                  </a:lnTo>
                  <a:lnTo>
                    <a:pt x="1725" y="461"/>
                  </a:lnTo>
                  <a:lnTo>
                    <a:pt x="1745" y="450"/>
                  </a:lnTo>
                  <a:lnTo>
                    <a:pt x="1767" y="443"/>
                  </a:lnTo>
                  <a:lnTo>
                    <a:pt x="1790" y="446"/>
                  </a:lnTo>
                  <a:lnTo>
                    <a:pt x="1816" y="459"/>
                  </a:lnTo>
                  <a:lnTo>
                    <a:pt x="1780" y="483"/>
                  </a:lnTo>
                  <a:lnTo>
                    <a:pt x="1737" y="504"/>
                  </a:lnTo>
                  <a:lnTo>
                    <a:pt x="1693" y="526"/>
                  </a:lnTo>
                  <a:lnTo>
                    <a:pt x="1644" y="543"/>
                  </a:lnTo>
                  <a:lnTo>
                    <a:pt x="1594" y="559"/>
                  </a:lnTo>
                  <a:lnTo>
                    <a:pt x="1539" y="568"/>
                  </a:lnTo>
                  <a:lnTo>
                    <a:pt x="1483" y="574"/>
                  </a:lnTo>
                  <a:lnTo>
                    <a:pt x="1424" y="573"/>
                  </a:lnTo>
                  <a:lnTo>
                    <a:pt x="1407" y="5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106480" y="1682640"/>
              <a:ext cx="146520" cy="38520"/>
            </a:xfrm>
            <a:custGeom>
              <a:avLst/>
              <a:gdLst/>
              <a:ahLst/>
              <a:rect l="l" t="t" r="r" b="b"/>
              <a:pathLst>
                <a:path w="787" h="207">
                  <a:moveTo>
                    <a:pt x="778" y="62"/>
                  </a:moveTo>
                  <a:lnTo>
                    <a:pt x="787" y="72"/>
                  </a:lnTo>
                  <a:lnTo>
                    <a:pt x="761" y="109"/>
                  </a:lnTo>
                  <a:lnTo>
                    <a:pt x="730" y="138"/>
                  </a:lnTo>
                  <a:lnTo>
                    <a:pt x="693" y="160"/>
                  </a:lnTo>
                  <a:lnTo>
                    <a:pt x="655" y="178"/>
                  </a:lnTo>
                  <a:lnTo>
                    <a:pt x="613" y="188"/>
                  </a:lnTo>
                  <a:lnTo>
                    <a:pt x="572" y="196"/>
                  </a:lnTo>
                  <a:lnTo>
                    <a:pt x="529" y="202"/>
                  </a:lnTo>
                  <a:lnTo>
                    <a:pt x="486" y="207"/>
                  </a:lnTo>
                  <a:lnTo>
                    <a:pt x="415" y="203"/>
                  </a:lnTo>
                  <a:lnTo>
                    <a:pt x="346" y="196"/>
                  </a:lnTo>
                  <a:lnTo>
                    <a:pt x="278" y="182"/>
                  </a:lnTo>
                  <a:lnTo>
                    <a:pt x="215" y="162"/>
                  </a:lnTo>
                  <a:lnTo>
                    <a:pt x="153" y="134"/>
                  </a:lnTo>
                  <a:lnTo>
                    <a:pt x="97" y="100"/>
                  </a:lnTo>
                  <a:lnTo>
                    <a:pt x="45" y="6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91" y="45"/>
                  </a:lnTo>
                  <a:lnTo>
                    <a:pt x="184" y="86"/>
                  </a:lnTo>
                  <a:lnTo>
                    <a:pt x="282" y="119"/>
                  </a:lnTo>
                  <a:lnTo>
                    <a:pt x="385" y="143"/>
                  </a:lnTo>
                  <a:lnTo>
                    <a:pt x="486" y="151"/>
                  </a:lnTo>
                  <a:lnTo>
                    <a:pt x="589" y="143"/>
                  </a:lnTo>
                  <a:lnTo>
                    <a:pt x="686" y="114"/>
                  </a:lnTo>
                  <a:lnTo>
                    <a:pt x="778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963560" y="1817280"/>
              <a:ext cx="381240" cy="152280"/>
            </a:xfrm>
            <a:custGeom>
              <a:avLst/>
              <a:gdLst/>
              <a:ahLst/>
              <a:rect l="l" t="t" r="r" b="b"/>
              <a:pathLst>
                <a:path w="2044" h="818">
                  <a:moveTo>
                    <a:pt x="234" y="28"/>
                  </a:moveTo>
                  <a:lnTo>
                    <a:pt x="318" y="43"/>
                  </a:lnTo>
                  <a:lnTo>
                    <a:pt x="404" y="63"/>
                  </a:lnTo>
                  <a:lnTo>
                    <a:pt x="487" y="87"/>
                  </a:lnTo>
                  <a:lnTo>
                    <a:pt x="571" y="117"/>
                  </a:lnTo>
                  <a:lnTo>
                    <a:pt x="650" y="149"/>
                  </a:lnTo>
                  <a:lnTo>
                    <a:pt x="729" y="191"/>
                  </a:lnTo>
                  <a:lnTo>
                    <a:pt x="805" y="239"/>
                  </a:lnTo>
                  <a:lnTo>
                    <a:pt x="878" y="298"/>
                  </a:lnTo>
                  <a:lnTo>
                    <a:pt x="945" y="262"/>
                  </a:lnTo>
                  <a:lnTo>
                    <a:pt x="1018" y="243"/>
                  </a:lnTo>
                  <a:lnTo>
                    <a:pt x="1093" y="235"/>
                  </a:lnTo>
                  <a:lnTo>
                    <a:pt x="1170" y="231"/>
                  </a:lnTo>
                  <a:lnTo>
                    <a:pt x="1245" y="224"/>
                  </a:lnTo>
                  <a:lnTo>
                    <a:pt x="1317" y="209"/>
                  </a:lnTo>
                  <a:lnTo>
                    <a:pt x="1384" y="181"/>
                  </a:lnTo>
                  <a:lnTo>
                    <a:pt x="1447" y="132"/>
                  </a:lnTo>
                  <a:lnTo>
                    <a:pt x="1506" y="110"/>
                  </a:lnTo>
                  <a:lnTo>
                    <a:pt x="1570" y="91"/>
                  </a:lnTo>
                  <a:lnTo>
                    <a:pt x="1634" y="76"/>
                  </a:lnTo>
                  <a:lnTo>
                    <a:pt x="1702" y="64"/>
                  </a:lnTo>
                  <a:lnTo>
                    <a:pt x="1767" y="52"/>
                  </a:lnTo>
                  <a:lnTo>
                    <a:pt x="1831" y="43"/>
                  </a:lnTo>
                  <a:lnTo>
                    <a:pt x="1895" y="35"/>
                  </a:lnTo>
                  <a:lnTo>
                    <a:pt x="1957" y="28"/>
                  </a:lnTo>
                  <a:lnTo>
                    <a:pt x="2007" y="87"/>
                  </a:lnTo>
                  <a:lnTo>
                    <a:pt x="2035" y="157"/>
                  </a:lnTo>
                  <a:lnTo>
                    <a:pt x="2044" y="233"/>
                  </a:lnTo>
                  <a:lnTo>
                    <a:pt x="2041" y="316"/>
                  </a:lnTo>
                  <a:lnTo>
                    <a:pt x="2030" y="400"/>
                  </a:lnTo>
                  <a:lnTo>
                    <a:pt x="2020" y="485"/>
                  </a:lnTo>
                  <a:lnTo>
                    <a:pt x="2013" y="570"/>
                  </a:lnTo>
                  <a:lnTo>
                    <a:pt x="2018" y="652"/>
                  </a:lnTo>
                  <a:lnTo>
                    <a:pt x="1938" y="694"/>
                  </a:lnTo>
                  <a:lnTo>
                    <a:pt x="1857" y="708"/>
                  </a:lnTo>
                  <a:lnTo>
                    <a:pt x="1771" y="698"/>
                  </a:lnTo>
                  <a:lnTo>
                    <a:pt x="1687" y="675"/>
                  </a:lnTo>
                  <a:lnTo>
                    <a:pt x="1598" y="645"/>
                  </a:lnTo>
                  <a:lnTo>
                    <a:pt x="1511" y="616"/>
                  </a:lnTo>
                  <a:lnTo>
                    <a:pt x="1422" y="598"/>
                  </a:lnTo>
                  <a:lnTo>
                    <a:pt x="1333" y="599"/>
                  </a:lnTo>
                  <a:lnTo>
                    <a:pt x="1283" y="592"/>
                  </a:lnTo>
                  <a:lnTo>
                    <a:pt x="1232" y="594"/>
                  </a:lnTo>
                  <a:lnTo>
                    <a:pt x="1182" y="601"/>
                  </a:lnTo>
                  <a:lnTo>
                    <a:pt x="1131" y="611"/>
                  </a:lnTo>
                  <a:lnTo>
                    <a:pt x="1080" y="618"/>
                  </a:lnTo>
                  <a:lnTo>
                    <a:pt x="1030" y="621"/>
                  </a:lnTo>
                  <a:lnTo>
                    <a:pt x="979" y="615"/>
                  </a:lnTo>
                  <a:lnTo>
                    <a:pt x="930" y="599"/>
                  </a:lnTo>
                  <a:lnTo>
                    <a:pt x="888" y="547"/>
                  </a:lnTo>
                  <a:lnTo>
                    <a:pt x="778" y="564"/>
                  </a:lnTo>
                  <a:lnTo>
                    <a:pt x="677" y="605"/>
                  </a:lnTo>
                  <a:lnTo>
                    <a:pt x="580" y="659"/>
                  </a:lnTo>
                  <a:lnTo>
                    <a:pt x="487" y="718"/>
                  </a:lnTo>
                  <a:lnTo>
                    <a:pt x="391" y="770"/>
                  </a:lnTo>
                  <a:lnTo>
                    <a:pt x="293" y="806"/>
                  </a:lnTo>
                  <a:lnTo>
                    <a:pt x="190" y="818"/>
                  </a:lnTo>
                  <a:lnTo>
                    <a:pt x="79" y="797"/>
                  </a:lnTo>
                  <a:lnTo>
                    <a:pt x="34" y="711"/>
                  </a:lnTo>
                  <a:lnTo>
                    <a:pt x="10" y="621"/>
                  </a:lnTo>
                  <a:lnTo>
                    <a:pt x="0" y="526"/>
                  </a:lnTo>
                  <a:lnTo>
                    <a:pt x="3" y="431"/>
                  </a:lnTo>
                  <a:lnTo>
                    <a:pt x="10" y="332"/>
                  </a:lnTo>
                  <a:lnTo>
                    <a:pt x="21" y="235"/>
                  </a:lnTo>
                  <a:lnTo>
                    <a:pt x="31" y="139"/>
                  </a:lnTo>
                  <a:lnTo>
                    <a:pt x="37" y="49"/>
                  </a:lnTo>
                  <a:lnTo>
                    <a:pt x="53" y="32"/>
                  </a:lnTo>
                  <a:lnTo>
                    <a:pt x="77" y="19"/>
                  </a:lnTo>
                  <a:lnTo>
                    <a:pt x="103" y="8"/>
                  </a:lnTo>
                  <a:lnTo>
                    <a:pt x="131" y="3"/>
                  </a:lnTo>
                  <a:lnTo>
                    <a:pt x="158" y="0"/>
                  </a:lnTo>
                  <a:lnTo>
                    <a:pt x="186" y="3"/>
                  </a:lnTo>
                  <a:lnTo>
                    <a:pt x="211" y="11"/>
                  </a:lnTo>
                  <a:lnTo>
                    <a:pt x="23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78320" y="1830600"/>
              <a:ext cx="142920" cy="127800"/>
            </a:xfrm>
            <a:custGeom>
              <a:avLst/>
              <a:gdLst/>
              <a:ahLst/>
              <a:rect l="l" t="t" r="r" b="b"/>
              <a:pathLst>
                <a:path w="768" h="686">
                  <a:moveTo>
                    <a:pt x="757" y="290"/>
                  </a:moveTo>
                  <a:lnTo>
                    <a:pt x="692" y="269"/>
                  </a:lnTo>
                  <a:lnTo>
                    <a:pt x="621" y="255"/>
                  </a:lnTo>
                  <a:lnTo>
                    <a:pt x="544" y="245"/>
                  </a:lnTo>
                  <a:lnTo>
                    <a:pt x="465" y="244"/>
                  </a:lnTo>
                  <a:lnTo>
                    <a:pt x="384" y="245"/>
                  </a:lnTo>
                  <a:lnTo>
                    <a:pt x="305" y="255"/>
                  </a:lnTo>
                  <a:lnTo>
                    <a:pt x="230" y="269"/>
                  </a:lnTo>
                  <a:lnTo>
                    <a:pt x="166" y="290"/>
                  </a:lnTo>
                  <a:lnTo>
                    <a:pt x="166" y="311"/>
                  </a:lnTo>
                  <a:lnTo>
                    <a:pt x="242" y="314"/>
                  </a:lnTo>
                  <a:lnTo>
                    <a:pt x="322" y="313"/>
                  </a:lnTo>
                  <a:lnTo>
                    <a:pt x="403" y="308"/>
                  </a:lnTo>
                  <a:lnTo>
                    <a:pt x="485" y="310"/>
                  </a:lnTo>
                  <a:lnTo>
                    <a:pt x="564" y="315"/>
                  </a:lnTo>
                  <a:lnTo>
                    <a:pt x="638" y="335"/>
                  </a:lnTo>
                  <a:lnTo>
                    <a:pt x="707" y="369"/>
                  </a:lnTo>
                  <a:lnTo>
                    <a:pt x="768" y="425"/>
                  </a:lnTo>
                  <a:lnTo>
                    <a:pt x="683" y="439"/>
                  </a:lnTo>
                  <a:lnTo>
                    <a:pt x="606" y="468"/>
                  </a:lnTo>
                  <a:lnTo>
                    <a:pt x="533" y="504"/>
                  </a:lnTo>
                  <a:lnTo>
                    <a:pt x="463" y="546"/>
                  </a:lnTo>
                  <a:lnTo>
                    <a:pt x="389" y="589"/>
                  </a:lnTo>
                  <a:lnTo>
                    <a:pt x="318" y="629"/>
                  </a:lnTo>
                  <a:lnTo>
                    <a:pt x="243" y="662"/>
                  </a:lnTo>
                  <a:lnTo>
                    <a:pt x="166" y="686"/>
                  </a:lnTo>
                  <a:lnTo>
                    <a:pt x="132" y="682"/>
                  </a:lnTo>
                  <a:lnTo>
                    <a:pt x="104" y="670"/>
                  </a:lnTo>
                  <a:lnTo>
                    <a:pt x="79" y="653"/>
                  </a:lnTo>
                  <a:lnTo>
                    <a:pt x="60" y="634"/>
                  </a:lnTo>
                  <a:lnTo>
                    <a:pt x="42" y="608"/>
                  </a:lnTo>
                  <a:lnTo>
                    <a:pt x="28" y="580"/>
                  </a:lnTo>
                  <a:lnTo>
                    <a:pt x="17" y="549"/>
                  </a:lnTo>
                  <a:lnTo>
                    <a:pt x="10" y="520"/>
                  </a:lnTo>
                  <a:lnTo>
                    <a:pt x="1" y="452"/>
                  </a:lnTo>
                  <a:lnTo>
                    <a:pt x="0" y="387"/>
                  </a:lnTo>
                  <a:lnTo>
                    <a:pt x="3" y="323"/>
                  </a:lnTo>
                  <a:lnTo>
                    <a:pt x="11" y="259"/>
                  </a:lnTo>
                  <a:lnTo>
                    <a:pt x="18" y="194"/>
                  </a:lnTo>
                  <a:lnTo>
                    <a:pt x="27" y="130"/>
                  </a:lnTo>
                  <a:lnTo>
                    <a:pt x="31" y="65"/>
                  </a:lnTo>
                  <a:lnTo>
                    <a:pt x="31" y="0"/>
                  </a:lnTo>
                  <a:lnTo>
                    <a:pt x="132" y="10"/>
                  </a:lnTo>
                  <a:lnTo>
                    <a:pt x="232" y="28"/>
                  </a:lnTo>
                  <a:lnTo>
                    <a:pt x="328" y="52"/>
                  </a:lnTo>
                  <a:lnTo>
                    <a:pt x="420" y="86"/>
                  </a:lnTo>
                  <a:lnTo>
                    <a:pt x="509" y="124"/>
                  </a:lnTo>
                  <a:lnTo>
                    <a:pt x="595" y="172"/>
                  </a:lnTo>
                  <a:lnTo>
                    <a:pt x="676" y="227"/>
                  </a:lnTo>
                  <a:lnTo>
                    <a:pt x="757" y="29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194680" y="1836720"/>
              <a:ext cx="135360" cy="98640"/>
            </a:xfrm>
            <a:custGeom>
              <a:avLst/>
              <a:gdLst/>
              <a:ahLst/>
              <a:rect l="l" t="t" r="r" b="b"/>
              <a:pathLst>
                <a:path w="725" h="530">
                  <a:moveTo>
                    <a:pt x="725" y="110"/>
                  </a:moveTo>
                  <a:lnTo>
                    <a:pt x="725" y="504"/>
                  </a:lnTo>
                  <a:lnTo>
                    <a:pt x="652" y="527"/>
                  </a:lnTo>
                  <a:lnTo>
                    <a:pt x="582" y="530"/>
                  </a:lnTo>
                  <a:lnTo>
                    <a:pt x="513" y="517"/>
                  </a:lnTo>
                  <a:lnTo>
                    <a:pt x="446" y="497"/>
                  </a:lnTo>
                  <a:lnTo>
                    <a:pt x="377" y="471"/>
                  </a:lnTo>
                  <a:lnTo>
                    <a:pt x="308" y="447"/>
                  </a:lnTo>
                  <a:lnTo>
                    <a:pt x="237" y="427"/>
                  </a:lnTo>
                  <a:lnTo>
                    <a:pt x="166" y="421"/>
                  </a:lnTo>
                  <a:lnTo>
                    <a:pt x="0" y="411"/>
                  </a:lnTo>
                  <a:lnTo>
                    <a:pt x="9" y="307"/>
                  </a:lnTo>
                  <a:lnTo>
                    <a:pt x="24" y="323"/>
                  </a:lnTo>
                  <a:lnTo>
                    <a:pt x="45" y="326"/>
                  </a:lnTo>
                  <a:lnTo>
                    <a:pt x="69" y="318"/>
                  </a:lnTo>
                  <a:lnTo>
                    <a:pt x="98" y="309"/>
                  </a:lnTo>
                  <a:lnTo>
                    <a:pt x="129" y="292"/>
                  </a:lnTo>
                  <a:lnTo>
                    <a:pt x="161" y="276"/>
                  </a:lnTo>
                  <a:lnTo>
                    <a:pt x="194" y="262"/>
                  </a:lnTo>
                  <a:lnTo>
                    <a:pt x="227" y="255"/>
                  </a:lnTo>
                  <a:lnTo>
                    <a:pt x="243" y="257"/>
                  </a:lnTo>
                  <a:lnTo>
                    <a:pt x="263" y="257"/>
                  </a:lnTo>
                  <a:lnTo>
                    <a:pt x="282" y="254"/>
                  </a:lnTo>
                  <a:lnTo>
                    <a:pt x="303" y="249"/>
                  </a:lnTo>
                  <a:lnTo>
                    <a:pt x="322" y="242"/>
                  </a:lnTo>
                  <a:lnTo>
                    <a:pt x="341" y="234"/>
                  </a:lnTo>
                  <a:lnTo>
                    <a:pt x="358" y="224"/>
                  </a:lnTo>
                  <a:lnTo>
                    <a:pt x="372" y="214"/>
                  </a:lnTo>
                  <a:lnTo>
                    <a:pt x="319" y="204"/>
                  </a:lnTo>
                  <a:lnTo>
                    <a:pt x="270" y="203"/>
                  </a:lnTo>
                  <a:lnTo>
                    <a:pt x="222" y="204"/>
                  </a:lnTo>
                  <a:lnTo>
                    <a:pt x="178" y="213"/>
                  </a:lnTo>
                  <a:lnTo>
                    <a:pt x="135" y="224"/>
                  </a:lnTo>
                  <a:lnTo>
                    <a:pt x="92" y="240"/>
                  </a:lnTo>
                  <a:lnTo>
                    <a:pt x="50" y="255"/>
                  </a:lnTo>
                  <a:lnTo>
                    <a:pt x="9" y="276"/>
                  </a:lnTo>
                  <a:lnTo>
                    <a:pt x="4" y="237"/>
                  </a:lnTo>
                  <a:lnTo>
                    <a:pt x="11" y="207"/>
                  </a:lnTo>
                  <a:lnTo>
                    <a:pt x="26" y="183"/>
                  </a:lnTo>
                  <a:lnTo>
                    <a:pt x="52" y="165"/>
                  </a:lnTo>
                  <a:lnTo>
                    <a:pt x="78" y="147"/>
                  </a:lnTo>
                  <a:lnTo>
                    <a:pt x="109" y="133"/>
                  </a:lnTo>
                  <a:lnTo>
                    <a:pt x="139" y="117"/>
                  </a:lnTo>
                  <a:lnTo>
                    <a:pt x="166" y="100"/>
                  </a:lnTo>
                  <a:lnTo>
                    <a:pt x="232" y="76"/>
                  </a:lnTo>
                  <a:lnTo>
                    <a:pt x="306" y="50"/>
                  </a:lnTo>
                  <a:lnTo>
                    <a:pt x="384" y="24"/>
                  </a:lnTo>
                  <a:lnTo>
                    <a:pt x="464" y="7"/>
                  </a:lnTo>
                  <a:lnTo>
                    <a:pt x="540" y="0"/>
                  </a:lnTo>
                  <a:lnTo>
                    <a:pt x="611" y="13"/>
                  </a:lnTo>
                  <a:lnTo>
                    <a:pt x="673" y="47"/>
                  </a:lnTo>
                  <a:lnTo>
                    <a:pt x="725" y="11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133120" y="1871280"/>
              <a:ext cx="46080" cy="45720"/>
            </a:xfrm>
            <a:custGeom>
              <a:avLst/>
              <a:gdLst/>
              <a:ahLst/>
              <a:rect l="l" t="t" r="r" b="b"/>
              <a:pathLst>
                <a:path w="249" h="248">
                  <a:moveTo>
                    <a:pt x="249" y="10"/>
                  </a:moveTo>
                  <a:lnTo>
                    <a:pt x="247" y="41"/>
                  </a:lnTo>
                  <a:lnTo>
                    <a:pt x="247" y="74"/>
                  </a:lnTo>
                  <a:lnTo>
                    <a:pt x="244" y="106"/>
                  </a:lnTo>
                  <a:lnTo>
                    <a:pt x="240" y="140"/>
                  </a:lnTo>
                  <a:lnTo>
                    <a:pt x="232" y="168"/>
                  </a:lnTo>
                  <a:lnTo>
                    <a:pt x="222" y="196"/>
                  </a:lnTo>
                  <a:lnTo>
                    <a:pt x="206" y="219"/>
                  </a:lnTo>
                  <a:lnTo>
                    <a:pt x="187" y="238"/>
                  </a:lnTo>
                  <a:lnTo>
                    <a:pt x="166" y="244"/>
                  </a:lnTo>
                  <a:lnTo>
                    <a:pt x="146" y="248"/>
                  </a:lnTo>
                  <a:lnTo>
                    <a:pt x="125" y="248"/>
                  </a:lnTo>
                  <a:lnTo>
                    <a:pt x="107" y="247"/>
                  </a:lnTo>
                  <a:lnTo>
                    <a:pt x="88" y="238"/>
                  </a:lnTo>
                  <a:lnTo>
                    <a:pt x="73" y="227"/>
                  </a:lnTo>
                  <a:lnTo>
                    <a:pt x="60" y="209"/>
                  </a:lnTo>
                  <a:lnTo>
                    <a:pt x="52" y="186"/>
                  </a:lnTo>
                  <a:lnTo>
                    <a:pt x="0" y="52"/>
                  </a:lnTo>
                  <a:lnTo>
                    <a:pt x="29" y="41"/>
                  </a:lnTo>
                  <a:lnTo>
                    <a:pt x="62" y="31"/>
                  </a:lnTo>
                  <a:lnTo>
                    <a:pt x="91" y="20"/>
                  </a:lnTo>
                  <a:lnTo>
                    <a:pt x="123" y="12"/>
                  </a:lnTo>
                  <a:lnTo>
                    <a:pt x="154" y="3"/>
                  </a:lnTo>
                  <a:lnTo>
                    <a:pt x="185" y="0"/>
                  </a:lnTo>
                  <a:lnTo>
                    <a:pt x="216" y="0"/>
                  </a:lnTo>
                  <a:lnTo>
                    <a:pt x="249" y="1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"/>
          <p:cNvSpPr/>
          <p:nvPr/>
        </p:nvSpPr>
        <p:spPr>
          <a:xfrm rot="16200000">
            <a:off x="5533200" y="2581920"/>
            <a:ext cx="2305080" cy="502920"/>
          </a:xfrm>
          <a:custGeom>
            <a:avLst/>
            <a:gdLst>
              <a:gd name="textAreaLeft" fmla="*/ 538200 w 2305080"/>
              <a:gd name="textAreaRight" fmla="*/ 1766880 w 2305080"/>
              <a:gd name="textAreaTop" fmla="*/ 117360 h 502920"/>
              <a:gd name="textAreaBottom" fmla="*/ 38556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7093080" y="2708280"/>
            <a:ext cx="296640" cy="360360"/>
            <a:chOff x="7093080" y="2708280"/>
            <a:chExt cx="296640" cy="360360"/>
          </a:xfrm>
        </p:grpSpPr>
        <p:sp>
          <p:nvSpPr>
            <p:cNvPr id="1524" name=""/>
            <p:cNvSpPr/>
            <p:nvPr/>
          </p:nvSpPr>
          <p:spPr>
            <a:xfrm>
              <a:off x="7093080" y="2708280"/>
              <a:ext cx="296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1112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0000"/>
                  </a:solidFill>
                  <a:latin typeface="cmmi10"/>
                  <a:ea typeface="Arial"/>
                </a:rPr>
                <a:t>½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093080" y="2708280"/>
              <a:ext cx="296640" cy="360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6" name=""/>
          <p:cNvSpPr/>
          <p:nvPr/>
        </p:nvSpPr>
        <p:spPr>
          <a:xfrm>
            <a:off x="4284720" y="4221000"/>
            <a:ext cx="12240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4168800" y="3789360"/>
            <a:ext cx="1268280" cy="291960"/>
            <a:chOff x="4168800" y="3789360"/>
            <a:chExt cx="1268280" cy="291960"/>
          </a:xfrm>
        </p:grpSpPr>
        <p:sp>
          <p:nvSpPr>
            <p:cNvPr id="1528" name=""/>
            <p:cNvSpPr/>
            <p:nvPr/>
          </p:nvSpPr>
          <p:spPr>
            <a:xfrm>
              <a:off x="4168800" y="3790800"/>
              <a:ext cx="2584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28720" y="398304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576320" y="3790800"/>
              <a:ext cx="2142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790880" y="3919320"/>
              <a:ext cx="1328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941720" y="3983040"/>
              <a:ext cx="9144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089320" y="3790800"/>
              <a:ext cx="213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303520" y="391932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168800" y="3789360"/>
              <a:ext cx="12682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7541640" y="2569680"/>
            <a:ext cx="725040" cy="803880"/>
            <a:chOff x="7541640" y="2569680"/>
            <a:chExt cx="725040" cy="803880"/>
          </a:xfrm>
        </p:grpSpPr>
        <p:sp>
          <p:nvSpPr>
            <p:cNvPr id="1537" name=""/>
            <p:cNvSpPr/>
            <p:nvPr/>
          </p:nvSpPr>
          <p:spPr>
            <a:xfrm rot="1512000">
              <a:off x="7657920" y="2643120"/>
              <a:ext cx="492120" cy="657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V="1">
              <a:off x="7778520" y="2700720"/>
              <a:ext cx="250920" cy="54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 flipV="1">
              <a:off x="7701120" y="2876040"/>
              <a:ext cx="405720" cy="189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 flipV="1">
              <a:off x="7809480" y="2710800"/>
              <a:ext cx="189000" cy="515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7675560" y="2889000"/>
              <a:ext cx="458280" cy="164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8118720" y="2572560"/>
            <a:ext cx="662040" cy="662040"/>
            <a:chOff x="8118720" y="2572560"/>
            <a:chExt cx="662040" cy="662040"/>
          </a:xfrm>
        </p:grpSpPr>
        <p:sp>
          <p:nvSpPr>
            <p:cNvPr id="1543" name=""/>
            <p:cNvSpPr/>
            <p:nvPr/>
          </p:nvSpPr>
          <p:spPr>
            <a:xfrm rot="2700000">
              <a:off x="8197200" y="2687760"/>
              <a:ext cx="504720" cy="431640"/>
            </a:xfrm>
            <a:prstGeom prst="ellipse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8310960" y="2763000"/>
              <a:ext cx="276120" cy="278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 flipV="1">
              <a:off x="8286120" y="2740320"/>
              <a:ext cx="325800" cy="323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 flipV="1">
              <a:off x="8449560" y="2674800"/>
              <a:ext cx="1800" cy="458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8254440" y="2903400"/>
              <a:ext cx="39204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4427640" y="1125360"/>
            <a:ext cx="947160" cy="265320"/>
            <a:chOff x="4427640" y="1125360"/>
            <a:chExt cx="947160" cy="265320"/>
          </a:xfrm>
        </p:grpSpPr>
        <p:sp>
          <p:nvSpPr>
            <p:cNvPr id="1549" name=""/>
            <p:cNvSpPr/>
            <p:nvPr/>
          </p:nvSpPr>
          <p:spPr>
            <a:xfrm>
              <a:off x="4427640" y="1218960"/>
              <a:ext cx="18540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csc10"/>
                  <a:ea typeface="Arial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614840" y="1218960"/>
              <a:ext cx="18504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csc10"/>
                  <a:ea typeface="Arial"/>
                </a:rPr>
                <a:t>p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800240" y="1218960"/>
              <a:ext cx="20124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csc10"/>
                  <a:ea typeface="Arial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000400" y="1125360"/>
              <a:ext cx="2077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27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sy7"/>
                  <a:ea typeface="Arial"/>
                </a:rPr>
                <a:t>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209920" y="1170000"/>
              <a:ext cx="16488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0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427640" y="1125360"/>
              <a:ext cx="945720" cy="2653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5" name=""/>
          <p:cNvSpPr/>
          <p:nvPr/>
        </p:nvSpPr>
        <p:spPr>
          <a:xfrm rot="14971200">
            <a:off x="7164720" y="1412280"/>
            <a:ext cx="216000" cy="792000"/>
          </a:xfrm>
          <a:custGeom>
            <a:avLst/>
            <a:gdLst/>
            <a:ahLst/>
            <a:rect l="l" t="t" r="r" b="b"/>
            <a:pathLst>
              <a:path w="132" h="551">
                <a:moveTo>
                  <a:pt x="74" y="0"/>
                </a:moveTo>
                <a:cubicBezTo>
                  <a:pt x="82" y="20"/>
                  <a:pt x="132" y="85"/>
                  <a:pt x="121" y="121"/>
                </a:cubicBezTo>
                <a:cubicBezTo>
                  <a:pt x="110" y="157"/>
                  <a:pt x="14" y="177"/>
                  <a:pt x="7" y="215"/>
                </a:cubicBezTo>
                <a:cubicBezTo>
                  <a:pt x="0" y="253"/>
                  <a:pt x="68" y="293"/>
                  <a:pt x="81" y="349"/>
                </a:cubicBezTo>
                <a:cubicBezTo>
                  <a:pt x="94" y="405"/>
                  <a:pt x="86" y="509"/>
                  <a:pt x="87" y="551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785880" y="1557360"/>
            <a:ext cx="1168560" cy="703440"/>
            <a:chOff x="785880" y="1557360"/>
            <a:chExt cx="1168560" cy="703440"/>
          </a:xfrm>
        </p:grpSpPr>
        <p:grpSp>
          <p:nvGrpSpPr>
            <p:cNvPr id="1557" name=""/>
            <p:cNvGrpSpPr/>
            <p:nvPr/>
          </p:nvGrpSpPr>
          <p:grpSpPr>
            <a:xfrm>
              <a:off x="1343520" y="1612440"/>
              <a:ext cx="610920" cy="610560"/>
              <a:chOff x="1343520" y="1612440"/>
              <a:chExt cx="610920" cy="610560"/>
            </a:xfrm>
          </p:grpSpPr>
          <p:sp>
            <p:nvSpPr>
              <p:cNvPr id="1558" name=""/>
              <p:cNvSpPr/>
              <p:nvPr/>
            </p:nvSpPr>
            <p:spPr>
              <a:xfrm rot="2700000">
                <a:off x="1432800" y="1701720"/>
                <a:ext cx="43200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1533960" y="177840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 flipV="1">
                <a:off x="1509120" y="177804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785880" y="1701720"/>
              <a:ext cx="431640" cy="431640"/>
              <a:chOff x="785880" y="1701720"/>
              <a:chExt cx="431640" cy="431640"/>
            </a:xfrm>
          </p:grpSpPr>
          <p:sp>
            <p:nvSpPr>
              <p:cNvPr id="1562" name=""/>
              <p:cNvSpPr/>
              <p:nvPr/>
            </p:nvSpPr>
            <p:spPr>
              <a:xfrm>
                <a:off x="785880" y="170172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 flipV="1">
                <a:off x="1001160" y="172188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865080" y="191700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5" name=""/>
            <p:cNvSpPr/>
            <p:nvPr/>
          </p:nvSpPr>
          <p:spPr>
            <a:xfrm>
              <a:off x="982800" y="1557360"/>
              <a:ext cx="68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/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696240" y="2043000"/>
            <a:ext cx="1168920" cy="703440"/>
            <a:chOff x="696240" y="2043000"/>
            <a:chExt cx="1168920" cy="703440"/>
          </a:xfrm>
        </p:grpSpPr>
        <p:grpSp>
          <p:nvGrpSpPr>
            <p:cNvPr id="1567" name=""/>
            <p:cNvGrpSpPr/>
            <p:nvPr/>
          </p:nvGrpSpPr>
          <p:grpSpPr>
            <a:xfrm>
              <a:off x="1433520" y="2166840"/>
              <a:ext cx="431640" cy="431640"/>
              <a:chOff x="1433520" y="2166840"/>
              <a:chExt cx="431640" cy="431640"/>
            </a:xfrm>
          </p:grpSpPr>
          <p:sp>
            <p:nvSpPr>
              <p:cNvPr id="1568" name=""/>
              <p:cNvSpPr/>
              <p:nvPr/>
            </p:nvSpPr>
            <p:spPr>
              <a:xfrm>
                <a:off x="1433520" y="216684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 flipV="1">
                <a:off x="1648800" y="218700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V="1">
                <a:off x="1512720" y="238212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1" name=""/>
            <p:cNvGrpSpPr/>
            <p:nvPr/>
          </p:nvGrpSpPr>
          <p:grpSpPr>
            <a:xfrm>
              <a:off x="696240" y="2084040"/>
              <a:ext cx="610560" cy="610560"/>
              <a:chOff x="696240" y="2084040"/>
              <a:chExt cx="610560" cy="610560"/>
            </a:xfrm>
          </p:grpSpPr>
          <p:sp>
            <p:nvSpPr>
              <p:cNvPr id="1572" name=""/>
              <p:cNvSpPr/>
              <p:nvPr/>
            </p:nvSpPr>
            <p:spPr>
              <a:xfrm rot="2700000">
                <a:off x="785520" y="2173320"/>
                <a:ext cx="43164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V="1">
                <a:off x="886320" y="224964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 flipV="1">
                <a:off x="861480" y="224928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5" name=""/>
            <p:cNvSpPr/>
            <p:nvPr/>
          </p:nvSpPr>
          <p:spPr>
            <a:xfrm>
              <a:off x="965160" y="2043000"/>
              <a:ext cx="68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/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1239840" y="2924280"/>
            <a:ext cx="92160" cy="301680"/>
            <a:chOff x="1239840" y="2924280"/>
            <a:chExt cx="92160" cy="301680"/>
          </a:xfrm>
        </p:grpSpPr>
        <p:sp>
          <p:nvSpPr>
            <p:cNvPr id="1577" name=""/>
            <p:cNvSpPr/>
            <p:nvPr/>
          </p:nvSpPr>
          <p:spPr>
            <a:xfrm>
              <a:off x="1239840" y="2924280"/>
              <a:ext cx="9216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239840" y="3057840"/>
              <a:ext cx="9216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239840" y="3191040"/>
              <a:ext cx="9216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239840" y="2924280"/>
              <a:ext cx="92160" cy="3016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6813720" y="3614760"/>
            <a:ext cx="2114280" cy="307800"/>
            <a:chOff x="6813720" y="3614760"/>
            <a:chExt cx="2114280" cy="307800"/>
          </a:xfrm>
        </p:grpSpPr>
        <p:sp>
          <p:nvSpPr>
            <p:cNvPr id="1582" name=""/>
            <p:cNvSpPr/>
            <p:nvPr/>
          </p:nvSpPr>
          <p:spPr>
            <a:xfrm>
              <a:off x="6813720" y="3633840"/>
              <a:ext cx="257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72280" y="3714840"/>
              <a:ext cx="163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35720" y="3714840"/>
              <a:ext cx="1710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07080" y="3633840"/>
              <a:ext cx="1710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678440" y="3641760"/>
              <a:ext cx="856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762680" y="3657600"/>
              <a:ext cx="1202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883280" y="3714840"/>
              <a:ext cx="1220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107200" y="3681360"/>
              <a:ext cx="23940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111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432640" y="3714840"/>
              <a:ext cx="1854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618400" y="3616200"/>
              <a:ext cx="1537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004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772480" y="3648240"/>
              <a:ext cx="153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813720" y="3614760"/>
              <a:ext cx="2114280" cy="3078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4" name=""/>
          <p:cNvSpPr/>
          <p:nvPr/>
        </p:nvSpPr>
        <p:spPr>
          <a:xfrm>
            <a:off x="250920" y="486900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  <a:ea typeface="Arial"/>
              </a:rPr>
              <a:t>Sender-Security: One of the strings looks completely random to dishonest B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2104920" y="4503600"/>
            <a:ext cx="2192400" cy="366480"/>
            <a:chOff x="2104920" y="4503600"/>
            <a:chExt cx="2192400" cy="366480"/>
          </a:xfrm>
        </p:grpSpPr>
        <p:sp>
          <p:nvSpPr>
            <p:cNvPr id="1596" name=""/>
            <p:cNvSpPr/>
            <p:nvPr/>
          </p:nvSpPr>
          <p:spPr>
            <a:xfrm>
              <a:off x="2104920" y="4559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309760" y="4687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459160" y="475128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608200" y="4559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813040" y="4687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054240" y="4606560"/>
              <a:ext cx="2224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9280" bIns="12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370320" y="4536720"/>
              <a:ext cx="1666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537000" y="4571640"/>
              <a:ext cx="1666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703680" y="4751280"/>
              <a:ext cx="9216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852720" y="4571640"/>
              <a:ext cx="1666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019400" y="4536720"/>
              <a:ext cx="1666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186080" y="4503600"/>
              <a:ext cx="1112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2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`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104920" y="4503600"/>
              <a:ext cx="2192400" cy="3664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484200" y="6299280"/>
            <a:ext cx="2935080" cy="225360"/>
            <a:chOff x="484200" y="6299280"/>
            <a:chExt cx="2935080" cy="225360"/>
          </a:xfrm>
        </p:grpSpPr>
        <p:sp>
          <p:nvSpPr>
            <p:cNvPr id="1610" name=""/>
            <p:cNvSpPr/>
            <p:nvPr/>
          </p:nvSpPr>
          <p:spPr>
            <a:xfrm>
              <a:off x="484200" y="6300720"/>
              <a:ext cx="619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55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[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46120" y="6316560"/>
              <a:ext cx="16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2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1000" y="6372360"/>
              <a:ext cx="1000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11080" y="6372360"/>
              <a:ext cx="1256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936720" y="6372360"/>
              <a:ext cx="1252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062000" y="6372360"/>
              <a:ext cx="1000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162080" y="6372360"/>
              <a:ext cx="889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325520" y="6316560"/>
              <a:ext cx="17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2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500120" y="6319800"/>
              <a:ext cx="1126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500120" y="6372360"/>
              <a:ext cx="112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612800" y="6372360"/>
              <a:ext cx="1252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738080" y="6319800"/>
              <a:ext cx="619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801800" y="6372360"/>
              <a:ext cx="112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42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989000" y="6324480"/>
              <a:ext cx="1126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101680" y="6324480"/>
              <a:ext cx="1126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214360" y="6446880"/>
              <a:ext cx="619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20" bIns="42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351160" y="6316560"/>
              <a:ext cx="16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2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517840" y="6372360"/>
              <a:ext cx="997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617560" y="6372360"/>
              <a:ext cx="1256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743200" y="6372360"/>
              <a:ext cx="1252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867040" y="6372360"/>
              <a:ext cx="1000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967120" y="6372360"/>
              <a:ext cx="889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130560" y="6324480"/>
              <a:ext cx="1126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243240" y="6324480"/>
              <a:ext cx="1126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355920" y="6300720"/>
              <a:ext cx="619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55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84200" y="6299280"/>
              <a:ext cx="2935080" cy="225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3170160" y="1681200"/>
            <a:ext cx="665280" cy="2260440"/>
            <a:chOff x="3170160" y="1681200"/>
            <a:chExt cx="665280" cy="2260440"/>
          </a:xfrm>
        </p:grpSpPr>
        <p:grpSp>
          <p:nvGrpSpPr>
            <p:cNvPr id="1637" name=""/>
            <p:cNvGrpSpPr/>
            <p:nvPr/>
          </p:nvGrpSpPr>
          <p:grpSpPr>
            <a:xfrm>
              <a:off x="3170160" y="2112840"/>
              <a:ext cx="647280" cy="431640"/>
              <a:chOff x="3170160" y="2112840"/>
              <a:chExt cx="647280" cy="431640"/>
            </a:xfrm>
          </p:grpSpPr>
          <p:sp>
            <p:nvSpPr>
              <p:cNvPr id="1638" name=""/>
              <p:cNvSpPr/>
              <p:nvPr/>
            </p:nvSpPr>
            <p:spPr>
              <a:xfrm>
                <a:off x="3170160" y="2112840"/>
                <a:ext cx="64728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H="1" flipV="1">
                <a:off x="3493080" y="2133000"/>
                <a:ext cx="252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flipV="1">
                <a:off x="3288960" y="2328840"/>
                <a:ext cx="4788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flipV="1">
                <a:off x="3317400" y="2132280"/>
                <a:ext cx="376560" cy="376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flipH="1" flipV="1">
                <a:off x="3342600" y="2197800"/>
                <a:ext cx="263160" cy="2491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3229200" y="2472480"/>
              <a:ext cx="602280" cy="618480"/>
              <a:chOff x="3229200" y="2472480"/>
              <a:chExt cx="602280" cy="618480"/>
            </a:xfrm>
          </p:grpSpPr>
          <p:sp>
            <p:nvSpPr>
              <p:cNvPr id="1644" name=""/>
              <p:cNvSpPr/>
              <p:nvPr/>
            </p:nvSpPr>
            <p:spPr>
              <a:xfrm rot="19923600">
                <a:off x="3314160" y="2545920"/>
                <a:ext cx="431640" cy="4712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H="1" flipV="1">
                <a:off x="3429720" y="2593440"/>
                <a:ext cx="185040" cy="345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V="1">
                <a:off x="3410280" y="2696400"/>
                <a:ext cx="281520" cy="150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V="1">
                <a:off x="3480840" y="2600280"/>
                <a:ext cx="104400" cy="339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H="1" flipV="1">
                <a:off x="3325320" y="2726640"/>
                <a:ext cx="380160" cy="109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9" name=""/>
            <p:cNvSpPr/>
            <p:nvPr/>
          </p:nvSpPr>
          <p:spPr>
            <a:xfrm>
              <a:off x="3314520" y="168120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 flipV="1">
              <a:off x="3530520" y="170136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rot="2700000">
              <a:off x="3313800" y="304956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 flipV="1">
              <a:off x="3390480" y="3126960"/>
              <a:ext cx="260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3" name=""/>
            <p:cNvGrpSpPr/>
            <p:nvPr/>
          </p:nvGrpSpPr>
          <p:grpSpPr>
            <a:xfrm>
              <a:off x="3314520" y="3510000"/>
              <a:ext cx="431640" cy="431640"/>
              <a:chOff x="3314520" y="3510000"/>
              <a:chExt cx="431640" cy="431640"/>
            </a:xfrm>
          </p:grpSpPr>
          <p:sp>
            <p:nvSpPr>
              <p:cNvPr id="1654" name=""/>
              <p:cNvSpPr/>
              <p:nvPr/>
            </p:nvSpPr>
            <p:spPr>
              <a:xfrm>
                <a:off x="3314520" y="351000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H="1" flipV="1">
                <a:off x="3529800" y="353016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3393720" y="372600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V="1">
                <a:off x="3412440" y="359208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H="1" flipV="1">
                <a:off x="3387240" y="359388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9" name=""/>
          <p:cNvGrpSpPr/>
          <p:nvPr/>
        </p:nvGrpSpPr>
        <p:grpSpPr>
          <a:xfrm>
            <a:off x="539640" y="5846760"/>
            <a:ext cx="7103880" cy="822240"/>
            <a:chOff x="539640" y="5846760"/>
            <a:chExt cx="7103880" cy="822240"/>
          </a:xfrm>
        </p:grpSpPr>
        <p:sp>
          <p:nvSpPr>
            <p:cNvPr id="1660" name=""/>
            <p:cNvSpPr/>
            <p:nvPr/>
          </p:nvSpPr>
          <p:spPr>
            <a:xfrm>
              <a:off x="539640" y="5869080"/>
              <a:ext cx="2556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bx10"/>
                </a:rPr>
                <a:t>P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65000" y="5869080"/>
              <a:ext cx="2826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136520" y="5951520"/>
              <a:ext cx="90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334880" y="5883480"/>
              <a:ext cx="1620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98320" y="5865840"/>
              <a:ext cx="1350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`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723680" y="593568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0840" bIns="-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¼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066760" y="5870520"/>
              <a:ext cx="2426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309400" y="6043680"/>
              <a:ext cx="2588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584080" y="58485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711160" y="5870520"/>
              <a:ext cx="2682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095280" y="5848560"/>
              <a:ext cx="90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276360" y="5870520"/>
              <a:ext cx="252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528720" y="6058080"/>
              <a:ext cx="9036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61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673080" y="5951520"/>
              <a:ext cx="168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619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½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841560" y="58485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057200" y="5884920"/>
              <a:ext cx="2527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428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400280" y="5870520"/>
              <a:ext cx="2430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644720" y="6043680"/>
              <a:ext cx="2588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919400" y="58485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046480" y="5870520"/>
              <a:ext cx="2682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430600" y="5848560"/>
              <a:ext cx="903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611680" y="5870520"/>
              <a:ext cx="252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864040" y="58485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400280" y="6270840"/>
              <a:ext cx="14616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7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ex10"/>
                </a:rPr>
                <a:t>|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539960" y="6289920"/>
              <a:ext cx="501840" cy="0"/>
            </a:xfrm>
            <a:prstGeom prst="line">
              <a:avLst/>
            </a:prstGeom>
            <a:ln w="388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049720" y="6270840"/>
              <a:ext cx="14580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7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ex10"/>
                </a:rPr>
                <a:t>{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195520" y="6270840"/>
              <a:ext cx="14616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7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ex10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333760" y="6289920"/>
              <a:ext cx="501480" cy="0"/>
            </a:xfrm>
            <a:prstGeom prst="line">
              <a:avLst/>
            </a:prstGeom>
            <a:ln w="388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843160" y="6270840"/>
              <a:ext cx="14616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7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ex10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032080" y="6462720"/>
              <a:ext cx="2030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41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sy7"/>
                </a:rPr>
                <a:t>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235120" y="6461280"/>
              <a:ext cx="12240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r7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062400" y="5902560"/>
              <a:ext cx="252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8640" bIns="26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386400" y="5865840"/>
              <a:ext cx="26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619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#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65480" y="5951520"/>
              <a:ext cx="1717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619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937200" y="5951520"/>
              <a:ext cx="1807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117920" y="5865840"/>
              <a:ext cx="181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297560" y="5875560"/>
              <a:ext cx="9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387920" y="5892840"/>
              <a:ext cx="12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515000" y="5951520"/>
              <a:ext cx="1285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386400" y="6253200"/>
              <a:ext cx="14580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8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ex10"/>
                </a:rPr>
                <a:t>|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526080" y="6270840"/>
              <a:ext cx="334800" cy="0"/>
            </a:xfrm>
            <a:prstGeom prst="line">
              <a:avLst/>
            </a:prstGeom>
            <a:ln w="388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868800" y="6253200"/>
              <a:ext cx="14616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8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ex10"/>
                </a:rPr>
                <a:t>{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014960" y="6253200"/>
              <a:ext cx="14580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8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ex10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152840" y="6270840"/>
              <a:ext cx="336600" cy="0"/>
            </a:xfrm>
            <a:prstGeom prst="line">
              <a:avLst/>
            </a:prstGeom>
            <a:ln w="388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495920" y="6253200"/>
              <a:ext cx="14616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8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ex10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702120" y="6483600"/>
              <a:ext cx="20340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154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&l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905520" y="6516720"/>
              <a:ext cx="16020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065720" y="6443640"/>
              <a:ext cx="133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9920" bIns="554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198920" y="6467400"/>
              <a:ext cx="1303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39640" y="5846760"/>
              <a:ext cx="7102440" cy="8222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0" name=""/>
          <p:cNvGrpSpPr/>
          <p:nvPr/>
        </p:nvGrpSpPr>
        <p:grpSpPr>
          <a:xfrm>
            <a:off x="900000" y="4183200"/>
            <a:ext cx="2589120" cy="393480"/>
            <a:chOff x="900000" y="4183200"/>
            <a:chExt cx="2589120" cy="393480"/>
          </a:xfrm>
        </p:grpSpPr>
        <p:sp>
          <p:nvSpPr>
            <p:cNvPr id="1711" name=""/>
            <p:cNvSpPr/>
            <p:nvPr/>
          </p:nvSpPr>
          <p:spPr>
            <a:xfrm>
              <a:off x="900000" y="4209840"/>
              <a:ext cx="2952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78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195200" y="4419360"/>
              <a:ext cx="312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528560" y="4184640"/>
              <a:ext cx="15264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93040" bIns="961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681200" y="4209840"/>
              <a:ext cx="32544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78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146320" y="4184640"/>
              <a:ext cx="10944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93040" bIns="961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365200" y="4209840"/>
              <a:ext cx="30636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78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670120" y="4184640"/>
              <a:ext cx="15228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93040" bIns="961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932200" y="4228920"/>
              <a:ext cx="306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8760" bIns="52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cmsy10"/>
                </a:rPr>
                <a:t>¸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303360" y="4206600"/>
              <a:ext cx="18576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0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cmr10"/>
                </a:rPr>
                <a:t>?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900000" y="4183200"/>
              <a:ext cx="2589120" cy="3934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2000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2000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2000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2000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2000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2000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2000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" dur="2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2000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2000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2000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2000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2000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2000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200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2000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2000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2000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20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3399"/>
                </a:solidFill>
                <a:latin typeface="Garamond"/>
              </a:rPr>
              <a:t>Outline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050840" y="1628280"/>
            <a:ext cx="704232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64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Arial"/>
              </a:rPr>
              <a:t>Motivation and Not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6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Arial"/>
              </a:rPr>
              <a:t>Quantum Uncertainty Rel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6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26920" y="2349360"/>
            <a:ext cx="720108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Quantum Uncertainty Relation needed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1725" name=""/>
          <p:cNvGrpSpPr/>
          <p:nvPr/>
        </p:nvGrpSpPr>
        <p:grpSpPr>
          <a:xfrm>
            <a:off x="4917960" y="2846520"/>
            <a:ext cx="719280" cy="720720"/>
            <a:chOff x="4917960" y="2846520"/>
            <a:chExt cx="719280" cy="720720"/>
          </a:xfrm>
        </p:grpSpPr>
        <p:sp>
          <p:nvSpPr>
            <p:cNvPr id="1726" name=""/>
            <p:cNvSpPr/>
            <p:nvPr/>
          </p:nvSpPr>
          <p:spPr>
            <a:xfrm>
              <a:off x="4917960" y="2846520"/>
              <a:ext cx="719280" cy="72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V="1">
              <a:off x="5278320" y="2919600"/>
              <a:ext cx="0" cy="5745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989600" y="3206880"/>
              <a:ext cx="5760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4917960" y="3997440"/>
            <a:ext cx="719280" cy="720720"/>
            <a:chOff x="4917960" y="3997440"/>
            <a:chExt cx="719280" cy="720720"/>
          </a:xfrm>
        </p:grpSpPr>
        <p:sp>
          <p:nvSpPr>
            <p:cNvPr id="1730" name=""/>
            <p:cNvSpPr/>
            <p:nvPr/>
          </p:nvSpPr>
          <p:spPr>
            <a:xfrm>
              <a:off x="4917960" y="3997440"/>
              <a:ext cx="719280" cy="72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V="1">
              <a:off x="5077440" y="4153320"/>
              <a:ext cx="405360" cy="4075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073480" y="4154040"/>
              <a:ext cx="408240" cy="4060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947880" y="2554200"/>
            <a:ext cx="2879640" cy="28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744480" y="2314440"/>
            <a:ext cx="3311640" cy="3263760"/>
            <a:chOff x="744480" y="2314440"/>
            <a:chExt cx="3311640" cy="3263760"/>
          </a:xfrm>
        </p:grpSpPr>
        <p:sp>
          <p:nvSpPr>
            <p:cNvPr id="1735" name=""/>
            <p:cNvSpPr/>
            <p:nvPr/>
          </p:nvSpPr>
          <p:spPr>
            <a:xfrm rot="16200000">
              <a:off x="759600" y="3866040"/>
              <a:ext cx="3263760" cy="160560"/>
            </a:xfrm>
            <a:prstGeom prst="rightArrow">
              <a:avLst>
                <a:gd name="adj1" fmla="val 26741"/>
                <a:gd name="adj2" fmla="val 12958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44480" y="3919320"/>
              <a:ext cx="3311640" cy="146160"/>
            </a:xfrm>
            <a:prstGeom prst="rightArrow">
              <a:avLst>
                <a:gd name="adj1" fmla="val 30435"/>
                <a:gd name="adj2" fmla="val 13573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7" name=""/>
          <p:cNvSpPr/>
          <p:nvPr/>
        </p:nvSpPr>
        <p:spPr>
          <a:xfrm>
            <a:off x="3006720" y="26989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2387520" y="2698920"/>
            <a:ext cx="619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9" name=""/>
          <p:cNvGrpSpPr/>
          <p:nvPr/>
        </p:nvGrpSpPr>
        <p:grpSpPr>
          <a:xfrm>
            <a:off x="4127400" y="3789360"/>
            <a:ext cx="647640" cy="412920"/>
            <a:chOff x="4127400" y="3789360"/>
            <a:chExt cx="647640" cy="412920"/>
          </a:xfrm>
        </p:grpSpPr>
        <p:sp>
          <p:nvSpPr>
            <p:cNvPr id="1740" name=""/>
            <p:cNvSpPr/>
            <p:nvPr/>
          </p:nvSpPr>
          <p:spPr>
            <a:xfrm>
              <a:off x="4127400" y="379080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228920" y="382896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409640" y="379080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551120" y="4013280"/>
              <a:ext cx="2239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r7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127400" y="3789360"/>
              <a:ext cx="64764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5" name=""/>
          <p:cNvGrpSpPr/>
          <p:nvPr/>
        </p:nvGrpSpPr>
        <p:grpSpPr>
          <a:xfrm>
            <a:off x="2182680" y="1844640"/>
            <a:ext cx="647640" cy="412920"/>
            <a:chOff x="2182680" y="1844640"/>
            <a:chExt cx="647640" cy="412920"/>
          </a:xfrm>
        </p:grpSpPr>
        <p:sp>
          <p:nvSpPr>
            <p:cNvPr id="1746" name=""/>
            <p:cNvSpPr/>
            <p:nvPr/>
          </p:nvSpPr>
          <p:spPr>
            <a:xfrm>
              <a:off x="2182680" y="184608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284200" y="188424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464920" y="184608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06400" y="2068560"/>
              <a:ext cx="2239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r7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182680" y="1844640"/>
              <a:ext cx="64764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1" name=""/>
          <p:cNvGrpSpPr/>
          <p:nvPr/>
        </p:nvGrpSpPr>
        <p:grpSpPr>
          <a:xfrm>
            <a:off x="706320" y="2338560"/>
            <a:ext cx="650880" cy="412560"/>
            <a:chOff x="706320" y="2338560"/>
            <a:chExt cx="650880" cy="412560"/>
          </a:xfrm>
        </p:grpSpPr>
        <p:sp>
          <p:nvSpPr>
            <p:cNvPr id="1752" name=""/>
            <p:cNvSpPr/>
            <p:nvPr/>
          </p:nvSpPr>
          <p:spPr>
            <a:xfrm>
              <a:off x="706320" y="2339640"/>
              <a:ext cx="1015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07840" y="2377800"/>
              <a:ext cx="18072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29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988560" y="2339640"/>
              <a:ext cx="1414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130040" y="2562120"/>
              <a:ext cx="22716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600" bIns="29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sy7"/>
                  <a:ea typeface="Arial"/>
                </a:rPr>
                <a:t>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06320" y="2338560"/>
              <a:ext cx="650880" cy="412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7" name=""/>
          <p:cNvGrpSpPr/>
          <p:nvPr/>
        </p:nvGrpSpPr>
        <p:grpSpPr>
          <a:xfrm>
            <a:off x="3624120" y="2482920"/>
            <a:ext cx="650880" cy="412560"/>
            <a:chOff x="3624120" y="2482920"/>
            <a:chExt cx="650880" cy="412560"/>
          </a:xfrm>
        </p:grpSpPr>
        <p:sp>
          <p:nvSpPr>
            <p:cNvPr id="1758" name=""/>
            <p:cNvSpPr/>
            <p:nvPr/>
          </p:nvSpPr>
          <p:spPr>
            <a:xfrm>
              <a:off x="3624120" y="2484000"/>
              <a:ext cx="1015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725640" y="2522160"/>
              <a:ext cx="18072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29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906360" y="2484000"/>
              <a:ext cx="1414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047840" y="2706480"/>
              <a:ext cx="22716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600" bIns="29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sy7"/>
                  <a:ea typeface="Arial"/>
                </a:rPr>
                <a:t>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624120" y="2482920"/>
              <a:ext cx="650880" cy="412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3" name=""/>
          <p:cNvSpPr/>
          <p:nvPr/>
        </p:nvSpPr>
        <p:spPr>
          <a:xfrm>
            <a:off x="2995560" y="2689200"/>
            <a:ext cx="341280" cy="368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2039760" y="2698920"/>
            <a:ext cx="936720" cy="863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611280" y="1197000"/>
            <a:ext cx="3009960" cy="270000"/>
            <a:chOff x="611280" y="1197000"/>
            <a:chExt cx="3009960" cy="270000"/>
          </a:xfrm>
        </p:grpSpPr>
        <p:sp>
          <p:nvSpPr>
            <p:cNvPr id="1766" name=""/>
            <p:cNvSpPr/>
            <p:nvPr/>
          </p:nvSpPr>
          <p:spPr>
            <a:xfrm>
              <a:off x="611280" y="1300320"/>
              <a:ext cx="1414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q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50960" y="130032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900360" y="123048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047960" y="123696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122480" y="125100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316160" y="130032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449720" y="130032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643400" y="130032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792440" y="130032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940040" y="123696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014560" y="125100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206800" y="1300320"/>
              <a:ext cx="1411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340000" y="130032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459160" y="130032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578320" y="125100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681640" y="1300320"/>
              <a:ext cx="133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816280" y="130032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008520" y="123696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083040" y="130032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321360" y="1232280"/>
              <a:ext cx="1936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msbm10"/>
                  <a:ea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513240" y="119880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11280" y="1197000"/>
              <a:ext cx="3009960" cy="2700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8" name=""/>
          <p:cNvSpPr/>
          <p:nvPr/>
        </p:nvSpPr>
        <p:spPr>
          <a:xfrm rot="16200000">
            <a:off x="2631240" y="3772440"/>
            <a:ext cx="144360" cy="609480"/>
          </a:xfrm>
          <a:custGeom>
            <a:avLst/>
            <a:gdLst>
              <a:gd name="textAreaLeft" fmla="*/ 92160 w 144360"/>
              <a:gd name="textAreaRight" fmla="*/ 144360 w 1443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2608200" y="4208400"/>
            <a:ext cx="223920" cy="150840"/>
            <a:chOff x="2608200" y="4208400"/>
            <a:chExt cx="223920" cy="150840"/>
          </a:xfrm>
        </p:grpSpPr>
        <p:sp>
          <p:nvSpPr>
            <p:cNvPr id="1790" name=""/>
            <p:cNvSpPr/>
            <p:nvPr/>
          </p:nvSpPr>
          <p:spPr>
            <a:xfrm>
              <a:off x="2608200" y="4210200"/>
              <a:ext cx="2239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mi10"/>
                  <a:ea typeface="Arial"/>
                </a:rPr>
                <a:t>®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608200" y="4208400"/>
              <a:ext cx="223920" cy="1508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5803920" y="2773440"/>
            <a:ext cx="2546280" cy="371520"/>
            <a:chOff x="5803920" y="2773440"/>
            <a:chExt cx="2546280" cy="371520"/>
          </a:xfrm>
        </p:grpSpPr>
        <p:sp>
          <p:nvSpPr>
            <p:cNvPr id="1793" name=""/>
            <p:cNvSpPr/>
            <p:nvPr/>
          </p:nvSpPr>
          <p:spPr>
            <a:xfrm>
              <a:off x="5803920" y="2819520"/>
              <a:ext cx="2365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P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042240" y="2908440"/>
              <a:ext cx="1364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178680" y="279720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[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275520" y="2819520"/>
              <a:ext cx="2887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mi10"/>
                  <a:ea typeface="Arial"/>
                </a:rPr>
                <a:t>X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688080" y="293076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056360" y="283392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230960" y="279720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]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424640" y="293076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792920" y="279720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889760" y="2908440"/>
              <a:ext cx="2239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mi10"/>
                  <a:ea typeface="Arial"/>
                </a:rPr>
                <a:t>®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8113680" y="279720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8210520" y="2773440"/>
              <a:ext cx="1396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7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mr7"/>
                  <a:ea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803920" y="2773440"/>
              <a:ext cx="2544840" cy="3715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5803920" y="3218040"/>
            <a:ext cx="3146400" cy="371160"/>
            <a:chOff x="5803920" y="3218040"/>
            <a:chExt cx="3146400" cy="371160"/>
          </a:xfrm>
        </p:grpSpPr>
        <p:sp>
          <p:nvSpPr>
            <p:cNvPr id="1807" name=""/>
            <p:cNvSpPr/>
            <p:nvPr/>
          </p:nvSpPr>
          <p:spPr>
            <a:xfrm>
              <a:off x="5803920" y="3263760"/>
              <a:ext cx="236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6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P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042240" y="3352680"/>
              <a:ext cx="13644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868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178680" y="3241440"/>
              <a:ext cx="968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920" bIns="85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[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275520" y="3263760"/>
              <a:ext cx="2887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6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mi10"/>
                  <a:ea typeface="Arial"/>
                </a:rPr>
                <a:t>X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688080" y="3375000"/>
              <a:ext cx="271440" cy="8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280" bIns="-92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056360" y="3278160"/>
              <a:ext cx="17460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20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230960" y="3241440"/>
              <a:ext cx="968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920" bIns="85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]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424640" y="3375000"/>
              <a:ext cx="271440" cy="8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280" bIns="-92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92920" y="3278160"/>
              <a:ext cx="17496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20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043840" y="3298680"/>
              <a:ext cx="27144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28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sy10"/>
                  <a:ea typeface="Arial"/>
                </a:rPr>
                <a:t>¡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393040" y="3241440"/>
              <a:ext cx="968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920" bIns="85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489880" y="3352680"/>
              <a:ext cx="22392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868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mi10"/>
                  <a:ea typeface="Arial"/>
                </a:rPr>
                <a:t>®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8713800" y="3241440"/>
              <a:ext cx="968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920" bIns="85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810640" y="3218040"/>
              <a:ext cx="1396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mr7"/>
                  <a:ea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803920" y="3218040"/>
              <a:ext cx="3146400" cy="3711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5781600" y="3997440"/>
            <a:ext cx="2538360" cy="371520"/>
            <a:chOff x="5781600" y="3997440"/>
            <a:chExt cx="2538360" cy="371520"/>
          </a:xfrm>
        </p:grpSpPr>
        <p:sp>
          <p:nvSpPr>
            <p:cNvPr id="1823" name=""/>
            <p:cNvSpPr/>
            <p:nvPr/>
          </p:nvSpPr>
          <p:spPr>
            <a:xfrm>
              <a:off x="5781600" y="4043520"/>
              <a:ext cx="2365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P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019920" y="4132440"/>
              <a:ext cx="1364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156360" y="402120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[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253200" y="4043520"/>
              <a:ext cx="2887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mi10"/>
                  <a:ea typeface="Arial"/>
                </a:rPr>
                <a:t>X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665760" y="415476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034040" y="405792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208640" y="402120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]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402320" y="415476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770600" y="402120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sy10"/>
                  <a:ea typeface="Arial"/>
                </a:rPr>
                <a:t>j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867440" y="4040280"/>
              <a:ext cx="196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120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mi10"/>
                  <a:ea typeface="Arial"/>
                </a:rPr>
                <a:t>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083440" y="402120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sy10"/>
                  <a:ea typeface="Arial"/>
                </a:rPr>
                <a:t>j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180280" y="3997440"/>
              <a:ext cx="1396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7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cmr7"/>
                  <a:ea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781600" y="3997440"/>
              <a:ext cx="2536920" cy="3715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6" name=""/>
          <p:cNvGrpSpPr/>
          <p:nvPr/>
        </p:nvGrpSpPr>
        <p:grpSpPr>
          <a:xfrm>
            <a:off x="5781600" y="4489560"/>
            <a:ext cx="3138480" cy="371520"/>
            <a:chOff x="5781600" y="4489560"/>
            <a:chExt cx="3138480" cy="371520"/>
          </a:xfrm>
        </p:grpSpPr>
        <p:sp>
          <p:nvSpPr>
            <p:cNvPr id="1837" name=""/>
            <p:cNvSpPr/>
            <p:nvPr/>
          </p:nvSpPr>
          <p:spPr>
            <a:xfrm>
              <a:off x="5781600" y="4535640"/>
              <a:ext cx="2365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P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019920" y="4624560"/>
              <a:ext cx="1364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156360" y="451332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[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253200" y="4535640"/>
              <a:ext cx="2887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mi10"/>
                  <a:ea typeface="Arial"/>
                </a:rPr>
                <a:t>X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665760" y="464688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034040" y="455004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7208640" y="451332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]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402320" y="464688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770600" y="4550040"/>
              <a:ext cx="17496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8021520" y="4570560"/>
              <a:ext cx="2714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28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sy10"/>
                  <a:ea typeface="Arial"/>
                </a:rPr>
                <a:t>¡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8370720" y="451332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sy10"/>
                  <a:ea typeface="Arial"/>
                </a:rPr>
                <a:t>j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8467560" y="4532400"/>
              <a:ext cx="196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120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mi10"/>
                  <a:ea typeface="Arial"/>
                </a:rPr>
                <a:t>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683560" y="451332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sy10"/>
                  <a:ea typeface="Arial"/>
                </a:rPr>
                <a:t>j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780400" y="4489560"/>
              <a:ext cx="1396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7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cmr7"/>
                  <a:ea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781600" y="4489560"/>
              <a:ext cx="3137040" cy="3715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1148400" y="2752920"/>
            <a:ext cx="2472120" cy="2459520"/>
            <a:chOff x="1148400" y="2752920"/>
            <a:chExt cx="2472120" cy="2459520"/>
          </a:xfrm>
        </p:grpSpPr>
        <p:sp>
          <p:nvSpPr>
            <p:cNvPr id="1853" name=""/>
            <p:cNvSpPr/>
            <p:nvPr/>
          </p:nvSpPr>
          <p:spPr>
            <a:xfrm rot="13500000">
              <a:off x="727200" y="3883320"/>
              <a:ext cx="3263760" cy="160560"/>
            </a:xfrm>
            <a:prstGeom prst="rightArrow">
              <a:avLst>
                <a:gd name="adj1" fmla="val 26741"/>
                <a:gd name="adj2" fmla="val 12958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 rot="18900000">
              <a:off x="741960" y="3916800"/>
              <a:ext cx="3311640" cy="146160"/>
            </a:xfrm>
            <a:prstGeom prst="rightArrow">
              <a:avLst>
                <a:gd name="adj1" fmla="val 30435"/>
                <a:gd name="adj2" fmla="val 13573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5" name=""/>
          <p:cNvSpPr/>
          <p:nvPr/>
        </p:nvSpPr>
        <p:spPr>
          <a:xfrm rot="13500000">
            <a:off x="2853000" y="2945160"/>
            <a:ext cx="144360" cy="1317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4200 h 1317600"/>
              <a:gd name="textAreaBottom" fmla="*/ 1283400 h 131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2938320" y="3645000"/>
            <a:ext cx="196920" cy="309240"/>
            <a:chOff x="2938320" y="3645000"/>
            <a:chExt cx="196920" cy="309240"/>
          </a:xfrm>
        </p:grpSpPr>
        <p:sp>
          <p:nvSpPr>
            <p:cNvPr id="1857" name=""/>
            <p:cNvSpPr/>
            <p:nvPr/>
          </p:nvSpPr>
          <p:spPr>
            <a:xfrm>
              <a:off x="2938320" y="3646440"/>
              <a:ext cx="196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120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mi10"/>
                  <a:ea typeface="Arial"/>
                </a:rPr>
                <a:t>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938320" y="3645000"/>
              <a:ext cx="196920" cy="3092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9" name=""/>
          <p:cNvSpPr/>
          <p:nvPr/>
        </p:nvSpPr>
        <p:spPr>
          <a:xfrm flipV="1">
            <a:off x="2383200" y="2689200"/>
            <a:ext cx="618120" cy="13345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  <p:animClr clrSpc="rgb">
                                <p:cBhvr>
                                  <p:cTn id="4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"/>
          <p:cNvSpPr/>
          <p:nvPr/>
        </p:nvSpPr>
        <p:spPr>
          <a:xfrm>
            <a:off x="3343320" y="1906560"/>
            <a:ext cx="178920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1" name=""/>
          <p:cNvGrpSpPr/>
          <p:nvPr/>
        </p:nvGrpSpPr>
        <p:grpSpPr>
          <a:xfrm>
            <a:off x="539640" y="1076400"/>
            <a:ext cx="7728120" cy="1560240"/>
            <a:chOff x="539640" y="1076400"/>
            <a:chExt cx="7728120" cy="1560240"/>
          </a:xfrm>
        </p:grpSpPr>
        <p:sp>
          <p:nvSpPr>
            <p:cNvPr id="1862" name=""/>
            <p:cNvSpPr/>
            <p:nvPr/>
          </p:nvSpPr>
          <p:spPr>
            <a:xfrm>
              <a:off x="539640" y="1079640"/>
              <a:ext cx="292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830160" y="1144440"/>
              <a:ext cx="1494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979560" y="1144440"/>
              <a:ext cx="1490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128600" y="114444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251000" y="114444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371600" y="1144440"/>
              <a:ext cx="1411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512720" y="11444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785960" y="1079640"/>
              <a:ext cx="236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020680" y="1077840"/>
              <a:ext cx="255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±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278080" y="11444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448000" y="1077840"/>
              <a:ext cx="1620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k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712960" y="1090440"/>
              <a:ext cx="154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867040" y="1090440"/>
              <a:ext cx="154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19320" y="1144440"/>
              <a:ext cx="856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360600" y="1081080"/>
              <a:ext cx="166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527280" y="114768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646440" y="109836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838680" y="1147680"/>
              <a:ext cx="1378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976560" y="1179360"/>
              <a:ext cx="763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154400" y="107784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309920" y="114768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518000" y="1147680"/>
              <a:ext cx="133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741920" y="1090440"/>
              <a:ext cx="13320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875120" y="1147680"/>
              <a:ext cx="889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964040" y="1147680"/>
              <a:ext cx="1414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q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105520" y="114768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253120" y="107784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400720" y="108432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475240" y="109836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668920" y="114768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773680" y="109836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878440" y="114768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012000" y="1098360"/>
              <a:ext cx="1029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114960" y="114768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234120" y="123516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39640" y="140004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745920" y="1500120"/>
              <a:ext cx="763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909720" y="1438200"/>
              <a:ext cx="177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92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087560" y="1495440"/>
              <a:ext cx="16020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336680" y="1380960"/>
              <a:ext cx="1332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471680" y="142560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677960" y="1554120"/>
              <a:ext cx="74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797120" y="142560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004840" y="1380960"/>
              <a:ext cx="1335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138400" y="1554120"/>
              <a:ext cx="74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01840" y="140004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22520" y="1500120"/>
              <a:ext cx="763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700360" y="1417680"/>
              <a:ext cx="1029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805120" y="139680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2720" y="146664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160800" y="1466640"/>
              <a:ext cx="133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294000" y="14666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43400" y="1417680"/>
              <a:ext cx="1029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46360" y="146664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65520" y="1466640"/>
              <a:ext cx="133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798720" y="1466640"/>
              <a:ext cx="222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021200" y="1466640"/>
              <a:ext cx="1188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228920" y="146664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362480" y="1396800"/>
              <a:ext cx="810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533840" y="1466640"/>
              <a:ext cx="2221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755960" y="146664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875120" y="146664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008680" y="14666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113440" y="14666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262480" y="14666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367240" y="140328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440320" y="14666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589720" y="1466640"/>
              <a:ext cx="1332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811840" y="1466640"/>
              <a:ext cx="13824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950080" y="1500120"/>
              <a:ext cx="759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127560" y="1403280"/>
              <a:ext cx="74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202440" y="14666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438960" y="139680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588000" y="146664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721560" y="14666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826320" y="140328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900840" y="14666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095960" y="140004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302600" y="1500120"/>
              <a:ext cx="759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391520" y="155412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585200" y="1400040"/>
              <a:ext cx="193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778880" y="139680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926480" y="1466640"/>
              <a:ext cx="1188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8045280" y="14666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8192880" y="1554120"/>
              <a:ext cx="74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405080" y="1989000"/>
              <a:ext cx="199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604880" y="1969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708200" y="19890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930320" y="20876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093760" y="1969920"/>
              <a:ext cx="748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241360" y="198900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449440" y="20876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38360" y="1969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716200" y="2073240"/>
              <a:ext cx="20808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030480" y="194472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022560" y="2103480"/>
              <a:ext cx="10620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030480" y="214308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168720" y="1942920"/>
              <a:ext cx="1220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0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¡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335400" y="1989000"/>
              <a:ext cx="199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535200" y="1969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639960" y="19890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60640" y="20876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024440" y="196992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173480" y="198900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379760" y="20876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4543560" y="2073240"/>
              <a:ext cx="20772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825800" y="2014560"/>
              <a:ext cx="2080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033880" y="1969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195880" y="2014560"/>
              <a:ext cx="2080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464080" y="1989000"/>
              <a:ext cx="2001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664240" y="196992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767200" y="19890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989680" y="2087640"/>
              <a:ext cx="7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151680" y="196992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300720" y="198900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508800" y="2087640"/>
              <a:ext cx="7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672240" y="2073240"/>
              <a:ext cx="20808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953400" y="201456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7161120" y="1969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335400" y="23162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|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448080" y="2332080"/>
              <a:ext cx="1724040" cy="0"/>
            </a:xfrm>
            <a:prstGeom prst="line">
              <a:avLst/>
            </a:prstGeom>
            <a:ln w="32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180040" y="23162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{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300640" y="23162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z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413320" y="2332080"/>
              <a:ext cx="1724040" cy="0"/>
            </a:xfrm>
            <a:prstGeom prst="line">
              <a:avLst/>
            </a:prstGeom>
            <a:ln w="32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7145280" y="23162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}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164200" y="2475000"/>
              <a:ext cx="16668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6720" bIns="331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sy7"/>
                </a:rPr>
                <a:t>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330880" y="2482920"/>
              <a:ext cx="10620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308720" y="1942920"/>
              <a:ext cx="1224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0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¢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505640" y="2000160"/>
              <a:ext cx="2080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9920" bIns="34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7819920" y="194472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812000" y="2103480"/>
              <a:ext cx="1065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819920" y="214308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7958160" y="214308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39640" y="1076400"/>
              <a:ext cx="7728120" cy="15602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Uncertainty Relation for One Qubit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1997" name=""/>
          <p:cNvGrpSpPr/>
          <p:nvPr/>
        </p:nvGrpSpPr>
        <p:grpSpPr>
          <a:xfrm>
            <a:off x="5135400" y="3433680"/>
            <a:ext cx="719280" cy="720720"/>
            <a:chOff x="5135400" y="3433680"/>
            <a:chExt cx="719280" cy="720720"/>
          </a:xfrm>
        </p:grpSpPr>
        <p:sp>
          <p:nvSpPr>
            <p:cNvPr id="1998" name=""/>
            <p:cNvSpPr/>
            <p:nvPr/>
          </p:nvSpPr>
          <p:spPr>
            <a:xfrm>
              <a:off x="5135400" y="3433680"/>
              <a:ext cx="719280" cy="72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5495760" y="3506760"/>
              <a:ext cx="0" cy="5745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207040" y="3794040"/>
              <a:ext cx="5760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5135400" y="4584600"/>
            <a:ext cx="719280" cy="720720"/>
            <a:chOff x="5135400" y="4584600"/>
            <a:chExt cx="719280" cy="720720"/>
          </a:xfrm>
        </p:grpSpPr>
        <p:sp>
          <p:nvSpPr>
            <p:cNvPr id="2002" name=""/>
            <p:cNvSpPr/>
            <p:nvPr/>
          </p:nvSpPr>
          <p:spPr>
            <a:xfrm>
              <a:off x="5135400" y="4584600"/>
              <a:ext cx="719280" cy="72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5294880" y="4740480"/>
              <a:ext cx="405360" cy="4075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290920" y="4741200"/>
              <a:ext cx="408240" cy="4060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5" name=""/>
          <p:cNvSpPr/>
          <p:nvPr/>
        </p:nvSpPr>
        <p:spPr>
          <a:xfrm>
            <a:off x="1104840" y="3489480"/>
            <a:ext cx="2879640" cy="28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6" name=""/>
          <p:cNvGrpSpPr/>
          <p:nvPr/>
        </p:nvGrpSpPr>
        <p:grpSpPr>
          <a:xfrm>
            <a:off x="901800" y="3249720"/>
            <a:ext cx="3311280" cy="3263760"/>
            <a:chOff x="901800" y="3249720"/>
            <a:chExt cx="3311280" cy="3263760"/>
          </a:xfrm>
        </p:grpSpPr>
        <p:sp>
          <p:nvSpPr>
            <p:cNvPr id="2007" name=""/>
            <p:cNvSpPr/>
            <p:nvPr/>
          </p:nvSpPr>
          <p:spPr>
            <a:xfrm rot="16200000">
              <a:off x="916200" y="4801320"/>
              <a:ext cx="3263760" cy="160200"/>
            </a:xfrm>
            <a:prstGeom prst="rightArrow">
              <a:avLst>
                <a:gd name="adj1" fmla="val 26741"/>
                <a:gd name="adj2" fmla="val 12987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901800" y="4854600"/>
              <a:ext cx="3311280" cy="146160"/>
            </a:xfrm>
            <a:prstGeom prst="rightArrow">
              <a:avLst>
                <a:gd name="adj1" fmla="val 30435"/>
                <a:gd name="adj2" fmla="val 135721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9" name=""/>
          <p:cNvSpPr/>
          <p:nvPr/>
        </p:nvSpPr>
        <p:spPr>
          <a:xfrm flipH="1">
            <a:off x="3564000" y="3916440"/>
            <a:ext cx="1440" cy="1023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 flipH="1" flipV="1">
            <a:off x="2555640" y="3931920"/>
            <a:ext cx="974520" cy="3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1" name=""/>
          <p:cNvGrpSpPr/>
          <p:nvPr/>
        </p:nvGrpSpPr>
        <p:grpSpPr>
          <a:xfrm>
            <a:off x="4284720" y="4724280"/>
            <a:ext cx="647640" cy="412920"/>
            <a:chOff x="4284720" y="4724280"/>
            <a:chExt cx="647640" cy="412920"/>
          </a:xfrm>
        </p:grpSpPr>
        <p:sp>
          <p:nvSpPr>
            <p:cNvPr id="2012" name=""/>
            <p:cNvSpPr/>
            <p:nvPr/>
          </p:nvSpPr>
          <p:spPr>
            <a:xfrm>
              <a:off x="4284720" y="472572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386240" y="476388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566960" y="472572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708440" y="4948200"/>
              <a:ext cx="2239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r7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84720" y="4724280"/>
              <a:ext cx="64764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2340000" y="2779560"/>
            <a:ext cx="647640" cy="412920"/>
            <a:chOff x="2340000" y="2779560"/>
            <a:chExt cx="647640" cy="412920"/>
          </a:xfrm>
        </p:grpSpPr>
        <p:sp>
          <p:nvSpPr>
            <p:cNvPr id="2018" name=""/>
            <p:cNvSpPr/>
            <p:nvPr/>
          </p:nvSpPr>
          <p:spPr>
            <a:xfrm>
              <a:off x="2340000" y="278100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441520" y="281916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622240" y="278100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763720" y="3003480"/>
              <a:ext cx="2239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r7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340000" y="2779560"/>
              <a:ext cx="64764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863640" y="3273480"/>
            <a:ext cx="650880" cy="412560"/>
            <a:chOff x="863640" y="3273480"/>
            <a:chExt cx="650880" cy="412560"/>
          </a:xfrm>
        </p:grpSpPr>
        <p:sp>
          <p:nvSpPr>
            <p:cNvPr id="2024" name=""/>
            <p:cNvSpPr/>
            <p:nvPr/>
          </p:nvSpPr>
          <p:spPr>
            <a:xfrm>
              <a:off x="863640" y="3274560"/>
              <a:ext cx="1015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965160" y="3312720"/>
              <a:ext cx="18072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29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145880" y="3274560"/>
              <a:ext cx="1414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287360" y="3497040"/>
              <a:ext cx="22716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600" bIns="29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sy7"/>
                  <a:ea typeface="Arial"/>
                </a:rPr>
                <a:t>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863640" y="3273480"/>
              <a:ext cx="650880" cy="412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9" name=""/>
          <p:cNvGrpSpPr/>
          <p:nvPr/>
        </p:nvGrpSpPr>
        <p:grpSpPr>
          <a:xfrm>
            <a:off x="3781440" y="3417840"/>
            <a:ext cx="650880" cy="412920"/>
            <a:chOff x="3781440" y="3417840"/>
            <a:chExt cx="650880" cy="412920"/>
          </a:xfrm>
        </p:grpSpPr>
        <p:sp>
          <p:nvSpPr>
            <p:cNvPr id="2030" name=""/>
            <p:cNvSpPr/>
            <p:nvPr/>
          </p:nvSpPr>
          <p:spPr>
            <a:xfrm>
              <a:off x="3781440" y="341928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882960" y="345744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063680" y="341928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205160" y="3641760"/>
              <a:ext cx="227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sy7"/>
                  <a:ea typeface="Arial"/>
                </a:rPr>
                <a:t>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781440" y="3417840"/>
              <a:ext cx="65088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1305360" y="3688920"/>
            <a:ext cx="2472120" cy="2458800"/>
            <a:chOff x="1305360" y="3688920"/>
            <a:chExt cx="2472120" cy="2458800"/>
          </a:xfrm>
        </p:grpSpPr>
        <p:sp>
          <p:nvSpPr>
            <p:cNvPr id="2036" name=""/>
            <p:cNvSpPr/>
            <p:nvPr/>
          </p:nvSpPr>
          <p:spPr>
            <a:xfrm rot="13500000">
              <a:off x="884160" y="4818960"/>
              <a:ext cx="3263760" cy="160200"/>
            </a:xfrm>
            <a:prstGeom prst="rightArrow">
              <a:avLst>
                <a:gd name="adj1" fmla="val 26741"/>
                <a:gd name="adj2" fmla="val 12987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8900000">
              <a:off x="899280" y="4852080"/>
              <a:ext cx="3311280" cy="146160"/>
            </a:xfrm>
            <a:prstGeom prst="rightArrow">
              <a:avLst>
                <a:gd name="adj1" fmla="val 30435"/>
                <a:gd name="adj2" fmla="val 13572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8" name=""/>
          <p:cNvSpPr/>
          <p:nvPr/>
        </p:nvSpPr>
        <p:spPr>
          <a:xfrm flipV="1">
            <a:off x="2540880" y="3900240"/>
            <a:ext cx="1029600" cy="10360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5999040" y="4603680"/>
            <a:ext cx="2163960" cy="349200"/>
            <a:chOff x="5999040" y="4603680"/>
            <a:chExt cx="2163960" cy="349200"/>
          </a:xfrm>
        </p:grpSpPr>
        <p:sp>
          <p:nvSpPr>
            <p:cNvPr id="2040" name=""/>
            <p:cNvSpPr/>
            <p:nvPr/>
          </p:nvSpPr>
          <p:spPr>
            <a:xfrm>
              <a:off x="5999040" y="4627440"/>
              <a:ext cx="2365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P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237360" y="4716360"/>
              <a:ext cx="1364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373800" y="460512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[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470640" y="4627440"/>
              <a:ext cx="2887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mi10"/>
                  <a:ea typeface="Arial"/>
                </a:rPr>
                <a:t>X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883200" y="473868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251480" y="464184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426080" y="460512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]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619760" y="473868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988040" y="4641840"/>
              <a:ext cx="17496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999040" y="4603680"/>
              <a:ext cx="2162160" cy="3492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0" name=""/>
          <p:cNvGrpSpPr/>
          <p:nvPr/>
        </p:nvGrpSpPr>
        <p:grpSpPr>
          <a:xfrm>
            <a:off x="5999040" y="5095800"/>
            <a:ext cx="2163960" cy="349200"/>
            <a:chOff x="5999040" y="5095800"/>
            <a:chExt cx="2163960" cy="349200"/>
          </a:xfrm>
        </p:grpSpPr>
        <p:sp>
          <p:nvSpPr>
            <p:cNvPr id="2051" name=""/>
            <p:cNvSpPr/>
            <p:nvPr/>
          </p:nvSpPr>
          <p:spPr>
            <a:xfrm>
              <a:off x="5999040" y="5119560"/>
              <a:ext cx="2365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P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237360" y="5208480"/>
              <a:ext cx="1364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373800" y="509724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[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470640" y="5119560"/>
              <a:ext cx="2887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mi10"/>
                  <a:ea typeface="Arial"/>
                </a:rPr>
                <a:t>X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883200" y="523080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251480" y="513396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426080" y="509724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]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619760" y="523080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988040" y="5133960"/>
              <a:ext cx="17496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999040" y="5095800"/>
              <a:ext cx="2162160" cy="3492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6021360" y="3379680"/>
            <a:ext cx="2511360" cy="349200"/>
            <a:chOff x="6021360" y="3379680"/>
            <a:chExt cx="2511360" cy="349200"/>
          </a:xfrm>
        </p:grpSpPr>
        <p:sp>
          <p:nvSpPr>
            <p:cNvPr id="2062" name=""/>
            <p:cNvSpPr/>
            <p:nvPr/>
          </p:nvSpPr>
          <p:spPr>
            <a:xfrm>
              <a:off x="6021360" y="3403440"/>
              <a:ext cx="2365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P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259680" y="3492360"/>
              <a:ext cx="1364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396120" y="338112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[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492960" y="3403440"/>
              <a:ext cx="2887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mi10"/>
                  <a:ea typeface="Arial"/>
                </a:rPr>
                <a:t>X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905520" y="351468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273800" y="341784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448400" y="338112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]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642080" y="351468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8010360" y="3417840"/>
              <a:ext cx="17496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8185320" y="3381120"/>
              <a:ext cx="1746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mi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8358120" y="341784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21360" y="3379680"/>
              <a:ext cx="2511360" cy="3492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6021360" y="3824280"/>
            <a:ext cx="2511360" cy="349200"/>
            <a:chOff x="6021360" y="3824280"/>
            <a:chExt cx="2511360" cy="349200"/>
          </a:xfrm>
        </p:grpSpPr>
        <p:sp>
          <p:nvSpPr>
            <p:cNvPr id="2075" name=""/>
            <p:cNvSpPr/>
            <p:nvPr/>
          </p:nvSpPr>
          <p:spPr>
            <a:xfrm>
              <a:off x="6021360" y="3848040"/>
              <a:ext cx="2365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P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259680" y="3936960"/>
              <a:ext cx="1364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396120" y="382572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[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492960" y="3848040"/>
              <a:ext cx="2887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mi10"/>
                  <a:ea typeface="Arial"/>
                </a:rPr>
                <a:t>X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905520" y="395928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73800" y="386244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48400" y="382572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]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642080" y="395928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8010360" y="3862440"/>
              <a:ext cx="17496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8185320" y="3825720"/>
              <a:ext cx="1746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mi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8358120" y="386244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021360" y="3824280"/>
              <a:ext cx="2511360" cy="3492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7" name=""/>
          <p:cNvGrpSpPr/>
          <p:nvPr/>
        </p:nvGrpSpPr>
        <p:grpSpPr>
          <a:xfrm>
            <a:off x="2916360" y="4221000"/>
            <a:ext cx="5927400" cy="417600"/>
            <a:chOff x="2916360" y="4221000"/>
            <a:chExt cx="5927400" cy="417600"/>
          </a:xfrm>
        </p:grpSpPr>
        <p:sp>
          <p:nvSpPr>
            <p:cNvPr id="2088" name=""/>
            <p:cNvSpPr/>
            <p:nvPr/>
          </p:nvSpPr>
          <p:spPr>
            <a:xfrm>
              <a:off x="2916360" y="4437000"/>
              <a:ext cx="32544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5960" bIns="-86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332160" y="4335120"/>
              <a:ext cx="2430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575160" y="4317840"/>
              <a:ext cx="1220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575160" y="4539960"/>
              <a:ext cx="2584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851280" y="43131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976560" y="4335120"/>
              <a:ext cx="2682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271760" y="4341600"/>
              <a:ext cx="16056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538520" y="4313160"/>
              <a:ext cx="90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719600" y="4335120"/>
              <a:ext cx="252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971960" y="43131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187960" y="4236840"/>
              <a:ext cx="16020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348160" y="4246200"/>
              <a:ext cx="25884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sy7"/>
                </a:rPr>
                <a:t>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607000" y="4236840"/>
              <a:ext cx="2588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400720" y="440028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0840" bIns="-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¼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956200" y="4416120"/>
              <a:ext cx="1954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224400" y="4412880"/>
              <a:ext cx="9072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640" bIns="-34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¢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386400" y="4335120"/>
              <a:ext cx="2430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629400" y="43131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756480" y="4335120"/>
              <a:ext cx="2682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024680" y="4456080"/>
              <a:ext cx="921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223040" y="4313160"/>
              <a:ext cx="903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404120" y="4335120"/>
              <a:ext cx="252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r10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656480" y="4456080"/>
              <a:ext cx="921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7764480" y="43131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7981920" y="4349520"/>
              <a:ext cx="2523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42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324640" y="4416120"/>
              <a:ext cx="1954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8518320" y="4313160"/>
              <a:ext cx="162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mi10"/>
                </a:rPr>
                <a:t>=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682120" y="4348080"/>
              <a:ext cx="1616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r10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2916360" y="4221000"/>
              <a:ext cx="5927400" cy="4176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274680" y="2852640"/>
            <a:ext cx="2209680" cy="3078360"/>
            <a:chOff x="274680" y="2852640"/>
            <a:chExt cx="2209680" cy="3078360"/>
          </a:xfrm>
        </p:grpSpPr>
        <p:sp>
          <p:nvSpPr>
            <p:cNvPr id="2118" name=""/>
            <p:cNvSpPr/>
            <p:nvPr/>
          </p:nvSpPr>
          <p:spPr>
            <a:xfrm>
              <a:off x="274680" y="285264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06600" y="2901960"/>
              <a:ext cx="2127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93880" y="294156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076400" y="2998800"/>
              <a:ext cx="165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743120" y="2970000"/>
              <a:ext cx="1080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849680" y="292104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955880" y="2970000"/>
              <a:ext cx="1364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092320" y="2921040"/>
              <a:ext cx="106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198880" y="297000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46040" y="3211560"/>
              <a:ext cx="136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82840" y="325764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95240" y="3387600"/>
              <a:ext cx="7632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917640" y="3257640"/>
              <a:ext cx="2127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128600" y="3211560"/>
              <a:ext cx="136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265400" y="3235320"/>
              <a:ext cx="1350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960560" y="3298680"/>
              <a:ext cx="1414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74680" y="351936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892080" y="5000400"/>
              <a:ext cx="76320" cy="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92080" y="511020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92080" y="521964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74680" y="591480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82600" y="2859120"/>
              <a:ext cx="2201760" cy="30718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Quantum Uncertainty Relation needed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2141" name=""/>
          <p:cNvGrpSpPr/>
          <p:nvPr/>
        </p:nvGrpSpPr>
        <p:grpSpPr>
          <a:xfrm>
            <a:off x="972360" y="3483720"/>
            <a:ext cx="611280" cy="610920"/>
            <a:chOff x="972360" y="3483720"/>
            <a:chExt cx="611280" cy="610920"/>
          </a:xfrm>
        </p:grpSpPr>
        <p:sp>
          <p:nvSpPr>
            <p:cNvPr id="2142" name=""/>
            <p:cNvSpPr/>
            <p:nvPr/>
          </p:nvSpPr>
          <p:spPr>
            <a:xfrm rot="2700000">
              <a:off x="1062000" y="3573000"/>
              <a:ext cx="43200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V="1">
              <a:off x="1163160" y="365004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H="1" flipV="1">
              <a:off x="1137600" y="364968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5" name=""/>
          <p:cNvGrpSpPr/>
          <p:nvPr/>
        </p:nvGrpSpPr>
        <p:grpSpPr>
          <a:xfrm>
            <a:off x="1062000" y="4038480"/>
            <a:ext cx="431640" cy="431640"/>
            <a:chOff x="1062000" y="4038480"/>
            <a:chExt cx="431640" cy="431640"/>
          </a:xfrm>
        </p:grpSpPr>
        <p:sp>
          <p:nvSpPr>
            <p:cNvPr id="2146" name=""/>
            <p:cNvSpPr/>
            <p:nvPr/>
          </p:nvSpPr>
          <p:spPr>
            <a:xfrm>
              <a:off x="1062000" y="403848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 flipV="1">
              <a:off x="1277280" y="405864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V="1">
              <a:off x="1141200" y="425376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9" name=""/>
          <p:cNvGrpSpPr/>
          <p:nvPr/>
        </p:nvGrpSpPr>
        <p:grpSpPr>
          <a:xfrm>
            <a:off x="414360" y="3573360"/>
            <a:ext cx="431640" cy="431640"/>
            <a:chOff x="414360" y="3573360"/>
            <a:chExt cx="431640" cy="431640"/>
          </a:xfrm>
        </p:grpSpPr>
        <p:sp>
          <p:nvSpPr>
            <p:cNvPr id="2150" name=""/>
            <p:cNvSpPr/>
            <p:nvPr/>
          </p:nvSpPr>
          <p:spPr>
            <a:xfrm>
              <a:off x="414360" y="357336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 flipV="1">
              <a:off x="629640" y="359352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V="1">
              <a:off x="493560" y="378864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324720" y="3955680"/>
            <a:ext cx="610560" cy="610560"/>
            <a:chOff x="324720" y="3955680"/>
            <a:chExt cx="610560" cy="610560"/>
          </a:xfrm>
        </p:grpSpPr>
        <p:sp>
          <p:nvSpPr>
            <p:cNvPr id="2154" name=""/>
            <p:cNvSpPr/>
            <p:nvPr/>
          </p:nvSpPr>
          <p:spPr>
            <a:xfrm rot="2700000">
              <a:off x="414000" y="404496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V="1">
              <a:off x="514800" y="412128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 flipV="1">
              <a:off x="489960" y="412092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7" name=""/>
          <p:cNvSpPr/>
          <p:nvPr/>
        </p:nvSpPr>
        <p:spPr>
          <a:xfrm>
            <a:off x="611280" y="3429000"/>
            <a:ext cx="6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593640" y="3914640"/>
            <a:ext cx="6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9" name=""/>
          <p:cNvGrpSpPr/>
          <p:nvPr/>
        </p:nvGrpSpPr>
        <p:grpSpPr>
          <a:xfrm>
            <a:off x="250920" y="6093000"/>
            <a:ext cx="2141280" cy="325440"/>
            <a:chOff x="250920" y="6093000"/>
            <a:chExt cx="2141280" cy="325440"/>
          </a:xfrm>
        </p:grpSpPr>
        <p:sp>
          <p:nvSpPr>
            <p:cNvPr id="2160" name=""/>
            <p:cNvSpPr/>
            <p:nvPr/>
          </p:nvSpPr>
          <p:spPr>
            <a:xfrm>
              <a:off x="250920" y="6116760"/>
              <a:ext cx="2426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95360" y="6289920"/>
              <a:ext cx="2584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70040" y="6094800"/>
              <a:ext cx="126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896760" y="6116760"/>
              <a:ext cx="2685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280880" y="6094800"/>
              <a:ext cx="90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461960" y="6116760"/>
              <a:ext cx="252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714320" y="609480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930320" y="6131160"/>
              <a:ext cx="2523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42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sy10"/>
                </a:rPr>
                <a:t>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238480" y="6112080"/>
              <a:ext cx="15372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50920" y="6093000"/>
              <a:ext cx="2139840" cy="325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0" name=""/>
          <p:cNvSpPr/>
          <p:nvPr/>
        </p:nvSpPr>
        <p:spPr>
          <a:xfrm>
            <a:off x="3422520" y="6213600"/>
            <a:ext cx="360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1" name=""/>
          <p:cNvGrpSpPr/>
          <p:nvPr/>
        </p:nvGrpSpPr>
        <p:grpSpPr>
          <a:xfrm>
            <a:off x="1854360" y="3573360"/>
            <a:ext cx="436320" cy="2287800"/>
            <a:chOff x="1854360" y="3573360"/>
            <a:chExt cx="436320" cy="2287800"/>
          </a:xfrm>
        </p:grpSpPr>
        <p:sp>
          <p:nvSpPr>
            <p:cNvPr id="2172" name=""/>
            <p:cNvSpPr/>
            <p:nvPr/>
          </p:nvSpPr>
          <p:spPr>
            <a:xfrm>
              <a:off x="1854360" y="3573360"/>
              <a:ext cx="43164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 flipV="1">
              <a:off x="2069640" y="3594240"/>
              <a:ext cx="1800" cy="3585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854360" y="405936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 flipV="1">
              <a:off x="2069640" y="407952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6" name=""/>
            <p:cNvGrpSpPr/>
            <p:nvPr/>
          </p:nvGrpSpPr>
          <p:grpSpPr>
            <a:xfrm>
              <a:off x="1859040" y="4518000"/>
              <a:ext cx="431640" cy="432000"/>
              <a:chOff x="1859040" y="4518000"/>
              <a:chExt cx="431640" cy="432000"/>
            </a:xfrm>
          </p:grpSpPr>
          <p:sp>
            <p:nvSpPr>
              <p:cNvPr id="2177" name=""/>
              <p:cNvSpPr/>
              <p:nvPr/>
            </p:nvSpPr>
            <p:spPr>
              <a:xfrm>
                <a:off x="1859040" y="4518000"/>
                <a:ext cx="431640" cy="43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H="1" flipV="1">
                <a:off x="2074320" y="4538880"/>
                <a:ext cx="1080" cy="35856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1859040" y="4975200"/>
              <a:ext cx="431640" cy="432000"/>
              <a:chOff x="1859040" y="4975200"/>
              <a:chExt cx="431640" cy="432000"/>
            </a:xfrm>
          </p:grpSpPr>
          <p:sp>
            <p:nvSpPr>
              <p:cNvPr id="2180" name=""/>
              <p:cNvSpPr/>
              <p:nvPr/>
            </p:nvSpPr>
            <p:spPr>
              <a:xfrm>
                <a:off x="1859040" y="4975200"/>
                <a:ext cx="431640" cy="43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H="1" flipV="1">
                <a:off x="2074320" y="4996080"/>
                <a:ext cx="1080" cy="35856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2" name=""/>
            <p:cNvGrpSpPr/>
            <p:nvPr/>
          </p:nvGrpSpPr>
          <p:grpSpPr>
            <a:xfrm>
              <a:off x="1859040" y="5429160"/>
              <a:ext cx="431640" cy="432000"/>
              <a:chOff x="1859040" y="5429160"/>
              <a:chExt cx="431640" cy="432000"/>
            </a:xfrm>
          </p:grpSpPr>
          <p:sp>
            <p:nvSpPr>
              <p:cNvPr id="2183" name=""/>
              <p:cNvSpPr/>
              <p:nvPr/>
            </p:nvSpPr>
            <p:spPr>
              <a:xfrm>
                <a:off x="1859040" y="5429160"/>
                <a:ext cx="431640" cy="43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 flipV="1">
                <a:off x="2074320" y="5450040"/>
                <a:ext cx="1080" cy="35856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85" name=""/>
          <p:cNvGrpSpPr/>
          <p:nvPr/>
        </p:nvGrpSpPr>
        <p:grpSpPr>
          <a:xfrm>
            <a:off x="2916360" y="3789360"/>
            <a:ext cx="2219040" cy="289080"/>
            <a:chOff x="2916360" y="3789360"/>
            <a:chExt cx="2219040" cy="289080"/>
          </a:xfrm>
        </p:grpSpPr>
        <p:sp>
          <p:nvSpPr>
            <p:cNvPr id="2186" name=""/>
            <p:cNvSpPr/>
            <p:nvPr/>
          </p:nvSpPr>
          <p:spPr>
            <a:xfrm>
              <a:off x="2916360" y="3794040"/>
              <a:ext cx="2682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186000" y="3915000"/>
              <a:ext cx="921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402000" y="3799080"/>
              <a:ext cx="9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492360" y="3875040"/>
              <a:ext cx="1810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673440" y="3789360"/>
              <a:ext cx="181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852720" y="3875040"/>
              <a:ext cx="1447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997440" y="3875040"/>
              <a:ext cx="1807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61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p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187880" y="3875040"/>
              <a:ext cx="144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332240" y="3875040"/>
              <a:ext cx="1810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511520" y="3789360"/>
              <a:ext cx="181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692600" y="3875040"/>
              <a:ext cx="144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836960" y="3875040"/>
              <a:ext cx="1810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008680" y="3816360"/>
              <a:ext cx="126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916360" y="3789360"/>
              <a:ext cx="2217600" cy="2890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3924360" y="5229360"/>
            <a:ext cx="3672000" cy="1152360"/>
          </a:xfrm>
          <a:prstGeom prst="wedgeRoundRectCallout">
            <a:avLst>
              <a:gd name="adj1" fmla="val -36898"/>
              <a:gd name="adj2" fmla="val -115013"/>
              <a:gd name="adj3" fmla="val 16667"/>
            </a:avLst>
          </a:prstGeom>
          <a:solidFill>
            <a:srgbClr val="9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1" name=""/>
          <p:cNvGrpSpPr/>
          <p:nvPr/>
        </p:nvGrpSpPr>
        <p:grpSpPr>
          <a:xfrm>
            <a:off x="4211640" y="5373720"/>
            <a:ext cx="2354400" cy="325440"/>
            <a:chOff x="4211640" y="5373720"/>
            <a:chExt cx="2354400" cy="325440"/>
          </a:xfrm>
        </p:grpSpPr>
        <p:sp>
          <p:nvSpPr>
            <p:cNvPr id="2202" name=""/>
            <p:cNvSpPr/>
            <p:nvPr/>
          </p:nvSpPr>
          <p:spPr>
            <a:xfrm>
              <a:off x="4211640" y="5419800"/>
              <a:ext cx="265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500720" y="5373720"/>
              <a:ext cx="903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7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675320" y="5487840"/>
              <a:ext cx="8892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757760" y="5521320"/>
              <a:ext cx="2476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4520" bIns="-82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094360" y="5419800"/>
              <a:ext cx="265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357880" y="5541840"/>
              <a:ext cx="1270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500800" y="5603760"/>
              <a:ext cx="8892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61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643720" y="5603760"/>
              <a:ext cx="88920" cy="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785200" y="5603760"/>
              <a:ext cx="88560" cy="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926320" y="5603760"/>
              <a:ext cx="88920" cy="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069240" y="5603760"/>
              <a:ext cx="8892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61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210360" y="5419800"/>
              <a:ext cx="265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475680" y="5537160"/>
              <a:ext cx="903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7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211640" y="5373720"/>
              <a:ext cx="2354400" cy="325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4213080" y="5877000"/>
            <a:ext cx="3203640" cy="279360"/>
            <a:chOff x="4213080" y="5877000"/>
            <a:chExt cx="3203640" cy="279360"/>
          </a:xfrm>
        </p:grpSpPr>
        <p:sp>
          <p:nvSpPr>
            <p:cNvPr id="2217" name=""/>
            <p:cNvSpPr/>
            <p:nvPr/>
          </p:nvSpPr>
          <p:spPr>
            <a:xfrm>
              <a:off x="4213080" y="5877000"/>
              <a:ext cx="265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570560" y="5945040"/>
              <a:ext cx="8892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653000" y="5978520"/>
              <a:ext cx="2476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4520" bIns="-82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989600" y="5877000"/>
              <a:ext cx="2649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278320" y="5883120"/>
              <a:ext cx="15732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5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540400" y="5978520"/>
              <a:ext cx="2476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4520" bIns="-82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878440" y="5877000"/>
              <a:ext cx="265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141960" y="5999040"/>
              <a:ext cx="1270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284880" y="6060960"/>
              <a:ext cx="8892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61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427800" y="6060960"/>
              <a:ext cx="88920" cy="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569280" y="6060960"/>
              <a:ext cx="88560" cy="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710400" y="6060960"/>
              <a:ext cx="88920" cy="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853320" y="6060960"/>
              <a:ext cx="8892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61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994440" y="5877000"/>
              <a:ext cx="265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257960" y="6046920"/>
              <a:ext cx="15732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5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213080" y="5877000"/>
              <a:ext cx="3203640" cy="279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2916360" y="3068640"/>
            <a:ext cx="2017080" cy="369720"/>
            <a:chOff x="2916360" y="3068640"/>
            <a:chExt cx="2017080" cy="369720"/>
          </a:xfrm>
        </p:grpSpPr>
        <p:sp>
          <p:nvSpPr>
            <p:cNvPr id="2234" name=""/>
            <p:cNvSpPr/>
            <p:nvPr/>
          </p:nvSpPr>
          <p:spPr>
            <a:xfrm>
              <a:off x="2916360" y="3119040"/>
              <a:ext cx="232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3149280" y="3098520"/>
              <a:ext cx="12024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271680" y="3119040"/>
              <a:ext cx="25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mi10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528720" y="3234960"/>
              <a:ext cx="871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719160" y="3098520"/>
              <a:ext cx="856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sy10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890880" y="3119040"/>
              <a:ext cx="2408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133520" y="3234960"/>
              <a:ext cx="871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236840" y="3098520"/>
              <a:ext cx="12024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444920" y="3133440"/>
              <a:ext cx="24084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200" bIns="40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sy10"/>
                </a:rPr>
                <a:t>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809960" y="3068640"/>
              <a:ext cx="123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802040" y="3252600"/>
              <a:ext cx="1234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809960" y="3298680"/>
              <a:ext cx="123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r7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916360" y="3068640"/>
              <a:ext cx="2015640" cy="3697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7" name=""/>
          <p:cNvSpPr/>
          <p:nvPr/>
        </p:nvSpPr>
        <p:spPr>
          <a:xfrm>
            <a:off x="3343320" y="1906560"/>
            <a:ext cx="178920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8" name=""/>
          <p:cNvGrpSpPr/>
          <p:nvPr/>
        </p:nvGrpSpPr>
        <p:grpSpPr>
          <a:xfrm>
            <a:off x="539640" y="1076400"/>
            <a:ext cx="7728120" cy="1560240"/>
            <a:chOff x="539640" y="1076400"/>
            <a:chExt cx="7728120" cy="1560240"/>
          </a:xfrm>
        </p:grpSpPr>
        <p:sp>
          <p:nvSpPr>
            <p:cNvPr id="2249" name=""/>
            <p:cNvSpPr/>
            <p:nvPr/>
          </p:nvSpPr>
          <p:spPr>
            <a:xfrm>
              <a:off x="539640" y="1079640"/>
              <a:ext cx="292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830160" y="1144440"/>
              <a:ext cx="1494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979560" y="1144440"/>
              <a:ext cx="1490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128600" y="114444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251000" y="114444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371600" y="1144440"/>
              <a:ext cx="1411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512720" y="11444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785960" y="1079640"/>
              <a:ext cx="236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020680" y="1077840"/>
              <a:ext cx="255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±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278080" y="11444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448000" y="1077840"/>
              <a:ext cx="1620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k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712960" y="1090440"/>
              <a:ext cx="154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867040" y="1090440"/>
              <a:ext cx="154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019320" y="1144440"/>
              <a:ext cx="856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360600" y="1081080"/>
              <a:ext cx="166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527280" y="114768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646440" y="109836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838680" y="1147680"/>
              <a:ext cx="1378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976560" y="1179360"/>
              <a:ext cx="763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154400" y="107784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309920" y="114768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518000" y="1147680"/>
              <a:ext cx="133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741920" y="1090440"/>
              <a:ext cx="13320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875120" y="1147680"/>
              <a:ext cx="889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964040" y="1147680"/>
              <a:ext cx="1414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q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105520" y="114768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253120" y="107784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400720" y="108432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475240" y="109836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668920" y="114768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773680" y="109836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878440" y="114768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012000" y="1098360"/>
              <a:ext cx="1029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114960" y="114768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234120" y="123516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39640" y="140004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45920" y="1500120"/>
              <a:ext cx="763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09720" y="1438200"/>
              <a:ext cx="177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92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087560" y="1495440"/>
              <a:ext cx="16020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336680" y="1380960"/>
              <a:ext cx="1332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471680" y="142560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677960" y="1554120"/>
              <a:ext cx="74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797120" y="142560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2004840" y="1380960"/>
              <a:ext cx="1335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138400" y="1554120"/>
              <a:ext cx="74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301840" y="140004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522520" y="1500120"/>
              <a:ext cx="763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700360" y="1417680"/>
              <a:ext cx="1029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805120" y="139680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952720" y="146664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160800" y="1466640"/>
              <a:ext cx="133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3294000" y="14666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443400" y="1417680"/>
              <a:ext cx="1029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3546360" y="146664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3665520" y="1466640"/>
              <a:ext cx="133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3798720" y="1466640"/>
              <a:ext cx="222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021200" y="1466640"/>
              <a:ext cx="1188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228920" y="146664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362480" y="1396800"/>
              <a:ext cx="810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533840" y="1466640"/>
              <a:ext cx="2221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755960" y="146664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875120" y="146664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008680" y="14666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113440" y="14666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262480" y="14666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367240" y="140328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440320" y="14666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589720" y="1466640"/>
              <a:ext cx="1332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811840" y="1466640"/>
              <a:ext cx="13824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950080" y="1500120"/>
              <a:ext cx="759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127560" y="1403280"/>
              <a:ext cx="74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202440" y="14666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438960" y="139680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588000" y="146664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721560" y="14666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826320" y="140328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900840" y="14666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095960" y="140004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302600" y="1500120"/>
              <a:ext cx="759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391520" y="155412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585200" y="1400040"/>
              <a:ext cx="193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778880" y="139680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926480" y="1466640"/>
              <a:ext cx="1188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045280" y="14666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192880" y="1554120"/>
              <a:ext cx="74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405080" y="1989000"/>
              <a:ext cx="199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04880" y="1969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708200" y="19890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930320" y="20876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093760" y="1969920"/>
              <a:ext cx="748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241360" y="198900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449440" y="20876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538360" y="1969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716200" y="2073240"/>
              <a:ext cx="20808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3030480" y="194472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022560" y="2103480"/>
              <a:ext cx="10620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3030480" y="214308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3168720" y="1942920"/>
              <a:ext cx="1220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0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¡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3335400" y="1989000"/>
              <a:ext cx="199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3535200" y="1969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639960" y="19890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860640" y="20876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024440" y="196992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173480" y="198900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379760" y="20876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543560" y="2073240"/>
              <a:ext cx="20772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825800" y="2014560"/>
              <a:ext cx="2080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033880" y="1969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195880" y="2014560"/>
              <a:ext cx="2080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464080" y="1989000"/>
              <a:ext cx="2001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664240" y="196992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767200" y="19890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989680" y="2087640"/>
              <a:ext cx="7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151680" y="196992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300720" y="198900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508800" y="2087640"/>
              <a:ext cx="7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672240" y="2073240"/>
              <a:ext cx="20808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953400" y="201456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161120" y="1969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335400" y="23162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|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3448080" y="2332080"/>
              <a:ext cx="1724040" cy="0"/>
            </a:xfrm>
            <a:prstGeom prst="line">
              <a:avLst/>
            </a:prstGeom>
            <a:ln w="32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180040" y="23162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{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300640" y="23162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z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413320" y="2332080"/>
              <a:ext cx="1724040" cy="0"/>
            </a:xfrm>
            <a:prstGeom prst="line">
              <a:avLst/>
            </a:prstGeom>
            <a:ln w="32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145280" y="23162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}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164200" y="2475000"/>
              <a:ext cx="16668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6720" bIns="331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sy7"/>
                </a:rPr>
                <a:t>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330880" y="2482920"/>
              <a:ext cx="10620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308720" y="1942920"/>
              <a:ext cx="1224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0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¢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505640" y="2000160"/>
              <a:ext cx="2080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9920" bIns="34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819920" y="194472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812000" y="2103480"/>
              <a:ext cx="1065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819920" y="214308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958160" y="214308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39640" y="1076400"/>
              <a:ext cx="7728120" cy="15602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3" name=""/>
          <p:cNvGrpSpPr/>
          <p:nvPr/>
        </p:nvGrpSpPr>
        <p:grpSpPr>
          <a:xfrm>
            <a:off x="1711440" y="3578400"/>
            <a:ext cx="665280" cy="2260440"/>
            <a:chOff x="1711440" y="3578400"/>
            <a:chExt cx="665280" cy="2260440"/>
          </a:xfrm>
        </p:grpSpPr>
        <p:grpSp>
          <p:nvGrpSpPr>
            <p:cNvPr id="2384" name=""/>
            <p:cNvGrpSpPr/>
            <p:nvPr/>
          </p:nvGrpSpPr>
          <p:grpSpPr>
            <a:xfrm>
              <a:off x="1711440" y="4010040"/>
              <a:ext cx="647280" cy="431640"/>
              <a:chOff x="1711440" y="4010040"/>
              <a:chExt cx="647280" cy="431640"/>
            </a:xfrm>
          </p:grpSpPr>
          <p:sp>
            <p:nvSpPr>
              <p:cNvPr id="2385" name=""/>
              <p:cNvSpPr/>
              <p:nvPr/>
            </p:nvSpPr>
            <p:spPr>
              <a:xfrm>
                <a:off x="1711440" y="4010040"/>
                <a:ext cx="64728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H="1" flipV="1">
                <a:off x="2034360" y="4030200"/>
                <a:ext cx="252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V="1">
                <a:off x="1830240" y="4226040"/>
                <a:ext cx="4788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V="1">
                <a:off x="1858680" y="4029480"/>
                <a:ext cx="376560" cy="376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 flipV="1">
                <a:off x="1883880" y="4095000"/>
                <a:ext cx="263160" cy="2491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0" name=""/>
            <p:cNvGrpSpPr/>
            <p:nvPr/>
          </p:nvGrpSpPr>
          <p:grpSpPr>
            <a:xfrm>
              <a:off x="1770480" y="4369680"/>
              <a:ext cx="602280" cy="618480"/>
              <a:chOff x="1770480" y="4369680"/>
              <a:chExt cx="602280" cy="618480"/>
            </a:xfrm>
          </p:grpSpPr>
          <p:sp>
            <p:nvSpPr>
              <p:cNvPr id="2391" name=""/>
              <p:cNvSpPr/>
              <p:nvPr/>
            </p:nvSpPr>
            <p:spPr>
              <a:xfrm rot="19923600">
                <a:off x="1855440" y="4443120"/>
                <a:ext cx="431640" cy="4712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H="1" flipV="1">
                <a:off x="1971000" y="4490640"/>
                <a:ext cx="185040" cy="345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V="1">
                <a:off x="1951560" y="4593600"/>
                <a:ext cx="281520" cy="150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V="1">
                <a:off x="2022120" y="4497480"/>
                <a:ext cx="104400" cy="339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flipH="1" flipV="1">
                <a:off x="1866600" y="4623840"/>
                <a:ext cx="380160" cy="109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6" name=""/>
            <p:cNvSpPr/>
            <p:nvPr/>
          </p:nvSpPr>
          <p:spPr>
            <a:xfrm>
              <a:off x="1855800" y="357840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 flipV="1">
              <a:off x="2071800" y="359856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 rot="2700000">
              <a:off x="1855080" y="494676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 flipV="1">
              <a:off x="1931760" y="5024160"/>
              <a:ext cx="260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0" name=""/>
            <p:cNvGrpSpPr/>
            <p:nvPr/>
          </p:nvGrpSpPr>
          <p:grpSpPr>
            <a:xfrm>
              <a:off x="1855800" y="5407200"/>
              <a:ext cx="431640" cy="431640"/>
              <a:chOff x="1855800" y="5407200"/>
              <a:chExt cx="431640" cy="431640"/>
            </a:xfrm>
          </p:grpSpPr>
          <p:sp>
            <p:nvSpPr>
              <p:cNvPr id="2401" name=""/>
              <p:cNvSpPr/>
              <p:nvPr/>
            </p:nvSpPr>
            <p:spPr>
              <a:xfrm>
                <a:off x="1855800" y="540720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H="1" flipV="1">
                <a:off x="2071080" y="542736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1935000" y="562320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V="1">
                <a:off x="1953720" y="548928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H="1" flipV="1">
                <a:off x="1928520" y="549108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6" name=""/>
          <p:cNvSpPr/>
          <p:nvPr/>
        </p:nvSpPr>
        <p:spPr>
          <a:xfrm>
            <a:off x="5580000" y="2708280"/>
            <a:ext cx="3313080" cy="649440"/>
          </a:xfrm>
          <a:prstGeom prst="wedgeRoundRectCallout">
            <a:avLst>
              <a:gd name="adj1" fmla="val -106111"/>
              <a:gd name="adj2" fmla="val 192787"/>
              <a:gd name="adj3" fmla="val 16667"/>
            </a:avLst>
          </a:prstGeom>
          <a:solidFill>
            <a:srgbClr val="9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7" name=""/>
          <p:cNvGrpSpPr/>
          <p:nvPr/>
        </p:nvGrpSpPr>
        <p:grpSpPr>
          <a:xfrm>
            <a:off x="5724360" y="2924280"/>
            <a:ext cx="3013200" cy="284040"/>
            <a:chOff x="5724360" y="2924280"/>
            <a:chExt cx="3013200" cy="284040"/>
          </a:xfrm>
        </p:grpSpPr>
        <p:sp>
          <p:nvSpPr>
            <p:cNvPr id="2408" name=""/>
            <p:cNvSpPr/>
            <p:nvPr/>
          </p:nvSpPr>
          <p:spPr>
            <a:xfrm>
              <a:off x="5724360" y="3008520"/>
              <a:ext cx="1414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865840" y="3008520"/>
              <a:ext cx="1681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033960" y="3008520"/>
              <a:ext cx="1414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176880" y="3008520"/>
              <a:ext cx="1414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318360" y="3008520"/>
              <a:ext cx="17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61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496200" y="2949840"/>
              <a:ext cx="1238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5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726240" y="3008520"/>
              <a:ext cx="230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w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956280" y="2932200"/>
              <a:ext cx="889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045200" y="2949840"/>
              <a:ext cx="1238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5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169040" y="2924280"/>
              <a:ext cx="1778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453440" y="3008520"/>
              <a:ext cx="17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61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629480" y="3008520"/>
              <a:ext cx="1256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r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7755120" y="3008520"/>
              <a:ext cx="1602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o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7913520" y="2924280"/>
              <a:ext cx="1778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197920" y="2943360"/>
              <a:ext cx="247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42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sy10"/>
                </a:rPr>
                <a:t>·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8588520" y="3008520"/>
              <a:ext cx="149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mi10"/>
                </a:rPr>
                <a:t>"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724360" y="2924280"/>
              <a:ext cx="3013200" cy="2840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5" name=""/>
          <p:cNvGrpSpPr/>
          <p:nvPr/>
        </p:nvGrpSpPr>
        <p:grpSpPr>
          <a:xfrm>
            <a:off x="274680" y="2852640"/>
            <a:ext cx="2209680" cy="3078360"/>
            <a:chOff x="274680" y="2852640"/>
            <a:chExt cx="2209680" cy="3078360"/>
          </a:xfrm>
        </p:grpSpPr>
        <p:sp>
          <p:nvSpPr>
            <p:cNvPr id="2426" name=""/>
            <p:cNvSpPr/>
            <p:nvPr/>
          </p:nvSpPr>
          <p:spPr>
            <a:xfrm>
              <a:off x="274680" y="285264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06600" y="2901960"/>
              <a:ext cx="2127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93880" y="294156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1076400" y="2998800"/>
              <a:ext cx="165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1743120" y="2970000"/>
              <a:ext cx="1080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849680" y="292104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955880" y="2970000"/>
              <a:ext cx="1364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092320" y="2921040"/>
              <a:ext cx="106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198880" y="297000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46040" y="3211560"/>
              <a:ext cx="136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82840" y="325764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95240" y="3387600"/>
              <a:ext cx="7632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917640" y="3257640"/>
              <a:ext cx="2127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128600" y="3211560"/>
              <a:ext cx="136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1265400" y="3235320"/>
              <a:ext cx="1350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1960560" y="3298680"/>
              <a:ext cx="1414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274680" y="351936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892080" y="5000400"/>
              <a:ext cx="76320" cy="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892080" y="511020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92080" y="521964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74680" y="591480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282600" y="2859120"/>
              <a:ext cx="2201760" cy="30718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8" name=""/>
          <p:cNvSpPr/>
          <p:nvPr/>
        </p:nvSpPr>
        <p:spPr>
          <a:xfrm>
            <a:off x="1668600" y="3213000"/>
            <a:ext cx="718920" cy="18716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54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Main Result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324000" y="1341360"/>
            <a:ext cx="431640" cy="431640"/>
            <a:chOff x="324000" y="1341360"/>
            <a:chExt cx="431640" cy="431640"/>
          </a:xfrm>
        </p:grpSpPr>
        <p:sp>
          <p:nvSpPr>
            <p:cNvPr id="2451" name=""/>
            <p:cNvSpPr/>
            <p:nvPr/>
          </p:nvSpPr>
          <p:spPr>
            <a:xfrm>
              <a:off x="324000" y="134136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H="1" flipV="1">
              <a:off x="539280" y="136152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V="1">
              <a:off x="403200" y="155664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234000" y="1701360"/>
            <a:ext cx="610920" cy="610560"/>
            <a:chOff x="234000" y="1701360"/>
            <a:chExt cx="610920" cy="610560"/>
          </a:xfrm>
        </p:grpSpPr>
        <p:sp>
          <p:nvSpPr>
            <p:cNvPr id="2455" name=""/>
            <p:cNvSpPr/>
            <p:nvPr/>
          </p:nvSpPr>
          <p:spPr>
            <a:xfrm rot="2700000">
              <a:off x="323280" y="179064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V="1">
              <a:off x="424440" y="186732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 flipV="1">
              <a:off x="399600" y="186696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972360" y="3483720"/>
            <a:ext cx="611280" cy="610920"/>
            <a:chOff x="972360" y="3483720"/>
            <a:chExt cx="611280" cy="610920"/>
          </a:xfrm>
        </p:grpSpPr>
        <p:sp>
          <p:nvSpPr>
            <p:cNvPr id="2459" name=""/>
            <p:cNvSpPr/>
            <p:nvPr/>
          </p:nvSpPr>
          <p:spPr>
            <a:xfrm rot="2700000">
              <a:off x="1062000" y="3573000"/>
              <a:ext cx="43200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V="1">
              <a:off x="1163160" y="365004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 flipV="1">
              <a:off x="1137600" y="364968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1062000" y="4038480"/>
            <a:ext cx="431640" cy="431640"/>
            <a:chOff x="1062000" y="4038480"/>
            <a:chExt cx="431640" cy="431640"/>
          </a:xfrm>
        </p:grpSpPr>
        <p:sp>
          <p:nvSpPr>
            <p:cNvPr id="2463" name=""/>
            <p:cNvSpPr/>
            <p:nvPr/>
          </p:nvSpPr>
          <p:spPr>
            <a:xfrm>
              <a:off x="1062000" y="403848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 flipV="1">
              <a:off x="1277280" y="405864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1141200" y="425376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6" name=""/>
          <p:cNvGrpSpPr/>
          <p:nvPr/>
        </p:nvGrpSpPr>
        <p:grpSpPr>
          <a:xfrm>
            <a:off x="414360" y="3573360"/>
            <a:ext cx="431640" cy="431640"/>
            <a:chOff x="414360" y="3573360"/>
            <a:chExt cx="431640" cy="431640"/>
          </a:xfrm>
        </p:grpSpPr>
        <p:sp>
          <p:nvSpPr>
            <p:cNvPr id="2467" name=""/>
            <p:cNvSpPr/>
            <p:nvPr/>
          </p:nvSpPr>
          <p:spPr>
            <a:xfrm>
              <a:off x="414360" y="357336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H="1" flipV="1">
              <a:off x="629640" y="359352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V="1">
              <a:off x="493560" y="378864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0" name=""/>
          <p:cNvGrpSpPr/>
          <p:nvPr/>
        </p:nvGrpSpPr>
        <p:grpSpPr>
          <a:xfrm>
            <a:off x="324720" y="3955680"/>
            <a:ext cx="610560" cy="610560"/>
            <a:chOff x="324720" y="3955680"/>
            <a:chExt cx="610560" cy="610560"/>
          </a:xfrm>
        </p:grpSpPr>
        <p:sp>
          <p:nvSpPr>
            <p:cNvPr id="2471" name=""/>
            <p:cNvSpPr/>
            <p:nvPr/>
          </p:nvSpPr>
          <p:spPr>
            <a:xfrm rot="2700000">
              <a:off x="414000" y="404496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V="1">
              <a:off x="514800" y="412128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 flipV="1">
              <a:off x="489960" y="412092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611280" y="3429000"/>
            <a:ext cx="6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593640" y="3914640"/>
            <a:ext cx="6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6" name=""/>
          <p:cNvGrpSpPr/>
          <p:nvPr/>
        </p:nvGrpSpPr>
        <p:grpSpPr>
          <a:xfrm>
            <a:off x="250920" y="6093000"/>
            <a:ext cx="2141280" cy="325440"/>
            <a:chOff x="250920" y="6093000"/>
            <a:chExt cx="2141280" cy="325440"/>
          </a:xfrm>
        </p:grpSpPr>
        <p:sp>
          <p:nvSpPr>
            <p:cNvPr id="2477" name=""/>
            <p:cNvSpPr/>
            <p:nvPr/>
          </p:nvSpPr>
          <p:spPr>
            <a:xfrm>
              <a:off x="250920" y="6116760"/>
              <a:ext cx="2426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95360" y="6289920"/>
              <a:ext cx="2584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70040" y="6094800"/>
              <a:ext cx="126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896760" y="6116760"/>
              <a:ext cx="2685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280880" y="6094800"/>
              <a:ext cx="90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461960" y="6116760"/>
              <a:ext cx="252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714320" y="609480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930320" y="6131160"/>
              <a:ext cx="2523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42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sy10"/>
                </a:rPr>
                <a:t>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238480" y="6112080"/>
              <a:ext cx="15372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250920" y="6093000"/>
              <a:ext cx="2139840" cy="325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7" name=""/>
          <p:cNvSpPr/>
          <p:nvPr/>
        </p:nvSpPr>
        <p:spPr>
          <a:xfrm>
            <a:off x="3422520" y="6213600"/>
            <a:ext cx="360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8" name=""/>
          <p:cNvGrpSpPr/>
          <p:nvPr/>
        </p:nvGrpSpPr>
        <p:grpSpPr>
          <a:xfrm>
            <a:off x="826920" y="1197000"/>
            <a:ext cx="7728120" cy="1560240"/>
            <a:chOff x="826920" y="1197000"/>
            <a:chExt cx="7728120" cy="1560240"/>
          </a:xfrm>
        </p:grpSpPr>
        <p:sp>
          <p:nvSpPr>
            <p:cNvPr id="2489" name=""/>
            <p:cNvSpPr/>
            <p:nvPr/>
          </p:nvSpPr>
          <p:spPr>
            <a:xfrm>
              <a:off x="826920" y="1200240"/>
              <a:ext cx="292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117440" y="1265040"/>
              <a:ext cx="1494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266840" y="1265040"/>
              <a:ext cx="1490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415880" y="126504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538280" y="126504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658880" y="1265040"/>
              <a:ext cx="1411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800000" y="12650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073240" y="1200240"/>
              <a:ext cx="236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307960" y="1198440"/>
              <a:ext cx="255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±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65360" y="12650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735280" y="1198440"/>
              <a:ext cx="1620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k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000240" y="1211040"/>
              <a:ext cx="154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154320" y="1211040"/>
              <a:ext cx="154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306600" y="1265040"/>
              <a:ext cx="856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647880" y="1201680"/>
              <a:ext cx="166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814560" y="126828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933720" y="121896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125960" y="1268280"/>
              <a:ext cx="1378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263840" y="1299960"/>
              <a:ext cx="763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4441680" y="119844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4597200" y="126828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4805280" y="1268280"/>
              <a:ext cx="133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029200" y="1211040"/>
              <a:ext cx="13320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162400" y="1268280"/>
              <a:ext cx="889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251320" y="1268280"/>
              <a:ext cx="1414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q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392800" y="126828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540400" y="119844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688000" y="120492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762520" y="121896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956200" y="126828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060960" y="121896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165720" y="126828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299280" y="1218960"/>
              <a:ext cx="1029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402240" y="126828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521400" y="135576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826920" y="152064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033200" y="1620720"/>
              <a:ext cx="763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197000" y="1558800"/>
              <a:ext cx="177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92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1374840" y="1616040"/>
              <a:ext cx="16020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623960" y="1501560"/>
              <a:ext cx="1332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758960" y="154620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965240" y="1674720"/>
              <a:ext cx="74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2084400" y="154620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292120" y="1501560"/>
              <a:ext cx="1335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425680" y="1674720"/>
              <a:ext cx="74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589120" y="152064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809800" y="1620720"/>
              <a:ext cx="763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987640" y="1538280"/>
              <a:ext cx="1029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3092400" y="151740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3240000" y="158724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448080" y="1587240"/>
              <a:ext cx="133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581280" y="15872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3730680" y="1538280"/>
              <a:ext cx="1029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833640" y="158724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952800" y="1587240"/>
              <a:ext cx="133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4086000" y="1587240"/>
              <a:ext cx="222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4308480" y="1587240"/>
              <a:ext cx="1188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4516200" y="158724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649760" y="1517400"/>
              <a:ext cx="810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821120" y="1587240"/>
              <a:ext cx="2221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043240" y="158724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162400" y="158724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295960" y="15872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400720" y="15872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549760" y="15872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654520" y="152388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727600" y="15872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877000" y="1587240"/>
              <a:ext cx="1332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099120" y="1587240"/>
              <a:ext cx="13824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237360" y="1620720"/>
              <a:ext cx="759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414840" y="1523880"/>
              <a:ext cx="74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489720" y="15872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726240" y="151740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875280" y="158724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008840" y="15872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113600" y="152388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188120" y="15872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383240" y="152064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7589880" y="1620720"/>
              <a:ext cx="759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78800" y="167472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872480" y="1520640"/>
              <a:ext cx="193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8066160" y="151740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8213760" y="1587240"/>
              <a:ext cx="1188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8332560" y="15872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8480160" y="1674720"/>
              <a:ext cx="74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728720" y="2109600"/>
              <a:ext cx="2001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928880" y="209052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033640" y="21096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254320" y="2208240"/>
              <a:ext cx="7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417760" y="209052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565360" y="210960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773440" y="2208240"/>
              <a:ext cx="7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862000" y="20905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039840" y="2193840"/>
              <a:ext cx="20808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3354480" y="2065320"/>
              <a:ext cx="106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346200" y="2224080"/>
              <a:ext cx="10800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354480" y="2263680"/>
              <a:ext cx="106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494160" y="2063520"/>
              <a:ext cx="1220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0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¡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3660840" y="2109600"/>
              <a:ext cx="199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860640" y="20905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3963960" y="21096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186080" y="22082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348080" y="209052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497480" y="2109600"/>
              <a:ext cx="207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705200" y="22082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868640" y="2193840"/>
              <a:ext cx="20808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149800" y="2135160"/>
              <a:ext cx="2080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357880" y="209052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521320" y="213516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788080" y="2109600"/>
              <a:ext cx="199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987880" y="20905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092640" y="21096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313320" y="22082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476760" y="2090520"/>
              <a:ext cx="748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624720" y="2109600"/>
              <a:ext cx="207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832440" y="22082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995880" y="2193840"/>
              <a:ext cx="20808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277040" y="2135160"/>
              <a:ext cx="2080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485120" y="209052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660840" y="24368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|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773520" y="2452680"/>
              <a:ext cx="1724040" cy="0"/>
            </a:xfrm>
            <a:prstGeom prst="line">
              <a:avLst/>
            </a:prstGeom>
            <a:ln w="32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505480" y="24368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{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624280" y="2436840"/>
              <a:ext cx="1209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z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736960" y="2452680"/>
              <a:ext cx="1724040" cy="0"/>
            </a:xfrm>
            <a:prstGeom prst="line">
              <a:avLst/>
            </a:prstGeom>
            <a:ln w="32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469280" y="24368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}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487840" y="2595600"/>
              <a:ext cx="16668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6720" bIns="331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sy7"/>
                </a:rPr>
                <a:t>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654520" y="2603520"/>
              <a:ext cx="10656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7634160" y="2063520"/>
              <a:ext cx="1224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0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¢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7756560" y="2120760"/>
              <a:ext cx="20772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9920" bIns="34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cmsy10"/>
                </a:rPr>
                <a:t>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8070840" y="2065320"/>
              <a:ext cx="106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8062920" y="2224080"/>
              <a:ext cx="106200" cy="0"/>
            </a:xfrm>
            <a:prstGeom prst="line">
              <a:avLst/>
            </a:prstGeom>
            <a:ln w="108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8070840" y="2263680"/>
              <a:ext cx="106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cmr7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8208720" y="2263680"/>
              <a:ext cx="7488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826920" y="1197000"/>
              <a:ext cx="7728120" cy="15602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3" name=""/>
          <p:cNvGrpSpPr/>
          <p:nvPr/>
        </p:nvGrpSpPr>
        <p:grpSpPr>
          <a:xfrm>
            <a:off x="1709640" y="4048200"/>
            <a:ext cx="647280" cy="431640"/>
            <a:chOff x="1709640" y="4048200"/>
            <a:chExt cx="647280" cy="431640"/>
          </a:xfrm>
        </p:grpSpPr>
        <p:sp>
          <p:nvSpPr>
            <p:cNvPr id="2624" name=""/>
            <p:cNvSpPr/>
            <p:nvPr/>
          </p:nvSpPr>
          <p:spPr>
            <a:xfrm>
              <a:off x="1709640" y="4048200"/>
              <a:ext cx="647280" cy="431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 flipH="1" flipV="1">
              <a:off x="2032560" y="4068360"/>
              <a:ext cx="2520" cy="358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 flipV="1">
              <a:off x="1828440" y="4264200"/>
              <a:ext cx="478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 flipV="1">
              <a:off x="1856880" y="4067640"/>
              <a:ext cx="376560" cy="376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 flipH="1" flipV="1">
              <a:off x="1882080" y="4133160"/>
              <a:ext cx="263160" cy="249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9" name=""/>
          <p:cNvGrpSpPr/>
          <p:nvPr/>
        </p:nvGrpSpPr>
        <p:grpSpPr>
          <a:xfrm>
            <a:off x="1769040" y="4407840"/>
            <a:ext cx="601920" cy="618480"/>
            <a:chOff x="1769040" y="4407840"/>
            <a:chExt cx="601920" cy="618480"/>
          </a:xfrm>
        </p:grpSpPr>
        <p:sp>
          <p:nvSpPr>
            <p:cNvPr id="2630" name=""/>
            <p:cNvSpPr/>
            <p:nvPr/>
          </p:nvSpPr>
          <p:spPr>
            <a:xfrm rot="19923600">
              <a:off x="1854000" y="4481280"/>
              <a:ext cx="431640" cy="470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 flipH="1" flipV="1">
              <a:off x="1969920" y="4528800"/>
              <a:ext cx="185040" cy="345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V="1">
              <a:off x="1950480" y="4631760"/>
              <a:ext cx="281160" cy="15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V="1">
              <a:off x="2020680" y="4535280"/>
              <a:ext cx="104400" cy="339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H="1" flipV="1">
              <a:off x="1865880" y="4662000"/>
              <a:ext cx="379800" cy="109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5" name=""/>
          <p:cNvSpPr/>
          <p:nvPr/>
        </p:nvSpPr>
        <p:spPr>
          <a:xfrm>
            <a:off x="1836720" y="5445000"/>
            <a:ext cx="4316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 flipH="1" flipV="1">
            <a:off x="2052720" y="5465880"/>
            <a:ext cx="1440" cy="3585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 rot="2700000">
            <a:off x="1854000" y="498492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 flipH="1" flipV="1">
            <a:off x="1930320" y="5062320"/>
            <a:ext cx="260640" cy="2512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9" name=""/>
          <p:cNvGrpSpPr/>
          <p:nvPr/>
        </p:nvGrpSpPr>
        <p:grpSpPr>
          <a:xfrm>
            <a:off x="1816200" y="3573360"/>
            <a:ext cx="431640" cy="431640"/>
            <a:chOff x="1816200" y="3573360"/>
            <a:chExt cx="431640" cy="431640"/>
          </a:xfrm>
        </p:grpSpPr>
        <p:sp>
          <p:nvSpPr>
            <p:cNvPr id="2640" name=""/>
            <p:cNvSpPr/>
            <p:nvPr/>
          </p:nvSpPr>
          <p:spPr>
            <a:xfrm>
              <a:off x="1816200" y="3573360"/>
              <a:ext cx="431640" cy="431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H="1" flipV="1">
              <a:off x="2031480" y="3593520"/>
              <a:ext cx="1800" cy="358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V="1">
              <a:off x="1895400" y="3789360"/>
              <a:ext cx="319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V="1">
              <a:off x="1914120" y="3655440"/>
              <a:ext cx="251280" cy="251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H="1" flipV="1">
              <a:off x="1888920" y="3657240"/>
              <a:ext cx="260640" cy="251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5" name=""/>
          <p:cNvGrpSpPr/>
          <p:nvPr/>
        </p:nvGrpSpPr>
        <p:grpSpPr>
          <a:xfrm>
            <a:off x="2916360" y="3716280"/>
            <a:ext cx="1947600" cy="289080"/>
            <a:chOff x="2916360" y="3716280"/>
            <a:chExt cx="1947600" cy="289080"/>
          </a:xfrm>
        </p:grpSpPr>
        <p:sp>
          <p:nvSpPr>
            <p:cNvPr id="2646" name=""/>
            <p:cNvSpPr/>
            <p:nvPr/>
          </p:nvSpPr>
          <p:spPr>
            <a:xfrm>
              <a:off x="2916360" y="3720960"/>
              <a:ext cx="2682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3186000" y="3841920"/>
              <a:ext cx="921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402000" y="3716280"/>
              <a:ext cx="181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583080" y="3801960"/>
              <a:ext cx="144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727440" y="3801960"/>
              <a:ext cx="1810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61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p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3916440" y="3801960"/>
              <a:ext cx="144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060800" y="3801960"/>
              <a:ext cx="1810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241880" y="3716280"/>
              <a:ext cx="18072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421160" y="3801960"/>
              <a:ext cx="144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565520" y="3801960"/>
              <a:ext cx="1810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736880" y="3743280"/>
              <a:ext cx="12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916360" y="3716280"/>
              <a:ext cx="1946160" cy="2890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8" name=""/>
          <p:cNvGrpSpPr/>
          <p:nvPr/>
        </p:nvGrpSpPr>
        <p:grpSpPr>
          <a:xfrm>
            <a:off x="2916360" y="3068640"/>
            <a:ext cx="2017080" cy="369720"/>
            <a:chOff x="2916360" y="3068640"/>
            <a:chExt cx="2017080" cy="369720"/>
          </a:xfrm>
        </p:grpSpPr>
        <p:sp>
          <p:nvSpPr>
            <p:cNvPr id="2659" name=""/>
            <p:cNvSpPr/>
            <p:nvPr/>
          </p:nvSpPr>
          <p:spPr>
            <a:xfrm>
              <a:off x="2916360" y="3119040"/>
              <a:ext cx="232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149280" y="3098520"/>
              <a:ext cx="12024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271680" y="3119040"/>
              <a:ext cx="25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mi10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3528720" y="3234960"/>
              <a:ext cx="871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3719160" y="3098520"/>
              <a:ext cx="856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sy10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890880" y="3119040"/>
              <a:ext cx="2408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133520" y="3234960"/>
              <a:ext cx="871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236840" y="3098520"/>
              <a:ext cx="12024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444920" y="3133440"/>
              <a:ext cx="24084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200" bIns="40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sy10"/>
                </a:rPr>
                <a:t>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809960" y="3068640"/>
              <a:ext cx="123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802040" y="3252600"/>
              <a:ext cx="1234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809960" y="3298680"/>
              <a:ext cx="123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r7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916360" y="3068640"/>
              <a:ext cx="2015640" cy="3697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2" name=""/>
          <p:cNvGrpSpPr/>
          <p:nvPr/>
        </p:nvGrpSpPr>
        <p:grpSpPr>
          <a:xfrm>
            <a:off x="2987640" y="4221000"/>
            <a:ext cx="5319720" cy="1733400"/>
            <a:chOff x="2987640" y="4221000"/>
            <a:chExt cx="5319720" cy="1733400"/>
          </a:xfrm>
        </p:grpSpPr>
        <p:sp>
          <p:nvSpPr>
            <p:cNvPr id="2673" name=""/>
            <p:cNvSpPr/>
            <p:nvPr/>
          </p:nvSpPr>
          <p:spPr>
            <a:xfrm>
              <a:off x="2987640" y="4224240"/>
              <a:ext cx="2304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Q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218040" y="4289040"/>
              <a:ext cx="16956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387600" y="4289040"/>
              <a:ext cx="1494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537000" y="42890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700440" y="4238280"/>
              <a:ext cx="119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819600" y="42890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989520" y="4289040"/>
              <a:ext cx="255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421160" y="4224240"/>
              <a:ext cx="236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56240" y="42890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827600" y="4289040"/>
              <a:ext cx="1364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964040" y="4289040"/>
              <a:ext cx="1414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105520" y="4289040"/>
              <a:ext cx="1270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230800" y="4238280"/>
              <a:ext cx="119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351400" y="4289040"/>
              <a:ext cx="1494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500800" y="4222440"/>
              <a:ext cx="85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585040" y="4289040"/>
              <a:ext cx="16956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746680" y="4238280"/>
              <a:ext cx="119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5857920" y="4289040"/>
              <a:ext cx="1620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195960" y="4224240"/>
              <a:ext cx="230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426360" y="4289040"/>
              <a:ext cx="1411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566040" y="4222440"/>
              <a:ext cx="85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651720" y="4289040"/>
              <a:ext cx="1490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800760" y="4238280"/>
              <a:ext cx="119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919920" y="4222440"/>
              <a:ext cx="85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005600" y="4289040"/>
              <a:ext cx="1540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159680" y="42890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329600" y="4289040"/>
              <a:ext cx="856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940880" y="4225680"/>
              <a:ext cx="1681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8094600" y="429228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8218440" y="4242960"/>
              <a:ext cx="889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987640" y="454464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303720" y="4628880"/>
              <a:ext cx="20772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3584520" y="452556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689280" y="454464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909960" y="464796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030560" y="4698720"/>
              <a:ext cx="74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149720" y="469872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267080" y="4698720"/>
              <a:ext cx="7488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386240" y="469872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505400" y="4698720"/>
              <a:ext cx="74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624560" y="454464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845240" y="4687560"/>
              <a:ext cx="13176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991040" y="452556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189760" y="4541400"/>
              <a:ext cx="1220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299200" y="461124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518080" y="4562280"/>
              <a:ext cx="8892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607000" y="4541400"/>
              <a:ext cx="136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742000" y="461124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961240" y="4611240"/>
              <a:ext cx="136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097680" y="4611240"/>
              <a:ext cx="1429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240600" y="4562280"/>
              <a:ext cx="8892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329520" y="461124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438960" y="4611240"/>
              <a:ext cx="136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575400" y="4611240"/>
              <a:ext cx="219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794640" y="461124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916680" y="4698720"/>
              <a:ext cx="8280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121520" y="4544640"/>
              <a:ext cx="19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311960" y="4541400"/>
              <a:ext cx="136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448760" y="461124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572600" y="4611240"/>
              <a:ext cx="150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721640" y="469872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602240" y="5133600"/>
              <a:ext cx="2001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802400" y="5117760"/>
              <a:ext cx="10152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802400" y="5300280"/>
              <a:ext cx="21240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027760" y="511452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132520" y="51336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448240" y="5114520"/>
              <a:ext cx="748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597640" y="5133600"/>
              <a:ext cx="207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803920" y="51145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983200" y="5121000"/>
              <a:ext cx="2080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3680" bIns="604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msam10"/>
                </a:rPr>
                <a:t>&amp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264360" y="5200200"/>
              <a:ext cx="160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424560" y="5114520"/>
              <a:ext cx="1335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558120" y="5143320"/>
              <a:ext cx="1332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3083040" y="5787720"/>
              <a:ext cx="177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3260880" y="5727600"/>
              <a:ext cx="82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3341880" y="5738400"/>
              <a:ext cx="889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3430800" y="5717880"/>
              <a:ext cx="136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3662280" y="5787720"/>
              <a:ext cx="123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"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3882960" y="5787720"/>
              <a:ext cx="150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032360" y="578772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141800" y="5787720"/>
              <a:ext cx="1224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265640" y="5717880"/>
              <a:ext cx="684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334040" y="5727600"/>
              <a:ext cx="82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415040" y="5787720"/>
              <a:ext cx="12204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538880" y="5727600"/>
              <a:ext cx="82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619520" y="5717880"/>
              <a:ext cx="1224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743360" y="5717880"/>
              <a:ext cx="684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811760" y="578772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029200" y="5727600"/>
              <a:ext cx="82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111640" y="5787720"/>
              <a:ext cx="150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357880" y="5787720"/>
              <a:ext cx="160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518080" y="5875200"/>
              <a:ext cx="8280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987640" y="4221000"/>
              <a:ext cx="5319720" cy="17334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6" name=""/>
          <p:cNvGrpSpPr/>
          <p:nvPr/>
        </p:nvGrpSpPr>
        <p:grpSpPr>
          <a:xfrm>
            <a:off x="2916360" y="3068640"/>
            <a:ext cx="5666760" cy="369720"/>
            <a:chOff x="2916360" y="3068640"/>
            <a:chExt cx="5666760" cy="369720"/>
          </a:xfrm>
        </p:grpSpPr>
        <p:sp>
          <p:nvSpPr>
            <p:cNvPr id="2767" name=""/>
            <p:cNvSpPr/>
            <p:nvPr/>
          </p:nvSpPr>
          <p:spPr>
            <a:xfrm>
              <a:off x="2916360" y="3119040"/>
              <a:ext cx="232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3149280" y="3098520"/>
              <a:ext cx="12024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271680" y="3119040"/>
              <a:ext cx="25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mi10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3528720" y="3234960"/>
              <a:ext cx="871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3719160" y="3098520"/>
              <a:ext cx="856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sy10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3890880" y="3119040"/>
              <a:ext cx="2408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133520" y="3234960"/>
              <a:ext cx="871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236840" y="3298680"/>
              <a:ext cx="85320" cy="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0960" bIns="59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mi10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375080" y="3119040"/>
              <a:ext cx="25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657680" y="3074760"/>
              <a:ext cx="8676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744800" y="3084120"/>
              <a:ext cx="19332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2840" bIns="25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¡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939920" y="3078000"/>
              <a:ext cx="123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5165640" y="3217680"/>
              <a:ext cx="240840" cy="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0920" bIns="-831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5493960" y="3196800"/>
              <a:ext cx="17748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5671800" y="3074760"/>
              <a:ext cx="871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759280" y="3084120"/>
              <a:ext cx="19332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2840" bIns="25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¡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952960" y="3078000"/>
              <a:ext cx="123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092640" y="3298680"/>
              <a:ext cx="85320" cy="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0960" bIns="59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6230880" y="3119040"/>
              <a:ext cx="2408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473520" y="3074760"/>
              <a:ext cx="871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561000" y="3084120"/>
              <a:ext cx="19332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2840" bIns="25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¡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756120" y="3078000"/>
              <a:ext cx="123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981480" y="3217680"/>
              <a:ext cx="241200" cy="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0920" bIns="-831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310160" y="3114360"/>
              <a:ext cx="14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464240" y="3074760"/>
              <a:ext cx="8676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7553160" y="3084120"/>
              <a:ext cx="19332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2840" bIns="25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¡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746840" y="3078000"/>
              <a:ext cx="123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886520" y="3098520"/>
              <a:ext cx="12024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8094600" y="3133440"/>
              <a:ext cx="24084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200" bIns="40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sy10"/>
                </a:rPr>
                <a:t>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8459640" y="3068640"/>
              <a:ext cx="123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451720" y="3252600"/>
              <a:ext cx="1234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8459640" y="3298680"/>
              <a:ext cx="123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r7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916360" y="3068640"/>
              <a:ext cx="5665320" cy="3697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Main Technical Lemma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1" name=""/>
          <p:cNvSpPr/>
          <p:nvPr/>
        </p:nvSpPr>
        <p:spPr>
          <a:xfrm>
            <a:off x="3422520" y="6213600"/>
            <a:ext cx="360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2" name=""/>
          <p:cNvGrpSpPr/>
          <p:nvPr/>
        </p:nvGrpSpPr>
        <p:grpSpPr>
          <a:xfrm>
            <a:off x="1650960" y="1557360"/>
            <a:ext cx="5849640" cy="325440"/>
            <a:chOff x="1650960" y="1557360"/>
            <a:chExt cx="5849640" cy="325440"/>
          </a:xfrm>
        </p:grpSpPr>
        <p:sp>
          <p:nvSpPr>
            <p:cNvPr id="2803" name=""/>
            <p:cNvSpPr/>
            <p:nvPr/>
          </p:nvSpPr>
          <p:spPr>
            <a:xfrm>
              <a:off x="1650960" y="1581120"/>
              <a:ext cx="2221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1873080" y="1704960"/>
              <a:ext cx="1299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019240" y="1768680"/>
              <a:ext cx="9036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61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163600" y="1768680"/>
              <a:ext cx="90360" cy="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307960" y="1768680"/>
              <a:ext cx="90720" cy="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452320" y="1768680"/>
              <a:ext cx="90720" cy="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597040" y="1768680"/>
              <a:ext cx="9036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61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2739960" y="1581120"/>
              <a:ext cx="2221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962080" y="1754280"/>
              <a:ext cx="16020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3247920" y="1559160"/>
              <a:ext cx="126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3373200" y="1576440"/>
              <a:ext cx="181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3554280" y="1662120"/>
              <a:ext cx="144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3698640" y="1662120"/>
              <a:ext cx="1810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61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p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3887640" y="1662120"/>
              <a:ext cx="144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032000" y="1662120"/>
              <a:ext cx="1810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213080" y="1576440"/>
              <a:ext cx="181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392360" y="1662120"/>
              <a:ext cx="144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536720" y="1662120"/>
              <a:ext cx="1810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708440" y="1603440"/>
              <a:ext cx="126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835160" y="15591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070240" y="1662120"/>
              <a:ext cx="1270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197320" y="1662120"/>
              <a:ext cx="1620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5359320" y="1662120"/>
              <a:ext cx="1807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540040" y="1576440"/>
              <a:ext cx="181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719680" y="1662120"/>
              <a:ext cx="161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5883120" y="1662120"/>
              <a:ext cx="2700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6260760" y="1662120"/>
              <a:ext cx="1717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6414840" y="1662120"/>
              <a:ext cx="1620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6576840" y="1662120"/>
              <a:ext cx="1270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6703920" y="1586160"/>
              <a:ext cx="9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794280" y="1662120"/>
              <a:ext cx="1620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957720" y="1576440"/>
              <a:ext cx="181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137360" y="1576440"/>
              <a:ext cx="903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227720" y="1662120"/>
              <a:ext cx="144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372080" y="1662120"/>
              <a:ext cx="1285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1650960" y="1557360"/>
              <a:ext cx="5848200" cy="325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9" name=""/>
          <p:cNvGrpSpPr/>
          <p:nvPr/>
        </p:nvGrpSpPr>
        <p:grpSpPr>
          <a:xfrm>
            <a:off x="1650960" y="2781360"/>
            <a:ext cx="5945400" cy="314280"/>
            <a:chOff x="1650960" y="2781360"/>
            <a:chExt cx="5945400" cy="314280"/>
          </a:xfrm>
        </p:grpSpPr>
        <p:sp>
          <p:nvSpPr>
            <p:cNvPr id="2840" name=""/>
            <p:cNvSpPr/>
            <p:nvPr/>
          </p:nvSpPr>
          <p:spPr>
            <a:xfrm>
              <a:off x="1650960" y="2803680"/>
              <a:ext cx="2271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1878120" y="2800440"/>
              <a:ext cx="1746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054160" y="2883240"/>
              <a:ext cx="13968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2193840" y="2883240"/>
              <a:ext cx="17460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368440" y="2986200"/>
              <a:ext cx="8748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604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560680" y="2803680"/>
              <a:ext cx="236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2797200" y="2787840"/>
              <a:ext cx="119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797200" y="3002040"/>
              <a:ext cx="2509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063960" y="2783160"/>
              <a:ext cx="1220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4720" bIns="774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187800" y="2803680"/>
              <a:ext cx="2142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mi10"/>
                </a:rPr>
                <a:t>Z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424320" y="2783160"/>
              <a:ext cx="1220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4720" bIns="774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635280" y="2789280"/>
              <a:ext cx="24480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12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msam10"/>
                </a:rPr>
                <a:t>&amp;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967200" y="2883240"/>
              <a:ext cx="18900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226040" y="2878200"/>
              <a:ext cx="871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-34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sy10"/>
                </a:rPr>
                <a:t>¢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383000" y="2800440"/>
              <a:ext cx="1810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mi10"/>
                </a:rPr>
                <a:t>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670640" y="2883240"/>
              <a:ext cx="22680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w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897440" y="2808360"/>
              <a:ext cx="874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9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984920" y="2824200"/>
              <a:ext cx="1220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3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108760" y="2800440"/>
              <a:ext cx="1746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5388120" y="2883240"/>
              <a:ext cx="14760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"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640480" y="2883240"/>
              <a:ext cx="17460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815080" y="2883240"/>
              <a:ext cx="13968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954760" y="2883240"/>
              <a:ext cx="1573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601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g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112080" y="2800440"/>
              <a:ext cx="871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201000" y="2808360"/>
              <a:ext cx="871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9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288120" y="2883240"/>
              <a:ext cx="1573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601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g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445440" y="2808360"/>
              <a:ext cx="871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9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532560" y="2800440"/>
              <a:ext cx="1746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707160" y="2800440"/>
              <a:ext cx="874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794640" y="2883240"/>
              <a:ext cx="13968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040520" y="2808360"/>
              <a:ext cx="874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9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128000" y="2883240"/>
              <a:ext cx="17460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407360" y="2883240"/>
              <a:ext cx="18900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650960" y="2781360"/>
              <a:ext cx="5945400" cy="3142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4" name=""/>
          <p:cNvGrpSpPr/>
          <p:nvPr/>
        </p:nvGrpSpPr>
        <p:grpSpPr>
          <a:xfrm>
            <a:off x="1650960" y="2060640"/>
            <a:ext cx="4089600" cy="334800"/>
            <a:chOff x="1650960" y="2060640"/>
            <a:chExt cx="4089600" cy="334800"/>
          </a:xfrm>
        </p:grpSpPr>
        <p:sp>
          <p:nvSpPr>
            <p:cNvPr id="2875" name=""/>
            <p:cNvSpPr/>
            <p:nvPr/>
          </p:nvSpPr>
          <p:spPr>
            <a:xfrm>
              <a:off x="1650960" y="2184120"/>
              <a:ext cx="2239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1876320" y="2111400"/>
              <a:ext cx="856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59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1962000" y="2127240"/>
              <a:ext cx="12096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00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2084400" y="2101680"/>
              <a:ext cx="17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2360520" y="2106360"/>
              <a:ext cx="2332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2593800" y="2085840"/>
              <a:ext cx="1209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714760" y="2106360"/>
              <a:ext cx="2127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2927520" y="2222280"/>
              <a:ext cx="871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116160" y="2085840"/>
              <a:ext cx="856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sy10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289320" y="2106360"/>
              <a:ext cx="2127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3524400" y="2062080"/>
              <a:ext cx="871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3611520" y="2071440"/>
              <a:ext cx="1936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2840" bIns="25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¡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806640" y="2065320"/>
              <a:ext cx="12384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032360" y="2205000"/>
              <a:ext cx="241200" cy="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0920" bIns="-831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360680" y="2184120"/>
              <a:ext cx="1447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518000" y="2062080"/>
              <a:ext cx="874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606920" y="2071440"/>
              <a:ext cx="1936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2840" bIns="25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¡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800600" y="2065320"/>
              <a:ext cx="12384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940280" y="2085840"/>
              <a:ext cx="1206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5148360" y="2120760"/>
              <a:ext cx="24120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200" bIns="40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sy10"/>
                </a:rPr>
                <a:t>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477040" y="2101680"/>
              <a:ext cx="17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mi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654520" y="2286000"/>
              <a:ext cx="86040" cy="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1650960" y="2060640"/>
              <a:ext cx="4089600" cy="3348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8" name=""/>
          <p:cNvGrpSpPr/>
          <p:nvPr/>
        </p:nvGrpSpPr>
        <p:grpSpPr>
          <a:xfrm>
            <a:off x="1042920" y="3645000"/>
            <a:ext cx="6699240" cy="1352520"/>
            <a:chOff x="1042920" y="3645000"/>
            <a:chExt cx="6699240" cy="1352520"/>
          </a:xfrm>
        </p:grpSpPr>
        <p:sp>
          <p:nvSpPr>
            <p:cNvPr id="2899" name=""/>
            <p:cNvSpPr/>
            <p:nvPr/>
          </p:nvSpPr>
          <p:spPr>
            <a:xfrm>
              <a:off x="1042920" y="3648240"/>
              <a:ext cx="2142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1257120" y="3714840"/>
              <a:ext cx="13032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1387440" y="3714840"/>
              <a:ext cx="1569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1552320" y="3714840"/>
              <a:ext cx="15732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1711080" y="3646800"/>
              <a:ext cx="9684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86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1806480" y="3714840"/>
              <a:ext cx="8748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1452600" y="4262760"/>
              <a:ext cx="136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6200" bIns="-288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1727280" y="4200840"/>
              <a:ext cx="759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1801800" y="4266000"/>
              <a:ext cx="1522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1954080" y="4194360"/>
              <a:ext cx="842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2038320" y="4266000"/>
              <a:ext cx="1364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2174760" y="4266000"/>
              <a:ext cx="1065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2281320" y="4266000"/>
              <a:ext cx="2286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2509920" y="4266000"/>
              <a:ext cx="1364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2646360" y="421668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2752560" y="4200840"/>
              <a:ext cx="76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2828880" y="4266000"/>
              <a:ext cx="1364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965320" y="4266000"/>
              <a:ext cx="1522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208320" y="421668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14520" y="4194360"/>
              <a:ext cx="1526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467160" y="4266000"/>
              <a:ext cx="122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589200" y="4266000"/>
              <a:ext cx="1364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725640" y="4266000"/>
              <a:ext cx="1065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832200" y="4266000"/>
              <a:ext cx="1443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000" bIns="52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1452600" y="4808880"/>
              <a:ext cx="136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6200" bIns="-288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1727280" y="4811760"/>
              <a:ext cx="136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1863720" y="4811760"/>
              <a:ext cx="1220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1984320" y="4811760"/>
              <a:ext cx="1522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2136600" y="4811760"/>
              <a:ext cx="1224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2259000" y="4811760"/>
              <a:ext cx="1062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2365200" y="4811760"/>
              <a:ext cx="1364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2501640" y="4740480"/>
              <a:ext cx="7632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2577960" y="4746960"/>
              <a:ext cx="76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2654280" y="4811760"/>
              <a:ext cx="1220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2776320" y="4811760"/>
              <a:ext cx="1224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2896920" y="4740480"/>
              <a:ext cx="1526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139920" y="4743720"/>
              <a:ext cx="1969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338280" y="4740480"/>
              <a:ext cx="1526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490920" y="4811760"/>
              <a:ext cx="1220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611520" y="4811760"/>
              <a:ext cx="1062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719520" y="4811760"/>
              <a:ext cx="1522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870360" y="4811760"/>
              <a:ext cx="1364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008240" y="4740480"/>
              <a:ext cx="1605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®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257720" y="4740480"/>
              <a:ext cx="152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417920" y="4811760"/>
              <a:ext cx="1364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554360" y="4811760"/>
              <a:ext cx="1526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707000" y="4811760"/>
              <a:ext cx="1522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859280" y="4740480"/>
              <a:ext cx="152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5102280" y="4724640"/>
              <a:ext cx="1062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5208480" y="4741920"/>
              <a:ext cx="2379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5446440" y="4808880"/>
              <a:ext cx="14004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5586480" y="4808880"/>
              <a:ext cx="17460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5761080" y="4808880"/>
              <a:ext cx="26172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022800" y="4808880"/>
              <a:ext cx="15264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280200" y="4740480"/>
              <a:ext cx="8712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367320" y="4808880"/>
              <a:ext cx="17460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541920" y="4808880"/>
              <a:ext cx="1443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686280" y="4808880"/>
              <a:ext cx="1670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52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q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853320" y="4808880"/>
              <a:ext cx="17460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027920" y="4808880"/>
              <a:ext cx="15228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180200" y="4740480"/>
              <a:ext cx="8712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267320" y="4740480"/>
              <a:ext cx="874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354800" y="4756320"/>
              <a:ext cx="1224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3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468920" y="4808880"/>
              <a:ext cx="1670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52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634160" y="4724640"/>
              <a:ext cx="1065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1042920" y="3645000"/>
              <a:ext cx="6699240" cy="13525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5" name=""/>
          <p:cNvGrpSpPr/>
          <p:nvPr/>
        </p:nvGrpSpPr>
        <p:grpSpPr>
          <a:xfrm>
            <a:off x="395280" y="4221000"/>
            <a:ext cx="2209680" cy="2597040"/>
            <a:chOff x="395280" y="4221000"/>
            <a:chExt cx="2209680" cy="2597040"/>
          </a:xfrm>
        </p:grpSpPr>
        <p:sp>
          <p:nvSpPr>
            <p:cNvPr id="2966" name=""/>
            <p:cNvSpPr/>
            <p:nvPr/>
          </p:nvSpPr>
          <p:spPr>
            <a:xfrm>
              <a:off x="395280" y="422100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27200" y="4270320"/>
              <a:ext cx="2127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1014480" y="430992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1197000" y="4367160"/>
              <a:ext cx="165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  <a:ea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1863720" y="4338360"/>
              <a:ext cx="1080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1970280" y="428940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2076480" y="4338360"/>
              <a:ext cx="1364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2212920" y="4289400"/>
              <a:ext cx="106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2319480" y="433836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566640" y="4579920"/>
              <a:ext cx="136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  <a:ea typeface="Arial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03440" y="462600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  <a:ea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915840" y="4755960"/>
              <a:ext cx="7632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mi10"/>
                  <a:ea typeface="Arial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1038240" y="4626000"/>
              <a:ext cx="2127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  <a:ea typeface="Arial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1249200" y="4579920"/>
              <a:ext cx="136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  <a:ea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1386000" y="4603680"/>
              <a:ext cx="1350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  <a:ea typeface="Arial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2081160" y="4667040"/>
              <a:ext cx="1414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  <a:ea typeface="Arial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395280" y="488772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1012680" y="6345000"/>
              <a:ext cx="76320" cy="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1012680" y="645480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1012680" y="656424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95280" y="680220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03200" y="4227480"/>
              <a:ext cx="2201760" cy="2590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Proof of Quantum Uncertainty Relation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2989" name=""/>
          <p:cNvGrpSpPr/>
          <p:nvPr/>
        </p:nvGrpSpPr>
        <p:grpSpPr>
          <a:xfrm>
            <a:off x="774720" y="2133720"/>
            <a:ext cx="1852560" cy="306360"/>
            <a:chOff x="774720" y="2133720"/>
            <a:chExt cx="1852560" cy="306360"/>
          </a:xfrm>
        </p:grpSpPr>
        <p:sp>
          <p:nvSpPr>
            <p:cNvPr id="2990" name=""/>
            <p:cNvSpPr/>
            <p:nvPr/>
          </p:nvSpPr>
          <p:spPr>
            <a:xfrm>
              <a:off x="774720" y="2154240"/>
              <a:ext cx="2095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9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984240" y="2268720"/>
              <a:ext cx="87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1152720" y="2219400"/>
              <a:ext cx="856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1230480" y="2252880"/>
              <a:ext cx="2379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1280" bIns="-79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1554120" y="2133720"/>
              <a:ext cx="1191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004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1675080" y="2154240"/>
              <a:ext cx="2538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9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1928880" y="2268720"/>
              <a:ext cx="87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2030400" y="2332080"/>
              <a:ext cx="860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2167200" y="2154240"/>
              <a:ext cx="2379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9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2405160" y="2268720"/>
              <a:ext cx="87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2508480" y="2133720"/>
              <a:ext cx="118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004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74720" y="2133720"/>
              <a:ext cx="1852560" cy="306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2" name=""/>
          <p:cNvSpPr/>
          <p:nvPr/>
        </p:nvSpPr>
        <p:spPr>
          <a:xfrm>
            <a:off x="7667640" y="3933720"/>
            <a:ext cx="144360" cy="14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3" name=""/>
          <p:cNvGrpSpPr/>
          <p:nvPr/>
        </p:nvGrpSpPr>
        <p:grpSpPr>
          <a:xfrm>
            <a:off x="611280" y="1579680"/>
            <a:ext cx="4998960" cy="352440"/>
            <a:chOff x="611280" y="1579680"/>
            <a:chExt cx="4998960" cy="352440"/>
          </a:xfrm>
        </p:grpSpPr>
        <p:sp>
          <p:nvSpPr>
            <p:cNvPr id="3004" name=""/>
            <p:cNvSpPr/>
            <p:nvPr/>
          </p:nvSpPr>
          <p:spPr>
            <a:xfrm>
              <a:off x="611280" y="1627200"/>
              <a:ext cx="3240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bx10"/>
                  <a:ea typeface="Arial"/>
                </a:rPr>
                <a:t>M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935280" y="1627200"/>
              <a:ext cx="2617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bx10"/>
                  <a:ea typeface="Arial"/>
                </a:rPr>
                <a:t>U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1197000" y="1698840"/>
              <a:ext cx="9540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bx10"/>
                  <a:ea typeface="Arial"/>
                </a:rPr>
                <a:t>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1503360" y="1701720"/>
              <a:ext cx="1526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572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  <a:ea typeface="Arial"/>
                </a:rPr>
                <a:t>½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1756080" y="1638360"/>
              <a:ext cx="147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0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1903680" y="1701720"/>
              <a:ext cx="982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2001960" y="1701720"/>
              <a:ext cx="1555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572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q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2157480" y="1701720"/>
              <a:ext cx="1652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u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2322720" y="1623960"/>
              <a:ext cx="164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b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2486160" y="1631880"/>
              <a:ext cx="824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2568600" y="1648080"/>
              <a:ext cx="1144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2783160" y="1701720"/>
              <a:ext cx="1173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2899080" y="1648080"/>
              <a:ext cx="11412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3014640" y="1701720"/>
              <a:ext cx="1479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3162600" y="1648080"/>
              <a:ext cx="11412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3278520" y="1701720"/>
              <a:ext cx="1317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3408480" y="1701720"/>
              <a:ext cx="824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3622680" y="1627200"/>
              <a:ext cx="222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  <a:ea typeface="Arial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3845160" y="1608120"/>
              <a:ext cx="1141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  <a:ea typeface="Arial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3959280" y="1627200"/>
              <a:ext cx="2444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mi10"/>
                  <a:ea typeface="Arial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205520" y="1739880"/>
              <a:ext cx="11736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419720" y="1608120"/>
              <a:ext cx="824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sy10"/>
                  <a:ea typeface="Arial"/>
                </a:rPr>
                <a:t>j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584960" y="1627200"/>
              <a:ext cx="2300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  <a:ea typeface="Arial"/>
                </a:rPr>
                <a:t>£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815000" y="1739880"/>
              <a:ext cx="11736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946760" y="1608120"/>
              <a:ext cx="11448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  <a:ea typeface="Arial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145120" y="1641600"/>
              <a:ext cx="2304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3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sy10"/>
                  <a:ea typeface="Arial"/>
                </a:rPr>
                <a:t>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5492880" y="1579680"/>
              <a:ext cx="1173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5492880" y="1755720"/>
              <a:ext cx="117360" cy="0"/>
            </a:xfrm>
            <a:prstGeom prst="line">
              <a:avLst/>
            </a:prstGeom>
            <a:ln w="118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5492880" y="1798560"/>
              <a:ext cx="11736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11280" y="1579680"/>
              <a:ext cx="4998960" cy="352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4" name=""/>
          <p:cNvGrpSpPr/>
          <p:nvPr/>
        </p:nvGrpSpPr>
        <p:grpSpPr>
          <a:xfrm>
            <a:off x="1830240" y="5398920"/>
            <a:ext cx="647640" cy="431640"/>
            <a:chOff x="1830240" y="5398920"/>
            <a:chExt cx="647640" cy="431640"/>
          </a:xfrm>
        </p:grpSpPr>
        <p:sp>
          <p:nvSpPr>
            <p:cNvPr id="3035" name=""/>
            <p:cNvSpPr/>
            <p:nvPr/>
          </p:nvSpPr>
          <p:spPr>
            <a:xfrm>
              <a:off x="1830240" y="5398920"/>
              <a:ext cx="647640" cy="431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H="1" flipV="1">
              <a:off x="2153160" y="5419080"/>
              <a:ext cx="2520" cy="358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1949040" y="5614920"/>
              <a:ext cx="4791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 flipV="1">
              <a:off x="1977480" y="5418000"/>
              <a:ext cx="376920" cy="376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 flipH="1" flipV="1">
              <a:off x="2002680" y="5483880"/>
              <a:ext cx="263160" cy="249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0" name=""/>
          <p:cNvGrpSpPr/>
          <p:nvPr/>
        </p:nvGrpSpPr>
        <p:grpSpPr>
          <a:xfrm>
            <a:off x="1889640" y="5758560"/>
            <a:ext cx="602280" cy="618480"/>
            <a:chOff x="1889640" y="5758560"/>
            <a:chExt cx="602280" cy="618480"/>
          </a:xfrm>
        </p:grpSpPr>
        <p:sp>
          <p:nvSpPr>
            <p:cNvPr id="3041" name=""/>
            <p:cNvSpPr/>
            <p:nvPr/>
          </p:nvSpPr>
          <p:spPr>
            <a:xfrm rot="19923600">
              <a:off x="1974600" y="5832000"/>
              <a:ext cx="431640" cy="47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 flipH="1" flipV="1">
              <a:off x="2090160" y="5879520"/>
              <a:ext cx="185040" cy="345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V="1">
              <a:off x="2070720" y="5982480"/>
              <a:ext cx="281520" cy="15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V="1">
              <a:off x="2141280" y="5886360"/>
              <a:ext cx="104400" cy="339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H="1" flipV="1">
              <a:off x="1985760" y="6012720"/>
              <a:ext cx="380160" cy="109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6" name=""/>
          <p:cNvSpPr/>
          <p:nvPr/>
        </p:nvSpPr>
        <p:spPr>
          <a:xfrm>
            <a:off x="1974960" y="496728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 flipH="1" flipV="1">
            <a:off x="2190240" y="4987440"/>
            <a:ext cx="1800" cy="3589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 rot="2700000">
            <a:off x="1974240" y="6335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 flipH="1" flipV="1">
            <a:off x="2050920" y="6413040"/>
            <a:ext cx="260280" cy="2512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0" name=""/>
          <p:cNvGrpSpPr/>
          <p:nvPr/>
        </p:nvGrpSpPr>
        <p:grpSpPr>
          <a:xfrm>
            <a:off x="1093320" y="4877640"/>
            <a:ext cx="610920" cy="610560"/>
            <a:chOff x="1093320" y="4877640"/>
            <a:chExt cx="610920" cy="610560"/>
          </a:xfrm>
        </p:grpSpPr>
        <p:sp>
          <p:nvSpPr>
            <p:cNvPr id="3051" name=""/>
            <p:cNvSpPr/>
            <p:nvPr/>
          </p:nvSpPr>
          <p:spPr>
            <a:xfrm rot="2700000">
              <a:off x="1182960" y="496692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V="1">
              <a:off x="1283760" y="504360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 flipV="1">
              <a:off x="1258200" y="504324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4" name=""/>
          <p:cNvGrpSpPr/>
          <p:nvPr/>
        </p:nvGrpSpPr>
        <p:grpSpPr>
          <a:xfrm>
            <a:off x="1182600" y="5432400"/>
            <a:ext cx="431640" cy="431640"/>
            <a:chOff x="1182600" y="5432400"/>
            <a:chExt cx="431640" cy="431640"/>
          </a:xfrm>
        </p:grpSpPr>
        <p:sp>
          <p:nvSpPr>
            <p:cNvPr id="3055" name=""/>
            <p:cNvSpPr/>
            <p:nvPr/>
          </p:nvSpPr>
          <p:spPr>
            <a:xfrm>
              <a:off x="1182600" y="543240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 flipH="1" flipV="1">
              <a:off x="1397880" y="545256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 flipV="1">
              <a:off x="1261800" y="564768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8" name=""/>
          <p:cNvGrpSpPr/>
          <p:nvPr/>
        </p:nvGrpSpPr>
        <p:grpSpPr>
          <a:xfrm>
            <a:off x="534960" y="4967280"/>
            <a:ext cx="431640" cy="431640"/>
            <a:chOff x="534960" y="4967280"/>
            <a:chExt cx="431640" cy="431640"/>
          </a:xfrm>
        </p:grpSpPr>
        <p:sp>
          <p:nvSpPr>
            <p:cNvPr id="3059" name=""/>
            <p:cNvSpPr/>
            <p:nvPr/>
          </p:nvSpPr>
          <p:spPr>
            <a:xfrm>
              <a:off x="534960" y="496728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 flipH="1" flipV="1">
              <a:off x="750240" y="498744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 flipV="1">
              <a:off x="614160" y="518256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2" name=""/>
          <p:cNvGrpSpPr/>
          <p:nvPr/>
        </p:nvGrpSpPr>
        <p:grpSpPr>
          <a:xfrm>
            <a:off x="445680" y="5349240"/>
            <a:ext cx="610920" cy="610560"/>
            <a:chOff x="445680" y="5349240"/>
            <a:chExt cx="610920" cy="610560"/>
          </a:xfrm>
        </p:grpSpPr>
        <p:sp>
          <p:nvSpPr>
            <p:cNvPr id="3063" name=""/>
            <p:cNvSpPr/>
            <p:nvPr/>
          </p:nvSpPr>
          <p:spPr>
            <a:xfrm rot="2700000">
              <a:off x="535320" y="543852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 flipV="1">
              <a:off x="636120" y="551520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H="1" flipV="1">
              <a:off x="610560" y="551484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6" name=""/>
          <p:cNvSpPr/>
          <p:nvPr/>
        </p:nvSpPr>
        <p:spPr>
          <a:xfrm>
            <a:off x="731880" y="4822920"/>
            <a:ext cx="6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714240" y="5308560"/>
            <a:ext cx="6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893880" y="6218280"/>
            <a:ext cx="360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9" name=""/>
          <p:cNvGrpSpPr/>
          <p:nvPr/>
        </p:nvGrpSpPr>
        <p:grpSpPr>
          <a:xfrm>
            <a:off x="5867280" y="1557360"/>
            <a:ext cx="431640" cy="431640"/>
            <a:chOff x="5867280" y="1557360"/>
            <a:chExt cx="431640" cy="431640"/>
          </a:xfrm>
        </p:grpSpPr>
        <p:sp>
          <p:nvSpPr>
            <p:cNvPr id="3070" name=""/>
            <p:cNvSpPr/>
            <p:nvPr/>
          </p:nvSpPr>
          <p:spPr>
            <a:xfrm>
              <a:off x="5867280" y="1557360"/>
              <a:ext cx="431640" cy="431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 flipV="1">
              <a:off x="6008760" y="1594440"/>
              <a:ext cx="150480" cy="325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2" name=""/>
          <p:cNvGrpSpPr/>
          <p:nvPr/>
        </p:nvGrpSpPr>
        <p:grpSpPr>
          <a:xfrm>
            <a:off x="611280" y="1079640"/>
            <a:ext cx="6132600" cy="318960"/>
            <a:chOff x="611280" y="1079640"/>
            <a:chExt cx="6132600" cy="318960"/>
          </a:xfrm>
        </p:grpSpPr>
        <p:sp>
          <p:nvSpPr>
            <p:cNvPr id="3073" name=""/>
            <p:cNvSpPr/>
            <p:nvPr/>
          </p:nvSpPr>
          <p:spPr>
            <a:xfrm>
              <a:off x="611280" y="1120680"/>
              <a:ext cx="2383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bx10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849600" y="1119240"/>
              <a:ext cx="1904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bx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1040040" y="1192320"/>
              <a:ext cx="2840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bx10"/>
                </a:rPr>
                <a:t>m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1324080" y="1192320"/>
              <a:ext cx="954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bx10"/>
                </a:rPr>
                <a:t>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1570320" y="1122480"/>
              <a:ext cx="2221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1792440" y="110196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1908360" y="1122480"/>
              <a:ext cx="2030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2111400" y="1233720"/>
              <a:ext cx="842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2292480" y="1101960"/>
              <a:ext cx="824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2457720" y="1122480"/>
              <a:ext cx="2030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681640" y="1081080"/>
              <a:ext cx="838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2765520" y="1089000"/>
              <a:ext cx="185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8520" bIns="23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sy7"/>
                </a:rPr>
                <a:t>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2951280" y="1084320"/>
              <a:ext cx="1191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3167280" y="1216080"/>
              <a:ext cx="2300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9840" bIns="-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3480120" y="1197000"/>
              <a:ext cx="1378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3630960" y="1101960"/>
              <a:ext cx="1155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3829320" y="1136880"/>
              <a:ext cx="2300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3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143600" y="1119240"/>
              <a:ext cx="1713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4462560" y="1216080"/>
              <a:ext cx="297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9840" bIns="-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908600" y="1122480"/>
              <a:ext cx="222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5131080" y="1106640"/>
              <a:ext cx="11268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8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5131080" y="1309680"/>
              <a:ext cx="23652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8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381640" y="110196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497560" y="1122480"/>
              <a:ext cx="2034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5721480" y="1128600"/>
              <a:ext cx="14616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8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mi7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5883480" y="110196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6081840" y="1108080"/>
              <a:ext cx="2304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msam10"/>
                </a:rPr>
                <a:t>&amp;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6394680" y="1119240"/>
              <a:ext cx="1713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566040" y="1197000"/>
              <a:ext cx="1778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11280" y="1079640"/>
              <a:ext cx="6132600" cy="318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3" name=""/>
          <p:cNvGrpSpPr/>
          <p:nvPr/>
        </p:nvGrpSpPr>
        <p:grpSpPr>
          <a:xfrm>
            <a:off x="2987640" y="4503600"/>
            <a:ext cx="5319720" cy="1733400"/>
            <a:chOff x="2987640" y="4503600"/>
            <a:chExt cx="5319720" cy="1733400"/>
          </a:xfrm>
        </p:grpSpPr>
        <p:sp>
          <p:nvSpPr>
            <p:cNvPr id="3104" name=""/>
            <p:cNvSpPr/>
            <p:nvPr/>
          </p:nvSpPr>
          <p:spPr>
            <a:xfrm>
              <a:off x="2987640" y="4506840"/>
              <a:ext cx="2304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Q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3218040" y="4571640"/>
              <a:ext cx="16956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3387600" y="4571640"/>
              <a:ext cx="1494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3537000" y="45716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3700440" y="4520880"/>
              <a:ext cx="119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3819600" y="45716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3989520" y="4571640"/>
              <a:ext cx="255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4421160" y="4506840"/>
              <a:ext cx="236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4656240" y="45716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4827600" y="4571640"/>
              <a:ext cx="1364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4964040" y="4571640"/>
              <a:ext cx="1414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105520" y="4571640"/>
              <a:ext cx="1270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230800" y="4520880"/>
              <a:ext cx="119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351400" y="4571640"/>
              <a:ext cx="1494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500800" y="4505040"/>
              <a:ext cx="85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5585040" y="4571640"/>
              <a:ext cx="16956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746680" y="4520880"/>
              <a:ext cx="119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5857920" y="4571640"/>
              <a:ext cx="1620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195960" y="4506840"/>
              <a:ext cx="230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426360" y="4571640"/>
              <a:ext cx="1411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566040" y="4505040"/>
              <a:ext cx="85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6651720" y="4571640"/>
              <a:ext cx="1490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800760" y="4520880"/>
              <a:ext cx="119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6919920" y="4505040"/>
              <a:ext cx="85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7005600" y="4571640"/>
              <a:ext cx="1540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7159680" y="45716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7329600" y="4571640"/>
              <a:ext cx="856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7940880" y="4508280"/>
              <a:ext cx="1681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8094600" y="457488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8218440" y="4525560"/>
              <a:ext cx="889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87640" y="482724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3303720" y="4911480"/>
              <a:ext cx="20772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3584520" y="480816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3689280" y="482724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3909960" y="493056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030560" y="4981320"/>
              <a:ext cx="74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149720" y="498132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267080" y="4981320"/>
              <a:ext cx="7488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386240" y="498132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505400" y="4981320"/>
              <a:ext cx="74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624560" y="482724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845240" y="4970160"/>
              <a:ext cx="13176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991040" y="480816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5189760" y="4824000"/>
              <a:ext cx="1220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5299200" y="489384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5518080" y="4844880"/>
              <a:ext cx="8892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607000" y="4824000"/>
              <a:ext cx="136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5742000" y="489384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5961240" y="4893840"/>
              <a:ext cx="136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097680" y="4893840"/>
              <a:ext cx="1429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6240600" y="4844880"/>
              <a:ext cx="8892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6329520" y="489384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6438960" y="4893840"/>
              <a:ext cx="136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6575400" y="4893840"/>
              <a:ext cx="219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6794640" y="489384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6916680" y="4981320"/>
              <a:ext cx="8280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7121520" y="4827240"/>
              <a:ext cx="19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7311960" y="4824000"/>
              <a:ext cx="136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7448760" y="489384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7572600" y="4893840"/>
              <a:ext cx="150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7721640" y="498132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4602240" y="5416200"/>
              <a:ext cx="2001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4802400" y="5400360"/>
              <a:ext cx="10152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4802400" y="5582880"/>
              <a:ext cx="21240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5027760" y="539712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5132520" y="54162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448240" y="5397120"/>
              <a:ext cx="748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5597640" y="5416200"/>
              <a:ext cx="207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5803920" y="53971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983200" y="5403600"/>
              <a:ext cx="2080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3680" bIns="604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msam10"/>
                </a:rPr>
                <a:t>&amp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6264360" y="5482800"/>
              <a:ext cx="160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6424560" y="5397120"/>
              <a:ext cx="1335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6558120" y="5425920"/>
              <a:ext cx="1332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3083040" y="6070320"/>
              <a:ext cx="177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3260880" y="6010200"/>
              <a:ext cx="82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3341880" y="6021000"/>
              <a:ext cx="889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430800" y="6000480"/>
              <a:ext cx="136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662280" y="6070320"/>
              <a:ext cx="123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"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3882960" y="6070320"/>
              <a:ext cx="150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032360" y="607032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141800" y="6070320"/>
              <a:ext cx="1224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65640" y="6000480"/>
              <a:ext cx="684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334040" y="6010200"/>
              <a:ext cx="82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15040" y="6070320"/>
              <a:ext cx="12204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38880" y="6010200"/>
              <a:ext cx="82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619520" y="6000480"/>
              <a:ext cx="1224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743360" y="6000480"/>
              <a:ext cx="684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811760" y="607032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029200" y="6010200"/>
              <a:ext cx="82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111640" y="6070320"/>
              <a:ext cx="150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5357880" y="6070320"/>
              <a:ext cx="160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518080" y="6157800"/>
              <a:ext cx="8280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987640" y="4503600"/>
              <a:ext cx="5319720" cy="17334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7" name=""/>
          <p:cNvGrpSpPr/>
          <p:nvPr/>
        </p:nvGrpSpPr>
        <p:grpSpPr>
          <a:xfrm>
            <a:off x="757080" y="2637000"/>
            <a:ext cx="7629840" cy="819000"/>
            <a:chOff x="757080" y="2637000"/>
            <a:chExt cx="7629840" cy="819000"/>
          </a:xfrm>
        </p:grpSpPr>
        <p:sp>
          <p:nvSpPr>
            <p:cNvPr id="3198" name=""/>
            <p:cNvSpPr/>
            <p:nvPr/>
          </p:nvSpPr>
          <p:spPr>
            <a:xfrm>
              <a:off x="757080" y="2693880"/>
              <a:ext cx="21780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974880" y="2674800"/>
              <a:ext cx="1126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70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087560" y="2693880"/>
              <a:ext cx="1983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1285920" y="2800080"/>
              <a:ext cx="824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1461960" y="2674800"/>
              <a:ext cx="810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70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622520" y="2693880"/>
              <a:ext cx="1983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841400" y="2637000"/>
              <a:ext cx="828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24200" y="2644560"/>
              <a:ext cx="1807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23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sy7"/>
                </a:rPr>
                <a:t>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104920" y="2639880"/>
              <a:ext cx="115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314440" y="2786040"/>
              <a:ext cx="22572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6240" bIns="-76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620800" y="2766960"/>
              <a:ext cx="13500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34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768760" y="2674800"/>
              <a:ext cx="1126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70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960640" y="2786040"/>
              <a:ext cx="22536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6240" bIns="-76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3267000" y="2693880"/>
              <a:ext cx="21744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3484440" y="2674800"/>
              <a:ext cx="1126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70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3597120" y="2693880"/>
              <a:ext cx="2397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mi10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3836880" y="2800080"/>
              <a:ext cx="828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4013280" y="2674800"/>
              <a:ext cx="810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70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sy10"/>
                </a:rPr>
                <a:t>j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4173480" y="2693880"/>
              <a:ext cx="2253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</a:rPr>
                <a:t>£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4398840" y="2800080"/>
              <a:ext cx="828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4495680" y="2860560"/>
              <a:ext cx="8100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9880" bIns="55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mi10"/>
                </a:rPr>
                <a:t>;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4624560" y="2693880"/>
              <a:ext cx="1983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4843440" y="2637000"/>
              <a:ext cx="824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924440" y="2644560"/>
              <a:ext cx="18108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23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sy7"/>
                </a:rPr>
                <a:t>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5105520" y="2639880"/>
              <a:ext cx="115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5316480" y="2786040"/>
              <a:ext cx="22536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6240" bIns="-76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</a:rPr>
                <a:t>=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5622840" y="2766960"/>
              <a:ext cx="13500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34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5769000" y="2674800"/>
              <a:ext cx="1126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70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946840" y="2722320"/>
              <a:ext cx="225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23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6235560" y="2693880"/>
              <a:ext cx="21780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453360" y="2674800"/>
              <a:ext cx="1126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70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566040" y="2693880"/>
              <a:ext cx="2253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6791400" y="2800080"/>
              <a:ext cx="824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6967440" y="2674800"/>
              <a:ext cx="810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70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7129440" y="2693880"/>
              <a:ext cx="1983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346880" y="2637000"/>
              <a:ext cx="828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429680" y="2644560"/>
              <a:ext cx="1807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23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sy7"/>
                </a:rPr>
                <a:t>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610400" y="2639880"/>
              <a:ext cx="115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7819920" y="2786040"/>
              <a:ext cx="22536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6240" bIns="-76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126280" y="2766960"/>
              <a:ext cx="13500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34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8273880" y="2674800"/>
              <a:ext cx="1130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70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2960640" y="3170160"/>
              <a:ext cx="22536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3600" bIns="37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sy10"/>
                </a:rPr>
                <a:t>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301920" y="3111480"/>
              <a:ext cx="11592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60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294000" y="3282840"/>
              <a:ext cx="115920" cy="0"/>
            </a:xfrm>
            <a:prstGeom prst="line">
              <a:avLst/>
            </a:prstGeom>
            <a:ln w="11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3301920" y="3324240"/>
              <a:ext cx="11592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60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3516480" y="3186000"/>
              <a:ext cx="22536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7760" bIns="234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3805200" y="3168360"/>
              <a:ext cx="144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030560" y="3249360"/>
              <a:ext cx="2253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6600" bIns="-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255920" y="3230280"/>
              <a:ext cx="8100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34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416480" y="3154320"/>
              <a:ext cx="16668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944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584600" y="3324240"/>
              <a:ext cx="81000" cy="2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952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757080" y="2637000"/>
              <a:ext cx="7629840" cy="8190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0" name=""/>
          <p:cNvGrpSpPr/>
          <p:nvPr/>
        </p:nvGrpSpPr>
        <p:grpSpPr>
          <a:xfrm>
            <a:off x="755640" y="3573360"/>
            <a:ext cx="6005520" cy="288720"/>
            <a:chOff x="755640" y="3573360"/>
            <a:chExt cx="6005520" cy="288720"/>
          </a:xfrm>
        </p:grpSpPr>
        <p:sp>
          <p:nvSpPr>
            <p:cNvPr id="3251" name=""/>
            <p:cNvSpPr/>
            <p:nvPr/>
          </p:nvSpPr>
          <p:spPr>
            <a:xfrm>
              <a:off x="755640" y="3593880"/>
              <a:ext cx="2174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973080" y="3578040"/>
              <a:ext cx="10980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5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973080" y="3776400"/>
              <a:ext cx="23040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5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217520" y="3574800"/>
              <a:ext cx="1130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71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330560" y="3593880"/>
              <a:ext cx="2394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673280" y="3574800"/>
              <a:ext cx="81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71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1835280" y="3593880"/>
              <a:ext cx="2253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2060640" y="3574800"/>
              <a:ext cx="1126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71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252880" y="3651120"/>
              <a:ext cx="22536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9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¼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559240" y="3593880"/>
              <a:ext cx="2174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776680" y="3578040"/>
              <a:ext cx="1094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5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776680" y="3776400"/>
              <a:ext cx="2300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5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021120" y="3574800"/>
              <a:ext cx="1126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71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133800" y="3593880"/>
              <a:ext cx="1983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3353040" y="3584160"/>
              <a:ext cx="142560" cy="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5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mi7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3510000" y="3574800"/>
              <a:ext cx="1126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71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687840" y="3622320"/>
              <a:ext cx="2253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23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¡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3976920" y="3593880"/>
              <a:ext cx="2174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194360" y="3703320"/>
              <a:ext cx="115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03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r7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4324320" y="3574800"/>
              <a:ext cx="1126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71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437000" y="3593880"/>
              <a:ext cx="22572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4662720" y="3574800"/>
              <a:ext cx="1126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71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4854600" y="3579480"/>
              <a:ext cx="22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651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msam10"/>
                </a:rPr>
                <a:t>&amp;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5160960" y="3666960"/>
              <a:ext cx="1746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3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5334120" y="3574800"/>
              <a:ext cx="144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71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478480" y="3605040"/>
              <a:ext cx="1443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2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688000" y="3622320"/>
              <a:ext cx="2253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23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+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978520" y="3666960"/>
              <a:ext cx="1746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3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6216840" y="3622320"/>
              <a:ext cx="2253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23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¡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6505560" y="3666960"/>
              <a:ext cx="1746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3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6680160" y="3760560"/>
              <a:ext cx="81000" cy="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02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55640" y="3573360"/>
              <a:ext cx="6004080" cy="2887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184720" cy="1865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1970: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1440" y="4559400"/>
            <a:ext cx="7343640" cy="814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41240" y="2997360"/>
            <a:ext cx="7502760" cy="115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Tight?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3284" name=""/>
          <p:cNvGrpSpPr/>
          <p:nvPr/>
        </p:nvGrpSpPr>
        <p:grpSpPr>
          <a:xfrm>
            <a:off x="611280" y="1074600"/>
            <a:ext cx="4998960" cy="352440"/>
            <a:chOff x="611280" y="1074600"/>
            <a:chExt cx="4998960" cy="352440"/>
          </a:xfrm>
        </p:grpSpPr>
        <p:sp>
          <p:nvSpPr>
            <p:cNvPr id="3285" name=""/>
            <p:cNvSpPr/>
            <p:nvPr/>
          </p:nvSpPr>
          <p:spPr>
            <a:xfrm>
              <a:off x="611280" y="1122120"/>
              <a:ext cx="3240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bx10"/>
                  <a:ea typeface="Arial"/>
                </a:rPr>
                <a:t>M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935280" y="1122120"/>
              <a:ext cx="2617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bx10"/>
                  <a:ea typeface="Arial"/>
                </a:rPr>
                <a:t>U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1197000" y="1193760"/>
              <a:ext cx="9540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bx10"/>
                  <a:ea typeface="Arial"/>
                </a:rPr>
                <a:t>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1503360" y="1196640"/>
              <a:ext cx="1526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572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  <a:ea typeface="Arial"/>
                </a:rPr>
                <a:t>½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1756080" y="1133280"/>
              <a:ext cx="147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0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1903680" y="1196640"/>
              <a:ext cx="982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001960" y="1196640"/>
              <a:ext cx="1555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572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q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157480" y="1196640"/>
              <a:ext cx="1652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u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322720" y="1118880"/>
              <a:ext cx="164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b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486160" y="1126800"/>
              <a:ext cx="824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568600" y="1143000"/>
              <a:ext cx="1144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783160" y="1196640"/>
              <a:ext cx="1173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899080" y="1143000"/>
              <a:ext cx="11412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3014640" y="1196640"/>
              <a:ext cx="1479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3162600" y="1143000"/>
              <a:ext cx="11412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3278520" y="1196640"/>
              <a:ext cx="1317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408480" y="1196640"/>
              <a:ext cx="824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622680" y="1122120"/>
              <a:ext cx="222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  <a:ea typeface="Arial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3845160" y="1103040"/>
              <a:ext cx="1141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  <a:ea typeface="Arial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3959280" y="1122120"/>
              <a:ext cx="2444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mi10"/>
                  <a:ea typeface="Arial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4205520" y="1234800"/>
              <a:ext cx="11736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4419720" y="1103040"/>
              <a:ext cx="824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sy10"/>
                  <a:ea typeface="Arial"/>
                </a:rPr>
                <a:t>j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4584960" y="1122120"/>
              <a:ext cx="2300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  <a:ea typeface="Arial"/>
                </a:rPr>
                <a:t>£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4815000" y="1234800"/>
              <a:ext cx="11736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4946760" y="1103040"/>
              <a:ext cx="11448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  <a:ea typeface="Arial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145120" y="1136520"/>
              <a:ext cx="2304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3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sy10"/>
                  <a:ea typeface="Arial"/>
                </a:rPr>
                <a:t>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5492880" y="1074600"/>
              <a:ext cx="1173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5492880" y="1250640"/>
              <a:ext cx="117360" cy="0"/>
            </a:xfrm>
            <a:prstGeom prst="line">
              <a:avLst/>
            </a:prstGeom>
            <a:ln w="118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5492880" y="1293480"/>
              <a:ext cx="11736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611280" y="1074600"/>
              <a:ext cx="4998960" cy="352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5" name=""/>
          <p:cNvGrpSpPr/>
          <p:nvPr/>
        </p:nvGrpSpPr>
        <p:grpSpPr>
          <a:xfrm>
            <a:off x="6443640" y="907920"/>
            <a:ext cx="432000" cy="432000"/>
            <a:chOff x="6443640" y="907920"/>
            <a:chExt cx="432000" cy="432000"/>
          </a:xfrm>
        </p:grpSpPr>
        <p:sp>
          <p:nvSpPr>
            <p:cNvPr id="3316" name=""/>
            <p:cNvSpPr/>
            <p:nvPr/>
          </p:nvSpPr>
          <p:spPr>
            <a:xfrm>
              <a:off x="6443640" y="907920"/>
              <a:ext cx="43200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 flipH="1" flipV="1">
              <a:off x="6659640" y="928800"/>
              <a:ext cx="1440" cy="3585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8" name=""/>
          <p:cNvGrpSpPr/>
          <p:nvPr/>
        </p:nvGrpSpPr>
        <p:grpSpPr>
          <a:xfrm>
            <a:off x="611280" y="1595520"/>
            <a:ext cx="6040440" cy="650880"/>
            <a:chOff x="611280" y="1595520"/>
            <a:chExt cx="6040440" cy="650880"/>
          </a:xfrm>
        </p:grpSpPr>
        <p:sp>
          <p:nvSpPr>
            <p:cNvPr id="3319" name=""/>
            <p:cNvSpPr/>
            <p:nvPr/>
          </p:nvSpPr>
          <p:spPr>
            <a:xfrm>
              <a:off x="611280" y="1641600"/>
              <a:ext cx="2001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12880" y="16225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916200" y="1641600"/>
              <a:ext cx="2206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1232280" y="162252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1381320" y="1641600"/>
              <a:ext cx="2080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1589400" y="162252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1767240" y="1725480"/>
              <a:ext cx="20772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081520" y="1596960"/>
              <a:ext cx="106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073600" y="1755720"/>
              <a:ext cx="10620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081520" y="1795320"/>
              <a:ext cx="106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219400" y="1595520"/>
              <a:ext cx="1224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0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¡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386080" y="1641600"/>
              <a:ext cx="2001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586240" y="16225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691000" y="1641600"/>
              <a:ext cx="2206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3007080" y="162252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156120" y="1641600"/>
              <a:ext cx="2080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437280" y="1725480"/>
              <a:ext cx="20772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3719880" y="166680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3927600" y="16225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2386080" y="1968480"/>
              <a:ext cx="1209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|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2498760" y="1984320"/>
              <a:ext cx="582840" cy="0"/>
            </a:xfrm>
            <a:prstGeom prst="line">
              <a:avLst/>
            </a:prstGeom>
            <a:ln w="32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087720" y="1968480"/>
              <a:ext cx="1209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{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208680" y="196848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z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3321360" y="1984320"/>
              <a:ext cx="581040" cy="0"/>
            </a:xfrm>
            <a:prstGeom prst="line">
              <a:avLst/>
            </a:prstGeom>
            <a:ln w="32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910320" y="196848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}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073680" y="2174760"/>
              <a:ext cx="16344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120" bIns="-41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=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3237120" y="2127240"/>
              <a:ext cx="106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4075200" y="1666800"/>
              <a:ext cx="2080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4283280" y="1641600"/>
              <a:ext cx="2001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4483440" y="162252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4588200" y="1641600"/>
              <a:ext cx="2206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903920" y="162252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5051520" y="1641600"/>
              <a:ext cx="2080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5334120" y="1725480"/>
              <a:ext cx="20808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5616720" y="1666800"/>
              <a:ext cx="2080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5823000" y="16225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283280" y="196848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ex10"/>
                </a:rPr>
                <a:t>|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395960" y="1984320"/>
              <a:ext cx="581040" cy="0"/>
            </a:xfrm>
            <a:prstGeom prst="line">
              <a:avLst/>
            </a:prstGeom>
            <a:ln w="32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4984920" y="196848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ex10"/>
                </a:rPr>
                <a:t>{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5105520" y="196848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ex10"/>
                </a:rPr>
                <a:t>z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5218200" y="1984320"/>
              <a:ext cx="581040" cy="0"/>
            </a:xfrm>
            <a:prstGeom prst="line">
              <a:avLst/>
            </a:prstGeom>
            <a:ln w="32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5807160" y="196848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ex10"/>
                </a:rPr>
                <a:t>}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4970520" y="2174760"/>
              <a:ext cx="16380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120" bIns="-41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r7"/>
                </a:rPr>
                <a:t>=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5134320" y="2127240"/>
              <a:ext cx="106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5927760" y="1595520"/>
              <a:ext cx="1224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0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¢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124680" y="1725480"/>
              <a:ext cx="20808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437520" y="1596960"/>
              <a:ext cx="106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431040" y="1755720"/>
              <a:ext cx="1065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437520" y="1795320"/>
              <a:ext cx="106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577200" y="179532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611280" y="1595520"/>
              <a:ext cx="6039000" cy="6508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0" name=""/>
          <p:cNvGrpSpPr/>
          <p:nvPr/>
        </p:nvGrpSpPr>
        <p:grpSpPr>
          <a:xfrm>
            <a:off x="395280" y="4216320"/>
            <a:ext cx="7912080" cy="2597040"/>
            <a:chOff x="395280" y="4216320"/>
            <a:chExt cx="7912080" cy="2597040"/>
          </a:xfrm>
        </p:grpSpPr>
        <p:grpSp>
          <p:nvGrpSpPr>
            <p:cNvPr id="3371" name=""/>
            <p:cNvGrpSpPr/>
            <p:nvPr/>
          </p:nvGrpSpPr>
          <p:grpSpPr>
            <a:xfrm>
              <a:off x="395280" y="4216320"/>
              <a:ext cx="2209680" cy="2597040"/>
              <a:chOff x="395280" y="4216320"/>
              <a:chExt cx="2209680" cy="2597040"/>
            </a:xfrm>
          </p:grpSpPr>
          <p:sp>
            <p:nvSpPr>
              <p:cNvPr id="3372" name=""/>
              <p:cNvSpPr/>
              <p:nvPr/>
            </p:nvSpPr>
            <p:spPr>
              <a:xfrm>
                <a:off x="395280" y="4216320"/>
                <a:ext cx="2201760" cy="0"/>
              </a:xfrm>
              <a:prstGeom prst="line">
                <a:avLst/>
              </a:prstGeom>
              <a:ln w="10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727200" y="4265640"/>
                <a:ext cx="21276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57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£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1014480" y="4305240"/>
                <a:ext cx="182520" cy="15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6160" bIns="9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sy10"/>
                    <a:ea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1197000" y="4362480"/>
                <a:ext cx="16524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2996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cmmi7"/>
                    <a:ea typeface="Arial"/>
                  </a:rPr>
                  <a:t>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1863720" y="4333680"/>
                <a:ext cx="10800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1970280" y="4284720"/>
                <a:ext cx="10620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66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2076480" y="4333680"/>
                <a:ext cx="13644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2212920" y="4284720"/>
                <a:ext cx="10656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66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2319480" y="4333680"/>
                <a:ext cx="12060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566640" y="4575240"/>
                <a:ext cx="13680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4480" bIns="6804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0000"/>
                    </a:solidFill>
                    <a:latin typeface="cmsy10"/>
                    <a:ea typeface="Arial"/>
                  </a:rPr>
                  <a:t>f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03440" y="4621320"/>
                <a:ext cx="212400" cy="18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58400" bIns="219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0000"/>
                    </a:solidFill>
                    <a:latin typeface="cmr10"/>
                    <a:ea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915840" y="4751280"/>
                <a:ext cx="763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8440" bIns="525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0000"/>
                    </a:solidFill>
                    <a:latin typeface="cmmi10"/>
                    <a:ea typeface="Arial"/>
                  </a:rPr>
                  <a:t>;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1038240" y="4621320"/>
                <a:ext cx="212760" cy="18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58400" bIns="219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0000"/>
                    </a:solidFill>
                    <a:latin typeface="cmsy10"/>
                    <a:ea typeface="Arial"/>
                  </a:rPr>
                  <a:t>£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1249200" y="4575240"/>
                <a:ext cx="13680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4480" bIns="6804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0000"/>
                    </a:solidFill>
                    <a:latin typeface="cmsy10"/>
                    <a:ea typeface="Arial"/>
                  </a:rPr>
                  <a:t>g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1386000" y="4599000"/>
                <a:ext cx="13500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810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cmmi7"/>
                    <a:ea typeface="Arial"/>
                  </a:rPr>
                  <a:t>n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2081160" y="4662360"/>
                <a:ext cx="14148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525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mi10"/>
                    <a:ea typeface="Arial"/>
                  </a:rPr>
                  <a:t>½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395280" y="4883040"/>
                <a:ext cx="2201760" cy="0"/>
              </a:xfrm>
              <a:prstGeom prst="line">
                <a:avLst/>
              </a:prstGeom>
              <a:ln w="10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1012680" y="6340320"/>
                <a:ext cx="76320" cy="2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844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1012680" y="6450120"/>
                <a:ext cx="7632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844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1012680" y="6559560"/>
                <a:ext cx="7632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844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395280" y="6797520"/>
                <a:ext cx="2201760" cy="0"/>
              </a:xfrm>
              <a:prstGeom prst="line">
                <a:avLst/>
              </a:prstGeom>
              <a:ln w="10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403200" y="4222800"/>
                <a:ext cx="2201760" cy="259056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4" name=""/>
            <p:cNvGrpSpPr/>
            <p:nvPr/>
          </p:nvGrpSpPr>
          <p:grpSpPr>
            <a:xfrm>
              <a:off x="1092960" y="4872600"/>
              <a:ext cx="611280" cy="610920"/>
              <a:chOff x="1092960" y="4872600"/>
              <a:chExt cx="611280" cy="610920"/>
            </a:xfrm>
          </p:grpSpPr>
          <p:sp>
            <p:nvSpPr>
              <p:cNvPr id="3395" name=""/>
              <p:cNvSpPr/>
              <p:nvPr/>
            </p:nvSpPr>
            <p:spPr>
              <a:xfrm rot="2700000">
                <a:off x="1182600" y="4961880"/>
                <a:ext cx="432000" cy="432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 flipV="1">
                <a:off x="1283760" y="503892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H="1" flipV="1">
                <a:off x="1258200" y="503856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8" name=""/>
            <p:cNvGrpSpPr/>
            <p:nvPr/>
          </p:nvGrpSpPr>
          <p:grpSpPr>
            <a:xfrm>
              <a:off x="1182600" y="5427360"/>
              <a:ext cx="431640" cy="431640"/>
              <a:chOff x="1182600" y="5427360"/>
              <a:chExt cx="431640" cy="431640"/>
            </a:xfrm>
          </p:grpSpPr>
          <p:sp>
            <p:nvSpPr>
              <p:cNvPr id="3399" name=""/>
              <p:cNvSpPr/>
              <p:nvPr/>
            </p:nvSpPr>
            <p:spPr>
              <a:xfrm>
                <a:off x="1182600" y="542736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 flipH="1" flipV="1">
                <a:off x="1397880" y="544752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 flipV="1">
                <a:off x="1261800" y="564264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2" name=""/>
            <p:cNvGrpSpPr/>
            <p:nvPr/>
          </p:nvGrpSpPr>
          <p:grpSpPr>
            <a:xfrm>
              <a:off x="534960" y="4962240"/>
              <a:ext cx="431640" cy="431640"/>
              <a:chOff x="534960" y="4962240"/>
              <a:chExt cx="431640" cy="431640"/>
            </a:xfrm>
          </p:grpSpPr>
          <p:sp>
            <p:nvSpPr>
              <p:cNvPr id="3403" name=""/>
              <p:cNvSpPr/>
              <p:nvPr/>
            </p:nvSpPr>
            <p:spPr>
              <a:xfrm>
                <a:off x="534960" y="496224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 flipH="1" flipV="1">
                <a:off x="750240" y="498240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 flipV="1">
                <a:off x="614160" y="517752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6" name=""/>
            <p:cNvGrpSpPr/>
            <p:nvPr/>
          </p:nvGrpSpPr>
          <p:grpSpPr>
            <a:xfrm>
              <a:off x="445680" y="5344200"/>
              <a:ext cx="610920" cy="610560"/>
              <a:chOff x="445680" y="5344200"/>
              <a:chExt cx="610920" cy="610560"/>
            </a:xfrm>
          </p:grpSpPr>
          <p:sp>
            <p:nvSpPr>
              <p:cNvPr id="3407" name=""/>
              <p:cNvSpPr/>
              <p:nvPr/>
            </p:nvSpPr>
            <p:spPr>
              <a:xfrm rot="2700000">
                <a:off x="535320" y="5433480"/>
                <a:ext cx="431640" cy="432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 flipV="1">
                <a:off x="636120" y="551016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 flipH="1" flipV="1">
                <a:off x="610560" y="550980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0" name=""/>
            <p:cNvSpPr/>
            <p:nvPr/>
          </p:nvSpPr>
          <p:spPr>
            <a:xfrm>
              <a:off x="731880" y="4817880"/>
              <a:ext cx="68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/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14240" y="5303520"/>
              <a:ext cx="68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/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893880" y="6213240"/>
              <a:ext cx="360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3" name=""/>
            <p:cNvGrpSpPr/>
            <p:nvPr/>
          </p:nvGrpSpPr>
          <p:grpSpPr>
            <a:xfrm>
              <a:off x="2987640" y="4498920"/>
              <a:ext cx="5319720" cy="1733400"/>
              <a:chOff x="2987640" y="4498920"/>
              <a:chExt cx="5319720" cy="1733400"/>
            </a:xfrm>
          </p:grpSpPr>
          <p:sp>
            <p:nvSpPr>
              <p:cNvPr id="3414" name=""/>
              <p:cNvSpPr/>
              <p:nvPr/>
            </p:nvSpPr>
            <p:spPr>
              <a:xfrm>
                <a:off x="2987640" y="4502160"/>
                <a:ext cx="230400" cy="23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2520" bIns="507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Q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3218040" y="4566960"/>
                <a:ext cx="16956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u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3387600" y="4566960"/>
                <a:ext cx="14940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3537000" y="4566960"/>
                <a:ext cx="16992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3700440" y="4516200"/>
                <a:ext cx="1191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81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3819600" y="4566960"/>
                <a:ext cx="16992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u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3989520" y="4566960"/>
                <a:ext cx="25560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m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4421160" y="4502160"/>
                <a:ext cx="2365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25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U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4656240" y="4566960"/>
                <a:ext cx="16992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4827600" y="4566960"/>
                <a:ext cx="13644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c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4964040" y="4566960"/>
                <a:ext cx="14148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5105520" y="4566960"/>
                <a:ext cx="12708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r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5230800" y="4516200"/>
                <a:ext cx="1191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81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5351400" y="4566960"/>
                <a:ext cx="14940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5500800" y="4500360"/>
                <a:ext cx="8568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4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i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5585040" y="4566960"/>
                <a:ext cx="16956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5746680" y="4516200"/>
                <a:ext cx="1191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81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857920" y="4566960"/>
                <a:ext cx="1620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507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y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195960" y="4502160"/>
                <a:ext cx="2304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25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R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6426360" y="4566960"/>
                <a:ext cx="14112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566040" y="4500360"/>
                <a:ext cx="8568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4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l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6651720" y="4566960"/>
                <a:ext cx="14904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6800760" y="4516200"/>
                <a:ext cx="1191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81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6919920" y="4500360"/>
                <a:ext cx="8568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4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i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7005600" y="4566960"/>
                <a:ext cx="15408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o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7159680" y="4566960"/>
                <a:ext cx="16992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7329600" y="4566960"/>
                <a:ext cx="8568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: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7940880" y="4503600"/>
                <a:ext cx="16812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10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L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8094600" y="4570200"/>
                <a:ext cx="122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8218440" y="4520880"/>
                <a:ext cx="8892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344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2987640" y="4822560"/>
                <a:ext cx="22068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10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mi10"/>
                  </a:rPr>
                  <a:t>X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3303720" y="4906800"/>
                <a:ext cx="207720" cy="6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61920" bIns="-6984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r10"/>
                  </a:rPr>
                  <a:t>=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3584520" y="4803480"/>
                <a:ext cx="10332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0160" bIns="666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r10"/>
                  </a:rPr>
                  <a:t>(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3689280" y="4822560"/>
                <a:ext cx="22068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10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mi10"/>
                  </a:rPr>
                  <a:t>X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3909960" y="4925880"/>
                <a:ext cx="106560" cy="1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91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cmr7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4030560" y="4976640"/>
                <a:ext cx="7488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7000" bIns="507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mi10"/>
                  </a:rPr>
                  <a:t>;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4149720" y="4976640"/>
                <a:ext cx="74520" cy="2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70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mi10"/>
                  </a:rPr>
                  <a:t>: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4267080" y="4976640"/>
                <a:ext cx="74880" cy="2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70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mi10"/>
                  </a:rPr>
                  <a:t>: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4386240" y="4976640"/>
                <a:ext cx="74520" cy="2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70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mi10"/>
                  </a:rPr>
                  <a:t>: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505400" y="4976640"/>
                <a:ext cx="74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7000" bIns="507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mi10"/>
                  </a:rPr>
                  <a:t>;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624560" y="4822560"/>
                <a:ext cx="22068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10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mi10"/>
                  </a:rPr>
                  <a:t>X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845240" y="4965480"/>
                <a:ext cx="13176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92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cmmi7"/>
                  </a:rPr>
                  <a:t>n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991040" y="4803480"/>
                <a:ext cx="10332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0160" bIns="666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r10"/>
                  </a:rPr>
                  <a:t>)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189760" y="4819320"/>
                <a:ext cx="12204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4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b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299200" y="4889160"/>
                <a:ext cx="1220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518080" y="4840200"/>
                <a:ext cx="8892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344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607000" y="4819320"/>
                <a:ext cx="13680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4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h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742000" y="4889160"/>
                <a:ext cx="122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961240" y="4889160"/>
                <a:ext cx="1364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o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6097680" y="4889160"/>
                <a:ext cx="142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u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6240600" y="4840200"/>
                <a:ext cx="8892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344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6329520" y="4889160"/>
                <a:ext cx="1220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c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6438960" y="4889160"/>
                <a:ext cx="1364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o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6575400" y="4889160"/>
                <a:ext cx="219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m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6794640" y="4889160"/>
                <a:ext cx="1220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6916680" y="4976640"/>
                <a:ext cx="82800" cy="2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70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.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7121520" y="4822560"/>
                <a:ext cx="19044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10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7311960" y="4819320"/>
                <a:ext cx="13680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4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h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7448760" y="4889160"/>
                <a:ext cx="1220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7572600" y="4889160"/>
                <a:ext cx="1504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7721640" y="4976640"/>
                <a:ext cx="8244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7000" bIns="507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,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4602240" y="5411520"/>
                <a:ext cx="20016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10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0000"/>
                    </a:solidFill>
                    <a:latin typeface="cmr10"/>
                  </a:rPr>
                  <a:t>H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4802400" y="5395680"/>
                <a:ext cx="10152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92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cmmi7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4802400" y="5578200"/>
                <a:ext cx="21240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92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cmsy7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027760" y="5392440"/>
                <a:ext cx="10296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0160" bIns="666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0000"/>
                    </a:solidFill>
                    <a:latin typeface="cmr10"/>
                  </a:rPr>
                  <a:t>(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132520" y="5411520"/>
                <a:ext cx="22068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10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0000"/>
                    </a:solidFill>
                    <a:latin typeface="cmmi10"/>
                  </a:rPr>
                  <a:t>X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448240" y="5392440"/>
                <a:ext cx="7488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0160" bIns="666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0000"/>
                    </a:solidFill>
                    <a:latin typeface="cmsy10"/>
                  </a:rPr>
                  <a:t>j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597640" y="5411520"/>
                <a:ext cx="20772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10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0000"/>
                    </a:solidFill>
                    <a:latin typeface="cmr10"/>
                  </a:rPr>
                  <a:t>£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803920" y="5392440"/>
                <a:ext cx="10332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0160" bIns="666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0000"/>
                    </a:solidFill>
                    <a:latin typeface="cmr10"/>
                  </a:rPr>
                  <a:t>)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983200" y="5398920"/>
                <a:ext cx="20808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93680" bIns="6048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0000"/>
                    </a:solidFill>
                    <a:latin typeface="msam10"/>
                  </a:rPr>
                  <a:t>&amp;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6264360" y="5478120"/>
                <a:ext cx="1602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0000"/>
                    </a:solidFill>
                    <a:latin typeface="cmmi10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6424560" y="5392440"/>
                <a:ext cx="13356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0160" bIns="666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0000"/>
                    </a:solidFill>
                    <a:latin typeface="cmmi10"/>
                  </a:rPr>
                  <a:t>=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558120" y="5421240"/>
                <a:ext cx="133200" cy="17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71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0000"/>
                    </a:solidFill>
                    <a:latin typeface="cmr10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3083040" y="6065640"/>
                <a:ext cx="1778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w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3260880" y="6005520"/>
                <a:ext cx="82440" cy="1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746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i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3341880" y="6016320"/>
                <a:ext cx="8892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344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3430800" y="5995800"/>
                <a:ext cx="13644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4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h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3662280" y="6065640"/>
                <a:ext cx="1238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mi10"/>
                  </a:rPr>
                  <a:t>"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882960" y="6065640"/>
                <a:ext cx="1508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4032360" y="6065640"/>
                <a:ext cx="1220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4141800" y="6065640"/>
                <a:ext cx="12240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507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g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4265640" y="5995800"/>
                <a:ext cx="6840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4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l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4334040" y="6005520"/>
                <a:ext cx="82440" cy="1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746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i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4415040" y="6065640"/>
                <a:ext cx="12204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507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g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4538880" y="6005520"/>
                <a:ext cx="82440" cy="1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746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i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4619520" y="5995800"/>
                <a:ext cx="12240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4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b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4743360" y="5995800"/>
                <a:ext cx="6840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4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l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4811760" y="6065640"/>
                <a:ext cx="122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029200" y="6005520"/>
                <a:ext cx="82440" cy="1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746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i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111640" y="6065640"/>
                <a:ext cx="1508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5357880" y="6065640"/>
                <a:ext cx="1602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mi10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5518080" y="6153120"/>
                <a:ext cx="82800" cy="2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70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.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2987640" y="4498920"/>
                <a:ext cx="5319720" cy="173340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7" name=""/>
            <p:cNvSpPr/>
            <p:nvPr/>
          </p:nvSpPr>
          <p:spPr>
            <a:xfrm>
              <a:off x="1974960" y="4962240"/>
              <a:ext cx="43164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 flipH="1" flipV="1">
              <a:off x="2190240" y="4983120"/>
              <a:ext cx="1800" cy="3585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9" name=""/>
            <p:cNvGrpSpPr/>
            <p:nvPr/>
          </p:nvGrpSpPr>
          <p:grpSpPr>
            <a:xfrm>
              <a:off x="1979640" y="5421240"/>
              <a:ext cx="431640" cy="431640"/>
              <a:chOff x="1979640" y="5421240"/>
              <a:chExt cx="431640" cy="431640"/>
            </a:xfrm>
          </p:grpSpPr>
          <p:sp>
            <p:nvSpPr>
              <p:cNvPr id="3510" name=""/>
              <p:cNvSpPr/>
              <p:nvPr/>
            </p:nvSpPr>
            <p:spPr>
              <a:xfrm>
                <a:off x="1979640" y="542124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 flipH="1" flipV="1">
                <a:off x="2194920" y="5441400"/>
                <a:ext cx="1080" cy="3582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2" name=""/>
            <p:cNvGrpSpPr/>
            <p:nvPr/>
          </p:nvGrpSpPr>
          <p:grpSpPr>
            <a:xfrm>
              <a:off x="1979640" y="5878440"/>
              <a:ext cx="431640" cy="431640"/>
              <a:chOff x="1979640" y="5878440"/>
              <a:chExt cx="431640" cy="431640"/>
            </a:xfrm>
          </p:grpSpPr>
          <p:sp>
            <p:nvSpPr>
              <p:cNvPr id="3513" name=""/>
              <p:cNvSpPr/>
              <p:nvPr/>
            </p:nvSpPr>
            <p:spPr>
              <a:xfrm>
                <a:off x="1979640" y="587844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 flipH="1" flipV="1">
                <a:off x="2194920" y="5898600"/>
                <a:ext cx="1080" cy="3582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5" name=""/>
            <p:cNvGrpSpPr/>
            <p:nvPr/>
          </p:nvGrpSpPr>
          <p:grpSpPr>
            <a:xfrm>
              <a:off x="1979640" y="6332400"/>
              <a:ext cx="431640" cy="431640"/>
              <a:chOff x="1979640" y="6332400"/>
              <a:chExt cx="431640" cy="431640"/>
            </a:xfrm>
          </p:grpSpPr>
          <p:sp>
            <p:nvSpPr>
              <p:cNvPr id="3516" name=""/>
              <p:cNvSpPr/>
              <p:nvPr/>
            </p:nvSpPr>
            <p:spPr>
              <a:xfrm>
                <a:off x="1979640" y="633240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 flipH="1" flipV="1">
                <a:off x="2194920" y="6352560"/>
                <a:ext cx="1080" cy="3582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18" name=""/>
          <p:cNvGrpSpPr/>
          <p:nvPr/>
        </p:nvGrpSpPr>
        <p:grpSpPr>
          <a:xfrm>
            <a:off x="2484360" y="2060640"/>
            <a:ext cx="431640" cy="431640"/>
            <a:chOff x="2484360" y="2060640"/>
            <a:chExt cx="431640" cy="431640"/>
          </a:xfrm>
        </p:grpSpPr>
        <p:sp>
          <p:nvSpPr>
            <p:cNvPr id="3519" name=""/>
            <p:cNvSpPr/>
            <p:nvPr/>
          </p:nvSpPr>
          <p:spPr>
            <a:xfrm>
              <a:off x="2484360" y="206064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 flipH="1" flipV="1">
              <a:off x="2699640" y="208080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 flipV="1">
              <a:off x="2563560" y="227592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2" name=""/>
          <p:cNvGrpSpPr/>
          <p:nvPr/>
        </p:nvGrpSpPr>
        <p:grpSpPr>
          <a:xfrm>
            <a:off x="5274720" y="1971000"/>
            <a:ext cx="610920" cy="610560"/>
            <a:chOff x="5274720" y="1971000"/>
            <a:chExt cx="610920" cy="610560"/>
          </a:xfrm>
        </p:grpSpPr>
        <p:sp>
          <p:nvSpPr>
            <p:cNvPr id="3523" name=""/>
            <p:cNvSpPr/>
            <p:nvPr/>
          </p:nvSpPr>
          <p:spPr>
            <a:xfrm rot="2700000">
              <a:off x="5364360" y="206028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V="1">
              <a:off x="5465160" y="213696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 flipH="1" flipV="1">
              <a:off x="5439600" y="213660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6" name=""/>
          <p:cNvGrpSpPr/>
          <p:nvPr/>
        </p:nvGrpSpPr>
        <p:grpSpPr>
          <a:xfrm>
            <a:off x="401760" y="3048120"/>
            <a:ext cx="8057520" cy="741240"/>
            <a:chOff x="401760" y="3048120"/>
            <a:chExt cx="8057520" cy="741240"/>
          </a:xfrm>
        </p:grpSpPr>
        <p:sp>
          <p:nvSpPr>
            <p:cNvPr id="3527" name=""/>
            <p:cNvSpPr/>
            <p:nvPr/>
          </p:nvSpPr>
          <p:spPr>
            <a:xfrm>
              <a:off x="401760" y="3120840"/>
              <a:ext cx="1836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563400" y="3192480"/>
              <a:ext cx="14076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04520" y="3192480"/>
              <a:ext cx="11088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942480" y="3139920"/>
              <a:ext cx="1094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2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1052280" y="3117600"/>
              <a:ext cx="1566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5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1209240" y="3192480"/>
              <a:ext cx="12528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461600" y="3192480"/>
              <a:ext cx="15696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53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1618920" y="3192480"/>
              <a:ext cx="15696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1776240" y="3192480"/>
              <a:ext cx="11052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1887120" y="3192480"/>
              <a:ext cx="12528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2139480" y="3192480"/>
              <a:ext cx="11088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2250720" y="3139920"/>
              <a:ext cx="1090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2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2360160" y="3192480"/>
              <a:ext cx="14112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503080" y="3139920"/>
              <a:ext cx="1094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2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612880" y="3192480"/>
              <a:ext cx="12492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865240" y="3101760"/>
              <a:ext cx="7884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943000" y="3132000"/>
              <a:ext cx="1407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3085920" y="3101760"/>
              <a:ext cx="1090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3195360" y="3049560"/>
              <a:ext cx="17568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1680" bIns="21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sy7"/>
                </a:rPr>
                <a:t>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3371400" y="3087720"/>
              <a:ext cx="139320" cy="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352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3525480" y="3284280"/>
              <a:ext cx="792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4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3739680" y="3139920"/>
              <a:ext cx="1094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2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3849480" y="3117600"/>
              <a:ext cx="1566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5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006440" y="3192480"/>
              <a:ext cx="12528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258800" y="3120840"/>
              <a:ext cx="234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4641480" y="3192480"/>
              <a:ext cx="14112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4782960" y="3192480"/>
              <a:ext cx="11052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4893840" y="3192480"/>
              <a:ext cx="12528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5146200" y="3124080"/>
              <a:ext cx="792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8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5224320" y="3192480"/>
              <a:ext cx="15660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5382720" y="3117600"/>
              <a:ext cx="1569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5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5540040" y="3192480"/>
              <a:ext cx="12492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5665320" y="3192480"/>
              <a:ext cx="15696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53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5830560" y="3192480"/>
              <a:ext cx="12492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5955840" y="3192480"/>
              <a:ext cx="15696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6113160" y="3117600"/>
              <a:ext cx="1569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5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6270480" y="3192480"/>
              <a:ext cx="12492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6397200" y="3192480"/>
              <a:ext cx="15696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6546600" y="3139920"/>
              <a:ext cx="1090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2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6783120" y="3192480"/>
              <a:ext cx="14076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6924240" y="3192480"/>
              <a:ext cx="15696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081560" y="3117600"/>
              <a:ext cx="1566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5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365600" y="3192480"/>
              <a:ext cx="20448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w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562520" y="3192480"/>
              <a:ext cx="12492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7813440" y="3117600"/>
              <a:ext cx="1486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5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7962480" y="3192480"/>
              <a:ext cx="15696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8121240" y="3192480"/>
              <a:ext cx="14112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8254800" y="3192480"/>
              <a:ext cx="20448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w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401760" y="3546360"/>
              <a:ext cx="1090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2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12280" y="3524040"/>
              <a:ext cx="1569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5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69600" y="3598920"/>
              <a:ext cx="14076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810720" y="3546360"/>
              <a:ext cx="1094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2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1015560" y="3527280"/>
              <a:ext cx="2124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1228320" y="3511440"/>
              <a:ext cx="10620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3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1228320" y="3705120"/>
              <a:ext cx="22500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3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1468080" y="3508200"/>
              <a:ext cx="1090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1577520" y="3527280"/>
              <a:ext cx="234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1914120" y="3508200"/>
              <a:ext cx="7920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071440" y="3527280"/>
              <a:ext cx="220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2290320" y="3508200"/>
              <a:ext cx="10944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2479320" y="3441600"/>
              <a:ext cx="13932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3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619000" y="3450960"/>
              <a:ext cx="225000" cy="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2200" bIns="-44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sy7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2846160" y="3441600"/>
              <a:ext cx="22500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3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665080" y="3582720"/>
              <a:ext cx="22032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9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</a:rPr>
                <a:t>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3149280" y="3527280"/>
              <a:ext cx="2124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362040" y="3508200"/>
              <a:ext cx="1090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3473280" y="3527280"/>
              <a:ext cx="23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808080" y="3508200"/>
              <a:ext cx="7920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3965400" y="3527280"/>
              <a:ext cx="220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4186080" y="3508200"/>
              <a:ext cx="1090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4374720" y="3616200"/>
              <a:ext cx="22032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6240" bIns="-73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4673160" y="3598920"/>
              <a:ext cx="16956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4843080" y="3508200"/>
              <a:ext cx="1411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4984560" y="3538440"/>
              <a:ext cx="1407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125680" y="3690720"/>
              <a:ext cx="7920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401760" y="3048120"/>
              <a:ext cx="8056080" cy="7412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3399"/>
                </a:solidFill>
                <a:latin typeface="Garamond"/>
              </a:rPr>
              <a:t>Outline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1050840" y="1628280"/>
            <a:ext cx="704232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64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Arial"/>
              </a:rPr>
              <a:t>Motivation and Not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64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Arial"/>
              </a:rPr>
              <a:t>Quantum Uncertainty Rel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6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826920" y="3070080"/>
            <a:ext cx="720108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"/>
          <p:cNvSpPr/>
          <p:nvPr/>
        </p:nvSpPr>
        <p:spPr>
          <a:xfrm>
            <a:off x="3995640" y="3213000"/>
            <a:ext cx="4824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"/>
              </a:rPr>
              <a:t>conjugate coding / BB8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7" name=""/>
          <p:cNvGrpSpPr/>
          <p:nvPr/>
        </p:nvGrpSpPr>
        <p:grpSpPr>
          <a:xfrm>
            <a:off x="993600" y="3230640"/>
            <a:ext cx="2209680" cy="3077640"/>
            <a:chOff x="993600" y="3230640"/>
            <a:chExt cx="2209680" cy="3077640"/>
          </a:xfrm>
        </p:grpSpPr>
        <p:sp>
          <p:nvSpPr>
            <p:cNvPr id="3608" name=""/>
            <p:cNvSpPr/>
            <p:nvPr/>
          </p:nvSpPr>
          <p:spPr>
            <a:xfrm>
              <a:off x="993600" y="323064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1325520" y="3279600"/>
              <a:ext cx="212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1612800" y="3319200"/>
              <a:ext cx="18252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9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1795320" y="3376440"/>
              <a:ext cx="16524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60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2462040" y="3347640"/>
              <a:ext cx="1080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2568600" y="3298680"/>
              <a:ext cx="10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3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2674800" y="3347640"/>
              <a:ext cx="1364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2811240" y="3298680"/>
              <a:ext cx="1065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3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917800" y="3347640"/>
              <a:ext cx="1206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1164960" y="3589200"/>
              <a:ext cx="13680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120" bIns="67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1301760" y="3635280"/>
              <a:ext cx="2124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040" bIns="21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1514160" y="3765240"/>
              <a:ext cx="7632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080" bIns="522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1636560" y="3635280"/>
              <a:ext cx="2127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040" bIns="21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1847520" y="3589200"/>
              <a:ext cx="13680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120" bIns="67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1984320" y="3612960"/>
              <a:ext cx="13500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2679480" y="3676320"/>
              <a:ext cx="141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000" bIns="522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993600" y="389700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1611000" y="537804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1611000" y="5487840"/>
              <a:ext cx="76320" cy="2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0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1611000" y="5597280"/>
              <a:ext cx="76320" cy="2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0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993600" y="629244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1001520" y="3236760"/>
              <a:ext cx="2201760" cy="30715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0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136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lassical general lem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iate it for various quantum cod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Contributions I: Uncertainty Relations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3632" name=""/>
          <p:cNvGrpSpPr/>
          <p:nvPr/>
        </p:nvGrpSpPr>
        <p:grpSpPr>
          <a:xfrm>
            <a:off x="900000" y="1700280"/>
            <a:ext cx="5173920" cy="318960"/>
            <a:chOff x="900000" y="1700280"/>
            <a:chExt cx="5173920" cy="318960"/>
          </a:xfrm>
        </p:grpSpPr>
        <p:sp>
          <p:nvSpPr>
            <p:cNvPr id="3633" name=""/>
            <p:cNvSpPr/>
            <p:nvPr/>
          </p:nvSpPr>
          <p:spPr>
            <a:xfrm>
              <a:off x="900000" y="1743120"/>
              <a:ext cx="222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1123920" y="172260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1238040" y="1743120"/>
              <a:ext cx="2034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1441440" y="1854360"/>
              <a:ext cx="842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1622520" y="1722600"/>
              <a:ext cx="824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1787400" y="1743120"/>
              <a:ext cx="2034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2011320" y="1701720"/>
              <a:ext cx="842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2095560" y="1709640"/>
              <a:ext cx="185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8520" bIns="23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sy7"/>
                </a:rPr>
                <a:t>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2281320" y="1704960"/>
              <a:ext cx="1188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2496960" y="1836720"/>
              <a:ext cx="2304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9840" bIns="-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2809800" y="1817640"/>
              <a:ext cx="1382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2962080" y="172260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3159000" y="1757520"/>
              <a:ext cx="2304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3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3473280" y="1739880"/>
              <a:ext cx="17172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3792600" y="1836720"/>
              <a:ext cx="296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9840" bIns="-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4238640" y="1743120"/>
              <a:ext cx="2221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4460760" y="1727280"/>
              <a:ext cx="11268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8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4460760" y="1930320"/>
              <a:ext cx="23652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8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4713120" y="172260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4827600" y="1743120"/>
              <a:ext cx="2030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5051520" y="1749240"/>
              <a:ext cx="1458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8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mi7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5213160" y="172260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411880" y="1728720"/>
              <a:ext cx="2300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msam10"/>
                </a:rPr>
                <a:t>&amp;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5724360" y="1739880"/>
              <a:ext cx="17172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896080" y="1817640"/>
              <a:ext cx="1778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900000" y="1700280"/>
              <a:ext cx="5173920" cy="318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9" name=""/>
          <p:cNvGrpSpPr/>
          <p:nvPr/>
        </p:nvGrpSpPr>
        <p:grpSpPr>
          <a:xfrm>
            <a:off x="1691640" y="3862080"/>
            <a:ext cx="610560" cy="610560"/>
            <a:chOff x="1691640" y="3862080"/>
            <a:chExt cx="610560" cy="610560"/>
          </a:xfrm>
        </p:grpSpPr>
        <p:sp>
          <p:nvSpPr>
            <p:cNvPr id="3660" name=""/>
            <p:cNvSpPr/>
            <p:nvPr/>
          </p:nvSpPr>
          <p:spPr>
            <a:xfrm rot="2700000">
              <a:off x="1780920" y="395136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 flipV="1">
              <a:off x="1881720" y="402768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 flipH="1" flipV="1">
              <a:off x="1856880" y="402732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3" name=""/>
          <p:cNvGrpSpPr/>
          <p:nvPr/>
        </p:nvGrpSpPr>
        <p:grpSpPr>
          <a:xfrm>
            <a:off x="1781280" y="4416480"/>
            <a:ext cx="431640" cy="431640"/>
            <a:chOff x="1781280" y="4416480"/>
            <a:chExt cx="431640" cy="431640"/>
          </a:xfrm>
        </p:grpSpPr>
        <p:sp>
          <p:nvSpPr>
            <p:cNvPr id="3664" name=""/>
            <p:cNvSpPr/>
            <p:nvPr/>
          </p:nvSpPr>
          <p:spPr>
            <a:xfrm>
              <a:off x="1781280" y="441648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 flipH="1" flipV="1">
              <a:off x="1996560" y="443664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 flipV="1">
              <a:off x="1860480" y="463176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7" name=""/>
          <p:cNvGrpSpPr/>
          <p:nvPr/>
        </p:nvGrpSpPr>
        <p:grpSpPr>
          <a:xfrm>
            <a:off x="1133640" y="3951360"/>
            <a:ext cx="431640" cy="431640"/>
            <a:chOff x="1133640" y="3951360"/>
            <a:chExt cx="431640" cy="431640"/>
          </a:xfrm>
        </p:grpSpPr>
        <p:sp>
          <p:nvSpPr>
            <p:cNvPr id="3668" name=""/>
            <p:cNvSpPr/>
            <p:nvPr/>
          </p:nvSpPr>
          <p:spPr>
            <a:xfrm>
              <a:off x="1133640" y="395136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 flipH="1" flipV="1">
              <a:off x="1348920" y="397152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V="1">
              <a:off x="1212840" y="416664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1" name=""/>
          <p:cNvGrpSpPr/>
          <p:nvPr/>
        </p:nvGrpSpPr>
        <p:grpSpPr>
          <a:xfrm>
            <a:off x="1043640" y="4333320"/>
            <a:ext cx="610920" cy="610560"/>
            <a:chOff x="1043640" y="4333320"/>
            <a:chExt cx="610920" cy="610560"/>
          </a:xfrm>
        </p:grpSpPr>
        <p:sp>
          <p:nvSpPr>
            <p:cNvPr id="3672" name=""/>
            <p:cNvSpPr/>
            <p:nvPr/>
          </p:nvSpPr>
          <p:spPr>
            <a:xfrm rot="2700000">
              <a:off x="1132920" y="442260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 flipV="1">
              <a:off x="1234080" y="449928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 flipH="1" flipV="1">
              <a:off x="1209240" y="449892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5" name=""/>
          <p:cNvSpPr/>
          <p:nvPr/>
        </p:nvSpPr>
        <p:spPr>
          <a:xfrm>
            <a:off x="1330200" y="3807000"/>
            <a:ext cx="6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1312920" y="4292640"/>
            <a:ext cx="6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7" name=""/>
          <p:cNvGrpSpPr/>
          <p:nvPr/>
        </p:nvGrpSpPr>
        <p:grpSpPr>
          <a:xfrm>
            <a:off x="2433600" y="3591000"/>
            <a:ext cx="719280" cy="2663640"/>
            <a:chOff x="2433600" y="3591000"/>
            <a:chExt cx="719280" cy="2663640"/>
          </a:xfrm>
        </p:grpSpPr>
        <p:sp>
          <p:nvSpPr>
            <p:cNvPr id="3678" name=""/>
            <p:cNvSpPr/>
            <p:nvPr/>
          </p:nvSpPr>
          <p:spPr>
            <a:xfrm>
              <a:off x="2433600" y="3591000"/>
              <a:ext cx="719280" cy="18716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9" name=""/>
            <p:cNvGrpSpPr/>
            <p:nvPr/>
          </p:nvGrpSpPr>
          <p:grpSpPr>
            <a:xfrm>
              <a:off x="2475000" y="4425840"/>
              <a:ext cx="647280" cy="431640"/>
              <a:chOff x="2475000" y="4425840"/>
              <a:chExt cx="647280" cy="431640"/>
            </a:xfrm>
          </p:grpSpPr>
          <p:sp>
            <p:nvSpPr>
              <p:cNvPr id="3680" name=""/>
              <p:cNvSpPr/>
              <p:nvPr/>
            </p:nvSpPr>
            <p:spPr>
              <a:xfrm>
                <a:off x="2475000" y="4425840"/>
                <a:ext cx="64728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H="1" flipV="1">
                <a:off x="2797920" y="4446000"/>
                <a:ext cx="252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 flipV="1">
                <a:off x="2593800" y="4641840"/>
                <a:ext cx="4788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 flipV="1">
                <a:off x="2622240" y="4445280"/>
                <a:ext cx="376560" cy="376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 flipH="1" flipV="1">
                <a:off x="2647440" y="4510800"/>
                <a:ext cx="263160" cy="2491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5" name=""/>
            <p:cNvGrpSpPr/>
            <p:nvPr/>
          </p:nvGrpSpPr>
          <p:grpSpPr>
            <a:xfrm>
              <a:off x="2534040" y="4785480"/>
              <a:ext cx="602280" cy="618480"/>
              <a:chOff x="2534040" y="4785480"/>
              <a:chExt cx="602280" cy="618480"/>
            </a:xfrm>
          </p:grpSpPr>
          <p:sp>
            <p:nvSpPr>
              <p:cNvPr id="3686" name=""/>
              <p:cNvSpPr/>
              <p:nvPr/>
            </p:nvSpPr>
            <p:spPr>
              <a:xfrm rot="19923600">
                <a:off x="2619000" y="4858920"/>
                <a:ext cx="431640" cy="4712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 flipH="1" flipV="1">
                <a:off x="2734560" y="4906440"/>
                <a:ext cx="185400" cy="345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 flipV="1">
                <a:off x="2715120" y="5009400"/>
                <a:ext cx="281520" cy="151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 flipV="1">
                <a:off x="2785680" y="4913640"/>
                <a:ext cx="104400" cy="3394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 flipH="1" flipV="1">
                <a:off x="2630160" y="5039640"/>
                <a:ext cx="380160" cy="110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1" name=""/>
            <p:cNvSpPr/>
            <p:nvPr/>
          </p:nvSpPr>
          <p:spPr>
            <a:xfrm>
              <a:off x="2602080" y="582300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 flipH="1" flipV="1">
              <a:off x="2818080" y="584316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 rot="2700000">
              <a:off x="2619720" y="536220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 flipH="1" flipV="1">
              <a:off x="2695680" y="5439960"/>
              <a:ext cx="260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5" name=""/>
            <p:cNvGrpSpPr/>
            <p:nvPr/>
          </p:nvGrpSpPr>
          <p:grpSpPr>
            <a:xfrm>
              <a:off x="2581560" y="3951360"/>
              <a:ext cx="431640" cy="431640"/>
              <a:chOff x="2581560" y="3951360"/>
              <a:chExt cx="431640" cy="431640"/>
            </a:xfrm>
          </p:grpSpPr>
          <p:sp>
            <p:nvSpPr>
              <p:cNvPr id="3696" name=""/>
              <p:cNvSpPr/>
              <p:nvPr/>
            </p:nvSpPr>
            <p:spPr>
              <a:xfrm>
                <a:off x="2581560" y="395136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 flipH="1" flipV="1">
                <a:off x="2796840" y="397152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 flipV="1">
                <a:off x="2660760" y="416736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 flipV="1">
                <a:off x="2679480" y="403344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H="1" flipV="1">
                <a:off x="2654280" y="403524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01" name=""/>
          <p:cNvGrpSpPr/>
          <p:nvPr/>
        </p:nvGrpSpPr>
        <p:grpSpPr>
          <a:xfrm>
            <a:off x="4572000" y="3824280"/>
            <a:ext cx="2595240" cy="325440"/>
            <a:chOff x="4572000" y="3824280"/>
            <a:chExt cx="2595240" cy="325440"/>
          </a:xfrm>
        </p:grpSpPr>
        <p:sp>
          <p:nvSpPr>
            <p:cNvPr id="3702" name=""/>
            <p:cNvSpPr/>
            <p:nvPr/>
          </p:nvSpPr>
          <p:spPr>
            <a:xfrm>
              <a:off x="4572000" y="3848040"/>
              <a:ext cx="2426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816440" y="3830760"/>
              <a:ext cx="1220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4816440" y="4052880"/>
              <a:ext cx="2584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091120" y="3826080"/>
              <a:ext cx="126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217840" y="3848040"/>
              <a:ext cx="2685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5601960" y="3826080"/>
              <a:ext cx="90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5783040" y="3848040"/>
              <a:ext cx="252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6035400" y="382608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6251400" y="3862440"/>
              <a:ext cx="2523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42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sy10"/>
                </a:rPr>
                <a:t>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6648120" y="3929040"/>
              <a:ext cx="1954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6843600" y="3826080"/>
              <a:ext cx="162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7005600" y="3861000"/>
              <a:ext cx="1616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572000" y="3824280"/>
              <a:ext cx="2595240" cy="325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"/>
          <p:cNvSpPr/>
          <p:nvPr/>
        </p:nvSpPr>
        <p:spPr>
          <a:xfrm>
            <a:off x="3995640" y="3213000"/>
            <a:ext cx="4824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"/>
              </a:rPr>
              <a:t>conjugate coding / BB8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"/>
              </a:rPr>
              <a:t>three bases / six-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136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lassical general lem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iate it for various quantum cod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Contributions I: Uncertainty Relations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3718" name=""/>
          <p:cNvGrpSpPr/>
          <p:nvPr/>
        </p:nvGrpSpPr>
        <p:grpSpPr>
          <a:xfrm>
            <a:off x="900000" y="1700280"/>
            <a:ext cx="5173920" cy="318960"/>
            <a:chOff x="900000" y="1700280"/>
            <a:chExt cx="5173920" cy="318960"/>
          </a:xfrm>
        </p:grpSpPr>
        <p:sp>
          <p:nvSpPr>
            <p:cNvPr id="3719" name=""/>
            <p:cNvSpPr/>
            <p:nvPr/>
          </p:nvSpPr>
          <p:spPr>
            <a:xfrm>
              <a:off x="900000" y="1743120"/>
              <a:ext cx="222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1123920" y="172260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238040" y="1743120"/>
              <a:ext cx="2034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441440" y="1854360"/>
              <a:ext cx="842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622520" y="1722600"/>
              <a:ext cx="824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1787400" y="1743120"/>
              <a:ext cx="2034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2011320" y="1701720"/>
              <a:ext cx="842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2095560" y="1709640"/>
              <a:ext cx="185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8520" bIns="23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sy7"/>
                </a:rPr>
                <a:t>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2281320" y="1704960"/>
              <a:ext cx="1188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2496960" y="1836720"/>
              <a:ext cx="2304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9840" bIns="-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2809800" y="1817640"/>
              <a:ext cx="1382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2962080" y="172260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3159000" y="1757520"/>
              <a:ext cx="2304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3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3473280" y="1739880"/>
              <a:ext cx="17172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3792600" y="1836720"/>
              <a:ext cx="296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9840" bIns="-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4238640" y="1743120"/>
              <a:ext cx="2221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4460760" y="1727280"/>
              <a:ext cx="11268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8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4460760" y="1930320"/>
              <a:ext cx="23652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8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4713120" y="172260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4827600" y="1743120"/>
              <a:ext cx="2030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5051520" y="1749240"/>
              <a:ext cx="1458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8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mi7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5213160" y="172260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5411880" y="1728720"/>
              <a:ext cx="2300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msam10"/>
                </a:rPr>
                <a:t>&amp;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5724360" y="1739880"/>
              <a:ext cx="17172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5896080" y="1817640"/>
              <a:ext cx="1778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900000" y="1700280"/>
              <a:ext cx="5173920" cy="318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5" name=""/>
          <p:cNvGrpSpPr/>
          <p:nvPr/>
        </p:nvGrpSpPr>
        <p:grpSpPr>
          <a:xfrm>
            <a:off x="4572000" y="3824280"/>
            <a:ext cx="2595240" cy="325440"/>
            <a:chOff x="4572000" y="3824280"/>
            <a:chExt cx="2595240" cy="325440"/>
          </a:xfrm>
        </p:grpSpPr>
        <p:sp>
          <p:nvSpPr>
            <p:cNvPr id="3746" name=""/>
            <p:cNvSpPr/>
            <p:nvPr/>
          </p:nvSpPr>
          <p:spPr>
            <a:xfrm>
              <a:off x="4572000" y="3848040"/>
              <a:ext cx="2426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4816440" y="3830760"/>
              <a:ext cx="1220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816440" y="4052880"/>
              <a:ext cx="2584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5091120" y="3826080"/>
              <a:ext cx="126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5217840" y="3848040"/>
              <a:ext cx="2685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5601960" y="3826080"/>
              <a:ext cx="90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5783040" y="3848040"/>
              <a:ext cx="252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6035400" y="382608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6251400" y="3862440"/>
              <a:ext cx="2523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42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sy10"/>
                </a:rPr>
                <a:t>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6648120" y="3929040"/>
              <a:ext cx="1954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6843600" y="3826080"/>
              <a:ext cx="162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005600" y="3861000"/>
              <a:ext cx="1616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572000" y="3824280"/>
              <a:ext cx="2595240" cy="325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9" name=""/>
          <p:cNvGrpSpPr/>
          <p:nvPr/>
        </p:nvGrpSpPr>
        <p:grpSpPr>
          <a:xfrm>
            <a:off x="1045080" y="3844440"/>
            <a:ext cx="610920" cy="610560"/>
            <a:chOff x="1045080" y="3844440"/>
            <a:chExt cx="610920" cy="610560"/>
          </a:xfrm>
        </p:grpSpPr>
        <p:sp>
          <p:nvSpPr>
            <p:cNvPr id="3760" name=""/>
            <p:cNvSpPr/>
            <p:nvPr/>
          </p:nvSpPr>
          <p:spPr>
            <a:xfrm rot="2700000">
              <a:off x="1134360" y="393372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 flipV="1">
              <a:off x="1235520" y="401040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 flipH="1" flipV="1">
              <a:off x="1210680" y="401004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3" name=""/>
          <p:cNvGrpSpPr/>
          <p:nvPr/>
        </p:nvGrpSpPr>
        <p:grpSpPr>
          <a:xfrm>
            <a:off x="1854360" y="4419720"/>
            <a:ext cx="431640" cy="431640"/>
            <a:chOff x="1854360" y="4419720"/>
            <a:chExt cx="431640" cy="431640"/>
          </a:xfrm>
        </p:grpSpPr>
        <p:sp>
          <p:nvSpPr>
            <p:cNvPr id="3764" name=""/>
            <p:cNvSpPr/>
            <p:nvPr/>
          </p:nvSpPr>
          <p:spPr>
            <a:xfrm>
              <a:off x="1854360" y="441972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 flipH="1" flipV="1">
              <a:off x="2069640" y="443988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 flipV="1">
              <a:off x="1933560" y="463500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7" name=""/>
          <p:cNvGrpSpPr/>
          <p:nvPr/>
        </p:nvGrpSpPr>
        <p:grpSpPr>
          <a:xfrm>
            <a:off x="487440" y="3933720"/>
            <a:ext cx="431640" cy="431640"/>
            <a:chOff x="487440" y="3933720"/>
            <a:chExt cx="431640" cy="431640"/>
          </a:xfrm>
        </p:grpSpPr>
        <p:sp>
          <p:nvSpPr>
            <p:cNvPr id="3768" name=""/>
            <p:cNvSpPr/>
            <p:nvPr/>
          </p:nvSpPr>
          <p:spPr>
            <a:xfrm>
              <a:off x="487440" y="393372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H="1" flipV="1">
              <a:off x="702720" y="395388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 flipV="1">
              <a:off x="566640" y="414900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1" name=""/>
          <p:cNvGrpSpPr/>
          <p:nvPr/>
        </p:nvGrpSpPr>
        <p:grpSpPr>
          <a:xfrm>
            <a:off x="397800" y="4316040"/>
            <a:ext cx="610560" cy="610560"/>
            <a:chOff x="397800" y="4316040"/>
            <a:chExt cx="610560" cy="610560"/>
          </a:xfrm>
        </p:grpSpPr>
        <p:sp>
          <p:nvSpPr>
            <p:cNvPr id="3772" name=""/>
            <p:cNvSpPr/>
            <p:nvPr/>
          </p:nvSpPr>
          <p:spPr>
            <a:xfrm rot="2700000">
              <a:off x="487080" y="440532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 flipV="1">
              <a:off x="587880" y="448164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 flipH="1" flipV="1">
              <a:off x="563040" y="448128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5" name=""/>
          <p:cNvSpPr/>
          <p:nvPr/>
        </p:nvSpPr>
        <p:spPr>
          <a:xfrm>
            <a:off x="684360" y="3789360"/>
            <a:ext cx="6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666720" y="4275000"/>
            <a:ext cx="6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7" name=""/>
          <p:cNvGrpSpPr/>
          <p:nvPr/>
        </p:nvGrpSpPr>
        <p:grpSpPr>
          <a:xfrm>
            <a:off x="2430360" y="3573360"/>
            <a:ext cx="719280" cy="2663640"/>
            <a:chOff x="2430360" y="3573360"/>
            <a:chExt cx="719280" cy="2663640"/>
          </a:xfrm>
        </p:grpSpPr>
        <p:sp>
          <p:nvSpPr>
            <p:cNvPr id="3778" name=""/>
            <p:cNvSpPr/>
            <p:nvPr/>
          </p:nvSpPr>
          <p:spPr>
            <a:xfrm>
              <a:off x="2430360" y="3573360"/>
              <a:ext cx="719280" cy="18716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9" name=""/>
            <p:cNvGrpSpPr/>
            <p:nvPr/>
          </p:nvGrpSpPr>
          <p:grpSpPr>
            <a:xfrm>
              <a:off x="2471760" y="4408200"/>
              <a:ext cx="647280" cy="431640"/>
              <a:chOff x="2471760" y="4408200"/>
              <a:chExt cx="647280" cy="431640"/>
            </a:xfrm>
          </p:grpSpPr>
          <p:sp>
            <p:nvSpPr>
              <p:cNvPr id="3780" name=""/>
              <p:cNvSpPr/>
              <p:nvPr/>
            </p:nvSpPr>
            <p:spPr>
              <a:xfrm>
                <a:off x="2471760" y="4408200"/>
                <a:ext cx="64728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flipH="1" flipV="1">
                <a:off x="2794680" y="4428360"/>
                <a:ext cx="252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 flipV="1">
                <a:off x="2590560" y="4624200"/>
                <a:ext cx="4788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 flipV="1">
                <a:off x="2619000" y="4427640"/>
                <a:ext cx="376560" cy="376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H="1" flipV="1">
                <a:off x="2644200" y="4493160"/>
                <a:ext cx="263160" cy="2491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5" name=""/>
            <p:cNvGrpSpPr/>
            <p:nvPr/>
          </p:nvGrpSpPr>
          <p:grpSpPr>
            <a:xfrm>
              <a:off x="2530800" y="4767840"/>
              <a:ext cx="602280" cy="618480"/>
              <a:chOff x="2530800" y="4767840"/>
              <a:chExt cx="602280" cy="618480"/>
            </a:xfrm>
          </p:grpSpPr>
          <p:sp>
            <p:nvSpPr>
              <p:cNvPr id="3786" name=""/>
              <p:cNvSpPr/>
              <p:nvPr/>
            </p:nvSpPr>
            <p:spPr>
              <a:xfrm rot="19923600">
                <a:off x="2615760" y="4841280"/>
                <a:ext cx="431640" cy="4712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 flipH="1" flipV="1">
                <a:off x="2731320" y="4888800"/>
                <a:ext cx="185400" cy="345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 flipV="1">
                <a:off x="2711880" y="4991760"/>
                <a:ext cx="281520" cy="151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 flipV="1">
                <a:off x="2782440" y="4896000"/>
                <a:ext cx="104400" cy="3394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 flipH="1" flipV="1">
                <a:off x="2626920" y="5022000"/>
                <a:ext cx="380160" cy="110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1" name=""/>
            <p:cNvSpPr/>
            <p:nvPr/>
          </p:nvSpPr>
          <p:spPr>
            <a:xfrm>
              <a:off x="2598840" y="580536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 flipH="1" flipV="1">
              <a:off x="2814840" y="582552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 rot="2700000">
              <a:off x="2616480" y="534456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 flipH="1" flipV="1">
              <a:off x="2692440" y="5422320"/>
              <a:ext cx="260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5" name=""/>
            <p:cNvGrpSpPr/>
            <p:nvPr/>
          </p:nvGrpSpPr>
          <p:grpSpPr>
            <a:xfrm>
              <a:off x="2578320" y="3933720"/>
              <a:ext cx="431640" cy="431640"/>
              <a:chOff x="2578320" y="3933720"/>
              <a:chExt cx="431640" cy="431640"/>
            </a:xfrm>
          </p:grpSpPr>
          <p:sp>
            <p:nvSpPr>
              <p:cNvPr id="3796" name=""/>
              <p:cNvSpPr/>
              <p:nvPr/>
            </p:nvSpPr>
            <p:spPr>
              <a:xfrm>
                <a:off x="2578320" y="393372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 flipH="1" flipV="1">
                <a:off x="2793600" y="395388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 flipV="1">
                <a:off x="2657520" y="414972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 flipV="1">
                <a:off x="2676240" y="401580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 flipH="1" flipV="1">
                <a:off x="2651040" y="401760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01" name=""/>
          <p:cNvSpPr/>
          <p:nvPr/>
        </p:nvSpPr>
        <p:spPr>
          <a:xfrm>
            <a:off x="1386000" y="3789360"/>
            <a:ext cx="6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1351080" y="4275000"/>
            <a:ext cx="6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3" name=""/>
          <p:cNvGrpSpPr/>
          <p:nvPr/>
        </p:nvGrpSpPr>
        <p:grpSpPr>
          <a:xfrm>
            <a:off x="1854360" y="3916440"/>
            <a:ext cx="431640" cy="431640"/>
            <a:chOff x="1854360" y="3916440"/>
            <a:chExt cx="431640" cy="431640"/>
          </a:xfrm>
        </p:grpSpPr>
        <p:sp>
          <p:nvSpPr>
            <p:cNvPr id="3804" name=""/>
            <p:cNvSpPr/>
            <p:nvPr/>
          </p:nvSpPr>
          <p:spPr>
            <a:xfrm>
              <a:off x="1854360" y="3916440"/>
              <a:ext cx="431640" cy="4316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 rot="15103800">
              <a:off x="1962000" y="4014360"/>
              <a:ext cx="215280" cy="231480"/>
            </a:xfrm>
            <a:custGeom>
              <a:avLst/>
              <a:gdLst/>
              <a:ahLst/>
              <a:rect l="l" t="t" r="r" b="b"/>
              <a:pathLst>
                <a:path w="270" h="268">
                  <a:moveTo>
                    <a:pt x="240" y="216"/>
                  </a:moveTo>
                  <a:cubicBezTo>
                    <a:pt x="222" y="238"/>
                    <a:pt x="208" y="266"/>
                    <a:pt x="140" y="268"/>
                  </a:cubicBezTo>
                  <a:cubicBezTo>
                    <a:pt x="52" y="264"/>
                    <a:pt x="0" y="202"/>
                    <a:pt x="0" y="134"/>
                  </a:cubicBezTo>
                  <a:cubicBezTo>
                    <a:pt x="0" y="66"/>
                    <a:pt x="64" y="0"/>
                    <a:pt x="134" y="0"/>
                  </a:cubicBezTo>
                  <a:cubicBezTo>
                    <a:pt x="204" y="0"/>
                    <a:pt x="223" y="29"/>
                    <a:pt x="246" y="54"/>
                  </a:cubicBezTo>
                  <a:cubicBezTo>
                    <a:pt x="269" y="79"/>
                    <a:pt x="265" y="131"/>
                    <a:pt x="270" y="151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6" name=""/>
          <p:cNvGrpSpPr/>
          <p:nvPr/>
        </p:nvGrpSpPr>
        <p:grpSpPr>
          <a:xfrm>
            <a:off x="1135080" y="4419720"/>
            <a:ext cx="431640" cy="431640"/>
            <a:chOff x="1135080" y="4419720"/>
            <a:chExt cx="431640" cy="431640"/>
          </a:xfrm>
        </p:grpSpPr>
        <p:sp>
          <p:nvSpPr>
            <p:cNvPr id="3807" name=""/>
            <p:cNvSpPr/>
            <p:nvPr/>
          </p:nvSpPr>
          <p:spPr>
            <a:xfrm>
              <a:off x="1135080" y="4419720"/>
              <a:ext cx="431640" cy="4316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 rot="15103800">
              <a:off x="1242720" y="4517640"/>
              <a:ext cx="215280" cy="231480"/>
            </a:xfrm>
            <a:custGeom>
              <a:avLst/>
              <a:gdLst/>
              <a:ahLst/>
              <a:rect l="l" t="t" r="r" b="b"/>
              <a:pathLst>
                <a:path w="270" h="268">
                  <a:moveTo>
                    <a:pt x="240" y="216"/>
                  </a:moveTo>
                  <a:cubicBezTo>
                    <a:pt x="222" y="238"/>
                    <a:pt x="208" y="266"/>
                    <a:pt x="140" y="268"/>
                  </a:cubicBezTo>
                  <a:cubicBezTo>
                    <a:pt x="52" y="264"/>
                    <a:pt x="0" y="202"/>
                    <a:pt x="0" y="134"/>
                  </a:cubicBezTo>
                  <a:cubicBezTo>
                    <a:pt x="0" y="66"/>
                    <a:pt x="64" y="0"/>
                    <a:pt x="134" y="0"/>
                  </a:cubicBezTo>
                  <a:cubicBezTo>
                    <a:pt x="204" y="0"/>
                    <a:pt x="223" y="29"/>
                    <a:pt x="246" y="54"/>
                  </a:cubicBezTo>
                  <a:cubicBezTo>
                    <a:pt x="269" y="79"/>
                    <a:pt x="265" y="131"/>
                    <a:pt x="270" y="151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9" name=""/>
          <p:cNvGrpSpPr/>
          <p:nvPr/>
        </p:nvGrpSpPr>
        <p:grpSpPr>
          <a:xfrm>
            <a:off x="630360" y="3213000"/>
            <a:ext cx="2543040" cy="3078360"/>
            <a:chOff x="630360" y="3213000"/>
            <a:chExt cx="2543040" cy="3078360"/>
          </a:xfrm>
        </p:grpSpPr>
        <p:sp>
          <p:nvSpPr>
            <p:cNvPr id="3810" name=""/>
            <p:cNvSpPr/>
            <p:nvPr/>
          </p:nvSpPr>
          <p:spPr>
            <a:xfrm>
              <a:off x="630360" y="3213000"/>
              <a:ext cx="25369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128960" y="3262320"/>
              <a:ext cx="2127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416240" y="330192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598760" y="3359160"/>
              <a:ext cx="165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2432160" y="3330360"/>
              <a:ext cx="1080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2540160" y="328140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2646360" y="3330360"/>
              <a:ext cx="1368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2783160" y="328140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2889360" y="333036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801720" y="3571920"/>
              <a:ext cx="136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938520" y="361800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150920" y="3747960"/>
              <a:ext cx="7632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273320" y="3618000"/>
              <a:ext cx="2127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484280" y="3747960"/>
              <a:ext cx="7632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606680" y="3618000"/>
              <a:ext cx="2127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sam10"/>
                </a:rPr>
                <a:t>ª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1819440" y="3571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955880" y="3595680"/>
              <a:ext cx="1350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2651400" y="3659040"/>
              <a:ext cx="1411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630360" y="3879720"/>
              <a:ext cx="25369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1414440" y="5360760"/>
              <a:ext cx="76320" cy="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414440" y="547056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414440" y="558000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630360" y="6275160"/>
              <a:ext cx="25369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638280" y="3219480"/>
              <a:ext cx="2535120" cy="30718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4" name=""/>
          <p:cNvGrpSpPr/>
          <p:nvPr/>
        </p:nvGrpSpPr>
        <p:grpSpPr>
          <a:xfrm>
            <a:off x="4572000" y="5013360"/>
            <a:ext cx="2479680" cy="385560"/>
            <a:chOff x="4572000" y="5013360"/>
            <a:chExt cx="2479680" cy="385560"/>
          </a:xfrm>
        </p:grpSpPr>
        <p:sp>
          <p:nvSpPr>
            <p:cNvPr id="3835" name=""/>
            <p:cNvSpPr/>
            <p:nvPr/>
          </p:nvSpPr>
          <p:spPr>
            <a:xfrm>
              <a:off x="4572000" y="5067000"/>
              <a:ext cx="24264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4816440" y="5049720"/>
              <a:ext cx="122040" cy="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4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mmi7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4816440" y="5271840"/>
              <a:ext cx="258480" cy="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4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5091120" y="5045040"/>
              <a:ext cx="12672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280" bIns="80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5217840" y="5067000"/>
              <a:ext cx="2685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5601960" y="5045040"/>
              <a:ext cx="9072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280" bIns="80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783040" y="5067000"/>
              <a:ext cx="252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r10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6035400" y="5045040"/>
              <a:ext cx="12708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280" bIns="80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6251400" y="5081400"/>
              <a:ext cx="2523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5920" bIns="424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sy10"/>
                </a:rPr>
                <a:t>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6688080" y="5013360"/>
              <a:ext cx="1299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mr7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6688080" y="5206680"/>
              <a:ext cx="128520" cy="0"/>
            </a:xfrm>
            <a:prstGeom prst="line">
              <a:avLst/>
            </a:prstGeom>
            <a:ln w="12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6688080" y="5252760"/>
              <a:ext cx="1299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mr7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6856200" y="5148000"/>
              <a:ext cx="195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mi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4572000" y="5013360"/>
              <a:ext cx="2477880" cy="385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Bounded-Quantum-Storage Model:</a:t>
            </a:r>
            <a:br>
              <a:rPr sz="2800"/>
            </a:b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Non-interactive, practi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protoco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1-2 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cure according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omposabl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defini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um Key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proofs in realistic setting of a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quantum-memory bounded eavesdropp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Tolerate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higher error ra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n against unbounded adversari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sition of certain Quantum Ciphers: </a:t>
            </a:r>
            <a:br>
              <a:rPr sz="2800"/>
            </a:b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key-uncertain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dds up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in terms of min-entrop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Contributions II: Applications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1" name=""/>
          <p:cNvGrpSpPr/>
          <p:nvPr/>
        </p:nvGrpSpPr>
        <p:grpSpPr>
          <a:xfrm>
            <a:off x="434880" y="1781280"/>
            <a:ext cx="4784760" cy="1935000"/>
            <a:chOff x="434880" y="1781280"/>
            <a:chExt cx="4784760" cy="1935000"/>
          </a:xfrm>
        </p:grpSpPr>
        <p:sp>
          <p:nvSpPr>
            <p:cNvPr id="3852" name=""/>
            <p:cNvSpPr/>
            <p:nvPr/>
          </p:nvSpPr>
          <p:spPr>
            <a:xfrm>
              <a:off x="434880" y="1861920"/>
              <a:ext cx="16992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604800" y="1861920"/>
              <a:ext cx="15228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757080" y="1861920"/>
              <a:ext cx="25560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012680" y="1861920"/>
              <a:ext cx="13680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495440" y="1782720"/>
              <a:ext cx="169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6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665360" y="1861920"/>
              <a:ext cx="13644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801800" y="1782720"/>
              <a:ext cx="169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6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971720" y="1861920"/>
              <a:ext cx="16992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2141640" y="1790640"/>
              <a:ext cx="8568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26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2225520" y="1806480"/>
              <a:ext cx="11916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68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2344680" y="1790640"/>
              <a:ext cx="8568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26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430360" y="1861920"/>
              <a:ext cx="15264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583000" y="1861920"/>
              <a:ext cx="16956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434880" y="2347920"/>
              <a:ext cx="23040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36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665280" y="2463840"/>
              <a:ext cx="122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52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r7"/>
                  <a:ea typeface="Arial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801720" y="232704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920880" y="2347920"/>
              <a:ext cx="2095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36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1152360" y="232704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495440" y="2344680"/>
              <a:ext cx="856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6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1579680" y="2423880"/>
              <a:ext cx="15228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1733400" y="2423880"/>
              <a:ext cx="1526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1941480" y="2295360"/>
              <a:ext cx="10152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821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ex10"/>
                  <a:ea typeface="Arial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1941480" y="2479680"/>
              <a:ext cx="10152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821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ex10"/>
                  <a:ea typeface="Arial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2043000" y="2327040"/>
              <a:ext cx="152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2197080" y="2423880"/>
              <a:ext cx="14292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2436840" y="2327040"/>
              <a:ext cx="8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2608200" y="2347920"/>
              <a:ext cx="1969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36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2803320" y="2455920"/>
              <a:ext cx="16704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44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3002040" y="2327040"/>
              <a:ext cx="11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3120840" y="2423880"/>
              <a:ext cx="14292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3276720" y="2327040"/>
              <a:ext cx="11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3479760" y="2392200"/>
              <a:ext cx="23796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080" bIns="10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3803760" y="2359080"/>
              <a:ext cx="152280" cy="1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20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3956040" y="2327040"/>
              <a:ext cx="152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4110120" y="2295360"/>
              <a:ext cx="10152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821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ex10"/>
                  <a:ea typeface="Arial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4110120" y="2479680"/>
              <a:ext cx="10152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821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ex10"/>
                  <a:ea typeface="Arial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4873680" y="2423880"/>
              <a:ext cx="18396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434880" y="2890800"/>
              <a:ext cx="2304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665280" y="2870280"/>
              <a:ext cx="118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784080" y="2890800"/>
              <a:ext cx="2095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1014480" y="2870280"/>
              <a:ext cx="118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1495440" y="2921040"/>
              <a:ext cx="23796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120" bIns="24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Arial"/>
                </a:rPr>
                <a:t>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1784160" y="2868480"/>
              <a:ext cx="324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304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ex10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2106720" y="3097080"/>
              <a:ext cx="117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2298600" y="2890800"/>
              <a:ext cx="1969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2495520" y="2998800"/>
              <a:ext cx="16668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44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2693880" y="2870280"/>
              <a:ext cx="1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813040" y="2966760"/>
              <a:ext cx="142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968560" y="2870280"/>
              <a:ext cx="1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3138480" y="2887560"/>
              <a:ext cx="85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3222720" y="296676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3376440" y="2966760"/>
              <a:ext cx="1526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3584520" y="2870280"/>
              <a:ext cx="1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3703680" y="2890800"/>
              <a:ext cx="1969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3900600" y="2998800"/>
              <a:ext cx="16668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44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4097160" y="2870280"/>
              <a:ext cx="1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4216320" y="2966760"/>
              <a:ext cx="142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4371840" y="2870280"/>
              <a:ext cx="1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4491000" y="2870280"/>
              <a:ext cx="1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4713120" y="2950920"/>
              <a:ext cx="2383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9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sy10"/>
                  <a:ea typeface="Arial"/>
                </a:rPr>
                <a:t>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5035680" y="2966760"/>
              <a:ext cx="1839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434880" y="3432240"/>
              <a:ext cx="23040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36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665280" y="3593880"/>
              <a:ext cx="24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sy7"/>
                  <a:ea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923760" y="341136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1042920" y="3432240"/>
              <a:ext cx="2095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36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1273320" y="3411360"/>
              <a:ext cx="11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1495440" y="3462120"/>
              <a:ext cx="237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480" bIns="252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Arial"/>
                </a:rPr>
                <a:t>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1784160" y="3429000"/>
              <a:ext cx="86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6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1868400" y="3508200"/>
              <a:ext cx="15264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2022480" y="3508200"/>
              <a:ext cx="15228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58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2230560" y="3411360"/>
              <a:ext cx="11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2349360" y="3508200"/>
              <a:ext cx="25560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604960" y="3508200"/>
              <a:ext cx="15264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757600" y="3508200"/>
              <a:ext cx="16164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2919240" y="3593880"/>
              <a:ext cx="117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3111480" y="3432240"/>
              <a:ext cx="1969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36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3308400" y="3539880"/>
              <a:ext cx="16668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3505320" y="3411360"/>
              <a:ext cx="11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3624120" y="3508200"/>
              <a:ext cx="14292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779640" y="341136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3898800" y="341136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4721040" y="3508200"/>
              <a:ext cx="18432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4905360" y="3411360"/>
              <a:ext cx="152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5057640" y="3443040"/>
              <a:ext cx="15264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434880" y="1781280"/>
              <a:ext cx="4784760" cy="19350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7" name=""/>
          <p:cNvSpPr/>
          <p:nvPr/>
        </p:nvSpPr>
        <p:spPr>
          <a:xfrm>
            <a:off x="4643280" y="2852640"/>
            <a:ext cx="7207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"/>
          <p:cNvSpPr/>
          <p:nvPr/>
        </p:nvSpPr>
        <p:spPr>
          <a:xfrm>
            <a:off x="4643280" y="2133720"/>
            <a:ext cx="72072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Entropies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3940" name=""/>
          <p:cNvGrpSpPr/>
          <p:nvPr/>
        </p:nvGrpSpPr>
        <p:grpSpPr>
          <a:xfrm>
            <a:off x="730080" y="4719600"/>
            <a:ext cx="2041560" cy="276120"/>
            <a:chOff x="730080" y="4719600"/>
            <a:chExt cx="2041560" cy="276120"/>
          </a:xfrm>
        </p:grpSpPr>
        <p:sp>
          <p:nvSpPr>
            <p:cNvPr id="3941" name=""/>
            <p:cNvSpPr/>
            <p:nvPr/>
          </p:nvSpPr>
          <p:spPr>
            <a:xfrm>
              <a:off x="730080" y="4721040"/>
              <a:ext cx="247680" cy="2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0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977760" y="4897080"/>
              <a:ext cx="26352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sy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350720" y="4736880"/>
              <a:ext cx="25704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9160" bIns="43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  <a:ea typeface="Arial"/>
                </a:rPr>
                <a:t>·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1699920" y="4721040"/>
              <a:ext cx="247680" cy="2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0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041200" y="4736880"/>
              <a:ext cx="25704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9160" bIns="43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  <a:ea typeface="Arial"/>
                </a:rPr>
                <a:t>·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390400" y="4721040"/>
              <a:ext cx="247680" cy="2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0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2638080" y="4846320"/>
              <a:ext cx="1317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730080" y="4719600"/>
              <a:ext cx="2041560" cy="2761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9" name=""/>
          <p:cNvGrpSpPr/>
          <p:nvPr/>
        </p:nvGrpSpPr>
        <p:grpSpPr>
          <a:xfrm>
            <a:off x="5649840" y="1557360"/>
            <a:ext cx="3048120" cy="3306240"/>
            <a:chOff x="5649840" y="1557360"/>
            <a:chExt cx="3048120" cy="3306240"/>
          </a:xfrm>
        </p:grpSpPr>
        <p:sp>
          <p:nvSpPr>
            <p:cNvPr id="3950" name=""/>
            <p:cNvSpPr/>
            <p:nvPr/>
          </p:nvSpPr>
          <p:spPr>
            <a:xfrm>
              <a:off x="6662880" y="2349360"/>
              <a:ext cx="149040" cy="187272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6878520" y="4005000"/>
              <a:ext cx="149400" cy="2170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7094520" y="4005000"/>
              <a:ext cx="149400" cy="2170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7310520" y="4005000"/>
              <a:ext cx="149040" cy="2170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8021520" y="4005000"/>
              <a:ext cx="149400" cy="2170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7512120" y="388116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 flipV="1">
              <a:off x="6586560" y="1917360"/>
              <a:ext cx="0" cy="23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6591240" y="4224240"/>
              <a:ext cx="18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6442200" y="234936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6442920" y="400500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0" name=""/>
            <p:cNvGrpSpPr/>
            <p:nvPr/>
          </p:nvGrpSpPr>
          <p:grpSpPr>
            <a:xfrm>
              <a:off x="5649840" y="3717720"/>
              <a:ext cx="885600" cy="264240"/>
              <a:chOff x="5649840" y="3717720"/>
              <a:chExt cx="885600" cy="264240"/>
            </a:xfrm>
          </p:grpSpPr>
          <p:sp>
            <p:nvSpPr>
              <p:cNvPr id="3961" name=""/>
              <p:cNvSpPr/>
              <p:nvPr/>
            </p:nvSpPr>
            <p:spPr>
              <a:xfrm>
                <a:off x="5649840" y="3823560"/>
                <a:ext cx="257040" cy="15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53720" bIns="-972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sy10"/>
                    <a:ea typeface="Arial"/>
                  </a:rPr>
                  <a:t>¼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5999040" y="3769560"/>
                <a:ext cx="16488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240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6163920" y="3718800"/>
                <a:ext cx="20664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2560" bIns="2664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sy7"/>
                    <a:ea typeface="Arial"/>
                  </a:rPr>
                  <a:t>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6372000" y="3763080"/>
                <a:ext cx="163440" cy="9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982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7"/>
                    <a:ea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5649840" y="3717720"/>
                <a:ext cx="885600" cy="26316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6" name=""/>
            <p:cNvGrpSpPr/>
            <p:nvPr/>
          </p:nvGrpSpPr>
          <p:grpSpPr>
            <a:xfrm>
              <a:off x="6875640" y="4438440"/>
              <a:ext cx="1296360" cy="425160"/>
              <a:chOff x="6875640" y="4438440"/>
              <a:chExt cx="1296360" cy="425160"/>
            </a:xfrm>
          </p:grpSpPr>
          <p:sp>
            <p:nvSpPr>
              <p:cNvPr id="3967" name=""/>
              <p:cNvSpPr/>
              <p:nvPr/>
            </p:nvSpPr>
            <p:spPr>
              <a:xfrm>
                <a:off x="6875640" y="4438440"/>
                <a:ext cx="17100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392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cmex10"/>
                    <a:ea typeface="Arial"/>
                  </a:rPr>
                  <a:t>|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7046640" y="4460400"/>
                <a:ext cx="306000" cy="0"/>
              </a:xfrm>
              <a:prstGeom prst="line">
                <a:avLst/>
              </a:prstGeom>
              <a:ln w="45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7353000" y="4438440"/>
                <a:ext cx="17136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392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cmex10"/>
                    <a:ea typeface="Arial"/>
                  </a:rPr>
                  <a:t>{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7524720" y="4438440"/>
                <a:ext cx="17100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392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cmex10"/>
                    <a:ea typeface="Arial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7694640" y="4460400"/>
                <a:ext cx="306000" cy="0"/>
              </a:xfrm>
              <a:prstGeom prst="line">
                <a:avLst/>
              </a:prstGeom>
              <a:ln w="45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8001000" y="4438440"/>
                <a:ext cx="17100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392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cmex10"/>
                    <a:ea typeface="Arial"/>
                  </a:rPr>
                  <a:t>}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7161120" y="4662000"/>
                <a:ext cx="150480" cy="1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9200" bIns="-72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r7"/>
                    <a:ea typeface="Arial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7311960" y="4674600"/>
                <a:ext cx="1663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8064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cmmi5"/>
                    <a:ea typeface="Arial"/>
                  </a:rPr>
                  <a:t>n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7497720" y="4668120"/>
                <a:ext cx="23616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3080" bIns="2988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sy7"/>
                    <a:ea typeface="Arial"/>
                  </a:rPr>
                  <a:t>¡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7735680" y="4662000"/>
                <a:ext cx="150480" cy="1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9200" bIns="-72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r7"/>
                    <a:ea typeface="Arial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6875640" y="4438440"/>
                <a:ext cx="1294920" cy="42516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8" name=""/>
            <p:cNvGrpSpPr/>
            <p:nvPr/>
          </p:nvGrpSpPr>
          <p:grpSpPr>
            <a:xfrm>
              <a:off x="5938920" y="2062080"/>
              <a:ext cx="558720" cy="280440"/>
              <a:chOff x="5938920" y="2062080"/>
              <a:chExt cx="558720" cy="280440"/>
            </a:xfrm>
          </p:grpSpPr>
          <p:sp>
            <p:nvSpPr>
              <p:cNvPr id="3979" name=""/>
              <p:cNvSpPr/>
              <p:nvPr/>
            </p:nvSpPr>
            <p:spPr>
              <a:xfrm>
                <a:off x="5938920" y="2130120"/>
                <a:ext cx="16488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2040" bIns="-72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6103800" y="2079360"/>
                <a:ext cx="206640" cy="1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2200" bIns="2628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sy7"/>
                    <a:ea typeface="Arial"/>
                  </a:rPr>
                  <a:t>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6350040" y="2063520"/>
                <a:ext cx="14580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6948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mmi5"/>
                    <a:ea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6350040" y="2163600"/>
                <a:ext cx="14580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6367320" y="2195280"/>
                <a:ext cx="11268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0584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mr5"/>
                    <a:ea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5938920" y="2062080"/>
                <a:ext cx="558720" cy="28044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5" name=""/>
            <p:cNvGrpSpPr/>
            <p:nvPr/>
          </p:nvGrpSpPr>
          <p:grpSpPr>
            <a:xfrm>
              <a:off x="8472600" y="4365360"/>
              <a:ext cx="225360" cy="226800"/>
              <a:chOff x="8472600" y="4365360"/>
              <a:chExt cx="225360" cy="226800"/>
            </a:xfrm>
          </p:grpSpPr>
          <p:sp>
            <p:nvSpPr>
              <p:cNvPr id="3986" name=""/>
              <p:cNvSpPr/>
              <p:nvPr/>
            </p:nvSpPr>
            <p:spPr>
              <a:xfrm>
                <a:off x="8472600" y="4366800"/>
                <a:ext cx="225360" cy="22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2500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10"/>
                    <a:ea typeface="Arial"/>
                  </a:rPr>
                  <a:t>Z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8472600" y="4365360"/>
                <a:ext cx="225360" cy="22680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8" name=""/>
            <p:cNvGrpSpPr/>
            <p:nvPr/>
          </p:nvGrpSpPr>
          <p:grpSpPr>
            <a:xfrm>
              <a:off x="6154560" y="1557360"/>
              <a:ext cx="393480" cy="276120"/>
              <a:chOff x="6154560" y="1557360"/>
              <a:chExt cx="393480" cy="276120"/>
            </a:xfrm>
          </p:grpSpPr>
          <p:sp>
            <p:nvSpPr>
              <p:cNvPr id="3989" name=""/>
              <p:cNvSpPr/>
              <p:nvPr/>
            </p:nvSpPr>
            <p:spPr>
              <a:xfrm>
                <a:off x="6154560" y="1558800"/>
                <a:ext cx="212760" cy="22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2500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10"/>
                    <a:ea typeface="Arial"/>
                  </a:rPr>
                  <a:t>P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6367320" y="1676160"/>
                <a:ext cx="180720" cy="15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5696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7"/>
                    <a:ea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6154560" y="1557360"/>
                <a:ext cx="393480" cy="27612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92" name=""/>
          <p:cNvGrpSpPr/>
          <p:nvPr/>
        </p:nvGrpSpPr>
        <p:grpSpPr>
          <a:xfrm>
            <a:off x="539640" y="1052640"/>
            <a:ext cx="4502160" cy="331560"/>
            <a:chOff x="539640" y="1052640"/>
            <a:chExt cx="4502160" cy="331560"/>
          </a:xfrm>
        </p:grpSpPr>
        <p:sp>
          <p:nvSpPr>
            <p:cNvPr id="3993" name=""/>
            <p:cNvSpPr/>
            <p:nvPr/>
          </p:nvSpPr>
          <p:spPr>
            <a:xfrm>
              <a:off x="539640" y="1076400"/>
              <a:ext cx="2253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900000" y="1160640"/>
              <a:ext cx="129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1028520" y="116064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1195200" y="1160640"/>
              <a:ext cx="183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1379160" y="10731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1562040" y="116064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1728720" y="1160640"/>
              <a:ext cx="2761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114280" y="1160640"/>
              <a:ext cx="174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271600" y="116064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436480" y="1160640"/>
              <a:ext cx="1303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566800" y="1081080"/>
              <a:ext cx="921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658960" y="116064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823840" y="10731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3008160" y="107316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3100320" y="1160640"/>
              <a:ext cx="147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3357360" y="1160640"/>
              <a:ext cx="1652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3514320" y="1160640"/>
              <a:ext cx="174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3679560" y="1160640"/>
              <a:ext cx="147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3827160" y="1160640"/>
              <a:ext cx="1303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4066920" y="1054080"/>
              <a:ext cx="165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4232160" y="1089000"/>
              <a:ext cx="1648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4398840" y="126684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4546440" y="1089000"/>
              <a:ext cx="1648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4711320" y="1054080"/>
              <a:ext cx="165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4876560" y="1082520"/>
              <a:ext cx="163440" cy="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539640" y="1052640"/>
              <a:ext cx="4502160" cy="331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9" name=""/>
          <p:cNvGrpSpPr/>
          <p:nvPr/>
        </p:nvGrpSpPr>
        <p:grpSpPr>
          <a:xfrm>
            <a:off x="730080" y="5295960"/>
            <a:ext cx="5786280" cy="293400"/>
            <a:chOff x="730080" y="5295960"/>
            <a:chExt cx="5786280" cy="293400"/>
          </a:xfrm>
        </p:grpSpPr>
        <p:sp>
          <p:nvSpPr>
            <p:cNvPr id="4020" name=""/>
            <p:cNvSpPr/>
            <p:nvPr/>
          </p:nvSpPr>
          <p:spPr>
            <a:xfrm>
              <a:off x="730080" y="5297400"/>
              <a:ext cx="91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821880" y="5384880"/>
              <a:ext cx="1652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977760" y="5384880"/>
              <a:ext cx="2394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1207800" y="5384880"/>
              <a:ext cx="147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355400" y="5384880"/>
              <a:ext cx="1303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1485720" y="52974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1677600" y="5384880"/>
              <a:ext cx="1652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1844280" y="5384880"/>
              <a:ext cx="1843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026800" y="5384880"/>
              <a:ext cx="1843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211120" y="52974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2506320" y="5384880"/>
              <a:ext cx="1652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2671560" y="5384880"/>
              <a:ext cx="183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966760" y="5300640"/>
              <a:ext cx="247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3325680" y="5297400"/>
              <a:ext cx="230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860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sy10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325680" y="5405400"/>
              <a:ext cx="33156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7760" bIns="-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sy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766680" y="529740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3858840" y="5384880"/>
              <a:ext cx="1652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4014360" y="5384880"/>
              <a:ext cx="2397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4244760" y="5384880"/>
              <a:ext cx="147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4392360" y="5384880"/>
              <a:ext cx="129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4522320" y="52974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4716000" y="5384880"/>
              <a:ext cx="1652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4881240" y="5384880"/>
              <a:ext cx="1843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5065560" y="5384880"/>
              <a:ext cx="183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249520" y="52974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543280" y="5384880"/>
              <a:ext cx="1652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5708520" y="5384880"/>
              <a:ext cx="183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6003720" y="5300640"/>
              <a:ext cx="247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6251400" y="5476680"/>
              <a:ext cx="263520" cy="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730080" y="5295960"/>
              <a:ext cx="5786280" cy="2934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0" name=""/>
          <p:cNvSpPr/>
          <p:nvPr/>
        </p:nvSpPr>
        <p:spPr>
          <a:xfrm>
            <a:off x="4643280" y="3141720"/>
            <a:ext cx="7207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1" name=""/>
          <p:cNvGrpSpPr/>
          <p:nvPr/>
        </p:nvGrpSpPr>
        <p:grpSpPr>
          <a:xfrm>
            <a:off x="5649840" y="1562040"/>
            <a:ext cx="3048120" cy="3306960"/>
            <a:chOff x="5649840" y="1562040"/>
            <a:chExt cx="3048120" cy="3306960"/>
          </a:xfrm>
        </p:grpSpPr>
        <p:sp>
          <p:nvSpPr>
            <p:cNvPr id="4052" name=""/>
            <p:cNvSpPr/>
            <p:nvPr/>
          </p:nvSpPr>
          <p:spPr>
            <a:xfrm>
              <a:off x="6662880" y="2354400"/>
              <a:ext cx="149040" cy="18730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878520" y="4010040"/>
              <a:ext cx="14940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7094520" y="4010040"/>
              <a:ext cx="14940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7310520" y="401004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8021520" y="4010040"/>
              <a:ext cx="14940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7512120" y="388620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 flipV="1">
              <a:off x="6586560" y="1922040"/>
              <a:ext cx="0" cy="23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6591240" y="4229280"/>
              <a:ext cx="18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6442200" y="235440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6442920" y="401004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2" name=""/>
            <p:cNvGrpSpPr/>
            <p:nvPr/>
          </p:nvGrpSpPr>
          <p:grpSpPr>
            <a:xfrm>
              <a:off x="5649840" y="3722760"/>
              <a:ext cx="885600" cy="264960"/>
              <a:chOff x="5649840" y="3722760"/>
              <a:chExt cx="885600" cy="264960"/>
            </a:xfrm>
          </p:grpSpPr>
          <p:sp>
            <p:nvSpPr>
              <p:cNvPr id="4063" name=""/>
              <p:cNvSpPr/>
              <p:nvPr/>
            </p:nvSpPr>
            <p:spPr>
              <a:xfrm>
                <a:off x="5649840" y="3828960"/>
                <a:ext cx="257040" cy="15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54080" bIns="-9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sy10"/>
                    <a:ea typeface="Arial"/>
                  </a:rPr>
                  <a:t>¼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5999040" y="3774960"/>
                <a:ext cx="16488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27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6163920" y="3724200"/>
                <a:ext cx="2066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2920" bIns="270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sy7"/>
                    <a:ea typeface="Arial"/>
                  </a:rPr>
                  <a:t>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6372000" y="3768480"/>
                <a:ext cx="163440" cy="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982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7"/>
                    <a:ea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5649840" y="3722760"/>
                <a:ext cx="885600" cy="26352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8" name=""/>
            <p:cNvGrpSpPr/>
            <p:nvPr/>
          </p:nvGrpSpPr>
          <p:grpSpPr>
            <a:xfrm>
              <a:off x="6875640" y="4443480"/>
              <a:ext cx="1296360" cy="425520"/>
              <a:chOff x="6875640" y="4443480"/>
              <a:chExt cx="1296360" cy="425520"/>
            </a:xfrm>
          </p:grpSpPr>
          <p:sp>
            <p:nvSpPr>
              <p:cNvPr id="4069" name=""/>
              <p:cNvSpPr/>
              <p:nvPr/>
            </p:nvSpPr>
            <p:spPr>
              <a:xfrm>
                <a:off x="6875640" y="4443480"/>
                <a:ext cx="17100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42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cmex10"/>
                    <a:ea typeface="Arial"/>
                  </a:rPr>
                  <a:t>|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7046640" y="4465800"/>
                <a:ext cx="306000" cy="0"/>
              </a:xfrm>
              <a:prstGeom prst="line">
                <a:avLst/>
              </a:prstGeom>
              <a:ln w="45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7353000" y="4443480"/>
                <a:ext cx="17136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42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cmex10"/>
                    <a:ea typeface="Arial"/>
                  </a:rPr>
                  <a:t>{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7524720" y="4443480"/>
                <a:ext cx="17100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42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cmex10"/>
                    <a:ea typeface="Arial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7694640" y="4465800"/>
                <a:ext cx="306000" cy="0"/>
              </a:xfrm>
              <a:prstGeom prst="line">
                <a:avLst/>
              </a:prstGeom>
              <a:ln w="45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8001000" y="4443480"/>
                <a:ext cx="17100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42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cmex10"/>
                    <a:ea typeface="Arial"/>
                  </a:rPr>
                  <a:t>}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7161120" y="4667400"/>
                <a:ext cx="15048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956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r7"/>
                    <a:ea typeface="Arial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7311960" y="4680000"/>
                <a:ext cx="1663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810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cmmi5"/>
                    <a:ea typeface="Arial"/>
                  </a:rPr>
                  <a:t>n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7497720" y="4673520"/>
                <a:ext cx="236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3440" bIns="3024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sy7"/>
                    <a:ea typeface="Arial"/>
                  </a:rPr>
                  <a:t>¡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7735680" y="4667400"/>
                <a:ext cx="15048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956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r7"/>
                    <a:ea typeface="Arial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6875640" y="4443480"/>
                <a:ext cx="1294920" cy="42552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0" name=""/>
            <p:cNvGrpSpPr/>
            <p:nvPr/>
          </p:nvGrpSpPr>
          <p:grpSpPr>
            <a:xfrm>
              <a:off x="5938920" y="2067120"/>
              <a:ext cx="558720" cy="280800"/>
              <a:chOff x="5938920" y="2067120"/>
              <a:chExt cx="558720" cy="280800"/>
            </a:xfrm>
          </p:grpSpPr>
          <p:sp>
            <p:nvSpPr>
              <p:cNvPr id="4081" name=""/>
              <p:cNvSpPr/>
              <p:nvPr/>
            </p:nvSpPr>
            <p:spPr>
              <a:xfrm>
                <a:off x="5938920" y="2135160"/>
                <a:ext cx="16488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240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6103800" y="2084400"/>
                <a:ext cx="20664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2560" bIns="2664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sy7"/>
                    <a:ea typeface="Arial"/>
                  </a:rPr>
                  <a:t>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6350040" y="2068560"/>
                <a:ext cx="14580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6948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mmi5"/>
                    <a:ea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6350040" y="2168640"/>
                <a:ext cx="14580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6367320" y="2200320"/>
                <a:ext cx="11268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0584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mr5"/>
                    <a:ea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5938920" y="2067120"/>
                <a:ext cx="558720" cy="28080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7" name=""/>
            <p:cNvGrpSpPr/>
            <p:nvPr/>
          </p:nvGrpSpPr>
          <p:grpSpPr>
            <a:xfrm>
              <a:off x="8472600" y="4370400"/>
              <a:ext cx="225360" cy="227160"/>
              <a:chOff x="8472600" y="4370400"/>
              <a:chExt cx="225360" cy="227160"/>
            </a:xfrm>
          </p:grpSpPr>
          <p:sp>
            <p:nvSpPr>
              <p:cNvPr id="4088" name=""/>
              <p:cNvSpPr/>
              <p:nvPr/>
            </p:nvSpPr>
            <p:spPr>
              <a:xfrm>
                <a:off x="8472600" y="4372200"/>
                <a:ext cx="22536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25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10"/>
                    <a:ea typeface="Arial"/>
                  </a:rPr>
                  <a:t>Z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8472600" y="4370400"/>
                <a:ext cx="225360" cy="22716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0" name=""/>
            <p:cNvGrpSpPr/>
            <p:nvPr/>
          </p:nvGrpSpPr>
          <p:grpSpPr>
            <a:xfrm>
              <a:off x="6154560" y="1562040"/>
              <a:ext cx="393480" cy="276480"/>
              <a:chOff x="6154560" y="1562040"/>
              <a:chExt cx="393480" cy="276480"/>
            </a:xfrm>
          </p:grpSpPr>
          <p:sp>
            <p:nvSpPr>
              <p:cNvPr id="4091" name=""/>
              <p:cNvSpPr/>
              <p:nvPr/>
            </p:nvSpPr>
            <p:spPr>
              <a:xfrm>
                <a:off x="6154560" y="1563840"/>
                <a:ext cx="21276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25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10"/>
                    <a:ea typeface="Arial"/>
                  </a:rPr>
                  <a:t>P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6367320" y="1681200"/>
                <a:ext cx="180720" cy="15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57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7"/>
                    <a:ea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6154560" y="1562040"/>
                <a:ext cx="393480" cy="27648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Smooth Min-Entropy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4095" name=""/>
          <p:cNvGrpSpPr/>
          <p:nvPr/>
        </p:nvGrpSpPr>
        <p:grpSpPr>
          <a:xfrm>
            <a:off x="434880" y="1778040"/>
            <a:ext cx="4857840" cy="2665440"/>
            <a:chOff x="434880" y="1778040"/>
            <a:chExt cx="4857840" cy="2665440"/>
          </a:xfrm>
        </p:grpSpPr>
        <p:sp>
          <p:nvSpPr>
            <p:cNvPr id="4096" name=""/>
            <p:cNvSpPr/>
            <p:nvPr/>
          </p:nvSpPr>
          <p:spPr>
            <a:xfrm>
              <a:off x="434880" y="185904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604800" y="185904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757080" y="1859040"/>
              <a:ext cx="255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1012680" y="1859040"/>
              <a:ext cx="1368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1566720" y="1779840"/>
              <a:ext cx="169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1736640" y="185904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1873080" y="1779840"/>
              <a:ext cx="169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043000" y="185904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2212920" y="1787760"/>
              <a:ext cx="856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2298600" y="1803600"/>
              <a:ext cx="119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2417760" y="1787760"/>
              <a:ext cx="856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2503440" y="185904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655720" y="185904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434880" y="2345040"/>
              <a:ext cx="2304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665280" y="2460960"/>
              <a:ext cx="12204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r7"/>
                  <a:ea typeface="Arial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801720" y="232416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920880" y="2345040"/>
              <a:ext cx="2095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1152360" y="232416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1566720" y="2341800"/>
              <a:ext cx="85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1652400" y="2421000"/>
              <a:ext cx="1526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1805040" y="2421000"/>
              <a:ext cx="15228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012760" y="2292480"/>
              <a:ext cx="1018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ex10"/>
                  <a:ea typeface="Arial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012760" y="2476800"/>
              <a:ext cx="1018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ex10"/>
                  <a:ea typeface="Arial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116080" y="2324160"/>
              <a:ext cx="152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2268360" y="2421000"/>
              <a:ext cx="142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2509920" y="2324160"/>
              <a:ext cx="8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2679840" y="2345040"/>
              <a:ext cx="1965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876400" y="2453040"/>
              <a:ext cx="16668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3073320" y="232416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3192480" y="2421000"/>
              <a:ext cx="142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3348000" y="232416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3552840" y="2389320"/>
              <a:ext cx="2379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111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3875040" y="2356200"/>
              <a:ext cx="15228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4029120" y="2324160"/>
              <a:ext cx="152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4181400" y="2292480"/>
              <a:ext cx="101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ex10"/>
                  <a:ea typeface="Arial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181400" y="2476800"/>
              <a:ext cx="101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ex10"/>
                  <a:ea typeface="Arial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4946760" y="2421000"/>
              <a:ext cx="1839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434880" y="2887920"/>
              <a:ext cx="2304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65280" y="2867400"/>
              <a:ext cx="11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84080" y="2887920"/>
              <a:ext cx="2095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1014480" y="2867400"/>
              <a:ext cx="11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1566720" y="2918160"/>
              <a:ext cx="2383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480" bIns="252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Arial"/>
                </a:rPr>
                <a:t>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1855800" y="2865600"/>
              <a:ext cx="323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304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ex10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179440" y="3094200"/>
              <a:ext cx="1177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2371680" y="2887920"/>
              <a:ext cx="1969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2568600" y="2995920"/>
              <a:ext cx="16668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2765520" y="2867400"/>
              <a:ext cx="11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884320" y="2963880"/>
              <a:ext cx="14292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3040200" y="2867400"/>
              <a:ext cx="11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3209760" y="2884680"/>
              <a:ext cx="860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3295800" y="2963880"/>
              <a:ext cx="15228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448080" y="2963880"/>
              <a:ext cx="15228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3657600" y="286740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776760" y="2887920"/>
              <a:ext cx="19656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3971880" y="2995920"/>
              <a:ext cx="16668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4170240" y="286740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4289400" y="2963880"/>
              <a:ext cx="14292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444920" y="286740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4564080" y="286740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4784760" y="2948040"/>
              <a:ext cx="237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920" bIns="-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sy10"/>
                  <a:ea typeface="Arial"/>
                </a:rPr>
                <a:t>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108400" y="2963880"/>
              <a:ext cx="18432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434880" y="3429360"/>
              <a:ext cx="2304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665280" y="3591000"/>
              <a:ext cx="244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sy7"/>
                  <a:ea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923760" y="340848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1042920" y="3429360"/>
              <a:ext cx="2095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1273320" y="3408480"/>
              <a:ext cx="118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1566720" y="3459240"/>
              <a:ext cx="2383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25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Arial"/>
                </a:rPr>
                <a:t>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1855800" y="3426120"/>
              <a:ext cx="85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1941480" y="350532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2093760" y="3505320"/>
              <a:ext cx="1526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2303280" y="340848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2422440" y="3505320"/>
              <a:ext cx="255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2676600" y="350532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2830320" y="3505320"/>
              <a:ext cx="1620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2992320" y="3591000"/>
              <a:ext cx="1177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184560" y="3429360"/>
              <a:ext cx="1969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3379680" y="3537000"/>
              <a:ext cx="1666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3578040" y="340848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3697200" y="3505320"/>
              <a:ext cx="142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3852720" y="340848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3971880" y="340848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4792680" y="3505320"/>
              <a:ext cx="1839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4976640" y="3408480"/>
              <a:ext cx="152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5130720" y="3440160"/>
              <a:ext cx="1522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434880" y="3970440"/>
              <a:ext cx="2304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665280" y="3953160"/>
              <a:ext cx="1159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  <a:ea typeface="Arial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665280" y="4162680"/>
              <a:ext cx="244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  <a:ea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923760" y="394992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1042920" y="3970440"/>
              <a:ext cx="2095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1273320" y="3949920"/>
              <a:ext cx="118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1866960" y="4046760"/>
              <a:ext cx="255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2122560" y="404676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2274840" y="4046760"/>
              <a:ext cx="1620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1566720" y="4243680"/>
              <a:ext cx="165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  <a:ea typeface="Arial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1731960" y="4297680"/>
              <a:ext cx="95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  <a:ea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1827360" y="4229280"/>
              <a:ext cx="698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  <a:ea typeface="Arial"/>
                </a:rPr>
                <a:t>[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1897200" y="4243680"/>
              <a:ext cx="1317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  <a:ea typeface="Arial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2046240" y="4229280"/>
              <a:ext cx="698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  <a:ea typeface="Arial"/>
                </a:rPr>
                <a:t>]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2116080" y="4243680"/>
              <a:ext cx="1922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3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  <a:ea typeface="Arial"/>
                </a:rPr>
                <a:t>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2308320" y="4251600"/>
              <a:ext cx="12204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  <a:ea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2428920" y="4257720"/>
              <a:ext cx="1918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25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  <a:ea typeface="Arial"/>
                </a:rPr>
                <a:t>¡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2620800" y="4297680"/>
              <a:ext cx="115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  <a:ea typeface="Arial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2787480" y="3970440"/>
              <a:ext cx="2304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3017880" y="4132440"/>
              <a:ext cx="244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  <a:ea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3276720" y="3949920"/>
              <a:ext cx="118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3395520" y="3970440"/>
              <a:ext cx="2095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3627360" y="3970440"/>
              <a:ext cx="1620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sy10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3816360" y="394992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4946760" y="4046760"/>
              <a:ext cx="1839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434880" y="1778040"/>
              <a:ext cx="4857840" cy="2665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6" name=""/>
          <p:cNvSpPr/>
          <p:nvPr/>
        </p:nvSpPr>
        <p:spPr>
          <a:xfrm>
            <a:off x="4788000" y="3794040"/>
            <a:ext cx="7207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"/>
          <p:cNvSpPr/>
          <p:nvPr/>
        </p:nvSpPr>
        <p:spPr>
          <a:xfrm rot="11731800">
            <a:off x="6372000" y="3074760"/>
            <a:ext cx="93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Wingdings 2"/>
                <a:ea typeface="Wingdings 2"/>
              </a:rPr>
              <a:t>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"/>
          <p:cNvSpPr/>
          <p:nvPr/>
        </p:nvSpPr>
        <p:spPr>
          <a:xfrm>
            <a:off x="6665760" y="2427120"/>
            <a:ext cx="144720" cy="1081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>
            <a:off x="6516720" y="2282760"/>
            <a:ext cx="431640" cy="1224000"/>
          </a:xfrm>
          <a:prstGeom prst="rect">
            <a:avLst/>
          </a:prstGeom>
          <a:solidFill>
            <a:srgbClr val="ff000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"/>
          <p:cNvSpPr/>
          <p:nvPr/>
        </p:nvSpPr>
        <p:spPr>
          <a:xfrm>
            <a:off x="6948360" y="1635120"/>
            <a:ext cx="648000" cy="506520"/>
          </a:xfrm>
          <a:prstGeom prst="wedgeRoundRectCallout">
            <a:avLst>
              <a:gd name="adj1" fmla="val -69115"/>
              <a:gd name="adj2" fmla="val 1180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1" name=""/>
          <p:cNvGrpSpPr/>
          <p:nvPr/>
        </p:nvGrpSpPr>
        <p:grpSpPr>
          <a:xfrm>
            <a:off x="7164360" y="1778040"/>
            <a:ext cx="216000" cy="200160"/>
            <a:chOff x="7164360" y="1778040"/>
            <a:chExt cx="216000" cy="200160"/>
          </a:xfrm>
        </p:grpSpPr>
        <p:sp>
          <p:nvSpPr>
            <p:cNvPr id="4212" name=""/>
            <p:cNvSpPr/>
            <p:nvPr/>
          </p:nvSpPr>
          <p:spPr>
            <a:xfrm>
              <a:off x="7164360" y="1778040"/>
              <a:ext cx="2160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9080" bIns="-67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mmi10"/>
                  <a:ea typeface="Arial"/>
                </a:rPr>
                <a:t>"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7164360" y="1778040"/>
              <a:ext cx="216000" cy="2001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4" name=""/>
          <p:cNvGrpSpPr/>
          <p:nvPr/>
        </p:nvGrpSpPr>
        <p:grpSpPr>
          <a:xfrm>
            <a:off x="4140360" y="4443480"/>
            <a:ext cx="1662120" cy="280800"/>
            <a:chOff x="4140360" y="4443480"/>
            <a:chExt cx="1662120" cy="280800"/>
          </a:xfrm>
        </p:grpSpPr>
        <p:sp>
          <p:nvSpPr>
            <p:cNvPr id="4215" name=""/>
            <p:cNvSpPr/>
            <p:nvPr/>
          </p:nvSpPr>
          <p:spPr>
            <a:xfrm>
              <a:off x="4140360" y="4495680"/>
              <a:ext cx="101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4240080" y="4583160"/>
              <a:ext cx="165240" cy="1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07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  <a:ea typeface="Arial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4406760" y="4583160"/>
              <a:ext cx="130320" cy="1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07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  <a:ea typeface="Arial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4646520" y="4583160"/>
              <a:ext cx="154080" cy="1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07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  <a:ea typeface="Arial"/>
                </a:rPr>
                <a:t>"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4892760" y="4603680"/>
              <a:ext cx="257040" cy="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7400" bIns="-86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  <a:ea typeface="Arial"/>
                </a:rPr>
                <a:t>=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5243400" y="4511520"/>
              <a:ext cx="1652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  <a:ea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5408640" y="4460760"/>
              <a:ext cx="2062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26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sy7"/>
                  <a:ea typeface="Arial"/>
                </a:rPr>
                <a:t>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654880" y="4444920"/>
              <a:ext cx="145800" cy="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94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cmmi5"/>
                  <a:ea typeface="Arial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5648400" y="4545000"/>
              <a:ext cx="144360" cy="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5672160" y="4576680"/>
              <a:ext cx="112680" cy="1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58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cmr5"/>
                  <a:ea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4140360" y="4443480"/>
              <a:ext cx="1662120" cy="2808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6" name=""/>
          <p:cNvGrpSpPr/>
          <p:nvPr/>
        </p:nvGrpSpPr>
        <p:grpSpPr>
          <a:xfrm>
            <a:off x="539640" y="1052640"/>
            <a:ext cx="4502160" cy="331560"/>
            <a:chOff x="539640" y="1052640"/>
            <a:chExt cx="4502160" cy="331560"/>
          </a:xfrm>
        </p:grpSpPr>
        <p:sp>
          <p:nvSpPr>
            <p:cNvPr id="4227" name=""/>
            <p:cNvSpPr/>
            <p:nvPr/>
          </p:nvSpPr>
          <p:spPr>
            <a:xfrm>
              <a:off x="539640" y="1076400"/>
              <a:ext cx="2253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900000" y="1160640"/>
              <a:ext cx="129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1028520" y="116064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1195200" y="1160640"/>
              <a:ext cx="183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1379160" y="10731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1562040" y="116064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1728720" y="1160640"/>
              <a:ext cx="2761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2114280" y="1160640"/>
              <a:ext cx="174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2271600" y="116064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2436480" y="1160640"/>
              <a:ext cx="1303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2566800" y="1081080"/>
              <a:ext cx="921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2658960" y="116064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2823840" y="10731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3008160" y="107316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3100320" y="1160640"/>
              <a:ext cx="147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3357360" y="1160640"/>
              <a:ext cx="1652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3514320" y="1160640"/>
              <a:ext cx="174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3679560" y="1160640"/>
              <a:ext cx="147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3827160" y="1160640"/>
              <a:ext cx="1303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4066920" y="1054080"/>
              <a:ext cx="165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824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4232160" y="1089000"/>
              <a:ext cx="1648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4398840" y="126684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4546440" y="1089000"/>
              <a:ext cx="1648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4711320" y="1054080"/>
              <a:ext cx="165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824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4876560" y="1082520"/>
              <a:ext cx="163440" cy="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8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539640" y="1052640"/>
              <a:ext cx="4502160" cy="331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3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072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wo-w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KD with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re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igher-dimensio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n-binary)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ss randomnes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sifting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Open Questions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Smooth Min-Entropy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4256" name=""/>
          <p:cNvGrpSpPr/>
          <p:nvPr/>
        </p:nvGrpSpPr>
        <p:grpSpPr>
          <a:xfrm>
            <a:off x="4716360" y="473040"/>
            <a:ext cx="2155680" cy="291960"/>
            <a:chOff x="4716360" y="473040"/>
            <a:chExt cx="2155680" cy="291960"/>
          </a:xfrm>
        </p:grpSpPr>
        <p:sp>
          <p:nvSpPr>
            <p:cNvPr id="4257" name=""/>
            <p:cNvSpPr/>
            <p:nvPr/>
          </p:nvSpPr>
          <p:spPr>
            <a:xfrm>
              <a:off x="4716360" y="473040"/>
              <a:ext cx="81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8880" bIns="72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[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4797360" y="493560"/>
              <a:ext cx="214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5013000" y="566640"/>
              <a:ext cx="13032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5141880" y="566640"/>
              <a:ext cx="16164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5305320" y="566640"/>
              <a:ext cx="16200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5467320" y="566640"/>
              <a:ext cx="12996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5597280" y="566640"/>
              <a:ext cx="11448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5808600" y="493560"/>
              <a:ext cx="299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W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6084720" y="566640"/>
              <a:ext cx="14616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6230880" y="490320"/>
              <a:ext cx="806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6311520" y="490320"/>
              <a:ext cx="889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f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6499080" y="504720"/>
              <a:ext cx="146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6645240" y="504720"/>
              <a:ext cx="1458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5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6791040" y="473040"/>
              <a:ext cx="81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8880" bIns="72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]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4716360" y="473040"/>
              <a:ext cx="21556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2" name=""/>
          <p:cNvSpPr/>
          <p:nvPr/>
        </p:nvSpPr>
        <p:spPr>
          <a:xfrm>
            <a:off x="5076720" y="1844640"/>
            <a:ext cx="2592360" cy="506520"/>
          </a:xfrm>
          <a:prstGeom prst="wedgeRoundRectCallout">
            <a:avLst>
              <a:gd name="adj1" fmla="val -111541"/>
              <a:gd name="adj2" fmla="val 291694"/>
              <a:gd name="adj3" fmla="val 16667"/>
            </a:avLst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3" name=""/>
          <p:cNvGrpSpPr/>
          <p:nvPr/>
        </p:nvGrpSpPr>
        <p:grpSpPr>
          <a:xfrm>
            <a:off x="5281560" y="1917720"/>
            <a:ext cx="2152800" cy="334800"/>
            <a:chOff x="5281560" y="1917720"/>
            <a:chExt cx="2152800" cy="334800"/>
          </a:xfrm>
        </p:grpSpPr>
        <p:sp>
          <p:nvSpPr>
            <p:cNvPr id="4274" name=""/>
            <p:cNvSpPr/>
            <p:nvPr/>
          </p:nvSpPr>
          <p:spPr>
            <a:xfrm>
              <a:off x="5281560" y="1963440"/>
              <a:ext cx="21204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5515920" y="1919160"/>
              <a:ext cx="8712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04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685840" y="2035080"/>
              <a:ext cx="856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5765760" y="2068200"/>
              <a:ext cx="2419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5960" bIns="-86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6094080" y="1963440"/>
              <a:ext cx="21168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6305760" y="2088720"/>
              <a:ext cx="1234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7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6444360" y="2153880"/>
              <a:ext cx="85320" cy="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63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6582600" y="2153880"/>
              <a:ext cx="85320" cy="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6720840" y="2153880"/>
              <a:ext cx="85680" cy="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6859440" y="2153880"/>
              <a:ext cx="85320" cy="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6996240" y="2153880"/>
              <a:ext cx="85680" cy="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63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7134840" y="1963440"/>
              <a:ext cx="21204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7346880" y="2085840"/>
              <a:ext cx="8712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04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5281560" y="1917720"/>
              <a:ext cx="2152800" cy="3348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8" name=""/>
          <p:cNvGrpSpPr/>
          <p:nvPr/>
        </p:nvGrpSpPr>
        <p:grpSpPr>
          <a:xfrm>
            <a:off x="646200" y="1152360"/>
            <a:ext cx="4502160" cy="331560"/>
            <a:chOff x="646200" y="1152360"/>
            <a:chExt cx="4502160" cy="331560"/>
          </a:xfrm>
        </p:grpSpPr>
        <p:sp>
          <p:nvSpPr>
            <p:cNvPr id="4289" name=""/>
            <p:cNvSpPr/>
            <p:nvPr/>
          </p:nvSpPr>
          <p:spPr>
            <a:xfrm>
              <a:off x="646200" y="1176120"/>
              <a:ext cx="2253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1006560" y="1260360"/>
              <a:ext cx="129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1135080" y="126036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1301760" y="1260360"/>
              <a:ext cx="183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1485720" y="11728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1668600" y="126036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1835280" y="1260360"/>
              <a:ext cx="2761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2220840" y="1260360"/>
              <a:ext cx="174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2378160" y="126036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2543040" y="1260360"/>
              <a:ext cx="1303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2673360" y="1180800"/>
              <a:ext cx="921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2765520" y="126036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2930400" y="11728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114720" y="117288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206880" y="1260360"/>
              <a:ext cx="147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3463920" y="1260360"/>
              <a:ext cx="1652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3620880" y="1260360"/>
              <a:ext cx="174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3786120" y="1260360"/>
              <a:ext cx="147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3933720" y="1260360"/>
              <a:ext cx="1303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4173480" y="1153800"/>
              <a:ext cx="165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4338720" y="1188720"/>
              <a:ext cx="1648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4505400" y="136656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4653000" y="1188720"/>
              <a:ext cx="1648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4817880" y="1153800"/>
              <a:ext cx="165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4983120" y="1182240"/>
              <a:ext cx="163440" cy="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646200" y="1152360"/>
              <a:ext cx="4502160" cy="331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5" name=""/>
          <p:cNvGrpSpPr/>
          <p:nvPr/>
        </p:nvGrpSpPr>
        <p:grpSpPr>
          <a:xfrm>
            <a:off x="681120" y="1773360"/>
            <a:ext cx="3819240" cy="495000"/>
            <a:chOff x="681120" y="1773360"/>
            <a:chExt cx="3819240" cy="495000"/>
          </a:xfrm>
        </p:grpSpPr>
        <p:sp>
          <p:nvSpPr>
            <p:cNvPr id="4316" name=""/>
            <p:cNvSpPr/>
            <p:nvPr/>
          </p:nvSpPr>
          <p:spPr>
            <a:xfrm>
              <a:off x="681120" y="1793520"/>
              <a:ext cx="2300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911160" y="1776240"/>
              <a:ext cx="115920" cy="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44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911160" y="1985760"/>
              <a:ext cx="244440" cy="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44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1170000" y="1773360"/>
              <a:ext cx="118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1288800" y="1793520"/>
              <a:ext cx="2098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1520640" y="1773360"/>
              <a:ext cx="1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1724040" y="1869840"/>
              <a:ext cx="8568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1809720" y="1890360"/>
              <a:ext cx="2379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1280" bIns="-79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2431800" y="1869840"/>
              <a:ext cx="25560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2687400" y="1869840"/>
              <a:ext cx="15264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2840040" y="1869840"/>
              <a:ext cx="16200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2131920" y="2068200"/>
              <a:ext cx="165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2297160" y="2122200"/>
              <a:ext cx="95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2392200" y="2053800"/>
              <a:ext cx="698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9840" bIns="522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[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2462040" y="2068200"/>
              <a:ext cx="1317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2612880" y="2053800"/>
              <a:ext cx="698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9840" bIns="522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]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2681280" y="2068200"/>
              <a:ext cx="191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392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2873160" y="2076120"/>
              <a:ext cx="12240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2995560" y="2082600"/>
              <a:ext cx="191880" cy="1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040" bIns="24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¡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3186000" y="2122200"/>
              <a:ext cx="115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3352680" y="1793520"/>
              <a:ext cx="2300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582720" y="1955520"/>
              <a:ext cx="24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841560" y="1773360"/>
              <a:ext cx="1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960720" y="1793520"/>
              <a:ext cx="2095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4192560" y="1793520"/>
              <a:ext cx="1620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sy10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4381560" y="1773360"/>
              <a:ext cx="118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681120" y="1773360"/>
              <a:ext cx="3819240" cy="4950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3" name=""/>
          <p:cNvGrpSpPr/>
          <p:nvPr/>
        </p:nvGrpSpPr>
        <p:grpSpPr>
          <a:xfrm>
            <a:off x="611280" y="2565360"/>
            <a:ext cx="7818480" cy="2244600"/>
            <a:chOff x="611280" y="2565360"/>
            <a:chExt cx="7818480" cy="2244600"/>
          </a:xfrm>
        </p:grpSpPr>
        <p:sp>
          <p:nvSpPr>
            <p:cNvPr id="4344" name=""/>
            <p:cNvSpPr/>
            <p:nvPr/>
          </p:nvSpPr>
          <p:spPr>
            <a:xfrm>
              <a:off x="611280" y="2643120"/>
              <a:ext cx="1522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-31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917640" y="2646360"/>
              <a:ext cx="255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173240" y="264636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1327320" y="264636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487520" y="2646360"/>
              <a:ext cx="1620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720800" y="2570040"/>
              <a:ext cx="1699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90720" y="2566800"/>
              <a:ext cx="1699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2060640" y="264636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2214720" y="264636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2384640" y="264636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2554560" y="264636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2706840" y="264636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2878200" y="2646360"/>
              <a:ext cx="1015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2979720" y="2566800"/>
              <a:ext cx="860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3063960" y="2574720"/>
              <a:ext cx="856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3149640" y="2566800"/>
              <a:ext cx="1620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3302280" y="264636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510000" y="2646360"/>
              <a:ext cx="1699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3679920" y="2646360"/>
              <a:ext cx="120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800520" y="2646360"/>
              <a:ext cx="1526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953160" y="2646360"/>
              <a:ext cx="16956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4132440" y="264636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4267440" y="2646360"/>
              <a:ext cx="120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4388040" y="2590920"/>
              <a:ext cx="119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4507200" y="2574720"/>
              <a:ext cx="856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4592880" y="264636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4727520" y="2646360"/>
              <a:ext cx="1209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4848480" y="2646360"/>
              <a:ext cx="856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5054760" y="264636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5181840" y="2566800"/>
              <a:ext cx="1699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5351760" y="264636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5505480" y="2574720"/>
              <a:ext cx="856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5589720" y="264636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5830920" y="2646360"/>
              <a:ext cx="120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5951520" y="264636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6121440" y="2566800"/>
              <a:ext cx="856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6207120" y="2646360"/>
              <a:ext cx="1368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6342120" y="2746440"/>
              <a:ext cx="8568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6505560" y="2646360"/>
              <a:ext cx="1209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6626520" y="2646360"/>
              <a:ext cx="1695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6796080" y="2566800"/>
              <a:ext cx="1699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6966000" y="2646360"/>
              <a:ext cx="1015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7067520" y="2646360"/>
              <a:ext cx="1526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7221600" y="2566800"/>
              <a:ext cx="1699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7391520" y="2566800"/>
              <a:ext cx="1699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7561440" y="2574720"/>
              <a:ext cx="856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7647120" y="2590920"/>
              <a:ext cx="119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7766280" y="2574720"/>
              <a:ext cx="856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7850160" y="2646360"/>
              <a:ext cx="1620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8012160" y="2574720"/>
              <a:ext cx="856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8097840" y="2590920"/>
              <a:ext cx="119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8207640" y="2646360"/>
              <a:ext cx="1616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8344080" y="2746440"/>
              <a:ext cx="8568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917640" y="3014640"/>
              <a:ext cx="255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1173240" y="301464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1327320" y="301464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1497240" y="301464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1649520" y="2959200"/>
              <a:ext cx="119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1768680" y="301464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1922760" y="3014640"/>
              <a:ext cx="1695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2092320" y="2943000"/>
              <a:ext cx="856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2176560" y="301464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2313000" y="2943000"/>
              <a:ext cx="856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2398680" y="2959200"/>
              <a:ext cx="119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2508480" y="3014640"/>
              <a:ext cx="1616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2644920" y="3114720"/>
              <a:ext cx="8568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2832120" y="3014640"/>
              <a:ext cx="1368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2968920" y="3114720"/>
              <a:ext cx="8568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3052800" y="3014640"/>
              <a:ext cx="1526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3206880" y="3114720"/>
              <a:ext cx="8568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3427560" y="2938320"/>
              <a:ext cx="23004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3657600" y="2921040"/>
              <a:ext cx="1159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3657600" y="3128760"/>
              <a:ext cx="244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3916440" y="291780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4035600" y="2938320"/>
              <a:ext cx="2095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351320" y="2917800"/>
              <a:ext cx="86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4521240" y="2938320"/>
              <a:ext cx="17964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4768920" y="291780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4972320" y="2998800"/>
              <a:ext cx="237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920" bIns="-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5295960" y="2938320"/>
              <a:ext cx="2304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5524560" y="2921040"/>
              <a:ext cx="1159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5524560" y="3128760"/>
              <a:ext cx="244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5784840" y="291780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5904000" y="2938320"/>
              <a:ext cx="2095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6134040" y="2938320"/>
              <a:ext cx="17964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6381720" y="291780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567480" y="2968560"/>
              <a:ext cx="2383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480" bIns="25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6873840" y="2938320"/>
              <a:ext cx="2304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7104240" y="3054240"/>
              <a:ext cx="1220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82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r7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7242120" y="291780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7361280" y="2938320"/>
              <a:ext cx="17964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7607520" y="2917800"/>
              <a:ext cx="118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611280" y="3695760"/>
              <a:ext cx="15228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-32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917640" y="3619440"/>
              <a:ext cx="936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1011240" y="3699000"/>
              <a:ext cx="1526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1165320" y="3699000"/>
              <a:ext cx="120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1387440" y="3622680"/>
              <a:ext cx="20988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1595520" y="3735360"/>
              <a:ext cx="87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800360" y="3630600"/>
              <a:ext cx="936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1893960" y="3630600"/>
              <a:ext cx="936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1987560" y="3619440"/>
              <a:ext cx="1573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ti10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2176560" y="3699000"/>
              <a:ext cx="856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2600280" y="3622680"/>
              <a:ext cx="2304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2830680" y="3605040"/>
              <a:ext cx="1159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2830680" y="3813120"/>
              <a:ext cx="244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3089520" y="3602160"/>
              <a:ext cx="11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3208320" y="3622680"/>
              <a:ext cx="2095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3440160" y="3627360"/>
              <a:ext cx="1508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3606840" y="360216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811680" y="3529080"/>
              <a:ext cx="150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3962520" y="3540240"/>
              <a:ext cx="24444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6880" bIns="-47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sy7"/>
                </a:rPr>
                <a:t>!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4206960" y="3529080"/>
              <a:ext cx="24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4011840" y="3682800"/>
              <a:ext cx="237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920" bIns="-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4535640" y="3622680"/>
              <a:ext cx="23004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4765680" y="360216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4884840" y="3622680"/>
              <a:ext cx="2095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5114880" y="3627360"/>
              <a:ext cx="1508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5281560" y="360216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5486400" y="3719520"/>
              <a:ext cx="23832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1280" bIns="-79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5808960" y="3622680"/>
              <a:ext cx="23004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6039000" y="360216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6158160" y="3622680"/>
              <a:ext cx="2095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6367680" y="3735360"/>
              <a:ext cx="871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6469200" y="360216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6656400" y="3695760"/>
              <a:ext cx="8568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-32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6809040" y="3699000"/>
              <a:ext cx="1839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611280" y="4306680"/>
              <a:ext cx="1522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-31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917640" y="4233960"/>
              <a:ext cx="2080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1127160" y="4309920"/>
              <a:ext cx="120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1246320" y="4238640"/>
              <a:ext cx="856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1332000" y="4309920"/>
              <a:ext cx="1620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1476360" y="4309920"/>
              <a:ext cx="1526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1629000" y="430992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1765440" y="4309920"/>
              <a:ext cx="1620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1998720" y="4233960"/>
              <a:ext cx="2304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2227320" y="4309920"/>
              <a:ext cx="255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2482920" y="4309920"/>
              <a:ext cx="1699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2652840" y="4230720"/>
              <a:ext cx="85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2738520" y="4238640"/>
              <a:ext cx="856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2822760" y="4230720"/>
              <a:ext cx="169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2992680" y="430992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129120" y="430992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283200" y="4254480"/>
              <a:ext cx="1188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402000" y="4238640"/>
              <a:ext cx="856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3486240" y="430992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3640320" y="430992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3810240" y="4309920"/>
              <a:ext cx="856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4015080" y="4233960"/>
              <a:ext cx="2300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4245120" y="4216320"/>
              <a:ext cx="1159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4245120" y="4425840"/>
              <a:ext cx="244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4505400" y="421308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4624560" y="4233960"/>
              <a:ext cx="2095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4940280" y="4213080"/>
              <a:ext cx="86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5110200" y="4233960"/>
              <a:ext cx="1796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5356440" y="4213080"/>
              <a:ext cx="118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5546880" y="4238640"/>
              <a:ext cx="856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5632560" y="4309920"/>
              <a:ext cx="120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5823000" y="4254480"/>
              <a:ext cx="119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5943600" y="4230720"/>
              <a:ext cx="169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6113520" y="430992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6319800" y="4309920"/>
              <a:ext cx="1573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ti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6477120" y="4309920"/>
              <a:ext cx="1573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ti10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6632640" y="4254480"/>
              <a:ext cx="101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6735960" y="4241880"/>
              <a:ext cx="936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9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6829560" y="4309920"/>
              <a:ext cx="250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ti10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7078680" y="4309920"/>
              <a:ext cx="1573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ti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7236000" y="4230720"/>
              <a:ext cx="777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ti10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7417080" y="430992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7570800" y="4309920"/>
              <a:ext cx="255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7824960" y="430992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7979040" y="4309920"/>
              <a:ext cx="1695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8148600" y="430992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8310600" y="4254480"/>
              <a:ext cx="119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917640" y="467820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1071720" y="4599000"/>
              <a:ext cx="936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1266840" y="4678200"/>
              <a:ext cx="1368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1403640" y="4678200"/>
              <a:ext cx="1616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1565280" y="4622760"/>
              <a:ext cx="119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1684440" y="4678200"/>
              <a:ext cx="120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1803600" y="467820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1957680" y="467820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2092320" y="4622760"/>
              <a:ext cx="119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2211480" y="467820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2365560" y="4599000"/>
              <a:ext cx="169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2535480" y="4599000"/>
              <a:ext cx="85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2619360" y="4678200"/>
              <a:ext cx="1368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2857680" y="4678200"/>
              <a:ext cx="120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2978280" y="467820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3130560" y="467820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3302280" y="4599000"/>
              <a:ext cx="1695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3471840" y="4678200"/>
              <a:ext cx="1526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3624480" y="4678200"/>
              <a:ext cx="255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3880080" y="467820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4050000" y="467820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4186440" y="4678200"/>
              <a:ext cx="120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4307040" y="4678200"/>
              <a:ext cx="120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611280" y="2565360"/>
              <a:ext cx="7817040" cy="22446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1" name=""/>
          <p:cNvGrpSpPr/>
          <p:nvPr/>
        </p:nvGrpSpPr>
        <p:grpSpPr>
          <a:xfrm>
            <a:off x="468360" y="4076640"/>
            <a:ext cx="2209680" cy="2597040"/>
            <a:chOff x="468360" y="4076640"/>
            <a:chExt cx="2209680" cy="2597040"/>
          </a:xfrm>
        </p:grpSpPr>
        <p:sp>
          <p:nvSpPr>
            <p:cNvPr id="4542" name=""/>
            <p:cNvSpPr/>
            <p:nvPr/>
          </p:nvSpPr>
          <p:spPr>
            <a:xfrm>
              <a:off x="468360" y="407664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800280" y="4125960"/>
              <a:ext cx="2127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1087560" y="416556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1270080" y="4222800"/>
              <a:ext cx="165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  <a:ea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1936800" y="4194000"/>
              <a:ext cx="1080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2043360" y="414504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2149560" y="4194000"/>
              <a:ext cx="1364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2286000" y="4145040"/>
              <a:ext cx="106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2392560" y="419400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639720" y="4435560"/>
              <a:ext cx="136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  <a:ea typeface="Arial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776520" y="448164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  <a:ea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988920" y="4611600"/>
              <a:ext cx="7632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mi10"/>
                  <a:ea typeface="Arial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1111320" y="4481640"/>
              <a:ext cx="2127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  <a:ea typeface="Arial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1322280" y="4435560"/>
              <a:ext cx="136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  <a:ea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1459080" y="4459320"/>
              <a:ext cx="1350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  <a:ea typeface="Arial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2154240" y="4522680"/>
              <a:ext cx="1414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  <a:ea typeface="Arial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468360" y="474336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1085760" y="6200640"/>
              <a:ext cx="76320" cy="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1085760" y="631044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1085760" y="641988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468360" y="665784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476280" y="4083120"/>
              <a:ext cx="2201760" cy="2590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4" name=""/>
          <p:cNvGrpSpPr/>
          <p:nvPr/>
        </p:nvGrpSpPr>
        <p:grpSpPr>
          <a:xfrm>
            <a:off x="539640" y="981000"/>
            <a:ext cx="2359080" cy="2603520"/>
            <a:chOff x="539640" y="981000"/>
            <a:chExt cx="2359080" cy="2603520"/>
          </a:xfrm>
        </p:grpSpPr>
        <p:sp>
          <p:nvSpPr>
            <p:cNvPr id="4565" name=""/>
            <p:cNvSpPr/>
            <p:nvPr/>
          </p:nvSpPr>
          <p:spPr>
            <a:xfrm>
              <a:off x="539640" y="981000"/>
              <a:ext cx="23511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944640" y="1030320"/>
              <a:ext cx="2124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1233360" y="106992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1415880" y="1127160"/>
              <a:ext cx="165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  <a:ea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2155680" y="1098360"/>
              <a:ext cx="1080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2263680" y="104940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2369880" y="1098360"/>
              <a:ext cx="1368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2506680" y="104940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2612880" y="109836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711000" y="1339920"/>
              <a:ext cx="136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  <a:ea typeface="Arial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847800" y="138600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  <a:ea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1060200" y="1363680"/>
              <a:ext cx="1350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  <a:ea typeface="Arial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1209600" y="1515960"/>
              <a:ext cx="7632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mi10"/>
                  <a:ea typeface="Arial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1330200" y="1386000"/>
              <a:ext cx="2127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  <a:ea typeface="Arial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1542960" y="1363680"/>
              <a:ext cx="1350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  <a:ea typeface="Arial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169236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  <a:ea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2374920" y="1427040"/>
              <a:ext cx="1411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  <a:ea typeface="Arial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539640" y="1647720"/>
              <a:ext cx="23511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539640" y="3568680"/>
              <a:ext cx="23511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547560" y="987480"/>
              <a:ext cx="2351160" cy="25970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Comparison to Previous Bound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4586" name=""/>
          <p:cNvGrpSpPr/>
          <p:nvPr/>
        </p:nvGrpSpPr>
        <p:grpSpPr>
          <a:xfrm>
            <a:off x="1903320" y="5254560"/>
            <a:ext cx="647280" cy="431640"/>
            <a:chOff x="1903320" y="5254560"/>
            <a:chExt cx="647280" cy="431640"/>
          </a:xfrm>
        </p:grpSpPr>
        <p:sp>
          <p:nvSpPr>
            <p:cNvPr id="4587" name=""/>
            <p:cNvSpPr/>
            <p:nvPr/>
          </p:nvSpPr>
          <p:spPr>
            <a:xfrm>
              <a:off x="1903320" y="5254560"/>
              <a:ext cx="647280" cy="431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 flipH="1" flipV="1">
              <a:off x="2226240" y="5274720"/>
              <a:ext cx="2520" cy="358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 flipV="1">
              <a:off x="2022120" y="5470560"/>
              <a:ext cx="478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 flipV="1">
              <a:off x="2050560" y="5274000"/>
              <a:ext cx="376560" cy="376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 flipH="1" flipV="1">
              <a:off x="2075760" y="5339520"/>
              <a:ext cx="263160" cy="249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2" name=""/>
          <p:cNvGrpSpPr/>
          <p:nvPr/>
        </p:nvGrpSpPr>
        <p:grpSpPr>
          <a:xfrm>
            <a:off x="1962720" y="5614200"/>
            <a:ext cx="602280" cy="618480"/>
            <a:chOff x="1962720" y="5614200"/>
            <a:chExt cx="602280" cy="618480"/>
          </a:xfrm>
        </p:grpSpPr>
        <p:sp>
          <p:nvSpPr>
            <p:cNvPr id="4593" name=""/>
            <p:cNvSpPr/>
            <p:nvPr/>
          </p:nvSpPr>
          <p:spPr>
            <a:xfrm rot="19923600">
              <a:off x="2047680" y="5687640"/>
              <a:ext cx="431640" cy="47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 flipH="1" flipV="1">
              <a:off x="2163240" y="5735160"/>
              <a:ext cx="185040" cy="345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 flipV="1">
              <a:off x="2143800" y="5838120"/>
              <a:ext cx="281520" cy="15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 flipV="1">
              <a:off x="2214360" y="5742000"/>
              <a:ext cx="104400" cy="339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 flipH="1" flipV="1">
              <a:off x="2058840" y="5868360"/>
              <a:ext cx="380160" cy="109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8" name=""/>
          <p:cNvSpPr/>
          <p:nvPr/>
        </p:nvSpPr>
        <p:spPr>
          <a:xfrm>
            <a:off x="2048040" y="482292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"/>
          <p:cNvSpPr/>
          <p:nvPr/>
        </p:nvSpPr>
        <p:spPr>
          <a:xfrm flipH="1" flipV="1">
            <a:off x="2263320" y="4843080"/>
            <a:ext cx="1800" cy="3589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"/>
          <p:cNvSpPr/>
          <p:nvPr/>
        </p:nvSpPr>
        <p:spPr>
          <a:xfrm rot="2700000">
            <a:off x="2047680" y="619128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"/>
          <p:cNvSpPr/>
          <p:nvPr/>
        </p:nvSpPr>
        <p:spPr>
          <a:xfrm flipH="1" flipV="1">
            <a:off x="2124000" y="6268680"/>
            <a:ext cx="260280" cy="2512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2" name=""/>
          <p:cNvGrpSpPr/>
          <p:nvPr/>
        </p:nvGrpSpPr>
        <p:grpSpPr>
          <a:xfrm>
            <a:off x="1166400" y="4733280"/>
            <a:ext cx="610920" cy="610560"/>
            <a:chOff x="1166400" y="4733280"/>
            <a:chExt cx="610920" cy="610560"/>
          </a:xfrm>
        </p:grpSpPr>
        <p:sp>
          <p:nvSpPr>
            <p:cNvPr id="4603" name=""/>
            <p:cNvSpPr/>
            <p:nvPr/>
          </p:nvSpPr>
          <p:spPr>
            <a:xfrm rot="2700000">
              <a:off x="1256040" y="482256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"/>
            <p:cNvSpPr/>
            <p:nvPr/>
          </p:nvSpPr>
          <p:spPr>
            <a:xfrm flipV="1">
              <a:off x="1356840" y="489924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"/>
            <p:cNvSpPr/>
            <p:nvPr/>
          </p:nvSpPr>
          <p:spPr>
            <a:xfrm flipH="1" flipV="1">
              <a:off x="1331280" y="489888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6" name=""/>
          <p:cNvGrpSpPr/>
          <p:nvPr/>
        </p:nvGrpSpPr>
        <p:grpSpPr>
          <a:xfrm>
            <a:off x="1255680" y="5288040"/>
            <a:ext cx="431640" cy="431640"/>
            <a:chOff x="1255680" y="5288040"/>
            <a:chExt cx="431640" cy="431640"/>
          </a:xfrm>
        </p:grpSpPr>
        <p:sp>
          <p:nvSpPr>
            <p:cNvPr id="4607" name=""/>
            <p:cNvSpPr/>
            <p:nvPr/>
          </p:nvSpPr>
          <p:spPr>
            <a:xfrm>
              <a:off x="1255680" y="528804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"/>
            <p:cNvSpPr/>
            <p:nvPr/>
          </p:nvSpPr>
          <p:spPr>
            <a:xfrm flipH="1" flipV="1">
              <a:off x="1470960" y="530820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 flipV="1">
              <a:off x="1334880" y="550332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0" name=""/>
          <p:cNvGrpSpPr/>
          <p:nvPr/>
        </p:nvGrpSpPr>
        <p:grpSpPr>
          <a:xfrm>
            <a:off x="608040" y="4822920"/>
            <a:ext cx="431640" cy="431640"/>
            <a:chOff x="608040" y="4822920"/>
            <a:chExt cx="431640" cy="431640"/>
          </a:xfrm>
        </p:grpSpPr>
        <p:sp>
          <p:nvSpPr>
            <p:cNvPr id="4611" name=""/>
            <p:cNvSpPr/>
            <p:nvPr/>
          </p:nvSpPr>
          <p:spPr>
            <a:xfrm>
              <a:off x="608040" y="482292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 flipH="1" flipV="1">
              <a:off x="823320" y="484308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"/>
            <p:cNvSpPr/>
            <p:nvPr/>
          </p:nvSpPr>
          <p:spPr>
            <a:xfrm flipV="1">
              <a:off x="687240" y="503820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4" name=""/>
          <p:cNvGrpSpPr/>
          <p:nvPr/>
        </p:nvGrpSpPr>
        <p:grpSpPr>
          <a:xfrm>
            <a:off x="518040" y="5204880"/>
            <a:ext cx="610920" cy="610560"/>
            <a:chOff x="518040" y="5204880"/>
            <a:chExt cx="610920" cy="610560"/>
          </a:xfrm>
        </p:grpSpPr>
        <p:sp>
          <p:nvSpPr>
            <p:cNvPr id="4615" name=""/>
            <p:cNvSpPr/>
            <p:nvPr/>
          </p:nvSpPr>
          <p:spPr>
            <a:xfrm rot="2700000">
              <a:off x="607320" y="529416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 flipV="1">
              <a:off x="708480" y="537084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 flipH="1" flipV="1">
              <a:off x="683640" y="537048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8" name=""/>
          <p:cNvSpPr/>
          <p:nvPr/>
        </p:nvSpPr>
        <p:spPr>
          <a:xfrm>
            <a:off x="804960" y="4678200"/>
            <a:ext cx="6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"/>
          <p:cNvSpPr/>
          <p:nvPr/>
        </p:nvSpPr>
        <p:spPr>
          <a:xfrm>
            <a:off x="787320" y="5164200"/>
            <a:ext cx="6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"/>
          <p:cNvSpPr/>
          <p:nvPr/>
        </p:nvSpPr>
        <p:spPr>
          <a:xfrm>
            <a:off x="966960" y="6073920"/>
            <a:ext cx="360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1" name=""/>
          <p:cNvGrpSpPr/>
          <p:nvPr/>
        </p:nvGrpSpPr>
        <p:grpSpPr>
          <a:xfrm>
            <a:off x="3213000" y="1484280"/>
            <a:ext cx="5319720" cy="1160280"/>
            <a:chOff x="3213000" y="1484280"/>
            <a:chExt cx="5319720" cy="1160280"/>
          </a:xfrm>
        </p:grpSpPr>
        <p:sp>
          <p:nvSpPr>
            <p:cNvPr id="4622" name=""/>
            <p:cNvSpPr/>
            <p:nvPr/>
          </p:nvSpPr>
          <p:spPr>
            <a:xfrm>
              <a:off x="3213000" y="1487520"/>
              <a:ext cx="209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3422520" y="1552320"/>
              <a:ext cx="1270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3548160" y="1552320"/>
              <a:ext cx="1411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3689280" y="1552320"/>
              <a:ext cx="1620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3851280" y="1485720"/>
              <a:ext cx="85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3936960" y="1552320"/>
              <a:ext cx="1540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4091040" y="155232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260960" y="155232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383000" y="1552320"/>
              <a:ext cx="856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954680" y="1488960"/>
              <a:ext cx="19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5145120" y="1485720"/>
              <a:ext cx="136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5281560" y="155556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5405400" y="1555560"/>
              <a:ext cx="1126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5503680" y="155556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5772240" y="155556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5894280" y="1555560"/>
              <a:ext cx="123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6018120" y="1495440"/>
              <a:ext cx="8280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6100920" y="1555560"/>
              <a:ext cx="109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6210360" y="1506240"/>
              <a:ext cx="889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6299280" y="1555560"/>
              <a:ext cx="109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6553080" y="1555560"/>
              <a:ext cx="1368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6689880" y="1555560"/>
              <a:ext cx="150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6985080" y="155556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7107120" y="155556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7230960" y="155556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7353360" y="1555560"/>
              <a:ext cx="150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7504200" y="1506240"/>
              <a:ext cx="889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7737480" y="1488960"/>
              <a:ext cx="1411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8047080" y="1555560"/>
              <a:ext cx="177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8224920" y="1495440"/>
              <a:ext cx="82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8307360" y="1506240"/>
              <a:ext cx="889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8396280" y="1485720"/>
              <a:ext cx="136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3213000" y="1807920"/>
              <a:ext cx="1825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3394080" y="187452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3498840" y="178884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[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3573360" y="1807920"/>
              <a:ext cx="1414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3738600" y="178884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]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3886200" y="1795320"/>
              <a:ext cx="2080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3680" bIns="604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msam10"/>
                  <a:ea typeface="Arial"/>
                </a:rPr>
                <a:t>&amp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4200480" y="176508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r7"/>
                  <a:ea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4192560" y="1922400"/>
              <a:ext cx="106200" cy="0"/>
            </a:xfrm>
            <a:prstGeom prst="line">
              <a:avLst/>
            </a:prstGeom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200480" y="196200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r7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4433760" y="1874520"/>
              <a:ext cx="1098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4543560" y="1874520"/>
              <a:ext cx="142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4686120" y="187452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4809960" y="1804680"/>
              <a:ext cx="136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5041800" y="1825560"/>
              <a:ext cx="8892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5130720" y="1804680"/>
              <a:ext cx="136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5267160" y="1874520"/>
              <a:ext cx="1368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5403960" y="1825560"/>
              <a:ext cx="8892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4648320" y="2396880"/>
              <a:ext cx="199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4848120" y="2538360"/>
              <a:ext cx="21276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sy7"/>
                  <a:ea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5075280" y="237780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5178240" y="239688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5494320" y="237780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  <a:ea typeface="Arial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5643720" y="2396880"/>
              <a:ext cx="1411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5808600" y="2550960"/>
              <a:ext cx="74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5927760" y="239688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6134040" y="237780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6313320" y="2408040"/>
              <a:ext cx="2080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9920" bIns="34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  <a:ea typeface="Arial"/>
                </a:rPr>
                <a:t>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6594480" y="2463480"/>
              <a:ext cx="160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6754680" y="2377800"/>
              <a:ext cx="1335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6888240" y="2406600"/>
              <a:ext cx="1332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7021440" y="255096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3213000" y="1484280"/>
              <a:ext cx="5319720" cy="11602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6" name=""/>
          <p:cNvGrpSpPr/>
          <p:nvPr/>
        </p:nvGrpSpPr>
        <p:grpSpPr>
          <a:xfrm>
            <a:off x="2052720" y="2158920"/>
            <a:ext cx="647280" cy="431640"/>
            <a:chOff x="2052720" y="2158920"/>
            <a:chExt cx="647280" cy="431640"/>
          </a:xfrm>
        </p:grpSpPr>
        <p:sp>
          <p:nvSpPr>
            <p:cNvPr id="4687" name=""/>
            <p:cNvSpPr/>
            <p:nvPr/>
          </p:nvSpPr>
          <p:spPr>
            <a:xfrm>
              <a:off x="2052720" y="2158920"/>
              <a:ext cx="647280" cy="431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 flipH="1" flipV="1">
              <a:off x="2375640" y="2179080"/>
              <a:ext cx="2520" cy="358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 flipV="1">
              <a:off x="2171520" y="2374920"/>
              <a:ext cx="478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 flipV="1">
              <a:off x="2199960" y="2178360"/>
              <a:ext cx="376560" cy="376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"/>
            <p:cNvSpPr/>
            <p:nvPr/>
          </p:nvSpPr>
          <p:spPr>
            <a:xfrm flipH="1" flipV="1">
              <a:off x="2225160" y="2243880"/>
              <a:ext cx="263160" cy="249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2" name=""/>
          <p:cNvGrpSpPr/>
          <p:nvPr/>
        </p:nvGrpSpPr>
        <p:grpSpPr>
          <a:xfrm>
            <a:off x="2111760" y="2518560"/>
            <a:ext cx="602280" cy="618480"/>
            <a:chOff x="2111760" y="2518560"/>
            <a:chExt cx="602280" cy="618480"/>
          </a:xfrm>
        </p:grpSpPr>
        <p:sp>
          <p:nvSpPr>
            <p:cNvPr id="4693" name=""/>
            <p:cNvSpPr/>
            <p:nvPr/>
          </p:nvSpPr>
          <p:spPr>
            <a:xfrm rot="19923600">
              <a:off x="2196720" y="2592000"/>
              <a:ext cx="431640" cy="47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 flipH="1" flipV="1">
              <a:off x="2312280" y="2639520"/>
              <a:ext cx="185400" cy="345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 flipV="1">
              <a:off x="2292840" y="2742480"/>
              <a:ext cx="281520" cy="151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 flipV="1">
              <a:off x="2363400" y="2646720"/>
              <a:ext cx="104400" cy="339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 flipH="1" flipV="1">
              <a:off x="2207880" y="2772720"/>
              <a:ext cx="380160" cy="110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8" name=""/>
          <p:cNvSpPr/>
          <p:nvPr/>
        </p:nvSpPr>
        <p:spPr>
          <a:xfrm>
            <a:off x="2197080" y="172728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"/>
          <p:cNvSpPr/>
          <p:nvPr/>
        </p:nvSpPr>
        <p:spPr>
          <a:xfrm flipH="1" flipV="1">
            <a:off x="2413080" y="1747440"/>
            <a:ext cx="1440" cy="3589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"/>
          <p:cNvSpPr/>
          <p:nvPr/>
        </p:nvSpPr>
        <p:spPr>
          <a:xfrm rot="2700000">
            <a:off x="2197440" y="309528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"/>
          <p:cNvSpPr/>
          <p:nvPr/>
        </p:nvSpPr>
        <p:spPr>
          <a:xfrm flipH="1" flipV="1">
            <a:off x="2273040" y="3173040"/>
            <a:ext cx="260280" cy="2512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2" name=""/>
          <p:cNvGrpSpPr/>
          <p:nvPr/>
        </p:nvGrpSpPr>
        <p:grpSpPr>
          <a:xfrm>
            <a:off x="1242360" y="1611000"/>
            <a:ext cx="610560" cy="1974240"/>
            <a:chOff x="1242360" y="1611000"/>
            <a:chExt cx="610560" cy="1974240"/>
          </a:xfrm>
        </p:grpSpPr>
        <p:grpSp>
          <p:nvGrpSpPr>
            <p:cNvPr id="4703" name=""/>
            <p:cNvGrpSpPr/>
            <p:nvPr/>
          </p:nvGrpSpPr>
          <p:grpSpPr>
            <a:xfrm>
              <a:off x="1242360" y="2064960"/>
              <a:ext cx="610560" cy="610560"/>
              <a:chOff x="1242360" y="2064960"/>
              <a:chExt cx="610560" cy="610560"/>
            </a:xfrm>
          </p:grpSpPr>
          <p:sp>
            <p:nvSpPr>
              <p:cNvPr id="4704" name=""/>
              <p:cNvSpPr/>
              <p:nvPr/>
            </p:nvSpPr>
            <p:spPr>
              <a:xfrm rot="2700000">
                <a:off x="1331640" y="2154240"/>
                <a:ext cx="43164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 flipV="1">
                <a:off x="1432440" y="223056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 flipH="1" flipV="1">
                <a:off x="1407600" y="223020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7" name=""/>
            <p:cNvGrpSpPr/>
            <p:nvPr/>
          </p:nvGrpSpPr>
          <p:grpSpPr>
            <a:xfrm>
              <a:off x="1242360" y="1611000"/>
              <a:ext cx="610560" cy="610560"/>
              <a:chOff x="1242360" y="1611000"/>
              <a:chExt cx="610560" cy="610560"/>
            </a:xfrm>
          </p:grpSpPr>
          <p:sp>
            <p:nvSpPr>
              <p:cNvPr id="4708" name=""/>
              <p:cNvSpPr/>
              <p:nvPr/>
            </p:nvSpPr>
            <p:spPr>
              <a:xfrm rot="2700000">
                <a:off x="1331640" y="1700280"/>
                <a:ext cx="43164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 flipV="1">
                <a:off x="1432440" y="177660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 flipH="1" flipV="1">
                <a:off x="1407600" y="177624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1" name=""/>
            <p:cNvGrpSpPr/>
            <p:nvPr/>
          </p:nvGrpSpPr>
          <p:grpSpPr>
            <a:xfrm>
              <a:off x="1242360" y="2520720"/>
              <a:ext cx="610560" cy="610560"/>
              <a:chOff x="1242360" y="2520720"/>
              <a:chExt cx="610560" cy="610560"/>
            </a:xfrm>
          </p:grpSpPr>
          <p:sp>
            <p:nvSpPr>
              <p:cNvPr id="4712" name=""/>
              <p:cNvSpPr/>
              <p:nvPr/>
            </p:nvSpPr>
            <p:spPr>
              <a:xfrm rot="2700000">
                <a:off x="1331640" y="2610000"/>
                <a:ext cx="43164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 flipV="1">
                <a:off x="1432440" y="268632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 flipH="1" flipV="1">
                <a:off x="1407600" y="268596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5" name=""/>
            <p:cNvGrpSpPr/>
            <p:nvPr/>
          </p:nvGrpSpPr>
          <p:grpSpPr>
            <a:xfrm>
              <a:off x="1242360" y="2974680"/>
              <a:ext cx="610560" cy="610560"/>
              <a:chOff x="1242360" y="2974680"/>
              <a:chExt cx="610560" cy="610560"/>
            </a:xfrm>
          </p:grpSpPr>
          <p:sp>
            <p:nvSpPr>
              <p:cNvPr id="4716" name=""/>
              <p:cNvSpPr/>
              <p:nvPr/>
            </p:nvSpPr>
            <p:spPr>
              <a:xfrm rot="2700000">
                <a:off x="1331640" y="3063960"/>
                <a:ext cx="43164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 flipV="1">
                <a:off x="1432440" y="314028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 flipH="1" flipV="1">
                <a:off x="1407600" y="313992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9" name=""/>
          <p:cNvGrpSpPr/>
          <p:nvPr/>
        </p:nvGrpSpPr>
        <p:grpSpPr>
          <a:xfrm>
            <a:off x="755640" y="1708200"/>
            <a:ext cx="431640" cy="1785600"/>
            <a:chOff x="755640" y="1708200"/>
            <a:chExt cx="431640" cy="1785600"/>
          </a:xfrm>
        </p:grpSpPr>
        <p:grpSp>
          <p:nvGrpSpPr>
            <p:cNvPr id="4720" name=""/>
            <p:cNvGrpSpPr/>
            <p:nvPr/>
          </p:nvGrpSpPr>
          <p:grpSpPr>
            <a:xfrm>
              <a:off x="755640" y="1708200"/>
              <a:ext cx="431640" cy="431640"/>
              <a:chOff x="755640" y="1708200"/>
              <a:chExt cx="431640" cy="431640"/>
            </a:xfrm>
          </p:grpSpPr>
          <p:sp>
            <p:nvSpPr>
              <p:cNvPr id="4721" name=""/>
              <p:cNvSpPr/>
              <p:nvPr/>
            </p:nvSpPr>
            <p:spPr>
              <a:xfrm>
                <a:off x="755640" y="170820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 flipH="1" flipV="1">
                <a:off x="970920" y="172836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 flipV="1">
                <a:off x="834840" y="192348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4" name=""/>
            <p:cNvGrpSpPr/>
            <p:nvPr/>
          </p:nvGrpSpPr>
          <p:grpSpPr>
            <a:xfrm>
              <a:off x="755640" y="2611440"/>
              <a:ext cx="431640" cy="431640"/>
              <a:chOff x="755640" y="2611440"/>
              <a:chExt cx="431640" cy="431640"/>
            </a:xfrm>
          </p:grpSpPr>
          <p:sp>
            <p:nvSpPr>
              <p:cNvPr id="4725" name=""/>
              <p:cNvSpPr/>
              <p:nvPr/>
            </p:nvSpPr>
            <p:spPr>
              <a:xfrm>
                <a:off x="755640" y="261144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 flipH="1" flipV="1">
                <a:off x="970920" y="263160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 flipV="1">
                <a:off x="834840" y="282672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8" name=""/>
            <p:cNvGrpSpPr/>
            <p:nvPr/>
          </p:nvGrpSpPr>
          <p:grpSpPr>
            <a:xfrm>
              <a:off x="755640" y="3062160"/>
              <a:ext cx="431640" cy="431640"/>
              <a:chOff x="755640" y="3062160"/>
              <a:chExt cx="431640" cy="431640"/>
            </a:xfrm>
          </p:grpSpPr>
          <p:sp>
            <p:nvSpPr>
              <p:cNvPr id="4729" name=""/>
              <p:cNvSpPr/>
              <p:nvPr/>
            </p:nvSpPr>
            <p:spPr>
              <a:xfrm>
                <a:off x="755640" y="306216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 flipH="1" flipV="1">
                <a:off x="970920" y="308232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 flipV="1">
                <a:off x="834840" y="327744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2" name=""/>
            <p:cNvGrpSpPr/>
            <p:nvPr/>
          </p:nvGrpSpPr>
          <p:grpSpPr>
            <a:xfrm>
              <a:off x="755640" y="2158920"/>
              <a:ext cx="431640" cy="431640"/>
              <a:chOff x="755640" y="2158920"/>
              <a:chExt cx="431640" cy="431640"/>
            </a:xfrm>
          </p:grpSpPr>
          <p:sp>
            <p:nvSpPr>
              <p:cNvPr id="4733" name=""/>
              <p:cNvSpPr/>
              <p:nvPr/>
            </p:nvSpPr>
            <p:spPr>
              <a:xfrm>
                <a:off x="755640" y="215892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 flipH="1" flipV="1">
                <a:off x="970920" y="217908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 flipV="1">
                <a:off x="834840" y="237420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36" name=""/>
          <p:cNvGrpSpPr/>
          <p:nvPr/>
        </p:nvGrpSpPr>
        <p:grpSpPr>
          <a:xfrm>
            <a:off x="3191040" y="4149720"/>
            <a:ext cx="4981320" cy="266760"/>
            <a:chOff x="3191040" y="4149720"/>
            <a:chExt cx="4981320" cy="266760"/>
          </a:xfrm>
        </p:grpSpPr>
        <p:sp>
          <p:nvSpPr>
            <p:cNvPr id="4737" name=""/>
            <p:cNvSpPr/>
            <p:nvPr/>
          </p:nvSpPr>
          <p:spPr>
            <a:xfrm>
              <a:off x="3191040" y="4167000"/>
              <a:ext cx="23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3430440" y="4232160"/>
              <a:ext cx="1411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3571920" y="4232160"/>
              <a:ext cx="22176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3792600" y="4232160"/>
              <a:ext cx="853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4133880" y="4168800"/>
              <a:ext cx="199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4333680" y="4154400"/>
              <a:ext cx="10116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  <a:ea typeface="Arial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4333680" y="4336920"/>
              <a:ext cx="21240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sy7"/>
                  <a:ea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4560840" y="4149720"/>
              <a:ext cx="1026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4663800" y="4168800"/>
              <a:ext cx="2203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979880" y="4149720"/>
              <a:ext cx="741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  <a:ea typeface="Arial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5128920" y="4168800"/>
              <a:ext cx="207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5337000" y="414972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5514840" y="4156200"/>
              <a:ext cx="2077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3320" bIns="601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msam10"/>
                  <a:ea typeface="Arial"/>
                </a:rPr>
                <a:t>&amp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5796000" y="4235400"/>
              <a:ext cx="159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5956200" y="4149720"/>
              <a:ext cx="132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6091200" y="4178160"/>
              <a:ext cx="13284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6319800" y="4235400"/>
              <a:ext cx="177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6497640" y="4174920"/>
              <a:ext cx="82080" cy="1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6578640" y="4186080"/>
              <a:ext cx="885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6667560" y="4165560"/>
              <a:ext cx="1360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6899040" y="4235400"/>
              <a:ext cx="150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7049880" y="423540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7159680" y="4235400"/>
              <a:ext cx="1216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7281720" y="4165560"/>
              <a:ext cx="680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7350120" y="4174920"/>
              <a:ext cx="82080" cy="1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7432560" y="4235400"/>
              <a:ext cx="12204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7554960" y="4174920"/>
              <a:ext cx="82080" cy="1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7637400" y="4165560"/>
              <a:ext cx="121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7759440" y="4165560"/>
              <a:ext cx="680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7827840" y="423540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8047080" y="4235400"/>
              <a:ext cx="123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  <a:ea typeface="Arial"/>
                </a:rPr>
                <a:t>"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3191040" y="4149720"/>
              <a:ext cx="4981320" cy="2667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9" name=""/>
          <p:cNvGrpSpPr/>
          <p:nvPr/>
        </p:nvGrpSpPr>
        <p:grpSpPr>
          <a:xfrm>
            <a:off x="3132000" y="4788000"/>
            <a:ext cx="4545000" cy="1174680"/>
            <a:chOff x="3132000" y="4788000"/>
            <a:chExt cx="4545000" cy="1174680"/>
          </a:xfrm>
        </p:grpSpPr>
        <p:sp>
          <p:nvSpPr>
            <p:cNvPr id="4770" name=""/>
            <p:cNvSpPr/>
            <p:nvPr/>
          </p:nvSpPr>
          <p:spPr>
            <a:xfrm>
              <a:off x="3132000" y="4803840"/>
              <a:ext cx="147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3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  <a:ea typeface="Arial"/>
                </a:rPr>
                <a:t>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3279600" y="4803840"/>
              <a:ext cx="1256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3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  <a:ea typeface="Arial"/>
                </a:rPr>
                <a:t>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3486240" y="484488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92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  <a:ea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3738600" y="4788000"/>
              <a:ext cx="1332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  <a:ea typeface="Arial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3871800" y="4832280"/>
              <a:ext cx="2080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4079880" y="4960800"/>
              <a:ext cx="74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4199040" y="483228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  <a:ea typeface="Arial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4406760" y="4788000"/>
              <a:ext cx="1335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  <a:ea typeface="Arial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4540320" y="4811760"/>
              <a:ext cx="13176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  <a:ea typeface="Arial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3132000" y="5124600"/>
              <a:ext cx="147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3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  <a:ea typeface="Arial"/>
                </a:rPr>
                <a:t>9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3368520" y="5194440"/>
              <a:ext cx="11916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3487680" y="5194440"/>
              <a:ext cx="1411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3620880" y="5194440"/>
              <a:ext cx="11916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3740040" y="5194440"/>
              <a:ext cx="147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3881520" y="5145120"/>
              <a:ext cx="1029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4073400" y="5127480"/>
              <a:ext cx="1414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4214880" y="5219640"/>
              <a:ext cx="1015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8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  <a:ea typeface="Arial"/>
                </a:rPr>
                <a:t>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4424400" y="5194440"/>
              <a:ext cx="19368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4618080" y="513072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4691160" y="5145120"/>
              <a:ext cx="1029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4795920" y="5124600"/>
              <a:ext cx="147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3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5032440" y="5137200"/>
              <a:ext cx="1332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5165640" y="5097600"/>
              <a:ext cx="1666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sy7"/>
                  <a:ea typeface="Arial"/>
                </a:rPr>
                <a:t>¡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5334120" y="5132520"/>
              <a:ext cx="13176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  <a:ea typeface="Arial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5522760" y="5108400"/>
              <a:ext cx="2826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266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ex10"/>
                  <a:ea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5805360" y="5259240"/>
              <a:ext cx="101520" cy="1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8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  <a:ea typeface="Arial"/>
                </a:rPr>
                <a:t>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5970600" y="5127480"/>
              <a:ext cx="1825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6151680" y="5194440"/>
              <a:ext cx="10476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6256440" y="510840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[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6330960" y="5127480"/>
              <a:ext cx="1411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6472080" y="5219640"/>
              <a:ext cx="10188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8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  <a:ea typeface="Arial"/>
                </a:rPr>
                <a:t>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6592680" y="5108400"/>
              <a:ext cx="748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]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6740640" y="5180040"/>
              <a:ext cx="20772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-64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  <a:ea typeface="Arial"/>
                </a:rPr>
                <a:t>¼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7022880" y="5137200"/>
              <a:ext cx="1335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7245360" y="5194440"/>
              <a:ext cx="1332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7378560" y="5194440"/>
              <a:ext cx="147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7527960" y="5124600"/>
              <a:ext cx="147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3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3894120" y="5715000"/>
              <a:ext cx="2001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4094280" y="5856120"/>
              <a:ext cx="21240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sy7"/>
                  <a:ea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4321080" y="5695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4424400" y="57150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4741920" y="569592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  <a:ea typeface="Arial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4889520" y="5715000"/>
              <a:ext cx="1411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5030640" y="5807160"/>
              <a:ext cx="1015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8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  <a:ea typeface="Arial"/>
                </a:rPr>
                <a:t>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5151240" y="5869080"/>
              <a:ext cx="74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5270400" y="571500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5551560" y="5799240"/>
              <a:ext cx="20772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5834160" y="5711760"/>
              <a:ext cx="1252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5967360" y="5695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6145200" y="5702400"/>
              <a:ext cx="2080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3320" bIns="601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msam10"/>
                  <a:ea typeface="Arial"/>
                </a:rPr>
                <a:t>&amp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6426000" y="5781600"/>
              <a:ext cx="160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6586560" y="5695920"/>
              <a:ext cx="1332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6719760" y="5724360"/>
              <a:ext cx="1335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6854760" y="586908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  <a:ea typeface="Arial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3132000" y="4788000"/>
              <a:ext cx="4545000" cy="11746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(Randomized) 1-2 Oblivious Transfer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>
            <a:off x="3346560" y="1413000"/>
            <a:ext cx="1800000" cy="1152360"/>
          </a:xfrm>
          <a:prstGeom prst="rect">
            <a:avLst/>
          </a:prstGeom>
          <a:solidFill>
            <a:srgbClr val="9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1916280"/>
            <a:ext cx="574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6560" y="227664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6560" y="170028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706920" y="1628640"/>
            <a:ext cx="1081080" cy="679680"/>
            <a:chOff x="3706920" y="1628640"/>
            <a:chExt cx="1081080" cy="679680"/>
          </a:xfrm>
        </p:grpSpPr>
        <p:sp>
          <p:nvSpPr>
            <p:cNvPr id="96" name=""/>
            <p:cNvSpPr/>
            <p:nvPr/>
          </p:nvSpPr>
          <p:spPr>
            <a:xfrm>
              <a:off x="3832560" y="1633680"/>
              <a:ext cx="263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l10"/>
                  <a:ea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96080" y="1724040"/>
              <a:ext cx="17928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4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l10"/>
                  <a:ea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75360" y="1724040"/>
              <a:ext cx="20016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4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l10"/>
                  <a:ea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75520" y="1630440"/>
              <a:ext cx="1998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l10"/>
                  <a:ea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06920" y="2077920"/>
              <a:ext cx="17964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00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l10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0720" y="2154240"/>
              <a:ext cx="11880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4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l10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91320" y="2077920"/>
              <a:ext cx="17928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00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l10"/>
                  <a:ea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49800" y="2063880"/>
              <a:ext cx="279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l10"/>
                  <a:ea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29520" y="2063880"/>
              <a:ext cx="258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l10"/>
                  <a:ea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06920" y="1628640"/>
              <a:ext cx="1081080" cy="6796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869240" y="1411200"/>
            <a:ext cx="663480" cy="100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1411200"/>
            <a:ext cx="761760" cy="86364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835280" y="1771560"/>
            <a:ext cx="841320" cy="291960"/>
            <a:chOff x="1835280" y="1771560"/>
            <a:chExt cx="841320" cy="291960"/>
          </a:xfrm>
        </p:grpSpPr>
        <p:sp>
          <p:nvSpPr>
            <p:cNvPr id="109" name=""/>
            <p:cNvSpPr/>
            <p:nvPr/>
          </p:nvSpPr>
          <p:spPr>
            <a:xfrm>
              <a:off x="1835280" y="177300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0120" y="190152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89520" y="196524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38560" y="177300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43400" y="190152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35280" y="1771560"/>
              <a:ext cx="8398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918040" y="1555920"/>
            <a:ext cx="1486080" cy="333360"/>
            <a:chOff x="5918040" y="1555920"/>
            <a:chExt cx="1486080" cy="333360"/>
          </a:xfrm>
        </p:grpSpPr>
        <p:sp>
          <p:nvSpPr>
            <p:cNvPr id="116" name=""/>
            <p:cNvSpPr/>
            <p:nvPr/>
          </p:nvSpPr>
          <p:spPr>
            <a:xfrm>
              <a:off x="5918040" y="1579680"/>
              <a:ext cx="2383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3720" y="1627200"/>
              <a:ext cx="2221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9280" bIns="12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8000" y="1557360"/>
              <a:ext cx="1666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56120" y="1592280"/>
              <a:ext cx="1670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23160" y="177192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70760" y="1592280"/>
              <a:ext cx="1666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37440" y="1557360"/>
              <a:ext cx="1666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18040" y="1555920"/>
              <a:ext cx="1486080" cy="333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24000" y="4581360"/>
            <a:ext cx="83516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for 2-party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Arial"/>
              </a:rPr>
              <a:t>impossible in the plain (quantum)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0101"/>
                </a:solidFill>
                <a:latin typeface="Arial"/>
                <a:ea typeface="Arial"/>
              </a:rPr>
              <a:t>possible in the Bounded-Quantum-Stor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41240" y="2997360"/>
            <a:ext cx="7502760" cy="115236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5867280" y="2139840"/>
            <a:ext cx="397080" cy="279360"/>
            <a:chOff x="5867280" y="2139840"/>
            <a:chExt cx="397080" cy="279360"/>
          </a:xfrm>
        </p:grpSpPr>
        <p:sp>
          <p:nvSpPr>
            <p:cNvPr id="127" name=""/>
            <p:cNvSpPr/>
            <p:nvPr/>
          </p:nvSpPr>
          <p:spPr>
            <a:xfrm>
              <a:off x="5867280" y="214128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72120" y="2260440"/>
              <a:ext cx="192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67280" y="2139840"/>
              <a:ext cx="395280" cy="277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3399"/>
                </a:solidFill>
                <a:latin typeface="Garamond"/>
              </a:rPr>
              <a:t>Outline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50840" y="1628280"/>
            <a:ext cx="704232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6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Arial"/>
              </a:rPr>
              <a:t>Motivation and Not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6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Arial"/>
              </a:rPr>
              <a:t>Quantum Uncertainty Rel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6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1557360"/>
            <a:ext cx="720108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3419640" y="5098680"/>
            <a:ext cx="865080" cy="955800"/>
            <a:chOff x="3419640" y="5098680"/>
            <a:chExt cx="865080" cy="955800"/>
          </a:xfrm>
        </p:grpSpPr>
        <p:sp>
          <p:nvSpPr>
            <p:cNvPr id="134" name=""/>
            <p:cNvSpPr/>
            <p:nvPr/>
          </p:nvSpPr>
          <p:spPr>
            <a:xfrm>
              <a:off x="3564000" y="5243400"/>
              <a:ext cx="576360" cy="5763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19640" y="5459400"/>
              <a:ext cx="86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851280" y="5098680"/>
              <a:ext cx="21600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484800" y="5340600"/>
              <a:ext cx="713520" cy="713880"/>
              <a:chOff x="3484800" y="5340600"/>
              <a:chExt cx="713520" cy="713880"/>
            </a:xfrm>
          </p:grpSpPr>
          <p:sp>
            <p:nvSpPr>
              <p:cNvPr id="138" name=""/>
              <p:cNvSpPr/>
              <p:nvPr/>
            </p:nvSpPr>
            <p:spPr>
              <a:xfrm rot="2700000">
                <a:off x="3589200" y="5445000"/>
                <a:ext cx="504720" cy="50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3707280" y="5534280"/>
                <a:ext cx="294120" cy="2941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3678120" y="5534640"/>
                <a:ext cx="304560" cy="2952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3409920" y="3739680"/>
            <a:ext cx="865080" cy="865440"/>
            <a:chOff x="3409920" y="3739680"/>
            <a:chExt cx="865080" cy="865440"/>
          </a:xfrm>
        </p:grpSpPr>
        <p:sp>
          <p:nvSpPr>
            <p:cNvPr id="142" name=""/>
            <p:cNvSpPr/>
            <p:nvPr/>
          </p:nvSpPr>
          <p:spPr>
            <a:xfrm>
              <a:off x="3554280" y="3884400"/>
              <a:ext cx="576360" cy="5763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09920" y="41004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41920" y="3739680"/>
              <a:ext cx="21564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97120" y="4100400"/>
              <a:ext cx="505080" cy="50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3849840" y="4123800"/>
              <a:ext cx="1440" cy="459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648240" y="4352400"/>
              <a:ext cx="40320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Quantum Mechanics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31654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prob. 1 yield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265400" y="5157360"/>
            <a:ext cx="0" cy="574920"/>
          </a:xfrm>
          <a:prstGeom prst="line">
            <a:avLst/>
          </a:prstGeom>
          <a:ln w="442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4941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prob. ½ yield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068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3668760"/>
            <a:ext cx="86508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618920" y="417348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84720" y="4173480"/>
            <a:ext cx="22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5011560"/>
            <a:ext cx="86508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618920" y="551664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284720" y="551664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32360" y="5661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prob. ½ yield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1171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r10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00000" y="1027080"/>
            <a:ext cx="719280" cy="720720"/>
            <a:chOff x="900000" y="1027080"/>
            <a:chExt cx="719280" cy="720720"/>
          </a:xfrm>
        </p:grpSpPr>
        <p:sp>
          <p:nvSpPr>
            <p:cNvPr id="162" name=""/>
            <p:cNvSpPr/>
            <p:nvPr/>
          </p:nvSpPr>
          <p:spPr>
            <a:xfrm>
              <a:off x="900000" y="1027080"/>
              <a:ext cx="719280" cy="72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260360" y="1100160"/>
              <a:ext cx="0" cy="5745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71640" y="1387440"/>
              <a:ext cx="5760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900000" y="1844640"/>
            <a:ext cx="719280" cy="720720"/>
            <a:chOff x="900000" y="1844640"/>
            <a:chExt cx="719280" cy="720720"/>
          </a:xfrm>
        </p:grpSpPr>
        <p:sp>
          <p:nvSpPr>
            <p:cNvPr id="166" name=""/>
            <p:cNvSpPr/>
            <p:nvPr/>
          </p:nvSpPr>
          <p:spPr>
            <a:xfrm>
              <a:off x="900000" y="1844640"/>
              <a:ext cx="719280" cy="72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059480" y="2000520"/>
              <a:ext cx="405360" cy="4075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55520" y="2002680"/>
              <a:ext cx="408600" cy="4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835280" y="198900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Arial"/>
              </a:rPr>
              <a:t>£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781440" y="1052640"/>
            <a:ext cx="719280" cy="720720"/>
            <a:chOff x="3781440" y="1052640"/>
            <a:chExt cx="719280" cy="720720"/>
          </a:xfrm>
        </p:grpSpPr>
        <p:sp>
          <p:nvSpPr>
            <p:cNvPr id="171" name=""/>
            <p:cNvSpPr/>
            <p:nvPr/>
          </p:nvSpPr>
          <p:spPr>
            <a:xfrm>
              <a:off x="3781440" y="1052640"/>
              <a:ext cx="719280" cy="72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2720" y="1413000"/>
              <a:ext cx="576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38920" y="1054080"/>
            <a:ext cx="718920" cy="720720"/>
            <a:chOff x="5938920" y="1054080"/>
            <a:chExt cx="718920" cy="720720"/>
          </a:xfrm>
        </p:grpSpPr>
        <p:sp>
          <p:nvSpPr>
            <p:cNvPr id="174" name=""/>
            <p:cNvSpPr/>
            <p:nvPr/>
          </p:nvSpPr>
          <p:spPr>
            <a:xfrm>
              <a:off x="5938920" y="1054080"/>
              <a:ext cx="718920" cy="72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300720" y="1125000"/>
              <a:ext cx="0" cy="574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780000" y="1844640"/>
            <a:ext cx="718920" cy="720720"/>
            <a:chOff x="3780000" y="1844640"/>
            <a:chExt cx="718920" cy="720720"/>
          </a:xfrm>
        </p:grpSpPr>
        <p:sp>
          <p:nvSpPr>
            <p:cNvPr id="177" name=""/>
            <p:cNvSpPr/>
            <p:nvPr/>
          </p:nvSpPr>
          <p:spPr>
            <a:xfrm>
              <a:off x="3780000" y="1844640"/>
              <a:ext cx="718920" cy="72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939120" y="2000520"/>
              <a:ext cx="405360" cy="4075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940360" y="1844640"/>
            <a:ext cx="719280" cy="720720"/>
            <a:chOff x="5940360" y="1844640"/>
            <a:chExt cx="719280" cy="720720"/>
          </a:xfrm>
        </p:grpSpPr>
        <p:sp>
          <p:nvSpPr>
            <p:cNvPr id="180" name=""/>
            <p:cNvSpPr/>
            <p:nvPr/>
          </p:nvSpPr>
          <p:spPr>
            <a:xfrm>
              <a:off x="5940360" y="1844640"/>
              <a:ext cx="719280" cy="72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95880" y="2002680"/>
              <a:ext cx="408600" cy="4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788000" y="1198440"/>
            <a:ext cx="647640" cy="412920"/>
            <a:chOff x="4788000" y="1198440"/>
            <a:chExt cx="647640" cy="412920"/>
          </a:xfrm>
        </p:grpSpPr>
        <p:sp>
          <p:nvSpPr>
            <p:cNvPr id="183" name=""/>
            <p:cNvSpPr/>
            <p:nvPr/>
          </p:nvSpPr>
          <p:spPr>
            <a:xfrm>
              <a:off x="4788000" y="119988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89520" y="123804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70240" y="119988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11720" y="1422360"/>
              <a:ext cx="2239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r7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88000" y="1198440"/>
              <a:ext cx="64764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020000" y="1270080"/>
            <a:ext cx="647640" cy="412560"/>
            <a:chOff x="7020000" y="1270080"/>
            <a:chExt cx="647640" cy="412560"/>
          </a:xfrm>
        </p:grpSpPr>
        <p:sp>
          <p:nvSpPr>
            <p:cNvPr id="189" name=""/>
            <p:cNvSpPr/>
            <p:nvPr/>
          </p:nvSpPr>
          <p:spPr>
            <a:xfrm>
              <a:off x="7020000" y="1271160"/>
              <a:ext cx="1015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21520" y="1309320"/>
              <a:ext cx="18072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29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02240" y="1271160"/>
              <a:ext cx="1414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43720" y="1493640"/>
              <a:ext cx="223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600" bIns="29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r7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20000" y="1270080"/>
              <a:ext cx="647640" cy="412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020000" y="2062080"/>
            <a:ext cx="650880" cy="412920"/>
            <a:chOff x="7020000" y="2062080"/>
            <a:chExt cx="650880" cy="412920"/>
          </a:xfrm>
        </p:grpSpPr>
        <p:sp>
          <p:nvSpPr>
            <p:cNvPr id="195" name=""/>
            <p:cNvSpPr/>
            <p:nvPr/>
          </p:nvSpPr>
          <p:spPr>
            <a:xfrm>
              <a:off x="7020000" y="206352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21520" y="210168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02240" y="206352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43720" y="2286000"/>
              <a:ext cx="227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sy7"/>
                  <a:ea typeface="Arial"/>
                </a:rPr>
                <a:t>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20000" y="2062080"/>
              <a:ext cx="65088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788000" y="1989000"/>
            <a:ext cx="650880" cy="412920"/>
            <a:chOff x="4788000" y="1989000"/>
            <a:chExt cx="650880" cy="412920"/>
          </a:xfrm>
        </p:grpSpPr>
        <p:sp>
          <p:nvSpPr>
            <p:cNvPr id="201" name=""/>
            <p:cNvSpPr/>
            <p:nvPr/>
          </p:nvSpPr>
          <p:spPr>
            <a:xfrm>
              <a:off x="4788000" y="199044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89520" y="202860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70240" y="199044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11720" y="2212920"/>
              <a:ext cx="227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sy7"/>
                  <a:ea typeface="Arial"/>
                </a:rPr>
                <a:t>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88000" y="1989000"/>
              <a:ext cx="65088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84360" y="3740040"/>
            <a:ext cx="718920" cy="720720"/>
            <a:chOff x="684360" y="3740040"/>
            <a:chExt cx="718920" cy="720720"/>
          </a:xfrm>
        </p:grpSpPr>
        <p:sp>
          <p:nvSpPr>
            <p:cNvPr id="207" name=""/>
            <p:cNvSpPr/>
            <p:nvPr/>
          </p:nvSpPr>
          <p:spPr>
            <a:xfrm>
              <a:off x="684360" y="3740040"/>
              <a:ext cx="718920" cy="72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046160" y="3810960"/>
              <a:ext cx="0" cy="574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659640" y="3813120"/>
            <a:ext cx="718920" cy="720720"/>
            <a:chOff x="6659640" y="3813120"/>
            <a:chExt cx="718920" cy="720720"/>
          </a:xfrm>
        </p:grpSpPr>
        <p:sp>
          <p:nvSpPr>
            <p:cNvPr id="210" name=""/>
            <p:cNvSpPr/>
            <p:nvPr/>
          </p:nvSpPr>
          <p:spPr>
            <a:xfrm>
              <a:off x="6659640" y="3813120"/>
              <a:ext cx="718920" cy="72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7021440" y="3884040"/>
              <a:ext cx="0" cy="574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4360" y="5157720"/>
            <a:ext cx="718920" cy="720720"/>
            <a:chOff x="684360" y="5157720"/>
            <a:chExt cx="718920" cy="720720"/>
          </a:xfrm>
        </p:grpSpPr>
        <p:sp>
          <p:nvSpPr>
            <p:cNvPr id="213" name=""/>
            <p:cNvSpPr/>
            <p:nvPr/>
          </p:nvSpPr>
          <p:spPr>
            <a:xfrm>
              <a:off x="684360" y="5157720"/>
              <a:ext cx="718920" cy="72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046160" y="5228640"/>
              <a:ext cx="0" cy="574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956720" y="4724280"/>
            <a:ext cx="718920" cy="720720"/>
            <a:chOff x="7956720" y="4724280"/>
            <a:chExt cx="718920" cy="720720"/>
          </a:xfrm>
        </p:grpSpPr>
        <p:sp>
          <p:nvSpPr>
            <p:cNvPr id="216" name=""/>
            <p:cNvSpPr/>
            <p:nvPr/>
          </p:nvSpPr>
          <p:spPr>
            <a:xfrm>
              <a:off x="7956720" y="4724280"/>
              <a:ext cx="718920" cy="72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115840" y="4880160"/>
              <a:ext cx="405360" cy="4075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956720" y="5589720"/>
            <a:ext cx="718920" cy="720720"/>
            <a:chOff x="7956720" y="5589720"/>
            <a:chExt cx="718920" cy="720720"/>
          </a:xfrm>
        </p:grpSpPr>
        <p:sp>
          <p:nvSpPr>
            <p:cNvPr id="219" name=""/>
            <p:cNvSpPr/>
            <p:nvPr/>
          </p:nvSpPr>
          <p:spPr>
            <a:xfrm>
              <a:off x="7956720" y="5589720"/>
              <a:ext cx="718920" cy="72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11880" y="5747400"/>
              <a:ext cx="408240" cy="406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5753160" y="1301760"/>
            <a:ext cx="1307520" cy="2685960"/>
            <a:chOff x="5753160" y="1301760"/>
            <a:chExt cx="1307520" cy="2685960"/>
          </a:xfrm>
        </p:grpSpPr>
        <p:sp>
          <p:nvSpPr>
            <p:cNvPr id="222" name=""/>
            <p:cNvSpPr/>
            <p:nvPr/>
          </p:nvSpPr>
          <p:spPr>
            <a:xfrm>
              <a:off x="5753160" y="1301760"/>
              <a:ext cx="12999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24160" y="1419120"/>
              <a:ext cx="136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60960" y="1419120"/>
              <a:ext cx="1202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83000" y="137016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16440" y="1351080"/>
              <a:ext cx="2044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21280" y="1347840"/>
              <a:ext cx="756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'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53160" y="1641600"/>
              <a:ext cx="12999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9520" y="179388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89520" y="223992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  <a:ea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89520" y="268452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89520" y="313056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9520" y="357516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53160" y="3971880"/>
              <a:ext cx="12999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60720" y="1308240"/>
              <a:ext cx="1299960" cy="26794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Quantum 1-2 OT Protocol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762120" cy="863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284720" y="1628640"/>
            <a:ext cx="1150920" cy="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479840" y="1123920"/>
            <a:ext cx="730440" cy="351000"/>
            <a:chOff x="4479840" y="1123920"/>
            <a:chExt cx="730440" cy="351000"/>
          </a:xfrm>
        </p:grpSpPr>
        <p:sp>
          <p:nvSpPr>
            <p:cNvPr id="240" name=""/>
            <p:cNvSpPr/>
            <p:nvPr/>
          </p:nvSpPr>
          <p:spPr>
            <a:xfrm>
              <a:off x="4479840" y="1125360"/>
              <a:ext cx="92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73440" y="1147680"/>
              <a:ext cx="2764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75120" y="1125360"/>
              <a:ext cx="1303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05440" y="1316160"/>
              <a:ext cx="204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79840" y="1123920"/>
              <a:ext cx="730440" cy="3510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104920" y="4503600"/>
            <a:ext cx="841320" cy="291960"/>
            <a:chOff x="2104920" y="4503600"/>
            <a:chExt cx="841320" cy="291960"/>
          </a:xfrm>
        </p:grpSpPr>
        <p:sp>
          <p:nvSpPr>
            <p:cNvPr id="246" name=""/>
            <p:cNvSpPr/>
            <p:nvPr/>
          </p:nvSpPr>
          <p:spPr>
            <a:xfrm>
              <a:off x="2104920" y="4505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09760" y="4633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59160" y="469728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08200" y="4505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13040" y="4633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04920" y="4503600"/>
              <a:ext cx="8398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284720" y="4221000"/>
            <a:ext cx="12240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206800" y="1916280"/>
            <a:ext cx="182520" cy="2519280"/>
            <a:chOff x="2206800" y="1916280"/>
            <a:chExt cx="182520" cy="2519280"/>
          </a:xfrm>
        </p:grpSpPr>
        <p:sp>
          <p:nvSpPr>
            <p:cNvPr id="254" name=""/>
            <p:cNvSpPr/>
            <p:nvPr/>
          </p:nvSpPr>
          <p:spPr>
            <a:xfrm>
              <a:off x="2225880" y="1916280"/>
              <a:ext cx="0" cy="2519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206800" y="19162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2225880" y="2779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2225880" y="321336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017880" y="4148280"/>
            <a:ext cx="1049400" cy="214200"/>
            <a:chOff x="3017880" y="4148280"/>
            <a:chExt cx="1049400" cy="214200"/>
          </a:xfrm>
        </p:grpSpPr>
        <p:sp>
          <p:nvSpPr>
            <p:cNvPr id="259" name=""/>
            <p:cNvSpPr/>
            <p:nvPr/>
          </p:nvSpPr>
          <p:spPr>
            <a:xfrm>
              <a:off x="3017880" y="4148280"/>
              <a:ext cx="16524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831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68880" y="4184640"/>
              <a:ext cx="171360" cy="14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880" bIns="9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40240" y="4240080"/>
              <a:ext cx="15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80000" y="4148280"/>
              <a:ext cx="18432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643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17880" y="4148280"/>
              <a:ext cx="1049400" cy="2142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001880" y="4097160"/>
            <a:ext cx="1049040" cy="214560"/>
            <a:chOff x="1001880" y="4097160"/>
            <a:chExt cx="1049040" cy="214560"/>
          </a:xfrm>
        </p:grpSpPr>
        <p:sp>
          <p:nvSpPr>
            <p:cNvPr id="267" name=""/>
            <p:cNvSpPr/>
            <p:nvPr/>
          </p:nvSpPr>
          <p:spPr>
            <a:xfrm>
              <a:off x="1001880" y="4097160"/>
              <a:ext cx="1648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667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52520" y="4133880"/>
              <a:ext cx="1710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824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4189320"/>
              <a:ext cx="1537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63640" y="4097160"/>
              <a:ext cx="1839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479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01880" y="4097160"/>
              <a:ext cx="1049040" cy="214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168800" y="3789360"/>
            <a:ext cx="1268280" cy="291960"/>
            <a:chOff x="4168800" y="3789360"/>
            <a:chExt cx="1268280" cy="291960"/>
          </a:xfrm>
        </p:grpSpPr>
        <p:sp>
          <p:nvSpPr>
            <p:cNvPr id="275" name=""/>
            <p:cNvSpPr/>
            <p:nvPr/>
          </p:nvSpPr>
          <p:spPr>
            <a:xfrm>
              <a:off x="4168800" y="3790800"/>
              <a:ext cx="2584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28720" y="398304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76320" y="3790800"/>
              <a:ext cx="2142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90880" y="3919320"/>
              <a:ext cx="1328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41720" y="3983040"/>
              <a:ext cx="9144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89320" y="3790800"/>
              <a:ext cx="213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03520" y="391932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68800" y="3789360"/>
              <a:ext cx="12682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983160" y="1700280"/>
            <a:ext cx="610920" cy="2340360"/>
            <a:chOff x="983160" y="1700280"/>
            <a:chExt cx="610920" cy="2340360"/>
          </a:xfrm>
        </p:grpSpPr>
        <p:grpSp>
          <p:nvGrpSpPr>
            <p:cNvPr id="284" name=""/>
            <p:cNvGrpSpPr/>
            <p:nvPr/>
          </p:nvGrpSpPr>
          <p:grpSpPr>
            <a:xfrm>
              <a:off x="983160" y="2058480"/>
              <a:ext cx="610920" cy="610560"/>
              <a:chOff x="983160" y="2058480"/>
              <a:chExt cx="610920" cy="610560"/>
            </a:xfrm>
          </p:grpSpPr>
          <p:sp>
            <p:nvSpPr>
              <p:cNvPr id="285" name=""/>
              <p:cNvSpPr/>
              <p:nvPr/>
            </p:nvSpPr>
            <p:spPr>
              <a:xfrm rot="2700000">
                <a:off x="1072440" y="2147760"/>
                <a:ext cx="43200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1173600" y="222444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1148760" y="222408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73160" y="1700280"/>
              <a:ext cx="431640" cy="431640"/>
              <a:chOff x="1073160" y="1700280"/>
              <a:chExt cx="431640" cy="431640"/>
            </a:xfrm>
          </p:grpSpPr>
          <p:sp>
            <p:nvSpPr>
              <p:cNvPr id="289" name=""/>
              <p:cNvSpPr/>
              <p:nvPr/>
            </p:nvSpPr>
            <p:spPr>
              <a:xfrm>
                <a:off x="1073160" y="170028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1288440" y="172044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1152360" y="191556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073160" y="2608200"/>
              <a:ext cx="431640" cy="431640"/>
              <a:chOff x="1073160" y="2608200"/>
              <a:chExt cx="431640" cy="431640"/>
            </a:xfrm>
          </p:grpSpPr>
          <p:sp>
            <p:nvSpPr>
              <p:cNvPr id="293" name=""/>
              <p:cNvSpPr/>
              <p:nvPr/>
            </p:nvSpPr>
            <p:spPr>
              <a:xfrm>
                <a:off x="1073160" y="260820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1288440" y="262836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1152360" y="282348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073160" y="3063960"/>
              <a:ext cx="431640" cy="431640"/>
              <a:chOff x="1073160" y="3063960"/>
              <a:chExt cx="431640" cy="431640"/>
            </a:xfrm>
          </p:grpSpPr>
          <p:sp>
            <p:nvSpPr>
              <p:cNvPr id="297" name=""/>
              <p:cNvSpPr/>
              <p:nvPr/>
            </p:nvSpPr>
            <p:spPr>
              <a:xfrm>
                <a:off x="1073160" y="306396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flipV="1">
                <a:off x="1288440" y="308412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1152360" y="327924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983160" y="3430080"/>
              <a:ext cx="610920" cy="610560"/>
              <a:chOff x="983160" y="3430080"/>
              <a:chExt cx="610920" cy="610560"/>
            </a:xfrm>
          </p:grpSpPr>
          <p:sp>
            <p:nvSpPr>
              <p:cNvPr id="301" name=""/>
              <p:cNvSpPr/>
              <p:nvPr/>
            </p:nvSpPr>
            <p:spPr>
              <a:xfrm rot="2700000">
                <a:off x="1072440" y="3519360"/>
                <a:ext cx="43200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173600" y="359604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1148760" y="359568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2657520" y="2347920"/>
            <a:ext cx="163440" cy="2089080"/>
            <a:chOff x="2657520" y="2347920"/>
            <a:chExt cx="163440" cy="2089080"/>
          </a:xfrm>
        </p:grpSpPr>
        <p:sp>
          <p:nvSpPr>
            <p:cNvPr id="305" name=""/>
            <p:cNvSpPr/>
            <p:nvPr/>
          </p:nvSpPr>
          <p:spPr>
            <a:xfrm flipH="1">
              <a:off x="2657520" y="36640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01880" y="2347920"/>
              <a:ext cx="0" cy="20890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657520" y="2347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258360" y="1676520"/>
            <a:ext cx="611280" cy="2340360"/>
            <a:chOff x="3258360" y="1676520"/>
            <a:chExt cx="611280" cy="2340360"/>
          </a:xfrm>
        </p:grpSpPr>
        <p:sp>
          <p:nvSpPr>
            <p:cNvPr id="309" name=""/>
            <p:cNvSpPr/>
            <p:nvPr/>
          </p:nvSpPr>
          <p:spPr>
            <a:xfrm rot="2700000">
              <a:off x="3348000" y="2123640"/>
              <a:ext cx="43200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3423960" y="2201400"/>
              <a:ext cx="260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48000" y="167652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27560" y="189180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48000" y="258444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>
              <a:off x="3564000" y="260460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48000" y="304020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3564000" y="306036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700000">
              <a:off x="3348000" y="3495240"/>
              <a:ext cx="43200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449520" y="357156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8317080" y="1268280"/>
            <a:ext cx="663480" cy="100836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7526160" y="2061720"/>
            <a:ext cx="865080" cy="865440"/>
            <a:chOff x="7526160" y="2061720"/>
            <a:chExt cx="865080" cy="865440"/>
          </a:xfrm>
        </p:grpSpPr>
        <p:sp>
          <p:nvSpPr>
            <p:cNvPr id="321" name=""/>
            <p:cNvSpPr/>
            <p:nvPr/>
          </p:nvSpPr>
          <p:spPr>
            <a:xfrm>
              <a:off x="7670520" y="2206440"/>
              <a:ext cx="576360" cy="5763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26160" y="242244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7958160" y="2061720"/>
              <a:ext cx="21564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13360" y="2422440"/>
              <a:ext cx="505080" cy="50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>
              <a:off x="7966080" y="2445840"/>
              <a:ext cx="1440" cy="459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764480" y="2674440"/>
              <a:ext cx="40320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937200" y="4513320"/>
            <a:ext cx="938160" cy="282600"/>
            <a:chOff x="6937200" y="4513320"/>
            <a:chExt cx="938160" cy="282600"/>
          </a:xfrm>
        </p:grpSpPr>
        <p:sp>
          <p:nvSpPr>
            <p:cNvPr id="328" name=""/>
            <p:cNvSpPr/>
            <p:nvPr/>
          </p:nvSpPr>
          <p:spPr>
            <a:xfrm>
              <a:off x="6937200" y="451800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142040" y="464652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85040" y="4622760"/>
              <a:ext cx="25848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560" bIns="-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18400" y="4514760"/>
              <a:ext cx="15696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00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7200" y="4513320"/>
              <a:ext cx="938160" cy="2808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291360" y="4518000"/>
            <a:ext cx="338040" cy="279360"/>
            <a:chOff x="6291360" y="4518000"/>
            <a:chExt cx="338040" cy="279360"/>
          </a:xfrm>
        </p:grpSpPr>
        <p:sp>
          <p:nvSpPr>
            <p:cNvPr id="334" name=""/>
            <p:cNvSpPr/>
            <p:nvPr/>
          </p:nvSpPr>
          <p:spPr>
            <a:xfrm>
              <a:off x="6291360" y="45194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96200" y="46479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91360" y="4518000"/>
              <a:ext cx="338040" cy="277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461280" y="1916280"/>
            <a:ext cx="182520" cy="2519280"/>
            <a:chOff x="6461280" y="1916280"/>
            <a:chExt cx="182520" cy="2519280"/>
          </a:xfrm>
        </p:grpSpPr>
        <p:sp>
          <p:nvSpPr>
            <p:cNvPr id="338" name=""/>
            <p:cNvSpPr/>
            <p:nvPr/>
          </p:nvSpPr>
          <p:spPr>
            <a:xfrm>
              <a:off x="6480360" y="1916280"/>
              <a:ext cx="0" cy="2519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461280" y="19162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6480360" y="2779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6480360" y="321336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912000" y="2347920"/>
            <a:ext cx="163440" cy="2089080"/>
            <a:chOff x="6912000" y="2347920"/>
            <a:chExt cx="163440" cy="2089080"/>
          </a:xfrm>
        </p:grpSpPr>
        <p:sp>
          <p:nvSpPr>
            <p:cNvPr id="343" name=""/>
            <p:cNvSpPr/>
            <p:nvPr/>
          </p:nvSpPr>
          <p:spPr>
            <a:xfrm flipH="1">
              <a:off x="6912000" y="36640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56360" y="2347920"/>
              <a:ext cx="0" cy="20890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6912000" y="2347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6516720" y="1235160"/>
            <a:ext cx="934920" cy="28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6588000" y="0"/>
            <a:ext cx="1873440" cy="1413000"/>
            <a:chOff x="6588000" y="0"/>
            <a:chExt cx="1873440" cy="1413000"/>
          </a:xfrm>
        </p:grpSpPr>
        <p:sp>
          <p:nvSpPr>
            <p:cNvPr id="348" name=""/>
            <p:cNvSpPr/>
            <p:nvPr/>
          </p:nvSpPr>
          <p:spPr>
            <a:xfrm>
              <a:off x="6588000" y="0"/>
              <a:ext cx="1873440" cy="1413000"/>
            </a:xfrm>
            <a:prstGeom prst="cloudCallout">
              <a:avLst>
                <a:gd name="adj1" fmla="val 45592"/>
                <a:gd name="adj2" fmla="val 46851"/>
              </a:avLst>
            </a:prstGeom>
            <a:solidFill>
              <a:srgbClr val="33cccc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6877080" y="404640"/>
              <a:ext cx="1222200" cy="662040"/>
              <a:chOff x="6877080" y="404640"/>
              <a:chExt cx="1222200" cy="662040"/>
            </a:xfrm>
          </p:grpSpPr>
          <p:sp>
            <p:nvSpPr>
              <p:cNvPr id="350" name=""/>
              <p:cNvSpPr/>
              <p:nvPr/>
            </p:nvSpPr>
            <p:spPr>
              <a:xfrm>
                <a:off x="6967440" y="404640"/>
                <a:ext cx="2379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271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10"/>
                    <a:ea typeface="Arial"/>
                  </a:rPr>
                  <a:t>C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23120" y="509400"/>
                <a:ext cx="2584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9560" bIns="-8568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=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75560" y="417600"/>
                <a:ext cx="166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42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0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877080" y="811080"/>
                <a:ext cx="25848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271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£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37360" y="771480"/>
                <a:ext cx="75960" cy="1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285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sy7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323120" y="915840"/>
                <a:ext cx="2584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9560" bIns="-8568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=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675560" y="844560"/>
                <a:ext cx="25848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93680" bIns="270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+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934040" y="799920"/>
                <a:ext cx="165240" cy="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000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7"/>
                    <a:ea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877080" y="404640"/>
                <a:ext cx="1222200" cy="66204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641520" y="981000"/>
            <a:ext cx="3307680" cy="3014640"/>
            <a:chOff x="641520" y="981000"/>
            <a:chExt cx="3307680" cy="3014640"/>
          </a:xfrm>
        </p:grpSpPr>
        <p:sp>
          <p:nvSpPr>
            <p:cNvPr id="360" name=""/>
            <p:cNvSpPr/>
            <p:nvPr/>
          </p:nvSpPr>
          <p:spPr>
            <a:xfrm>
              <a:off x="641520" y="98100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73080" y="1030320"/>
              <a:ext cx="2124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60360" y="1069920"/>
              <a:ext cx="1821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2880" y="1127160"/>
              <a:ext cx="164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74760" y="1030320"/>
              <a:ext cx="2264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98400" y="106992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681280" y="1127160"/>
              <a:ext cx="1645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52600" y="1098360"/>
              <a:ext cx="1076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60600" y="1098360"/>
              <a:ext cx="1202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82640" y="1098360"/>
              <a:ext cx="1522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33480" y="1027080"/>
              <a:ext cx="152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252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49320" y="1386000"/>
              <a:ext cx="21204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61720" y="1515960"/>
              <a:ext cx="7596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84120" y="138600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9508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3188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0960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46040" y="1370160"/>
              <a:ext cx="136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82840" y="1515960"/>
              <a:ext cx="75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03440" y="137016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3988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7632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1520" y="164772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49440" y="180180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49440" y="224640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49440" y="269244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49440" y="313704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49440" y="358308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1520" y="397836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9080" y="987480"/>
              <a:ext cx="3300120" cy="30081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771640" y="5229360"/>
            <a:ext cx="638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732720" y="5805360"/>
            <a:ext cx="6379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9640" y="5300640"/>
            <a:ext cx="756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Arial"/>
              </a:rPr>
              <a:t>Receiver-Security against Dishonest 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0.27569 -4.81481E-006 E">
                                      <p:cBhvr>
                                        <p:cTn id="74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Sender-Security?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762120" cy="8636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4284720" y="1628640"/>
            <a:ext cx="1150920" cy="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479840" y="1123920"/>
            <a:ext cx="730440" cy="351000"/>
            <a:chOff x="4479840" y="1123920"/>
            <a:chExt cx="730440" cy="351000"/>
          </a:xfrm>
        </p:grpSpPr>
        <p:sp>
          <p:nvSpPr>
            <p:cNvPr id="398" name=""/>
            <p:cNvSpPr/>
            <p:nvPr/>
          </p:nvSpPr>
          <p:spPr>
            <a:xfrm>
              <a:off x="4479840" y="1125360"/>
              <a:ext cx="92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3440" y="1147680"/>
              <a:ext cx="2764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75120" y="1125360"/>
              <a:ext cx="1303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05440" y="1316160"/>
              <a:ext cx="204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79840" y="1123920"/>
              <a:ext cx="730440" cy="3510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104920" y="4503600"/>
            <a:ext cx="841320" cy="291960"/>
            <a:chOff x="2104920" y="4503600"/>
            <a:chExt cx="841320" cy="291960"/>
          </a:xfrm>
        </p:grpSpPr>
        <p:sp>
          <p:nvSpPr>
            <p:cNvPr id="404" name=""/>
            <p:cNvSpPr/>
            <p:nvPr/>
          </p:nvSpPr>
          <p:spPr>
            <a:xfrm>
              <a:off x="2104920" y="4505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09760" y="4633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59160" y="469728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08200" y="4505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13040" y="4633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04920" y="4503600"/>
              <a:ext cx="8398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4284720" y="4221000"/>
            <a:ext cx="12240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206800" y="1916280"/>
            <a:ext cx="182520" cy="2519280"/>
            <a:chOff x="2206800" y="1916280"/>
            <a:chExt cx="182520" cy="2519280"/>
          </a:xfrm>
        </p:grpSpPr>
        <p:sp>
          <p:nvSpPr>
            <p:cNvPr id="412" name=""/>
            <p:cNvSpPr/>
            <p:nvPr/>
          </p:nvSpPr>
          <p:spPr>
            <a:xfrm>
              <a:off x="2225880" y="1916280"/>
              <a:ext cx="0" cy="2519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06800" y="19162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225880" y="2779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225880" y="321336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017880" y="4148280"/>
            <a:ext cx="1049400" cy="214200"/>
            <a:chOff x="3017880" y="4148280"/>
            <a:chExt cx="1049400" cy="214200"/>
          </a:xfrm>
        </p:grpSpPr>
        <p:sp>
          <p:nvSpPr>
            <p:cNvPr id="417" name=""/>
            <p:cNvSpPr/>
            <p:nvPr/>
          </p:nvSpPr>
          <p:spPr>
            <a:xfrm>
              <a:off x="3017880" y="4148280"/>
              <a:ext cx="16524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31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68880" y="4184640"/>
              <a:ext cx="171360" cy="14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880" bIns="9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40240" y="4240080"/>
              <a:ext cx="15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80000" y="4148280"/>
              <a:ext cx="18432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643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17880" y="4148280"/>
              <a:ext cx="1049400" cy="2142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001880" y="4097160"/>
            <a:ext cx="1049040" cy="214560"/>
            <a:chOff x="1001880" y="4097160"/>
            <a:chExt cx="1049040" cy="214560"/>
          </a:xfrm>
        </p:grpSpPr>
        <p:sp>
          <p:nvSpPr>
            <p:cNvPr id="425" name=""/>
            <p:cNvSpPr/>
            <p:nvPr/>
          </p:nvSpPr>
          <p:spPr>
            <a:xfrm>
              <a:off x="1001880" y="4097160"/>
              <a:ext cx="1648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667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352520" y="4133880"/>
              <a:ext cx="1710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824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23880" y="4189320"/>
              <a:ext cx="1537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63640" y="4097160"/>
              <a:ext cx="1839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479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01880" y="4097160"/>
              <a:ext cx="1049040" cy="214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168800" y="3789360"/>
            <a:ext cx="1268280" cy="291960"/>
            <a:chOff x="4168800" y="3789360"/>
            <a:chExt cx="1268280" cy="291960"/>
          </a:xfrm>
        </p:grpSpPr>
        <p:sp>
          <p:nvSpPr>
            <p:cNvPr id="433" name=""/>
            <p:cNvSpPr/>
            <p:nvPr/>
          </p:nvSpPr>
          <p:spPr>
            <a:xfrm>
              <a:off x="4168800" y="3790800"/>
              <a:ext cx="2584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28720" y="398304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76320" y="3790800"/>
              <a:ext cx="2142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90880" y="3919320"/>
              <a:ext cx="1328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41720" y="3983040"/>
              <a:ext cx="9144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89320" y="3790800"/>
              <a:ext cx="213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03520" y="391932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68800" y="3789360"/>
              <a:ext cx="12682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983160" y="1700280"/>
            <a:ext cx="610920" cy="2340360"/>
            <a:chOff x="983160" y="1700280"/>
            <a:chExt cx="610920" cy="2340360"/>
          </a:xfrm>
        </p:grpSpPr>
        <p:grpSp>
          <p:nvGrpSpPr>
            <p:cNvPr id="442" name=""/>
            <p:cNvGrpSpPr/>
            <p:nvPr/>
          </p:nvGrpSpPr>
          <p:grpSpPr>
            <a:xfrm>
              <a:off x="983160" y="2058480"/>
              <a:ext cx="610920" cy="610560"/>
              <a:chOff x="983160" y="2058480"/>
              <a:chExt cx="610920" cy="610560"/>
            </a:xfrm>
          </p:grpSpPr>
          <p:sp>
            <p:nvSpPr>
              <p:cNvPr id="443" name=""/>
              <p:cNvSpPr/>
              <p:nvPr/>
            </p:nvSpPr>
            <p:spPr>
              <a:xfrm rot="2700000">
                <a:off x="1072440" y="2147760"/>
                <a:ext cx="43200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1173600" y="222444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148760" y="222408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073160" y="1700280"/>
              <a:ext cx="431640" cy="431640"/>
              <a:chOff x="1073160" y="1700280"/>
              <a:chExt cx="431640" cy="431640"/>
            </a:xfrm>
          </p:grpSpPr>
          <p:sp>
            <p:nvSpPr>
              <p:cNvPr id="447" name=""/>
              <p:cNvSpPr/>
              <p:nvPr/>
            </p:nvSpPr>
            <p:spPr>
              <a:xfrm>
                <a:off x="1073160" y="170028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1288440" y="172044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1152360" y="191556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1073160" y="2608200"/>
              <a:ext cx="431640" cy="431640"/>
              <a:chOff x="1073160" y="2608200"/>
              <a:chExt cx="431640" cy="431640"/>
            </a:xfrm>
          </p:grpSpPr>
          <p:sp>
            <p:nvSpPr>
              <p:cNvPr id="451" name=""/>
              <p:cNvSpPr/>
              <p:nvPr/>
            </p:nvSpPr>
            <p:spPr>
              <a:xfrm>
                <a:off x="1073160" y="260820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1288440" y="262836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1152360" y="282348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1073160" y="3063960"/>
              <a:ext cx="431640" cy="431640"/>
              <a:chOff x="1073160" y="3063960"/>
              <a:chExt cx="431640" cy="431640"/>
            </a:xfrm>
          </p:grpSpPr>
          <p:sp>
            <p:nvSpPr>
              <p:cNvPr id="455" name=""/>
              <p:cNvSpPr/>
              <p:nvPr/>
            </p:nvSpPr>
            <p:spPr>
              <a:xfrm>
                <a:off x="1073160" y="306396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1288440" y="308412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1152360" y="327924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983160" y="3430080"/>
              <a:ext cx="610920" cy="610560"/>
              <a:chOff x="983160" y="3430080"/>
              <a:chExt cx="610920" cy="610560"/>
            </a:xfrm>
          </p:grpSpPr>
          <p:sp>
            <p:nvSpPr>
              <p:cNvPr id="459" name=""/>
              <p:cNvSpPr/>
              <p:nvPr/>
            </p:nvSpPr>
            <p:spPr>
              <a:xfrm rot="2700000">
                <a:off x="1072440" y="3519360"/>
                <a:ext cx="43200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1173600" y="359604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flipV="1">
                <a:off x="1148760" y="359568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2657520" y="2347920"/>
            <a:ext cx="163440" cy="2089080"/>
            <a:chOff x="2657520" y="2347920"/>
            <a:chExt cx="163440" cy="2089080"/>
          </a:xfrm>
        </p:grpSpPr>
        <p:sp>
          <p:nvSpPr>
            <p:cNvPr id="463" name=""/>
            <p:cNvSpPr/>
            <p:nvPr/>
          </p:nvSpPr>
          <p:spPr>
            <a:xfrm flipH="1">
              <a:off x="2657520" y="36640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801880" y="2347920"/>
              <a:ext cx="0" cy="20890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657520" y="2347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777640" y="1676520"/>
            <a:ext cx="611280" cy="2340360"/>
            <a:chOff x="5777640" y="1676520"/>
            <a:chExt cx="611280" cy="2340360"/>
          </a:xfrm>
        </p:grpSpPr>
        <p:sp>
          <p:nvSpPr>
            <p:cNvPr id="467" name=""/>
            <p:cNvSpPr/>
            <p:nvPr/>
          </p:nvSpPr>
          <p:spPr>
            <a:xfrm rot="2700000">
              <a:off x="5867280" y="2123640"/>
              <a:ext cx="43200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flipV="1">
              <a:off x="5943240" y="2201400"/>
              <a:ext cx="260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67280" y="167652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5946840" y="189180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67280" y="258444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6083280" y="260460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67280" y="304020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6083280" y="306036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2700000">
              <a:off x="5867280" y="3495240"/>
              <a:ext cx="43200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5968800" y="357156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5724360" y="1311120"/>
            <a:ext cx="700200" cy="2685960"/>
            <a:chOff x="5724360" y="1311120"/>
            <a:chExt cx="700200" cy="2685960"/>
          </a:xfrm>
        </p:grpSpPr>
        <p:sp>
          <p:nvSpPr>
            <p:cNvPr id="478" name=""/>
            <p:cNvSpPr/>
            <p:nvPr/>
          </p:nvSpPr>
          <p:spPr>
            <a:xfrm>
              <a:off x="5724360" y="131112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95720" y="1428480"/>
              <a:ext cx="1368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32520" y="142848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54560" y="1379520"/>
              <a:ext cx="106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24360" y="165096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24360" y="398124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32280" y="1317600"/>
              <a:ext cx="692280" cy="26794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 rot="16200000">
            <a:off x="5552280" y="2572200"/>
            <a:ext cx="2305080" cy="502920"/>
          </a:xfrm>
          <a:custGeom>
            <a:avLst/>
            <a:gdLst>
              <a:gd name="textAreaLeft" fmla="*/ 538200 w 2305080"/>
              <a:gd name="textAreaRight" fmla="*/ 1766880 w 2305080"/>
              <a:gd name="textAreaTop" fmla="*/ 117360 h 502920"/>
              <a:gd name="textAreaBottom" fmla="*/ 38556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174080" y="2679840"/>
            <a:ext cx="296640" cy="360360"/>
            <a:chOff x="7174080" y="2679840"/>
            <a:chExt cx="296640" cy="360360"/>
          </a:xfrm>
        </p:grpSpPr>
        <p:sp>
          <p:nvSpPr>
            <p:cNvPr id="487" name=""/>
            <p:cNvSpPr/>
            <p:nvPr/>
          </p:nvSpPr>
          <p:spPr>
            <a:xfrm>
              <a:off x="7174080" y="2679840"/>
              <a:ext cx="296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1112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0000"/>
                  </a:solidFill>
                  <a:latin typeface="cmmi10"/>
                  <a:ea typeface="Arial"/>
                </a:rPr>
                <a:t>½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74080" y="2679840"/>
              <a:ext cx="296640" cy="360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 rot="14971200">
            <a:off x="7282080" y="1483200"/>
            <a:ext cx="216000" cy="792360"/>
          </a:xfrm>
          <a:custGeom>
            <a:avLst/>
            <a:gdLst/>
            <a:ahLst/>
            <a:rect l="l" t="t" r="r" b="b"/>
            <a:pathLst>
              <a:path w="132" h="551">
                <a:moveTo>
                  <a:pt x="74" y="0"/>
                </a:moveTo>
                <a:cubicBezTo>
                  <a:pt x="82" y="20"/>
                  <a:pt x="132" y="85"/>
                  <a:pt x="121" y="121"/>
                </a:cubicBezTo>
                <a:cubicBezTo>
                  <a:pt x="110" y="157"/>
                  <a:pt x="14" y="177"/>
                  <a:pt x="7" y="215"/>
                </a:cubicBezTo>
                <a:cubicBezTo>
                  <a:pt x="0" y="253"/>
                  <a:pt x="68" y="293"/>
                  <a:pt x="81" y="349"/>
                </a:cubicBezTo>
                <a:cubicBezTo>
                  <a:pt x="94" y="405"/>
                  <a:pt x="86" y="509"/>
                  <a:pt x="87" y="551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962480" y="981000"/>
            <a:ext cx="742680" cy="1066320"/>
            <a:chOff x="7962480" y="981000"/>
            <a:chExt cx="742680" cy="1066320"/>
          </a:xfrm>
        </p:grpSpPr>
        <p:sp>
          <p:nvSpPr>
            <p:cNvPr id="491" name=""/>
            <p:cNvSpPr/>
            <p:nvPr/>
          </p:nvSpPr>
          <p:spPr>
            <a:xfrm rot="12426000">
              <a:off x="8526600" y="1015920"/>
              <a:ext cx="134280" cy="22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68320" y="981000"/>
              <a:ext cx="133920" cy="22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62480" y="1058400"/>
              <a:ext cx="646200" cy="863640"/>
            </a:xfrm>
            <a:custGeom>
              <a:avLst/>
              <a:gdLst/>
              <a:ahLst/>
              <a:rect l="l" t="t" r="r" b="b"/>
              <a:pathLst>
                <a:path w="4154" h="5543">
                  <a:moveTo>
                    <a:pt x="3156" y="179"/>
                  </a:moveTo>
                  <a:lnTo>
                    <a:pt x="3235" y="230"/>
                  </a:lnTo>
                  <a:lnTo>
                    <a:pt x="3314" y="282"/>
                  </a:lnTo>
                  <a:lnTo>
                    <a:pt x="3393" y="337"/>
                  </a:lnTo>
                  <a:lnTo>
                    <a:pt x="3469" y="396"/>
                  </a:lnTo>
                  <a:lnTo>
                    <a:pt x="3538" y="459"/>
                  </a:lnTo>
                  <a:lnTo>
                    <a:pt x="3601" y="529"/>
                  </a:lnTo>
                  <a:lnTo>
                    <a:pt x="3653" y="608"/>
                  </a:lnTo>
                  <a:lnTo>
                    <a:pt x="3696" y="698"/>
                  </a:lnTo>
                  <a:lnTo>
                    <a:pt x="3727" y="760"/>
                  </a:lnTo>
                  <a:lnTo>
                    <a:pt x="3772" y="812"/>
                  </a:lnTo>
                  <a:lnTo>
                    <a:pt x="3826" y="856"/>
                  </a:lnTo>
                  <a:lnTo>
                    <a:pt x="3884" y="898"/>
                  </a:lnTo>
                  <a:lnTo>
                    <a:pt x="3938" y="941"/>
                  </a:lnTo>
                  <a:lnTo>
                    <a:pt x="3988" y="990"/>
                  </a:lnTo>
                  <a:lnTo>
                    <a:pt x="4026" y="1049"/>
                  </a:lnTo>
                  <a:lnTo>
                    <a:pt x="4048" y="1124"/>
                  </a:lnTo>
                  <a:lnTo>
                    <a:pt x="4096" y="1342"/>
                  </a:lnTo>
                  <a:lnTo>
                    <a:pt x="4121" y="1568"/>
                  </a:lnTo>
                  <a:lnTo>
                    <a:pt x="4123" y="1799"/>
                  </a:lnTo>
                  <a:lnTo>
                    <a:pt x="4109" y="2034"/>
                  </a:lnTo>
                  <a:lnTo>
                    <a:pt x="4076" y="2265"/>
                  </a:lnTo>
                  <a:lnTo>
                    <a:pt x="4031" y="2495"/>
                  </a:lnTo>
                  <a:lnTo>
                    <a:pt x="3975" y="2716"/>
                  </a:lnTo>
                  <a:lnTo>
                    <a:pt x="3913" y="2930"/>
                  </a:lnTo>
                  <a:lnTo>
                    <a:pt x="3893" y="2961"/>
                  </a:lnTo>
                  <a:lnTo>
                    <a:pt x="3875" y="2995"/>
                  </a:lnTo>
                  <a:lnTo>
                    <a:pt x="3858" y="3028"/>
                  </a:lnTo>
                  <a:lnTo>
                    <a:pt x="3843" y="3065"/>
                  </a:lnTo>
                  <a:lnTo>
                    <a:pt x="3827" y="3099"/>
                  </a:lnTo>
                  <a:lnTo>
                    <a:pt x="3813" y="3134"/>
                  </a:lnTo>
                  <a:lnTo>
                    <a:pt x="3801" y="3166"/>
                  </a:lnTo>
                  <a:lnTo>
                    <a:pt x="3789" y="3200"/>
                  </a:lnTo>
                  <a:lnTo>
                    <a:pt x="3816" y="3185"/>
                  </a:lnTo>
                  <a:lnTo>
                    <a:pt x="3847" y="3166"/>
                  </a:lnTo>
                  <a:lnTo>
                    <a:pt x="3878" y="3145"/>
                  </a:lnTo>
                  <a:lnTo>
                    <a:pt x="3913" y="3125"/>
                  </a:lnTo>
                  <a:lnTo>
                    <a:pt x="3948" y="3109"/>
                  </a:lnTo>
                  <a:lnTo>
                    <a:pt x="3986" y="3099"/>
                  </a:lnTo>
                  <a:lnTo>
                    <a:pt x="4026" y="3096"/>
                  </a:lnTo>
                  <a:lnTo>
                    <a:pt x="4069" y="3107"/>
                  </a:lnTo>
                  <a:lnTo>
                    <a:pt x="4107" y="3165"/>
                  </a:lnTo>
                  <a:lnTo>
                    <a:pt x="4134" y="3235"/>
                  </a:lnTo>
                  <a:lnTo>
                    <a:pt x="4148" y="3310"/>
                  </a:lnTo>
                  <a:lnTo>
                    <a:pt x="4154" y="3389"/>
                  </a:lnTo>
                  <a:lnTo>
                    <a:pt x="4147" y="3468"/>
                  </a:lnTo>
                  <a:lnTo>
                    <a:pt x="4134" y="3546"/>
                  </a:lnTo>
                  <a:lnTo>
                    <a:pt x="4114" y="3621"/>
                  </a:lnTo>
                  <a:lnTo>
                    <a:pt x="4090" y="3689"/>
                  </a:lnTo>
                  <a:lnTo>
                    <a:pt x="4033" y="3777"/>
                  </a:lnTo>
                  <a:lnTo>
                    <a:pt x="3968" y="3863"/>
                  </a:lnTo>
                  <a:lnTo>
                    <a:pt x="3895" y="3943"/>
                  </a:lnTo>
                  <a:lnTo>
                    <a:pt x="3816" y="4018"/>
                  </a:lnTo>
                  <a:lnTo>
                    <a:pt x="3730" y="4084"/>
                  </a:lnTo>
                  <a:lnTo>
                    <a:pt x="3642" y="4143"/>
                  </a:lnTo>
                  <a:lnTo>
                    <a:pt x="3549" y="4194"/>
                  </a:lnTo>
                  <a:lnTo>
                    <a:pt x="3457" y="4239"/>
                  </a:lnTo>
                  <a:lnTo>
                    <a:pt x="3384" y="4239"/>
                  </a:lnTo>
                  <a:lnTo>
                    <a:pt x="3308" y="4397"/>
                  </a:lnTo>
                  <a:lnTo>
                    <a:pt x="3220" y="4550"/>
                  </a:lnTo>
                  <a:lnTo>
                    <a:pt x="3116" y="4695"/>
                  </a:lnTo>
                  <a:lnTo>
                    <a:pt x="3004" y="4836"/>
                  </a:lnTo>
                  <a:lnTo>
                    <a:pt x="2882" y="4970"/>
                  </a:lnTo>
                  <a:lnTo>
                    <a:pt x="2754" y="5101"/>
                  </a:lnTo>
                  <a:lnTo>
                    <a:pt x="2623" y="5226"/>
                  </a:lnTo>
                  <a:lnTo>
                    <a:pt x="2492" y="5350"/>
                  </a:lnTo>
                  <a:lnTo>
                    <a:pt x="2388" y="5399"/>
                  </a:lnTo>
                  <a:lnTo>
                    <a:pt x="2281" y="5447"/>
                  </a:lnTo>
                  <a:lnTo>
                    <a:pt x="2172" y="5488"/>
                  </a:lnTo>
                  <a:lnTo>
                    <a:pt x="2061" y="5522"/>
                  </a:lnTo>
                  <a:lnTo>
                    <a:pt x="1947" y="5540"/>
                  </a:lnTo>
                  <a:lnTo>
                    <a:pt x="1833" y="5543"/>
                  </a:lnTo>
                  <a:lnTo>
                    <a:pt x="1716" y="5524"/>
                  </a:lnTo>
                  <a:lnTo>
                    <a:pt x="1601" y="5485"/>
                  </a:lnTo>
                  <a:lnTo>
                    <a:pt x="1390" y="5370"/>
                  </a:lnTo>
                  <a:lnTo>
                    <a:pt x="1211" y="5225"/>
                  </a:lnTo>
                  <a:lnTo>
                    <a:pt x="1062" y="5056"/>
                  </a:lnTo>
                  <a:lnTo>
                    <a:pt x="940" y="4867"/>
                  </a:lnTo>
                  <a:lnTo>
                    <a:pt x="841" y="4661"/>
                  </a:lnTo>
                  <a:lnTo>
                    <a:pt x="767" y="4447"/>
                  </a:lnTo>
                  <a:lnTo>
                    <a:pt x="712" y="4228"/>
                  </a:lnTo>
                  <a:lnTo>
                    <a:pt x="677" y="4010"/>
                  </a:lnTo>
                  <a:lnTo>
                    <a:pt x="657" y="3959"/>
                  </a:lnTo>
                  <a:lnTo>
                    <a:pt x="630" y="3979"/>
                  </a:lnTo>
                  <a:lnTo>
                    <a:pt x="603" y="3991"/>
                  </a:lnTo>
                  <a:lnTo>
                    <a:pt x="574" y="3994"/>
                  </a:lnTo>
                  <a:lnTo>
                    <a:pt x="544" y="3991"/>
                  </a:lnTo>
                  <a:lnTo>
                    <a:pt x="512" y="3983"/>
                  </a:lnTo>
                  <a:lnTo>
                    <a:pt x="480" y="3972"/>
                  </a:lnTo>
                  <a:lnTo>
                    <a:pt x="447" y="3959"/>
                  </a:lnTo>
                  <a:lnTo>
                    <a:pt x="418" y="3948"/>
                  </a:lnTo>
                  <a:lnTo>
                    <a:pt x="342" y="3898"/>
                  </a:lnTo>
                  <a:lnTo>
                    <a:pt x="273" y="3844"/>
                  </a:lnTo>
                  <a:lnTo>
                    <a:pt x="210" y="3779"/>
                  </a:lnTo>
                  <a:lnTo>
                    <a:pt x="155" y="3711"/>
                  </a:lnTo>
                  <a:lnTo>
                    <a:pt x="105" y="3637"/>
                  </a:lnTo>
                  <a:lnTo>
                    <a:pt x="63" y="3558"/>
                  </a:lnTo>
                  <a:lnTo>
                    <a:pt x="28" y="3477"/>
                  </a:lnTo>
                  <a:lnTo>
                    <a:pt x="3" y="3397"/>
                  </a:lnTo>
                  <a:lnTo>
                    <a:pt x="0" y="3330"/>
                  </a:lnTo>
                  <a:lnTo>
                    <a:pt x="4" y="3262"/>
                  </a:lnTo>
                  <a:lnTo>
                    <a:pt x="14" y="3196"/>
                  </a:lnTo>
                  <a:lnTo>
                    <a:pt x="32" y="3135"/>
                  </a:lnTo>
                  <a:lnTo>
                    <a:pt x="58" y="3076"/>
                  </a:lnTo>
                  <a:lnTo>
                    <a:pt x="97" y="3026"/>
                  </a:lnTo>
                  <a:lnTo>
                    <a:pt x="146" y="2983"/>
                  </a:lnTo>
                  <a:lnTo>
                    <a:pt x="211" y="2951"/>
                  </a:lnTo>
                  <a:lnTo>
                    <a:pt x="241" y="2937"/>
                  </a:lnTo>
                  <a:lnTo>
                    <a:pt x="273" y="2927"/>
                  </a:lnTo>
                  <a:lnTo>
                    <a:pt x="302" y="2921"/>
                  </a:lnTo>
                  <a:lnTo>
                    <a:pt x="335" y="2920"/>
                  </a:lnTo>
                  <a:lnTo>
                    <a:pt x="366" y="2921"/>
                  </a:lnTo>
                  <a:lnTo>
                    <a:pt x="397" y="2927"/>
                  </a:lnTo>
                  <a:lnTo>
                    <a:pt x="428" y="2937"/>
                  </a:lnTo>
                  <a:lnTo>
                    <a:pt x="460" y="2951"/>
                  </a:lnTo>
                  <a:lnTo>
                    <a:pt x="467" y="2959"/>
                  </a:lnTo>
                  <a:lnTo>
                    <a:pt x="474" y="2968"/>
                  </a:lnTo>
                  <a:lnTo>
                    <a:pt x="481" y="2973"/>
                  </a:lnTo>
                  <a:lnTo>
                    <a:pt x="489" y="2979"/>
                  </a:lnTo>
                  <a:lnTo>
                    <a:pt x="497" y="2982"/>
                  </a:lnTo>
                  <a:lnTo>
                    <a:pt x="505" y="2986"/>
                  </a:lnTo>
                  <a:lnTo>
                    <a:pt x="513" y="2989"/>
                  </a:lnTo>
                  <a:lnTo>
                    <a:pt x="522" y="2993"/>
                  </a:lnTo>
                  <a:lnTo>
                    <a:pt x="513" y="2931"/>
                  </a:lnTo>
                  <a:lnTo>
                    <a:pt x="511" y="2866"/>
                  </a:lnTo>
                  <a:lnTo>
                    <a:pt x="508" y="2799"/>
                  </a:lnTo>
                  <a:lnTo>
                    <a:pt x="508" y="2731"/>
                  </a:lnTo>
                  <a:lnTo>
                    <a:pt x="508" y="2661"/>
                  </a:lnTo>
                  <a:lnTo>
                    <a:pt x="509" y="2593"/>
                  </a:lnTo>
                  <a:lnTo>
                    <a:pt x="509" y="2526"/>
                  </a:lnTo>
                  <a:lnTo>
                    <a:pt x="511" y="2464"/>
                  </a:lnTo>
                  <a:lnTo>
                    <a:pt x="482" y="2355"/>
                  </a:lnTo>
                  <a:lnTo>
                    <a:pt x="471" y="2244"/>
                  </a:lnTo>
                  <a:lnTo>
                    <a:pt x="470" y="2130"/>
                  </a:lnTo>
                  <a:lnTo>
                    <a:pt x="480" y="2016"/>
                  </a:lnTo>
                  <a:lnTo>
                    <a:pt x="492" y="1901"/>
                  </a:lnTo>
                  <a:lnTo>
                    <a:pt x="511" y="1787"/>
                  </a:lnTo>
                  <a:lnTo>
                    <a:pt x="527" y="1675"/>
                  </a:lnTo>
                  <a:lnTo>
                    <a:pt x="543" y="1570"/>
                  </a:lnTo>
                  <a:lnTo>
                    <a:pt x="582" y="1433"/>
                  </a:lnTo>
                  <a:lnTo>
                    <a:pt x="640" y="1307"/>
                  </a:lnTo>
                  <a:lnTo>
                    <a:pt x="713" y="1188"/>
                  </a:lnTo>
                  <a:lnTo>
                    <a:pt x="800" y="1078"/>
                  </a:lnTo>
                  <a:lnTo>
                    <a:pt x="896" y="976"/>
                  </a:lnTo>
                  <a:lnTo>
                    <a:pt x="1004" y="881"/>
                  </a:lnTo>
                  <a:lnTo>
                    <a:pt x="1117" y="795"/>
                  </a:lnTo>
                  <a:lnTo>
                    <a:pt x="1238" y="719"/>
                  </a:lnTo>
                  <a:lnTo>
                    <a:pt x="1255" y="655"/>
                  </a:lnTo>
                  <a:lnTo>
                    <a:pt x="1283" y="600"/>
                  </a:lnTo>
                  <a:lnTo>
                    <a:pt x="1318" y="548"/>
                  </a:lnTo>
                  <a:lnTo>
                    <a:pt x="1362" y="501"/>
                  </a:lnTo>
                  <a:lnTo>
                    <a:pt x="1407" y="456"/>
                  </a:lnTo>
                  <a:lnTo>
                    <a:pt x="1454" y="413"/>
                  </a:lnTo>
                  <a:lnTo>
                    <a:pt x="1502" y="368"/>
                  </a:lnTo>
                  <a:lnTo>
                    <a:pt x="1549" y="324"/>
                  </a:lnTo>
                  <a:lnTo>
                    <a:pt x="1627" y="266"/>
                  </a:lnTo>
                  <a:lnTo>
                    <a:pt x="1715" y="222"/>
                  </a:lnTo>
                  <a:lnTo>
                    <a:pt x="1805" y="186"/>
                  </a:lnTo>
                  <a:lnTo>
                    <a:pt x="1897" y="155"/>
                  </a:lnTo>
                  <a:lnTo>
                    <a:pt x="1990" y="127"/>
                  </a:lnTo>
                  <a:lnTo>
                    <a:pt x="2085" y="99"/>
                  </a:lnTo>
                  <a:lnTo>
                    <a:pt x="2176" y="68"/>
                  </a:lnTo>
                  <a:lnTo>
                    <a:pt x="2265" y="34"/>
                  </a:lnTo>
                  <a:lnTo>
                    <a:pt x="2352" y="16"/>
                  </a:lnTo>
                  <a:lnTo>
                    <a:pt x="2443" y="4"/>
                  </a:lnTo>
                  <a:lnTo>
                    <a:pt x="2537" y="0"/>
                  </a:lnTo>
                  <a:lnTo>
                    <a:pt x="2632" y="4"/>
                  </a:lnTo>
                  <a:lnTo>
                    <a:pt x="2723" y="17"/>
                  </a:lnTo>
                  <a:lnTo>
                    <a:pt x="2812" y="39"/>
                  </a:lnTo>
                  <a:lnTo>
                    <a:pt x="2895" y="72"/>
                  </a:lnTo>
                  <a:lnTo>
                    <a:pt x="2969" y="117"/>
                  </a:lnTo>
                  <a:lnTo>
                    <a:pt x="3156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308080" y="1078200"/>
              <a:ext cx="114480" cy="48240"/>
            </a:xfrm>
            <a:custGeom>
              <a:avLst/>
              <a:gdLst/>
              <a:ahLst/>
              <a:rect l="l" t="t" r="r" b="b"/>
              <a:pathLst>
                <a:path w="737" h="311">
                  <a:moveTo>
                    <a:pt x="197" y="0"/>
                  </a:moveTo>
                  <a:lnTo>
                    <a:pt x="190" y="7"/>
                  </a:lnTo>
                  <a:lnTo>
                    <a:pt x="187" y="15"/>
                  </a:lnTo>
                  <a:lnTo>
                    <a:pt x="187" y="22"/>
                  </a:lnTo>
                  <a:lnTo>
                    <a:pt x="187" y="31"/>
                  </a:lnTo>
                  <a:lnTo>
                    <a:pt x="218" y="42"/>
                  </a:lnTo>
                  <a:lnTo>
                    <a:pt x="252" y="50"/>
                  </a:lnTo>
                  <a:lnTo>
                    <a:pt x="286" y="55"/>
                  </a:lnTo>
                  <a:lnTo>
                    <a:pt x="322" y="56"/>
                  </a:lnTo>
                  <a:lnTo>
                    <a:pt x="356" y="55"/>
                  </a:lnTo>
                  <a:lnTo>
                    <a:pt x="391" y="53"/>
                  </a:lnTo>
                  <a:lnTo>
                    <a:pt x="424" y="52"/>
                  </a:lnTo>
                  <a:lnTo>
                    <a:pt x="458" y="52"/>
                  </a:lnTo>
                  <a:lnTo>
                    <a:pt x="422" y="63"/>
                  </a:lnTo>
                  <a:lnTo>
                    <a:pt x="386" y="70"/>
                  </a:lnTo>
                  <a:lnTo>
                    <a:pt x="348" y="73"/>
                  </a:lnTo>
                  <a:lnTo>
                    <a:pt x="310" y="77"/>
                  </a:lnTo>
                  <a:lnTo>
                    <a:pt x="272" y="81"/>
                  </a:lnTo>
                  <a:lnTo>
                    <a:pt x="238" y="91"/>
                  </a:lnTo>
                  <a:lnTo>
                    <a:pt x="209" y="108"/>
                  </a:lnTo>
                  <a:lnTo>
                    <a:pt x="187" y="135"/>
                  </a:lnTo>
                  <a:lnTo>
                    <a:pt x="223" y="143"/>
                  </a:lnTo>
                  <a:lnTo>
                    <a:pt x="263" y="145"/>
                  </a:lnTo>
                  <a:lnTo>
                    <a:pt x="304" y="141"/>
                  </a:lnTo>
                  <a:lnTo>
                    <a:pt x="348" y="136"/>
                  </a:lnTo>
                  <a:lnTo>
                    <a:pt x="389" y="132"/>
                  </a:lnTo>
                  <a:lnTo>
                    <a:pt x="431" y="135"/>
                  </a:lnTo>
                  <a:lnTo>
                    <a:pt x="472" y="149"/>
                  </a:lnTo>
                  <a:lnTo>
                    <a:pt x="510" y="177"/>
                  </a:lnTo>
                  <a:lnTo>
                    <a:pt x="633" y="177"/>
                  </a:lnTo>
                  <a:lnTo>
                    <a:pt x="608" y="177"/>
                  </a:lnTo>
                  <a:lnTo>
                    <a:pt x="580" y="176"/>
                  </a:lnTo>
                  <a:lnTo>
                    <a:pt x="552" y="172"/>
                  </a:lnTo>
                  <a:lnTo>
                    <a:pt x="524" y="170"/>
                  </a:lnTo>
                  <a:lnTo>
                    <a:pt x="497" y="170"/>
                  </a:lnTo>
                  <a:lnTo>
                    <a:pt x="474" y="177"/>
                  </a:lnTo>
                  <a:lnTo>
                    <a:pt x="456" y="191"/>
                  </a:lnTo>
                  <a:lnTo>
                    <a:pt x="446" y="218"/>
                  </a:lnTo>
                  <a:lnTo>
                    <a:pt x="480" y="228"/>
                  </a:lnTo>
                  <a:lnTo>
                    <a:pt x="515" y="236"/>
                  </a:lnTo>
                  <a:lnTo>
                    <a:pt x="550" y="243"/>
                  </a:lnTo>
                  <a:lnTo>
                    <a:pt x="587" y="252"/>
                  </a:lnTo>
                  <a:lnTo>
                    <a:pt x="624" y="256"/>
                  </a:lnTo>
                  <a:lnTo>
                    <a:pt x="660" y="260"/>
                  </a:lnTo>
                  <a:lnTo>
                    <a:pt x="698" y="264"/>
                  </a:lnTo>
                  <a:lnTo>
                    <a:pt x="737" y="270"/>
                  </a:lnTo>
                  <a:lnTo>
                    <a:pt x="661" y="270"/>
                  </a:lnTo>
                  <a:lnTo>
                    <a:pt x="586" y="270"/>
                  </a:lnTo>
                  <a:lnTo>
                    <a:pt x="508" y="270"/>
                  </a:lnTo>
                  <a:lnTo>
                    <a:pt x="431" y="274"/>
                  </a:lnTo>
                  <a:lnTo>
                    <a:pt x="352" y="279"/>
                  </a:lnTo>
                  <a:lnTo>
                    <a:pt x="276" y="286"/>
                  </a:lnTo>
                  <a:lnTo>
                    <a:pt x="199" y="295"/>
                  </a:lnTo>
                  <a:lnTo>
                    <a:pt x="126" y="311"/>
                  </a:lnTo>
                  <a:lnTo>
                    <a:pt x="151" y="291"/>
                  </a:lnTo>
                  <a:lnTo>
                    <a:pt x="183" y="277"/>
                  </a:lnTo>
                  <a:lnTo>
                    <a:pt x="217" y="267"/>
                  </a:lnTo>
                  <a:lnTo>
                    <a:pt x="254" y="262"/>
                  </a:lnTo>
                  <a:lnTo>
                    <a:pt x="287" y="252"/>
                  </a:lnTo>
                  <a:lnTo>
                    <a:pt x="321" y="239"/>
                  </a:lnTo>
                  <a:lnTo>
                    <a:pt x="349" y="222"/>
                  </a:lnTo>
                  <a:lnTo>
                    <a:pt x="375" y="197"/>
                  </a:lnTo>
                  <a:lnTo>
                    <a:pt x="341" y="179"/>
                  </a:lnTo>
                  <a:lnTo>
                    <a:pt x="304" y="173"/>
                  </a:lnTo>
                  <a:lnTo>
                    <a:pt x="265" y="174"/>
                  </a:lnTo>
                  <a:lnTo>
                    <a:pt x="227" y="183"/>
                  </a:lnTo>
                  <a:lnTo>
                    <a:pt x="186" y="194"/>
                  </a:lnTo>
                  <a:lnTo>
                    <a:pt x="147" y="210"/>
                  </a:lnTo>
                  <a:lnTo>
                    <a:pt x="109" y="225"/>
                  </a:lnTo>
                  <a:lnTo>
                    <a:pt x="74" y="239"/>
                  </a:lnTo>
                  <a:lnTo>
                    <a:pt x="82" y="231"/>
                  </a:lnTo>
                  <a:lnTo>
                    <a:pt x="90" y="219"/>
                  </a:lnTo>
                  <a:lnTo>
                    <a:pt x="95" y="204"/>
                  </a:lnTo>
                  <a:lnTo>
                    <a:pt x="100" y="188"/>
                  </a:lnTo>
                  <a:lnTo>
                    <a:pt x="102" y="170"/>
                  </a:lnTo>
                  <a:lnTo>
                    <a:pt x="103" y="153"/>
                  </a:lnTo>
                  <a:lnTo>
                    <a:pt x="103" y="136"/>
                  </a:lnTo>
                  <a:lnTo>
                    <a:pt x="104" y="125"/>
                  </a:lnTo>
                  <a:lnTo>
                    <a:pt x="92" y="111"/>
                  </a:lnTo>
                  <a:lnTo>
                    <a:pt x="76" y="104"/>
                  </a:lnTo>
                  <a:lnTo>
                    <a:pt x="58" y="101"/>
                  </a:lnTo>
                  <a:lnTo>
                    <a:pt x="40" y="101"/>
                  </a:lnTo>
                  <a:lnTo>
                    <a:pt x="21" y="101"/>
                  </a:lnTo>
                  <a:lnTo>
                    <a:pt x="9" y="104"/>
                  </a:lnTo>
                  <a:lnTo>
                    <a:pt x="0" y="104"/>
                  </a:lnTo>
                  <a:lnTo>
                    <a:pt x="26" y="93"/>
                  </a:lnTo>
                  <a:lnTo>
                    <a:pt x="55" y="87"/>
                  </a:lnTo>
                  <a:lnTo>
                    <a:pt x="85" y="80"/>
                  </a:lnTo>
                  <a:lnTo>
                    <a:pt x="116" y="74"/>
                  </a:lnTo>
                  <a:lnTo>
                    <a:pt x="141" y="65"/>
                  </a:lnTo>
                  <a:lnTo>
                    <a:pt x="162" y="50"/>
                  </a:lnTo>
                  <a:lnTo>
                    <a:pt x="173" y="29"/>
                  </a:lnTo>
                  <a:lnTo>
                    <a:pt x="178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070840" y="1139040"/>
              <a:ext cx="484200" cy="766440"/>
            </a:xfrm>
            <a:custGeom>
              <a:avLst/>
              <a:gdLst/>
              <a:ahLst/>
              <a:rect l="l" t="t" r="r" b="b"/>
              <a:pathLst>
                <a:path w="3111" h="4918">
                  <a:moveTo>
                    <a:pt x="1607" y="3"/>
                  </a:moveTo>
                  <a:lnTo>
                    <a:pt x="1599" y="11"/>
                  </a:lnTo>
                  <a:lnTo>
                    <a:pt x="1599" y="23"/>
                  </a:lnTo>
                  <a:lnTo>
                    <a:pt x="1602" y="35"/>
                  </a:lnTo>
                  <a:lnTo>
                    <a:pt x="1607" y="48"/>
                  </a:lnTo>
                  <a:lnTo>
                    <a:pt x="1609" y="56"/>
                  </a:lnTo>
                  <a:lnTo>
                    <a:pt x="1607" y="62"/>
                  </a:lnTo>
                  <a:lnTo>
                    <a:pt x="1596" y="61"/>
                  </a:lnTo>
                  <a:lnTo>
                    <a:pt x="1576" y="55"/>
                  </a:lnTo>
                  <a:lnTo>
                    <a:pt x="1568" y="72"/>
                  </a:lnTo>
                  <a:lnTo>
                    <a:pt x="1555" y="87"/>
                  </a:lnTo>
                  <a:lnTo>
                    <a:pt x="1540" y="102"/>
                  </a:lnTo>
                  <a:lnTo>
                    <a:pt x="1526" y="117"/>
                  </a:lnTo>
                  <a:lnTo>
                    <a:pt x="1515" y="130"/>
                  </a:lnTo>
                  <a:lnTo>
                    <a:pt x="1513" y="145"/>
                  </a:lnTo>
                  <a:lnTo>
                    <a:pt x="1522" y="161"/>
                  </a:lnTo>
                  <a:lnTo>
                    <a:pt x="1545" y="180"/>
                  </a:lnTo>
                  <a:lnTo>
                    <a:pt x="1619" y="158"/>
                  </a:lnTo>
                  <a:lnTo>
                    <a:pt x="1696" y="140"/>
                  </a:lnTo>
                  <a:lnTo>
                    <a:pt x="1773" y="123"/>
                  </a:lnTo>
                  <a:lnTo>
                    <a:pt x="1854" y="111"/>
                  </a:lnTo>
                  <a:lnTo>
                    <a:pt x="1934" y="102"/>
                  </a:lnTo>
                  <a:lnTo>
                    <a:pt x="2014" y="96"/>
                  </a:lnTo>
                  <a:lnTo>
                    <a:pt x="2095" y="94"/>
                  </a:lnTo>
                  <a:lnTo>
                    <a:pt x="2178" y="97"/>
                  </a:lnTo>
                  <a:lnTo>
                    <a:pt x="2140" y="118"/>
                  </a:lnTo>
                  <a:lnTo>
                    <a:pt x="2100" y="135"/>
                  </a:lnTo>
                  <a:lnTo>
                    <a:pt x="2057" y="148"/>
                  </a:lnTo>
                  <a:lnTo>
                    <a:pt x="2015" y="162"/>
                  </a:lnTo>
                  <a:lnTo>
                    <a:pt x="1973" y="175"/>
                  </a:lnTo>
                  <a:lnTo>
                    <a:pt x="1937" y="193"/>
                  </a:lnTo>
                  <a:lnTo>
                    <a:pt x="1903" y="217"/>
                  </a:lnTo>
                  <a:lnTo>
                    <a:pt x="1877" y="252"/>
                  </a:lnTo>
                  <a:lnTo>
                    <a:pt x="1893" y="261"/>
                  </a:lnTo>
                  <a:lnTo>
                    <a:pt x="1911" y="265"/>
                  </a:lnTo>
                  <a:lnTo>
                    <a:pt x="1931" y="265"/>
                  </a:lnTo>
                  <a:lnTo>
                    <a:pt x="1952" y="263"/>
                  </a:lnTo>
                  <a:lnTo>
                    <a:pt x="1973" y="259"/>
                  </a:lnTo>
                  <a:lnTo>
                    <a:pt x="1997" y="255"/>
                  </a:lnTo>
                  <a:lnTo>
                    <a:pt x="2020" y="252"/>
                  </a:lnTo>
                  <a:lnTo>
                    <a:pt x="2043" y="252"/>
                  </a:lnTo>
                  <a:lnTo>
                    <a:pt x="2072" y="235"/>
                  </a:lnTo>
                  <a:lnTo>
                    <a:pt x="2104" y="227"/>
                  </a:lnTo>
                  <a:lnTo>
                    <a:pt x="2138" y="221"/>
                  </a:lnTo>
                  <a:lnTo>
                    <a:pt x="2176" y="221"/>
                  </a:lnTo>
                  <a:lnTo>
                    <a:pt x="2212" y="221"/>
                  </a:lnTo>
                  <a:lnTo>
                    <a:pt x="2250" y="223"/>
                  </a:lnTo>
                  <a:lnTo>
                    <a:pt x="2287" y="223"/>
                  </a:lnTo>
                  <a:lnTo>
                    <a:pt x="2323" y="221"/>
                  </a:lnTo>
                  <a:lnTo>
                    <a:pt x="2311" y="224"/>
                  </a:lnTo>
                  <a:lnTo>
                    <a:pt x="2298" y="228"/>
                  </a:lnTo>
                  <a:lnTo>
                    <a:pt x="2285" y="231"/>
                  </a:lnTo>
                  <a:lnTo>
                    <a:pt x="2274" y="235"/>
                  </a:lnTo>
                  <a:lnTo>
                    <a:pt x="2261" y="239"/>
                  </a:lnTo>
                  <a:lnTo>
                    <a:pt x="2253" y="248"/>
                  </a:lnTo>
                  <a:lnTo>
                    <a:pt x="2245" y="258"/>
                  </a:lnTo>
                  <a:lnTo>
                    <a:pt x="2240" y="273"/>
                  </a:lnTo>
                  <a:lnTo>
                    <a:pt x="2292" y="304"/>
                  </a:lnTo>
                  <a:lnTo>
                    <a:pt x="2366" y="290"/>
                  </a:lnTo>
                  <a:lnTo>
                    <a:pt x="2441" y="280"/>
                  </a:lnTo>
                  <a:lnTo>
                    <a:pt x="2519" y="275"/>
                  </a:lnTo>
                  <a:lnTo>
                    <a:pt x="2596" y="273"/>
                  </a:lnTo>
                  <a:lnTo>
                    <a:pt x="2672" y="275"/>
                  </a:lnTo>
                  <a:lnTo>
                    <a:pt x="2748" y="280"/>
                  </a:lnTo>
                  <a:lnTo>
                    <a:pt x="2821" y="290"/>
                  </a:lnTo>
                  <a:lnTo>
                    <a:pt x="2894" y="304"/>
                  </a:lnTo>
                  <a:lnTo>
                    <a:pt x="2890" y="317"/>
                  </a:lnTo>
                  <a:lnTo>
                    <a:pt x="2892" y="328"/>
                  </a:lnTo>
                  <a:lnTo>
                    <a:pt x="2896" y="335"/>
                  </a:lnTo>
                  <a:lnTo>
                    <a:pt x="2903" y="342"/>
                  </a:lnTo>
                  <a:lnTo>
                    <a:pt x="2910" y="345"/>
                  </a:lnTo>
                  <a:lnTo>
                    <a:pt x="2918" y="349"/>
                  </a:lnTo>
                  <a:lnTo>
                    <a:pt x="2927" y="352"/>
                  </a:lnTo>
                  <a:lnTo>
                    <a:pt x="2935" y="356"/>
                  </a:lnTo>
                  <a:lnTo>
                    <a:pt x="2966" y="356"/>
                  </a:lnTo>
                  <a:lnTo>
                    <a:pt x="2965" y="404"/>
                  </a:lnTo>
                  <a:lnTo>
                    <a:pt x="2970" y="448"/>
                  </a:lnTo>
                  <a:lnTo>
                    <a:pt x="2982" y="489"/>
                  </a:lnTo>
                  <a:lnTo>
                    <a:pt x="2997" y="529"/>
                  </a:lnTo>
                  <a:lnTo>
                    <a:pt x="3013" y="568"/>
                  </a:lnTo>
                  <a:lnTo>
                    <a:pt x="3031" y="607"/>
                  </a:lnTo>
                  <a:lnTo>
                    <a:pt x="3046" y="645"/>
                  </a:lnTo>
                  <a:lnTo>
                    <a:pt x="3060" y="689"/>
                  </a:lnTo>
                  <a:lnTo>
                    <a:pt x="3098" y="928"/>
                  </a:lnTo>
                  <a:lnTo>
                    <a:pt x="3111" y="1171"/>
                  </a:lnTo>
                  <a:lnTo>
                    <a:pt x="3103" y="1416"/>
                  </a:lnTo>
                  <a:lnTo>
                    <a:pt x="3081" y="1666"/>
                  </a:lnTo>
                  <a:lnTo>
                    <a:pt x="3048" y="1913"/>
                  </a:lnTo>
                  <a:lnTo>
                    <a:pt x="3014" y="2161"/>
                  </a:lnTo>
                  <a:lnTo>
                    <a:pt x="2980" y="2406"/>
                  </a:lnTo>
                  <a:lnTo>
                    <a:pt x="2956" y="2651"/>
                  </a:lnTo>
                  <a:lnTo>
                    <a:pt x="2925" y="2748"/>
                  </a:lnTo>
                  <a:lnTo>
                    <a:pt x="2896" y="2847"/>
                  </a:lnTo>
                  <a:lnTo>
                    <a:pt x="2868" y="2945"/>
                  </a:lnTo>
                  <a:lnTo>
                    <a:pt x="2842" y="3047"/>
                  </a:lnTo>
                  <a:lnTo>
                    <a:pt x="2816" y="3147"/>
                  </a:lnTo>
                  <a:lnTo>
                    <a:pt x="2790" y="3248"/>
                  </a:lnTo>
                  <a:lnTo>
                    <a:pt x="2764" y="3349"/>
                  </a:lnTo>
                  <a:lnTo>
                    <a:pt x="2738" y="3451"/>
                  </a:lnTo>
                  <a:lnTo>
                    <a:pt x="2633" y="3673"/>
                  </a:lnTo>
                  <a:lnTo>
                    <a:pt x="2513" y="3897"/>
                  </a:lnTo>
                  <a:lnTo>
                    <a:pt x="2375" y="4114"/>
                  </a:lnTo>
                  <a:lnTo>
                    <a:pt x="2221" y="4321"/>
                  </a:lnTo>
                  <a:lnTo>
                    <a:pt x="2046" y="4507"/>
                  </a:lnTo>
                  <a:lnTo>
                    <a:pt x="1852" y="4671"/>
                  </a:lnTo>
                  <a:lnTo>
                    <a:pt x="1637" y="4805"/>
                  </a:lnTo>
                  <a:lnTo>
                    <a:pt x="1401" y="4904"/>
                  </a:lnTo>
                  <a:lnTo>
                    <a:pt x="1261" y="4918"/>
                  </a:lnTo>
                  <a:lnTo>
                    <a:pt x="1131" y="4912"/>
                  </a:lnTo>
                  <a:lnTo>
                    <a:pt x="1004" y="4885"/>
                  </a:lnTo>
                  <a:lnTo>
                    <a:pt x="886" y="4842"/>
                  </a:lnTo>
                  <a:lnTo>
                    <a:pt x="772" y="4781"/>
                  </a:lnTo>
                  <a:lnTo>
                    <a:pt x="664" y="4708"/>
                  </a:lnTo>
                  <a:lnTo>
                    <a:pt x="562" y="4624"/>
                  </a:lnTo>
                  <a:lnTo>
                    <a:pt x="467" y="4531"/>
                  </a:lnTo>
                  <a:lnTo>
                    <a:pt x="354" y="4383"/>
                  </a:lnTo>
                  <a:lnTo>
                    <a:pt x="268" y="4228"/>
                  </a:lnTo>
                  <a:lnTo>
                    <a:pt x="202" y="4063"/>
                  </a:lnTo>
                  <a:lnTo>
                    <a:pt x="152" y="3894"/>
                  </a:lnTo>
                  <a:lnTo>
                    <a:pt x="111" y="3720"/>
                  </a:lnTo>
                  <a:lnTo>
                    <a:pt x="77" y="3544"/>
                  </a:lnTo>
                  <a:lnTo>
                    <a:pt x="45" y="3366"/>
                  </a:lnTo>
                  <a:lnTo>
                    <a:pt x="11" y="3192"/>
                  </a:lnTo>
                  <a:lnTo>
                    <a:pt x="2" y="3075"/>
                  </a:lnTo>
                  <a:lnTo>
                    <a:pt x="0" y="2964"/>
                  </a:lnTo>
                  <a:lnTo>
                    <a:pt x="0" y="2852"/>
                  </a:lnTo>
                  <a:lnTo>
                    <a:pt x="5" y="2747"/>
                  </a:lnTo>
                  <a:lnTo>
                    <a:pt x="15" y="2640"/>
                  </a:lnTo>
                  <a:lnTo>
                    <a:pt x="33" y="2533"/>
                  </a:lnTo>
                  <a:lnTo>
                    <a:pt x="59" y="2426"/>
                  </a:lnTo>
                  <a:lnTo>
                    <a:pt x="94" y="2319"/>
                  </a:lnTo>
                  <a:lnTo>
                    <a:pt x="101" y="2184"/>
                  </a:lnTo>
                  <a:lnTo>
                    <a:pt x="118" y="2050"/>
                  </a:lnTo>
                  <a:lnTo>
                    <a:pt x="140" y="1913"/>
                  </a:lnTo>
                  <a:lnTo>
                    <a:pt x="170" y="1778"/>
                  </a:lnTo>
                  <a:lnTo>
                    <a:pt x="199" y="1642"/>
                  </a:lnTo>
                  <a:lnTo>
                    <a:pt x="233" y="1507"/>
                  </a:lnTo>
                  <a:lnTo>
                    <a:pt x="267" y="1371"/>
                  </a:lnTo>
                  <a:lnTo>
                    <a:pt x="301" y="1239"/>
                  </a:lnTo>
                  <a:lnTo>
                    <a:pt x="339" y="1118"/>
                  </a:lnTo>
                  <a:lnTo>
                    <a:pt x="372" y="995"/>
                  </a:lnTo>
                  <a:lnTo>
                    <a:pt x="403" y="870"/>
                  </a:lnTo>
                  <a:lnTo>
                    <a:pt x="437" y="748"/>
                  </a:lnTo>
                  <a:lnTo>
                    <a:pt x="475" y="627"/>
                  </a:lnTo>
                  <a:lnTo>
                    <a:pt x="521" y="511"/>
                  </a:lnTo>
                  <a:lnTo>
                    <a:pt x="579" y="401"/>
                  </a:lnTo>
                  <a:lnTo>
                    <a:pt x="654" y="304"/>
                  </a:lnTo>
                  <a:lnTo>
                    <a:pt x="682" y="293"/>
                  </a:lnTo>
                  <a:lnTo>
                    <a:pt x="710" y="277"/>
                  </a:lnTo>
                  <a:lnTo>
                    <a:pt x="737" y="259"/>
                  </a:lnTo>
                  <a:lnTo>
                    <a:pt x="763" y="244"/>
                  </a:lnTo>
                  <a:lnTo>
                    <a:pt x="789" y="228"/>
                  </a:lnTo>
                  <a:lnTo>
                    <a:pt x="818" y="217"/>
                  </a:lnTo>
                  <a:lnTo>
                    <a:pt x="848" y="214"/>
                  </a:lnTo>
                  <a:lnTo>
                    <a:pt x="882" y="221"/>
                  </a:lnTo>
                  <a:lnTo>
                    <a:pt x="921" y="192"/>
                  </a:lnTo>
                  <a:lnTo>
                    <a:pt x="963" y="163"/>
                  </a:lnTo>
                  <a:lnTo>
                    <a:pt x="1008" y="135"/>
                  </a:lnTo>
                  <a:lnTo>
                    <a:pt x="1055" y="113"/>
                  </a:lnTo>
                  <a:lnTo>
                    <a:pt x="1101" y="93"/>
                  </a:lnTo>
                  <a:lnTo>
                    <a:pt x="1149" y="83"/>
                  </a:lnTo>
                  <a:lnTo>
                    <a:pt x="1197" y="83"/>
                  </a:lnTo>
                  <a:lnTo>
                    <a:pt x="1244" y="97"/>
                  </a:lnTo>
                  <a:lnTo>
                    <a:pt x="1287" y="73"/>
                  </a:lnTo>
                  <a:lnTo>
                    <a:pt x="1329" y="54"/>
                  </a:lnTo>
                  <a:lnTo>
                    <a:pt x="1372" y="35"/>
                  </a:lnTo>
                  <a:lnTo>
                    <a:pt x="1417" y="23"/>
                  </a:lnTo>
                  <a:lnTo>
                    <a:pt x="1461" y="11"/>
                  </a:lnTo>
                  <a:lnTo>
                    <a:pt x="1509" y="4"/>
                  </a:lnTo>
                  <a:lnTo>
                    <a:pt x="1557" y="0"/>
                  </a:lnTo>
                  <a:lnTo>
                    <a:pt x="1607" y="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472960" y="1161000"/>
              <a:ext cx="9000" cy="36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15600">
              <a:off x="8248320" y="1186560"/>
              <a:ext cx="75960" cy="88200"/>
            </a:xfrm>
            <a:custGeom>
              <a:avLst/>
              <a:gdLst/>
              <a:ahLst/>
              <a:rect l="l" t="t" r="r" b="b"/>
              <a:pathLst>
                <a:path w="488" h="569">
                  <a:moveTo>
                    <a:pt x="488" y="70"/>
                  </a:moveTo>
                  <a:lnTo>
                    <a:pt x="475" y="75"/>
                  </a:lnTo>
                  <a:lnTo>
                    <a:pt x="464" y="82"/>
                  </a:lnTo>
                  <a:lnTo>
                    <a:pt x="451" y="90"/>
                  </a:lnTo>
                  <a:lnTo>
                    <a:pt x="440" y="99"/>
                  </a:lnTo>
                  <a:lnTo>
                    <a:pt x="427" y="106"/>
                  </a:lnTo>
                  <a:lnTo>
                    <a:pt x="416" y="111"/>
                  </a:lnTo>
                  <a:lnTo>
                    <a:pt x="405" y="113"/>
                  </a:lnTo>
                  <a:lnTo>
                    <a:pt x="393" y="113"/>
                  </a:lnTo>
                  <a:lnTo>
                    <a:pt x="347" y="165"/>
                  </a:lnTo>
                  <a:lnTo>
                    <a:pt x="302" y="213"/>
                  </a:lnTo>
                  <a:lnTo>
                    <a:pt x="256" y="256"/>
                  </a:lnTo>
                  <a:lnTo>
                    <a:pt x="213" y="300"/>
                  </a:lnTo>
                  <a:lnTo>
                    <a:pt x="173" y="344"/>
                  </a:lnTo>
                  <a:lnTo>
                    <a:pt x="140" y="396"/>
                  </a:lnTo>
                  <a:lnTo>
                    <a:pt x="116" y="455"/>
                  </a:lnTo>
                  <a:lnTo>
                    <a:pt x="104" y="528"/>
                  </a:lnTo>
                  <a:lnTo>
                    <a:pt x="104" y="569"/>
                  </a:lnTo>
                  <a:lnTo>
                    <a:pt x="0" y="569"/>
                  </a:lnTo>
                  <a:lnTo>
                    <a:pt x="1" y="534"/>
                  </a:lnTo>
                  <a:lnTo>
                    <a:pt x="9" y="500"/>
                  </a:lnTo>
                  <a:lnTo>
                    <a:pt x="19" y="466"/>
                  </a:lnTo>
                  <a:lnTo>
                    <a:pt x="35" y="434"/>
                  </a:lnTo>
                  <a:lnTo>
                    <a:pt x="50" y="400"/>
                  </a:lnTo>
                  <a:lnTo>
                    <a:pt x="69" y="366"/>
                  </a:lnTo>
                  <a:lnTo>
                    <a:pt x="85" y="332"/>
                  </a:lnTo>
                  <a:lnTo>
                    <a:pt x="104" y="298"/>
                  </a:lnTo>
                  <a:lnTo>
                    <a:pt x="125" y="265"/>
                  </a:lnTo>
                  <a:lnTo>
                    <a:pt x="146" y="229"/>
                  </a:lnTo>
                  <a:lnTo>
                    <a:pt x="166" y="193"/>
                  </a:lnTo>
                  <a:lnTo>
                    <a:pt x="187" y="158"/>
                  </a:lnTo>
                  <a:lnTo>
                    <a:pt x="208" y="120"/>
                  </a:lnTo>
                  <a:lnTo>
                    <a:pt x="229" y="84"/>
                  </a:lnTo>
                  <a:lnTo>
                    <a:pt x="253" y="49"/>
                  </a:lnTo>
                  <a:lnTo>
                    <a:pt x="280" y="18"/>
                  </a:lnTo>
                  <a:lnTo>
                    <a:pt x="303" y="10"/>
                  </a:lnTo>
                  <a:lnTo>
                    <a:pt x="333" y="4"/>
                  </a:lnTo>
                  <a:lnTo>
                    <a:pt x="362" y="0"/>
                  </a:lnTo>
                  <a:lnTo>
                    <a:pt x="395" y="1"/>
                  </a:lnTo>
                  <a:lnTo>
                    <a:pt x="423" y="6"/>
                  </a:lnTo>
                  <a:lnTo>
                    <a:pt x="450" y="20"/>
                  </a:lnTo>
                  <a:lnTo>
                    <a:pt x="471" y="39"/>
                  </a:lnTo>
                  <a:lnTo>
                    <a:pt x="48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8184200">
              <a:off x="8395200" y="1198800"/>
              <a:ext cx="77400" cy="84960"/>
            </a:xfrm>
            <a:custGeom>
              <a:avLst/>
              <a:gdLst/>
              <a:ahLst/>
              <a:rect l="l" t="t" r="r" b="b"/>
              <a:pathLst>
                <a:path w="362" h="511">
                  <a:moveTo>
                    <a:pt x="156" y="61"/>
                  </a:moveTo>
                  <a:lnTo>
                    <a:pt x="180" y="88"/>
                  </a:lnTo>
                  <a:lnTo>
                    <a:pt x="208" y="114"/>
                  </a:lnTo>
                  <a:lnTo>
                    <a:pt x="237" y="136"/>
                  </a:lnTo>
                  <a:lnTo>
                    <a:pt x="263" y="159"/>
                  </a:lnTo>
                  <a:lnTo>
                    <a:pt x="284" y="181"/>
                  </a:lnTo>
                  <a:lnTo>
                    <a:pt x="300" y="208"/>
                  </a:lnTo>
                  <a:lnTo>
                    <a:pt x="305" y="239"/>
                  </a:lnTo>
                  <a:lnTo>
                    <a:pt x="301" y="280"/>
                  </a:lnTo>
                  <a:lnTo>
                    <a:pt x="312" y="306"/>
                  </a:lnTo>
                  <a:lnTo>
                    <a:pt x="325" y="336"/>
                  </a:lnTo>
                  <a:lnTo>
                    <a:pt x="338" y="367"/>
                  </a:lnTo>
                  <a:lnTo>
                    <a:pt x="350" y="398"/>
                  </a:lnTo>
                  <a:lnTo>
                    <a:pt x="357" y="426"/>
                  </a:lnTo>
                  <a:lnTo>
                    <a:pt x="362" y="456"/>
                  </a:lnTo>
                  <a:lnTo>
                    <a:pt x="360" y="482"/>
                  </a:lnTo>
                  <a:lnTo>
                    <a:pt x="353" y="508"/>
                  </a:lnTo>
                  <a:lnTo>
                    <a:pt x="335" y="511"/>
                  </a:lnTo>
                  <a:lnTo>
                    <a:pt x="325" y="509"/>
                  </a:lnTo>
                  <a:lnTo>
                    <a:pt x="318" y="502"/>
                  </a:lnTo>
                  <a:lnTo>
                    <a:pt x="315" y="492"/>
                  </a:lnTo>
                  <a:lnTo>
                    <a:pt x="311" y="480"/>
                  </a:lnTo>
                  <a:lnTo>
                    <a:pt x="310" y="467"/>
                  </a:lnTo>
                  <a:lnTo>
                    <a:pt x="305" y="454"/>
                  </a:lnTo>
                  <a:lnTo>
                    <a:pt x="301" y="446"/>
                  </a:lnTo>
                  <a:lnTo>
                    <a:pt x="282" y="419"/>
                  </a:lnTo>
                  <a:lnTo>
                    <a:pt x="262" y="397"/>
                  </a:lnTo>
                  <a:lnTo>
                    <a:pt x="238" y="375"/>
                  </a:lnTo>
                  <a:lnTo>
                    <a:pt x="217" y="356"/>
                  </a:lnTo>
                  <a:lnTo>
                    <a:pt x="194" y="333"/>
                  </a:lnTo>
                  <a:lnTo>
                    <a:pt x="176" y="311"/>
                  </a:lnTo>
                  <a:lnTo>
                    <a:pt x="162" y="285"/>
                  </a:lnTo>
                  <a:lnTo>
                    <a:pt x="156" y="259"/>
                  </a:lnTo>
                  <a:lnTo>
                    <a:pt x="130" y="256"/>
                  </a:lnTo>
                  <a:lnTo>
                    <a:pt x="116" y="242"/>
                  </a:lnTo>
                  <a:lnTo>
                    <a:pt x="107" y="222"/>
                  </a:lnTo>
                  <a:lnTo>
                    <a:pt x="103" y="199"/>
                  </a:lnTo>
                  <a:lnTo>
                    <a:pt x="96" y="177"/>
                  </a:lnTo>
                  <a:lnTo>
                    <a:pt x="87" y="163"/>
                  </a:lnTo>
                  <a:lnTo>
                    <a:pt x="69" y="157"/>
                  </a:lnTo>
                  <a:lnTo>
                    <a:pt x="42" y="166"/>
                  </a:lnTo>
                  <a:lnTo>
                    <a:pt x="27" y="154"/>
                  </a:lnTo>
                  <a:lnTo>
                    <a:pt x="17" y="142"/>
                  </a:lnTo>
                  <a:lnTo>
                    <a:pt x="9" y="126"/>
                  </a:lnTo>
                  <a:lnTo>
                    <a:pt x="4" y="111"/>
                  </a:lnTo>
                  <a:lnTo>
                    <a:pt x="0" y="91"/>
                  </a:lnTo>
                  <a:lnTo>
                    <a:pt x="0" y="74"/>
                  </a:lnTo>
                  <a:lnTo>
                    <a:pt x="0" y="56"/>
                  </a:lnTo>
                  <a:lnTo>
                    <a:pt x="0" y="40"/>
                  </a:lnTo>
                  <a:lnTo>
                    <a:pt x="42" y="0"/>
                  </a:lnTo>
                  <a:lnTo>
                    <a:pt x="54" y="8"/>
                  </a:lnTo>
                  <a:lnTo>
                    <a:pt x="65" y="21"/>
                  </a:lnTo>
                  <a:lnTo>
                    <a:pt x="78" y="33"/>
                  </a:lnTo>
                  <a:lnTo>
                    <a:pt x="90" y="46"/>
                  </a:lnTo>
                  <a:lnTo>
                    <a:pt x="103" y="56"/>
                  </a:lnTo>
                  <a:lnTo>
                    <a:pt x="120" y="63"/>
                  </a:lnTo>
                  <a:lnTo>
                    <a:pt x="137" y="64"/>
                  </a:lnTo>
                  <a:lnTo>
                    <a:pt x="15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199000" y="1250280"/>
              <a:ext cx="138960" cy="190080"/>
            </a:xfrm>
            <a:custGeom>
              <a:avLst/>
              <a:gdLst/>
              <a:ahLst/>
              <a:rect l="l" t="t" r="r" b="b"/>
              <a:pathLst>
                <a:path w="897" h="1510">
                  <a:moveTo>
                    <a:pt x="587" y="0"/>
                  </a:moveTo>
                  <a:lnTo>
                    <a:pt x="575" y="5"/>
                  </a:lnTo>
                  <a:lnTo>
                    <a:pt x="562" y="12"/>
                  </a:lnTo>
                  <a:lnTo>
                    <a:pt x="548" y="19"/>
                  </a:lnTo>
                  <a:lnTo>
                    <a:pt x="535" y="26"/>
                  </a:lnTo>
                  <a:lnTo>
                    <a:pt x="521" y="32"/>
                  </a:lnTo>
                  <a:lnTo>
                    <a:pt x="507" y="41"/>
                  </a:lnTo>
                  <a:lnTo>
                    <a:pt x="495" y="49"/>
                  </a:lnTo>
                  <a:lnTo>
                    <a:pt x="483" y="62"/>
                  </a:lnTo>
                  <a:lnTo>
                    <a:pt x="512" y="52"/>
                  </a:lnTo>
                  <a:lnTo>
                    <a:pt x="544" y="48"/>
                  </a:lnTo>
                  <a:lnTo>
                    <a:pt x="578" y="48"/>
                  </a:lnTo>
                  <a:lnTo>
                    <a:pt x="613" y="52"/>
                  </a:lnTo>
                  <a:lnTo>
                    <a:pt x="647" y="60"/>
                  </a:lnTo>
                  <a:lnTo>
                    <a:pt x="682" y="74"/>
                  </a:lnTo>
                  <a:lnTo>
                    <a:pt x="714" y="91"/>
                  </a:lnTo>
                  <a:lnTo>
                    <a:pt x="744" y="114"/>
                  </a:lnTo>
                  <a:lnTo>
                    <a:pt x="797" y="187"/>
                  </a:lnTo>
                  <a:lnTo>
                    <a:pt x="838" y="269"/>
                  </a:lnTo>
                  <a:lnTo>
                    <a:pt x="866" y="356"/>
                  </a:lnTo>
                  <a:lnTo>
                    <a:pt x="886" y="449"/>
                  </a:lnTo>
                  <a:lnTo>
                    <a:pt x="894" y="545"/>
                  </a:lnTo>
                  <a:lnTo>
                    <a:pt x="897" y="643"/>
                  </a:lnTo>
                  <a:lnTo>
                    <a:pt x="894" y="742"/>
                  </a:lnTo>
                  <a:lnTo>
                    <a:pt x="888" y="840"/>
                  </a:lnTo>
                  <a:lnTo>
                    <a:pt x="866" y="933"/>
                  </a:lnTo>
                  <a:lnTo>
                    <a:pt x="842" y="1027"/>
                  </a:lnTo>
                  <a:lnTo>
                    <a:pt x="811" y="1119"/>
                  </a:lnTo>
                  <a:lnTo>
                    <a:pt x="776" y="1209"/>
                  </a:lnTo>
                  <a:lnTo>
                    <a:pt x="728" y="1291"/>
                  </a:lnTo>
                  <a:lnTo>
                    <a:pt x="670" y="1365"/>
                  </a:lnTo>
                  <a:lnTo>
                    <a:pt x="600" y="1430"/>
                  </a:lnTo>
                  <a:lnTo>
                    <a:pt x="516" y="1485"/>
                  </a:lnTo>
                  <a:lnTo>
                    <a:pt x="465" y="1502"/>
                  </a:lnTo>
                  <a:lnTo>
                    <a:pt x="416" y="1510"/>
                  </a:lnTo>
                  <a:lnTo>
                    <a:pt x="367" y="1509"/>
                  </a:lnTo>
                  <a:lnTo>
                    <a:pt x="322" y="1502"/>
                  </a:lnTo>
                  <a:lnTo>
                    <a:pt x="275" y="1485"/>
                  </a:lnTo>
                  <a:lnTo>
                    <a:pt x="232" y="1465"/>
                  </a:lnTo>
                  <a:lnTo>
                    <a:pt x="189" y="1440"/>
                  </a:lnTo>
                  <a:lnTo>
                    <a:pt x="151" y="1412"/>
                  </a:lnTo>
                  <a:lnTo>
                    <a:pt x="71" y="1308"/>
                  </a:lnTo>
                  <a:lnTo>
                    <a:pt x="23" y="1192"/>
                  </a:lnTo>
                  <a:lnTo>
                    <a:pt x="1" y="1064"/>
                  </a:lnTo>
                  <a:lnTo>
                    <a:pt x="0" y="932"/>
                  </a:lnTo>
                  <a:lnTo>
                    <a:pt x="12" y="795"/>
                  </a:lnTo>
                  <a:lnTo>
                    <a:pt x="36" y="661"/>
                  </a:lnTo>
                  <a:lnTo>
                    <a:pt x="63" y="533"/>
                  </a:lnTo>
                  <a:lnTo>
                    <a:pt x="90" y="415"/>
                  </a:lnTo>
                  <a:lnTo>
                    <a:pt x="123" y="336"/>
                  </a:lnTo>
                  <a:lnTo>
                    <a:pt x="167" y="262"/>
                  </a:lnTo>
                  <a:lnTo>
                    <a:pt x="219" y="191"/>
                  </a:lnTo>
                  <a:lnTo>
                    <a:pt x="279" y="129"/>
                  </a:lnTo>
                  <a:lnTo>
                    <a:pt x="346" y="76"/>
                  </a:lnTo>
                  <a:lnTo>
                    <a:pt x="420" y="35"/>
                  </a:lnTo>
                  <a:lnTo>
                    <a:pt x="499" y="8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256600" y="1265040"/>
              <a:ext cx="243360" cy="365760"/>
            </a:xfrm>
            <a:custGeom>
              <a:avLst/>
              <a:gdLst/>
              <a:ahLst/>
              <a:rect l="l" t="t" r="r" b="b"/>
              <a:pathLst>
                <a:path w="1563" h="2664">
                  <a:moveTo>
                    <a:pt x="1558" y="296"/>
                  </a:moveTo>
                  <a:lnTo>
                    <a:pt x="1563" y="449"/>
                  </a:lnTo>
                  <a:lnTo>
                    <a:pt x="1558" y="603"/>
                  </a:lnTo>
                  <a:lnTo>
                    <a:pt x="1539" y="751"/>
                  </a:lnTo>
                  <a:lnTo>
                    <a:pt x="1508" y="896"/>
                  </a:lnTo>
                  <a:lnTo>
                    <a:pt x="1459" y="1031"/>
                  </a:lnTo>
                  <a:lnTo>
                    <a:pt x="1394" y="1160"/>
                  </a:lnTo>
                  <a:lnTo>
                    <a:pt x="1309" y="1279"/>
                  </a:lnTo>
                  <a:lnTo>
                    <a:pt x="1204" y="1387"/>
                  </a:lnTo>
                  <a:lnTo>
                    <a:pt x="1171" y="1397"/>
                  </a:lnTo>
                  <a:lnTo>
                    <a:pt x="1134" y="1405"/>
                  </a:lnTo>
                  <a:lnTo>
                    <a:pt x="1098" y="1410"/>
                  </a:lnTo>
                  <a:lnTo>
                    <a:pt x="1061" y="1412"/>
                  </a:lnTo>
                  <a:lnTo>
                    <a:pt x="1023" y="1410"/>
                  </a:lnTo>
                  <a:lnTo>
                    <a:pt x="991" y="1402"/>
                  </a:lnTo>
                  <a:lnTo>
                    <a:pt x="960" y="1391"/>
                  </a:lnTo>
                  <a:lnTo>
                    <a:pt x="934" y="1376"/>
                  </a:lnTo>
                  <a:lnTo>
                    <a:pt x="908" y="1362"/>
                  </a:lnTo>
                  <a:lnTo>
                    <a:pt x="882" y="1345"/>
                  </a:lnTo>
                  <a:lnTo>
                    <a:pt x="860" y="1324"/>
                  </a:lnTo>
                  <a:lnTo>
                    <a:pt x="840" y="1304"/>
                  </a:lnTo>
                  <a:lnTo>
                    <a:pt x="820" y="1280"/>
                  </a:lnTo>
                  <a:lnTo>
                    <a:pt x="805" y="1256"/>
                  </a:lnTo>
                  <a:lnTo>
                    <a:pt x="790" y="1232"/>
                  </a:lnTo>
                  <a:lnTo>
                    <a:pt x="778" y="1210"/>
                  </a:lnTo>
                  <a:lnTo>
                    <a:pt x="798" y="1346"/>
                  </a:lnTo>
                  <a:lnTo>
                    <a:pt x="833" y="1487"/>
                  </a:lnTo>
                  <a:lnTo>
                    <a:pt x="873" y="1631"/>
                  </a:lnTo>
                  <a:lnTo>
                    <a:pt x="906" y="1774"/>
                  </a:lnTo>
                  <a:lnTo>
                    <a:pt x="925" y="1915"/>
                  </a:lnTo>
                  <a:lnTo>
                    <a:pt x="922" y="2057"/>
                  </a:lnTo>
                  <a:lnTo>
                    <a:pt x="887" y="2195"/>
                  </a:lnTo>
                  <a:lnTo>
                    <a:pt x="811" y="2332"/>
                  </a:lnTo>
                  <a:lnTo>
                    <a:pt x="801" y="2344"/>
                  </a:lnTo>
                  <a:lnTo>
                    <a:pt x="791" y="2354"/>
                  </a:lnTo>
                  <a:lnTo>
                    <a:pt x="778" y="2363"/>
                  </a:lnTo>
                  <a:lnTo>
                    <a:pt x="767" y="2372"/>
                  </a:lnTo>
                  <a:lnTo>
                    <a:pt x="753" y="2380"/>
                  </a:lnTo>
                  <a:lnTo>
                    <a:pt x="740" y="2389"/>
                  </a:lnTo>
                  <a:lnTo>
                    <a:pt x="728" y="2399"/>
                  </a:lnTo>
                  <a:lnTo>
                    <a:pt x="716" y="2415"/>
                  </a:lnTo>
                  <a:lnTo>
                    <a:pt x="701" y="2449"/>
                  </a:lnTo>
                  <a:lnTo>
                    <a:pt x="681" y="2485"/>
                  </a:lnTo>
                  <a:lnTo>
                    <a:pt x="657" y="2519"/>
                  </a:lnTo>
                  <a:lnTo>
                    <a:pt x="629" y="2553"/>
                  </a:lnTo>
                  <a:lnTo>
                    <a:pt x="597" y="2582"/>
                  </a:lnTo>
                  <a:lnTo>
                    <a:pt x="563" y="2610"/>
                  </a:lnTo>
                  <a:lnTo>
                    <a:pt x="525" y="2633"/>
                  </a:lnTo>
                  <a:lnTo>
                    <a:pt x="489" y="2653"/>
                  </a:lnTo>
                  <a:lnTo>
                    <a:pt x="434" y="2660"/>
                  </a:lnTo>
                  <a:lnTo>
                    <a:pt x="380" y="2664"/>
                  </a:lnTo>
                  <a:lnTo>
                    <a:pt x="330" y="2658"/>
                  </a:lnTo>
                  <a:lnTo>
                    <a:pt x="280" y="2650"/>
                  </a:lnTo>
                  <a:lnTo>
                    <a:pt x="233" y="2632"/>
                  </a:lnTo>
                  <a:lnTo>
                    <a:pt x="188" y="2608"/>
                  </a:lnTo>
                  <a:lnTo>
                    <a:pt x="144" y="2577"/>
                  </a:lnTo>
                  <a:lnTo>
                    <a:pt x="105" y="2539"/>
                  </a:lnTo>
                  <a:lnTo>
                    <a:pt x="81" y="2489"/>
                  </a:lnTo>
                  <a:lnTo>
                    <a:pt x="61" y="2440"/>
                  </a:lnTo>
                  <a:lnTo>
                    <a:pt x="43" y="2387"/>
                  </a:lnTo>
                  <a:lnTo>
                    <a:pt x="29" y="2334"/>
                  </a:lnTo>
                  <a:lnTo>
                    <a:pt x="16" y="2280"/>
                  </a:lnTo>
                  <a:lnTo>
                    <a:pt x="7" y="2226"/>
                  </a:lnTo>
                  <a:lnTo>
                    <a:pt x="2" y="2174"/>
                  </a:lnTo>
                  <a:lnTo>
                    <a:pt x="0" y="2123"/>
                  </a:lnTo>
                  <a:lnTo>
                    <a:pt x="31" y="2092"/>
                  </a:lnTo>
                  <a:lnTo>
                    <a:pt x="48" y="2142"/>
                  </a:lnTo>
                  <a:lnTo>
                    <a:pt x="72" y="2197"/>
                  </a:lnTo>
                  <a:lnTo>
                    <a:pt x="102" y="2253"/>
                  </a:lnTo>
                  <a:lnTo>
                    <a:pt x="137" y="2309"/>
                  </a:lnTo>
                  <a:lnTo>
                    <a:pt x="178" y="2358"/>
                  </a:lnTo>
                  <a:lnTo>
                    <a:pt x="228" y="2402"/>
                  </a:lnTo>
                  <a:lnTo>
                    <a:pt x="286" y="2434"/>
                  </a:lnTo>
                  <a:lnTo>
                    <a:pt x="353" y="2456"/>
                  </a:lnTo>
                  <a:lnTo>
                    <a:pt x="404" y="2444"/>
                  </a:lnTo>
                  <a:lnTo>
                    <a:pt x="455" y="2439"/>
                  </a:lnTo>
                  <a:lnTo>
                    <a:pt x="503" y="2432"/>
                  </a:lnTo>
                  <a:lnTo>
                    <a:pt x="549" y="2426"/>
                  </a:lnTo>
                  <a:lnTo>
                    <a:pt x="593" y="2413"/>
                  </a:lnTo>
                  <a:lnTo>
                    <a:pt x="635" y="2398"/>
                  </a:lnTo>
                  <a:lnTo>
                    <a:pt x="676" y="2374"/>
                  </a:lnTo>
                  <a:lnTo>
                    <a:pt x="716" y="2342"/>
                  </a:lnTo>
                  <a:lnTo>
                    <a:pt x="806" y="2192"/>
                  </a:lnTo>
                  <a:lnTo>
                    <a:pt x="846" y="2036"/>
                  </a:lnTo>
                  <a:lnTo>
                    <a:pt x="846" y="1876"/>
                  </a:lnTo>
                  <a:lnTo>
                    <a:pt x="820" y="1711"/>
                  </a:lnTo>
                  <a:lnTo>
                    <a:pt x="778" y="1543"/>
                  </a:lnTo>
                  <a:lnTo>
                    <a:pt x="735" y="1376"/>
                  </a:lnTo>
                  <a:lnTo>
                    <a:pt x="700" y="1207"/>
                  </a:lnTo>
                  <a:lnTo>
                    <a:pt x="685" y="1043"/>
                  </a:lnTo>
                  <a:lnTo>
                    <a:pt x="694" y="922"/>
                  </a:lnTo>
                  <a:lnTo>
                    <a:pt x="708" y="804"/>
                  </a:lnTo>
                  <a:lnTo>
                    <a:pt x="726" y="686"/>
                  </a:lnTo>
                  <a:lnTo>
                    <a:pt x="752" y="570"/>
                  </a:lnTo>
                  <a:lnTo>
                    <a:pt x="780" y="455"/>
                  </a:lnTo>
                  <a:lnTo>
                    <a:pt x="815" y="344"/>
                  </a:lnTo>
                  <a:lnTo>
                    <a:pt x="856" y="234"/>
                  </a:lnTo>
                  <a:lnTo>
                    <a:pt x="903" y="130"/>
                  </a:lnTo>
                  <a:lnTo>
                    <a:pt x="954" y="100"/>
                  </a:lnTo>
                  <a:lnTo>
                    <a:pt x="1010" y="71"/>
                  </a:lnTo>
                  <a:lnTo>
                    <a:pt x="1068" y="42"/>
                  </a:lnTo>
                  <a:lnTo>
                    <a:pt x="1130" y="20"/>
                  </a:lnTo>
                  <a:lnTo>
                    <a:pt x="1190" y="4"/>
                  </a:lnTo>
                  <a:lnTo>
                    <a:pt x="1254" y="0"/>
                  </a:lnTo>
                  <a:lnTo>
                    <a:pt x="1317" y="10"/>
                  </a:lnTo>
                  <a:lnTo>
                    <a:pt x="1380" y="37"/>
                  </a:lnTo>
                  <a:lnTo>
                    <a:pt x="1417" y="58"/>
                  </a:lnTo>
                  <a:lnTo>
                    <a:pt x="1446" y="86"/>
                  </a:lnTo>
                  <a:lnTo>
                    <a:pt x="1469" y="117"/>
                  </a:lnTo>
                  <a:lnTo>
                    <a:pt x="1487" y="154"/>
                  </a:lnTo>
                  <a:lnTo>
                    <a:pt x="1503" y="189"/>
                  </a:lnTo>
                  <a:lnTo>
                    <a:pt x="1518" y="227"/>
                  </a:lnTo>
                  <a:lnTo>
                    <a:pt x="1535" y="262"/>
                  </a:lnTo>
                  <a:lnTo>
                    <a:pt x="155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211600" y="1267560"/>
              <a:ext cx="116280" cy="163440"/>
            </a:xfrm>
            <a:custGeom>
              <a:avLst/>
              <a:gdLst/>
              <a:ahLst/>
              <a:rect l="l" t="t" r="r" b="b"/>
              <a:pathLst>
                <a:path w="750" h="1299">
                  <a:moveTo>
                    <a:pt x="750" y="540"/>
                  </a:moveTo>
                  <a:lnTo>
                    <a:pt x="740" y="649"/>
                  </a:lnTo>
                  <a:lnTo>
                    <a:pt x="726" y="761"/>
                  </a:lnTo>
                  <a:lnTo>
                    <a:pt x="703" y="870"/>
                  </a:lnTo>
                  <a:lnTo>
                    <a:pt x="672" y="977"/>
                  </a:lnTo>
                  <a:lnTo>
                    <a:pt x="627" y="1074"/>
                  </a:lnTo>
                  <a:lnTo>
                    <a:pt x="567" y="1163"/>
                  </a:lnTo>
                  <a:lnTo>
                    <a:pt x="487" y="1237"/>
                  </a:lnTo>
                  <a:lnTo>
                    <a:pt x="387" y="1298"/>
                  </a:lnTo>
                  <a:lnTo>
                    <a:pt x="347" y="1299"/>
                  </a:lnTo>
                  <a:lnTo>
                    <a:pt x="311" y="1299"/>
                  </a:lnTo>
                  <a:lnTo>
                    <a:pt x="277" y="1296"/>
                  </a:lnTo>
                  <a:lnTo>
                    <a:pt x="245" y="1292"/>
                  </a:lnTo>
                  <a:lnTo>
                    <a:pt x="212" y="1281"/>
                  </a:lnTo>
                  <a:lnTo>
                    <a:pt x="183" y="1267"/>
                  </a:lnTo>
                  <a:lnTo>
                    <a:pt x="153" y="1249"/>
                  </a:lnTo>
                  <a:lnTo>
                    <a:pt x="126" y="1225"/>
                  </a:lnTo>
                  <a:lnTo>
                    <a:pt x="56" y="1112"/>
                  </a:lnTo>
                  <a:lnTo>
                    <a:pt x="17" y="991"/>
                  </a:lnTo>
                  <a:lnTo>
                    <a:pt x="0" y="861"/>
                  </a:lnTo>
                  <a:lnTo>
                    <a:pt x="5" y="730"/>
                  </a:lnTo>
                  <a:lnTo>
                    <a:pt x="24" y="595"/>
                  </a:lnTo>
                  <a:lnTo>
                    <a:pt x="55" y="466"/>
                  </a:lnTo>
                  <a:lnTo>
                    <a:pt x="90" y="342"/>
                  </a:lnTo>
                  <a:lnTo>
                    <a:pt x="126" y="228"/>
                  </a:lnTo>
                  <a:lnTo>
                    <a:pt x="131" y="249"/>
                  </a:lnTo>
                  <a:lnTo>
                    <a:pt x="139" y="270"/>
                  </a:lnTo>
                  <a:lnTo>
                    <a:pt x="149" y="290"/>
                  </a:lnTo>
                  <a:lnTo>
                    <a:pt x="163" y="308"/>
                  </a:lnTo>
                  <a:lnTo>
                    <a:pt x="176" y="325"/>
                  </a:lnTo>
                  <a:lnTo>
                    <a:pt x="193" y="342"/>
                  </a:lnTo>
                  <a:lnTo>
                    <a:pt x="209" y="357"/>
                  </a:lnTo>
                  <a:lnTo>
                    <a:pt x="231" y="374"/>
                  </a:lnTo>
                  <a:lnTo>
                    <a:pt x="253" y="377"/>
                  </a:lnTo>
                  <a:lnTo>
                    <a:pt x="278" y="383"/>
                  </a:lnTo>
                  <a:lnTo>
                    <a:pt x="302" y="385"/>
                  </a:lnTo>
                  <a:lnTo>
                    <a:pt x="326" y="388"/>
                  </a:lnTo>
                  <a:lnTo>
                    <a:pt x="347" y="385"/>
                  </a:lnTo>
                  <a:lnTo>
                    <a:pt x="370" y="378"/>
                  </a:lnTo>
                  <a:lnTo>
                    <a:pt x="388" y="364"/>
                  </a:lnTo>
                  <a:lnTo>
                    <a:pt x="406" y="342"/>
                  </a:lnTo>
                  <a:lnTo>
                    <a:pt x="433" y="312"/>
                  </a:lnTo>
                  <a:lnTo>
                    <a:pt x="460" y="281"/>
                  </a:lnTo>
                  <a:lnTo>
                    <a:pt x="484" y="248"/>
                  </a:lnTo>
                  <a:lnTo>
                    <a:pt x="506" y="212"/>
                  </a:lnTo>
                  <a:lnTo>
                    <a:pt x="522" y="173"/>
                  </a:lnTo>
                  <a:lnTo>
                    <a:pt x="530" y="133"/>
                  </a:lnTo>
                  <a:lnTo>
                    <a:pt x="530" y="93"/>
                  </a:lnTo>
                  <a:lnTo>
                    <a:pt x="522" y="52"/>
                  </a:lnTo>
                  <a:lnTo>
                    <a:pt x="480" y="0"/>
                  </a:lnTo>
                  <a:lnTo>
                    <a:pt x="567" y="25"/>
                  </a:lnTo>
                  <a:lnTo>
                    <a:pt x="629" y="73"/>
                  </a:lnTo>
                  <a:lnTo>
                    <a:pt x="671" y="135"/>
                  </a:lnTo>
                  <a:lnTo>
                    <a:pt x="699" y="211"/>
                  </a:lnTo>
                  <a:lnTo>
                    <a:pt x="714" y="291"/>
                  </a:lnTo>
                  <a:lnTo>
                    <a:pt x="727" y="377"/>
                  </a:lnTo>
                  <a:lnTo>
                    <a:pt x="736" y="460"/>
                  </a:lnTo>
                  <a:lnTo>
                    <a:pt x="750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257680" y="1271520"/>
              <a:ext cx="16920" cy="1548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105" y="49"/>
                  </a:moveTo>
                  <a:lnTo>
                    <a:pt x="107" y="56"/>
                  </a:lnTo>
                  <a:lnTo>
                    <a:pt x="107" y="64"/>
                  </a:lnTo>
                  <a:lnTo>
                    <a:pt x="104" y="73"/>
                  </a:lnTo>
                  <a:lnTo>
                    <a:pt x="101" y="81"/>
                  </a:lnTo>
                  <a:lnTo>
                    <a:pt x="96" y="88"/>
                  </a:lnTo>
                  <a:lnTo>
                    <a:pt x="88" y="95"/>
                  </a:lnTo>
                  <a:lnTo>
                    <a:pt x="81" y="98"/>
                  </a:lnTo>
                  <a:lnTo>
                    <a:pt x="74" y="101"/>
                  </a:lnTo>
                  <a:lnTo>
                    <a:pt x="62" y="100"/>
                  </a:lnTo>
                  <a:lnTo>
                    <a:pt x="51" y="100"/>
                  </a:lnTo>
                  <a:lnTo>
                    <a:pt x="39" y="98"/>
                  </a:lnTo>
                  <a:lnTo>
                    <a:pt x="29" y="97"/>
                  </a:lnTo>
                  <a:lnTo>
                    <a:pt x="20" y="91"/>
                  </a:lnTo>
                  <a:lnTo>
                    <a:pt x="13" y="87"/>
                  </a:lnTo>
                  <a:lnTo>
                    <a:pt x="6" y="77"/>
                  </a:lnTo>
                  <a:lnTo>
                    <a:pt x="3" y="69"/>
                  </a:lnTo>
                  <a:lnTo>
                    <a:pt x="0" y="49"/>
                  </a:lnTo>
                  <a:lnTo>
                    <a:pt x="11" y="29"/>
                  </a:lnTo>
                  <a:lnTo>
                    <a:pt x="29" y="14"/>
                  </a:lnTo>
                  <a:lnTo>
                    <a:pt x="53" y="4"/>
                  </a:lnTo>
                  <a:lnTo>
                    <a:pt x="76" y="0"/>
                  </a:lnTo>
                  <a:lnTo>
                    <a:pt x="94" y="4"/>
                  </a:lnTo>
                  <a:lnTo>
                    <a:pt x="104" y="19"/>
                  </a:lnTo>
                  <a:lnTo>
                    <a:pt x="10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379720" y="1275840"/>
              <a:ext cx="110880" cy="171360"/>
            </a:xfrm>
            <a:custGeom>
              <a:avLst/>
              <a:gdLst/>
              <a:ahLst/>
              <a:rect l="l" t="t" r="r" b="b"/>
              <a:pathLst>
                <a:path w="714" h="1249">
                  <a:moveTo>
                    <a:pt x="694" y="259"/>
                  </a:moveTo>
                  <a:lnTo>
                    <a:pt x="713" y="377"/>
                  </a:lnTo>
                  <a:lnTo>
                    <a:pt x="714" y="494"/>
                  </a:lnTo>
                  <a:lnTo>
                    <a:pt x="703" y="607"/>
                  </a:lnTo>
                  <a:lnTo>
                    <a:pt x="680" y="719"/>
                  </a:lnTo>
                  <a:lnTo>
                    <a:pt x="647" y="828"/>
                  </a:lnTo>
                  <a:lnTo>
                    <a:pt x="607" y="935"/>
                  </a:lnTo>
                  <a:lnTo>
                    <a:pt x="564" y="1039"/>
                  </a:lnTo>
                  <a:lnTo>
                    <a:pt x="519" y="1142"/>
                  </a:lnTo>
                  <a:lnTo>
                    <a:pt x="490" y="1178"/>
                  </a:lnTo>
                  <a:lnTo>
                    <a:pt x="459" y="1206"/>
                  </a:lnTo>
                  <a:lnTo>
                    <a:pt x="424" y="1226"/>
                  </a:lnTo>
                  <a:lnTo>
                    <a:pt x="386" y="1240"/>
                  </a:lnTo>
                  <a:lnTo>
                    <a:pt x="344" y="1246"/>
                  </a:lnTo>
                  <a:lnTo>
                    <a:pt x="302" y="1249"/>
                  </a:lnTo>
                  <a:lnTo>
                    <a:pt x="260" y="1247"/>
                  </a:lnTo>
                  <a:lnTo>
                    <a:pt x="218" y="1246"/>
                  </a:lnTo>
                  <a:lnTo>
                    <a:pt x="153" y="1201"/>
                  </a:lnTo>
                  <a:lnTo>
                    <a:pt x="105" y="1147"/>
                  </a:lnTo>
                  <a:lnTo>
                    <a:pt x="67" y="1085"/>
                  </a:lnTo>
                  <a:lnTo>
                    <a:pt x="42" y="1021"/>
                  </a:lnTo>
                  <a:lnTo>
                    <a:pt x="22" y="949"/>
                  </a:lnTo>
                  <a:lnTo>
                    <a:pt x="11" y="876"/>
                  </a:lnTo>
                  <a:lnTo>
                    <a:pt x="2" y="799"/>
                  </a:lnTo>
                  <a:lnTo>
                    <a:pt x="0" y="726"/>
                  </a:lnTo>
                  <a:lnTo>
                    <a:pt x="7" y="702"/>
                  </a:lnTo>
                  <a:lnTo>
                    <a:pt x="11" y="680"/>
                  </a:lnTo>
                  <a:lnTo>
                    <a:pt x="11" y="657"/>
                  </a:lnTo>
                  <a:lnTo>
                    <a:pt x="9" y="636"/>
                  </a:lnTo>
                  <a:lnTo>
                    <a:pt x="7" y="612"/>
                  </a:lnTo>
                  <a:lnTo>
                    <a:pt x="7" y="590"/>
                  </a:lnTo>
                  <a:lnTo>
                    <a:pt x="11" y="564"/>
                  </a:lnTo>
                  <a:lnTo>
                    <a:pt x="21" y="539"/>
                  </a:lnTo>
                  <a:lnTo>
                    <a:pt x="29" y="511"/>
                  </a:lnTo>
                  <a:lnTo>
                    <a:pt x="36" y="483"/>
                  </a:lnTo>
                  <a:lnTo>
                    <a:pt x="42" y="453"/>
                  </a:lnTo>
                  <a:lnTo>
                    <a:pt x="47" y="425"/>
                  </a:lnTo>
                  <a:lnTo>
                    <a:pt x="52" y="395"/>
                  </a:lnTo>
                  <a:lnTo>
                    <a:pt x="59" y="366"/>
                  </a:lnTo>
                  <a:lnTo>
                    <a:pt x="68" y="338"/>
                  </a:lnTo>
                  <a:lnTo>
                    <a:pt x="83" y="311"/>
                  </a:lnTo>
                  <a:lnTo>
                    <a:pt x="75" y="335"/>
                  </a:lnTo>
                  <a:lnTo>
                    <a:pt x="77" y="355"/>
                  </a:lnTo>
                  <a:lnTo>
                    <a:pt x="85" y="369"/>
                  </a:lnTo>
                  <a:lnTo>
                    <a:pt x="101" y="383"/>
                  </a:lnTo>
                  <a:lnTo>
                    <a:pt x="118" y="393"/>
                  </a:lnTo>
                  <a:lnTo>
                    <a:pt x="137" y="404"/>
                  </a:lnTo>
                  <a:lnTo>
                    <a:pt x="157" y="412"/>
                  </a:lnTo>
                  <a:lnTo>
                    <a:pt x="175" y="425"/>
                  </a:lnTo>
                  <a:lnTo>
                    <a:pt x="216" y="433"/>
                  </a:lnTo>
                  <a:lnTo>
                    <a:pt x="256" y="431"/>
                  </a:lnTo>
                  <a:lnTo>
                    <a:pt x="292" y="418"/>
                  </a:lnTo>
                  <a:lnTo>
                    <a:pt x="329" y="398"/>
                  </a:lnTo>
                  <a:lnTo>
                    <a:pt x="361" y="372"/>
                  </a:lnTo>
                  <a:lnTo>
                    <a:pt x="392" y="342"/>
                  </a:lnTo>
                  <a:lnTo>
                    <a:pt x="420" y="311"/>
                  </a:lnTo>
                  <a:lnTo>
                    <a:pt x="445" y="280"/>
                  </a:lnTo>
                  <a:lnTo>
                    <a:pt x="451" y="256"/>
                  </a:lnTo>
                  <a:lnTo>
                    <a:pt x="458" y="232"/>
                  </a:lnTo>
                  <a:lnTo>
                    <a:pt x="464" y="208"/>
                  </a:lnTo>
                  <a:lnTo>
                    <a:pt x="468" y="186"/>
                  </a:lnTo>
                  <a:lnTo>
                    <a:pt x="468" y="162"/>
                  </a:lnTo>
                  <a:lnTo>
                    <a:pt x="465" y="139"/>
                  </a:lnTo>
                  <a:lnTo>
                    <a:pt x="457" y="115"/>
                  </a:lnTo>
                  <a:lnTo>
                    <a:pt x="445" y="93"/>
                  </a:lnTo>
                  <a:lnTo>
                    <a:pt x="431" y="86"/>
                  </a:lnTo>
                  <a:lnTo>
                    <a:pt x="422" y="77"/>
                  </a:lnTo>
                  <a:lnTo>
                    <a:pt x="414" y="65"/>
                  </a:lnTo>
                  <a:lnTo>
                    <a:pt x="410" y="53"/>
                  </a:lnTo>
                  <a:lnTo>
                    <a:pt x="406" y="38"/>
                  </a:lnTo>
                  <a:lnTo>
                    <a:pt x="403" y="25"/>
                  </a:lnTo>
                  <a:lnTo>
                    <a:pt x="398" y="11"/>
                  </a:lnTo>
                  <a:lnTo>
                    <a:pt x="393" y="0"/>
                  </a:lnTo>
                  <a:lnTo>
                    <a:pt x="451" y="3"/>
                  </a:lnTo>
                  <a:lnTo>
                    <a:pt x="502" y="18"/>
                  </a:lnTo>
                  <a:lnTo>
                    <a:pt x="547" y="43"/>
                  </a:lnTo>
                  <a:lnTo>
                    <a:pt x="586" y="79"/>
                  </a:lnTo>
                  <a:lnTo>
                    <a:pt x="618" y="119"/>
                  </a:lnTo>
                  <a:lnTo>
                    <a:pt x="648" y="165"/>
                  </a:lnTo>
                  <a:lnTo>
                    <a:pt x="672" y="211"/>
                  </a:lnTo>
                  <a:lnTo>
                    <a:pt x="694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416800" y="1293120"/>
              <a:ext cx="15480" cy="16560"/>
            </a:xfrm>
            <a:custGeom>
              <a:avLst/>
              <a:gdLst/>
              <a:ahLst/>
              <a:rect l="l" t="t" r="r" b="b"/>
              <a:pathLst>
                <a:path w="100" h="106">
                  <a:moveTo>
                    <a:pt x="92" y="2"/>
                  </a:moveTo>
                  <a:lnTo>
                    <a:pt x="97" y="13"/>
                  </a:lnTo>
                  <a:lnTo>
                    <a:pt x="100" y="26"/>
                  </a:lnTo>
                  <a:lnTo>
                    <a:pt x="98" y="40"/>
                  </a:lnTo>
                  <a:lnTo>
                    <a:pt x="95" y="54"/>
                  </a:lnTo>
                  <a:lnTo>
                    <a:pt x="88" y="67"/>
                  </a:lnTo>
                  <a:lnTo>
                    <a:pt x="81" y="81"/>
                  </a:lnTo>
                  <a:lnTo>
                    <a:pt x="71" y="93"/>
                  </a:lnTo>
                  <a:lnTo>
                    <a:pt x="62" y="106"/>
                  </a:lnTo>
                  <a:lnTo>
                    <a:pt x="47" y="103"/>
                  </a:lnTo>
                  <a:lnTo>
                    <a:pt x="35" y="100"/>
                  </a:lnTo>
                  <a:lnTo>
                    <a:pt x="22" y="93"/>
                  </a:lnTo>
                  <a:lnTo>
                    <a:pt x="12" y="86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9" y="44"/>
                  </a:lnTo>
                  <a:lnTo>
                    <a:pt x="11" y="26"/>
                  </a:lnTo>
                  <a:lnTo>
                    <a:pt x="18" y="15"/>
                  </a:lnTo>
                  <a:lnTo>
                    <a:pt x="26" y="6"/>
                  </a:lnTo>
                  <a:lnTo>
                    <a:pt x="39" y="3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573040" y="1340640"/>
              <a:ext cx="144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556840" y="1397160"/>
              <a:ext cx="3240" cy="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74000" y="1523520"/>
              <a:ext cx="88560" cy="144720"/>
            </a:xfrm>
            <a:custGeom>
              <a:avLst/>
              <a:gdLst/>
              <a:ahLst/>
              <a:rect l="l" t="t" r="r" b="b"/>
              <a:pathLst>
                <a:path w="573" h="932">
                  <a:moveTo>
                    <a:pt x="480" y="177"/>
                  </a:moveTo>
                  <a:lnTo>
                    <a:pt x="519" y="262"/>
                  </a:lnTo>
                  <a:lnTo>
                    <a:pt x="542" y="350"/>
                  </a:lnTo>
                  <a:lnTo>
                    <a:pt x="550" y="438"/>
                  </a:lnTo>
                  <a:lnTo>
                    <a:pt x="553" y="528"/>
                  </a:lnTo>
                  <a:lnTo>
                    <a:pt x="550" y="618"/>
                  </a:lnTo>
                  <a:lnTo>
                    <a:pt x="550" y="712"/>
                  </a:lnTo>
                  <a:lnTo>
                    <a:pt x="556" y="807"/>
                  </a:lnTo>
                  <a:lnTo>
                    <a:pt x="573" y="904"/>
                  </a:lnTo>
                  <a:lnTo>
                    <a:pt x="547" y="919"/>
                  </a:lnTo>
                  <a:lnTo>
                    <a:pt x="522" y="929"/>
                  </a:lnTo>
                  <a:lnTo>
                    <a:pt x="495" y="932"/>
                  </a:lnTo>
                  <a:lnTo>
                    <a:pt x="469" y="932"/>
                  </a:lnTo>
                  <a:lnTo>
                    <a:pt x="440" y="925"/>
                  </a:lnTo>
                  <a:lnTo>
                    <a:pt x="415" y="914"/>
                  </a:lnTo>
                  <a:lnTo>
                    <a:pt x="388" y="900"/>
                  </a:lnTo>
                  <a:lnTo>
                    <a:pt x="366" y="883"/>
                  </a:lnTo>
                  <a:lnTo>
                    <a:pt x="284" y="809"/>
                  </a:lnTo>
                  <a:lnTo>
                    <a:pt x="208" y="735"/>
                  </a:lnTo>
                  <a:lnTo>
                    <a:pt x="139" y="655"/>
                  </a:lnTo>
                  <a:lnTo>
                    <a:pt x="83" y="571"/>
                  </a:lnTo>
                  <a:lnTo>
                    <a:pt x="38" y="481"/>
                  </a:lnTo>
                  <a:lnTo>
                    <a:pt x="10" y="387"/>
                  </a:lnTo>
                  <a:lnTo>
                    <a:pt x="0" y="286"/>
                  </a:lnTo>
                  <a:lnTo>
                    <a:pt x="13" y="177"/>
                  </a:lnTo>
                  <a:lnTo>
                    <a:pt x="27" y="143"/>
                  </a:lnTo>
                  <a:lnTo>
                    <a:pt x="48" y="114"/>
                  </a:lnTo>
                  <a:lnTo>
                    <a:pt x="72" y="89"/>
                  </a:lnTo>
                  <a:lnTo>
                    <a:pt x="101" y="69"/>
                  </a:lnTo>
                  <a:lnTo>
                    <a:pt x="132" y="48"/>
                  </a:lnTo>
                  <a:lnTo>
                    <a:pt x="165" y="31"/>
                  </a:lnTo>
                  <a:lnTo>
                    <a:pt x="197" y="14"/>
                  </a:lnTo>
                  <a:lnTo>
                    <a:pt x="231" y="0"/>
                  </a:lnTo>
                  <a:lnTo>
                    <a:pt x="272" y="3"/>
                  </a:lnTo>
                  <a:lnTo>
                    <a:pt x="311" y="13"/>
                  </a:lnTo>
                  <a:lnTo>
                    <a:pt x="348" y="29"/>
                  </a:lnTo>
                  <a:lnTo>
                    <a:pt x="381" y="52"/>
                  </a:lnTo>
                  <a:lnTo>
                    <a:pt x="411" y="77"/>
                  </a:lnTo>
                  <a:lnTo>
                    <a:pt x="439" y="108"/>
                  </a:lnTo>
                  <a:lnTo>
                    <a:pt x="460" y="141"/>
                  </a:lnTo>
                  <a:lnTo>
                    <a:pt x="480" y="177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517960" y="1552680"/>
              <a:ext cx="77040" cy="91440"/>
            </a:xfrm>
            <a:custGeom>
              <a:avLst/>
              <a:gdLst/>
              <a:ahLst/>
              <a:rect l="l" t="t" r="r" b="b"/>
              <a:pathLst>
                <a:path w="498" h="589">
                  <a:moveTo>
                    <a:pt x="498" y="112"/>
                  </a:moveTo>
                  <a:lnTo>
                    <a:pt x="498" y="164"/>
                  </a:lnTo>
                  <a:lnTo>
                    <a:pt x="436" y="167"/>
                  </a:lnTo>
                  <a:lnTo>
                    <a:pt x="379" y="184"/>
                  </a:lnTo>
                  <a:lnTo>
                    <a:pt x="322" y="212"/>
                  </a:lnTo>
                  <a:lnTo>
                    <a:pt x="272" y="249"/>
                  </a:lnTo>
                  <a:lnTo>
                    <a:pt x="221" y="290"/>
                  </a:lnTo>
                  <a:lnTo>
                    <a:pt x="176" y="337"/>
                  </a:lnTo>
                  <a:lnTo>
                    <a:pt x="133" y="385"/>
                  </a:lnTo>
                  <a:lnTo>
                    <a:pt x="93" y="435"/>
                  </a:lnTo>
                  <a:lnTo>
                    <a:pt x="78" y="453"/>
                  </a:lnTo>
                  <a:lnTo>
                    <a:pt x="68" y="474"/>
                  </a:lnTo>
                  <a:lnTo>
                    <a:pt x="58" y="495"/>
                  </a:lnTo>
                  <a:lnTo>
                    <a:pt x="51" y="516"/>
                  </a:lnTo>
                  <a:lnTo>
                    <a:pt x="40" y="535"/>
                  </a:lnTo>
                  <a:lnTo>
                    <a:pt x="30" y="554"/>
                  </a:lnTo>
                  <a:lnTo>
                    <a:pt x="16" y="571"/>
                  </a:lnTo>
                  <a:lnTo>
                    <a:pt x="0" y="589"/>
                  </a:lnTo>
                  <a:lnTo>
                    <a:pt x="93" y="237"/>
                  </a:lnTo>
                  <a:lnTo>
                    <a:pt x="133" y="192"/>
                  </a:lnTo>
                  <a:lnTo>
                    <a:pt x="182" y="138"/>
                  </a:lnTo>
                  <a:lnTo>
                    <a:pt x="237" y="81"/>
                  </a:lnTo>
                  <a:lnTo>
                    <a:pt x="296" y="33"/>
                  </a:lnTo>
                  <a:lnTo>
                    <a:pt x="352" y="2"/>
                  </a:lnTo>
                  <a:lnTo>
                    <a:pt x="408" y="0"/>
                  </a:lnTo>
                  <a:lnTo>
                    <a:pt x="457" y="32"/>
                  </a:lnTo>
                  <a:lnTo>
                    <a:pt x="498" y="112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981920" y="1558440"/>
              <a:ext cx="71280" cy="70200"/>
            </a:xfrm>
            <a:custGeom>
              <a:avLst/>
              <a:gdLst/>
              <a:ahLst/>
              <a:rect l="l" t="t" r="r" b="b"/>
              <a:pathLst>
                <a:path w="459" h="452">
                  <a:moveTo>
                    <a:pt x="459" y="286"/>
                  </a:moveTo>
                  <a:lnTo>
                    <a:pt x="454" y="297"/>
                  </a:lnTo>
                  <a:lnTo>
                    <a:pt x="454" y="309"/>
                  </a:lnTo>
                  <a:lnTo>
                    <a:pt x="454" y="322"/>
                  </a:lnTo>
                  <a:lnTo>
                    <a:pt x="456" y="335"/>
                  </a:lnTo>
                  <a:lnTo>
                    <a:pt x="454" y="346"/>
                  </a:lnTo>
                  <a:lnTo>
                    <a:pt x="452" y="359"/>
                  </a:lnTo>
                  <a:lnTo>
                    <a:pt x="446" y="369"/>
                  </a:lnTo>
                  <a:lnTo>
                    <a:pt x="438" y="378"/>
                  </a:lnTo>
                  <a:lnTo>
                    <a:pt x="426" y="376"/>
                  </a:lnTo>
                  <a:lnTo>
                    <a:pt x="418" y="369"/>
                  </a:lnTo>
                  <a:lnTo>
                    <a:pt x="412" y="359"/>
                  </a:lnTo>
                  <a:lnTo>
                    <a:pt x="408" y="347"/>
                  </a:lnTo>
                  <a:lnTo>
                    <a:pt x="404" y="333"/>
                  </a:lnTo>
                  <a:lnTo>
                    <a:pt x="402" y="321"/>
                  </a:lnTo>
                  <a:lnTo>
                    <a:pt x="398" y="307"/>
                  </a:lnTo>
                  <a:lnTo>
                    <a:pt x="397" y="295"/>
                  </a:lnTo>
                  <a:lnTo>
                    <a:pt x="383" y="300"/>
                  </a:lnTo>
                  <a:lnTo>
                    <a:pt x="370" y="302"/>
                  </a:lnTo>
                  <a:lnTo>
                    <a:pt x="356" y="301"/>
                  </a:lnTo>
                  <a:lnTo>
                    <a:pt x="343" y="298"/>
                  </a:lnTo>
                  <a:lnTo>
                    <a:pt x="331" y="290"/>
                  </a:lnTo>
                  <a:lnTo>
                    <a:pt x="322" y="280"/>
                  </a:lnTo>
                  <a:lnTo>
                    <a:pt x="315" y="267"/>
                  </a:lnTo>
                  <a:lnTo>
                    <a:pt x="314" y="255"/>
                  </a:lnTo>
                  <a:lnTo>
                    <a:pt x="305" y="255"/>
                  </a:lnTo>
                  <a:lnTo>
                    <a:pt x="297" y="257"/>
                  </a:lnTo>
                  <a:lnTo>
                    <a:pt x="290" y="260"/>
                  </a:lnTo>
                  <a:lnTo>
                    <a:pt x="284" y="266"/>
                  </a:lnTo>
                  <a:lnTo>
                    <a:pt x="277" y="271"/>
                  </a:lnTo>
                  <a:lnTo>
                    <a:pt x="274" y="278"/>
                  </a:lnTo>
                  <a:lnTo>
                    <a:pt x="272" y="287"/>
                  </a:lnTo>
                  <a:lnTo>
                    <a:pt x="272" y="295"/>
                  </a:lnTo>
                  <a:lnTo>
                    <a:pt x="266" y="314"/>
                  </a:lnTo>
                  <a:lnTo>
                    <a:pt x="267" y="332"/>
                  </a:lnTo>
                  <a:lnTo>
                    <a:pt x="273" y="349"/>
                  </a:lnTo>
                  <a:lnTo>
                    <a:pt x="284" y="366"/>
                  </a:lnTo>
                  <a:lnTo>
                    <a:pt x="296" y="378"/>
                  </a:lnTo>
                  <a:lnTo>
                    <a:pt x="312" y="390"/>
                  </a:lnTo>
                  <a:lnTo>
                    <a:pt x="328" y="397"/>
                  </a:lnTo>
                  <a:lnTo>
                    <a:pt x="345" y="400"/>
                  </a:lnTo>
                  <a:lnTo>
                    <a:pt x="359" y="402"/>
                  </a:lnTo>
                  <a:lnTo>
                    <a:pt x="374" y="404"/>
                  </a:lnTo>
                  <a:lnTo>
                    <a:pt x="386" y="404"/>
                  </a:lnTo>
                  <a:lnTo>
                    <a:pt x="397" y="409"/>
                  </a:lnTo>
                  <a:lnTo>
                    <a:pt x="394" y="419"/>
                  </a:lnTo>
                  <a:lnTo>
                    <a:pt x="391" y="429"/>
                  </a:lnTo>
                  <a:lnTo>
                    <a:pt x="384" y="438"/>
                  </a:lnTo>
                  <a:lnTo>
                    <a:pt x="377" y="445"/>
                  </a:lnTo>
                  <a:lnTo>
                    <a:pt x="367" y="449"/>
                  </a:lnTo>
                  <a:lnTo>
                    <a:pt x="357" y="452"/>
                  </a:lnTo>
                  <a:lnTo>
                    <a:pt x="346" y="452"/>
                  </a:lnTo>
                  <a:lnTo>
                    <a:pt x="335" y="452"/>
                  </a:lnTo>
                  <a:lnTo>
                    <a:pt x="310" y="452"/>
                  </a:lnTo>
                  <a:lnTo>
                    <a:pt x="287" y="449"/>
                  </a:lnTo>
                  <a:lnTo>
                    <a:pt x="265" y="442"/>
                  </a:lnTo>
                  <a:lnTo>
                    <a:pt x="245" y="432"/>
                  </a:lnTo>
                  <a:lnTo>
                    <a:pt x="225" y="416"/>
                  </a:lnTo>
                  <a:lnTo>
                    <a:pt x="210" y="400"/>
                  </a:lnTo>
                  <a:lnTo>
                    <a:pt x="197" y="378"/>
                  </a:lnTo>
                  <a:lnTo>
                    <a:pt x="189" y="357"/>
                  </a:lnTo>
                  <a:lnTo>
                    <a:pt x="187" y="328"/>
                  </a:lnTo>
                  <a:lnTo>
                    <a:pt x="191" y="298"/>
                  </a:lnTo>
                  <a:lnTo>
                    <a:pt x="200" y="267"/>
                  </a:lnTo>
                  <a:lnTo>
                    <a:pt x="213" y="238"/>
                  </a:lnTo>
                  <a:lnTo>
                    <a:pt x="228" y="210"/>
                  </a:lnTo>
                  <a:lnTo>
                    <a:pt x="248" y="186"/>
                  </a:lnTo>
                  <a:lnTo>
                    <a:pt x="269" y="164"/>
                  </a:lnTo>
                  <a:lnTo>
                    <a:pt x="293" y="150"/>
                  </a:lnTo>
                  <a:lnTo>
                    <a:pt x="273" y="121"/>
                  </a:lnTo>
                  <a:lnTo>
                    <a:pt x="252" y="101"/>
                  </a:lnTo>
                  <a:lnTo>
                    <a:pt x="227" y="87"/>
                  </a:lnTo>
                  <a:lnTo>
                    <a:pt x="198" y="80"/>
                  </a:lnTo>
                  <a:lnTo>
                    <a:pt x="168" y="76"/>
                  </a:lnTo>
                  <a:lnTo>
                    <a:pt x="137" y="76"/>
                  </a:lnTo>
                  <a:lnTo>
                    <a:pt x="104" y="80"/>
                  </a:lnTo>
                  <a:lnTo>
                    <a:pt x="75" y="88"/>
                  </a:lnTo>
                  <a:lnTo>
                    <a:pt x="65" y="91"/>
                  </a:lnTo>
                  <a:lnTo>
                    <a:pt x="52" y="93"/>
                  </a:lnTo>
                  <a:lnTo>
                    <a:pt x="44" y="93"/>
                  </a:lnTo>
                  <a:lnTo>
                    <a:pt x="37" y="93"/>
                  </a:lnTo>
                  <a:lnTo>
                    <a:pt x="30" y="94"/>
                  </a:lnTo>
                  <a:lnTo>
                    <a:pt x="23" y="98"/>
                  </a:lnTo>
                  <a:lnTo>
                    <a:pt x="14" y="93"/>
                  </a:lnTo>
                  <a:lnTo>
                    <a:pt x="9" y="87"/>
                  </a:lnTo>
                  <a:lnTo>
                    <a:pt x="4" y="79"/>
                  </a:lnTo>
                  <a:lnTo>
                    <a:pt x="2" y="72"/>
                  </a:lnTo>
                  <a:lnTo>
                    <a:pt x="0" y="63"/>
                  </a:lnTo>
                  <a:lnTo>
                    <a:pt x="2" y="56"/>
                  </a:lnTo>
                  <a:lnTo>
                    <a:pt x="4" y="49"/>
                  </a:lnTo>
                  <a:lnTo>
                    <a:pt x="13" y="46"/>
                  </a:lnTo>
                  <a:lnTo>
                    <a:pt x="40" y="22"/>
                  </a:lnTo>
                  <a:lnTo>
                    <a:pt x="68" y="8"/>
                  </a:lnTo>
                  <a:lnTo>
                    <a:pt x="97" y="0"/>
                  </a:lnTo>
                  <a:lnTo>
                    <a:pt x="127" y="0"/>
                  </a:lnTo>
                  <a:lnTo>
                    <a:pt x="155" y="1"/>
                  </a:lnTo>
                  <a:lnTo>
                    <a:pt x="184" y="8"/>
                  </a:lnTo>
                  <a:lnTo>
                    <a:pt x="213" y="17"/>
                  </a:lnTo>
                  <a:lnTo>
                    <a:pt x="241" y="25"/>
                  </a:lnTo>
                  <a:lnTo>
                    <a:pt x="280" y="49"/>
                  </a:lnTo>
                  <a:lnTo>
                    <a:pt x="315" y="76"/>
                  </a:lnTo>
                  <a:lnTo>
                    <a:pt x="345" y="104"/>
                  </a:lnTo>
                  <a:lnTo>
                    <a:pt x="373" y="136"/>
                  </a:lnTo>
                  <a:lnTo>
                    <a:pt x="395" y="169"/>
                  </a:lnTo>
                  <a:lnTo>
                    <a:pt x="418" y="204"/>
                  </a:lnTo>
                  <a:lnTo>
                    <a:pt x="438" y="242"/>
                  </a:lnTo>
                  <a:lnTo>
                    <a:pt x="459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543160" y="1557360"/>
              <a:ext cx="7200" cy="396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5" y="31"/>
                  </a:moveTo>
                  <a:lnTo>
                    <a:pt x="0" y="17"/>
                  </a:lnTo>
                  <a:lnTo>
                    <a:pt x="1" y="13"/>
                  </a:lnTo>
                  <a:lnTo>
                    <a:pt x="5" y="10"/>
                  </a:lnTo>
                  <a:lnTo>
                    <a:pt x="14" y="11"/>
                  </a:lnTo>
                  <a:lnTo>
                    <a:pt x="22" y="11"/>
                  </a:lnTo>
                  <a:lnTo>
                    <a:pt x="32" y="11"/>
                  </a:lnTo>
                  <a:lnTo>
                    <a:pt x="40" y="7"/>
                  </a:lnTo>
                  <a:lnTo>
                    <a:pt x="47" y="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93840" y="1585080"/>
              <a:ext cx="101520" cy="124200"/>
            </a:xfrm>
            <a:custGeom>
              <a:avLst/>
              <a:gdLst/>
              <a:ahLst/>
              <a:rect l="l" t="t" r="r" b="b"/>
              <a:pathLst>
                <a:path w="654" h="798">
                  <a:moveTo>
                    <a:pt x="291" y="664"/>
                  </a:moveTo>
                  <a:lnTo>
                    <a:pt x="256" y="684"/>
                  </a:lnTo>
                  <a:lnTo>
                    <a:pt x="222" y="705"/>
                  </a:lnTo>
                  <a:lnTo>
                    <a:pt x="187" y="727"/>
                  </a:lnTo>
                  <a:lnTo>
                    <a:pt x="153" y="750"/>
                  </a:lnTo>
                  <a:lnTo>
                    <a:pt x="117" y="768"/>
                  </a:lnTo>
                  <a:lnTo>
                    <a:pt x="80" y="784"/>
                  </a:lnTo>
                  <a:lnTo>
                    <a:pt x="41" y="794"/>
                  </a:lnTo>
                  <a:lnTo>
                    <a:pt x="0" y="798"/>
                  </a:lnTo>
                  <a:lnTo>
                    <a:pt x="125" y="477"/>
                  </a:lnTo>
                  <a:lnTo>
                    <a:pt x="162" y="467"/>
                  </a:lnTo>
                  <a:lnTo>
                    <a:pt x="191" y="446"/>
                  </a:lnTo>
                  <a:lnTo>
                    <a:pt x="217" y="415"/>
                  </a:lnTo>
                  <a:lnTo>
                    <a:pt x="241" y="381"/>
                  </a:lnTo>
                  <a:lnTo>
                    <a:pt x="263" y="344"/>
                  </a:lnTo>
                  <a:lnTo>
                    <a:pt x="290" y="313"/>
                  </a:lnTo>
                  <a:lnTo>
                    <a:pt x="321" y="290"/>
                  </a:lnTo>
                  <a:lnTo>
                    <a:pt x="364" y="280"/>
                  </a:lnTo>
                  <a:lnTo>
                    <a:pt x="374" y="318"/>
                  </a:lnTo>
                  <a:lnTo>
                    <a:pt x="363" y="353"/>
                  </a:lnTo>
                  <a:lnTo>
                    <a:pt x="338" y="382"/>
                  </a:lnTo>
                  <a:lnTo>
                    <a:pt x="305" y="411"/>
                  </a:lnTo>
                  <a:lnTo>
                    <a:pt x="270" y="437"/>
                  </a:lnTo>
                  <a:lnTo>
                    <a:pt x="245" y="466"/>
                  </a:lnTo>
                  <a:lnTo>
                    <a:pt x="231" y="495"/>
                  </a:lnTo>
                  <a:lnTo>
                    <a:pt x="239" y="529"/>
                  </a:lnTo>
                  <a:lnTo>
                    <a:pt x="274" y="512"/>
                  </a:lnTo>
                  <a:lnTo>
                    <a:pt x="307" y="492"/>
                  </a:lnTo>
                  <a:lnTo>
                    <a:pt x="336" y="468"/>
                  </a:lnTo>
                  <a:lnTo>
                    <a:pt x="363" y="440"/>
                  </a:lnTo>
                  <a:lnTo>
                    <a:pt x="387" y="409"/>
                  </a:lnTo>
                  <a:lnTo>
                    <a:pt x="411" y="378"/>
                  </a:lnTo>
                  <a:lnTo>
                    <a:pt x="433" y="349"/>
                  </a:lnTo>
                  <a:lnTo>
                    <a:pt x="457" y="320"/>
                  </a:lnTo>
                  <a:lnTo>
                    <a:pt x="470" y="292"/>
                  </a:lnTo>
                  <a:lnTo>
                    <a:pt x="473" y="268"/>
                  </a:lnTo>
                  <a:lnTo>
                    <a:pt x="466" y="244"/>
                  </a:lnTo>
                  <a:lnTo>
                    <a:pt x="455" y="225"/>
                  </a:lnTo>
                  <a:lnTo>
                    <a:pt x="435" y="208"/>
                  </a:lnTo>
                  <a:lnTo>
                    <a:pt x="415" y="195"/>
                  </a:lnTo>
                  <a:lnTo>
                    <a:pt x="394" y="187"/>
                  </a:lnTo>
                  <a:lnTo>
                    <a:pt x="374" y="185"/>
                  </a:lnTo>
                  <a:lnTo>
                    <a:pt x="400" y="147"/>
                  </a:lnTo>
                  <a:lnTo>
                    <a:pt x="429" y="118"/>
                  </a:lnTo>
                  <a:lnTo>
                    <a:pt x="462" y="91"/>
                  </a:lnTo>
                  <a:lnTo>
                    <a:pt x="498" y="68"/>
                  </a:lnTo>
                  <a:lnTo>
                    <a:pt x="535" y="47"/>
                  </a:lnTo>
                  <a:lnTo>
                    <a:pt x="574" y="30"/>
                  </a:lnTo>
                  <a:lnTo>
                    <a:pt x="613" y="14"/>
                  </a:lnTo>
                  <a:lnTo>
                    <a:pt x="654" y="0"/>
                  </a:lnTo>
                  <a:lnTo>
                    <a:pt x="653" y="95"/>
                  </a:lnTo>
                  <a:lnTo>
                    <a:pt x="639" y="190"/>
                  </a:lnTo>
                  <a:lnTo>
                    <a:pt x="611" y="281"/>
                  </a:lnTo>
                  <a:lnTo>
                    <a:pt x="570" y="370"/>
                  </a:lnTo>
                  <a:lnTo>
                    <a:pt x="515" y="451"/>
                  </a:lnTo>
                  <a:lnTo>
                    <a:pt x="452" y="529"/>
                  </a:lnTo>
                  <a:lnTo>
                    <a:pt x="376" y="601"/>
                  </a:lnTo>
                  <a:lnTo>
                    <a:pt x="291" y="66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144280" y="1680840"/>
              <a:ext cx="282600" cy="89640"/>
            </a:xfrm>
            <a:custGeom>
              <a:avLst/>
              <a:gdLst/>
              <a:ahLst/>
              <a:rect l="l" t="t" r="r" b="b"/>
              <a:pathLst>
                <a:path w="1816" h="574">
                  <a:moveTo>
                    <a:pt x="1407" y="552"/>
                  </a:moveTo>
                  <a:lnTo>
                    <a:pt x="1552" y="542"/>
                  </a:lnTo>
                  <a:lnTo>
                    <a:pt x="1547" y="487"/>
                  </a:lnTo>
                  <a:lnTo>
                    <a:pt x="1529" y="433"/>
                  </a:lnTo>
                  <a:lnTo>
                    <a:pt x="1503" y="380"/>
                  </a:lnTo>
                  <a:lnTo>
                    <a:pt x="1464" y="328"/>
                  </a:lnTo>
                  <a:lnTo>
                    <a:pt x="1416" y="277"/>
                  </a:lnTo>
                  <a:lnTo>
                    <a:pt x="1360" y="227"/>
                  </a:lnTo>
                  <a:lnTo>
                    <a:pt x="1297" y="179"/>
                  </a:lnTo>
                  <a:lnTo>
                    <a:pt x="1224" y="132"/>
                  </a:lnTo>
                  <a:lnTo>
                    <a:pt x="1027" y="358"/>
                  </a:lnTo>
                  <a:lnTo>
                    <a:pt x="974" y="55"/>
                  </a:lnTo>
                  <a:lnTo>
                    <a:pt x="882" y="44"/>
                  </a:lnTo>
                  <a:lnTo>
                    <a:pt x="790" y="43"/>
                  </a:lnTo>
                  <a:lnTo>
                    <a:pt x="707" y="358"/>
                  </a:lnTo>
                  <a:lnTo>
                    <a:pt x="521" y="82"/>
                  </a:lnTo>
                  <a:lnTo>
                    <a:pt x="452" y="108"/>
                  </a:lnTo>
                  <a:lnTo>
                    <a:pt x="387" y="136"/>
                  </a:lnTo>
                  <a:lnTo>
                    <a:pt x="327" y="169"/>
                  </a:lnTo>
                  <a:lnTo>
                    <a:pt x="269" y="205"/>
                  </a:lnTo>
                  <a:lnTo>
                    <a:pt x="221" y="245"/>
                  </a:lnTo>
                  <a:lnTo>
                    <a:pt x="176" y="285"/>
                  </a:lnTo>
                  <a:lnTo>
                    <a:pt x="139" y="329"/>
                  </a:lnTo>
                  <a:lnTo>
                    <a:pt x="106" y="371"/>
                  </a:lnTo>
                  <a:lnTo>
                    <a:pt x="138" y="393"/>
                  </a:lnTo>
                  <a:lnTo>
                    <a:pt x="148" y="389"/>
                  </a:lnTo>
                  <a:lnTo>
                    <a:pt x="159" y="389"/>
                  </a:lnTo>
                  <a:lnTo>
                    <a:pt x="170" y="392"/>
                  </a:lnTo>
                  <a:lnTo>
                    <a:pt x="179" y="390"/>
                  </a:lnTo>
                  <a:lnTo>
                    <a:pt x="184" y="395"/>
                  </a:lnTo>
                  <a:lnTo>
                    <a:pt x="188" y="400"/>
                  </a:lnTo>
                  <a:lnTo>
                    <a:pt x="194" y="403"/>
                  </a:lnTo>
                  <a:lnTo>
                    <a:pt x="197" y="408"/>
                  </a:lnTo>
                  <a:lnTo>
                    <a:pt x="206" y="416"/>
                  </a:lnTo>
                  <a:lnTo>
                    <a:pt x="207" y="424"/>
                  </a:lnTo>
                  <a:lnTo>
                    <a:pt x="189" y="434"/>
                  </a:lnTo>
                  <a:lnTo>
                    <a:pt x="167" y="440"/>
                  </a:lnTo>
                  <a:lnTo>
                    <a:pt x="146" y="443"/>
                  </a:lnTo>
                  <a:lnTo>
                    <a:pt x="124" y="442"/>
                  </a:lnTo>
                  <a:lnTo>
                    <a:pt x="104" y="440"/>
                  </a:lnTo>
                  <a:lnTo>
                    <a:pt x="83" y="435"/>
                  </a:lnTo>
                  <a:lnTo>
                    <a:pt x="63" y="429"/>
                  </a:lnTo>
                  <a:lnTo>
                    <a:pt x="42" y="420"/>
                  </a:lnTo>
                  <a:lnTo>
                    <a:pt x="27" y="411"/>
                  </a:lnTo>
                  <a:lnTo>
                    <a:pt x="15" y="398"/>
                  </a:lnTo>
                  <a:lnTo>
                    <a:pt x="7" y="386"/>
                  </a:lnTo>
                  <a:lnTo>
                    <a:pt x="1" y="370"/>
                  </a:lnTo>
                  <a:lnTo>
                    <a:pt x="1" y="356"/>
                  </a:lnTo>
                  <a:lnTo>
                    <a:pt x="0" y="340"/>
                  </a:lnTo>
                  <a:lnTo>
                    <a:pt x="4" y="326"/>
                  </a:lnTo>
                  <a:lnTo>
                    <a:pt x="8" y="313"/>
                  </a:lnTo>
                  <a:lnTo>
                    <a:pt x="59" y="336"/>
                  </a:lnTo>
                  <a:lnTo>
                    <a:pt x="120" y="261"/>
                  </a:lnTo>
                  <a:lnTo>
                    <a:pt x="206" y="192"/>
                  </a:lnTo>
                  <a:lnTo>
                    <a:pt x="311" y="133"/>
                  </a:lnTo>
                  <a:lnTo>
                    <a:pt x="429" y="84"/>
                  </a:lnTo>
                  <a:lnTo>
                    <a:pt x="562" y="46"/>
                  </a:lnTo>
                  <a:lnTo>
                    <a:pt x="700" y="17"/>
                  </a:lnTo>
                  <a:lnTo>
                    <a:pt x="842" y="4"/>
                  </a:lnTo>
                  <a:lnTo>
                    <a:pt x="982" y="0"/>
                  </a:lnTo>
                  <a:lnTo>
                    <a:pt x="1071" y="26"/>
                  </a:lnTo>
                  <a:lnTo>
                    <a:pt x="1155" y="54"/>
                  </a:lnTo>
                  <a:lnTo>
                    <a:pt x="1239" y="86"/>
                  </a:lnTo>
                  <a:lnTo>
                    <a:pt x="1314" y="122"/>
                  </a:lnTo>
                  <a:lnTo>
                    <a:pt x="1388" y="165"/>
                  </a:lnTo>
                  <a:lnTo>
                    <a:pt x="1451" y="211"/>
                  </a:lnTo>
                  <a:lnTo>
                    <a:pt x="1509" y="263"/>
                  </a:lnTo>
                  <a:lnTo>
                    <a:pt x="1557" y="318"/>
                  </a:lnTo>
                  <a:lnTo>
                    <a:pt x="1637" y="500"/>
                  </a:lnTo>
                  <a:lnTo>
                    <a:pt x="1665" y="499"/>
                  </a:lnTo>
                  <a:lnTo>
                    <a:pt x="1686" y="488"/>
                  </a:lnTo>
                  <a:lnTo>
                    <a:pt x="1707" y="475"/>
                  </a:lnTo>
                  <a:lnTo>
                    <a:pt x="1725" y="461"/>
                  </a:lnTo>
                  <a:lnTo>
                    <a:pt x="1745" y="450"/>
                  </a:lnTo>
                  <a:lnTo>
                    <a:pt x="1767" y="443"/>
                  </a:lnTo>
                  <a:lnTo>
                    <a:pt x="1790" y="446"/>
                  </a:lnTo>
                  <a:lnTo>
                    <a:pt x="1816" y="459"/>
                  </a:lnTo>
                  <a:lnTo>
                    <a:pt x="1780" y="483"/>
                  </a:lnTo>
                  <a:lnTo>
                    <a:pt x="1737" y="504"/>
                  </a:lnTo>
                  <a:lnTo>
                    <a:pt x="1693" y="526"/>
                  </a:lnTo>
                  <a:lnTo>
                    <a:pt x="1644" y="543"/>
                  </a:lnTo>
                  <a:lnTo>
                    <a:pt x="1594" y="559"/>
                  </a:lnTo>
                  <a:lnTo>
                    <a:pt x="1539" y="568"/>
                  </a:lnTo>
                  <a:lnTo>
                    <a:pt x="1483" y="574"/>
                  </a:lnTo>
                  <a:lnTo>
                    <a:pt x="1424" y="573"/>
                  </a:lnTo>
                  <a:lnTo>
                    <a:pt x="1407" y="5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02600" y="1807560"/>
              <a:ext cx="122040" cy="32400"/>
            </a:xfrm>
            <a:custGeom>
              <a:avLst/>
              <a:gdLst/>
              <a:ahLst/>
              <a:rect l="l" t="t" r="r" b="b"/>
              <a:pathLst>
                <a:path w="787" h="207">
                  <a:moveTo>
                    <a:pt x="778" y="62"/>
                  </a:moveTo>
                  <a:lnTo>
                    <a:pt x="787" y="72"/>
                  </a:lnTo>
                  <a:lnTo>
                    <a:pt x="761" y="109"/>
                  </a:lnTo>
                  <a:lnTo>
                    <a:pt x="730" y="138"/>
                  </a:lnTo>
                  <a:lnTo>
                    <a:pt x="693" y="160"/>
                  </a:lnTo>
                  <a:lnTo>
                    <a:pt x="655" y="178"/>
                  </a:lnTo>
                  <a:lnTo>
                    <a:pt x="613" y="188"/>
                  </a:lnTo>
                  <a:lnTo>
                    <a:pt x="572" y="196"/>
                  </a:lnTo>
                  <a:lnTo>
                    <a:pt x="529" y="202"/>
                  </a:lnTo>
                  <a:lnTo>
                    <a:pt x="486" y="207"/>
                  </a:lnTo>
                  <a:lnTo>
                    <a:pt x="415" y="203"/>
                  </a:lnTo>
                  <a:lnTo>
                    <a:pt x="346" y="196"/>
                  </a:lnTo>
                  <a:lnTo>
                    <a:pt x="278" y="182"/>
                  </a:lnTo>
                  <a:lnTo>
                    <a:pt x="215" y="162"/>
                  </a:lnTo>
                  <a:lnTo>
                    <a:pt x="153" y="134"/>
                  </a:lnTo>
                  <a:lnTo>
                    <a:pt x="97" y="100"/>
                  </a:lnTo>
                  <a:lnTo>
                    <a:pt x="45" y="6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91" y="45"/>
                  </a:lnTo>
                  <a:lnTo>
                    <a:pt x="184" y="86"/>
                  </a:lnTo>
                  <a:lnTo>
                    <a:pt x="282" y="119"/>
                  </a:lnTo>
                  <a:lnTo>
                    <a:pt x="385" y="143"/>
                  </a:lnTo>
                  <a:lnTo>
                    <a:pt x="486" y="151"/>
                  </a:lnTo>
                  <a:lnTo>
                    <a:pt x="589" y="143"/>
                  </a:lnTo>
                  <a:lnTo>
                    <a:pt x="686" y="114"/>
                  </a:lnTo>
                  <a:lnTo>
                    <a:pt x="778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83080" y="1920240"/>
              <a:ext cx="317880" cy="127080"/>
            </a:xfrm>
            <a:custGeom>
              <a:avLst/>
              <a:gdLst/>
              <a:ahLst/>
              <a:rect l="l" t="t" r="r" b="b"/>
              <a:pathLst>
                <a:path w="2044" h="818">
                  <a:moveTo>
                    <a:pt x="234" y="28"/>
                  </a:moveTo>
                  <a:lnTo>
                    <a:pt x="318" y="43"/>
                  </a:lnTo>
                  <a:lnTo>
                    <a:pt x="404" y="63"/>
                  </a:lnTo>
                  <a:lnTo>
                    <a:pt x="487" y="87"/>
                  </a:lnTo>
                  <a:lnTo>
                    <a:pt x="571" y="117"/>
                  </a:lnTo>
                  <a:lnTo>
                    <a:pt x="650" y="149"/>
                  </a:lnTo>
                  <a:lnTo>
                    <a:pt x="729" y="191"/>
                  </a:lnTo>
                  <a:lnTo>
                    <a:pt x="805" y="239"/>
                  </a:lnTo>
                  <a:lnTo>
                    <a:pt x="878" y="298"/>
                  </a:lnTo>
                  <a:lnTo>
                    <a:pt x="945" y="262"/>
                  </a:lnTo>
                  <a:lnTo>
                    <a:pt x="1018" y="243"/>
                  </a:lnTo>
                  <a:lnTo>
                    <a:pt x="1093" y="235"/>
                  </a:lnTo>
                  <a:lnTo>
                    <a:pt x="1170" y="231"/>
                  </a:lnTo>
                  <a:lnTo>
                    <a:pt x="1245" y="224"/>
                  </a:lnTo>
                  <a:lnTo>
                    <a:pt x="1317" y="209"/>
                  </a:lnTo>
                  <a:lnTo>
                    <a:pt x="1384" y="181"/>
                  </a:lnTo>
                  <a:lnTo>
                    <a:pt x="1447" y="132"/>
                  </a:lnTo>
                  <a:lnTo>
                    <a:pt x="1506" y="110"/>
                  </a:lnTo>
                  <a:lnTo>
                    <a:pt x="1570" y="91"/>
                  </a:lnTo>
                  <a:lnTo>
                    <a:pt x="1634" y="76"/>
                  </a:lnTo>
                  <a:lnTo>
                    <a:pt x="1702" y="64"/>
                  </a:lnTo>
                  <a:lnTo>
                    <a:pt x="1767" y="52"/>
                  </a:lnTo>
                  <a:lnTo>
                    <a:pt x="1831" y="43"/>
                  </a:lnTo>
                  <a:lnTo>
                    <a:pt x="1895" y="35"/>
                  </a:lnTo>
                  <a:lnTo>
                    <a:pt x="1957" y="28"/>
                  </a:lnTo>
                  <a:lnTo>
                    <a:pt x="2007" y="87"/>
                  </a:lnTo>
                  <a:lnTo>
                    <a:pt x="2035" y="157"/>
                  </a:lnTo>
                  <a:lnTo>
                    <a:pt x="2044" y="233"/>
                  </a:lnTo>
                  <a:lnTo>
                    <a:pt x="2041" y="316"/>
                  </a:lnTo>
                  <a:lnTo>
                    <a:pt x="2030" y="400"/>
                  </a:lnTo>
                  <a:lnTo>
                    <a:pt x="2020" y="485"/>
                  </a:lnTo>
                  <a:lnTo>
                    <a:pt x="2013" y="570"/>
                  </a:lnTo>
                  <a:lnTo>
                    <a:pt x="2018" y="652"/>
                  </a:lnTo>
                  <a:lnTo>
                    <a:pt x="1938" y="694"/>
                  </a:lnTo>
                  <a:lnTo>
                    <a:pt x="1857" y="708"/>
                  </a:lnTo>
                  <a:lnTo>
                    <a:pt x="1771" y="698"/>
                  </a:lnTo>
                  <a:lnTo>
                    <a:pt x="1687" y="675"/>
                  </a:lnTo>
                  <a:lnTo>
                    <a:pt x="1598" y="645"/>
                  </a:lnTo>
                  <a:lnTo>
                    <a:pt x="1511" y="616"/>
                  </a:lnTo>
                  <a:lnTo>
                    <a:pt x="1422" y="598"/>
                  </a:lnTo>
                  <a:lnTo>
                    <a:pt x="1333" y="599"/>
                  </a:lnTo>
                  <a:lnTo>
                    <a:pt x="1283" y="592"/>
                  </a:lnTo>
                  <a:lnTo>
                    <a:pt x="1232" y="594"/>
                  </a:lnTo>
                  <a:lnTo>
                    <a:pt x="1182" y="601"/>
                  </a:lnTo>
                  <a:lnTo>
                    <a:pt x="1131" y="611"/>
                  </a:lnTo>
                  <a:lnTo>
                    <a:pt x="1080" y="618"/>
                  </a:lnTo>
                  <a:lnTo>
                    <a:pt x="1030" y="621"/>
                  </a:lnTo>
                  <a:lnTo>
                    <a:pt x="979" y="615"/>
                  </a:lnTo>
                  <a:lnTo>
                    <a:pt x="930" y="599"/>
                  </a:lnTo>
                  <a:lnTo>
                    <a:pt x="888" y="547"/>
                  </a:lnTo>
                  <a:lnTo>
                    <a:pt x="778" y="564"/>
                  </a:lnTo>
                  <a:lnTo>
                    <a:pt x="677" y="605"/>
                  </a:lnTo>
                  <a:lnTo>
                    <a:pt x="580" y="659"/>
                  </a:lnTo>
                  <a:lnTo>
                    <a:pt x="487" y="718"/>
                  </a:lnTo>
                  <a:lnTo>
                    <a:pt x="391" y="770"/>
                  </a:lnTo>
                  <a:lnTo>
                    <a:pt x="293" y="806"/>
                  </a:lnTo>
                  <a:lnTo>
                    <a:pt x="190" y="818"/>
                  </a:lnTo>
                  <a:lnTo>
                    <a:pt x="79" y="797"/>
                  </a:lnTo>
                  <a:lnTo>
                    <a:pt x="34" y="711"/>
                  </a:lnTo>
                  <a:lnTo>
                    <a:pt x="10" y="621"/>
                  </a:lnTo>
                  <a:lnTo>
                    <a:pt x="0" y="526"/>
                  </a:lnTo>
                  <a:lnTo>
                    <a:pt x="3" y="431"/>
                  </a:lnTo>
                  <a:lnTo>
                    <a:pt x="10" y="332"/>
                  </a:lnTo>
                  <a:lnTo>
                    <a:pt x="21" y="235"/>
                  </a:lnTo>
                  <a:lnTo>
                    <a:pt x="31" y="139"/>
                  </a:lnTo>
                  <a:lnTo>
                    <a:pt x="37" y="49"/>
                  </a:lnTo>
                  <a:lnTo>
                    <a:pt x="53" y="32"/>
                  </a:lnTo>
                  <a:lnTo>
                    <a:pt x="77" y="19"/>
                  </a:lnTo>
                  <a:lnTo>
                    <a:pt x="103" y="8"/>
                  </a:lnTo>
                  <a:lnTo>
                    <a:pt x="131" y="3"/>
                  </a:lnTo>
                  <a:lnTo>
                    <a:pt x="158" y="0"/>
                  </a:lnTo>
                  <a:lnTo>
                    <a:pt x="186" y="3"/>
                  </a:lnTo>
                  <a:lnTo>
                    <a:pt x="211" y="11"/>
                  </a:lnTo>
                  <a:lnTo>
                    <a:pt x="23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095320" y="1931040"/>
              <a:ext cx="119160" cy="106560"/>
            </a:xfrm>
            <a:custGeom>
              <a:avLst/>
              <a:gdLst/>
              <a:ahLst/>
              <a:rect l="l" t="t" r="r" b="b"/>
              <a:pathLst>
                <a:path w="768" h="686">
                  <a:moveTo>
                    <a:pt x="757" y="290"/>
                  </a:moveTo>
                  <a:lnTo>
                    <a:pt x="692" y="269"/>
                  </a:lnTo>
                  <a:lnTo>
                    <a:pt x="621" y="255"/>
                  </a:lnTo>
                  <a:lnTo>
                    <a:pt x="544" y="245"/>
                  </a:lnTo>
                  <a:lnTo>
                    <a:pt x="465" y="244"/>
                  </a:lnTo>
                  <a:lnTo>
                    <a:pt x="384" y="245"/>
                  </a:lnTo>
                  <a:lnTo>
                    <a:pt x="305" y="255"/>
                  </a:lnTo>
                  <a:lnTo>
                    <a:pt x="230" y="269"/>
                  </a:lnTo>
                  <a:lnTo>
                    <a:pt x="166" y="290"/>
                  </a:lnTo>
                  <a:lnTo>
                    <a:pt x="166" y="311"/>
                  </a:lnTo>
                  <a:lnTo>
                    <a:pt x="242" y="314"/>
                  </a:lnTo>
                  <a:lnTo>
                    <a:pt x="322" y="313"/>
                  </a:lnTo>
                  <a:lnTo>
                    <a:pt x="403" y="308"/>
                  </a:lnTo>
                  <a:lnTo>
                    <a:pt x="485" y="310"/>
                  </a:lnTo>
                  <a:lnTo>
                    <a:pt x="564" y="315"/>
                  </a:lnTo>
                  <a:lnTo>
                    <a:pt x="638" y="335"/>
                  </a:lnTo>
                  <a:lnTo>
                    <a:pt x="707" y="369"/>
                  </a:lnTo>
                  <a:lnTo>
                    <a:pt x="768" y="425"/>
                  </a:lnTo>
                  <a:lnTo>
                    <a:pt x="683" y="439"/>
                  </a:lnTo>
                  <a:lnTo>
                    <a:pt x="606" y="468"/>
                  </a:lnTo>
                  <a:lnTo>
                    <a:pt x="533" y="504"/>
                  </a:lnTo>
                  <a:lnTo>
                    <a:pt x="463" y="546"/>
                  </a:lnTo>
                  <a:lnTo>
                    <a:pt x="389" y="589"/>
                  </a:lnTo>
                  <a:lnTo>
                    <a:pt x="318" y="629"/>
                  </a:lnTo>
                  <a:lnTo>
                    <a:pt x="243" y="662"/>
                  </a:lnTo>
                  <a:lnTo>
                    <a:pt x="166" y="686"/>
                  </a:lnTo>
                  <a:lnTo>
                    <a:pt x="132" y="682"/>
                  </a:lnTo>
                  <a:lnTo>
                    <a:pt x="104" y="670"/>
                  </a:lnTo>
                  <a:lnTo>
                    <a:pt x="79" y="653"/>
                  </a:lnTo>
                  <a:lnTo>
                    <a:pt x="60" y="634"/>
                  </a:lnTo>
                  <a:lnTo>
                    <a:pt x="42" y="608"/>
                  </a:lnTo>
                  <a:lnTo>
                    <a:pt x="28" y="580"/>
                  </a:lnTo>
                  <a:lnTo>
                    <a:pt x="17" y="549"/>
                  </a:lnTo>
                  <a:lnTo>
                    <a:pt x="10" y="520"/>
                  </a:lnTo>
                  <a:lnTo>
                    <a:pt x="1" y="452"/>
                  </a:lnTo>
                  <a:lnTo>
                    <a:pt x="0" y="387"/>
                  </a:lnTo>
                  <a:lnTo>
                    <a:pt x="3" y="323"/>
                  </a:lnTo>
                  <a:lnTo>
                    <a:pt x="11" y="259"/>
                  </a:lnTo>
                  <a:lnTo>
                    <a:pt x="18" y="194"/>
                  </a:lnTo>
                  <a:lnTo>
                    <a:pt x="27" y="130"/>
                  </a:lnTo>
                  <a:lnTo>
                    <a:pt x="31" y="65"/>
                  </a:lnTo>
                  <a:lnTo>
                    <a:pt x="31" y="0"/>
                  </a:lnTo>
                  <a:lnTo>
                    <a:pt x="132" y="10"/>
                  </a:lnTo>
                  <a:lnTo>
                    <a:pt x="232" y="28"/>
                  </a:lnTo>
                  <a:lnTo>
                    <a:pt x="328" y="52"/>
                  </a:lnTo>
                  <a:lnTo>
                    <a:pt x="420" y="86"/>
                  </a:lnTo>
                  <a:lnTo>
                    <a:pt x="509" y="124"/>
                  </a:lnTo>
                  <a:lnTo>
                    <a:pt x="595" y="172"/>
                  </a:lnTo>
                  <a:lnTo>
                    <a:pt x="676" y="227"/>
                  </a:lnTo>
                  <a:lnTo>
                    <a:pt x="757" y="29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276040" y="1936080"/>
              <a:ext cx="112680" cy="82440"/>
            </a:xfrm>
            <a:custGeom>
              <a:avLst/>
              <a:gdLst/>
              <a:ahLst/>
              <a:rect l="l" t="t" r="r" b="b"/>
              <a:pathLst>
                <a:path w="725" h="530">
                  <a:moveTo>
                    <a:pt x="725" y="110"/>
                  </a:moveTo>
                  <a:lnTo>
                    <a:pt x="725" y="504"/>
                  </a:lnTo>
                  <a:lnTo>
                    <a:pt x="652" y="527"/>
                  </a:lnTo>
                  <a:lnTo>
                    <a:pt x="582" y="530"/>
                  </a:lnTo>
                  <a:lnTo>
                    <a:pt x="513" y="517"/>
                  </a:lnTo>
                  <a:lnTo>
                    <a:pt x="446" y="497"/>
                  </a:lnTo>
                  <a:lnTo>
                    <a:pt x="377" y="471"/>
                  </a:lnTo>
                  <a:lnTo>
                    <a:pt x="308" y="447"/>
                  </a:lnTo>
                  <a:lnTo>
                    <a:pt x="237" y="427"/>
                  </a:lnTo>
                  <a:lnTo>
                    <a:pt x="166" y="421"/>
                  </a:lnTo>
                  <a:lnTo>
                    <a:pt x="0" y="411"/>
                  </a:lnTo>
                  <a:lnTo>
                    <a:pt x="9" y="307"/>
                  </a:lnTo>
                  <a:lnTo>
                    <a:pt x="24" y="323"/>
                  </a:lnTo>
                  <a:lnTo>
                    <a:pt x="45" y="326"/>
                  </a:lnTo>
                  <a:lnTo>
                    <a:pt x="69" y="318"/>
                  </a:lnTo>
                  <a:lnTo>
                    <a:pt x="98" y="309"/>
                  </a:lnTo>
                  <a:lnTo>
                    <a:pt x="129" y="292"/>
                  </a:lnTo>
                  <a:lnTo>
                    <a:pt x="161" y="276"/>
                  </a:lnTo>
                  <a:lnTo>
                    <a:pt x="194" y="262"/>
                  </a:lnTo>
                  <a:lnTo>
                    <a:pt x="227" y="255"/>
                  </a:lnTo>
                  <a:lnTo>
                    <a:pt x="243" y="257"/>
                  </a:lnTo>
                  <a:lnTo>
                    <a:pt x="263" y="257"/>
                  </a:lnTo>
                  <a:lnTo>
                    <a:pt x="282" y="254"/>
                  </a:lnTo>
                  <a:lnTo>
                    <a:pt x="303" y="249"/>
                  </a:lnTo>
                  <a:lnTo>
                    <a:pt x="322" y="242"/>
                  </a:lnTo>
                  <a:lnTo>
                    <a:pt x="341" y="234"/>
                  </a:lnTo>
                  <a:lnTo>
                    <a:pt x="358" y="224"/>
                  </a:lnTo>
                  <a:lnTo>
                    <a:pt x="372" y="214"/>
                  </a:lnTo>
                  <a:lnTo>
                    <a:pt x="319" y="204"/>
                  </a:lnTo>
                  <a:lnTo>
                    <a:pt x="270" y="203"/>
                  </a:lnTo>
                  <a:lnTo>
                    <a:pt x="222" y="204"/>
                  </a:lnTo>
                  <a:lnTo>
                    <a:pt x="178" y="213"/>
                  </a:lnTo>
                  <a:lnTo>
                    <a:pt x="135" y="224"/>
                  </a:lnTo>
                  <a:lnTo>
                    <a:pt x="92" y="240"/>
                  </a:lnTo>
                  <a:lnTo>
                    <a:pt x="50" y="255"/>
                  </a:lnTo>
                  <a:lnTo>
                    <a:pt x="9" y="276"/>
                  </a:lnTo>
                  <a:lnTo>
                    <a:pt x="4" y="237"/>
                  </a:lnTo>
                  <a:lnTo>
                    <a:pt x="11" y="207"/>
                  </a:lnTo>
                  <a:lnTo>
                    <a:pt x="26" y="183"/>
                  </a:lnTo>
                  <a:lnTo>
                    <a:pt x="52" y="165"/>
                  </a:lnTo>
                  <a:lnTo>
                    <a:pt x="78" y="147"/>
                  </a:lnTo>
                  <a:lnTo>
                    <a:pt x="109" y="133"/>
                  </a:lnTo>
                  <a:lnTo>
                    <a:pt x="139" y="117"/>
                  </a:lnTo>
                  <a:lnTo>
                    <a:pt x="166" y="100"/>
                  </a:lnTo>
                  <a:lnTo>
                    <a:pt x="232" y="76"/>
                  </a:lnTo>
                  <a:lnTo>
                    <a:pt x="306" y="50"/>
                  </a:lnTo>
                  <a:lnTo>
                    <a:pt x="384" y="24"/>
                  </a:lnTo>
                  <a:lnTo>
                    <a:pt x="464" y="7"/>
                  </a:lnTo>
                  <a:lnTo>
                    <a:pt x="540" y="0"/>
                  </a:lnTo>
                  <a:lnTo>
                    <a:pt x="611" y="13"/>
                  </a:lnTo>
                  <a:lnTo>
                    <a:pt x="673" y="47"/>
                  </a:lnTo>
                  <a:lnTo>
                    <a:pt x="725" y="11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24560" y="1965240"/>
              <a:ext cx="38520" cy="38160"/>
            </a:xfrm>
            <a:custGeom>
              <a:avLst/>
              <a:gdLst/>
              <a:ahLst/>
              <a:rect l="l" t="t" r="r" b="b"/>
              <a:pathLst>
                <a:path w="249" h="248">
                  <a:moveTo>
                    <a:pt x="249" y="10"/>
                  </a:moveTo>
                  <a:lnTo>
                    <a:pt x="247" y="41"/>
                  </a:lnTo>
                  <a:lnTo>
                    <a:pt x="247" y="74"/>
                  </a:lnTo>
                  <a:lnTo>
                    <a:pt x="244" y="106"/>
                  </a:lnTo>
                  <a:lnTo>
                    <a:pt x="240" y="140"/>
                  </a:lnTo>
                  <a:lnTo>
                    <a:pt x="232" y="168"/>
                  </a:lnTo>
                  <a:lnTo>
                    <a:pt x="222" y="196"/>
                  </a:lnTo>
                  <a:lnTo>
                    <a:pt x="206" y="219"/>
                  </a:lnTo>
                  <a:lnTo>
                    <a:pt x="187" y="238"/>
                  </a:lnTo>
                  <a:lnTo>
                    <a:pt x="166" y="244"/>
                  </a:lnTo>
                  <a:lnTo>
                    <a:pt x="146" y="248"/>
                  </a:lnTo>
                  <a:lnTo>
                    <a:pt x="125" y="248"/>
                  </a:lnTo>
                  <a:lnTo>
                    <a:pt x="107" y="247"/>
                  </a:lnTo>
                  <a:lnTo>
                    <a:pt x="88" y="238"/>
                  </a:lnTo>
                  <a:lnTo>
                    <a:pt x="73" y="227"/>
                  </a:lnTo>
                  <a:lnTo>
                    <a:pt x="60" y="209"/>
                  </a:lnTo>
                  <a:lnTo>
                    <a:pt x="52" y="186"/>
                  </a:lnTo>
                  <a:lnTo>
                    <a:pt x="0" y="52"/>
                  </a:lnTo>
                  <a:lnTo>
                    <a:pt x="29" y="41"/>
                  </a:lnTo>
                  <a:lnTo>
                    <a:pt x="62" y="31"/>
                  </a:lnTo>
                  <a:lnTo>
                    <a:pt x="91" y="20"/>
                  </a:lnTo>
                  <a:lnTo>
                    <a:pt x="123" y="12"/>
                  </a:lnTo>
                  <a:lnTo>
                    <a:pt x="154" y="3"/>
                  </a:lnTo>
                  <a:lnTo>
                    <a:pt x="185" y="0"/>
                  </a:lnTo>
                  <a:lnTo>
                    <a:pt x="216" y="0"/>
                  </a:lnTo>
                  <a:lnTo>
                    <a:pt x="249" y="1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41520" y="981000"/>
            <a:ext cx="3307680" cy="3014640"/>
            <a:chOff x="641520" y="981000"/>
            <a:chExt cx="3307680" cy="3014640"/>
          </a:xfrm>
        </p:grpSpPr>
        <p:sp>
          <p:nvSpPr>
            <p:cNvPr id="519" name=""/>
            <p:cNvSpPr/>
            <p:nvPr/>
          </p:nvSpPr>
          <p:spPr>
            <a:xfrm>
              <a:off x="641520" y="98100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73080" y="1030320"/>
              <a:ext cx="2124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60360" y="1069920"/>
              <a:ext cx="1821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42880" y="1127160"/>
              <a:ext cx="164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74760" y="1030320"/>
              <a:ext cx="2264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8400" y="106992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81280" y="1127160"/>
              <a:ext cx="1645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252600" y="1098360"/>
              <a:ext cx="1076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60600" y="1098360"/>
              <a:ext cx="1202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82640" y="1098360"/>
              <a:ext cx="1522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33480" y="1027080"/>
              <a:ext cx="152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1252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49320" y="1386000"/>
              <a:ext cx="21204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61720" y="1515960"/>
              <a:ext cx="7596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84120" y="138600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9508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63188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10960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46040" y="1370160"/>
              <a:ext cx="136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382840" y="1515960"/>
              <a:ext cx="75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503440" y="137016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63988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7632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41520" y="164772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449440" y="180180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49440" y="224640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49440" y="269244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449440" y="313704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49440" y="358308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1520" y="397836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9080" y="987480"/>
              <a:ext cx="3300120" cy="30081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539640" y="5084640"/>
            <a:ext cx="80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Arial"/>
              </a:rPr>
              <a:t>Sender-Security: one of the strings looks completely random to dishonest 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813720" y="3614760"/>
            <a:ext cx="2114280" cy="307800"/>
            <a:chOff x="6813720" y="3614760"/>
            <a:chExt cx="2114280" cy="307800"/>
          </a:xfrm>
        </p:grpSpPr>
        <p:sp>
          <p:nvSpPr>
            <p:cNvPr id="552" name=""/>
            <p:cNvSpPr/>
            <p:nvPr/>
          </p:nvSpPr>
          <p:spPr>
            <a:xfrm>
              <a:off x="6813720" y="3633840"/>
              <a:ext cx="257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172280" y="3714840"/>
              <a:ext cx="163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35720" y="3714840"/>
              <a:ext cx="1710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07080" y="3633840"/>
              <a:ext cx="1710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678440" y="3641760"/>
              <a:ext cx="856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62680" y="3657600"/>
              <a:ext cx="1202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83280" y="3714840"/>
              <a:ext cx="1220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07200" y="3681360"/>
              <a:ext cx="23940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111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432640" y="3714840"/>
              <a:ext cx="1854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18400" y="3616200"/>
              <a:ext cx="1537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004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772480" y="3648240"/>
              <a:ext cx="153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13720" y="3614760"/>
              <a:ext cx="2114280" cy="3078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411280" y="3789000"/>
            <a:ext cx="865080" cy="865440"/>
            <a:chOff x="2411280" y="3789000"/>
            <a:chExt cx="865080" cy="865440"/>
          </a:xfrm>
        </p:grpSpPr>
        <p:sp>
          <p:nvSpPr>
            <p:cNvPr id="565" name=""/>
            <p:cNvSpPr/>
            <p:nvPr/>
          </p:nvSpPr>
          <p:spPr>
            <a:xfrm>
              <a:off x="2555640" y="3933720"/>
              <a:ext cx="576360" cy="5763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11280" y="414972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2843280" y="3789000"/>
              <a:ext cx="21564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98480" y="4149720"/>
              <a:ext cx="505080" cy="50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2851200" y="4173120"/>
              <a:ext cx="1440" cy="459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649600" y="4401720"/>
              <a:ext cx="40320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Quantum Mechanics II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2" name=""/>
          <p:cNvSpPr/>
          <p:nvPr/>
        </p:nvSpPr>
        <p:spPr>
          <a:xfrm>
            <a:off x="900000" y="1027080"/>
            <a:ext cx="71928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1171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260360" y="1100160"/>
            <a:ext cx="0" cy="5745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971640" y="1387440"/>
            <a:ext cx="5760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00000" y="1844640"/>
            <a:ext cx="719280" cy="72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059480" y="2000520"/>
            <a:ext cx="405360" cy="4075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055520" y="2002680"/>
            <a:ext cx="408600" cy="4064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835280" y="1989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Arial"/>
              </a:rPr>
              <a:t>£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421080" y="1052640"/>
            <a:ext cx="719280" cy="720720"/>
            <a:chOff x="3421080" y="1052640"/>
            <a:chExt cx="719280" cy="720720"/>
          </a:xfrm>
        </p:grpSpPr>
        <p:sp>
          <p:nvSpPr>
            <p:cNvPr id="581" name=""/>
            <p:cNvSpPr/>
            <p:nvPr/>
          </p:nvSpPr>
          <p:spPr>
            <a:xfrm>
              <a:off x="3421080" y="1052640"/>
              <a:ext cx="719280" cy="72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92360" y="1413000"/>
              <a:ext cx="576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578560" y="1054080"/>
            <a:ext cx="718920" cy="720720"/>
            <a:chOff x="5578560" y="1054080"/>
            <a:chExt cx="718920" cy="720720"/>
          </a:xfrm>
        </p:grpSpPr>
        <p:sp>
          <p:nvSpPr>
            <p:cNvPr id="584" name=""/>
            <p:cNvSpPr/>
            <p:nvPr/>
          </p:nvSpPr>
          <p:spPr>
            <a:xfrm>
              <a:off x="5578560" y="1054080"/>
              <a:ext cx="718920" cy="72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5940360" y="1125000"/>
              <a:ext cx="0" cy="574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3419640" y="1844640"/>
            <a:ext cx="718920" cy="720720"/>
            <a:chOff x="3419640" y="1844640"/>
            <a:chExt cx="718920" cy="720720"/>
          </a:xfrm>
        </p:grpSpPr>
        <p:sp>
          <p:nvSpPr>
            <p:cNvPr id="587" name=""/>
            <p:cNvSpPr/>
            <p:nvPr/>
          </p:nvSpPr>
          <p:spPr>
            <a:xfrm>
              <a:off x="3419640" y="1844640"/>
              <a:ext cx="718920" cy="72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578760" y="2000520"/>
              <a:ext cx="405360" cy="4075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580000" y="1844640"/>
            <a:ext cx="719280" cy="720720"/>
            <a:chOff x="5580000" y="1844640"/>
            <a:chExt cx="719280" cy="720720"/>
          </a:xfrm>
        </p:grpSpPr>
        <p:sp>
          <p:nvSpPr>
            <p:cNvPr id="590" name=""/>
            <p:cNvSpPr/>
            <p:nvPr/>
          </p:nvSpPr>
          <p:spPr>
            <a:xfrm>
              <a:off x="5580000" y="1844640"/>
              <a:ext cx="719280" cy="72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735520" y="2002680"/>
              <a:ext cx="408600" cy="4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427640" y="1198440"/>
            <a:ext cx="647640" cy="412920"/>
            <a:chOff x="4427640" y="1198440"/>
            <a:chExt cx="647640" cy="412920"/>
          </a:xfrm>
        </p:grpSpPr>
        <p:sp>
          <p:nvSpPr>
            <p:cNvPr id="593" name=""/>
            <p:cNvSpPr/>
            <p:nvPr/>
          </p:nvSpPr>
          <p:spPr>
            <a:xfrm>
              <a:off x="4427640" y="119988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529160" y="123804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709880" y="119988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51360" y="1422360"/>
              <a:ext cx="2239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r7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27640" y="1198440"/>
              <a:ext cx="64764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6659640" y="1270080"/>
            <a:ext cx="647640" cy="412560"/>
            <a:chOff x="6659640" y="1270080"/>
            <a:chExt cx="647640" cy="412560"/>
          </a:xfrm>
        </p:grpSpPr>
        <p:sp>
          <p:nvSpPr>
            <p:cNvPr id="599" name=""/>
            <p:cNvSpPr/>
            <p:nvPr/>
          </p:nvSpPr>
          <p:spPr>
            <a:xfrm>
              <a:off x="6659640" y="1271160"/>
              <a:ext cx="1015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761160" y="1309320"/>
              <a:ext cx="18072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29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41880" y="1271160"/>
              <a:ext cx="1414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3360" y="1493640"/>
              <a:ext cx="223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600" bIns="29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r7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59640" y="1270080"/>
              <a:ext cx="647640" cy="412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6659640" y="2062080"/>
            <a:ext cx="650880" cy="412920"/>
            <a:chOff x="6659640" y="2062080"/>
            <a:chExt cx="650880" cy="412920"/>
          </a:xfrm>
        </p:grpSpPr>
        <p:sp>
          <p:nvSpPr>
            <p:cNvPr id="605" name=""/>
            <p:cNvSpPr/>
            <p:nvPr/>
          </p:nvSpPr>
          <p:spPr>
            <a:xfrm>
              <a:off x="6659640" y="206352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61160" y="210168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41880" y="206352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083360" y="2286000"/>
              <a:ext cx="227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sy7"/>
                  <a:ea typeface="Arial"/>
                </a:rPr>
                <a:t>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59640" y="2062080"/>
              <a:ext cx="65088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4427640" y="1989000"/>
            <a:ext cx="650880" cy="412920"/>
            <a:chOff x="4427640" y="1989000"/>
            <a:chExt cx="650880" cy="412920"/>
          </a:xfrm>
        </p:grpSpPr>
        <p:sp>
          <p:nvSpPr>
            <p:cNvPr id="611" name=""/>
            <p:cNvSpPr/>
            <p:nvPr/>
          </p:nvSpPr>
          <p:spPr>
            <a:xfrm>
              <a:off x="4427640" y="199044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29160" y="202860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709880" y="199044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851360" y="2212920"/>
              <a:ext cx="227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sy7"/>
                  <a:ea typeface="Arial"/>
                </a:rPr>
                <a:t>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7640" y="1989000"/>
              <a:ext cx="65088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826920" y="3716280"/>
            <a:ext cx="1008360" cy="18734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54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409840" y="3716280"/>
            <a:ext cx="86508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971640" y="3860640"/>
            <a:ext cx="71892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332000" y="3933360"/>
            <a:ext cx="0" cy="5749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042920" y="422100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1127520" y="4016520"/>
            <a:ext cx="405720" cy="4075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123920" y="4018680"/>
            <a:ext cx="408600" cy="4064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1763280" y="4219560"/>
            <a:ext cx="647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3276720" y="422100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1763280" y="508464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4360" y="299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PR pai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348000" y="321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. ½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219640" y="3213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. ½ 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4642920" y="4581360"/>
            <a:ext cx="4032360" cy="1028520"/>
            <a:chOff x="4642920" y="4581360"/>
            <a:chExt cx="4032360" cy="1028520"/>
          </a:xfrm>
        </p:grpSpPr>
        <p:grpSp>
          <p:nvGrpSpPr>
            <p:cNvPr id="630" name=""/>
            <p:cNvGrpSpPr/>
            <p:nvPr/>
          </p:nvGrpSpPr>
          <p:grpSpPr>
            <a:xfrm>
              <a:off x="5362200" y="4654080"/>
              <a:ext cx="865080" cy="955800"/>
              <a:chOff x="5362200" y="4654080"/>
              <a:chExt cx="865080" cy="955800"/>
            </a:xfrm>
          </p:grpSpPr>
          <p:sp>
            <p:nvSpPr>
              <p:cNvPr id="631" name=""/>
              <p:cNvSpPr/>
              <p:nvPr/>
            </p:nvSpPr>
            <p:spPr>
              <a:xfrm>
                <a:off x="5506560" y="4798800"/>
                <a:ext cx="576360" cy="57636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362200" y="5014800"/>
                <a:ext cx="86508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793840" y="4654080"/>
                <a:ext cx="21600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5427360" y="4896000"/>
                <a:ext cx="713520" cy="713880"/>
                <a:chOff x="5427360" y="4896000"/>
                <a:chExt cx="713520" cy="713880"/>
              </a:xfrm>
            </p:grpSpPr>
            <p:sp>
              <p:nvSpPr>
                <p:cNvPr id="635" name=""/>
                <p:cNvSpPr/>
                <p:nvPr/>
              </p:nvSpPr>
              <p:spPr>
                <a:xfrm rot="2700000">
                  <a:off x="5531760" y="5000400"/>
                  <a:ext cx="504720" cy="504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5649840" y="5089680"/>
                  <a:ext cx="294120" cy="294120"/>
                </a:xfrm>
                <a:prstGeom prst="line">
                  <a:avLst/>
                </a:prstGeom>
                <a:ln w="4428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H="1" flipV="1">
                  <a:off x="5620680" y="5090040"/>
                  <a:ext cx="304560" cy="295200"/>
                </a:xfrm>
                <a:prstGeom prst="line">
                  <a:avLst/>
                </a:prstGeom>
                <a:ln w="4428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5362200" y="4581360"/>
              <a:ext cx="865080" cy="1008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642920" y="5086080"/>
              <a:ext cx="71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6226920" y="5086080"/>
              <a:ext cx="57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75280" y="4654440"/>
              <a:ext cx="18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. ½ : 0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. ½ :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696920" y="4581360"/>
            <a:ext cx="3888000" cy="1008360"/>
            <a:chOff x="4696920" y="4581360"/>
            <a:chExt cx="3888000" cy="1008360"/>
          </a:xfrm>
        </p:grpSpPr>
        <p:grpSp>
          <p:nvGrpSpPr>
            <p:cNvPr id="643" name=""/>
            <p:cNvGrpSpPr/>
            <p:nvPr/>
          </p:nvGrpSpPr>
          <p:grpSpPr>
            <a:xfrm>
              <a:off x="5344920" y="4652640"/>
              <a:ext cx="865080" cy="865440"/>
              <a:chOff x="5344920" y="4652640"/>
              <a:chExt cx="865080" cy="865440"/>
            </a:xfrm>
          </p:grpSpPr>
          <p:sp>
            <p:nvSpPr>
              <p:cNvPr id="644" name=""/>
              <p:cNvSpPr/>
              <p:nvPr/>
            </p:nvSpPr>
            <p:spPr>
              <a:xfrm>
                <a:off x="5489280" y="4797360"/>
                <a:ext cx="576360" cy="57636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344920" y="5013360"/>
                <a:ext cx="8650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5776920" y="4652640"/>
                <a:ext cx="21564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532120" y="5013360"/>
                <a:ext cx="505080" cy="5047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 flipV="1">
                <a:off x="5784840" y="5036760"/>
                <a:ext cx="1440" cy="4590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5583240" y="5265360"/>
                <a:ext cx="40320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5343120" y="4581360"/>
              <a:ext cx="865440" cy="1008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696920" y="5084280"/>
              <a:ext cx="647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6209640" y="5086440"/>
              <a:ext cx="57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784920" y="479592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. 1 :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971640" y="4724280"/>
            <a:ext cx="71892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1332000" y="4797000"/>
            <a:ext cx="0" cy="5749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2920" y="5084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1127520" y="4880160"/>
            <a:ext cx="405720" cy="4075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123920" y="4882320"/>
            <a:ext cx="408600" cy="4064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3895560" y="4724280"/>
            <a:ext cx="719280" cy="720720"/>
            <a:chOff x="3895560" y="4724280"/>
            <a:chExt cx="719280" cy="720720"/>
          </a:xfrm>
        </p:grpSpPr>
        <p:sp>
          <p:nvSpPr>
            <p:cNvPr id="660" name=""/>
            <p:cNvSpPr/>
            <p:nvPr/>
          </p:nvSpPr>
          <p:spPr>
            <a:xfrm>
              <a:off x="3965400" y="5084640"/>
              <a:ext cx="57636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3895560" y="4724280"/>
              <a:ext cx="719280" cy="720720"/>
              <a:chOff x="3895560" y="4724280"/>
              <a:chExt cx="719280" cy="720720"/>
            </a:xfrm>
          </p:grpSpPr>
          <p:sp>
            <p:nvSpPr>
              <p:cNvPr id="662" name=""/>
              <p:cNvSpPr/>
              <p:nvPr/>
            </p:nvSpPr>
            <p:spPr>
              <a:xfrm>
                <a:off x="3895560" y="4724280"/>
                <a:ext cx="719280" cy="7207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966840" y="5084640"/>
                <a:ext cx="57636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3895560" y="3844800"/>
            <a:ext cx="719280" cy="720720"/>
            <a:chOff x="3895560" y="3844800"/>
            <a:chExt cx="719280" cy="720720"/>
          </a:xfrm>
        </p:grpSpPr>
        <p:sp>
          <p:nvSpPr>
            <p:cNvPr id="665" name=""/>
            <p:cNvSpPr/>
            <p:nvPr/>
          </p:nvSpPr>
          <p:spPr>
            <a:xfrm>
              <a:off x="3995640" y="4205160"/>
              <a:ext cx="57636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3895560" y="3844800"/>
              <a:ext cx="719280" cy="720720"/>
              <a:chOff x="3895560" y="3844800"/>
              <a:chExt cx="719280" cy="720720"/>
            </a:xfrm>
          </p:grpSpPr>
          <p:sp>
            <p:nvSpPr>
              <p:cNvPr id="667" name=""/>
              <p:cNvSpPr/>
              <p:nvPr/>
            </p:nvSpPr>
            <p:spPr>
              <a:xfrm>
                <a:off x="3895560" y="3844800"/>
                <a:ext cx="719280" cy="7207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966840" y="4205160"/>
                <a:ext cx="57636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5435640" y="3843360"/>
            <a:ext cx="718920" cy="720720"/>
            <a:chOff x="5435640" y="3843360"/>
            <a:chExt cx="718920" cy="720720"/>
          </a:xfrm>
        </p:grpSpPr>
        <p:sp>
          <p:nvSpPr>
            <p:cNvPr id="670" name=""/>
            <p:cNvSpPr/>
            <p:nvPr/>
          </p:nvSpPr>
          <p:spPr>
            <a:xfrm flipV="1">
              <a:off x="5870520" y="3986280"/>
              <a:ext cx="0" cy="5745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5435640" y="3843360"/>
              <a:ext cx="718920" cy="720720"/>
              <a:chOff x="5435640" y="3843360"/>
              <a:chExt cx="718920" cy="720720"/>
            </a:xfrm>
          </p:grpSpPr>
          <p:sp>
            <p:nvSpPr>
              <p:cNvPr id="672" name=""/>
              <p:cNvSpPr/>
              <p:nvPr/>
            </p:nvSpPr>
            <p:spPr>
              <a:xfrm>
                <a:off x="5435640" y="3843360"/>
                <a:ext cx="718920" cy="7207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5797440" y="3914280"/>
                <a:ext cx="0" cy="574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"/>
          <p:cNvGrpSpPr/>
          <p:nvPr/>
        </p:nvGrpSpPr>
        <p:grpSpPr>
          <a:xfrm>
            <a:off x="5435640" y="4724280"/>
            <a:ext cx="718920" cy="720720"/>
            <a:chOff x="5435640" y="4724280"/>
            <a:chExt cx="718920" cy="720720"/>
          </a:xfrm>
        </p:grpSpPr>
        <p:sp>
          <p:nvSpPr>
            <p:cNvPr id="675" name=""/>
            <p:cNvSpPr/>
            <p:nvPr/>
          </p:nvSpPr>
          <p:spPr>
            <a:xfrm flipV="1">
              <a:off x="5870520" y="4866840"/>
              <a:ext cx="0" cy="57492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5435640" y="4724280"/>
              <a:ext cx="718920" cy="720720"/>
              <a:chOff x="5435640" y="4724280"/>
              <a:chExt cx="718920" cy="720720"/>
            </a:xfrm>
          </p:grpSpPr>
          <p:sp>
            <p:nvSpPr>
              <p:cNvPr id="677" name=""/>
              <p:cNvSpPr/>
              <p:nvPr/>
            </p:nvSpPr>
            <p:spPr>
              <a:xfrm>
                <a:off x="5435640" y="4724280"/>
                <a:ext cx="718920" cy="7207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5797440" y="4795200"/>
                <a:ext cx="0" cy="574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2771280" y="1692360"/>
            <a:ext cx="4248000" cy="2231640"/>
            <a:chOff x="2771280" y="1692360"/>
            <a:chExt cx="4248000" cy="2231640"/>
          </a:xfrm>
        </p:grpSpPr>
        <p:sp>
          <p:nvSpPr>
            <p:cNvPr id="680" name=""/>
            <p:cNvSpPr/>
            <p:nvPr/>
          </p:nvSpPr>
          <p:spPr>
            <a:xfrm rot="5400000">
              <a:off x="4727520" y="-120960"/>
              <a:ext cx="47808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5400000">
              <a:off x="4656600" y="268920"/>
              <a:ext cx="477720" cy="41054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5400000">
              <a:off x="4584600" y="677880"/>
              <a:ext cx="47808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5400000">
              <a:off x="4584960" y="1155960"/>
              <a:ext cx="47772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5400000">
              <a:off x="4584600" y="1632240"/>
              <a:ext cx="47808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016080" y="1700280"/>
            <a:ext cx="1449720" cy="2231640"/>
            <a:chOff x="3016080" y="1700280"/>
            <a:chExt cx="1449720" cy="2231640"/>
          </a:xfrm>
        </p:grpSpPr>
        <p:sp>
          <p:nvSpPr>
            <p:cNvPr id="686" name=""/>
            <p:cNvSpPr/>
            <p:nvPr/>
          </p:nvSpPr>
          <p:spPr>
            <a:xfrm rot="5400000">
              <a:off x="3526200" y="1238400"/>
              <a:ext cx="478080" cy="140112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01720" y="1629000"/>
              <a:ext cx="477720" cy="140112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5400000">
              <a:off x="3477600" y="2037960"/>
              <a:ext cx="478080" cy="140112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5400000">
              <a:off x="3477600" y="2516040"/>
              <a:ext cx="477720" cy="140112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5400000">
              <a:off x="3477600" y="2992320"/>
              <a:ext cx="478080" cy="140112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5724360" y="1311120"/>
            <a:ext cx="700200" cy="2685960"/>
            <a:chOff x="5724360" y="1311120"/>
            <a:chExt cx="700200" cy="2685960"/>
          </a:xfrm>
        </p:grpSpPr>
        <p:sp>
          <p:nvSpPr>
            <p:cNvPr id="692" name=""/>
            <p:cNvSpPr/>
            <p:nvPr/>
          </p:nvSpPr>
          <p:spPr>
            <a:xfrm>
              <a:off x="5724360" y="131112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895720" y="1428480"/>
              <a:ext cx="1368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032520" y="142848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54560" y="1379520"/>
              <a:ext cx="106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724360" y="165096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724360" y="398124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732280" y="1317600"/>
              <a:ext cx="692280" cy="26794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Entanglement-Based Protocol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762120" cy="863640"/>
          </a:xfrm>
          <a:prstGeom prst="rect">
            <a:avLst/>
          </a:prstGeom>
          <a:ln w="0">
            <a:noFill/>
          </a:ln>
        </p:spPr>
      </p:pic>
      <p:grpSp>
        <p:nvGrpSpPr>
          <p:cNvPr id="701" name=""/>
          <p:cNvGrpSpPr/>
          <p:nvPr/>
        </p:nvGrpSpPr>
        <p:grpSpPr>
          <a:xfrm>
            <a:off x="2104920" y="4503600"/>
            <a:ext cx="841320" cy="291960"/>
            <a:chOff x="2104920" y="4503600"/>
            <a:chExt cx="841320" cy="291960"/>
          </a:xfrm>
        </p:grpSpPr>
        <p:sp>
          <p:nvSpPr>
            <p:cNvPr id="702" name=""/>
            <p:cNvSpPr/>
            <p:nvPr/>
          </p:nvSpPr>
          <p:spPr>
            <a:xfrm>
              <a:off x="2104920" y="4505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09760" y="4633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459160" y="469728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608200" y="4505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13040" y="4633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04920" y="4503600"/>
              <a:ext cx="8398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284720" y="4437000"/>
            <a:ext cx="12240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2206800" y="1916280"/>
            <a:ext cx="182520" cy="2519280"/>
            <a:chOff x="2206800" y="1916280"/>
            <a:chExt cx="182520" cy="2519280"/>
          </a:xfrm>
        </p:grpSpPr>
        <p:sp>
          <p:nvSpPr>
            <p:cNvPr id="710" name=""/>
            <p:cNvSpPr/>
            <p:nvPr/>
          </p:nvSpPr>
          <p:spPr>
            <a:xfrm>
              <a:off x="2225880" y="1916280"/>
              <a:ext cx="0" cy="2519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2206800" y="19162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2225880" y="2779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2225880" y="321336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017880" y="4148280"/>
            <a:ext cx="1049400" cy="214200"/>
            <a:chOff x="3017880" y="4148280"/>
            <a:chExt cx="1049400" cy="214200"/>
          </a:xfrm>
        </p:grpSpPr>
        <p:sp>
          <p:nvSpPr>
            <p:cNvPr id="715" name=""/>
            <p:cNvSpPr/>
            <p:nvPr/>
          </p:nvSpPr>
          <p:spPr>
            <a:xfrm>
              <a:off x="3017880" y="4148280"/>
              <a:ext cx="16524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1831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368880" y="4184640"/>
              <a:ext cx="171360" cy="14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880" bIns="9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540240" y="4240080"/>
              <a:ext cx="15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80000" y="4148280"/>
              <a:ext cx="18432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643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17880" y="4148280"/>
              <a:ext cx="1049400" cy="2142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001880" y="4097160"/>
            <a:ext cx="1049040" cy="214560"/>
            <a:chOff x="1001880" y="4097160"/>
            <a:chExt cx="1049040" cy="214560"/>
          </a:xfrm>
        </p:grpSpPr>
        <p:sp>
          <p:nvSpPr>
            <p:cNvPr id="723" name=""/>
            <p:cNvSpPr/>
            <p:nvPr/>
          </p:nvSpPr>
          <p:spPr>
            <a:xfrm>
              <a:off x="1001880" y="4097160"/>
              <a:ext cx="1648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1667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352520" y="4133880"/>
              <a:ext cx="1710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824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523880" y="4189320"/>
              <a:ext cx="1537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763640" y="4097160"/>
              <a:ext cx="1839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479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01880" y="4097160"/>
              <a:ext cx="1049040" cy="214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4168800" y="4005360"/>
            <a:ext cx="1268280" cy="291960"/>
            <a:chOff x="4168800" y="4005360"/>
            <a:chExt cx="1268280" cy="291960"/>
          </a:xfrm>
        </p:grpSpPr>
        <p:sp>
          <p:nvSpPr>
            <p:cNvPr id="731" name=""/>
            <p:cNvSpPr/>
            <p:nvPr/>
          </p:nvSpPr>
          <p:spPr>
            <a:xfrm>
              <a:off x="4168800" y="4006800"/>
              <a:ext cx="2584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28720" y="419904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76320" y="4006800"/>
              <a:ext cx="2142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790880" y="4135320"/>
              <a:ext cx="1328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41720" y="4199040"/>
              <a:ext cx="9144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089320" y="4006800"/>
              <a:ext cx="213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03520" y="413532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168800" y="4005360"/>
              <a:ext cx="12682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983160" y="1700280"/>
            <a:ext cx="610920" cy="2340360"/>
            <a:chOff x="983160" y="1700280"/>
            <a:chExt cx="610920" cy="2340360"/>
          </a:xfrm>
        </p:grpSpPr>
        <p:grpSp>
          <p:nvGrpSpPr>
            <p:cNvPr id="740" name=""/>
            <p:cNvGrpSpPr/>
            <p:nvPr/>
          </p:nvGrpSpPr>
          <p:grpSpPr>
            <a:xfrm>
              <a:off x="983160" y="2058480"/>
              <a:ext cx="610920" cy="610560"/>
              <a:chOff x="983160" y="2058480"/>
              <a:chExt cx="610920" cy="610560"/>
            </a:xfrm>
          </p:grpSpPr>
          <p:sp>
            <p:nvSpPr>
              <p:cNvPr id="741" name=""/>
              <p:cNvSpPr/>
              <p:nvPr/>
            </p:nvSpPr>
            <p:spPr>
              <a:xfrm rot="2700000">
                <a:off x="1072440" y="2147760"/>
                <a:ext cx="43200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1173600" y="222444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 flipV="1">
                <a:off x="1148760" y="222408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1073160" y="1700280"/>
              <a:ext cx="431640" cy="431640"/>
              <a:chOff x="1073160" y="1700280"/>
              <a:chExt cx="431640" cy="431640"/>
            </a:xfrm>
          </p:grpSpPr>
          <p:sp>
            <p:nvSpPr>
              <p:cNvPr id="745" name=""/>
              <p:cNvSpPr/>
              <p:nvPr/>
            </p:nvSpPr>
            <p:spPr>
              <a:xfrm>
                <a:off x="1073160" y="170028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 flipV="1">
                <a:off x="1288440" y="172044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1152360" y="191556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1073160" y="2608200"/>
              <a:ext cx="431640" cy="431640"/>
              <a:chOff x="1073160" y="2608200"/>
              <a:chExt cx="431640" cy="431640"/>
            </a:xfrm>
          </p:grpSpPr>
          <p:sp>
            <p:nvSpPr>
              <p:cNvPr id="749" name=""/>
              <p:cNvSpPr/>
              <p:nvPr/>
            </p:nvSpPr>
            <p:spPr>
              <a:xfrm>
                <a:off x="1073160" y="260820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 flipV="1">
                <a:off x="1288440" y="262836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1152360" y="282348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1073160" y="3063960"/>
              <a:ext cx="431640" cy="431640"/>
              <a:chOff x="1073160" y="3063960"/>
              <a:chExt cx="431640" cy="431640"/>
            </a:xfrm>
          </p:grpSpPr>
          <p:sp>
            <p:nvSpPr>
              <p:cNvPr id="753" name=""/>
              <p:cNvSpPr/>
              <p:nvPr/>
            </p:nvSpPr>
            <p:spPr>
              <a:xfrm>
                <a:off x="1073160" y="306396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 flipV="1">
                <a:off x="1288440" y="308412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1152360" y="327924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983160" y="3430080"/>
              <a:ext cx="610920" cy="610560"/>
              <a:chOff x="983160" y="3430080"/>
              <a:chExt cx="610920" cy="610560"/>
            </a:xfrm>
          </p:grpSpPr>
          <p:sp>
            <p:nvSpPr>
              <p:cNvPr id="757" name=""/>
              <p:cNvSpPr/>
              <p:nvPr/>
            </p:nvSpPr>
            <p:spPr>
              <a:xfrm rot="2700000">
                <a:off x="1072440" y="3519360"/>
                <a:ext cx="43200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1173600" y="359604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 flipV="1">
                <a:off x="1148760" y="359568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0" name=""/>
          <p:cNvGrpSpPr/>
          <p:nvPr/>
        </p:nvGrpSpPr>
        <p:grpSpPr>
          <a:xfrm>
            <a:off x="2657520" y="2347920"/>
            <a:ext cx="163440" cy="2089080"/>
            <a:chOff x="2657520" y="2347920"/>
            <a:chExt cx="163440" cy="2089080"/>
          </a:xfrm>
        </p:grpSpPr>
        <p:sp>
          <p:nvSpPr>
            <p:cNvPr id="761" name=""/>
            <p:cNvSpPr/>
            <p:nvPr/>
          </p:nvSpPr>
          <p:spPr>
            <a:xfrm flipH="1">
              <a:off x="2657520" y="36640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01880" y="2347920"/>
              <a:ext cx="0" cy="20890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2657520" y="2347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 rot="16200000">
            <a:off x="5552280" y="2572200"/>
            <a:ext cx="2305080" cy="502920"/>
          </a:xfrm>
          <a:custGeom>
            <a:avLst/>
            <a:gdLst>
              <a:gd name="textAreaLeft" fmla="*/ 538200 w 2305080"/>
              <a:gd name="textAreaRight" fmla="*/ 1766880 w 2305080"/>
              <a:gd name="textAreaTop" fmla="*/ 117360 h 502920"/>
              <a:gd name="textAreaBottom" fmla="*/ 38556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7174080" y="2679840"/>
            <a:ext cx="296640" cy="360360"/>
            <a:chOff x="7174080" y="2679840"/>
            <a:chExt cx="296640" cy="360360"/>
          </a:xfrm>
        </p:grpSpPr>
        <p:sp>
          <p:nvSpPr>
            <p:cNvPr id="766" name=""/>
            <p:cNvSpPr/>
            <p:nvPr/>
          </p:nvSpPr>
          <p:spPr>
            <a:xfrm>
              <a:off x="7174080" y="2679840"/>
              <a:ext cx="296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1112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0000"/>
                  </a:solidFill>
                  <a:latin typeface="cmmi10"/>
                  <a:ea typeface="Arial"/>
                </a:rPr>
                <a:t>½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174080" y="2679840"/>
              <a:ext cx="296640" cy="360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 rot="14971200">
            <a:off x="7282080" y="1483200"/>
            <a:ext cx="216000" cy="792360"/>
          </a:xfrm>
          <a:custGeom>
            <a:avLst/>
            <a:gdLst/>
            <a:ahLst/>
            <a:rect l="l" t="t" r="r" b="b"/>
            <a:pathLst>
              <a:path w="132" h="551">
                <a:moveTo>
                  <a:pt x="74" y="0"/>
                </a:moveTo>
                <a:cubicBezTo>
                  <a:pt x="82" y="20"/>
                  <a:pt x="132" y="85"/>
                  <a:pt x="121" y="121"/>
                </a:cubicBezTo>
                <a:cubicBezTo>
                  <a:pt x="110" y="157"/>
                  <a:pt x="14" y="177"/>
                  <a:pt x="7" y="215"/>
                </a:cubicBezTo>
                <a:cubicBezTo>
                  <a:pt x="0" y="253"/>
                  <a:pt x="68" y="293"/>
                  <a:pt x="81" y="349"/>
                </a:cubicBezTo>
                <a:cubicBezTo>
                  <a:pt x="94" y="405"/>
                  <a:pt x="86" y="509"/>
                  <a:pt x="87" y="551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7962480" y="981000"/>
            <a:ext cx="742680" cy="1066320"/>
            <a:chOff x="7962480" y="981000"/>
            <a:chExt cx="742680" cy="1066320"/>
          </a:xfrm>
        </p:grpSpPr>
        <p:sp>
          <p:nvSpPr>
            <p:cNvPr id="770" name=""/>
            <p:cNvSpPr/>
            <p:nvPr/>
          </p:nvSpPr>
          <p:spPr>
            <a:xfrm rot="12426000">
              <a:off x="8526600" y="1015920"/>
              <a:ext cx="134280" cy="22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068320" y="981000"/>
              <a:ext cx="133920" cy="22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62480" y="1058400"/>
              <a:ext cx="646200" cy="863640"/>
            </a:xfrm>
            <a:custGeom>
              <a:avLst/>
              <a:gdLst/>
              <a:ahLst/>
              <a:rect l="l" t="t" r="r" b="b"/>
              <a:pathLst>
                <a:path w="4154" h="5543">
                  <a:moveTo>
                    <a:pt x="3156" y="179"/>
                  </a:moveTo>
                  <a:lnTo>
                    <a:pt x="3235" y="230"/>
                  </a:lnTo>
                  <a:lnTo>
                    <a:pt x="3314" y="282"/>
                  </a:lnTo>
                  <a:lnTo>
                    <a:pt x="3393" y="337"/>
                  </a:lnTo>
                  <a:lnTo>
                    <a:pt x="3469" y="396"/>
                  </a:lnTo>
                  <a:lnTo>
                    <a:pt x="3538" y="459"/>
                  </a:lnTo>
                  <a:lnTo>
                    <a:pt x="3601" y="529"/>
                  </a:lnTo>
                  <a:lnTo>
                    <a:pt x="3653" y="608"/>
                  </a:lnTo>
                  <a:lnTo>
                    <a:pt x="3696" y="698"/>
                  </a:lnTo>
                  <a:lnTo>
                    <a:pt x="3727" y="760"/>
                  </a:lnTo>
                  <a:lnTo>
                    <a:pt x="3772" y="812"/>
                  </a:lnTo>
                  <a:lnTo>
                    <a:pt x="3826" y="856"/>
                  </a:lnTo>
                  <a:lnTo>
                    <a:pt x="3884" y="898"/>
                  </a:lnTo>
                  <a:lnTo>
                    <a:pt x="3938" y="941"/>
                  </a:lnTo>
                  <a:lnTo>
                    <a:pt x="3988" y="990"/>
                  </a:lnTo>
                  <a:lnTo>
                    <a:pt x="4026" y="1049"/>
                  </a:lnTo>
                  <a:lnTo>
                    <a:pt x="4048" y="1124"/>
                  </a:lnTo>
                  <a:lnTo>
                    <a:pt x="4096" y="1342"/>
                  </a:lnTo>
                  <a:lnTo>
                    <a:pt x="4121" y="1568"/>
                  </a:lnTo>
                  <a:lnTo>
                    <a:pt x="4123" y="1799"/>
                  </a:lnTo>
                  <a:lnTo>
                    <a:pt x="4109" y="2034"/>
                  </a:lnTo>
                  <a:lnTo>
                    <a:pt x="4076" y="2265"/>
                  </a:lnTo>
                  <a:lnTo>
                    <a:pt x="4031" y="2495"/>
                  </a:lnTo>
                  <a:lnTo>
                    <a:pt x="3975" y="2716"/>
                  </a:lnTo>
                  <a:lnTo>
                    <a:pt x="3913" y="2930"/>
                  </a:lnTo>
                  <a:lnTo>
                    <a:pt x="3893" y="2961"/>
                  </a:lnTo>
                  <a:lnTo>
                    <a:pt x="3875" y="2995"/>
                  </a:lnTo>
                  <a:lnTo>
                    <a:pt x="3858" y="3028"/>
                  </a:lnTo>
                  <a:lnTo>
                    <a:pt x="3843" y="3065"/>
                  </a:lnTo>
                  <a:lnTo>
                    <a:pt x="3827" y="3099"/>
                  </a:lnTo>
                  <a:lnTo>
                    <a:pt x="3813" y="3134"/>
                  </a:lnTo>
                  <a:lnTo>
                    <a:pt x="3801" y="3166"/>
                  </a:lnTo>
                  <a:lnTo>
                    <a:pt x="3789" y="3200"/>
                  </a:lnTo>
                  <a:lnTo>
                    <a:pt x="3816" y="3185"/>
                  </a:lnTo>
                  <a:lnTo>
                    <a:pt x="3847" y="3166"/>
                  </a:lnTo>
                  <a:lnTo>
                    <a:pt x="3878" y="3145"/>
                  </a:lnTo>
                  <a:lnTo>
                    <a:pt x="3913" y="3125"/>
                  </a:lnTo>
                  <a:lnTo>
                    <a:pt x="3948" y="3109"/>
                  </a:lnTo>
                  <a:lnTo>
                    <a:pt x="3986" y="3099"/>
                  </a:lnTo>
                  <a:lnTo>
                    <a:pt x="4026" y="3096"/>
                  </a:lnTo>
                  <a:lnTo>
                    <a:pt x="4069" y="3107"/>
                  </a:lnTo>
                  <a:lnTo>
                    <a:pt x="4107" y="3165"/>
                  </a:lnTo>
                  <a:lnTo>
                    <a:pt x="4134" y="3235"/>
                  </a:lnTo>
                  <a:lnTo>
                    <a:pt x="4148" y="3310"/>
                  </a:lnTo>
                  <a:lnTo>
                    <a:pt x="4154" y="3389"/>
                  </a:lnTo>
                  <a:lnTo>
                    <a:pt x="4147" y="3468"/>
                  </a:lnTo>
                  <a:lnTo>
                    <a:pt x="4134" y="3546"/>
                  </a:lnTo>
                  <a:lnTo>
                    <a:pt x="4114" y="3621"/>
                  </a:lnTo>
                  <a:lnTo>
                    <a:pt x="4090" y="3689"/>
                  </a:lnTo>
                  <a:lnTo>
                    <a:pt x="4033" y="3777"/>
                  </a:lnTo>
                  <a:lnTo>
                    <a:pt x="3968" y="3863"/>
                  </a:lnTo>
                  <a:lnTo>
                    <a:pt x="3895" y="3943"/>
                  </a:lnTo>
                  <a:lnTo>
                    <a:pt x="3816" y="4018"/>
                  </a:lnTo>
                  <a:lnTo>
                    <a:pt x="3730" y="4084"/>
                  </a:lnTo>
                  <a:lnTo>
                    <a:pt x="3642" y="4143"/>
                  </a:lnTo>
                  <a:lnTo>
                    <a:pt x="3549" y="4194"/>
                  </a:lnTo>
                  <a:lnTo>
                    <a:pt x="3457" y="4239"/>
                  </a:lnTo>
                  <a:lnTo>
                    <a:pt x="3384" y="4239"/>
                  </a:lnTo>
                  <a:lnTo>
                    <a:pt x="3308" y="4397"/>
                  </a:lnTo>
                  <a:lnTo>
                    <a:pt x="3220" y="4550"/>
                  </a:lnTo>
                  <a:lnTo>
                    <a:pt x="3116" y="4695"/>
                  </a:lnTo>
                  <a:lnTo>
                    <a:pt x="3004" y="4836"/>
                  </a:lnTo>
                  <a:lnTo>
                    <a:pt x="2882" y="4970"/>
                  </a:lnTo>
                  <a:lnTo>
                    <a:pt x="2754" y="5101"/>
                  </a:lnTo>
                  <a:lnTo>
                    <a:pt x="2623" y="5226"/>
                  </a:lnTo>
                  <a:lnTo>
                    <a:pt x="2492" y="5350"/>
                  </a:lnTo>
                  <a:lnTo>
                    <a:pt x="2388" y="5399"/>
                  </a:lnTo>
                  <a:lnTo>
                    <a:pt x="2281" y="5447"/>
                  </a:lnTo>
                  <a:lnTo>
                    <a:pt x="2172" y="5488"/>
                  </a:lnTo>
                  <a:lnTo>
                    <a:pt x="2061" y="5522"/>
                  </a:lnTo>
                  <a:lnTo>
                    <a:pt x="1947" y="5540"/>
                  </a:lnTo>
                  <a:lnTo>
                    <a:pt x="1833" y="5543"/>
                  </a:lnTo>
                  <a:lnTo>
                    <a:pt x="1716" y="5524"/>
                  </a:lnTo>
                  <a:lnTo>
                    <a:pt x="1601" y="5485"/>
                  </a:lnTo>
                  <a:lnTo>
                    <a:pt x="1390" y="5370"/>
                  </a:lnTo>
                  <a:lnTo>
                    <a:pt x="1211" y="5225"/>
                  </a:lnTo>
                  <a:lnTo>
                    <a:pt x="1062" y="5056"/>
                  </a:lnTo>
                  <a:lnTo>
                    <a:pt x="940" y="4867"/>
                  </a:lnTo>
                  <a:lnTo>
                    <a:pt x="841" y="4661"/>
                  </a:lnTo>
                  <a:lnTo>
                    <a:pt x="767" y="4447"/>
                  </a:lnTo>
                  <a:lnTo>
                    <a:pt x="712" y="4228"/>
                  </a:lnTo>
                  <a:lnTo>
                    <a:pt x="677" y="4010"/>
                  </a:lnTo>
                  <a:lnTo>
                    <a:pt x="657" y="3959"/>
                  </a:lnTo>
                  <a:lnTo>
                    <a:pt x="630" y="3979"/>
                  </a:lnTo>
                  <a:lnTo>
                    <a:pt x="603" y="3991"/>
                  </a:lnTo>
                  <a:lnTo>
                    <a:pt x="574" y="3994"/>
                  </a:lnTo>
                  <a:lnTo>
                    <a:pt x="544" y="3991"/>
                  </a:lnTo>
                  <a:lnTo>
                    <a:pt x="512" y="3983"/>
                  </a:lnTo>
                  <a:lnTo>
                    <a:pt x="480" y="3972"/>
                  </a:lnTo>
                  <a:lnTo>
                    <a:pt x="447" y="3959"/>
                  </a:lnTo>
                  <a:lnTo>
                    <a:pt x="418" y="3948"/>
                  </a:lnTo>
                  <a:lnTo>
                    <a:pt x="342" y="3898"/>
                  </a:lnTo>
                  <a:lnTo>
                    <a:pt x="273" y="3844"/>
                  </a:lnTo>
                  <a:lnTo>
                    <a:pt x="210" y="3779"/>
                  </a:lnTo>
                  <a:lnTo>
                    <a:pt x="155" y="3711"/>
                  </a:lnTo>
                  <a:lnTo>
                    <a:pt x="105" y="3637"/>
                  </a:lnTo>
                  <a:lnTo>
                    <a:pt x="63" y="3558"/>
                  </a:lnTo>
                  <a:lnTo>
                    <a:pt x="28" y="3477"/>
                  </a:lnTo>
                  <a:lnTo>
                    <a:pt x="3" y="3397"/>
                  </a:lnTo>
                  <a:lnTo>
                    <a:pt x="0" y="3330"/>
                  </a:lnTo>
                  <a:lnTo>
                    <a:pt x="4" y="3262"/>
                  </a:lnTo>
                  <a:lnTo>
                    <a:pt x="14" y="3196"/>
                  </a:lnTo>
                  <a:lnTo>
                    <a:pt x="32" y="3135"/>
                  </a:lnTo>
                  <a:lnTo>
                    <a:pt x="58" y="3076"/>
                  </a:lnTo>
                  <a:lnTo>
                    <a:pt x="97" y="3026"/>
                  </a:lnTo>
                  <a:lnTo>
                    <a:pt x="146" y="2983"/>
                  </a:lnTo>
                  <a:lnTo>
                    <a:pt x="211" y="2951"/>
                  </a:lnTo>
                  <a:lnTo>
                    <a:pt x="241" y="2937"/>
                  </a:lnTo>
                  <a:lnTo>
                    <a:pt x="273" y="2927"/>
                  </a:lnTo>
                  <a:lnTo>
                    <a:pt x="302" y="2921"/>
                  </a:lnTo>
                  <a:lnTo>
                    <a:pt x="335" y="2920"/>
                  </a:lnTo>
                  <a:lnTo>
                    <a:pt x="366" y="2921"/>
                  </a:lnTo>
                  <a:lnTo>
                    <a:pt x="397" y="2927"/>
                  </a:lnTo>
                  <a:lnTo>
                    <a:pt x="428" y="2937"/>
                  </a:lnTo>
                  <a:lnTo>
                    <a:pt x="460" y="2951"/>
                  </a:lnTo>
                  <a:lnTo>
                    <a:pt x="467" y="2959"/>
                  </a:lnTo>
                  <a:lnTo>
                    <a:pt x="474" y="2968"/>
                  </a:lnTo>
                  <a:lnTo>
                    <a:pt x="481" y="2973"/>
                  </a:lnTo>
                  <a:lnTo>
                    <a:pt x="489" y="2979"/>
                  </a:lnTo>
                  <a:lnTo>
                    <a:pt x="497" y="2982"/>
                  </a:lnTo>
                  <a:lnTo>
                    <a:pt x="505" y="2986"/>
                  </a:lnTo>
                  <a:lnTo>
                    <a:pt x="513" y="2989"/>
                  </a:lnTo>
                  <a:lnTo>
                    <a:pt x="522" y="2993"/>
                  </a:lnTo>
                  <a:lnTo>
                    <a:pt x="513" y="2931"/>
                  </a:lnTo>
                  <a:lnTo>
                    <a:pt x="511" y="2866"/>
                  </a:lnTo>
                  <a:lnTo>
                    <a:pt x="508" y="2799"/>
                  </a:lnTo>
                  <a:lnTo>
                    <a:pt x="508" y="2731"/>
                  </a:lnTo>
                  <a:lnTo>
                    <a:pt x="508" y="2661"/>
                  </a:lnTo>
                  <a:lnTo>
                    <a:pt x="509" y="2593"/>
                  </a:lnTo>
                  <a:lnTo>
                    <a:pt x="509" y="2526"/>
                  </a:lnTo>
                  <a:lnTo>
                    <a:pt x="511" y="2464"/>
                  </a:lnTo>
                  <a:lnTo>
                    <a:pt x="482" y="2355"/>
                  </a:lnTo>
                  <a:lnTo>
                    <a:pt x="471" y="2244"/>
                  </a:lnTo>
                  <a:lnTo>
                    <a:pt x="470" y="2130"/>
                  </a:lnTo>
                  <a:lnTo>
                    <a:pt x="480" y="2016"/>
                  </a:lnTo>
                  <a:lnTo>
                    <a:pt x="492" y="1901"/>
                  </a:lnTo>
                  <a:lnTo>
                    <a:pt x="511" y="1787"/>
                  </a:lnTo>
                  <a:lnTo>
                    <a:pt x="527" y="1675"/>
                  </a:lnTo>
                  <a:lnTo>
                    <a:pt x="543" y="1570"/>
                  </a:lnTo>
                  <a:lnTo>
                    <a:pt x="582" y="1433"/>
                  </a:lnTo>
                  <a:lnTo>
                    <a:pt x="640" y="1307"/>
                  </a:lnTo>
                  <a:lnTo>
                    <a:pt x="713" y="1188"/>
                  </a:lnTo>
                  <a:lnTo>
                    <a:pt x="800" y="1078"/>
                  </a:lnTo>
                  <a:lnTo>
                    <a:pt x="896" y="976"/>
                  </a:lnTo>
                  <a:lnTo>
                    <a:pt x="1004" y="881"/>
                  </a:lnTo>
                  <a:lnTo>
                    <a:pt x="1117" y="795"/>
                  </a:lnTo>
                  <a:lnTo>
                    <a:pt x="1238" y="719"/>
                  </a:lnTo>
                  <a:lnTo>
                    <a:pt x="1255" y="655"/>
                  </a:lnTo>
                  <a:lnTo>
                    <a:pt x="1283" y="600"/>
                  </a:lnTo>
                  <a:lnTo>
                    <a:pt x="1318" y="548"/>
                  </a:lnTo>
                  <a:lnTo>
                    <a:pt x="1362" y="501"/>
                  </a:lnTo>
                  <a:lnTo>
                    <a:pt x="1407" y="456"/>
                  </a:lnTo>
                  <a:lnTo>
                    <a:pt x="1454" y="413"/>
                  </a:lnTo>
                  <a:lnTo>
                    <a:pt x="1502" y="368"/>
                  </a:lnTo>
                  <a:lnTo>
                    <a:pt x="1549" y="324"/>
                  </a:lnTo>
                  <a:lnTo>
                    <a:pt x="1627" y="266"/>
                  </a:lnTo>
                  <a:lnTo>
                    <a:pt x="1715" y="222"/>
                  </a:lnTo>
                  <a:lnTo>
                    <a:pt x="1805" y="186"/>
                  </a:lnTo>
                  <a:lnTo>
                    <a:pt x="1897" y="155"/>
                  </a:lnTo>
                  <a:lnTo>
                    <a:pt x="1990" y="127"/>
                  </a:lnTo>
                  <a:lnTo>
                    <a:pt x="2085" y="99"/>
                  </a:lnTo>
                  <a:lnTo>
                    <a:pt x="2176" y="68"/>
                  </a:lnTo>
                  <a:lnTo>
                    <a:pt x="2265" y="34"/>
                  </a:lnTo>
                  <a:lnTo>
                    <a:pt x="2352" y="16"/>
                  </a:lnTo>
                  <a:lnTo>
                    <a:pt x="2443" y="4"/>
                  </a:lnTo>
                  <a:lnTo>
                    <a:pt x="2537" y="0"/>
                  </a:lnTo>
                  <a:lnTo>
                    <a:pt x="2632" y="4"/>
                  </a:lnTo>
                  <a:lnTo>
                    <a:pt x="2723" y="17"/>
                  </a:lnTo>
                  <a:lnTo>
                    <a:pt x="2812" y="39"/>
                  </a:lnTo>
                  <a:lnTo>
                    <a:pt x="2895" y="72"/>
                  </a:lnTo>
                  <a:lnTo>
                    <a:pt x="2969" y="117"/>
                  </a:lnTo>
                  <a:lnTo>
                    <a:pt x="3156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308080" y="1078200"/>
              <a:ext cx="114480" cy="48240"/>
            </a:xfrm>
            <a:custGeom>
              <a:avLst/>
              <a:gdLst/>
              <a:ahLst/>
              <a:rect l="l" t="t" r="r" b="b"/>
              <a:pathLst>
                <a:path w="737" h="311">
                  <a:moveTo>
                    <a:pt x="197" y="0"/>
                  </a:moveTo>
                  <a:lnTo>
                    <a:pt x="190" y="7"/>
                  </a:lnTo>
                  <a:lnTo>
                    <a:pt x="187" y="15"/>
                  </a:lnTo>
                  <a:lnTo>
                    <a:pt x="187" y="22"/>
                  </a:lnTo>
                  <a:lnTo>
                    <a:pt x="187" y="31"/>
                  </a:lnTo>
                  <a:lnTo>
                    <a:pt x="218" y="42"/>
                  </a:lnTo>
                  <a:lnTo>
                    <a:pt x="252" y="50"/>
                  </a:lnTo>
                  <a:lnTo>
                    <a:pt x="286" y="55"/>
                  </a:lnTo>
                  <a:lnTo>
                    <a:pt x="322" y="56"/>
                  </a:lnTo>
                  <a:lnTo>
                    <a:pt x="356" y="55"/>
                  </a:lnTo>
                  <a:lnTo>
                    <a:pt x="391" y="53"/>
                  </a:lnTo>
                  <a:lnTo>
                    <a:pt x="424" y="52"/>
                  </a:lnTo>
                  <a:lnTo>
                    <a:pt x="458" y="52"/>
                  </a:lnTo>
                  <a:lnTo>
                    <a:pt x="422" y="63"/>
                  </a:lnTo>
                  <a:lnTo>
                    <a:pt x="386" y="70"/>
                  </a:lnTo>
                  <a:lnTo>
                    <a:pt x="348" y="73"/>
                  </a:lnTo>
                  <a:lnTo>
                    <a:pt x="310" y="77"/>
                  </a:lnTo>
                  <a:lnTo>
                    <a:pt x="272" y="81"/>
                  </a:lnTo>
                  <a:lnTo>
                    <a:pt x="238" y="91"/>
                  </a:lnTo>
                  <a:lnTo>
                    <a:pt x="209" y="108"/>
                  </a:lnTo>
                  <a:lnTo>
                    <a:pt x="187" y="135"/>
                  </a:lnTo>
                  <a:lnTo>
                    <a:pt x="223" y="143"/>
                  </a:lnTo>
                  <a:lnTo>
                    <a:pt x="263" y="145"/>
                  </a:lnTo>
                  <a:lnTo>
                    <a:pt x="304" y="141"/>
                  </a:lnTo>
                  <a:lnTo>
                    <a:pt x="348" y="136"/>
                  </a:lnTo>
                  <a:lnTo>
                    <a:pt x="389" y="132"/>
                  </a:lnTo>
                  <a:lnTo>
                    <a:pt x="431" y="135"/>
                  </a:lnTo>
                  <a:lnTo>
                    <a:pt x="472" y="149"/>
                  </a:lnTo>
                  <a:lnTo>
                    <a:pt x="510" y="177"/>
                  </a:lnTo>
                  <a:lnTo>
                    <a:pt x="633" y="177"/>
                  </a:lnTo>
                  <a:lnTo>
                    <a:pt x="608" y="177"/>
                  </a:lnTo>
                  <a:lnTo>
                    <a:pt x="580" y="176"/>
                  </a:lnTo>
                  <a:lnTo>
                    <a:pt x="552" y="172"/>
                  </a:lnTo>
                  <a:lnTo>
                    <a:pt x="524" y="170"/>
                  </a:lnTo>
                  <a:lnTo>
                    <a:pt x="497" y="170"/>
                  </a:lnTo>
                  <a:lnTo>
                    <a:pt x="474" y="177"/>
                  </a:lnTo>
                  <a:lnTo>
                    <a:pt x="456" y="191"/>
                  </a:lnTo>
                  <a:lnTo>
                    <a:pt x="446" y="218"/>
                  </a:lnTo>
                  <a:lnTo>
                    <a:pt x="480" y="228"/>
                  </a:lnTo>
                  <a:lnTo>
                    <a:pt x="515" y="236"/>
                  </a:lnTo>
                  <a:lnTo>
                    <a:pt x="550" y="243"/>
                  </a:lnTo>
                  <a:lnTo>
                    <a:pt x="587" y="252"/>
                  </a:lnTo>
                  <a:lnTo>
                    <a:pt x="624" y="256"/>
                  </a:lnTo>
                  <a:lnTo>
                    <a:pt x="660" y="260"/>
                  </a:lnTo>
                  <a:lnTo>
                    <a:pt x="698" y="264"/>
                  </a:lnTo>
                  <a:lnTo>
                    <a:pt x="737" y="270"/>
                  </a:lnTo>
                  <a:lnTo>
                    <a:pt x="661" y="270"/>
                  </a:lnTo>
                  <a:lnTo>
                    <a:pt x="586" y="270"/>
                  </a:lnTo>
                  <a:lnTo>
                    <a:pt x="508" y="270"/>
                  </a:lnTo>
                  <a:lnTo>
                    <a:pt x="431" y="274"/>
                  </a:lnTo>
                  <a:lnTo>
                    <a:pt x="352" y="279"/>
                  </a:lnTo>
                  <a:lnTo>
                    <a:pt x="276" y="286"/>
                  </a:lnTo>
                  <a:lnTo>
                    <a:pt x="199" y="295"/>
                  </a:lnTo>
                  <a:lnTo>
                    <a:pt x="126" y="311"/>
                  </a:lnTo>
                  <a:lnTo>
                    <a:pt x="151" y="291"/>
                  </a:lnTo>
                  <a:lnTo>
                    <a:pt x="183" y="277"/>
                  </a:lnTo>
                  <a:lnTo>
                    <a:pt x="217" y="267"/>
                  </a:lnTo>
                  <a:lnTo>
                    <a:pt x="254" y="262"/>
                  </a:lnTo>
                  <a:lnTo>
                    <a:pt x="287" y="252"/>
                  </a:lnTo>
                  <a:lnTo>
                    <a:pt x="321" y="239"/>
                  </a:lnTo>
                  <a:lnTo>
                    <a:pt x="349" y="222"/>
                  </a:lnTo>
                  <a:lnTo>
                    <a:pt x="375" y="197"/>
                  </a:lnTo>
                  <a:lnTo>
                    <a:pt x="341" y="179"/>
                  </a:lnTo>
                  <a:lnTo>
                    <a:pt x="304" y="173"/>
                  </a:lnTo>
                  <a:lnTo>
                    <a:pt x="265" y="174"/>
                  </a:lnTo>
                  <a:lnTo>
                    <a:pt x="227" y="183"/>
                  </a:lnTo>
                  <a:lnTo>
                    <a:pt x="186" y="194"/>
                  </a:lnTo>
                  <a:lnTo>
                    <a:pt x="147" y="210"/>
                  </a:lnTo>
                  <a:lnTo>
                    <a:pt x="109" y="225"/>
                  </a:lnTo>
                  <a:lnTo>
                    <a:pt x="74" y="239"/>
                  </a:lnTo>
                  <a:lnTo>
                    <a:pt x="82" y="231"/>
                  </a:lnTo>
                  <a:lnTo>
                    <a:pt x="90" y="219"/>
                  </a:lnTo>
                  <a:lnTo>
                    <a:pt x="95" y="204"/>
                  </a:lnTo>
                  <a:lnTo>
                    <a:pt x="100" y="188"/>
                  </a:lnTo>
                  <a:lnTo>
                    <a:pt x="102" y="170"/>
                  </a:lnTo>
                  <a:lnTo>
                    <a:pt x="103" y="153"/>
                  </a:lnTo>
                  <a:lnTo>
                    <a:pt x="103" y="136"/>
                  </a:lnTo>
                  <a:lnTo>
                    <a:pt x="104" y="125"/>
                  </a:lnTo>
                  <a:lnTo>
                    <a:pt x="92" y="111"/>
                  </a:lnTo>
                  <a:lnTo>
                    <a:pt x="76" y="104"/>
                  </a:lnTo>
                  <a:lnTo>
                    <a:pt x="58" y="101"/>
                  </a:lnTo>
                  <a:lnTo>
                    <a:pt x="40" y="101"/>
                  </a:lnTo>
                  <a:lnTo>
                    <a:pt x="21" y="101"/>
                  </a:lnTo>
                  <a:lnTo>
                    <a:pt x="9" y="104"/>
                  </a:lnTo>
                  <a:lnTo>
                    <a:pt x="0" y="104"/>
                  </a:lnTo>
                  <a:lnTo>
                    <a:pt x="26" y="93"/>
                  </a:lnTo>
                  <a:lnTo>
                    <a:pt x="55" y="87"/>
                  </a:lnTo>
                  <a:lnTo>
                    <a:pt x="85" y="80"/>
                  </a:lnTo>
                  <a:lnTo>
                    <a:pt x="116" y="74"/>
                  </a:lnTo>
                  <a:lnTo>
                    <a:pt x="141" y="65"/>
                  </a:lnTo>
                  <a:lnTo>
                    <a:pt x="162" y="50"/>
                  </a:lnTo>
                  <a:lnTo>
                    <a:pt x="173" y="29"/>
                  </a:lnTo>
                  <a:lnTo>
                    <a:pt x="178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070840" y="1139040"/>
              <a:ext cx="484200" cy="766440"/>
            </a:xfrm>
            <a:custGeom>
              <a:avLst/>
              <a:gdLst/>
              <a:ahLst/>
              <a:rect l="l" t="t" r="r" b="b"/>
              <a:pathLst>
                <a:path w="3111" h="4918">
                  <a:moveTo>
                    <a:pt x="1607" y="3"/>
                  </a:moveTo>
                  <a:lnTo>
                    <a:pt x="1599" y="11"/>
                  </a:lnTo>
                  <a:lnTo>
                    <a:pt x="1599" y="23"/>
                  </a:lnTo>
                  <a:lnTo>
                    <a:pt x="1602" y="35"/>
                  </a:lnTo>
                  <a:lnTo>
                    <a:pt x="1607" y="48"/>
                  </a:lnTo>
                  <a:lnTo>
                    <a:pt x="1609" y="56"/>
                  </a:lnTo>
                  <a:lnTo>
                    <a:pt x="1607" y="62"/>
                  </a:lnTo>
                  <a:lnTo>
                    <a:pt x="1596" y="61"/>
                  </a:lnTo>
                  <a:lnTo>
                    <a:pt x="1576" y="55"/>
                  </a:lnTo>
                  <a:lnTo>
                    <a:pt x="1568" y="72"/>
                  </a:lnTo>
                  <a:lnTo>
                    <a:pt x="1555" y="87"/>
                  </a:lnTo>
                  <a:lnTo>
                    <a:pt x="1540" y="102"/>
                  </a:lnTo>
                  <a:lnTo>
                    <a:pt x="1526" y="117"/>
                  </a:lnTo>
                  <a:lnTo>
                    <a:pt x="1515" y="130"/>
                  </a:lnTo>
                  <a:lnTo>
                    <a:pt x="1513" y="145"/>
                  </a:lnTo>
                  <a:lnTo>
                    <a:pt x="1522" y="161"/>
                  </a:lnTo>
                  <a:lnTo>
                    <a:pt x="1545" y="180"/>
                  </a:lnTo>
                  <a:lnTo>
                    <a:pt x="1619" y="158"/>
                  </a:lnTo>
                  <a:lnTo>
                    <a:pt x="1696" y="140"/>
                  </a:lnTo>
                  <a:lnTo>
                    <a:pt x="1773" y="123"/>
                  </a:lnTo>
                  <a:lnTo>
                    <a:pt x="1854" y="111"/>
                  </a:lnTo>
                  <a:lnTo>
                    <a:pt x="1934" y="102"/>
                  </a:lnTo>
                  <a:lnTo>
                    <a:pt x="2014" y="96"/>
                  </a:lnTo>
                  <a:lnTo>
                    <a:pt x="2095" y="94"/>
                  </a:lnTo>
                  <a:lnTo>
                    <a:pt x="2178" y="97"/>
                  </a:lnTo>
                  <a:lnTo>
                    <a:pt x="2140" y="118"/>
                  </a:lnTo>
                  <a:lnTo>
                    <a:pt x="2100" y="135"/>
                  </a:lnTo>
                  <a:lnTo>
                    <a:pt x="2057" y="148"/>
                  </a:lnTo>
                  <a:lnTo>
                    <a:pt x="2015" y="162"/>
                  </a:lnTo>
                  <a:lnTo>
                    <a:pt x="1973" y="175"/>
                  </a:lnTo>
                  <a:lnTo>
                    <a:pt x="1937" y="193"/>
                  </a:lnTo>
                  <a:lnTo>
                    <a:pt x="1903" y="217"/>
                  </a:lnTo>
                  <a:lnTo>
                    <a:pt x="1877" y="252"/>
                  </a:lnTo>
                  <a:lnTo>
                    <a:pt x="1893" y="261"/>
                  </a:lnTo>
                  <a:lnTo>
                    <a:pt x="1911" y="265"/>
                  </a:lnTo>
                  <a:lnTo>
                    <a:pt x="1931" y="265"/>
                  </a:lnTo>
                  <a:lnTo>
                    <a:pt x="1952" y="263"/>
                  </a:lnTo>
                  <a:lnTo>
                    <a:pt x="1973" y="259"/>
                  </a:lnTo>
                  <a:lnTo>
                    <a:pt x="1997" y="255"/>
                  </a:lnTo>
                  <a:lnTo>
                    <a:pt x="2020" y="252"/>
                  </a:lnTo>
                  <a:lnTo>
                    <a:pt x="2043" y="252"/>
                  </a:lnTo>
                  <a:lnTo>
                    <a:pt x="2072" y="235"/>
                  </a:lnTo>
                  <a:lnTo>
                    <a:pt x="2104" y="227"/>
                  </a:lnTo>
                  <a:lnTo>
                    <a:pt x="2138" y="221"/>
                  </a:lnTo>
                  <a:lnTo>
                    <a:pt x="2176" y="221"/>
                  </a:lnTo>
                  <a:lnTo>
                    <a:pt x="2212" y="221"/>
                  </a:lnTo>
                  <a:lnTo>
                    <a:pt x="2250" y="223"/>
                  </a:lnTo>
                  <a:lnTo>
                    <a:pt x="2287" y="223"/>
                  </a:lnTo>
                  <a:lnTo>
                    <a:pt x="2323" y="221"/>
                  </a:lnTo>
                  <a:lnTo>
                    <a:pt x="2311" y="224"/>
                  </a:lnTo>
                  <a:lnTo>
                    <a:pt x="2298" y="228"/>
                  </a:lnTo>
                  <a:lnTo>
                    <a:pt x="2285" y="231"/>
                  </a:lnTo>
                  <a:lnTo>
                    <a:pt x="2274" y="235"/>
                  </a:lnTo>
                  <a:lnTo>
                    <a:pt x="2261" y="239"/>
                  </a:lnTo>
                  <a:lnTo>
                    <a:pt x="2253" y="248"/>
                  </a:lnTo>
                  <a:lnTo>
                    <a:pt x="2245" y="258"/>
                  </a:lnTo>
                  <a:lnTo>
                    <a:pt x="2240" y="273"/>
                  </a:lnTo>
                  <a:lnTo>
                    <a:pt x="2292" y="304"/>
                  </a:lnTo>
                  <a:lnTo>
                    <a:pt x="2366" y="290"/>
                  </a:lnTo>
                  <a:lnTo>
                    <a:pt x="2441" y="280"/>
                  </a:lnTo>
                  <a:lnTo>
                    <a:pt x="2519" y="275"/>
                  </a:lnTo>
                  <a:lnTo>
                    <a:pt x="2596" y="273"/>
                  </a:lnTo>
                  <a:lnTo>
                    <a:pt x="2672" y="275"/>
                  </a:lnTo>
                  <a:lnTo>
                    <a:pt x="2748" y="280"/>
                  </a:lnTo>
                  <a:lnTo>
                    <a:pt x="2821" y="290"/>
                  </a:lnTo>
                  <a:lnTo>
                    <a:pt x="2894" y="304"/>
                  </a:lnTo>
                  <a:lnTo>
                    <a:pt x="2890" y="317"/>
                  </a:lnTo>
                  <a:lnTo>
                    <a:pt x="2892" y="328"/>
                  </a:lnTo>
                  <a:lnTo>
                    <a:pt x="2896" y="335"/>
                  </a:lnTo>
                  <a:lnTo>
                    <a:pt x="2903" y="342"/>
                  </a:lnTo>
                  <a:lnTo>
                    <a:pt x="2910" y="345"/>
                  </a:lnTo>
                  <a:lnTo>
                    <a:pt x="2918" y="349"/>
                  </a:lnTo>
                  <a:lnTo>
                    <a:pt x="2927" y="352"/>
                  </a:lnTo>
                  <a:lnTo>
                    <a:pt x="2935" y="356"/>
                  </a:lnTo>
                  <a:lnTo>
                    <a:pt x="2966" y="356"/>
                  </a:lnTo>
                  <a:lnTo>
                    <a:pt x="2965" y="404"/>
                  </a:lnTo>
                  <a:lnTo>
                    <a:pt x="2970" y="448"/>
                  </a:lnTo>
                  <a:lnTo>
                    <a:pt x="2982" y="489"/>
                  </a:lnTo>
                  <a:lnTo>
                    <a:pt x="2997" y="529"/>
                  </a:lnTo>
                  <a:lnTo>
                    <a:pt x="3013" y="568"/>
                  </a:lnTo>
                  <a:lnTo>
                    <a:pt x="3031" y="607"/>
                  </a:lnTo>
                  <a:lnTo>
                    <a:pt x="3046" y="645"/>
                  </a:lnTo>
                  <a:lnTo>
                    <a:pt x="3060" y="689"/>
                  </a:lnTo>
                  <a:lnTo>
                    <a:pt x="3098" y="928"/>
                  </a:lnTo>
                  <a:lnTo>
                    <a:pt x="3111" y="1171"/>
                  </a:lnTo>
                  <a:lnTo>
                    <a:pt x="3103" y="1416"/>
                  </a:lnTo>
                  <a:lnTo>
                    <a:pt x="3081" y="1666"/>
                  </a:lnTo>
                  <a:lnTo>
                    <a:pt x="3048" y="1913"/>
                  </a:lnTo>
                  <a:lnTo>
                    <a:pt x="3014" y="2161"/>
                  </a:lnTo>
                  <a:lnTo>
                    <a:pt x="2980" y="2406"/>
                  </a:lnTo>
                  <a:lnTo>
                    <a:pt x="2956" y="2651"/>
                  </a:lnTo>
                  <a:lnTo>
                    <a:pt x="2925" y="2748"/>
                  </a:lnTo>
                  <a:lnTo>
                    <a:pt x="2896" y="2847"/>
                  </a:lnTo>
                  <a:lnTo>
                    <a:pt x="2868" y="2945"/>
                  </a:lnTo>
                  <a:lnTo>
                    <a:pt x="2842" y="3047"/>
                  </a:lnTo>
                  <a:lnTo>
                    <a:pt x="2816" y="3147"/>
                  </a:lnTo>
                  <a:lnTo>
                    <a:pt x="2790" y="3248"/>
                  </a:lnTo>
                  <a:lnTo>
                    <a:pt x="2764" y="3349"/>
                  </a:lnTo>
                  <a:lnTo>
                    <a:pt x="2738" y="3451"/>
                  </a:lnTo>
                  <a:lnTo>
                    <a:pt x="2633" y="3673"/>
                  </a:lnTo>
                  <a:lnTo>
                    <a:pt x="2513" y="3897"/>
                  </a:lnTo>
                  <a:lnTo>
                    <a:pt x="2375" y="4114"/>
                  </a:lnTo>
                  <a:lnTo>
                    <a:pt x="2221" y="4321"/>
                  </a:lnTo>
                  <a:lnTo>
                    <a:pt x="2046" y="4507"/>
                  </a:lnTo>
                  <a:lnTo>
                    <a:pt x="1852" y="4671"/>
                  </a:lnTo>
                  <a:lnTo>
                    <a:pt x="1637" y="4805"/>
                  </a:lnTo>
                  <a:lnTo>
                    <a:pt x="1401" y="4904"/>
                  </a:lnTo>
                  <a:lnTo>
                    <a:pt x="1261" y="4918"/>
                  </a:lnTo>
                  <a:lnTo>
                    <a:pt x="1131" y="4912"/>
                  </a:lnTo>
                  <a:lnTo>
                    <a:pt x="1004" y="4885"/>
                  </a:lnTo>
                  <a:lnTo>
                    <a:pt x="886" y="4842"/>
                  </a:lnTo>
                  <a:lnTo>
                    <a:pt x="772" y="4781"/>
                  </a:lnTo>
                  <a:lnTo>
                    <a:pt x="664" y="4708"/>
                  </a:lnTo>
                  <a:lnTo>
                    <a:pt x="562" y="4624"/>
                  </a:lnTo>
                  <a:lnTo>
                    <a:pt x="467" y="4531"/>
                  </a:lnTo>
                  <a:lnTo>
                    <a:pt x="354" y="4383"/>
                  </a:lnTo>
                  <a:lnTo>
                    <a:pt x="268" y="4228"/>
                  </a:lnTo>
                  <a:lnTo>
                    <a:pt x="202" y="4063"/>
                  </a:lnTo>
                  <a:lnTo>
                    <a:pt x="152" y="3894"/>
                  </a:lnTo>
                  <a:lnTo>
                    <a:pt x="111" y="3720"/>
                  </a:lnTo>
                  <a:lnTo>
                    <a:pt x="77" y="3544"/>
                  </a:lnTo>
                  <a:lnTo>
                    <a:pt x="45" y="3366"/>
                  </a:lnTo>
                  <a:lnTo>
                    <a:pt x="11" y="3192"/>
                  </a:lnTo>
                  <a:lnTo>
                    <a:pt x="2" y="3075"/>
                  </a:lnTo>
                  <a:lnTo>
                    <a:pt x="0" y="2964"/>
                  </a:lnTo>
                  <a:lnTo>
                    <a:pt x="0" y="2852"/>
                  </a:lnTo>
                  <a:lnTo>
                    <a:pt x="5" y="2747"/>
                  </a:lnTo>
                  <a:lnTo>
                    <a:pt x="15" y="2640"/>
                  </a:lnTo>
                  <a:lnTo>
                    <a:pt x="33" y="2533"/>
                  </a:lnTo>
                  <a:lnTo>
                    <a:pt x="59" y="2426"/>
                  </a:lnTo>
                  <a:lnTo>
                    <a:pt x="94" y="2319"/>
                  </a:lnTo>
                  <a:lnTo>
                    <a:pt x="101" y="2184"/>
                  </a:lnTo>
                  <a:lnTo>
                    <a:pt x="118" y="2050"/>
                  </a:lnTo>
                  <a:lnTo>
                    <a:pt x="140" y="1913"/>
                  </a:lnTo>
                  <a:lnTo>
                    <a:pt x="170" y="1778"/>
                  </a:lnTo>
                  <a:lnTo>
                    <a:pt x="199" y="1642"/>
                  </a:lnTo>
                  <a:lnTo>
                    <a:pt x="233" y="1507"/>
                  </a:lnTo>
                  <a:lnTo>
                    <a:pt x="267" y="1371"/>
                  </a:lnTo>
                  <a:lnTo>
                    <a:pt x="301" y="1239"/>
                  </a:lnTo>
                  <a:lnTo>
                    <a:pt x="339" y="1118"/>
                  </a:lnTo>
                  <a:lnTo>
                    <a:pt x="372" y="995"/>
                  </a:lnTo>
                  <a:lnTo>
                    <a:pt x="403" y="870"/>
                  </a:lnTo>
                  <a:lnTo>
                    <a:pt x="437" y="748"/>
                  </a:lnTo>
                  <a:lnTo>
                    <a:pt x="475" y="627"/>
                  </a:lnTo>
                  <a:lnTo>
                    <a:pt x="521" y="511"/>
                  </a:lnTo>
                  <a:lnTo>
                    <a:pt x="579" y="401"/>
                  </a:lnTo>
                  <a:lnTo>
                    <a:pt x="654" y="304"/>
                  </a:lnTo>
                  <a:lnTo>
                    <a:pt x="682" y="293"/>
                  </a:lnTo>
                  <a:lnTo>
                    <a:pt x="710" y="277"/>
                  </a:lnTo>
                  <a:lnTo>
                    <a:pt x="737" y="259"/>
                  </a:lnTo>
                  <a:lnTo>
                    <a:pt x="763" y="244"/>
                  </a:lnTo>
                  <a:lnTo>
                    <a:pt x="789" y="228"/>
                  </a:lnTo>
                  <a:lnTo>
                    <a:pt x="818" y="217"/>
                  </a:lnTo>
                  <a:lnTo>
                    <a:pt x="848" y="214"/>
                  </a:lnTo>
                  <a:lnTo>
                    <a:pt x="882" y="221"/>
                  </a:lnTo>
                  <a:lnTo>
                    <a:pt x="921" y="192"/>
                  </a:lnTo>
                  <a:lnTo>
                    <a:pt x="963" y="163"/>
                  </a:lnTo>
                  <a:lnTo>
                    <a:pt x="1008" y="135"/>
                  </a:lnTo>
                  <a:lnTo>
                    <a:pt x="1055" y="113"/>
                  </a:lnTo>
                  <a:lnTo>
                    <a:pt x="1101" y="93"/>
                  </a:lnTo>
                  <a:lnTo>
                    <a:pt x="1149" y="83"/>
                  </a:lnTo>
                  <a:lnTo>
                    <a:pt x="1197" y="83"/>
                  </a:lnTo>
                  <a:lnTo>
                    <a:pt x="1244" y="97"/>
                  </a:lnTo>
                  <a:lnTo>
                    <a:pt x="1287" y="73"/>
                  </a:lnTo>
                  <a:lnTo>
                    <a:pt x="1329" y="54"/>
                  </a:lnTo>
                  <a:lnTo>
                    <a:pt x="1372" y="35"/>
                  </a:lnTo>
                  <a:lnTo>
                    <a:pt x="1417" y="23"/>
                  </a:lnTo>
                  <a:lnTo>
                    <a:pt x="1461" y="11"/>
                  </a:lnTo>
                  <a:lnTo>
                    <a:pt x="1509" y="4"/>
                  </a:lnTo>
                  <a:lnTo>
                    <a:pt x="1557" y="0"/>
                  </a:lnTo>
                  <a:lnTo>
                    <a:pt x="1607" y="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72960" y="1161000"/>
              <a:ext cx="9000" cy="36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4815600">
              <a:off x="8248320" y="1186560"/>
              <a:ext cx="75960" cy="88200"/>
            </a:xfrm>
            <a:custGeom>
              <a:avLst/>
              <a:gdLst/>
              <a:ahLst/>
              <a:rect l="l" t="t" r="r" b="b"/>
              <a:pathLst>
                <a:path w="488" h="569">
                  <a:moveTo>
                    <a:pt x="488" y="70"/>
                  </a:moveTo>
                  <a:lnTo>
                    <a:pt x="475" y="75"/>
                  </a:lnTo>
                  <a:lnTo>
                    <a:pt x="464" y="82"/>
                  </a:lnTo>
                  <a:lnTo>
                    <a:pt x="451" y="90"/>
                  </a:lnTo>
                  <a:lnTo>
                    <a:pt x="440" y="99"/>
                  </a:lnTo>
                  <a:lnTo>
                    <a:pt x="427" y="106"/>
                  </a:lnTo>
                  <a:lnTo>
                    <a:pt x="416" y="111"/>
                  </a:lnTo>
                  <a:lnTo>
                    <a:pt x="405" y="113"/>
                  </a:lnTo>
                  <a:lnTo>
                    <a:pt x="393" y="113"/>
                  </a:lnTo>
                  <a:lnTo>
                    <a:pt x="347" y="165"/>
                  </a:lnTo>
                  <a:lnTo>
                    <a:pt x="302" y="213"/>
                  </a:lnTo>
                  <a:lnTo>
                    <a:pt x="256" y="256"/>
                  </a:lnTo>
                  <a:lnTo>
                    <a:pt x="213" y="300"/>
                  </a:lnTo>
                  <a:lnTo>
                    <a:pt x="173" y="344"/>
                  </a:lnTo>
                  <a:lnTo>
                    <a:pt x="140" y="396"/>
                  </a:lnTo>
                  <a:lnTo>
                    <a:pt x="116" y="455"/>
                  </a:lnTo>
                  <a:lnTo>
                    <a:pt x="104" y="528"/>
                  </a:lnTo>
                  <a:lnTo>
                    <a:pt x="104" y="569"/>
                  </a:lnTo>
                  <a:lnTo>
                    <a:pt x="0" y="569"/>
                  </a:lnTo>
                  <a:lnTo>
                    <a:pt x="1" y="534"/>
                  </a:lnTo>
                  <a:lnTo>
                    <a:pt x="9" y="500"/>
                  </a:lnTo>
                  <a:lnTo>
                    <a:pt x="19" y="466"/>
                  </a:lnTo>
                  <a:lnTo>
                    <a:pt x="35" y="434"/>
                  </a:lnTo>
                  <a:lnTo>
                    <a:pt x="50" y="400"/>
                  </a:lnTo>
                  <a:lnTo>
                    <a:pt x="69" y="366"/>
                  </a:lnTo>
                  <a:lnTo>
                    <a:pt x="85" y="332"/>
                  </a:lnTo>
                  <a:lnTo>
                    <a:pt x="104" y="298"/>
                  </a:lnTo>
                  <a:lnTo>
                    <a:pt x="125" y="265"/>
                  </a:lnTo>
                  <a:lnTo>
                    <a:pt x="146" y="229"/>
                  </a:lnTo>
                  <a:lnTo>
                    <a:pt x="166" y="193"/>
                  </a:lnTo>
                  <a:lnTo>
                    <a:pt x="187" y="158"/>
                  </a:lnTo>
                  <a:lnTo>
                    <a:pt x="208" y="120"/>
                  </a:lnTo>
                  <a:lnTo>
                    <a:pt x="229" y="84"/>
                  </a:lnTo>
                  <a:lnTo>
                    <a:pt x="253" y="49"/>
                  </a:lnTo>
                  <a:lnTo>
                    <a:pt x="280" y="18"/>
                  </a:lnTo>
                  <a:lnTo>
                    <a:pt x="303" y="10"/>
                  </a:lnTo>
                  <a:lnTo>
                    <a:pt x="333" y="4"/>
                  </a:lnTo>
                  <a:lnTo>
                    <a:pt x="362" y="0"/>
                  </a:lnTo>
                  <a:lnTo>
                    <a:pt x="395" y="1"/>
                  </a:lnTo>
                  <a:lnTo>
                    <a:pt x="423" y="6"/>
                  </a:lnTo>
                  <a:lnTo>
                    <a:pt x="450" y="20"/>
                  </a:lnTo>
                  <a:lnTo>
                    <a:pt x="471" y="39"/>
                  </a:lnTo>
                  <a:lnTo>
                    <a:pt x="48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8184200">
              <a:off x="8395200" y="1198800"/>
              <a:ext cx="77400" cy="84960"/>
            </a:xfrm>
            <a:custGeom>
              <a:avLst/>
              <a:gdLst/>
              <a:ahLst/>
              <a:rect l="l" t="t" r="r" b="b"/>
              <a:pathLst>
                <a:path w="362" h="511">
                  <a:moveTo>
                    <a:pt x="156" y="61"/>
                  </a:moveTo>
                  <a:lnTo>
                    <a:pt x="180" y="88"/>
                  </a:lnTo>
                  <a:lnTo>
                    <a:pt x="208" y="114"/>
                  </a:lnTo>
                  <a:lnTo>
                    <a:pt x="237" y="136"/>
                  </a:lnTo>
                  <a:lnTo>
                    <a:pt x="263" y="159"/>
                  </a:lnTo>
                  <a:lnTo>
                    <a:pt x="284" y="181"/>
                  </a:lnTo>
                  <a:lnTo>
                    <a:pt x="300" y="208"/>
                  </a:lnTo>
                  <a:lnTo>
                    <a:pt x="305" y="239"/>
                  </a:lnTo>
                  <a:lnTo>
                    <a:pt x="301" y="280"/>
                  </a:lnTo>
                  <a:lnTo>
                    <a:pt x="312" y="306"/>
                  </a:lnTo>
                  <a:lnTo>
                    <a:pt x="325" y="336"/>
                  </a:lnTo>
                  <a:lnTo>
                    <a:pt x="338" y="367"/>
                  </a:lnTo>
                  <a:lnTo>
                    <a:pt x="350" y="398"/>
                  </a:lnTo>
                  <a:lnTo>
                    <a:pt x="357" y="426"/>
                  </a:lnTo>
                  <a:lnTo>
                    <a:pt x="362" y="456"/>
                  </a:lnTo>
                  <a:lnTo>
                    <a:pt x="360" y="482"/>
                  </a:lnTo>
                  <a:lnTo>
                    <a:pt x="353" y="508"/>
                  </a:lnTo>
                  <a:lnTo>
                    <a:pt x="335" y="511"/>
                  </a:lnTo>
                  <a:lnTo>
                    <a:pt x="325" y="509"/>
                  </a:lnTo>
                  <a:lnTo>
                    <a:pt x="318" y="502"/>
                  </a:lnTo>
                  <a:lnTo>
                    <a:pt x="315" y="492"/>
                  </a:lnTo>
                  <a:lnTo>
                    <a:pt x="311" y="480"/>
                  </a:lnTo>
                  <a:lnTo>
                    <a:pt x="310" y="467"/>
                  </a:lnTo>
                  <a:lnTo>
                    <a:pt x="305" y="454"/>
                  </a:lnTo>
                  <a:lnTo>
                    <a:pt x="301" y="446"/>
                  </a:lnTo>
                  <a:lnTo>
                    <a:pt x="282" y="419"/>
                  </a:lnTo>
                  <a:lnTo>
                    <a:pt x="262" y="397"/>
                  </a:lnTo>
                  <a:lnTo>
                    <a:pt x="238" y="375"/>
                  </a:lnTo>
                  <a:lnTo>
                    <a:pt x="217" y="356"/>
                  </a:lnTo>
                  <a:lnTo>
                    <a:pt x="194" y="333"/>
                  </a:lnTo>
                  <a:lnTo>
                    <a:pt x="176" y="311"/>
                  </a:lnTo>
                  <a:lnTo>
                    <a:pt x="162" y="285"/>
                  </a:lnTo>
                  <a:lnTo>
                    <a:pt x="156" y="259"/>
                  </a:lnTo>
                  <a:lnTo>
                    <a:pt x="130" y="256"/>
                  </a:lnTo>
                  <a:lnTo>
                    <a:pt x="116" y="242"/>
                  </a:lnTo>
                  <a:lnTo>
                    <a:pt x="107" y="222"/>
                  </a:lnTo>
                  <a:lnTo>
                    <a:pt x="103" y="199"/>
                  </a:lnTo>
                  <a:lnTo>
                    <a:pt x="96" y="177"/>
                  </a:lnTo>
                  <a:lnTo>
                    <a:pt x="87" y="163"/>
                  </a:lnTo>
                  <a:lnTo>
                    <a:pt x="69" y="157"/>
                  </a:lnTo>
                  <a:lnTo>
                    <a:pt x="42" y="166"/>
                  </a:lnTo>
                  <a:lnTo>
                    <a:pt x="27" y="154"/>
                  </a:lnTo>
                  <a:lnTo>
                    <a:pt x="17" y="142"/>
                  </a:lnTo>
                  <a:lnTo>
                    <a:pt x="9" y="126"/>
                  </a:lnTo>
                  <a:lnTo>
                    <a:pt x="4" y="111"/>
                  </a:lnTo>
                  <a:lnTo>
                    <a:pt x="0" y="91"/>
                  </a:lnTo>
                  <a:lnTo>
                    <a:pt x="0" y="74"/>
                  </a:lnTo>
                  <a:lnTo>
                    <a:pt x="0" y="56"/>
                  </a:lnTo>
                  <a:lnTo>
                    <a:pt x="0" y="40"/>
                  </a:lnTo>
                  <a:lnTo>
                    <a:pt x="42" y="0"/>
                  </a:lnTo>
                  <a:lnTo>
                    <a:pt x="54" y="8"/>
                  </a:lnTo>
                  <a:lnTo>
                    <a:pt x="65" y="21"/>
                  </a:lnTo>
                  <a:lnTo>
                    <a:pt x="78" y="33"/>
                  </a:lnTo>
                  <a:lnTo>
                    <a:pt x="90" y="46"/>
                  </a:lnTo>
                  <a:lnTo>
                    <a:pt x="103" y="56"/>
                  </a:lnTo>
                  <a:lnTo>
                    <a:pt x="120" y="63"/>
                  </a:lnTo>
                  <a:lnTo>
                    <a:pt x="137" y="64"/>
                  </a:lnTo>
                  <a:lnTo>
                    <a:pt x="15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199000" y="1250280"/>
              <a:ext cx="138960" cy="190080"/>
            </a:xfrm>
            <a:custGeom>
              <a:avLst/>
              <a:gdLst/>
              <a:ahLst/>
              <a:rect l="l" t="t" r="r" b="b"/>
              <a:pathLst>
                <a:path w="897" h="1510">
                  <a:moveTo>
                    <a:pt x="587" y="0"/>
                  </a:moveTo>
                  <a:lnTo>
                    <a:pt x="575" y="5"/>
                  </a:lnTo>
                  <a:lnTo>
                    <a:pt x="562" y="12"/>
                  </a:lnTo>
                  <a:lnTo>
                    <a:pt x="548" y="19"/>
                  </a:lnTo>
                  <a:lnTo>
                    <a:pt x="535" y="26"/>
                  </a:lnTo>
                  <a:lnTo>
                    <a:pt x="521" y="32"/>
                  </a:lnTo>
                  <a:lnTo>
                    <a:pt x="507" y="41"/>
                  </a:lnTo>
                  <a:lnTo>
                    <a:pt x="495" y="49"/>
                  </a:lnTo>
                  <a:lnTo>
                    <a:pt x="483" y="62"/>
                  </a:lnTo>
                  <a:lnTo>
                    <a:pt x="512" y="52"/>
                  </a:lnTo>
                  <a:lnTo>
                    <a:pt x="544" y="48"/>
                  </a:lnTo>
                  <a:lnTo>
                    <a:pt x="578" y="48"/>
                  </a:lnTo>
                  <a:lnTo>
                    <a:pt x="613" y="52"/>
                  </a:lnTo>
                  <a:lnTo>
                    <a:pt x="647" y="60"/>
                  </a:lnTo>
                  <a:lnTo>
                    <a:pt x="682" y="74"/>
                  </a:lnTo>
                  <a:lnTo>
                    <a:pt x="714" y="91"/>
                  </a:lnTo>
                  <a:lnTo>
                    <a:pt x="744" y="114"/>
                  </a:lnTo>
                  <a:lnTo>
                    <a:pt x="797" y="187"/>
                  </a:lnTo>
                  <a:lnTo>
                    <a:pt x="838" y="269"/>
                  </a:lnTo>
                  <a:lnTo>
                    <a:pt x="866" y="356"/>
                  </a:lnTo>
                  <a:lnTo>
                    <a:pt x="886" y="449"/>
                  </a:lnTo>
                  <a:lnTo>
                    <a:pt x="894" y="545"/>
                  </a:lnTo>
                  <a:lnTo>
                    <a:pt x="897" y="643"/>
                  </a:lnTo>
                  <a:lnTo>
                    <a:pt x="894" y="742"/>
                  </a:lnTo>
                  <a:lnTo>
                    <a:pt x="888" y="840"/>
                  </a:lnTo>
                  <a:lnTo>
                    <a:pt x="866" y="933"/>
                  </a:lnTo>
                  <a:lnTo>
                    <a:pt x="842" y="1027"/>
                  </a:lnTo>
                  <a:lnTo>
                    <a:pt x="811" y="1119"/>
                  </a:lnTo>
                  <a:lnTo>
                    <a:pt x="776" y="1209"/>
                  </a:lnTo>
                  <a:lnTo>
                    <a:pt x="728" y="1291"/>
                  </a:lnTo>
                  <a:lnTo>
                    <a:pt x="670" y="1365"/>
                  </a:lnTo>
                  <a:lnTo>
                    <a:pt x="600" y="1430"/>
                  </a:lnTo>
                  <a:lnTo>
                    <a:pt x="516" y="1485"/>
                  </a:lnTo>
                  <a:lnTo>
                    <a:pt x="465" y="1502"/>
                  </a:lnTo>
                  <a:lnTo>
                    <a:pt x="416" y="1510"/>
                  </a:lnTo>
                  <a:lnTo>
                    <a:pt x="367" y="1509"/>
                  </a:lnTo>
                  <a:lnTo>
                    <a:pt x="322" y="1502"/>
                  </a:lnTo>
                  <a:lnTo>
                    <a:pt x="275" y="1485"/>
                  </a:lnTo>
                  <a:lnTo>
                    <a:pt x="232" y="1465"/>
                  </a:lnTo>
                  <a:lnTo>
                    <a:pt x="189" y="1440"/>
                  </a:lnTo>
                  <a:lnTo>
                    <a:pt x="151" y="1412"/>
                  </a:lnTo>
                  <a:lnTo>
                    <a:pt x="71" y="1308"/>
                  </a:lnTo>
                  <a:lnTo>
                    <a:pt x="23" y="1192"/>
                  </a:lnTo>
                  <a:lnTo>
                    <a:pt x="1" y="1064"/>
                  </a:lnTo>
                  <a:lnTo>
                    <a:pt x="0" y="932"/>
                  </a:lnTo>
                  <a:lnTo>
                    <a:pt x="12" y="795"/>
                  </a:lnTo>
                  <a:lnTo>
                    <a:pt x="36" y="661"/>
                  </a:lnTo>
                  <a:lnTo>
                    <a:pt x="63" y="533"/>
                  </a:lnTo>
                  <a:lnTo>
                    <a:pt x="90" y="415"/>
                  </a:lnTo>
                  <a:lnTo>
                    <a:pt x="123" y="336"/>
                  </a:lnTo>
                  <a:lnTo>
                    <a:pt x="167" y="262"/>
                  </a:lnTo>
                  <a:lnTo>
                    <a:pt x="219" y="191"/>
                  </a:lnTo>
                  <a:lnTo>
                    <a:pt x="279" y="129"/>
                  </a:lnTo>
                  <a:lnTo>
                    <a:pt x="346" y="76"/>
                  </a:lnTo>
                  <a:lnTo>
                    <a:pt x="420" y="35"/>
                  </a:lnTo>
                  <a:lnTo>
                    <a:pt x="499" y="8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256600" y="1265040"/>
              <a:ext cx="243360" cy="365760"/>
            </a:xfrm>
            <a:custGeom>
              <a:avLst/>
              <a:gdLst/>
              <a:ahLst/>
              <a:rect l="l" t="t" r="r" b="b"/>
              <a:pathLst>
                <a:path w="1563" h="2664">
                  <a:moveTo>
                    <a:pt x="1558" y="296"/>
                  </a:moveTo>
                  <a:lnTo>
                    <a:pt x="1563" y="449"/>
                  </a:lnTo>
                  <a:lnTo>
                    <a:pt x="1558" y="603"/>
                  </a:lnTo>
                  <a:lnTo>
                    <a:pt x="1539" y="751"/>
                  </a:lnTo>
                  <a:lnTo>
                    <a:pt x="1508" y="896"/>
                  </a:lnTo>
                  <a:lnTo>
                    <a:pt x="1459" y="1031"/>
                  </a:lnTo>
                  <a:lnTo>
                    <a:pt x="1394" y="1160"/>
                  </a:lnTo>
                  <a:lnTo>
                    <a:pt x="1309" y="1279"/>
                  </a:lnTo>
                  <a:lnTo>
                    <a:pt x="1204" y="1387"/>
                  </a:lnTo>
                  <a:lnTo>
                    <a:pt x="1171" y="1397"/>
                  </a:lnTo>
                  <a:lnTo>
                    <a:pt x="1134" y="1405"/>
                  </a:lnTo>
                  <a:lnTo>
                    <a:pt x="1098" y="1410"/>
                  </a:lnTo>
                  <a:lnTo>
                    <a:pt x="1061" y="1412"/>
                  </a:lnTo>
                  <a:lnTo>
                    <a:pt x="1023" y="1410"/>
                  </a:lnTo>
                  <a:lnTo>
                    <a:pt x="991" y="1402"/>
                  </a:lnTo>
                  <a:lnTo>
                    <a:pt x="960" y="1391"/>
                  </a:lnTo>
                  <a:lnTo>
                    <a:pt x="934" y="1376"/>
                  </a:lnTo>
                  <a:lnTo>
                    <a:pt x="908" y="1362"/>
                  </a:lnTo>
                  <a:lnTo>
                    <a:pt x="882" y="1345"/>
                  </a:lnTo>
                  <a:lnTo>
                    <a:pt x="860" y="1324"/>
                  </a:lnTo>
                  <a:lnTo>
                    <a:pt x="840" y="1304"/>
                  </a:lnTo>
                  <a:lnTo>
                    <a:pt x="820" y="1280"/>
                  </a:lnTo>
                  <a:lnTo>
                    <a:pt x="805" y="1256"/>
                  </a:lnTo>
                  <a:lnTo>
                    <a:pt x="790" y="1232"/>
                  </a:lnTo>
                  <a:lnTo>
                    <a:pt x="778" y="1210"/>
                  </a:lnTo>
                  <a:lnTo>
                    <a:pt x="798" y="1346"/>
                  </a:lnTo>
                  <a:lnTo>
                    <a:pt x="833" y="1487"/>
                  </a:lnTo>
                  <a:lnTo>
                    <a:pt x="873" y="1631"/>
                  </a:lnTo>
                  <a:lnTo>
                    <a:pt x="906" y="1774"/>
                  </a:lnTo>
                  <a:lnTo>
                    <a:pt x="925" y="1915"/>
                  </a:lnTo>
                  <a:lnTo>
                    <a:pt x="922" y="2057"/>
                  </a:lnTo>
                  <a:lnTo>
                    <a:pt x="887" y="2195"/>
                  </a:lnTo>
                  <a:lnTo>
                    <a:pt x="811" y="2332"/>
                  </a:lnTo>
                  <a:lnTo>
                    <a:pt x="801" y="2344"/>
                  </a:lnTo>
                  <a:lnTo>
                    <a:pt x="791" y="2354"/>
                  </a:lnTo>
                  <a:lnTo>
                    <a:pt x="778" y="2363"/>
                  </a:lnTo>
                  <a:lnTo>
                    <a:pt x="767" y="2372"/>
                  </a:lnTo>
                  <a:lnTo>
                    <a:pt x="753" y="2380"/>
                  </a:lnTo>
                  <a:lnTo>
                    <a:pt x="740" y="2389"/>
                  </a:lnTo>
                  <a:lnTo>
                    <a:pt x="728" y="2399"/>
                  </a:lnTo>
                  <a:lnTo>
                    <a:pt x="716" y="2415"/>
                  </a:lnTo>
                  <a:lnTo>
                    <a:pt x="701" y="2449"/>
                  </a:lnTo>
                  <a:lnTo>
                    <a:pt x="681" y="2485"/>
                  </a:lnTo>
                  <a:lnTo>
                    <a:pt x="657" y="2519"/>
                  </a:lnTo>
                  <a:lnTo>
                    <a:pt x="629" y="2553"/>
                  </a:lnTo>
                  <a:lnTo>
                    <a:pt x="597" y="2582"/>
                  </a:lnTo>
                  <a:lnTo>
                    <a:pt x="563" y="2610"/>
                  </a:lnTo>
                  <a:lnTo>
                    <a:pt x="525" y="2633"/>
                  </a:lnTo>
                  <a:lnTo>
                    <a:pt x="489" y="2653"/>
                  </a:lnTo>
                  <a:lnTo>
                    <a:pt x="434" y="2660"/>
                  </a:lnTo>
                  <a:lnTo>
                    <a:pt x="380" y="2664"/>
                  </a:lnTo>
                  <a:lnTo>
                    <a:pt x="330" y="2658"/>
                  </a:lnTo>
                  <a:lnTo>
                    <a:pt x="280" y="2650"/>
                  </a:lnTo>
                  <a:lnTo>
                    <a:pt x="233" y="2632"/>
                  </a:lnTo>
                  <a:lnTo>
                    <a:pt x="188" y="2608"/>
                  </a:lnTo>
                  <a:lnTo>
                    <a:pt x="144" y="2577"/>
                  </a:lnTo>
                  <a:lnTo>
                    <a:pt x="105" y="2539"/>
                  </a:lnTo>
                  <a:lnTo>
                    <a:pt x="81" y="2489"/>
                  </a:lnTo>
                  <a:lnTo>
                    <a:pt x="61" y="2440"/>
                  </a:lnTo>
                  <a:lnTo>
                    <a:pt x="43" y="2387"/>
                  </a:lnTo>
                  <a:lnTo>
                    <a:pt x="29" y="2334"/>
                  </a:lnTo>
                  <a:lnTo>
                    <a:pt x="16" y="2280"/>
                  </a:lnTo>
                  <a:lnTo>
                    <a:pt x="7" y="2226"/>
                  </a:lnTo>
                  <a:lnTo>
                    <a:pt x="2" y="2174"/>
                  </a:lnTo>
                  <a:lnTo>
                    <a:pt x="0" y="2123"/>
                  </a:lnTo>
                  <a:lnTo>
                    <a:pt x="31" y="2092"/>
                  </a:lnTo>
                  <a:lnTo>
                    <a:pt x="48" y="2142"/>
                  </a:lnTo>
                  <a:lnTo>
                    <a:pt x="72" y="2197"/>
                  </a:lnTo>
                  <a:lnTo>
                    <a:pt x="102" y="2253"/>
                  </a:lnTo>
                  <a:lnTo>
                    <a:pt x="137" y="2309"/>
                  </a:lnTo>
                  <a:lnTo>
                    <a:pt x="178" y="2358"/>
                  </a:lnTo>
                  <a:lnTo>
                    <a:pt x="228" y="2402"/>
                  </a:lnTo>
                  <a:lnTo>
                    <a:pt x="286" y="2434"/>
                  </a:lnTo>
                  <a:lnTo>
                    <a:pt x="353" y="2456"/>
                  </a:lnTo>
                  <a:lnTo>
                    <a:pt x="404" y="2444"/>
                  </a:lnTo>
                  <a:lnTo>
                    <a:pt x="455" y="2439"/>
                  </a:lnTo>
                  <a:lnTo>
                    <a:pt x="503" y="2432"/>
                  </a:lnTo>
                  <a:lnTo>
                    <a:pt x="549" y="2426"/>
                  </a:lnTo>
                  <a:lnTo>
                    <a:pt x="593" y="2413"/>
                  </a:lnTo>
                  <a:lnTo>
                    <a:pt x="635" y="2398"/>
                  </a:lnTo>
                  <a:lnTo>
                    <a:pt x="676" y="2374"/>
                  </a:lnTo>
                  <a:lnTo>
                    <a:pt x="716" y="2342"/>
                  </a:lnTo>
                  <a:lnTo>
                    <a:pt x="806" y="2192"/>
                  </a:lnTo>
                  <a:lnTo>
                    <a:pt x="846" y="2036"/>
                  </a:lnTo>
                  <a:lnTo>
                    <a:pt x="846" y="1876"/>
                  </a:lnTo>
                  <a:lnTo>
                    <a:pt x="820" y="1711"/>
                  </a:lnTo>
                  <a:lnTo>
                    <a:pt x="778" y="1543"/>
                  </a:lnTo>
                  <a:lnTo>
                    <a:pt x="735" y="1376"/>
                  </a:lnTo>
                  <a:lnTo>
                    <a:pt x="700" y="1207"/>
                  </a:lnTo>
                  <a:lnTo>
                    <a:pt x="685" y="1043"/>
                  </a:lnTo>
                  <a:lnTo>
                    <a:pt x="694" y="922"/>
                  </a:lnTo>
                  <a:lnTo>
                    <a:pt x="708" y="804"/>
                  </a:lnTo>
                  <a:lnTo>
                    <a:pt x="726" y="686"/>
                  </a:lnTo>
                  <a:lnTo>
                    <a:pt x="752" y="570"/>
                  </a:lnTo>
                  <a:lnTo>
                    <a:pt x="780" y="455"/>
                  </a:lnTo>
                  <a:lnTo>
                    <a:pt x="815" y="344"/>
                  </a:lnTo>
                  <a:lnTo>
                    <a:pt x="856" y="234"/>
                  </a:lnTo>
                  <a:lnTo>
                    <a:pt x="903" y="130"/>
                  </a:lnTo>
                  <a:lnTo>
                    <a:pt x="954" y="100"/>
                  </a:lnTo>
                  <a:lnTo>
                    <a:pt x="1010" y="71"/>
                  </a:lnTo>
                  <a:lnTo>
                    <a:pt x="1068" y="42"/>
                  </a:lnTo>
                  <a:lnTo>
                    <a:pt x="1130" y="20"/>
                  </a:lnTo>
                  <a:lnTo>
                    <a:pt x="1190" y="4"/>
                  </a:lnTo>
                  <a:lnTo>
                    <a:pt x="1254" y="0"/>
                  </a:lnTo>
                  <a:lnTo>
                    <a:pt x="1317" y="10"/>
                  </a:lnTo>
                  <a:lnTo>
                    <a:pt x="1380" y="37"/>
                  </a:lnTo>
                  <a:lnTo>
                    <a:pt x="1417" y="58"/>
                  </a:lnTo>
                  <a:lnTo>
                    <a:pt x="1446" y="86"/>
                  </a:lnTo>
                  <a:lnTo>
                    <a:pt x="1469" y="117"/>
                  </a:lnTo>
                  <a:lnTo>
                    <a:pt x="1487" y="154"/>
                  </a:lnTo>
                  <a:lnTo>
                    <a:pt x="1503" y="189"/>
                  </a:lnTo>
                  <a:lnTo>
                    <a:pt x="1518" y="227"/>
                  </a:lnTo>
                  <a:lnTo>
                    <a:pt x="1535" y="262"/>
                  </a:lnTo>
                  <a:lnTo>
                    <a:pt x="155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211600" y="1267560"/>
              <a:ext cx="116280" cy="163440"/>
            </a:xfrm>
            <a:custGeom>
              <a:avLst/>
              <a:gdLst/>
              <a:ahLst/>
              <a:rect l="l" t="t" r="r" b="b"/>
              <a:pathLst>
                <a:path w="750" h="1299">
                  <a:moveTo>
                    <a:pt x="750" y="540"/>
                  </a:moveTo>
                  <a:lnTo>
                    <a:pt x="740" y="649"/>
                  </a:lnTo>
                  <a:lnTo>
                    <a:pt x="726" y="761"/>
                  </a:lnTo>
                  <a:lnTo>
                    <a:pt x="703" y="870"/>
                  </a:lnTo>
                  <a:lnTo>
                    <a:pt x="672" y="977"/>
                  </a:lnTo>
                  <a:lnTo>
                    <a:pt x="627" y="1074"/>
                  </a:lnTo>
                  <a:lnTo>
                    <a:pt x="567" y="1163"/>
                  </a:lnTo>
                  <a:lnTo>
                    <a:pt x="487" y="1237"/>
                  </a:lnTo>
                  <a:lnTo>
                    <a:pt x="387" y="1298"/>
                  </a:lnTo>
                  <a:lnTo>
                    <a:pt x="347" y="1299"/>
                  </a:lnTo>
                  <a:lnTo>
                    <a:pt x="311" y="1299"/>
                  </a:lnTo>
                  <a:lnTo>
                    <a:pt x="277" y="1296"/>
                  </a:lnTo>
                  <a:lnTo>
                    <a:pt x="245" y="1292"/>
                  </a:lnTo>
                  <a:lnTo>
                    <a:pt x="212" y="1281"/>
                  </a:lnTo>
                  <a:lnTo>
                    <a:pt x="183" y="1267"/>
                  </a:lnTo>
                  <a:lnTo>
                    <a:pt x="153" y="1249"/>
                  </a:lnTo>
                  <a:lnTo>
                    <a:pt x="126" y="1225"/>
                  </a:lnTo>
                  <a:lnTo>
                    <a:pt x="56" y="1112"/>
                  </a:lnTo>
                  <a:lnTo>
                    <a:pt x="17" y="991"/>
                  </a:lnTo>
                  <a:lnTo>
                    <a:pt x="0" y="861"/>
                  </a:lnTo>
                  <a:lnTo>
                    <a:pt x="5" y="730"/>
                  </a:lnTo>
                  <a:lnTo>
                    <a:pt x="24" y="595"/>
                  </a:lnTo>
                  <a:lnTo>
                    <a:pt x="55" y="466"/>
                  </a:lnTo>
                  <a:lnTo>
                    <a:pt x="90" y="342"/>
                  </a:lnTo>
                  <a:lnTo>
                    <a:pt x="126" y="228"/>
                  </a:lnTo>
                  <a:lnTo>
                    <a:pt x="131" y="249"/>
                  </a:lnTo>
                  <a:lnTo>
                    <a:pt x="139" y="270"/>
                  </a:lnTo>
                  <a:lnTo>
                    <a:pt x="149" y="290"/>
                  </a:lnTo>
                  <a:lnTo>
                    <a:pt x="163" y="308"/>
                  </a:lnTo>
                  <a:lnTo>
                    <a:pt x="176" y="325"/>
                  </a:lnTo>
                  <a:lnTo>
                    <a:pt x="193" y="342"/>
                  </a:lnTo>
                  <a:lnTo>
                    <a:pt x="209" y="357"/>
                  </a:lnTo>
                  <a:lnTo>
                    <a:pt x="231" y="374"/>
                  </a:lnTo>
                  <a:lnTo>
                    <a:pt x="253" y="377"/>
                  </a:lnTo>
                  <a:lnTo>
                    <a:pt x="278" y="383"/>
                  </a:lnTo>
                  <a:lnTo>
                    <a:pt x="302" y="385"/>
                  </a:lnTo>
                  <a:lnTo>
                    <a:pt x="326" y="388"/>
                  </a:lnTo>
                  <a:lnTo>
                    <a:pt x="347" y="385"/>
                  </a:lnTo>
                  <a:lnTo>
                    <a:pt x="370" y="378"/>
                  </a:lnTo>
                  <a:lnTo>
                    <a:pt x="388" y="364"/>
                  </a:lnTo>
                  <a:lnTo>
                    <a:pt x="406" y="342"/>
                  </a:lnTo>
                  <a:lnTo>
                    <a:pt x="433" y="312"/>
                  </a:lnTo>
                  <a:lnTo>
                    <a:pt x="460" y="281"/>
                  </a:lnTo>
                  <a:lnTo>
                    <a:pt x="484" y="248"/>
                  </a:lnTo>
                  <a:lnTo>
                    <a:pt x="506" y="212"/>
                  </a:lnTo>
                  <a:lnTo>
                    <a:pt x="522" y="173"/>
                  </a:lnTo>
                  <a:lnTo>
                    <a:pt x="530" y="133"/>
                  </a:lnTo>
                  <a:lnTo>
                    <a:pt x="530" y="93"/>
                  </a:lnTo>
                  <a:lnTo>
                    <a:pt x="522" y="52"/>
                  </a:lnTo>
                  <a:lnTo>
                    <a:pt x="480" y="0"/>
                  </a:lnTo>
                  <a:lnTo>
                    <a:pt x="567" y="25"/>
                  </a:lnTo>
                  <a:lnTo>
                    <a:pt x="629" y="73"/>
                  </a:lnTo>
                  <a:lnTo>
                    <a:pt x="671" y="135"/>
                  </a:lnTo>
                  <a:lnTo>
                    <a:pt x="699" y="211"/>
                  </a:lnTo>
                  <a:lnTo>
                    <a:pt x="714" y="291"/>
                  </a:lnTo>
                  <a:lnTo>
                    <a:pt x="727" y="377"/>
                  </a:lnTo>
                  <a:lnTo>
                    <a:pt x="736" y="460"/>
                  </a:lnTo>
                  <a:lnTo>
                    <a:pt x="750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257680" y="1271520"/>
              <a:ext cx="16920" cy="1548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105" y="49"/>
                  </a:moveTo>
                  <a:lnTo>
                    <a:pt x="107" y="56"/>
                  </a:lnTo>
                  <a:lnTo>
                    <a:pt x="107" y="64"/>
                  </a:lnTo>
                  <a:lnTo>
                    <a:pt x="104" y="73"/>
                  </a:lnTo>
                  <a:lnTo>
                    <a:pt x="101" y="81"/>
                  </a:lnTo>
                  <a:lnTo>
                    <a:pt x="96" y="88"/>
                  </a:lnTo>
                  <a:lnTo>
                    <a:pt x="88" y="95"/>
                  </a:lnTo>
                  <a:lnTo>
                    <a:pt x="81" y="98"/>
                  </a:lnTo>
                  <a:lnTo>
                    <a:pt x="74" y="101"/>
                  </a:lnTo>
                  <a:lnTo>
                    <a:pt x="62" y="100"/>
                  </a:lnTo>
                  <a:lnTo>
                    <a:pt x="51" y="100"/>
                  </a:lnTo>
                  <a:lnTo>
                    <a:pt x="39" y="98"/>
                  </a:lnTo>
                  <a:lnTo>
                    <a:pt x="29" y="97"/>
                  </a:lnTo>
                  <a:lnTo>
                    <a:pt x="20" y="91"/>
                  </a:lnTo>
                  <a:lnTo>
                    <a:pt x="13" y="87"/>
                  </a:lnTo>
                  <a:lnTo>
                    <a:pt x="6" y="77"/>
                  </a:lnTo>
                  <a:lnTo>
                    <a:pt x="3" y="69"/>
                  </a:lnTo>
                  <a:lnTo>
                    <a:pt x="0" y="49"/>
                  </a:lnTo>
                  <a:lnTo>
                    <a:pt x="11" y="29"/>
                  </a:lnTo>
                  <a:lnTo>
                    <a:pt x="29" y="14"/>
                  </a:lnTo>
                  <a:lnTo>
                    <a:pt x="53" y="4"/>
                  </a:lnTo>
                  <a:lnTo>
                    <a:pt x="76" y="0"/>
                  </a:lnTo>
                  <a:lnTo>
                    <a:pt x="94" y="4"/>
                  </a:lnTo>
                  <a:lnTo>
                    <a:pt x="104" y="19"/>
                  </a:lnTo>
                  <a:lnTo>
                    <a:pt x="10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379720" y="1275840"/>
              <a:ext cx="110880" cy="171360"/>
            </a:xfrm>
            <a:custGeom>
              <a:avLst/>
              <a:gdLst/>
              <a:ahLst/>
              <a:rect l="l" t="t" r="r" b="b"/>
              <a:pathLst>
                <a:path w="714" h="1249">
                  <a:moveTo>
                    <a:pt x="694" y="259"/>
                  </a:moveTo>
                  <a:lnTo>
                    <a:pt x="713" y="377"/>
                  </a:lnTo>
                  <a:lnTo>
                    <a:pt x="714" y="494"/>
                  </a:lnTo>
                  <a:lnTo>
                    <a:pt x="703" y="607"/>
                  </a:lnTo>
                  <a:lnTo>
                    <a:pt x="680" y="719"/>
                  </a:lnTo>
                  <a:lnTo>
                    <a:pt x="647" y="828"/>
                  </a:lnTo>
                  <a:lnTo>
                    <a:pt x="607" y="935"/>
                  </a:lnTo>
                  <a:lnTo>
                    <a:pt x="564" y="1039"/>
                  </a:lnTo>
                  <a:lnTo>
                    <a:pt x="519" y="1142"/>
                  </a:lnTo>
                  <a:lnTo>
                    <a:pt x="490" y="1178"/>
                  </a:lnTo>
                  <a:lnTo>
                    <a:pt x="459" y="1206"/>
                  </a:lnTo>
                  <a:lnTo>
                    <a:pt x="424" y="1226"/>
                  </a:lnTo>
                  <a:lnTo>
                    <a:pt x="386" y="1240"/>
                  </a:lnTo>
                  <a:lnTo>
                    <a:pt x="344" y="1246"/>
                  </a:lnTo>
                  <a:lnTo>
                    <a:pt x="302" y="1249"/>
                  </a:lnTo>
                  <a:lnTo>
                    <a:pt x="260" y="1247"/>
                  </a:lnTo>
                  <a:lnTo>
                    <a:pt x="218" y="1246"/>
                  </a:lnTo>
                  <a:lnTo>
                    <a:pt x="153" y="1201"/>
                  </a:lnTo>
                  <a:lnTo>
                    <a:pt x="105" y="1147"/>
                  </a:lnTo>
                  <a:lnTo>
                    <a:pt x="67" y="1085"/>
                  </a:lnTo>
                  <a:lnTo>
                    <a:pt x="42" y="1021"/>
                  </a:lnTo>
                  <a:lnTo>
                    <a:pt x="22" y="949"/>
                  </a:lnTo>
                  <a:lnTo>
                    <a:pt x="11" y="876"/>
                  </a:lnTo>
                  <a:lnTo>
                    <a:pt x="2" y="799"/>
                  </a:lnTo>
                  <a:lnTo>
                    <a:pt x="0" y="726"/>
                  </a:lnTo>
                  <a:lnTo>
                    <a:pt x="7" y="702"/>
                  </a:lnTo>
                  <a:lnTo>
                    <a:pt x="11" y="680"/>
                  </a:lnTo>
                  <a:lnTo>
                    <a:pt x="11" y="657"/>
                  </a:lnTo>
                  <a:lnTo>
                    <a:pt x="9" y="636"/>
                  </a:lnTo>
                  <a:lnTo>
                    <a:pt x="7" y="612"/>
                  </a:lnTo>
                  <a:lnTo>
                    <a:pt x="7" y="590"/>
                  </a:lnTo>
                  <a:lnTo>
                    <a:pt x="11" y="564"/>
                  </a:lnTo>
                  <a:lnTo>
                    <a:pt x="21" y="539"/>
                  </a:lnTo>
                  <a:lnTo>
                    <a:pt x="29" y="511"/>
                  </a:lnTo>
                  <a:lnTo>
                    <a:pt x="36" y="483"/>
                  </a:lnTo>
                  <a:lnTo>
                    <a:pt x="42" y="453"/>
                  </a:lnTo>
                  <a:lnTo>
                    <a:pt x="47" y="425"/>
                  </a:lnTo>
                  <a:lnTo>
                    <a:pt x="52" y="395"/>
                  </a:lnTo>
                  <a:lnTo>
                    <a:pt x="59" y="366"/>
                  </a:lnTo>
                  <a:lnTo>
                    <a:pt x="68" y="338"/>
                  </a:lnTo>
                  <a:lnTo>
                    <a:pt x="83" y="311"/>
                  </a:lnTo>
                  <a:lnTo>
                    <a:pt x="75" y="335"/>
                  </a:lnTo>
                  <a:lnTo>
                    <a:pt x="77" y="355"/>
                  </a:lnTo>
                  <a:lnTo>
                    <a:pt x="85" y="369"/>
                  </a:lnTo>
                  <a:lnTo>
                    <a:pt x="101" y="383"/>
                  </a:lnTo>
                  <a:lnTo>
                    <a:pt x="118" y="393"/>
                  </a:lnTo>
                  <a:lnTo>
                    <a:pt x="137" y="404"/>
                  </a:lnTo>
                  <a:lnTo>
                    <a:pt x="157" y="412"/>
                  </a:lnTo>
                  <a:lnTo>
                    <a:pt x="175" y="425"/>
                  </a:lnTo>
                  <a:lnTo>
                    <a:pt x="216" y="433"/>
                  </a:lnTo>
                  <a:lnTo>
                    <a:pt x="256" y="431"/>
                  </a:lnTo>
                  <a:lnTo>
                    <a:pt x="292" y="418"/>
                  </a:lnTo>
                  <a:lnTo>
                    <a:pt x="329" y="398"/>
                  </a:lnTo>
                  <a:lnTo>
                    <a:pt x="361" y="372"/>
                  </a:lnTo>
                  <a:lnTo>
                    <a:pt x="392" y="342"/>
                  </a:lnTo>
                  <a:lnTo>
                    <a:pt x="420" y="311"/>
                  </a:lnTo>
                  <a:lnTo>
                    <a:pt x="445" y="280"/>
                  </a:lnTo>
                  <a:lnTo>
                    <a:pt x="451" y="256"/>
                  </a:lnTo>
                  <a:lnTo>
                    <a:pt x="458" y="232"/>
                  </a:lnTo>
                  <a:lnTo>
                    <a:pt x="464" y="208"/>
                  </a:lnTo>
                  <a:lnTo>
                    <a:pt x="468" y="186"/>
                  </a:lnTo>
                  <a:lnTo>
                    <a:pt x="468" y="162"/>
                  </a:lnTo>
                  <a:lnTo>
                    <a:pt x="465" y="139"/>
                  </a:lnTo>
                  <a:lnTo>
                    <a:pt x="457" y="115"/>
                  </a:lnTo>
                  <a:lnTo>
                    <a:pt x="445" y="93"/>
                  </a:lnTo>
                  <a:lnTo>
                    <a:pt x="431" y="86"/>
                  </a:lnTo>
                  <a:lnTo>
                    <a:pt x="422" y="77"/>
                  </a:lnTo>
                  <a:lnTo>
                    <a:pt x="414" y="65"/>
                  </a:lnTo>
                  <a:lnTo>
                    <a:pt x="410" y="53"/>
                  </a:lnTo>
                  <a:lnTo>
                    <a:pt x="406" y="38"/>
                  </a:lnTo>
                  <a:lnTo>
                    <a:pt x="403" y="25"/>
                  </a:lnTo>
                  <a:lnTo>
                    <a:pt x="398" y="11"/>
                  </a:lnTo>
                  <a:lnTo>
                    <a:pt x="393" y="0"/>
                  </a:lnTo>
                  <a:lnTo>
                    <a:pt x="451" y="3"/>
                  </a:lnTo>
                  <a:lnTo>
                    <a:pt x="502" y="18"/>
                  </a:lnTo>
                  <a:lnTo>
                    <a:pt x="547" y="43"/>
                  </a:lnTo>
                  <a:lnTo>
                    <a:pt x="586" y="79"/>
                  </a:lnTo>
                  <a:lnTo>
                    <a:pt x="618" y="119"/>
                  </a:lnTo>
                  <a:lnTo>
                    <a:pt x="648" y="165"/>
                  </a:lnTo>
                  <a:lnTo>
                    <a:pt x="672" y="211"/>
                  </a:lnTo>
                  <a:lnTo>
                    <a:pt x="694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416800" y="1293120"/>
              <a:ext cx="15480" cy="16560"/>
            </a:xfrm>
            <a:custGeom>
              <a:avLst/>
              <a:gdLst/>
              <a:ahLst/>
              <a:rect l="l" t="t" r="r" b="b"/>
              <a:pathLst>
                <a:path w="100" h="106">
                  <a:moveTo>
                    <a:pt x="92" y="2"/>
                  </a:moveTo>
                  <a:lnTo>
                    <a:pt x="97" y="13"/>
                  </a:lnTo>
                  <a:lnTo>
                    <a:pt x="100" y="26"/>
                  </a:lnTo>
                  <a:lnTo>
                    <a:pt x="98" y="40"/>
                  </a:lnTo>
                  <a:lnTo>
                    <a:pt x="95" y="54"/>
                  </a:lnTo>
                  <a:lnTo>
                    <a:pt x="88" y="67"/>
                  </a:lnTo>
                  <a:lnTo>
                    <a:pt x="81" y="81"/>
                  </a:lnTo>
                  <a:lnTo>
                    <a:pt x="71" y="93"/>
                  </a:lnTo>
                  <a:lnTo>
                    <a:pt x="62" y="106"/>
                  </a:lnTo>
                  <a:lnTo>
                    <a:pt x="47" y="103"/>
                  </a:lnTo>
                  <a:lnTo>
                    <a:pt x="35" y="100"/>
                  </a:lnTo>
                  <a:lnTo>
                    <a:pt x="22" y="93"/>
                  </a:lnTo>
                  <a:lnTo>
                    <a:pt x="12" y="86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9" y="44"/>
                  </a:lnTo>
                  <a:lnTo>
                    <a:pt x="11" y="26"/>
                  </a:lnTo>
                  <a:lnTo>
                    <a:pt x="18" y="15"/>
                  </a:lnTo>
                  <a:lnTo>
                    <a:pt x="26" y="6"/>
                  </a:lnTo>
                  <a:lnTo>
                    <a:pt x="39" y="3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573040" y="1340640"/>
              <a:ext cx="144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556840" y="1397160"/>
              <a:ext cx="3240" cy="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974000" y="1523520"/>
              <a:ext cx="88560" cy="144720"/>
            </a:xfrm>
            <a:custGeom>
              <a:avLst/>
              <a:gdLst/>
              <a:ahLst/>
              <a:rect l="l" t="t" r="r" b="b"/>
              <a:pathLst>
                <a:path w="573" h="932">
                  <a:moveTo>
                    <a:pt x="480" y="177"/>
                  </a:moveTo>
                  <a:lnTo>
                    <a:pt x="519" y="262"/>
                  </a:lnTo>
                  <a:lnTo>
                    <a:pt x="542" y="350"/>
                  </a:lnTo>
                  <a:lnTo>
                    <a:pt x="550" y="438"/>
                  </a:lnTo>
                  <a:lnTo>
                    <a:pt x="553" y="528"/>
                  </a:lnTo>
                  <a:lnTo>
                    <a:pt x="550" y="618"/>
                  </a:lnTo>
                  <a:lnTo>
                    <a:pt x="550" y="712"/>
                  </a:lnTo>
                  <a:lnTo>
                    <a:pt x="556" y="807"/>
                  </a:lnTo>
                  <a:lnTo>
                    <a:pt x="573" y="904"/>
                  </a:lnTo>
                  <a:lnTo>
                    <a:pt x="547" y="919"/>
                  </a:lnTo>
                  <a:lnTo>
                    <a:pt x="522" y="929"/>
                  </a:lnTo>
                  <a:lnTo>
                    <a:pt x="495" y="932"/>
                  </a:lnTo>
                  <a:lnTo>
                    <a:pt x="469" y="932"/>
                  </a:lnTo>
                  <a:lnTo>
                    <a:pt x="440" y="925"/>
                  </a:lnTo>
                  <a:lnTo>
                    <a:pt x="415" y="914"/>
                  </a:lnTo>
                  <a:lnTo>
                    <a:pt x="388" y="900"/>
                  </a:lnTo>
                  <a:lnTo>
                    <a:pt x="366" y="883"/>
                  </a:lnTo>
                  <a:lnTo>
                    <a:pt x="284" y="809"/>
                  </a:lnTo>
                  <a:lnTo>
                    <a:pt x="208" y="735"/>
                  </a:lnTo>
                  <a:lnTo>
                    <a:pt x="139" y="655"/>
                  </a:lnTo>
                  <a:lnTo>
                    <a:pt x="83" y="571"/>
                  </a:lnTo>
                  <a:lnTo>
                    <a:pt x="38" y="481"/>
                  </a:lnTo>
                  <a:lnTo>
                    <a:pt x="10" y="387"/>
                  </a:lnTo>
                  <a:lnTo>
                    <a:pt x="0" y="286"/>
                  </a:lnTo>
                  <a:lnTo>
                    <a:pt x="13" y="177"/>
                  </a:lnTo>
                  <a:lnTo>
                    <a:pt x="27" y="143"/>
                  </a:lnTo>
                  <a:lnTo>
                    <a:pt x="48" y="114"/>
                  </a:lnTo>
                  <a:lnTo>
                    <a:pt x="72" y="89"/>
                  </a:lnTo>
                  <a:lnTo>
                    <a:pt x="101" y="69"/>
                  </a:lnTo>
                  <a:lnTo>
                    <a:pt x="132" y="48"/>
                  </a:lnTo>
                  <a:lnTo>
                    <a:pt x="165" y="31"/>
                  </a:lnTo>
                  <a:lnTo>
                    <a:pt x="197" y="14"/>
                  </a:lnTo>
                  <a:lnTo>
                    <a:pt x="231" y="0"/>
                  </a:lnTo>
                  <a:lnTo>
                    <a:pt x="272" y="3"/>
                  </a:lnTo>
                  <a:lnTo>
                    <a:pt x="311" y="13"/>
                  </a:lnTo>
                  <a:lnTo>
                    <a:pt x="348" y="29"/>
                  </a:lnTo>
                  <a:lnTo>
                    <a:pt x="381" y="52"/>
                  </a:lnTo>
                  <a:lnTo>
                    <a:pt x="411" y="77"/>
                  </a:lnTo>
                  <a:lnTo>
                    <a:pt x="439" y="108"/>
                  </a:lnTo>
                  <a:lnTo>
                    <a:pt x="460" y="141"/>
                  </a:lnTo>
                  <a:lnTo>
                    <a:pt x="480" y="177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517960" y="1552680"/>
              <a:ext cx="77040" cy="91440"/>
            </a:xfrm>
            <a:custGeom>
              <a:avLst/>
              <a:gdLst/>
              <a:ahLst/>
              <a:rect l="l" t="t" r="r" b="b"/>
              <a:pathLst>
                <a:path w="498" h="589">
                  <a:moveTo>
                    <a:pt x="498" y="112"/>
                  </a:moveTo>
                  <a:lnTo>
                    <a:pt x="498" y="164"/>
                  </a:lnTo>
                  <a:lnTo>
                    <a:pt x="436" y="167"/>
                  </a:lnTo>
                  <a:lnTo>
                    <a:pt x="379" y="184"/>
                  </a:lnTo>
                  <a:lnTo>
                    <a:pt x="322" y="212"/>
                  </a:lnTo>
                  <a:lnTo>
                    <a:pt x="272" y="249"/>
                  </a:lnTo>
                  <a:lnTo>
                    <a:pt x="221" y="290"/>
                  </a:lnTo>
                  <a:lnTo>
                    <a:pt x="176" y="337"/>
                  </a:lnTo>
                  <a:lnTo>
                    <a:pt x="133" y="385"/>
                  </a:lnTo>
                  <a:lnTo>
                    <a:pt x="93" y="435"/>
                  </a:lnTo>
                  <a:lnTo>
                    <a:pt x="78" y="453"/>
                  </a:lnTo>
                  <a:lnTo>
                    <a:pt x="68" y="474"/>
                  </a:lnTo>
                  <a:lnTo>
                    <a:pt x="58" y="495"/>
                  </a:lnTo>
                  <a:lnTo>
                    <a:pt x="51" y="516"/>
                  </a:lnTo>
                  <a:lnTo>
                    <a:pt x="40" y="535"/>
                  </a:lnTo>
                  <a:lnTo>
                    <a:pt x="30" y="554"/>
                  </a:lnTo>
                  <a:lnTo>
                    <a:pt x="16" y="571"/>
                  </a:lnTo>
                  <a:lnTo>
                    <a:pt x="0" y="589"/>
                  </a:lnTo>
                  <a:lnTo>
                    <a:pt x="93" y="237"/>
                  </a:lnTo>
                  <a:lnTo>
                    <a:pt x="133" y="192"/>
                  </a:lnTo>
                  <a:lnTo>
                    <a:pt x="182" y="138"/>
                  </a:lnTo>
                  <a:lnTo>
                    <a:pt x="237" y="81"/>
                  </a:lnTo>
                  <a:lnTo>
                    <a:pt x="296" y="33"/>
                  </a:lnTo>
                  <a:lnTo>
                    <a:pt x="352" y="2"/>
                  </a:lnTo>
                  <a:lnTo>
                    <a:pt x="408" y="0"/>
                  </a:lnTo>
                  <a:lnTo>
                    <a:pt x="457" y="32"/>
                  </a:lnTo>
                  <a:lnTo>
                    <a:pt x="498" y="112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981920" y="1558440"/>
              <a:ext cx="71280" cy="70200"/>
            </a:xfrm>
            <a:custGeom>
              <a:avLst/>
              <a:gdLst/>
              <a:ahLst/>
              <a:rect l="l" t="t" r="r" b="b"/>
              <a:pathLst>
                <a:path w="459" h="452">
                  <a:moveTo>
                    <a:pt x="459" y="286"/>
                  </a:moveTo>
                  <a:lnTo>
                    <a:pt x="454" y="297"/>
                  </a:lnTo>
                  <a:lnTo>
                    <a:pt x="454" y="309"/>
                  </a:lnTo>
                  <a:lnTo>
                    <a:pt x="454" y="322"/>
                  </a:lnTo>
                  <a:lnTo>
                    <a:pt x="456" y="335"/>
                  </a:lnTo>
                  <a:lnTo>
                    <a:pt x="454" y="346"/>
                  </a:lnTo>
                  <a:lnTo>
                    <a:pt x="452" y="359"/>
                  </a:lnTo>
                  <a:lnTo>
                    <a:pt x="446" y="369"/>
                  </a:lnTo>
                  <a:lnTo>
                    <a:pt x="438" y="378"/>
                  </a:lnTo>
                  <a:lnTo>
                    <a:pt x="426" y="376"/>
                  </a:lnTo>
                  <a:lnTo>
                    <a:pt x="418" y="369"/>
                  </a:lnTo>
                  <a:lnTo>
                    <a:pt x="412" y="359"/>
                  </a:lnTo>
                  <a:lnTo>
                    <a:pt x="408" y="347"/>
                  </a:lnTo>
                  <a:lnTo>
                    <a:pt x="404" y="333"/>
                  </a:lnTo>
                  <a:lnTo>
                    <a:pt x="402" y="321"/>
                  </a:lnTo>
                  <a:lnTo>
                    <a:pt x="398" y="307"/>
                  </a:lnTo>
                  <a:lnTo>
                    <a:pt x="397" y="295"/>
                  </a:lnTo>
                  <a:lnTo>
                    <a:pt x="383" y="300"/>
                  </a:lnTo>
                  <a:lnTo>
                    <a:pt x="370" y="302"/>
                  </a:lnTo>
                  <a:lnTo>
                    <a:pt x="356" y="301"/>
                  </a:lnTo>
                  <a:lnTo>
                    <a:pt x="343" y="298"/>
                  </a:lnTo>
                  <a:lnTo>
                    <a:pt x="331" y="290"/>
                  </a:lnTo>
                  <a:lnTo>
                    <a:pt x="322" y="280"/>
                  </a:lnTo>
                  <a:lnTo>
                    <a:pt x="315" y="267"/>
                  </a:lnTo>
                  <a:lnTo>
                    <a:pt x="314" y="255"/>
                  </a:lnTo>
                  <a:lnTo>
                    <a:pt x="305" y="255"/>
                  </a:lnTo>
                  <a:lnTo>
                    <a:pt x="297" y="257"/>
                  </a:lnTo>
                  <a:lnTo>
                    <a:pt x="290" y="260"/>
                  </a:lnTo>
                  <a:lnTo>
                    <a:pt x="284" y="266"/>
                  </a:lnTo>
                  <a:lnTo>
                    <a:pt x="277" y="271"/>
                  </a:lnTo>
                  <a:lnTo>
                    <a:pt x="274" y="278"/>
                  </a:lnTo>
                  <a:lnTo>
                    <a:pt x="272" y="287"/>
                  </a:lnTo>
                  <a:lnTo>
                    <a:pt x="272" y="295"/>
                  </a:lnTo>
                  <a:lnTo>
                    <a:pt x="266" y="314"/>
                  </a:lnTo>
                  <a:lnTo>
                    <a:pt x="267" y="332"/>
                  </a:lnTo>
                  <a:lnTo>
                    <a:pt x="273" y="349"/>
                  </a:lnTo>
                  <a:lnTo>
                    <a:pt x="284" y="366"/>
                  </a:lnTo>
                  <a:lnTo>
                    <a:pt x="296" y="378"/>
                  </a:lnTo>
                  <a:lnTo>
                    <a:pt x="312" y="390"/>
                  </a:lnTo>
                  <a:lnTo>
                    <a:pt x="328" y="397"/>
                  </a:lnTo>
                  <a:lnTo>
                    <a:pt x="345" y="400"/>
                  </a:lnTo>
                  <a:lnTo>
                    <a:pt x="359" y="402"/>
                  </a:lnTo>
                  <a:lnTo>
                    <a:pt x="374" y="404"/>
                  </a:lnTo>
                  <a:lnTo>
                    <a:pt x="386" y="404"/>
                  </a:lnTo>
                  <a:lnTo>
                    <a:pt x="397" y="409"/>
                  </a:lnTo>
                  <a:lnTo>
                    <a:pt x="394" y="419"/>
                  </a:lnTo>
                  <a:lnTo>
                    <a:pt x="391" y="429"/>
                  </a:lnTo>
                  <a:lnTo>
                    <a:pt x="384" y="438"/>
                  </a:lnTo>
                  <a:lnTo>
                    <a:pt x="377" y="445"/>
                  </a:lnTo>
                  <a:lnTo>
                    <a:pt x="367" y="449"/>
                  </a:lnTo>
                  <a:lnTo>
                    <a:pt x="357" y="452"/>
                  </a:lnTo>
                  <a:lnTo>
                    <a:pt x="346" y="452"/>
                  </a:lnTo>
                  <a:lnTo>
                    <a:pt x="335" y="452"/>
                  </a:lnTo>
                  <a:lnTo>
                    <a:pt x="310" y="452"/>
                  </a:lnTo>
                  <a:lnTo>
                    <a:pt x="287" y="449"/>
                  </a:lnTo>
                  <a:lnTo>
                    <a:pt x="265" y="442"/>
                  </a:lnTo>
                  <a:lnTo>
                    <a:pt x="245" y="432"/>
                  </a:lnTo>
                  <a:lnTo>
                    <a:pt x="225" y="416"/>
                  </a:lnTo>
                  <a:lnTo>
                    <a:pt x="210" y="400"/>
                  </a:lnTo>
                  <a:lnTo>
                    <a:pt x="197" y="378"/>
                  </a:lnTo>
                  <a:lnTo>
                    <a:pt x="189" y="357"/>
                  </a:lnTo>
                  <a:lnTo>
                    <a:pt x="187" y="328"/>
                  </a:lnTo>
                  <a:lnTo>
                    <a:pt x="191" y="298"/>
                  </a:lnTo>
                  <a:lnTo>
                    <a:pt x="200" y="267"/>
                  </a:lnTo>
                  <a:lnTo>
                    <a:pt x="213" y="238"/>
                  </a:lnTo>
                  <a:lnTo>
                    <a:pt x="228" y="210"/>
                  </a:lnTo>
                  <a:lnTo>
                    <a:pt x="248" y="186"/>
                  </a:lnTo>
                  <a:lnTo>
                    <a:pt x="269" y="164"/>
                  </a:lnTo>
                  <a:lnTo>
                    <a:pt x="293" y="150"/>
                  </a:lnTo>
                  <a:lnTo>
                    <a:pt x="273" y="121"/>
                  </a:lnTo>
                  <a:lnTo>
                    <a:pt x="252" y="101"/>
                  </a:lnTo>
                  <a:lnTo>
                    <a:pt x="227" y="87"/>
                  </a:lnTo>
                  <a:lnTo>
                    <a:pt x="198" y="80"/>
                  </a:lnTo>
                  <a:lnTo>
                    <a:pt x="168" y="76"/>
                  </a:lnTo>
                  <a:lnTo>
                    <a:pt x="137" y="76"/>
                  </a:lnTo>
                  <a:lnTo>
                    <a:pt x="104" y="80"/>
                  </a:lnTo>
                  <a:lnTo>
                    <a:pt x="75" y="88"/>
                  </a:lnTo>
                  <a:lnTo>
                    <a:pt x="65" y="91"/>
                  </a:lnTo>
                  <a:lnTo>
                    <a:pt x="52" y="93"/>
                  </a:lnTo>
                  <a:lnTo>
                    <a:pt x="44" y="93"/>
                  </a:lnTo>
                  <a:lnTo>
                    <a:pt x="37" y="93"/>
                  </a:lnTo>
                  <a:lnTo>
                    <a:pt x="30" y="94"/>
                  </a:lnTo>
                  <a:lnTo>
                    <a:pt x="23" y="98"/>
                  </a:lnTo>
                  <a:lnTo>
                    <a:pt x="14" y="93"/>
                  </a:lnTo>
                  <a:lnTo>
                    <a:pt x="9" y="87"/>
                  </a:lnTo>
                  <a:lnTo>
                    <a:pt x="4" y="79"/>
                  </a:lnTo>
                  <a:lnTo>
                    <a:pt x="2" y="72"/>
                  </a:lnTo>
                  <a:lnTo>
                    <a:pt x="0" y="63"/>
                  </a:lnTo>
                  <a:lnTo>
                    <a:pt x="2" y="56"/>
                  </a:lnTo>
                  <a:lnTo>
                    <a:pt x="4" y="49"/>
                  </a:lnTo>
                  <a:lnTo>
                    <a:pt x="13" y="46"/>
                  </a:lnTo>
                  <a:lnTo>
                    <a:pt x="40" y="22"/>
                  </a:lnTo>
                  <a:lnTo>
                    <a:pt x="68" y="8"/>
                  </a:lnTo>
                  <a:lnTo>
                    <a:pt x="97" y="0"/>
                  </a:lnTo>
                  <a:lnTo>
                    <a:pt x="127" y="0"/>
                  </a:lnTo>
                  <a:lnTo>
                    <a:pt x="155" y="1"/>
                  </a:lnTo>
                  <a:lnTo>
                    <a:pt x="184" y="8"/>
                  </a:lnTo>
                  <a:lnTo>
                    <a:pt x="213" y="17"/>
                  </a:lnTo>
                  <a:lnTo>
                    <a:pt x="241" y="25"/>
                  </a:lnTo>
                  <a:lnTo>
                    <a:pt x="280" y="49"/>
                  </a:lnTo>
                  <a:lnTo>
                    <a:pt x="315" y="76"/>
                  </a:lnTo>
                  <a:lnTo>
                    <a:pt x="345" y="104"/>
                  </a:lnTo>
                  <a:lnTo>
                    <a:pt x="373" y="136"/>
                  </a:lnTo>
                  <a:lnTo>
                    <a:pt x="395" y="169"/>
                  </a:lnTo>
                  <a:lnTo>
                    <a:pt x="418" y="204"/>
                  </a:lnTo>
                  <a:lnTo>
                    <a:pt x="438" y="242"/>
                  </a:lnTo>
                  <a:lnTo>
                    <a:pt x="459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543160" y="1557360"/>
              <a:ext cx="7200" cy="396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5" y="31"/>
                  </a:moveTo>
                  <a:lnTo>
                    <a:pt x="0" y="17"/>
                  </a:lnTo>
                  <a:lnTo>
                    <a:pt x="1" y="13"/>
                  </a:lnTo>
                  <a:lnTo>
                    <a:pt x="5" y="10"/>
                  </a:lnTo>
                  <a:lnTo>
                    <a:pt x="14" y="11"/>
                  </a:lnTo>
                  <a:lnTo>
                    <a:pt x="22" y="11"/>
                  </a:lnTo>
                  <a:lnTo>
                    <a:pt x="32" y="11"/>
                  </a:lnTo>
                  <a:lnTo>
                    <a:pt x="40" y="7"/>
                  </a:lnTo>
                  <a:lnTo>
                    <a:pt x="47" y="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493840" y="1585080"/>
              <a:ext cx="101520" cy="124200"/>
            </a:xfrm>
            <a:custGeom>
              <a:avLst/>
              <a:gdLst/>
              <a:ahLst/>
              <a:rect l="l" t="t" r="r" b="b"/>
              <a:pathLst>
                <a:path w="654" h="798">
                  <a:moveTo>
                    <a:pt x="291" y="664"/>
                  </a:moveTo>
                  <a:lnTo>
                    <a:pt x="256" y="684"/>
                  </a:lnTo>
                  <a:lnTo>
                    <a:pt x="222" y="705"/>
                  </a:lnTo>
                  <a:lnTo>
                    <a:pt x="187" y="727"/>
                  </a:lnTo>
                  <a:lnTo>
                    <a:pt x="153" y="750"/>
                  </a:lnTo>
                  <a:lnTo>
                    <a:pt x="117" y="768"/>
                  </a:lnTo>
                  <a:lnTo>
                    <a:pt x="80" y="784"/>
                  </a:lnTo>
                  <a:lnTo>
                    <a:pt x="41" y="794"/>
                  </a:lnTo>
                  <a:lnTo>
                    <a:pt x="0" y="798"/>
                  </a:lnTo>
                  <a:lnTo>
                    <a:pt x="125" y="477"/>
                  </a:lnTo>
                  <a:lnTo>
                    <a:pt x="162" y="467"/>
                  </a:lnTo>
                  <a:lnTo>
                    <a:pt x="191" y="446"/>
                  </a:lnTo>
                  <a:lnTo>
                    <a:pt x="217" y="415"/>
                  </a:lnTo>
                  <a:lnTo>
                    <a:pt x="241" y="381"/>
                  </a:lnTo>
                  <a:lnTo>
                    <a:pt x="263" y="344"/>
                  </a:lnTo>
                  <a:lnTo>
                    <a:pt x="290" y="313"/>
                  </a:lnTo>
                  <a:lnTo>
                    <a:pt x="321" y="290"/>
                  </a:lnTo>
                  <a:lnTo>
                    <a:pt x="364" y="280"/>
                  </a:lnTo>
                  <a:lnTo>
                    <a:pt x="374" y="318"/>
                  </a:lnTo>
                  <a:lnTo>
                    <a:pt x="363" y="353"/>
                  </a:lnTo>
                  <a:lnTo>
                    <a:pt x="338" y="382"/>
                  </a:lnTo>
                  <a:lnTo>
                    <a:pt x="305" y="411"/>
                  </a:lnTo>
                  <a:lnTo>
                    <a:pt x="270" y="437"/>
                  </a:lnTo>
                  <a:lnTo>
                    <a:pt x="245" y="466"/>
                  </a:lnTo>
                  <a:lnTo>
                    <a:pt x="231" y="495"/>
                  </a:lnTo>
                  <a:lnTo>
                    <a:pt x="239" y="529"/>
                  </a:lnTo>
                  <a:lnTo>
                    <a:pt x="274" y="512"/>
                  </a:lnTo>
                  <a:lnTo>
                    <a:pt x="307" y="492"/>
                  </a:lnTo>
                  <a:lnTo>
                    <a:pt x="336" y="468"/>
                  </a:lnTo>
                  <a:lnTo>
                    <a:pt x="363" y="440"/>
                  </a:lnTo>
                  <a:lnTo>
                    <a:pt x="387" y="409"/>
                  </a:lnTo>
                  <a:lnTo>
                    <a:pt x="411" y="378"/>
                  </a:lnTo>
                  <a:lnTo>
                    <a:pt x="433" y="349"/>
                  </a:lnTo>
                  <a:lnTo>
                    <a:pt x="457" y="320"/>
                  </a:lnTo>
                  <a:lnTo>
                    <a:pt x="470" y="292"/>
                  </a:lnTo>
                  <a:lnTo>
                    <a:pt x="473" y="268"/>
                  </a:lnTo>
                  <a:lnTo>
                    <a:pt x="466" y="244"/>
                  </a:lnTo>
                  <a:lnTo>
                    <a:pt x="455" y="225"/>
                  </a:lnTo>
                  <a:lnTo>
                    <a:pt x="435" y="208"/>
                  </a:lnTo>
                  <a:lnTo>
                    <a:pt x="415" y="195"/>
                  </a:lnTo>
                  <a:lnTo>
                    <a:pt x="394" y="187"/>
                  </a:lnTo>
                  <a:lnTo>
                    <a:pt x="374" y="185"/>
                  </a:lnTo>
                  <a:lnTo>
                    <a:pt x="400" y="147"/>
                  </a:lnTo>
                  <a:lnTo>
                    <a:pt x="429" y="118"/>
                  </a:lnTo>
                  <a:lnTo>
                    <a:pt x="462" y="91"/>
                  </a:lnTo>
                  <a:lnTo>
                    <a:pt x="498" y="68"/>
                  </a:lnTo>
                  <a:lnTo>
                    <a:pt x="535" y="47"/>
                  </a:lnTo>
                  <a:lnTo>
                    <a:pt x="574" y="30"/>
                  </a:lnTo>
                  <a:lnTo>
                    <a:pt x="613" y="14"/>
                  </a:lnTo>
                  <a:lnTo>
                    <a:pt x="654" y="0"/>
                  </a:lnTo>
                  <a:lnTo>
                    <a:pt x="653" y="95"/>
                  </a:lnTo>
                  <a:lnTo>
                    <a:pt x="639" y="190"/>
                  </a:lnTo>
                  <a:lnTo>
                    <a:pt x="611" y="281"/>
                  </a:lnTo>
                  <a:lnTo>
                    <a:pt x="570" y="370"/>
                  </a:lnTo>
                  <a:lnTo>
                    <a:pt x="515" y="451"/>
                  </a:lnTo>
                  <a:lnTo>
                    <a:pt x="452" y="529"/>
                  </a:lnTo>
                  <a:lnTo>
                    <a:pt x="376" y="601"/>
                  </a:lnTo>
                  <a:lnTo>
                    <a:pt x="291" y="66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144280" y="1680840"/>
              <a:ext cx="282600" cy="89640"/>
            </a:xfrm>
            <a:custGeom>
              <a:avLst/>
              <a:gdLst/>
              <a:ahLst/>
              <a:rect l="l" t="t" r="r" b="b"/>
              <a:pathLst>
                <a:path w="1816" h="574">
                  <a:moveTo>
                    <a:pt x="1407" y="552"/>
                  </a:moveTo>
                  <a:lnTo>
                    <a:pt x="1552" y="542"/>
                  </a:lnTo>
                  <a:lnTo>
                    <a:pt x="1547" y="487"/>
                  </a:lnTo>
                  <a:lnTo>
                    <a:pt x="1529" y="433"/>
                  </a:lnTo>
                  <a:lnTo>
                    <a:pt x="1503" y="380"/>
                  </a:lnTo>
                  <a:lnTo>
                    <a:pt x="1464" y="328"/>
                  </a:lnTo>
                  <a:lnTo>
                    <a:pt x="1416" y="277"/>
                  </a:lnTo>
                  <a:lnTo>
                    <a:pt x="1360" y="227"/>
                  </a:lnTo>
                  <a:lnTo>
                    <a:pt x="1297" y="179"/>
                  </a:lnTo>
                  <a:lnTo>
                    <a:pt x="1224" y="132"/>
                  </a:lnTo>
                  <a:lnTo>
                    <a:pt x="1027" y="358"/>
                  </a:lnTo>
                  <a:lnTo>
                    <a:pt x="974" y="55"/>
                  </a:lnTo>
                  <a:lnTo>
                    <a:pt x="882" y="44"/>
                  </a:lnTo>
                  <a:lnTo>
                    <a:pt x="790" y="43"/>
                  </a:lnTo>
                  <a:lnTo>
                    <a:pt x="707" y="358"/>
                  </a:lnTo>
                  <a:lnTo>
                    <a:pt x="521" y="82"/>
                  </a:lnTo>
                  <a:lnTo>
                    <a:pt x="452" y="108"/>
                  </a:lnTo>
                  <a:lnTo>
                    <a:pt x="387" y="136"/>
                  </a:lnTo>
                  <a:lnTo>
                    <a:pt x="327" y="169"/>
                  </a:lnTo>
                  <a:lnTo>
                    <a:pt x="269" y="205"/>
                  </a:lnTo>
                  <a:lnTo>
                    <a:pt x="221" y="245"/>
                  </a:lnTo>
                  <a:lnTo>
                    <a:pt x="176" y="285"/>
                  </a:lnTo>
                  <a:lnTo>
                    <a:pt x="139" y="329"/>
                  </a:lnTo>
                  <a:lnTo>
                    <a:pt x="106" y="371"/>
                  </a:lnTo>
                  <a:lnTo>
                    <a:pt x="138" y="393"/>
                  </a:lnTo>
                  <a:lnTo>
                    <a:pt x="148" y="389"/>
                  </a:lnTo>
                  <a:lnTo>
                    <a:pt x="159" y="389"/>
                  </a:lnTo>
                  <a:lnTo>
                    <a:pt x="170" y="392"/>
                  </a:lnTo>
                  <a:lnTo>
                    <a:pt x="179" y="390"/>
                  </a:lnTo>
                  <a:lnTo>
                    <a:pt x="184" y="395"/>
                  </a:lnTo>
                  <a:lnTo>
                    <a:pt x="188" y="400"/>
                  </a:lnTo>
                  <a:lnTo>
                    <a:pt x="194" y="403"/>
                  </a:lnTo>
                  <a:lnTo>
                    <a:pt x="197" y="408"/>
                  </a:lnTo>
                  <a:lnTo>
                    <a:pt x="206" y="416"/>
                  </a:lnTo>
                  <a:lnTo>
                    <a:pt x="207" y="424"/>
                  </a:lnTo>
                  <a:lnTo>
                    <a:pt x="189" y="434"/>
                  </a:lnTo>
                  <a:lnTo>
                    <a:pt x="167" y="440"/>
                  </a:lnTo>
                  <a:lnTo>
                    <a:pt x="146" y="443"/>
                  </a:lnTo>
                  <a:lnTo>
                    <a:pt x="124" y="442"/>
                  </a:lnTo>
                  <a:lnTo>
                    <a:pt x="104" y="440"/>
                  </a:lnTo>
                  <a:lnTo>
                    <a:pt x="83" y="435"/>
                  </a:lnTo>
                  <a:lnTo>
                    <a:pt x="63" y="429"/>
                  </a:lnTo>
                  <a:lnTo>
                    <a:pt x="42" y="420"/>
                  </a:lnTo>
                  <a:lnTo>
                    <a:pt x="27" y="411"/>
                  </a:lnTo>
                  <a:lnTo>
                    <a:pt x="15" y="398"/>
                  </a:lnTo>
                  <a:lnTo>
                    <a:pt x="7" y="386"/>
                  </a:lnTo>
                  <a:lnTo>
                    <a:pt x="1" y="370"/>
                  </a:lnTo>
                  <a:lnTo>
                    <a:pt x="1" y="356"/>
                  </a:lnTo>
                  <a:lnTo>
                    <a:pt x="0" y="340"/>
                  </a:lnTo>
                  <a:lnTo>
                    <a:pt x="4" y="326"/>
                  </a:lnTo>
                  <a:lnTo>
                    <a:pt x="8" y="313"/>
                  </a:lnTo>
                  <a:lnTo>
                    <a:pt x="59" y="336"/>
                  </a:lnTo>
                  <a:lnTo>
                    <a:pt x="120" y="261"/>
                  </a:lnTo>
                  <a:lnTo>
                    <a:pt x="206" y="192"/>
                  </a:lnTo>
                  <a:lnTo>
                    <a:pt x="311" y="133"/>
                  </a:lnTo>
                  <a:lnTo>
                    <a:pt x="429" y="84"/>
                  </a:lnTo>
                  <a:lnTo>
                    <a:pt x="562" y="46"/>
                  </a:lnTo>
                  <a:lnTo>
                    <a:pt x="700" y="17"/>
                  </a:lnTo>
                  <a:lnTo>
                    <a:pt x="842" y="4"/>
                  </a:lnTo>
                  <a:lnTo>
                    <a:pt x="982" y="0"/>
                  </a:lnTo>
                  <a:lnTo>
                    <a:pt x="1071" y="26"/>
                  </a:lnTo>
                  <a:lnTo>
                    <a:pt x="1155" y="54"/>
                  </a:lnTo>
                  <a:lnTo>
                    <a:pt x="1239" y="86"/>
                  </a:lnTo>
                  <a:lnTo>
                    <a:pt x="1314" y="122"/>
                  </a:lnTo>
                  <a:lnTo>
                    <a:pt x="1388" y="165"/>
                  </a:lnTo>
                  <a:lnTo>
                    <a:pt x="1451" y="211"/>
                  </a:lnTo>
                  <a:lnTo>
                    <a:pt x="1509" y="263"/>
                  </a:lnTo>
                  <a:lnTo>
                    <a:pt x="1557" y="318"/>
                  </a:lnTo>
                  <a:lnTo>
                    <a:pt x="1637" y="500"/>
                  </a:lnTo>
                  <a:lnTo>
                    <a:pt x="1665" y="499"/>
                  </a:lnTo>
                  <a:lnTo>
                    <a:pt x="1686" y="488"/>
                  </a:lnTo>
                  <a:lnTo>
                    <a:pt x="1707" y="475"/>
                  </a:lnTo>
                  <a:lnTo>
                    <a:pt x="1725" y="461"/>
                  </a:lnTo>
                  <a:lnTo>
                    <a:pt x="1745" y="450"/>
                  </a:lnTo>
                  <a:lnTo>
                    <a:pt x="1767" y="443"/>
                  </a:lnTo>
                  <a:lnTo>
                    <a:pt x="1790" y="446"/>
                  </a:lnTo>
                  <a:lnTo>
                    <a:pt x="1816" y="459"/>
                  </a:lnTo>
                  <a:lnTo>
                    <a:pt x="1780" y="483"/>
                  </a:lnTo>
                  <a:lnTo>
                    <a:pt x="1737" y="504"/>
                  </a:lnTo>
                  <a:lnTo>
                    <a:pt x="1693" y="526"/>
                  </a:lnTo>
                  <a:lnTo>
                    <a:pt x="1644" y="543"/>
                  </a:lnTo>
                  <a:lnTo>
                    <a:pt x="1594" y="559"/>
                  </a:lnTo>
                  <a:lnTo>
                    <a:pt x="1539" y="568"/>
                  </a:lnTo>
                  <a:lnTo>
                    <a:pt x="1483" y="574"/>
                  </a:lnTo>
                  <a:lnTo>
                    <a:pt x="1424" y="573"/>
                  </a:lnTo>
                  <a:lnTo>
                    <a:pt x="1407" y="5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202600" y="1807560"/>
              <a:ext cx="122040" cy="32400"/>
            </a:xfrm>
            <a:custGeom>
              <a:avLst/>
              <a:gdLst/>
              <a:ahLst/>
              <a:rect l="l" t="t" r="r" b="b"/>
              <a:pathLst>
                <a:path w="787" h="207">
                  <a:moveTo>
                    <a:pt x="778" y="62"/>
                  </a:moveTo>
                  <a:lnTo>
                    <a:pt x="787" y="72"/>
                  </a:lnTo>
                  <a:lnTo>
                    <a:pt x="761" y="109"/>
                  </a:lnTo>
                  <a:lnTo>
                    <a:pt x="730" y="138"/>
                  </a:lnTo>
                  <a:lnTo>
                    <a:pt x="693" y="160"/>
                  </a:lnTo>
                  <a:lnTo>
                    <a:pt x="655" y="178"/>
                  </a:lnTo>
                  <a:lnTo>
                    <a:pt x="613" y="188"/>
                  </a:lnTo>
                  <a:lnTo>
                    <a:pt x="572" y="196"/>
                  </a:lnTo>
                  <a:lnTo>
                    <a:pt x="529" y="202"/>
                  </a:lnTo>
                  <a:lnTo>
                    <a:pt x="486" y="207"/>
                  </a:lnTo>
                  <a:lnTo>
                    <a:pt x="415" y="203"/>
                  </a:lnTo>
                  <a:lnTo>
                    <a:pt x="346" y="196"/>
                  </a:lnTo>
                  <a:lnTo>
                    <a:pt x="278" y="182"/>
                  </a:lnTo>
                  <a:lnTo>
                    <a:pt x="215" y="162"/>
                  </a:lnTo>
                  <a:lnTo>
                    <a:pt x="153" y="134"/>
                  </a:lnTo>
                  <a:lnTo>
                    <a:pt x="97" y="100"/>
                  </a:lnTo>
                  <a:lnTo>
                    <a:pt x="45" y="6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91" y="45"/>
                  </a:lnTo>
                  <a:lnTo>
                    <a:pt x="184" y="86"/>
                  </a:lnTo>
                  <a:lnTo>
                    <a:pt x="282" y="119"/>
                  </a:lnTo>
                  <a:lnTo>
                    <a:pt x="385" y="143"/>
                  </a:lnTo>
                  <a:lnTo>
                    <a:pt x="486" y="151"/>
                  </a:lnTo>
                  <a:lnTo>
                    <a:pt x="589" y="143"/>
                  </a:lnTo>
                  <a:lnTo>
                    <a:pt x="686" y="114"/>
                  </a:lnTo>
                  <a:lnTo>
                    <a:pt x="778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083080" y="1920240"/>
              <a:ext cx="317880" cy="127080"/>
            </a:xfrm>
            <a:custGeom>
              <a:avLst/>
              <a:gdLst/>
              <a:ahLst/>
              <a:rect l="l" t="t" r="r" b="b"/>
              <a:pathLst>
                <a:path w="2044" h="818">
                  <a:moveTo>
                    <a:pt x="234" y="28"/>
                  </a:moveTo>
                  <a:lnTo>
                    <a:pt x="318" y="43"/>
                  </a:lnTo>
                  <a:lnTo>
                    <a:pt x="404" y="63"/>
                  </a:lnTo>
                  <a:lnTo>
                    <a:pt x="487" y="87"/>
                  </a:lnTo>
                  <a:lnTo>
                    <a:pt x="571" y="117"/>
                  </a:lnTo>
                  <a:lnTo>
                    <a:pt x="650" y="149"/>
                  </a:lnTo>
                  <a:lnTo>
                    <a:pt x="729" y="191"/>
                  </a:lnTo>
                  <a:lnTo>
                    <a:pt x="805" y="239"/>
                  </a:lnTo>
                  <a:lnTo>
                    <a:pt x="878" y="298"/>
                  </a:lnTo>
                  <a:lnTo>
                    <a:pt x="945" y="262"/>
                  </a:lnTo>
                  <a:lnTo>
                    <a:pt x="1018" y="243"/>
                  </a:lnTo>
                  <a:lnTo>
                    <a:pt x="1093" y="235"/>
                  </a:lnTo>
                  <a:lnTo>
                    <a:pt x="1170" y="231"/>
                  </a:lnTo>
                  <a:lnTo>
                    <a:pt x="1245" y="224"/>
                  </a:lnTo>
                  <a:lnTo>
                    <a:pt x="1317" y="209"/>
                  </a:lnTo>
                  <a:lnTo>
                    <a:pt x="1384" y="181"/>
                  </a:lnTo>
                  <a:lnTo>
                    <a:pt x="1447" y="132"/>
                  </a:lnTo>
                  <a:lnTo>
                    <a:pt x="1506" y="110"/>
                  </a:lnTo>
                  <a:lnTo>
                    <a:pt x="1570" y="91"/>
                  </a:lnTo>
                  <a:lnTo>
                    <a:pt x="1634" y="76"/>
                  </a:lnTo>
                  <a:lnTo>
                    <a:pt x="1702" y="64"/>
                  </a:lnTo>
                  <a:lnTo>
                    <a:pt x="1767" y="52"/>
                  </a:lnTo>
                  <a:lnTo>
                    <a:pt x="1831" y="43"/>
                  </a:lnTo>
                  <a:lnTo>
                    <a:pt x="1895" y="35"/>
                  </a:lnTo>
                  <a:lnTo>
                    <a:pt x="1957" y="28"/>
                  </a:lnTo>
                  <a:lnTo>
                    <a:pt x="2007" y="87"/>
                  </a:lnTo>
                  <a:lnTo>
                    <a:pt x="2035" y="157"/>
                  </a:lnTo>
                  <a:lnTo>
                    <a:pt x="2044" y="233"/>
                  </a:lnTo>
                  <a:lnTo>
                    <a:pt x="2041" y="316"/>
                  </a:lnTo>
                  <a:lnTo>
                    <a:pt x="2030" y="400"/>
                  </a:lnTo>
                  <a:lnTo>
                    <a:pt x="2020" y="485"/>
                  </a:lnTo>
                  <a:lnTo>
                    <a:pt x="2013" y="570"/>
                  </a:lnTo>
                  <a:lnTo>
                    <a:pt x="2018" y="652"/>
                  </a:lnTo>
                  <a:lnTo>
                    <a:pt x="1938" y="694"/>
                  </a:lnTo>
                  <a:lnTo>
                    <a:pt x="1857" y="708"/>
                  </a:lnTo>
                  <a:lnTo>
                    <a:pt x="1771" y="698"/>
                  </a:lnTo>
                  <a:lnTo>
                    <a:pt x="1687" y="675"/>
                  </a:lnTo>
                  <a:lnTo>
                    <a:pt x="1598" y="645"/>
                  </a:lnTo>
                  <a:lnTo>
                    <a:pt x="1511" y="616"/>
                  </a:lnTo>
                  <a:lnTo>
                    <a:pt x="1422" y="598"/>
                  </a:lnTo>
                  <a:lnTo>
                    <a:pt x="1333" y="599"/>
                  </a:lnTo>
                  <a:lnTo>
                    <a:pt x="1283" y="592"/>
                  </a:lnTo>
                  <a:lnTo>
                    <a:pt x="1232" y="594"/>
                  </a:lnTo>
                  <a:lnTo>
                    <a:pt x="1182" y="601"/>
                  </a:lnTo>
                  <a:lnTo>
                    <a:pt x="1131" y="611"/>
                  </a:lnTo>
                  <a:lnTo>
                    <a:pt x="1080" y="618"/>
                  </a:lnTo>
                  <a:lnTo>
                    <a:pt x="1030" y="621"/>
                  </a:lnTo>
                  <a:lnTo>
                    <a:pt x="979" y="615"/>
                  </a:lnTo>
                  <a:lnTo>
                    <a:pt x="930" y="599"/>
                  </a:lnTo>
                  <a:lnTo>
                    <a:pt x="888" y="547"/>
                  </a:lnTo>
                  <a:lnTo>
                    <a:pt x="778" y="564"/>
                  </a:lnTo>
                  <a:lnTo>
                    <a:pt x="677" y="605"/>
                  </a:lnTo>
                  <a:lnTo>
                    <a:pt x="580" y="659"/>
                  </a:lnTo>
                  <a:lnTo>
                    <a:pt x="487" y="718"/>
                  </a:lnTo>
                  <a:lnTo>
                    <a:pt x="391" y="770"/>
                  </a:lnTo>
                  <a:lnTo>
                    <a:pt x="293" y="806"/>
                  </a:lnTo>
                  <a:lnTo>
                    <a:pt x="190" y="818"/>
                  </a:lnTo>
                  <a:lnTo>
                    <a:pt x="79" y="797"/>
                  </a:lnTo>
                  <a:lnTo>
                    <a:pt x="34" y="711"/>
                  </a:lnTo>
                  <a:lnTo>
                    <a:pt x="10" y="621"/>
                  </a:lnTo>
                  <a:lnTo>
                    <a:pt x="0" y="526"/>
                  </a:lnTo>
                  <a:lnTo>
                    <a:pt x="3" y="431"/>
                  </a:lnTo>
                  <a:lnTo>
                    <a:pt x="10" y="332"/>
                  </a:lnTo>
                  <a:lnTo>
                    <a:pt x="21" y="235"/>
                  </a:lnTo>
                  <a:lnTo>
                    <a:pt x="31" y="139"/>
                  </a:lnTo>
                  <a:lnTo>
                    <a:pt x="37" y="49"/>
                  </a:lnTo>
                  <a:lnTo>
                    <a:pt x="53" y="32"/>
                  </a:lnTo>
                  <a:lnTo>
                    <a:pt x="77" y="19"/>
                  </a:lnTo>
                  <a:lnTo>
                    <a:pt x="103" y="8"/>
                  </a:lnTo>
                  <a:lnTo>
                    <a:pt x="131" y="3"/>
                  </a:lnTo>
                  <a:lnTo>
                    <a:pt x="158" y="0"/>
                  </a:lnTo>
                  <a:lnTo>
                    <a:pt x="186" y="3"/>
                  </a:lnTo>
                  <a:lnTo>
                    <a:pt x="211" y="11"/>
                  </a:lnTo>
                  <a:lnTo>
                    <a:pt x="23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95320" y="1931040"/>
              <a:ext cx="119160" cy="106560"/>
            </a:xfrm>
            <a:custGeom>
              <a:avLst/>
              <a:gdLst/>
              <a:ahLst/>
              <a:rect l="l" t="t" r="r" b="b"/>
              <a:pathLst>
                <a:path w="768" h="686">
                  <a:moveTo>
                    <a:pt x="757" y="290"/>
                  </a:moveTo>
                  <a:lnTo>
                    <a:pt x="692" y="269"/>
                  </a:lnTo>
                  <a:lnTo>
                    <a:pt x="621" y="255"/>
                  </a:lnTo>
                  <a:lnTo>
                    <a:pt x="544" y="245"/>
                  </a:lnTo>
                  <a:lnTo>
                    <a:pt x="465" y="244"/>
                  </a:lnTo>
                  <a:lnTo>
                    <a:pt x="384" y="245"/>
                  </a:lnTo>
                  <a:lnTo>
                    <a:pt x="305" y="255"/>
                  </a:lnTo>
                  <a:lnTo>
                    <a:pt x="230" y="269"/>
                  </a:lnTo>
                  <a:lnTo>
                    <a:pt x="166" y="290"/>
                  </a:lnTo>
                  <a:lnTo>
                    <a:pt x="166" y="311"/>
                  </a:lnTo>
                  <a:lnTo>
                    <a:pt x="242" y="314"/>
                  </a:lnTo>
                  <a:lnTo>
                    <a:pt x="322" y="313"/>
                  </a:lnTo>
                  <a:lnTo>
                    <a:pt x="403" y="308"/>
                  </a:lnTo>
                  <a:lnTo>
                    <a:pt x="485" y="310"/>
                  </a:lnTo>
                  <a:lnTo>
                    <a:pt x="564" y="315"/>
                  </a:lnTo>
                  <a:lnTo>
                    <a:pt x="638" y="335"/>
                  </a:lnTo>
                  <a:lnTo>
                    <a:pt x="707" y="369"/>
                  </a:lnTo>
                  <a:lnTo>
                    <a:pt x="768" y="425"/>
                  </a:lnTo>
                  <a:lnTo>
                    <a:pt x="683" y="439"/>
                  </a:lnTo>
                  <a:lnTo>
                    <a:pt x="606" y="468"/>
                  </a:lnTo>
                  <a:lnTo>
                    <a:pt x="533" y="504"/>
                  </a:lnTo>
                  <a:lnTo>
                    <a:pt x="463" y="546"/>
                  </a:lnTo>
                  <a:lnTo>
                    <a:pt x="389" y="589"/>
                  </a:lnTo>
                  <a:lnTo>
                    <a:pt x="318" y="629"/>
                  </a:lnTo>
                  <a:lnTo>
                    <a:pt x="243" y="662"/>
                  </a:lnTo>
                  <a:lnTo>
                    <a:pt x="166" y="686"/>
                  </a:lnTo>
                  <a:lnTo>
                    <a:pt x="132" y="682"/>
                  </a:lnTo>
                  <a:lnTo>
                    <a:pt x="104" y="670"/>
                  </a:lnTo>
                  <a:lnTo>
                    <a:pt x="79" y="653"/>
                  </a:lnTo>
                  <a:lnTo>
                    <a:pt x="60" y="634"/>
                  </a:lnTo>
                  <a:lnTo>
                    <a:pt x="42" y="608"/>
                  </a:lnTo>
                  <a:lnTo>
                    <a:pt x="28" y="580"/>
                  </a:lnTo>
                  <a:lnTo>
                    <a:pt x="17" y="549"/>
                  </a:lnTo>
                  <a:lnTo>
                    <a:pt x="10" y="520"/>
                  </a:lnTo>
                  <a:lnTo>
                    <a:pt x="1" y="452"/>
                  </a:lnTo>
                  <a:lnTo>
                    <a:pt x="0" y="387"/>
                  </a:lnTo>
                  <a:lnTo>
                    <a:pt x="3" y="323"/>
                  </a:lnTo>
                  <a:lnTo>
                    <a:pt x="11" y="259"/>
                  </a:lnTo>
                  <a:lnTo>
                    <a:pt x="18" y="194"/>
                  </a:lnTo>
                  <a:lnTo>
                    <a:pt x="27" y="130"/>
                  </a:lnTo>
                  <a:lnTo>
                    <a:pt x="31" y="65"/>
                  </a:lnTo>
                  <a:lnTo>
                    <a:pt x="31" y="0"/>
                  </a:lnTo>
                  <a:lnTo>
                    <a:pt x="132" y="10"/>
                  </a:lnTo>
                  <a:lnTo>
                    <a:pt x="232" y="28"/>
                  </a:lnTo>
                  <a:lnTo>
                    <a:pt x="328" y="52"/>
                  </a:lnTo>
                  <a:lnTo>
                    <a:pt x="420" y="86"/>
                  </a:lnTo>
                  <a:lnTo>
                    <a:pt x="509" y="124"/>
                  </a:lnTo>
                  <a:lnTo>
                    <a:pt x="595" y="172"/>
                  </a:lnTo>
                  <a:lnTo>
                    <a:pt x="676" y="227"/>
                  </a:lnTo>
                  <a:lnTo>
                    <a:pt x="757" y="29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276040" y="1936080"/>
              <a:ext cx="112680" cy="82440"/>
            </a:xfrm>
            <a:custGeom>
              <a:avLst/>
              <a:gdLst/>
              <a:ahLst/>
              <a:rect l="l" t="t" r="r" b="b"/>
              <a:pathLst>
                <a:path w="725" h="530">
                  <a:moveTo>
                    <a:pt x="725" y="110"/>
                  </a:moveTo>
                  <a:lnTo>
                    <a:pt x="725" y="504"/>
                  </a:lnTo>
                  <a:lnTo>
                    <a:pt x="652" y="527"/>
                  </a:lnTo>
                  <a:lnTo>
                    <a:pt x="582" y="530"/>
                  </a:lnTo>
                  <a:lnTo>
                    <a:pt x="513" y="517"/>
                  </a:lnTo>
                  <a:lnTo>
                    <a:pt x="446" y="497"/>
                  </a:lnTo>
                  <a:lnTo>
                    <a:pt x="377" y="471"/>
                  </a:lnTo>
                  <a:lnTo>
                    <a:pt x="308" y="447"/>
                  </a:lnTo>
                  <a:lnTo>
                    <a:pt x="237" y="427"/>
                  </a:lnTo>
                  <a:lnTo>
                    <a:pt x="166" y="421"/>
                  </a:lnTo>
                  <a:lnTo>
                    <a:pt x="0" y="411"/>
                  </a:lnTo>
                  <a:lnTo>
                    <a:pt x="9" y="307"/>
                  </a:lnTo>
                  <a:lnTo>
                    <a:pt x="24" y="323"/>
                  </a:lnTo>
                  <a:lnTo>
                    <a:pt x="45" y="326"/>
                  </a:lnTo>
                  <a:lnTo>
                    <a:pt x="69" y="318"/>
                  </a:lnTo>
                  <a:lnTo>
                    <a:pt x="98" y="309"/>
                  </a:lnTo>
                  <a:lnTo>
                    <a:pt x="129" y="292"/>
                  </a:lnTo>
                  <a:lnTo>
                    <a:pt x="161" y="276"/>
                  </a:lnTo>
                  <a:lnTo>
                    <a:pt x="194" y="262"/>
                  </a:lnTo>
                  <a:lnTo>
                    <a:pt x="227" y="255"/>
                  </a:lnTo>
                  <a:lnTo>
                    <a:pt x="243" y="257"/>
                  </a:lnTo>
                  <a:lnTo>
                    <a:pt x="263" y="257"/>
                  </a:lnTo>
                  <a:lnTo>
                    <a:pt x="282" y="254"/>
                  </a:lnTo>
                  <a:lnTo>
                    <a:pt x="303" y="249"/>
                  </a:lnTo>
                  <a:lnTo>
                    <a:pt x="322" y="242"/>
                  </a:lnTo>
                  <a:lnTo>
                    <a:pt x="341" y="234"/>
                  </a:lnTo>
                  <a:lnTo>
                    <a:pt x="358" y="224"/>
                  </a:lnTo>
                  <a:lnTo>
                    <a:pt x="372" y="214"/>
                  </a:lnTo>
                  <a:lnTo>
                    <a:pt x="319" y="204"/>
                  </a:lnTo>
                  <a:lnTo>
                    <a:pt x="270" y="203"/>
                  </a:lnTo>
                  <a:lnTo>
                    <a:pt x="222" y="204"/>
                  </a:lnTo>
                  <a:lnTo>
                    <a:pt x="178" y="213"/>
                  </a:lnTo>
                  <a:lnTo>
                    <a:pt x="135" y="224"/>
                  </a:lnTo>
                  <a:lnTo>
                    <a:pt x="92" y="240"/>
                  </a:lnTo>
                  <a:lnTo>
                    <a:pt x="50" y="255"/>
                  </a:lnTo>
                  <a:lnTo>
                    <a:pt x="9" y="276"/>
                  </a:lnTo>
                  <a:lnTo>
                    <a:pt x="4" y="237"/>
                  </a:lnTo>
                  <a:lnTo>
                    <a:pt x="11" y="207"/>
                  </a:lnTo>
                  <a:lnTo>
                    <a:pt x="26" y="183"/>
                  </a:lnTo>
                  <a:lnTo>
                    <a:pt x="52" y="165"/>
                  </a:lnTo>
                  <a:lnTo>
                    <a:pt x="78" y="147"/>
                  </a:lnTo>
                  <a:lnTo>
                    <a:pt x="109" y="133"/>
                  </a:lnTo>
                  <a:lnTo>
                    <a:pt x="139" y="117"/>
                  </a:lnTo>
                  <a:lnTo>
                    <a:pt x="166" y="100"/>
                  </a:lnTo>
                  <a:lnTo>
                    <a:pt x="232" y="76"/>
                  </a:lnTo>
                  <a:lnTo>
                    <a:pt x="306" y="50"/>
                  </a:lnTo>
                  <a:lnTo>
                    <a:pt x="384" y="24"/>
                  </a:lnTo>
                  <a:lnTo>
                    <a:pt x="464" y="7"/>
                  </a:lnTo>
                  <a:lnTo>
                    <a:pt x="540" y="0"/>
                  </a:lnTo>
                  <a:lnTo>
                    <a:pt x="611" y="13"/>
                  </a:lnTo>
                  <a:lnTo>
                    <a:pt x="673" y="47"/>
                  </a:lnTo>
                  <a:lnTo>
                    <a:pt x="725" y="11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224560" y="1965240"/>
              <a:ext cx="38520" cy="38160"/>
            </a:xfrm>
            <a:custGeom>
              <a:avLst/>
              <a:gdLst/>
              <a:ahLst/>
              <a:rect l="l" t="t" r="r" b="b"/>
              <a:pathLst>
                <a:path w="249" h="248">
                  <a:moveTo>
                    <a:pt x="249" y="10"/>
                  </a:moveTo>
                  <a:lnTo>
                    <a:pt x="247" y="41"/>
                  </a:lnTo>
                  <a:lnTo>
                    <a:pt x="247" y="74"/>
                  </a:lnTo>
                  <a:lnTo>
                    <a:pt x="244" y="106"/>
                  </a:lnTo>
                  <a:lnTo>
                    <a:pt x="240" y="140"/>
                  </a:lnTo>
                  <a:lnTo>
                    <a:pt x="232" y="168"/>
                  </a:lnTo>
                  <a:lnTo>
                    <a:pt x="222" y="196"/>
                  </a:lnTo>
                  <a:lnTo>
                    <a:pt x="206" y="219"/>
                  </a:lnTo>
                  <a:lnTo>
                    <a:pt x="187" y="238"/>
                  </a:lnTo>
                  <a:lnTo>
                    <a:pt x="166" y="244"/>
                  </a:lnTo>
                  <a:lnTo>
                    <a:pt x="146" y="248"/>
                  </a:lnTo>
                  <a:lnTo>
                    <a:pt x="125" y="248"/>
                  </a:lnTo>
                  <a:lnTo>
                    <a:pt x="107" y="247"/>
                  </a:lnTo>
                  <a:lnTo>
                    <a:pt x="88" y="238"/>
                  </a:lnTo>
                  <a:lnTo>
                    <a:pt x="73" y="227"/>
                  </a:lnTo>
                  <a:lnTo>
                    <a:pt x="60" y="209"/>
                  </a:lnTo>
                  <a:lnTo>
                    <a:pt x="52" y="186"/>
                  </a:lnTo>
                  <a:lnTo>
                    <a:pt x="0" y="52"/>
                  </a:lnTo>
                  <a:lnTo>
                    <a:pt x="29" y="41"/>
                  </a:lnTo>
                  <a:lnTo>
                    <a:pt x="62" y="31"/>
                  </a:lnTo>
                  <a:lnTo>
                    <a:pt x="91" y="20"/>
                  </a:lnTo>
                  <a:lnTo>
                    <a:pt x="123" y="12"/>
                  </a:lnTo>
                  <a:lnTo>
                    <a:pt x="154" y="3"/>
                  </a:lnTo>
                  <a:lnTo>
                    <a:pt x="185" y="0"/>
                  </a:lnTo>
                  <a:lnTo>
                    <a:pt x="216" y="0"/>
                  </a:lnTo>
                  <a:lnTo>
                    <a:pt x="249" y="1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4356000" y="1557360"/>
            <a:ext cx="1150920" cy="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3232080" y="1682640"/>
            <a:ext cx="441000" cy="2250720"/>
            <a:chOff x="3232080" y="1682640"/>
            <a:chExt cx="441000" cy="2250720"/>
          </a:xfrm>
        </p:grpSpPr>
        <p:grpSp>
          <p:nvGrpSpPr>
            <p:cNvPr id="799" name=""/>
            <p:cNvGrpSpPr/>
            <p:nvPr/>
          </p:nvGrpSpPr>
          <p:grpSpPr>
            <a:xfrm>
              <a:off x="3232080" y="1682640"/>
              <a:ext cx="431640" cy="431640"/>
              <a:chOff x="3232080" y="1682640"/>
              <a:chExt cx="431640" cy="431640"/>
            </a:xfrm>
          </p:grpSpPr>
          <p:sp>
            <p:nvSpPr>
              <p:cNvPr id="800" name=""/>
              <p:cNvSpPr/>
              <p:nvPr/>
            </p:nvSpPr>
            <p:spPr>
              <a:xfrm>
                <a:off x="3232080" y="168264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 flipV="1">
                <a:off x="3447360" y="170280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3311280" y="189864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330000" y="176472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 flipV="1">
                <a:off x="3304800" y="176652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3232080" y="2139840"/>
              <a:ext cx="431640" cy="431640"/>
              <a:chOff x="3232080" y="2139840"/>
              <a:chExt cx="431640" cy="431640"/>
            </a:xfrm>
          </p:grpSpPr>
          <p:sp>
            <p:nvSpPr>
              <p:cNvPr id="806" name=""/>
              <p:cNvSpPr/>
              <p:nvPr/>
            </p:nvSpPr>
            <p:spPr>
              <a:xfrm>
                <a:off x="3232080" y="213984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 flipV="1">
                <a:off x="3447360" y="216000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311280" y="235584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3330000" y="222192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 flipV="1">
                <a:off x="3304800" y="222372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3241440" y="2587320"/>
              <a:ext cx="431640" cy="431640"/>
              <a:chOff x="3241440" y="2587320"/>
              <a:chExt cx="431640" cy="431640"/>
            </a:xfrm>
          </p:grpSpPr>
          <p:sp>
            <p:nvSpPr>
              <p:cNvPr id="812" name=""/>
              <p:cNvSpPr/>
              <p:nvPr/>
            </p:nvSpPr>
            <p:spPr>
              <a:xfrm>
                <a:off x="3241440" y="258732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 flipV="1">
                <a:off x="3456720" y="260748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3320640" y="280332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3339360" y="266940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 flipV="1">
                <a:off x="3314160" y="267120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3232080" y="3035160"/>
              <a:ext cx="431640" cy="431640"/>
              <a:chOff x="3232080" y="3035160"/>
              <a:chExt cx="431640" cy="431640"/>
            </a:xfrm>
          </p:grpSpPr>
          <p:sp>
            <p:nvSpPr>
              <p:cNvPr id="818" name=""/>
              <p:cNvSpPr/>
              <p:nvPr/>
            </p:nvSpPr>
            <p:spPr>
              <a:xfrm>
                <a:off x="3232080" y="303516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 flipV="1">
                <a:off x="3447360" y="305532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3311280" y="325116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330000" y="311724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 flipV="1">
                <a:off x="3304800" y="311904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3232080" y="3501720"/>
              <a:ext cx="431640" cy="431640"/>
              <a:chOff x="3232080" y="3501720"/>
              <a:chExt cx="431640" cy="431640"/>
            </a:xfrm>
          </p:grpSpPr>
          <p:sp>
            <p:nvSpPr>
              <p:cNvPr id="824" name=""/>
              <p:cNvSpPr/>
              <p:nvPr/>
            </p:nvSpPr>
            <p:spPr>
              <a:xfrm>
                <a:off x="3232080" y="350172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flipV="1">
                <a:off x="3447360" y="352188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3311280" y="371772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3330000" y="358380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 flipV="1">
                <a:off x="3304800" y="358560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9" name=""/>
          <p:cNvGrpSpPr/>
          <p:nvPr/>
        </p:nvGrpSpPr>
        <p:grpSpPr>
          <a:xfrm>
            <a:off x="3808440" y="1682640"/>
            <a:ext cx="441000" cy="2250720"/>
            <a:chOff x="3808440" y="1682640"/>
            <a:chExt cx="441000" cy="2250720"/>
          </a:xfrm>
        </p:grpSpPr>
        <p:grpSp>
          <p:nvGrpSpPr>
            <p:cNvPr id="830" name=""/>
            <p:cNvGrpSpPr/>
            <p:nvPr/>
          </p:nvGrpSpPr>
          <p:grpSpPr>
            <a:xfrm>
              <a:off x="3808440" y="1682640"/>
              <a:ext cx="431640" cy="431640"/>
              <a:chOff x="3808440" y="1682640"/>
              <a:chExt cx="431640" cy="431640"/>
            </a:xfrm>
          </p:grpSpPr>
          <p:sp>
            <p:nvSpPr>
              <p:cNvPr id="831" name=""/>
              <p:cNvSpPr/>
              <p:nvPr/>
            </p:nvSpPr>
            <p:spPr>
              <a:xfrm>
                <a:off x="3808440" y="168264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 flipV="1">
                <a:off x="4023720" y="170280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3887640" y="189864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3906360" y="176472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 flipV="1">
                <a:off x="3881160" y="176652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3808440" y="2139840"/>
              <a:ext cx="431640" cy="431640"/>
              <a:chOff x="3808440" y="2139840"/>
              <a:chExt cx="431640" cy="431640"/>
            </a:xfrm>
          </p:grpSpPr>
          <p:sp>
            <p:nvSpPr>
              <p:cNvPr id="837" name=""/>
              <p:cNvSpPr/>
              <p:nvPr/>
            </p:nvSpPr>
            <p:spPr>
              <a:xfrm>
                <a:off x="3808440" y="213984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 flipV="1">
                <a:off x="4023720" y="216000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3887640" y="235584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3906360" y="222192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 flipV="1">
                <a:off x="3881160" y="222372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3817800" y="2587320"/>
              <a:ext cx="431640" cy="431640"/>
              <a:chOff x="3817800" y="2587320"/>
              <a:chExt cx="431640" cy="431640"/>
            </a:xfrm>
          </p:grpSpPr>
          <p:sp>
            <p:nvSpPr>
              <p:cNvPr id="843" name=""/>
              <p:cNvSpPr/>
              <p:nvPr/>
            </p:nvSpPr>
            <p:spPr>
              <a:xfrm>
                <a:off x="3817800" y="258732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 flipV="1">
                <a:off x="4033080" y="260748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3897000" y="280332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3915720" y="266940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 flipV="1">
                <a:off x="3890520" y="267120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3808440" y="3035160"/>
              <a:ext cx="431640" cy="431640"/>
              <a:chOff x="3808440" y="3035160"/>
              <a:chExt cx="431640" cy="431640"/>
            </a:xfrm>
          </p:grpSpPr>
          <p:sp>
            <p:nvSpPr>
              <p:cNvPr id="849" name=""/>
              <p:cNvSpPr/>
              <p:nvPr/>
            </p:nvSpPr>
            <p:spPr>
              <a:xfrm>
                <a:off x="3808440" y="303516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flipV="1">
                <a:off x="4023720" y="305532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3887640" y="325116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3906360" y="311724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 flipV="1">
                <a:off x="3881160" y="311904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3808440" y="3501720"/>
              <a:ext cx="431640" cy="431640"/>
              <a:chOff x="3808440" y="3501720"/>
              <a:chExt cx="431640" cy="431640"/>
            </a:xfrm>
          </p:grpSpPr>
          <p:sp>
            <p:nvSpPr>
              <p:cNvPr id="855" name=""/>
              <p:cNvSpPr/>
              <p:nvPr/>
            </p:nvSpPr>
            <p:spPr>
              <a:xfrm>
                <a:off x="3808440" y="350172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 flipV="1">
                <a:off x="4023720" y="352188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3887640" y="371772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3906360" y="358380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 flipV="1">
                <a:off x="3881160" y="358560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0" name=""/>
          <p:cNvGrpSpPr/>
          <p:nvPr/>
        </p:nvGrpSpPr>
        <p:grpSpPr>
          <a:xfrm>
            <a:off x="4427640" y="1125360"/>
            <a:ext cx="947160" cy="265320"/>
            <a:chOff x="4427640" y="1125360"/>
            <a:chExt cx="947160" cy="265320"/>
          </a:xfrm>
        </p:grpSpPr>
        <p:sp>
          <p:nvSpPr>
            <p:cNvPr id="861" name=""/>
            <p:cNvSpPr/>
            <p:nvPr/>
          </p:nvSpPr>
          <p:spPr>
            <a:xfrm>
              <a:off x="4427640" y="1218960"/>
              <a:ext cx="18540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csc10"/>
                  <a:ea typeface="Arial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614840" y="1218960"/>
              <a:ext cx="18504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csc10"/>
                  <a:ea typeface="Arial"/>
                </a:rPr>
                <a:t>p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00240" y="1218960"/>
              <a:ext cx="20124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csc10"/>
                  <a:ea typeface="Arial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00400" y="1125360"/>
              <a:ext cx="2077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27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sy7"/>
                  <a:ea typeface="Arial"/>
                </a:rPr>
                <a:t>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209920" y="1170000"/>
              <a:ext cx="16488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0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427640" y="1125360"/>
              <a:ext cx="945720" cy="2653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5856120" y="1719360"/>
            <a:ext cx="431640" cy="431640"/>
            <a:chOff x="5856120" y="1719360"/>
            <a:chExt cx="431640" cy="431640"/>
          </a:xfrm>
        </p:grpSpPr>
        <p:sp>
          <p:nvSpPr>
            <p:cNvPr id="868" name=""/>
            <p:cNvSpPr/>
            <p:nvPr/>
          </p:nvSpPr>
          <p:spPr>
            <a:xfrm>
              <a:off x="5856120" y="1719360"/>
              <a:ext cx="431640" cy="431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6071400" y="1739520"/>
              <a:ext cx="1800" cy="358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5935320" y="1935360"/>
              <a:ext cx="319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5954040" y="1801440"/>
              <a:ext cx="251280" cy="251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 flipV="1">
              <a:off x="5928840" y="1803240"/>
              <a:ext cx="260640" cy="251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6813720" y="3614760"/>
            <a:ext cx="2114280" cy="307800"/>
            <a:chOff x="6813720" y="3614760"/>
            <a:chExt cx="2114280" cy="307800"/>
          </a:xfrm>
        </p:grpSpPr>
        <p:sp>
          <p:nvSpPr>
            <p:cNvPr id="874" name=""/>
            <p:cNvSpPr/>
            <p:nvPr/>
          </p:nvSpPr>
          <p:spPr>
            <a:xfrm>
              <a:off x="6813720" y="3633840"/>
              <a:ext cx="257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72280" y="3714840"/>
              <a:ext cx="163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335720" y="3714840"/>
              <a:ext cx="1710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507080" y="3633840"/>
              <a:ext cx="1710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678440" y="3641760"/>
              <a:ext cx="856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762680" y="3657600"/>
              <a:ext cx="1202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83280" y="3714840"/>
              <a:ext cx="1220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107200" y="3681360"/>
              <a:ext cx="23940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111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432640" y="3714840"/>
              <a:ext cx="1854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618400" y="3616200"/>
              <a:ext cx="1537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004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772480" y="3648240"/>
              <a:ext cx="153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813720" y="3614760"/>
              <a:ext cx="2114280" cy="3078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539640" y="5084640"/>
            <a:ext cx="80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Arial"/>
              </a:rPr>
              <a:t>Sender-Security: One of the strings looks completely random to dishonest 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641520" y="981000"/>
            <a:ext cx="3307680" cy="3014640"/>
            <a:chOff x="641520" y="981000"/>
            <a:chExt cx="3307680" cy="3014640"/>
          </a:xfrm>
        </p:grpSpPr>
        <p:sp>
          <p:nvSpPr>
            <p:cNvPr id="888" name=""/>
            <p:cNvSpPr/>
            <p:nvPr/>
          </p:nvSpPr>
          <p:spPr>
            <a:xfrm>
              <a:off x="641520" y="98100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973080" y="1030320"/>
              <a:ext cx="2124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260360" y="1069920"/>
              <a:ext cx="1821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442880" y="1127160"/>
              <a:ext cx="164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74760" y="1030320"/>
              <a:ext cx="2264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498400" y="106992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681280" y="1127160"/>
              <a:ext cx="1645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52600" y="1098360"/>
              <a:ext cx="1076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60600" y="1098360"/>
              <a:ext cx="1202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82640" y="1098360"/>
              <a:ext cx="1522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633480" y="1027080"/>
              <a:ext cx="152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1252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949320" y="1386000"/>
              <a:ext cx="21204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161720" y="1515960"/>
              <a:ext cx="7596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284120" y="138600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49508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3188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0960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246040" y="1370160"/>
              <a:ext cx="136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382840" y="1515960"/>
              <a:ext cx="75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03440" y="137016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63988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7632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41520" y="164772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52680" y="178740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52680" y="223200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452680" y="267804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52680" y="312264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452680" y="356868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1520" y="397836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9080" y="987480"/>
              <a:ext cx="3300120" cy="30081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7 L 0.23264 -3.7037E-007 E">
                                      <p:cBhvr>
                                        <p:cTn id="211" dur="2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2T04:22:54Z</dcterms:created>
  <dc:creator>Christian Schaffner</dc:creator>
  <dc:description/>
  <dc:language>en-US</dc:language>
  <cp:lastModifiedBy>cwi</cp:lastModifiedBy>
  <dcterms:modified xsi:type="dcterms:W3CDTF">2007-09-20T04:07:13Z</dcterms:modified>
  <cp:revision>180</cp:revision>
  <dc:subject/>
  <dc:title>TeX4PPT</dc:title>
</cp:coreProperties>
</file>