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9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5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8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781800" cy="9918700"/>
</p:presentation>
</file>

<file path=ppt/commentAuthors.xml><?xml version="1.0" encoding="utf-8"?>
<p:cmAuthorLst xmlns:p="http://schemas.openxmlformats.org/presentationml/2006/main">
  <p:cmAuthor id="0" name="Christian Schaffner" initials="CS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<Relationship Id="rId30" Type="http://schemas.openxmlformats.org/officeDocument/2006/relationships/commentAuthors" Target="commentAuthors.xml"/>
</Relationships>
</file>

<file path=ppt/comments/comment8.xml><?xml version="1.0" encoding="utf-8"?>
<p:cmLst xmlns:p="http://schemas.openxmlformats.org/presentationml/2006/main">
  <p:cm authorId="0" dt="2005-02-24T11:42:51.723000000" idx="1">
    <p:pos x="365" y="2879"/>
    <p:text>h is two-universal and BINARY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7824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4192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e5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79640-AD24-4F0C-8C5B-2DA3F1E665B5}" type="slidenum"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 is two-universal and BINARY, maps to one b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 is two-universal and BINARY, maps to one b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5A6FD-3CC3-4FA4-9650-05DE40AEC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7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CE9E2-8D91-4E3B-AD47-B9F219B86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1A812-6416-4C26-BFA3-58305EF54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FAC83-EFF7-4CCA-A432-53802F833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417BF-9CF5-4277-BEB5-7FBFAD0D4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9D023-19D9-4C5A-9E1C-0C9172EB5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50926-DB02-4F88-B08A-8A34B8D2C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6027D-212D-4342-803C-841C1B883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1381F-F4CD-4192-A9B1-3B6930E2F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115920"/>
            <a:ext cx="8229600" cy="468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D6EA5-3206-4803-86A5-78AF9C893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8D014-2F8E-40A5-8331-C6B206C19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41EB9-939C-44EC-89A9-50D008EF3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5E9B4-FAC3-4593-8E71-3BAB9578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77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B792C-7E7A-4D06-91CE-66EB7798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77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C65FA-F0ED-4036-81BA-6D6BACC72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57583-BB6C-4A52-919C-9F8BD8DEB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BF17E-0FBA-4B89-A792-457D3FDD3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103FF-D722-489E-B025-507F9E85B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5723C-DF87-4A6D-B9F3-34C0A362A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64F2A-6930-4550-9054-573AA4DF3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115920"/>
            <a:ext cx="8229600" cy="468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EB33C-3123-4698-B377-8D0465FBD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673D1-00FB-47CD-A6DD-662290FB7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E8B38-1109-45AA-8D96-C62810067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7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19745-49E0-4F2A-9C47-8916457BC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9019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fld id="{D5253EB6-CA4B-468F-9880-40DDF4931BF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/ 1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B1F20-B633-41FB-8211-1B4ADE8944E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wmf"/><Relationship Id="rId8" Type="http://schemas.openxmlformats.org/officeDocument/2006/relationships/image" Target="../media/image14.wmf"/><Relationship Id="rId9" Type="http://schemas.openxmlformats.org/officeDocument/2006/relationships/image" Target="../media/image13.wmf"/><Relationship Id="rId10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image" Target="../media/image14.wmf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18.wmf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image" Target="../media/image28.wmf"/><Relationship Id="rId9" Type="http://schemas.openxmlformats.org/officeDocument/2006/relationships/image" Target="../media/image29.wmf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wmf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3.xml"/><Relationship Id="rId10" Type="http://schemas.openxmlformats.org/officeDocument/2006/relationships/comments" Target="../comments/comment8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8.png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7.wmf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Arial"/>
              </a:rPr>
              <a:t>Cryptography In the</a:t>
            </a:r>
            <a:br>
              <a:rPr sz="4400"/>
            </a:br>
            <a:r>
              <a:rPr b="1" lang="en-GB" sz="4400" spc="-1" strike="noStrike">
                <a:solidFill>
                  <a:srgbClr val="e5e5ff"/>
                </a:solidFill>
                <a:latin typeface="Arial"/>
              </a:rPr>
              <a:t>Bounded Quantum-Storage Model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186920" y="7892640"/>
            <a:ext cx="687708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CS 2005 - Pittsbur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uesday, October 25</a:t>
            </a:r>
            <a:r>
              <a:rPr b="0" lang="en-GB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20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9280" y="3070080"/>
            <a:ext cx="88567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van Damgård, Louis Salvail,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hristian Schaffner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RICS, University of Århus, D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erge Feh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WI, Amsterdam, N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13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Obliviousness against dishonest Bob?</a:t>
            </a:r>
            <a:endParaRPr b="1" lang="en-US" sz="32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132000" y="5157720"/>
            <a:ext cx="2016360" cy="23760"/>
          </a:xfrm>
          <a:prstGeom prst="line">
            <a:avLst/>
          </a:prstGeom>
          <a:ln w="114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456000" y="4648320"/>
            <a:ext cx="971640" cy="39996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422280" y="4789440"/>
            <a:ext cx="2062080" cy="84924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3"/>
          <a:stretch/>
        </p:blipFill>
        <p:spPr>
          <a:xfrm>
            <a:off x="5791320" y="4876920"/>
            <a:ext cx="2819160" cy="76032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4"/>
          <a:stretch/>
        </p:blipFill>
        <p:spPr>
          <a:xfrm>
            <a:off x="5435640" y="1557360"/>
            <a:ext cx="1905120" cy="39204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5"/>
          <a:stretch/>
        </p:blipFill>
        <p:spPr>
          <a:xfrm>
            <a:off x="5435640" y="2060640"/>
            <a:ext cx="2984400" cy="1111320"/>
          </a:xfrm>
          <a:prstGeom prst="rect">
            <a:avLst/>
          </a:prstGeom>
          <a:ln w="0">
            <a:noFill/>
          </a:ln>
        </p:spPr>
      </p:pic>
      <p:grpSp>
        <p:nvGrpSpPr>
          <p:cNvPr id="323" name=""/>
          <p:cNvGrpSpPr/>
          <p:nvPr/>
        </p:nvGrpSpPr>
        <p:grpSpPr>
          <a:xfrm>
            <a:off x="2556000" y="4195800"/>
            <a:ext cx="6359400" cy="459720"/>
            <a:chOff x="2556000" y="4195800"/>
            <a:chExt cx="6359400" cy="459720"/>
          </a:xfrm>
        </p:grpSpPr>
        <p:sp>
          <p:nvSpPr>
            <p:cNvPr id="324" name=""/>
            <p:cNvSpPr/>
            <p:nvPr/>
          </p:nvSpPr>
          <p:spPr>
            <a:xfrm>
              <a:off x="2556000" y="4287600"/>
              <a:ext cx="6359400" cy="0"/>
            </a:xfrm>
            <a:prstGeom prst="line">
              <a:avLst/>
            </a:prstGeom>
            <a:ln w="50760">
              <a:solidFill>
                <a:srgbClr val="ffff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397320" y="4195800"/>
              <a:ext cx="549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memory bound: store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n/2 qubit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595440" y="1052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435640" y="102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3203640" y="3139560"/>
            <a:ext cx="2016000" cy="1800"/>
          </a:xfrm>
          <a:prstGeom prst="line">
            <a:avLst/>
          </a:prstGeom>
          <a:ln cap="rnd" w="1144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6"/>
          <a:stretch/>
        </p:blipFill>
        <p:spPr>
          <a:xfrm>
            <a:off x="3606840" y="2492280"/>
            <a:ext cx="647640" cy="46044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7"/>
          <a:stretch/>
        </p:blipFill>
        <p:spPr>
          <a:xfrm>
            <a:off x="324000" y="1557360"/>
            <a:ext cx="1981080" cy="841320"/>
          </a:xfrm>
          <a:prstGeom prst="rect">
            <a:avLst/>
          </a:prstGeom>
          <a:ln w="0">
            <a:noFill/>
          </a:ln>
        </p:spPr>
      </p:pic>
      <p:grpSp>
        <p:nvGrpSpPr>
          <p:cNvPr id="331" name=""/>
          <p:cNvGrpSpPr/>
          <p:nvPr/>
        </p:nvGrpSpPr>
        <p:grpSpPr>
          <a:xfrm>
            <a:off x="2522880" y="1379880"/>
            <a:ext cx="713520" cy="713880"/>
            <a:chOff x="2522880" y="1379880"/>
            <a:chExt cx="713520" cy="713880"/>
          </a:xfrm>
        </p:grpSpPr>
        <p:sp>
          <p:nvSpPr>
            <p:cNvPr id="332" name=""/>
            <p:cNvSpPr/>
            <p:nvPr/>
          </p:nvSpPr>
          <p:spPr>
            <a:xfrm rot="2700000">
              <a:off x="2627280" y="1484280"/>
              <a:ext cx="504720" cy="504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2718720" y="1574640"/>
              <a:ext cx="322920" cy="32508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 flipV="1">
              <a:off x="2717280" y="1575720"/>
              <a:ext cx="325080" cy="32364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2556000" y="20350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10…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rot="2700000">
            <a:off x="2311560" y="3284640"/>
            <a:ext cx="504720" cy="50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2403000" y="3375000"/>
            <a:ext cx="323280" cy="325440"/>
          </a:xfrm>
          <a:prstGeom prst="line">
            <a:avLst/>
          </a:prstGeom>
          <a:ln w="44280">
            <a:solidFill>
              <a:srgbClr val="0033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rot="2700000">
            <a:off x="2887200" y="3284640"/>
            <a:ext cx="504720" cy="505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 flipV="1">
            <a:off x="2977560" y="3376440"/>
            <a:ext cx="325800" cy="322920"/>
          </a:xfrm>
          <a:prstGeom prst="line">
            <a:avLst/>
          </a:prstGeom>
          <a:ln w="44280">
            <a:solidFill>
              <a:srgbClr val="0033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rot="2700000">
            <a:off x="3463920" y="3284640"/>
            <a:ext cx="504720" cy="50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H="1" flipV="1">
            <a:off x="3553920" y="3376440"/>
            <a:ext cx="325800" cy="322920"/>
          </a:xfrm>
          <a:prstGeom prst="line">
            <a:avLst/>
          </a:prstGeom>
          <a:ln w="44280">
            <a:solidFill>
              <a:srgbClr val="0033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rot="2700000">
            <a:off x="4038120" y="3284640"/>
            <a:ext cx="504720" cy="505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4129920" y="3374640"/>
            <a:ext cx="323640" cy="325800"/>
          </a:xfrm>
          <a:prstGeom prst="line">
            <a:avLst/>
          </a:prstGeom>
          <a:ln w="44280">
            <a:solidFill>
              <a:srgbClr val="0033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0" y="33577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…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5334480" y="2172240"/>
            <a:ext cx="2982600" cy="713880"/>
            <a:chOff x="5334480" y="2172240"/>
            <a:chExt cx="2982600" cy="713880"/>
          </a:xfrm>
        </p:grpSpPr>
        <p:sp>
          <p:nvSpPr>
            <p:cNvPr id="346" name=""/>
            <p:cNvSpPr/>
            <p:nvPr/>
          </p:nvSpPr>
          <p:spPr>
            <a:xfrm rot="2700000">
              <a:off x="5438880" y="2276640"/>
              <a:ext cx="504720" cy="504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5530320" y="2367000"/>
              <a:ext cx="323280" cy="32544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rot="2700000">
              <a:off x="6015240" y="2276640"/>
              <a:ext cx="504720" cy="504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 flipV="1">
              <a:off x="6105600" y="2368080"/>
              <a:ext cx="325440" cy="32328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rot="2700000">
              <a:off x="6590880" y="2276640"/>
              <a:ext cx="504720" cy="5050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 flipV="1">
              <a:off x="6681240" y="2368440"/>
              <a:ext cx="325800" cy="32292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rot="2700000">
              <a:off x="7166160" y="2276640"/>
              <a:ext cx="504720" cy="504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7257600" y="2367000"/>
              <a:ext cx="323280" cy="32544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740720" y="232416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…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55" name="" descr=""/>
          <p:cNvPicPr/>
          <p:nvPr/>
        </p:nvPicPr>
        <p:blipFill>
          <a:blip r:embed="rId8"/>
          <a:stretch/>
        </p:blipFill>
        <p:spPr>
          <a:xfrm>
            <a:off x="5386320" y="1847880"/>
            <a:ext cx="2309760" cy="2779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5508720" y="2852640"/>
            <a:ext cx="2879640" cy="503280"/>
          </a:xfrm>
          <a:custGeom>
            <a:avLst/>
            <a:gdLst>
              <a:gd name="textAreaLeft" fmla="*/ 672480 w 2879640"/>
              <a:gd name="textAreaRight" fmla="*/ 2207160 w 2879640"/>
              <a:gd name="textAreaTop" fmla="*/ 117360 h 503280"/>
              <a:gd name="textAreaBottom" fmla="*/ 3859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670" y="21600"/>
                </a:lnTo>
                <a:lnTo>
                  <a:pt x="5930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rot="2700000">
            <a:off x="6586560" y="3429000"/>
            <a:ext cx="504720" cy="50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H="1" flipV="1">
            <a:off x="6676560" y="3520080"/>
            <a:ext cx="325800" cy="323640"/>
          </a:xfrm>
          <a:prstGeom prst="line">
            <a:avLst/>
          </a:prstGeom>
          <a:ln w="44280">
            <a:solidFill>
              <a:srgbClr val="0033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rot="2700000">
            <a:off x="6012000" y="3429000"/>
            <a:ext cx="504720" cy="50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6103440" y="3519000"/>
            <a:ext cx="322920" cy="325800"/>
          </a:xfrm>
          <a:prstGeom prst="line">
            <a:avLst/>
          </a:prstGeom>
          <a:ln w="44280">
            <a:solidFill>
              <a:srgbClr val="0033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236000" y="34765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…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8028000" y="2852280"/>
            <a:ext cx="865080" cy="792720"/>
            <a:chOff x="8028000" y="2852280"/>
            <a:chExt cx="865080" cy="792720"/>
          </a:xfrm>
        </p:grpSpPr>
        <p:sp>
          <p:nvSpPr>
            <p:cNvPr id="363" name=""/>
            <p:cNvSpPr/>
            <p:nvPr/>
          </p:nvSpPr>
          <p:spPr>
            <a:xfrm>
              <a:off x="8172360" y="2997360"/>
              <a:ext cx="576360" cy="576000"/>
            </a:xfrm>
            <a:prstGeom prst="ellipse">
              <a:avLst/>
            </a:prstGeom>
            <a:noFill/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028000" y="3213000"/>
              <a:ext cx="8650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8459640" y="2852280"/>
              <a:ext cx="216000" cy="289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8244000" y="3213000"/>
            <a:ext cx="504720" cy="505080"/>
            <a:chOff x="8244000" y="3213000"/>
            <a:chExt cx="504720" cy="505080"/>
          </a:xfrm>
        </p:grpSpPr>
        <p:sp>
          <p:nvSpPr>
            <p:cNvPr id="367" name=""/>
            <p:cNvSpPr/>
            <p:nvPr/>
          </p:nvSpPr>
          <p:spPr>
            <a:xfrm>
              <a:off x="8244000" y="3213000"/>
              <a:ext cx="504720" cy="5050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 flipV="1">
              <a:off x="8496360" y="3236400"/>
              <a:ext cx="1440" cy="4590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8294760" y="3465000"/>
              <a:ext cx="403200" cy="18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70" name="" descr=""/>
          <p:cNvPicPr/>
          <p:nvPr/>
        </p:nvPicPr>
        <p:blipFill>
          <a:blip r:embed="rId9"/>
          <a:stretch/>
        </p:blipFill>
        <p:spPr>
          <a:xfrm>
            <a:off x="5148360" y="4797360"/>
            <a:ext cx="3959280" cy="72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43EDE-E0A2-4B15-B488-EAF39FDAD2C2}" type="slidenum">
              <a:t>10</a:t>
            </a:fld>
          </a:p>
        </p:txBody>
      </p:sp>
    </p:spTree>
  </p:cSld>
  <p:transition spd="med">
    <p:fad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71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Proof of Obliviousness: Tools</a:t>
            </a:r>
            <a:endParaRPr b="1" lang="en-US" sz="32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09480" y="1981080"/>
            <a:ext cx="990720" cy="838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O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050920" y="1268280"/>
            <a:ext cx="669780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rification techniques like in the  Shor-Preskill security proof of BB8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vacy Amplification against Quantum Adversaries [RK, TCC05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min-entropy based uncertainty rela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066680" y="220968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0920" y="4221000"/>
            <a:ext cx="856908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a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qubit register A in state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t P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P</a:t>
            </a:r>
            <a:r>
              <a:rPr b="0" lang="en-US" sz="3600" spc="-1" strike="noStrike" baseline="30000">
                <a:solidFill>
                  <a:srgbClr val="ffffff"/>
                </a:solidFill>
                <a:latin typeface="cmsy10"/>
              </a:rPr>
              <a:t>£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e the probabilities of measuring A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+-basis respectively </a:t>
            </a:r>
            <a:r>
              <a:rPr b="0" lang="en-US" sz="2800" spc="-1" strike="noStrike">
                <a:solidFill>
                  <a:srgbClr val="ffffff"/>
                </a:solidFill>
                <a:latin typeface="cmsy10"/>
              </a:rPr>
              <a:t>£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basis. Then it hol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msy10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+ P</a:t>
            </a:r>
            <a:r>
              <a:rPr b="0" lang="en-US" sz="3600" spc="-1" strike="noStrike" baseline="30000">
                <a:solidFill>
                  <a:srgbClr val="ffffff"/>
                </a:solidFill>
                <a:latin typeface="cmsy10"/>
              </a:rPr>
              <a:t>£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msy10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1 + negl(n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A6FD8-27AD-4F8F-8C52-0EB596E02658}" type="slidenum">
              <a:t>11</a:t>
            </a:fld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78920" y="333360"/>
            <a:ext cx="871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826920" y="1700280"/>
            <a:ext cx="7993080" cy="28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Quantum Bounded Storage Mod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tocol for Oblivious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tocol for Bit Commit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cticality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84360" y="2995560"/>
            <a:ext cx="8064360" cy="649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7F804-9D72-4EF3-8B6D-54FBAAA5CB64}" type="slidenum">
              <a:t>12</a:t>
            </a:fld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28240" y="198000"/>
            <a:ext cx="8713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Quantum Protocol for Bit Commitment</a:t>
            </a:r>
            <a:endParaRPr b="1" lang="en-US" sz="32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09480" y="3809880"/>
            <a:ext cx="990720" cy="838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B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057400" y="1143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erifi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15000" y="1143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mit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3352320" y="4572000"/>
            <a:ext cx="2133720" cy="609480"/>
            <a:chOff x="3352320" y="4572000"/>
            <a:chExt cx="2133720" cy="609480"/>
          </a:xfrm>
        </p:grpSpPr>
        <p:sp>
          <p:nvSpPr>
            <p:cNvPr id="384" name=""/>
            <p:cNvSpPr/>
            <p:nvPr/>
          </p:nvSpPr>
          <p:spPr>
            <a:xfrm flipH="1">
              <a:off x="3352320" y="5181480"/>
              <a:ext cx="2133720" cy="0"/>
            </a:xfrm>
            <a:prstGeom prst="line">
              <a:avLst/>
            </a:prstGeom>
            <a:ln w="1144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85" name="" descr=""/>
            <p:cNvPicPr/>
            <p:nvPr/>
          </p:nvPicPr>
          <p:blipFill>
            <a:blip r:embed="rId1"/>
            <a:stretch/>
          </p:blipFill>
          <p:spPr>
            <a:xfrm>
              <a:off x="4191120" y="4572000"/>
              <a:ext cx="704880" cy="441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6" name=""/>
          <p:cNvGrpSpPr/>
          <p:nvPr/>
        </p:nvGrpSpPr>
        <p:grpSpPr>
          <a:xfrm>
            <a:off x="5784840" y="1981080"/>
            <a:ext cx="2984400" cy="1952640"/>
            <a:chOff x="5784840" y="1981080"/>
            <a:chExt cx="2984400" cy="1952640"/>
          </a:xfrm>
        </p:grpSpPr>
        <p:pic>
          <p:nvPicPr>
            <p:cNvPr id="387" name="" descr=""/>
            <p:cNvPicPr/>
            <p:nvPr/>
          </p:nvPicPr>
          <p:blipFill>
            <a:blip r:embed="rId2"/>
            <a:stretch/>
          </p:blipFill>
          <p:spPr>
            <a:xfrm>
              <a:off x="5784840" y="2822400"/>
              <a:ext cx="2984400" cy="111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" descr=""/>
            <p:cNvPicPr/>
            <p:nvPr/>
          </p:nvPicPr>
          <p:blipFill>
            <a:blip r:embed="rId3"/>
            <a:stretch/>
          </p:blipFill>
          <p:spPr>
            <a:xfrm>
              <a:off x="5791320" y="1981080"/>
              <a:ext cx="1795320" cy="41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9" name=""/>
          <p:cNvGrpSpPr/>
          <p:nvPr/>
        </p:nvGrpSpPr>
        <p:grpSpPr>
          <a:xfrm>
            <a:off x="2062080" y="1747800"/>
            <a:ext cx="3424320" cy="1681200"/>
            <a:chOff x="2062080" y="1747800"/>
            <a:chExt cx="3424320" cy="1681200"/>
          </a:xfrm>
        </p:grpSpPr>
        <p:sp>
          <p:nvSpPr>
            <p:cNvPr id="390" name=""/>
            <p:cNvSpPr/>
            <p:nvPr/>
          </p:nvSpPr>
          <p:spPr>
            <a:xfrm>
              <a:off x="3352680" y="3429000"/>
              <a:ext cx="2133720" cy="0"/>
            </a:xfrm>
            <a:prstGeom prst="line">
              <a:avLst/>
            </a:prstGeom>
            <a:ln cap="rnd" w="114480">
              <a:solidFill>
                <a:srgbClr val="ffffff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91" name="" descr=""/>
            <p:cNvPicPr/>
            <p:nvPr/>
          </p:nvPicPr>
          <p:blipFill>
            <a:blip r:embed="rId4"/>
            <a:stretch/>
          </p:blipFill>
          <p:spPr>
            <a:xfrm>
              <a:off x="2666880" y="2819520"/>
              <a:ext cx="2374920" cy="46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2" name="" descr=""/>
            <p:cNvPicPr/>
            <p:nvPr/>
          </p:nvPicPr>
          <p:blipFill>
            <a:blip r:embed="rId5"/>
            <a:stretch/>
          </p:blipFill>
          <p:spPr>
            <a:xfrm>
              <a:off x="2062080" y="1747800"/>
              <a:ext cx="2130480" cy="843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93" name="" descr=""/>
          <p:cNvPicPr/>
          <p:nvPr/>
        </p:nvPicPr>
        <p:blipFill>
          <a:blip r:embed="rId6"/>
          <a:stretch/>
        </p:blipFill>
        <p:spPr>
          <a:xfrm>
            <a:off x="1828800" y="5486400"/>
            <a:ext cx="2819520" cy="809640"/>
          </a:xfrm>
          <a:prstGeom prst="rect">
            <a:avLst/>
          </a:prstGeom>
          <a:ln w="0">
            <a:noFill/>
          </a:ln>
        </p:spPr>
      </p:pic>
      <p:grpSp>
        <p:nvGrpSpPr>
          <p:cNvPr id="394" name=""/>
          <p:cNvGrpSpPr/>
          <p:nvPr/>
        </p:nvGrpSpPr>
        <p:grpSpPr>
          <a:xfrm>
            <a:off x="2050920" y="4124160"/>
            <a:ext cx="6864480" cy="459720"/>
            <a:chOff x="2050920" y="4124160"/>
            <a:chExt cx="6864480" cy="459720"/>
          </a:xfrm>
        </p:grpSpPr>
        <p:sp>
          <p:nvSpPr>
            <p:cNvPr id="395" name=""/>
            <p:cNvSpPr/>
            <p:nvPr/>
          </p:nvSpPr>
          <p:spPr>
            <a:xfrm flipV="1">
              <a:off x="2050920" y="4200120"/>
              <a:ext cx="6864480" cy="20520"/>
            </a:xfrm>
            <a:prstGeom prst="line">
              <a:avLst/>
            </a:prstGeom>
            <a:ln w="50760">
              <a:solidFill>
                <a:srgbClr val="ffff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700360" y="4124160"/>
              <a:ext cx="619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memory bound: store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n/2 qubit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96D41-DC86-4C2E-AC13-8B243C15D237}" type="slidenum">
              <a:t>13</a:t>
            </a:fld>
          </a:p>
        </p:txBody>
      </p:sp>
    </p:spTree>
  </p:cSld>
  <p:transition spd="med">
    <p:fad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609480" y="3809880"/>
            <a:ext cx="990720" cy="838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B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3450960" y="3068640"/>
            <a:ext cx="2057400" cy="0"/>
          </a:xfrm>
          <a:prstGeom prst="line">
            <a:avLst/>
          </a:prstGeom>
          <a:ln w="114480">
            <a:solidFill>
              <a:srgbClr val="ffffff">
                <a:alpha val="84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133720" y="2286000"/>
            <a:ext cx="6629400" cy="0"/>
          </a:xfrm>
          <a:prstGeom prst="line">
            <a:avLst/>
          </a:prstGeom>
          <a:ln w="5076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057400" y="1143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erifi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1143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mit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4365720" y="2611440"/>
            <a:ext cx="609480" cy="38088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791320" y="1600200"/>
            <a:ext cx="1600200" cy="41112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1989000" y="3328920"/>
            <a:ext cx="6831000" cy="27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241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round, non-interactiv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241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it by receiving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241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conditionally hi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241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conditionally binding as long as Mem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committ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&lt; n /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241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3505320" y="1523880"/>
            <a:ext cx="2057400" cy="457200"/>
            <a:chOff x="3505320" y="1523880"/>
            <a:chExt cx="2057400" cy="457200"/>
          </a:xfrm>
        </p:grpSpPr>
        <p:sp>
          <p:nvSpPr>
            <p:cNvPr id="406" name=""/>
            <p:cNvSpPr/>
            <p:nvPr/>
          </p:nvSpPr>
          <p:spPr>
            <a:xfrm>
              <a:off x="3505320" y="1981080"/>
              <a:ext cx="2057400" cy="0"/>
            </a:xfrm>
            <a:prstGeom prst="line">
              <a:avLst/>
            </a:prstGeom>
            <a:ln cap="rnd" w="114480">
              <a:solidFill>
                <a:srgbClr val="ffffff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07" name="" descr=""/>
            <p:cNvPicPr/>
            <p:nvPr/>
          </p:nvPicPr>
          <p:blipFill>
            <a:blip r:embed="rId3"/>
            <a:stretch/>
          </p:blipFill>
          <p:spPr>
            <a:xfrm>
              <a:off x="3733920" y="1523880"/>
              <a:ext cx="1304640" cy="29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8" name=""/>
          <p:cNvSpPr/>
          <p:nvPr/>
        </p:nvSpPr>
        <p:spPr>
          <a:xfrm>
            <a:off x="2627280" y="2205000"/>
            <a:ext cx="61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emory bound: stor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&lt;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n/2 qub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28600" y="198360"/>
            <a:ext cx="8713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Quantum Protocol for Bit Commitment 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692360" y="6021360"/>
            <a:ext cx="61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msy10"/>
              </a:rPr>
              <a:t>)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of uses same tools as for OT 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8890B-B1CA-4055-AF77-826C9B3B7E4F}" type="slidenum">
              <a:t>14</a:t>
            </a:fld>
          </a:p>
        </p:txBody>
      </p:sp>
    </p:spTree>
  </p:cSld>
  <p:transition spd="med">
    <p:fade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78920" y="333360"/>
            <a:ext cx="871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826920" y="1700280"/>
            <a:ext cx="7993080" cy="28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Quantum Bounded Storage Mod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tocol for Oblivious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tocol for Bit Commit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cticality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11280" y="3683160"/>
            <a:ext cx="8064360" cy="649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6640D-F6CD-4E21-8C36-4042BB2C6C9B}" type="slidenum">
              <a:t>15</a:t>
            </a:fld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71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Practicality Issues</a:t>
            </a:r>
            <a:endParaRPr b="1" lang="en-US" sz="32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09480" y="1981080"/>
            <a:ext cx="990720" cy="838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O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09480" y="3809880"/>
            <a:ext cx="990720" cy="838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B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979640" y="1484280"/>
            <a:ext cx="684036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 today’s technology, w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ransmit quantum bits encoded in phot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nnot sto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m for longer than a few milliseco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979640" y="4076640"/>
            <a:ext cx="583236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erfect sources (multi-pulse emission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mission err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8E1CA-895E-4B5E-B832-26A36A6074A5}" type="slidenum">
              <a:t>16</a:t>
            </a:fld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71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Practicality Issues II</a:t>
            </a:r>
            <a:endParaRPr b="1" lang="en-US" sz="32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09480" y="1981080"/>
            <a:ext cx="990720" cy="838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O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050920" y="1413000"/>
            <a:ext cx="662940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r protocols can be modified 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sis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acks based 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photon emissio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lerate (quantum)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09480" y="3809880"/>
            <a:ext cx="990720" cy="838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B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066680" y="220968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066680" y="403848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979640" y="3787920"/>
            <a:ext cx="66960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 within reach of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urrent technolog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s sense over short distances    (in contrast to QK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22765-197E-4CDF-9089-42DB7C0E790B}" type="slidenum">
              <a:t>17</a:t>
            </a:fld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71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09480" y="1981080"/>
            <a:ext cx="990720" cy="838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O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24000" y="1341360"/>
            <a:ext cx="6696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ocols for OT and BC that 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fficient, non-interac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conditionally secu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gainst adversaries with bounded quantum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actica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nest players do not need quantum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ult-toler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09480" y="3809880"/>
            <a:ext cx="990720" cy="838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B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066680" y="220968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066680" y="403848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003640" y="5300640"/>
            <a:ext cx="333540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Thank you for your attention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A7834-3D68-474D-B45C-F846E5E70063}" type="slidenum">
              <a:t>18</a:t>
            </a:fld>
          </a:p>
        </p:txBody>
      </p:sp>
    </p:spTree>
  </p:cSld>
  <p:transition spd="med">
    <p:fad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240" y="198000"/>
            <a:ext cx="8713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Binding Property: Proof Idea</a:t>
            </a:r>
            <a:endParaRPr b="1" lang="en-US" sz="32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09480" y="3809880"/>
            <a:ext cx="990720" cy="838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B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990720" y="403848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057400" y="1143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erifi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715000" y="1143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mit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3352320" y="4572000"/>
            <a:ext cx="2133720" cy="609480"/>
            <a:chOff x="3352320" y="4572000"/>
            <a:chExt cx="2133720" cy="609480"/>
          </a:xfrm>
        </p:grpSpPr>
        <p:sp>
          <p:nvSpPr>
            <p:cNvPr id="439" name=""/>
            <p:cNvSpPr/>
            <p:nvPr/>
          </p:nvSpPr>
          <p:spPr>
            <a:xfrm flipH="1">
              <a:off x="3352320" y="5181480"/>
              <a:ext cx="2133720" cy="0"/>
            </a:xfrm>
            <a:prstGeom prst="line">
              <a:avLst/>
            </a:prstGeom>
            <a:ln w="1144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40" name="" descr=""/>
            <p:cNvPicPr/>
            <p:nvPr/>
          </p:nvPicPr>
          <p:blipFill>
            <a:blip r:embed="rId1"/>
            <a:stretch/>
          </p:blipFill>
          <p:spPr>
            <a:xfrm>
              <a:off x="4191120" y="4572000"/>
              <a:ext cx="704880" cy="441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1" name=""/>
          <p:cNvGrpSpPr/>
          <p:nvPr/>
        </p:nvGrpSpPr>
        <p:grpSpPr>
          <a:xfrm>
            <a:off x="5784840" y="1981080"/>
            <a:ext cx="2984400" cy="1952640"/>
            <a:chOff x="5784840" y="1981080"/>
            <a:chExt cx="2984400" cy="1952640"/>
          </a:xfrm>
        </p:grpSpPr>
        <p:pic>
          <p:nvPicPr>
            <p:cNvPr id="442" name="" descr=""/>
            <p:cNvPicPr/>
            <p:nvPr/>
          </p:nvPicPr>
          <p:blipFill>
            <a:blip r:embed="rId2"/>
            <a:stretch/>
          </p:blipFill>
          <p:spPr>
            <a:xfrm>
              <a:off x="5784840" y="2822400"/>
              <a:ext cx="2984400" cy="111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3" name="" descr=""/>
            <p:cNvPicPr/>
            <p:nvPr/>
          </p:nvPicPr>
          <p:blipFill>
            <a:blip r:embed="rId3"/>
            <a:stretch/>
          </p:blipFill>
          <p:spPr>
            <a:xfrm>
              <a:off x="5791320" y="1981080"/>
              <a:ext cx="1795320" cy="41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4" name=""/>
          <p:cNvSpPr/>
          <p:nvPr/>
        </p:nvSpPr>
        <p:spPr>
          <a:xfrm>
            <a:off x="3352680" y="3429000"/>
            <a:ext cx="2133720" cy="0"/>
          </a:xfrm>
          <a:prstGeom prst="line">
            <a:avLst/>
          </a:prstGeom>
          <a:ln cap="rnd" w="1144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2062080" y="1747800"/>
            <a:ext cx="2979720" cy="1533600"/>
            <a:chOff x="2062080" y="1747800"/>
            <a:chExt cx="2979720" cy="1533600"/>
          </a:xfrm>
        </p:grpSpPr>
        <p:pic>
          <p:nvPicPr>
            <p:cNvPr id="446" name="" descr=""/>
            <p:cNvPicPr/>
            <p:nvPr/>
          </p:nvPicPr>
          <p:blipFill>
            <a:blip r:embed="rId4"/>
            <a:stretch/>
          </p:blipFill>
          <p:spPr>
            <a:xfrm>
              <a:off x="2666880" y="2819520"/>
              <a:ext cx="2374920" cy="46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7" name="" descr=""/>
            <p:cNvPicPr/>
            <p:nvPr/>
          </p:nvPicPr>
          <p:blipFill>
            <a:blip r:embed="rId5"/>
            <a:stretch/>
          </p:blipFill>
          <p:spPr>
            <a:xfrm>
              <a:off x="2062080" y="1747800"/>
              <a:ext cx="2130480" cy="843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48" name="" descr=""/>
          <p:cNvPicPr/>
          <p:nvPr/>
        </p:nvPicPr>
        <p:blipFill>
          <a:blip r:embed="rId6"/>
          <a:stretch/>
        </p:blipFill>
        <p:spPr>
          <a:xfrm>
            <a:off x="1828800" y="5486400"/>
            <a:ext cx="2819520" cy="809640"/>
          </a:xfrm>
          <a:prstGeom prst="rect">
            <a:avLst/>
          </a:prstGeom>
          <a:ln w="0">
            <a:noFill/>
          </a:ln>
        </p:spPr>
      </p:pic>
      <p:grpSp>
        <p:nvGrpSpPr>
          <p:cNvPr id="449" name=""/>
          <p:cNvGrpSpPr/>
          <p:nvPr/>
        </p:nvGrpSpPr>
        <p:grpSpPr>
          <a:xfrm>
            <a:off x="2050920" y="4124160"/>
            <a:ext cx="6864480" cy="459720"/>
            <a:chOff x="2050920" y="4124160"/>
            <a:chExt cx="6864480" cy="459720"/>
          </a:xfrm>
        </p:grpSpPr>
        <p:sp>
          <p:nvSpPr>
            <p:cNvPr id="450" name=""/>
            <p:cNvSpPr/>
            <p:nvPr/>
          </p:nvSpPr>
          <p:spPr>
            <a:xfrm flipV="1">
              <a:off x="2050920" y="4200120"/>
              <a:ext cx="6864480" cy="20520"/>
            </a:xfrm>
            <a:prstGeom prst="line">
              <a:avLst/>
            </a:prstGeom>
            <a:ln w="50760">
              <a:solidFill>
                <a:srgbClr val="ffff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00360" y="4124160"/>
              <a:ext cx="619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memory bound: store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n/2 qubit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52" name="" descr=""/>
          <p:cNvPicPr/>
          <p:nvPr/>
        </p:nvPicPr>
        <p:blipFill>
          <a:blip r:embed="rId7"/>
          <a:stretch/>
        </p:blipFill>
        <p:spPr>
          <a:xfrm>
            <a:off x="5718240" y="1782720"/>
            <a:ext cx="2309760" cy="27792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5508720" y="2852640"/>
            <a:ext cx="2879640" cy="503280"/>
          </a:xfrm>
          <a:custGeom>
            <a:avLst/>
            <a:gdLst>
              <a:gd name="textAreaLeft" fmla="*/ 672480 w 2879640"/>
              <a:gd name="textAreaRight" fmla="*/ 2207160 w 2879640"/>
              <a:gd name="textAreaTop" fmla="*/ 117360 h 503280"/>
              <a:gd name="textAreaBottom" fmla="*/ 3859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670" y="21600"/>
                </a:lnTo>
                <a:lnTo>
                  <a:pt x="5930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8099280" y="2945880"/>
            <a:ext cx="865080" cy="843120"/>
            <a:chOff x="8099280" y="2945880"/>
            <a:chExt cx="865080" cy="843120"/>
          </a:xfrm>
        </p:grpSpPr>
        <p:sp>
          <p:nvSpPr>
            <p:cNvPr id="455" name=""/>
            <p:cNvSpPr/>
            <p:nvPr/>
          </p:nvSpPr>
          <p:spPr>
            <a:xfrm>
              <a:off x="8243640" y="3090960"/>
              <a:ext cx="576360" cy="576000"/>
            </a:xfrm>
            <a:prstGeom prst="ellipse">
              <a:avLst/>
            </a:prstGeom>
            <a:noFill/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099280" y="3306600"/>
              <a:ext cx="8650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>
              <a:off x="8530920" y="2945880"/>
              <a:ext cx="216000" cy="289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 flipV="1">
              <a:off x="8567640" y="3330000"/>
              <a:ext cx="1440" cy="4590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>
              <a:off x="8366040" y="3558600"/>
              <a:ext cx="403200" cy="18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9E3EF-A003-493C-A4D9-DA210D5F5AE5}" type="slidenum">
              <a:t>19</a:t>
            </a:fld>
          </a:p>
        </p:txBody>
      </p:sp>
    </p:spTree>
  </p:cSld>
  <p:transition spd="med">
    <p:fade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49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Classical 2-party primitives</a:t>
            </a:r>
            <a:endParaRPr b="1" lang="en-US" sz="3200" spc="-1" strike="noStrike">
              <a:solidFill>
                <a:srgbClr val="e5e5ff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380880" y="1125360"/>
            <a:ext cx="4724640" cy="1295640"/>
            <a:chOff x="380880" y="1125360"/>
            <a:chExt cx="4724640" cy="1295640"/>
          </a:xfrm>
        </p:grpSpPr>
        <p:sp>
          <p:nvSpPr>
            <p:cNvPr id="112" name=""/>
            <p:cNvSpPr/>
            <p:nvPr/>
          </p:nvSpPr>
          <p:spPr>
            <a:xfrm>
              <a:off x="762120" y="2192400"/>
              <a:ext cx="1066680" cy="0"/>
            </a:xfrm>
            <a:prstGeom prst="line">
              <a:avLst/>
            </a:prstGeom>
            <a:ln w="1144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68360" y="1125360"/>
              <a:ext cx="425592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Rabin Oblivious Transfer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80880" y="1887480"/>
              <a:ext cx="3812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0000"/>
            </a:bodyPr>
            <a:p>
              <a:pPr marL="308520" indent="-30852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971800" y="2192400"/>
              <a:ext cx="1066680" cy="0"/>
            </a:xfrm>
            <a:prstGeom prst="line">
              <a:avLst/>
            </a:prstGeom>
            <a:ln w="1144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114800" y="1887480"/>
              <a:ext cx="990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0000"/>
            </a:bodyPr>
            <a:p>
              <a:pPr marL="308520" indent="-30852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b / ?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5867280" y="1658880"/>
            <a:ext cx="28195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v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livio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867280" y="3683160"/>
            <a:ext cx="28195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0880" y="2997360"/>
            <a:ext cx="5410440" cy="2133000"/>
            <a:chOff x="380880" y="2997360"/>
            <a:chExt cx="5410440" cy="2133000"/>
          </a:xfrm>
        </p:grpSpPr>
        <p:sp>
          <p:nvSpPr>
            <p:cNvPr id="120" name=""/>
            <p:cNvSpPr/>
            <p:nvPr/>
          </p:nvSpPr>
          <p:spPr>
            <a:xfrm>
              <a:off x="762120" y="4064040"/>
              <a:ext cx="1066680" cy="0"/>
            </a:xfrm>
            <a:prstGeom prst="line">
              <a:avLst/>
            </a:prstGeom>
            <a:ln w="1144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62120" y="2997360"/>
              <a:ext cx="396216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Bit Commitment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0880" y="3759120"/>
              <a:ext cx="3812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0000"/>
            </a:bodyPr>
            <a:p>
              <a:pPr marL="308520" indent="-30852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971800" y="4064040"/>
              <a:ext cx="1066680" cy="0"/>
            </a:xfrm>
            <a:prstGeom prst="line">
              <a:avLst/>
            </a:prstGeom>
            <a:ln w="1144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114800" y="3759120"/>
              <a:ext cx="6858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marL="270720" indent="-27072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3200" spc="-1" strike="noStrike" baseline="-25000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2120" y="4902120"/>
              <a:ext cx="3276360" cy="0"/>
            </a:xfrm>
            <a:prstGeom prst="line">
              <a:avLst/>
            </a:prstGeom>
            <a:ln w="1144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0880" y="4597200"/>
              <a:ext cx="3812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0000"/>
            </a:bodyPr>
            <a:p>
              <a:pPr marL="308520" indent="-30852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038480" y="4597200"/>
              <a:ext cx="17528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marL="270720" indent="-27072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b in C</a:t>
              </a:r>
              <a:r>
                <a:rPr b="0" lang="en-US" sz="3200" spc="-1" strike="noStrike" baseline="-25000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1905120" y="1811160"/>
            <a:ext cx="990360" cy="838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O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05120" y="3683160"/>
            <a:ext cx="990360" cy="838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B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9640" y="5516640"/>
            <a:ext cx="74898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T </a:t>
            </a:r>
            <a:r>
              <a:rPr b="1" lang="en-US" sz="2800" spc="-1" strike="noStrike">
                <a:solidFill>
                  <a:srgbClr val="ffffff"/>
                </a:solidFill>
                <a:latin typeface="cmsy10"/>
              </a:rPr>
              <a:t>)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B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complete for two-party cryptograph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722F0-B88C-4B6E-974A-B9B775D765D7}" type="slidenum">
              <a:t>2</a:t>
            </a:fld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71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Open Problems and Next Steps</a:t>
            </a:r>
            <a:endParaRPr b="1" lang="en-US" sz="32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09480" y="1981080"/>
            <a:ext cx="990720" cy="838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O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24000" y="1557360"/>
            <a:ext cx="66960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flavors of OT: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 1-out-of-2 Oblivious Transfer, String-OT,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tter memory bou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osability? What happens to the memory boun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Better uncertainty relations for more MU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09480" y="3809880"/>
            <a:ext cx="990720" cy="838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B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066680" y="220968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066680" y="403848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898AC-ACAA-4E98-8535-8F7A10E41558}" type="slidenum">
              <a:t>20</a:t>
            </a:fld>
          </a:p>
        </p:txBody>
      </p:sp>
    </p:spTree>
  </p:cSld>
  <p:transition spd="med">
    <p:fade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13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Quantum 1-2-OT</a:t>
            </a:r>
            <a:endParaRPr b="1" lang="en-US" sz="32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132000" y="5445000"/>
            <a:ext cx="2016360" cy="0"/>
          </a:xfrm>
          <a:prstGeom prst="line">
            <a:avLst/>
          </a:prstGeom>
          <a:ln w="114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1"/>
          <a:stretch/>
        </p:blipFill>
        <p:spPr>
          <a:xfrm>
            <a:off x="5435640" y="2565360"/>
            <a:ext cx="2984400" cy="1111320"/>
          </a:xfrm>
          <a:prstGeom prst="rect">
            <a:avLst/>
          </a:prstGeom>
          <a:ln w="0">
            <a:noFill/>
          </a:ln>
        </p:spPr>
      </p:pic>
      <p:grpSp>
        <p:nvGrpSpPr>
          <p:cNvPr id="469" name=""/>
          <p:cNvGrpSpPr/>
          <p:nvPr/>
        </p:nvGrpSpPr>
        <p:grpSpPr>
          <a:xfrm>
            <a:off x="250920" y="3933720"/>
            <a:ext cx="8664120" cy="459720"/>
            <a:chOff x="250920" y="3933720"/>
            <a:chExt cx="8664120" cy="459720"/>
          </a:xfrm>
        </p:grpSpPr>
        <p:sp>
          <p:nvSpPr>
            <p:cNvPr id="470" name=""/>
            <p:cNvSpPr/>
            <p:nvPr/>
          </p:nvSpPr>
          <p:spPr>
            <a:xfrm>
              <a:off x="250920" y="4025520"/>
              <a:ext cx="8664120" cy="0"/>
            </a:xfrm>
            <a:prstGeom prst="line">
              <a:avLst/>
            </a:prstGeom>
            <a:ln w="50760">
              <a:solidFill>
                <a:srgbClr val="ffff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397160" y="3933720"/>
              <a:ext cx="749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memory bound: store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0.4n qubit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2" name=""/>
          <p:cNvSpPr/>
          <p:nvPr/>
        </p:nvSpPr>
        <p:spPr>
          <a:xfrm>
            <a:off x="595440" y="1052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435640" y="102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2916360" y="3139560"/>
            <a:ext cx="2016000" cy="1800"/>
          </a:xfrm>
          <a:prstGeom prst="line">
            <a:avLst/>
          </a:prstGeom>
          <a:ln cap="rnd" w="1144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2"/>
          <a:stretch/>
        </p:blipFill>
        <p:spPr>
          <a:xfrm>
            <a:off x="1619280" y="1081080"/>
            <a:ext cx="2146320" cy="379440"/>
          </a:xfrm>
          <a:prstGeom prst="rect">
            <a:avLst/>
          </a:prstGeom>
          <a:ln w="0">
            <a:noFill/>
          </a:ln>
        </p:spPr>
      </p:pic>
      <p:pic>
        <p:nvPicPr>
          <p:cNvPr id="476" name="" descr=""/>
          <p:cNvPicPr/>
          <p:nvPr/>
        </p:nvPicPr>
        <p:blipFill>
          <a:blip r:embed="rId3"/>
          <a:stretch/>
        </p:blipFill>
        <p:spPr>
          <a:xfrm>
            <a:off x="250920" y="1555920"/>
            <a:ext cx="2130480" cy="84276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4"/>
          <a:stretch/>
        </p:blipFill>
        <p:spPr>
          <a:xfrm>
            <a:off x="2484360" y="2492280"/>
            <a:ext cx="2374920" cy="46188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5"/>
          <a:stretch/>
        </p:blipFill>
        <p:spPr>
          <a:xfrm>
            <a:off x="5435640" y="5130720"/>
            <a:ext cx="3370320" cy="45900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6"/>
          <a:stretch/>
        </p:blipFill>
        <p:spPr>
          <a:xfrm>
            <a:off x="100080" y="4654440"/>
            <a:ext cx="2911320" cy="131760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7"/>
          <a:stretch/>
        </p:blipFill>
        <p:spPr>
          <a:xfrm>
            <a:off x="3492360" y="4464000"/>
            <a:ext cx="1263960" cy="836640"/>
          </a:xfrm>
          <a:prstGeom prst="rect">
            <a:avLst/>
          </a:prstGeom>
          <a:ln w="0">
            <a:noFill/>
          </a:ln>
        </p:spPr>
      </p:pic>
      <p:pic>
        <p:nvPicPr>
          <p:cNvPr id="481" name="" descr=""/>
          <p:cNvPicPr/>
          <p:nvPr/>
        </p:nvPicPr>
        <p:blipFill>
          <a:blip r:embed="rId8"/>
          <a:stretch/>
        </p:blipFill>
        <p:spPr>
          <a:xfrm>
            <a:off x="6418440" y="1052640"/>
            <a:ext cx="1538280" cy="39348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9"/>
          <a:stretch/>
        </p:blipFill>
        <p:spPr>
          <a:xfrm>
            <a:off x="5442120" y="1844640"/>
            <a:ext cx="2101680" cy="39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D0B5F-8B08-4967-B7FE-827545CD9615}" type="slidenum">
              <a:t>21</a:t>
            </a:fld>
          </a:p>
        </p:txBody>
      </p:sp>
    </p:spTree>
  </p:cSld>
  <p:transition spd="med">
    <p:fade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71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Three Ways Out</a:t>
            </a:r>
            <a:endParaRPr b="1" lang="en-US" sz="32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09480" y="1981080"/>
            <a:ext cx="990720" cy="838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O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666880" y="1628640"/>
            <a:ext cx="6226200" cy="32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und computing power (schemes based on complexity assumption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isy communication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[e.g. Cr</a:t>
            </a: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auMorozovWolf04]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ysical limi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09480" y="3809880"/>
            <a:ext cx="990720" cy="838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B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066680" y="220968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066680" y="403848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657520" y="3519360"/>
            <a:ext cx="5486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limi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 bounded memory 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380880" y="1752120"/>
            <a:ext cx="1447920" cy="3124800"/>
            <a:chOff x="380880" y="1752120"/>
            <a:chExt cx="1447920" cy="3124800"/>
          </a:xfrm>
        </p:grpSpPr>
        <p:grpSp>
          <p:nvGrpSpPr>
            <p:cNvPr id="491" name=""/>
            <p:cNvGrpSpPr/>
            <p:nvPr/>
          </p:nvGrpSpPr>
          <p:grpSpPr>
            <a:xfrm>
              <a:off x="380880" y="1752120"/>
              <a:ext cx="1447920" cy="1296000"/>
              <a:chOff x="380880" y="1752120"/>
              <a:chExt cx="1447920" cy="1296000"/>
            </a:xfrm>
          </p:grpSpPr>
          <p:sp>
            <p:nvSpPr>
              <p:cNvPr id="492" name=""/>
              <p:cNvSpPr/>
              <p:nvPr/>
            </p:nvSpPr>
            <p:spPr>
              <a:xfrm>
                <a:off x="380880" y="1752480"/>
                <a:ext cx="1447920" cy="129564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V="1">
                <a:off x="380880" y="1752120"/>
                <a:ext cx="1447920" cy="12193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4" name=""/>
            <p:cNvGrpSpPr/>
            <p:nvPr/>
          </p:nvGrpSpPr>
          <p:grpSpPr>
            <a:xfrm>
              <a:off x="380880" y="3580920"/>
              <a:ext cx="1447920" cy="1296000"/>
              <a:chOff x="380880" y="3580920"/>
              <a:chExt cx="1447920" cy="1296000"/>
            </a:xfrm>
          </p:grpSpPr>
          <p:sp>
            <p:nvSpPr>
              <p:cNvPr id="495" name=""/>
              <p:cNvSpPr/>
              <p:nvPr/>
            </p:nvSpPr>
            <p:spPr>
              <a:xfrm>
                <a:off x="380880" y="3581280"/>
                <a:ext cx="1447920" cy="129564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V="1">
                <a:off x="380880" y="3580920"/>
                <a:ext cx="1447920" cy="12193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DE0CC-8074-4AFF-A03A-EB5F534E8304}" type="slidenum">
              <a:t>22</a:t>
            </a:fld>
          </a:p>
        </p:txBody>
      </p:sp>
    </p:spTree>
  </p:cSld>
  <p:transition spd="med">
    <p:fade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20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826920" y="3716280"/>
            <a:ext cx="1008360" cy="187344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1280" y="3787920"/>
            <a:ext cx="865080" cy="865080"/>
            <a:chOff x="2411280" y="3787920"/>
            <a:chExt cx="865080" cy="865080"/>
          </a:xfrm>
        </p:grpSpPr>
        <p:sp>
          <p:nvSpPr>
            <p:cNvPr id="499" name=""/>
            <p:cNvSpPr/>
            <p:nvPr/>
          </p:nvSpPr>
          <p:spPr>
            <a:xfrm>
              <a:off x="2555640" y="3932280"/>
              <a:ext cx="576360" cy="576360"/>
            </a:xfrm>
            <a:prstGeom prst="ellipse">
              <a:avLst/>
            </a:prstGeom>
            <a:noFill/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411280" y="4148280"/>
              <a:ext cx="8650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flipV="1">
              <a:off x="2842920" y="3787920"/>
              <a:ext cx="216000" cy="288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626920" y="4148280"/>
              <a:ext cx="505080" cy="5047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 flipV="1">
              <a:off x="2878920" y="4172040"/>
              <a:ext cx="1800" cy="45864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2677680" y="4400640"/>
              <a:ext cx="403200" cy="144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5" name=""/>
          <p:cNvSpPr/>
          <p:nvPr/>
        </p:nvSpPr>
        <p:spPr>
          <a:xfrm>
            <a:off x="2409840" y="3716280"/>
            <a:ext cx="865080" cy="10080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900000" y="1098720"/>
            <a:ext cx="719280" cy="720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13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Quantum Mechanics II</a:t>
            </a:r>
            <a:endParaRPr b="1" lang="en-US" sz="32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835280" y="1243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ba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1260360" y="1171080"/>
            <a:ext cx="0" cy="574920"/>
          </a:xfrm>
          <a:prstGeom prst="line">
            <a:avLst/>
          </a:prstGeom>
          <a:ln w="44280">
            <a:solidFill>
              <a:srgbClr val="00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971640" y="1459080"/>
            <a:ext cx="576000" cy="0"/>
          </a:xfrm>
          <a:prstGeom prst="line">
            <a:avLst/>
          </a:prstGeom>
          <a:ln w="44280">
            <a:solidFill>
              <a:srgbClr val="00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900000" y="1916280"/>
            <a:ext cx="719280" cy="720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1059480" y="2071800"/>
            <a:ext cx="405000" cy="407520"/>
          </a:xfrm>
          <a:prstGeom prst="line">
            <a:avLst/>
          </a:prstGeom>
          <a:ln w="44280">
            <a:solidFill>
              <a:srgbClr val="00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055520" y="2073960"/>
            <a:ext cx="408600" cy="406440"/>
          </a:xfrm>
          <a:prstGeom prst="line">
            <a:avLst/>
          </a:prstGeom>
          <a:ln w="44280">
            <a:solidFill>
              <a:srgbClr val="00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835280" y="206064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£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421080" y="1123920"/>
            <a:ext cx="719280" cy="720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492360" y="1484280"/>
            <a:ext cx="576360" cy="0"/>
          </a:xfrm>
          <a:prstGeom prst="line">
            <a:avLst/>
          </a:prstGeom>
          <a:ln w="44280">
            <a:solidFill>
              <a:srgbClr val="00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4290840" y="1268280"/>
            <a:ext cx="800280" cy="49536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/>
          <p:nvPr/>
        </p:nvSpPr>
        <p:spPr>
          <a:xfrm>
            <a:off x="5578560" y="1125360"/>
            <a:ext cx="718920" cy="7210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2"/>
          <a:stretch/>
        </p:blipFill>
        <p:spPr>
          <a:xfrm>
            <a:off x="6443640" y="1268280"/>
            <a:ext cx="800280" cy="49536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 flipV="1">
            <a:off x="5940360" y="1197000"/>
            <a:ext cx="0" cy="574560"/>
          </a:xfrm>
          <a:prstGeom prst="line">
            <a:avLst/>
          </a:prstGeom>
          <a:ln w="44280">
            <a:solidFill>
              <a:srgbClr val="00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419640" y="1916280"/>
            <a:ext cx="718920" cy="720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3578760" y="2071800"/>
            <a:ext cx="405000" cy="407520"/>
          </a:xfrm>
          <a:prstGeom prst="line">
            <a:avLst/>
          </a:prstGeom>
          <a:ln w="44280">
            <a:solidFill>
              <a:srgbClr val="00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580000" y="1916280"/>
            <a:ext cx="719280" cy="720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735520" y="2073960"/>
            <a:ext cx="408600" cy="406440"/>
          </a:xfrm>
          <a:prstGeom prst="line">
            <a:avLst/>
          </a:prstGeom>
          <a:ln w="44280">
            <a:solidFill>
              <a:srgbClr val="00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3"/>
          <a:stretch/>
        </p:blipFill>
        <p:spPr>
          <a:xfrm>
            <a:off x="4322880" y="2073240"/>
            <a:ext cx="723960" cy="457200"/>
          </a:xfrm>
          <a:prstGeom prst="rect">
            <a:avLst/>
          </a:prstGeom>
          <a:ln w="0">
            <a:noFill/>
          </a:ln>
        </p:spPr>
      </p:pic>
      <p:pic>
        <p:nvPicPr>
          <p:cNvPr id="526" name="" descr=""/>
          <p:cNvPicPr/>
          <p:nvPr/>
        </p:nvPicPr>
        <p:blipFill>
          <a:blip r:embed="rId4"/>
          <a:stretch/>
        </p:blipFill>
        <p:spPr>
          <a:xfrm>
            <a:off x="6475320" y="2073240"/>
            <a:ext cx="723960" cy="45720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>
            <a:off x="971640" y="4724280"/>
            <a:ext cx="718920" cy="7207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flipV="1">
            <a:off x="1332000" y="4797000"/>
            <a:ext cx="0" cy="574920"/>
          </a:xfrm>
          <a:prstGeom prst="line">
            <a:avLst/>
          </a:prstGeom>
          <a:ln w="44280">
            <a:solidFill>
              <a:srgbClr val="00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042920" y="5084640"/>
            <a:ext cx="576360" cy="0"/>
          </a:xfrm>
          <a:prstGeom prst="line">
            <a:avLst/>
          </a:prstGeom>
          <a:ln w="44280">
            <a:solidFill>
              <a:srgbClr val="00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1127520" y="4880160"/>
            <a:ext cx="405720" cy="407520"/>
          </a:xfrm>
          <a:prstGeom prst="line">
            <a:avLst/>
          </a:prstGeom>
          <a:ln w="44280">
            <a:solidFill>
              <a:srgbClr val="00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123920" y="4882320"/>
            <a:ext cx="408600" cy="406440"/>
          </a:xfrm>
          <a:prstGeom prst="line">
            <a:avLst/>
          </a:prstGeom>
          <a:ln w="44280">
            <a:solidFill>
              <a:srgbClr val="00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971640" y="3860640"/>
            <a:ext cx="718920" cy="7207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1332000" y="3933360"/>
            <a:ext cx="0" cy="574920"/>
          </a:xfrm>
          <a:prstGeom prst="line">
            <a:avLst/>
          </a:prstGeom>
          <a:ln w="44280">
            <a:solidFill>
              <a:srgbClr val="00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042920" y="4221000"/>
            <a:ext cx="576360" cy="0"/>
          </a:xfrm>
          <a:prstGeom prst="line">
            <a:avLst/>
          </a:prstGeom>
          <a:ln w="44280">
            <a:solidFill>
              <a:srgbClr val="00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1127520" y="4016520"/>
            <a:ext cx="405720" cy="407520"/>
          </a:xfrm>
          <a:prstGeom prst="line">
            <a:avLst/>
          </a:prstGeom>
          <a:ln w="44280">
            <a:solidFill>
              <a:srgbClr val="00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123920" y="4018680"/>
            <a:ext cx="408600" cy="406440"/>
          </a:xfrm>
          <a:prstGeom prst="line">
            <a:avLst/>
          </a:prstGeom>
          <a:ln w="44280">
            <a:solidFill>
              <a:srgbClr val="00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924360" y="3860640"/>
            <a:ext cx="718920" cy="720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995640" y="4221000"/>
            <a:ext cx="576360" cy="0"/>
          </a:xfrm>
          <a:prstGeom prst="line">
            <a:avLst/>
          </a:prstGeom>
          <a:ln w="44280">
            <a:solidFill>
              <a:srgbClr val="00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H="1" flipV="1">
            <a:off x="1763280" y="4219560"/>
            <a:ext cx="64764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3276720" y="4221000"/>
            <a:ext cx="5745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1763280" y="5084640"/>
            <a:ext cx="20876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924360" y="4724280"/>
            <a:ext cx="718920" cy="720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995640" y="5084640"/>
            <a:ext cx="576360" cy="0"/>
          </a:xfrm>
          <a:prstGeom prst="line">
            <a:avLst/>
          </a:prstGeom>
          <a:ln w="44280">
            <a:solidFill>
              <a:srgbClr val="00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84360" y="299736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PR pair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348000" y="321300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. ½ :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508720" y="3860640"/>
            <a:ext cx="718920" cy="720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5870520" y="3932280"/>
            <a:ext cx="0" cy="574560"/>
          </a:xfrm>
          <a:prstGeom prst="line">
            <a:avLst/>
          </a:prstGeom>
          <a:ln w="44280">
            <a:solidFill>
              <a:srgbClr val="00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508720" y="4724280"/>
            <a:ext cx="718920" cy="720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5870520" y="4795920"/>
            <a:ext cx="0" cy="574560"/>
          </a:xfrm>
          <a:prstGeom prst="line">
            <a:avLst/>
          </a:prstGeom>
          <a:ln w="44280">
            <a:solidFill>
              <a:srgbClr val="00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219640" y="321300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. ½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4716360" y="4581360"/>
            <a:ext cx="4032360" cy="1041120"/>
            <a:chOff x="4716360" y="4581360"/>
            <a:chExt cx="4032360" cy="1041120"/>
          </a:xfrm>
        </p:grpSpPr>
        <p:grpSp>
          <p:nvGrpSpPr>
            <p:cNvPr id="552" name=""/>
            <p:cNvGrpSpPr/>
            <p:nvPr/>
          </p:nvGrpSpPr>
          <p:grpSpPr>
            <a:xfrm>
              <a:off x="5435640" y="4654080"/>
              <a:ext cx="865080" cy="968400"/>
              <a:chOff x="5435640" y="4654080"/>
              <a:chExt cx="865080" cy="968400"/>
            </a:xfrm>
          </p:grpSpPr>
          <p:sp>
            <p:nvSpPr>
              <p:cNvPr id="553" name=""/>
              <p:cNvSpPr/>
              <p:nvPr/>
            </p:nvSpPr>
            <p:spPr>
              <a:xfrm>
                <a:off x="5580000" y="4798800"/>
                <a:ext cx="575640" cy="57636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435640" y="5014800"/>
                <a:ext cx="865080" cy="43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flipV="1">
                <a:off x="5867280" y="4654080"/>
                <a:ext cx="215280" cy="2890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56" name=""/>
              <p:cNvGrpSpPr/>
              <p:nvPr/>
            </p:nvGrpSpPr>
            <p:grpSpPr>
              <a:xfrm>
                <a:off x="5542920" y="4908960"/>
                <a:ext cx="713520" cy="713520"/>
                <a:chOff x="5542920" y="4908960"/>
                <a:chExt cx="713520" cy="713520"/>
              </a:xfrm>
            </p:grpSpPr>
            <p:sp>
              <p:nvSpPr>
                <p:cNvPr id="557" name=""/>
                <p:cNvSpPr/>
                <p:nvPr/>
              </p:nvSpPr>
              <p:spPr>
                <a:xfrm rot="2700000">
                  <a:off x="5647320" y="5013360"/>
                  <a:ext cx="504720" cy="50436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 flipV="1">
                  <a:off x="5739480" y="5104080"/>
                  <a:ext cx="322560" cy="32472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med" type="triangle" w="sm"/>
                  <a:tailEnd len="med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 flipH="1" flipV="1">
                  <a:off x="5738040" y="5104800"/>
                  <a:ext cx="325080" cy="3236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med" type="triangle" w="sm"/>
                  <a:tailEnd len="med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60" name=""/>
            <p:cNvSpPr/>
            <p:nvPr/>
          </p:nvSpPr>
          <p:spPr>
            <a:xfrm>
              <a:off x="5435640" y="4581360"/>
              <a:ext cx="865080" cy="100836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4716360" y="5086440"/>
              <a:ext cx="7192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flipH="1">
              <a:off x="6300360" y="5086440"/>
              <a:ext cx="5749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948360" y="4654440"/>
              <a:ext cx="1800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rob. ½ : 0</a:t>
              </a:r>
              <a:br>
                <a:rPr sz="2400"/>
              </a:b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rob. ½ : 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4787640" y="4581360"/>
            <a:ext cx="3888000" cy="1008360"/>
            <a:chOff x="4787640" y="4581360"/>
            <a:chExt cx="3888000" cy="1008360"/>
          </a:xfrm>
        </p:grpSpPr>
        <p:grpSp>
          <p:nvGrpSpPr>
            <p:cNvPr id="565" name=""/>
            <p:cNvGrpSpPr/>
            <p:nvPr/>
          </p:nvGrpSpPr>
          <p:grpSpPr>
            <a:xfrm>
              <a:off x="5435640" y="4653000"/>
              <a:ext cx="865080" cy="865080"/>
              <a:chOff x="5435640" y="4653000"/>
              <a:chExt cx="865080" cy="865080"/>
            </a:xfrm>
          </p:grpSpPr>
          <p:sp>
            <p:nvSpPr>
              <p:cNvPr id="566" name=""/>
              <p:cNvSpPr/>
              <p:nvPr/>
            </p:nvSpPr>
            <p:spPr>
              <a:xfrm>
                <a:off x="5580000" y="4797360"/>
                <a:ext cx="576360" cy="57636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435640" y="5013360"/>
                <a:ext cx="86508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flipV="1">
                <a:off x="5867280" y="4653000"/>
                <a:ext cx="216000" cy="2887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5651280" y="5013360"/>
                <a:ext cx="505080" cy="50472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H="1" flipV="1">
                <a:off x="5903280" y="503712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med" type="triangle" w="sm"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flipV="1">
                <a:off x="5702040" y="5265720"/>
                <a:ext cx="4032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med" type="triangle" w="sm"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2" name=""/>
            <p:cNvSpPr/>
            <p:nvPr/>
          </p:nvSpPr>
          <p:spPr>
            <a:xfrm>
              <a:off x="5434200" y="4581360"/>
              <a:ext cx="865080" cy="100836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 flipV="1">
              <a:off x="4787640" y="5084280"/>
              <a:ext cx="647640" cy="1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6300360" y="5086440"/>
              <a:ext cx="5749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875640" y="4795920"/>
              <a:ext cx="180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rob. 1 : 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6" name=""/>
          <p:cNvSpPr/>
          <p:nvPr/>
        </p:nvSpPr>
        <p:spPr>
          <a:xfrm>
            <a:off x="1332000" y="4508640"/>
            <a:ext cx="0" cy="288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2C571-1E02-45E1-84EE-A5ECBCE65FFF}" type="slidenum">
              <a:t>23</a:t>
            </a:fld>
          </a:p>
        </p:txBody>
      </p:sp>
    </p:spTree>
  </p:cSld>
  <p:transition spd="med">
    <p:fade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78920" y="333360"/>
            <a:ext cx="871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826920" y="1700280"/>
            <a:ext cx="7993080" cy="28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Quantum Bounded-Storage Mod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tocol for Oblivious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tocol for Bit Commit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cticality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84360" y="1700280"/>
            <a:ext cx="8064360" cy="649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3F0F0-F597-4C88-B907-469384296425}" type="slidenum">
              <a:t>24</a:t>
            </a:fld>
          </a:p>
        </p:txBody>
      </p:sp>
    </p:spTree>
  </p:cSld>
  <p:transition spd="med">
    <p:fade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71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Known Impossibility Results</a:t>
            </a:r>
            <a:endParaRPr b="1" lang="en-US" sz="32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1981080"/>
            <a:ext cx="990720" cy="838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O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27240" y="1676520"/>
            <a:ext cx="60199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classical unconditionally secure model without further assum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3809880"/>
            <a:ext cx="990720" cy="838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B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80880" y="1752120"/>
            <a:ext cx="1447920" cy="3124800"/>
            <a:chOff x="380880" y="1752120"/>
            <a:chExt cx="1447920" cy="3124800"/>
          </a:xfrm>
        </p:grpSpPr>
        <p:grpSp>
          <p:nvGrpSpPr>
            <p:cNvPr id="136" name=""/>
            <p:cNvGrpSpPr/>
            <p:nvPr/>
          </p:nvGrpSpPr>
          <p:grpSpPr>
            <a:xfrm>
              <a:off x="380880" y="1752120"/>
              <a:ext cx="1447920" cy="1296000"/>
              <a:chOff x="380880" y="1752120"/>
              <a:chExt cx="1447920" cy="1296000"/>
            </a:xfrm>
          </p:grpSpPr>
          <p:sp>
            <p:nvSpPr>
              <p:cNvPr id="137" name=""/>
              <p:cNvSpPr/>
              <p:nvPr/>
            </p:nvSpPr>
            <p:spPr>
              <a:xfrm>
                <a:off x="380880" y="1752480"/>
                <a:ext cx="1447920" cy="129564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V="1">
                <a:off x="380880" y="1752120"/>
                <a:ext cx="1447920" cy="12193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380880" y="3580920"/>
              <a:ext cx="1447920" cy="1296000"/>
              <a:chOff x="380880" y="3580920"/>
              <a:chExt cx="1447920" cy="1296000"/>
            </a:xfrm>
          </p:grpSpPr>
          <p:sp>
            <p:nvSpPr>
              <p:cNvPr id="140" name=""/>
              <p:cNvSpPr/>
              <p:nvPr/>
            </p:nvSpPr>
            <p:spPr>
              <a:xfrm>
                <a:off x="380880" y="3581280"/>
                <a:ext cx="1447920" cy="129564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V="1">
                <a:off x="380880" y="3580920"/>
                <a:ext cx="1447920" cy="12193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42" name=""/>
          <p:cNvSpPr/>
          <p:nvPr/>
        </p:nvSpPr>
        <p:spPr>
          <a:xfrm>
            <a:off x="2050920" y="3581280"/>
            <a:ext cx="63896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unconditionally secure model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 quantum commun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[Mayers97, Lo-Chau97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B961F-86A6-42CD-9276-630FB62228F9}" type="slidenum">
              <a:t>3</a:t>
            </a:fld>
          </a:p>
        </p:txBody>
      </p:sp>
    </p:spTree>
  </p:cSld>
  <p:transition spd="med"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71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Classical Bounded-Storage Model</a:t>
            </a:r>
            <a:endParaRPr b="1" lang="en-US" sz="32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1981080"/>
            <a:ext cx="990720" cy="838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O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09480" y="3809880"/>
            <a:ext cx="990720" cy="838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B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09680" y="4979880"/>
            <a:ext cx="609624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268360" y="5446800"/>
            <a:ext cx="6629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62120" y="2209680"/>
            <a:ext cx="1676160" cy="3200400"/>
            <a:chOff x="762120" y="2209680"/>
            <a:chExt cx="1676160" cy="3200400"/>
          </a:xfrm>
        </p:grpSpPr>
        <p:sp>
          <p:nvSpPr>
            <p:cNvPr id="149" name=""/>
            <p:cNvSpPr/>
            <p:nvPr/>
          </p:nvSpPr>
          <p:spPr>
            <a:xfrm>
              <a:off x="762120" y="2209680"/>
              <a:ext cx="1676160" cy="14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ff0000"/>
                  </a:solidFill>
                  <a:latin typeface="Arial"/>
                </a:rPr>
                <a:t>(</a:t>
              </a:r>
              <a:r>
                <a:rPr b="1" lang="en-US" sz="60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r>
                <a:rPr b="0" lang="en-US" sz="8000" spc="-1" strike="noStrike">
                  <a:solidFill>
                    <a:srgbClr val="ff0000"/>
                  </a:solidFill>
                  <a:latin typeface="Arial"/>
                </a:rPr>
                <a:t>)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62120" y="3962520"/>
              <a:ext cx="1676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ff0000"/>
                  </a:solidFill>
                  <a:latin typeface="Arial"/>
                </a:rPr>
                <a:t>(</a:t>
              </a:r>
              <a:r>
                <a:rPr b="1" lang="en-US" sz="60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r>
                <a:rPr b="0" lang="en-US" sz="8000" spc="-1" strike="noStrike">
                  <a:solidFill>
                    <a:srgbClr val="ff0000"/>
                  </a:solidFill>
                  <a:latin typeface="Arial"/>
                </a:rPr>
                <a:t>)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1066680" y="2362320"/>
            <a:ext cx="1143000" cy="2971800"/>
            <a:chOff x="1066680" y="2362320"/>
            <a:chExt cx="1143000" cy="2971800"/>
          </a:xfrm>
        </p:grpSpPr>
        <p:sp>
          <p:nvSpPr>
            <p:cNvPr id="152" name=""/>
            <p:cNvSpPr/>
            <p:nvPr/>
          </p:nvSpPr>
          <p:spPr>
            <a:xfrm>
              <a:off x="1066680" y="2362320"/>
              <a:ext cx="11430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66680" y="4191120"/>
              <a:ext cx="11430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268360" y="1197000"/>
            <a:ext cx="662472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dom string which players try to st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memory bound applies at a specified mo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ocol for OT [DHRS, TCC04]: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ory size of honest player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 memory of dishonest player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lt;k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ght bound [DM, EC04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b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allowing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quantum commun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D6796-CDFA-4860-967B-33BBE0188117}" type="slidenum">
              <a:t>4</a:t>
            </a:fld>
          </a:p>
        </p:txBody>
      </p:sp>
    </p:spTree>
  </p:cSld>
  <p:transition spd="med"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71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Quantum Bounded-Storage Model</a:t>
            </a:r>
            <a:endParaRPr b="1" lang="en-US" sz="32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09480" y="1981080"/>
            <a:ext cx="990720" cy="838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O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050920" y="1052640"/>
            <a:ext cx="684072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3591000"/>
                <a:tab algn="l" pos="5019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ntum memory bound applies at a specified moment. Besides that, players are unbounded (in time and spa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3591000"/>
                <a:tab algn="l" pos="5019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conditional secu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gainst adversaries with quantum memory of less the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lf of the transmitted qub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3591000"/>
                <a:tab algn="l" pos="5019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nest player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 not ne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antu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emory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 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3591000"/>
                <a:tab algn="l" pos="5019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nest player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honest player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lt;n/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lt;k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3591000"/>
                <a:tab algn="l" pos="5019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tio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msy10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9480" y="3809880"/>
            <a:ext cx="990720" cy="838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B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66680" y="220968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66680" y="403848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5DB93-C235-45E1-A9B1-8803E3E2CCFC}" type="slidenum">
              <a:t>5</a:t>
            </a:fld>
          </a:p>
        </p:txBody>
      </p:sp>
    </p:spTree>
  </p:cSld>
  <p:transition spd="med"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8920" y="333360"/>
            <a:ext cx="871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6920" y="1700280"/>
            <a:ext cx="7993080" cy="28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Quantum Bounded-Storage Mod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tocol for Oblivious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tocol for Bit Commit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cticality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84360" y="2347920"/>
            <a:ext cx="8064360" cy="649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95C02-85F5-4A6A-8303-F32C5131819C}" type="slidenum">
              <a:t>6</a:t>
            </a:fld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3419640" y="3715920"/>
            <a:ext cx="865080" cy="865440"/>
            <a:chOff x="3419640" y="3715920"/>
            <a:chExt cx="865080" cy="865440"/>
          </a:xfrm>
        </p:grpSpPr>
        <p:sp>
          <p:nvSpPr>
            <p:cNvPr id="165" name=""/>
            <p:cNvSpPr/>
            <p:nvPr/>
          </p:nvSpPr>
          <p:spPr>
            <a:xfrm>
              <a:off x="3564000" y="3860640"/>
              <a:ext cx="575640" cy="576360"/>
            </a:xfrm>
            <a:prstGeom prst="ellipse">
              <a:avLst/>
            </a:prstGeom>
            <a:noFill/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419640" y="4076640"/>
              <a:ext cx="8650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3851280" y="3715920"/>
              <a:ext cx="215640" cy="289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635280" y="4076640"/>
              <a:ext cx="504360" cy="5047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flipV="1">
              <a:off x="3887640" y="4100040"/>
              <a:ext cx="1440" cy="4590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3686040" y="4328640"/>
              <a:ext cx="402840" cy="18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900000" y="1098720"/>
            <a:ext cx="719280" cy="720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13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Quantum Mechanics (Toy Version)</a:t>
            </a:r>
            <a:endParaRPr b="1" lang="en-US" sz="32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35280" y="1243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ba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1260360" y="1171080"/>
            <a:ext cx="0" cy="574920"/>
          </a:xfrm>
          <a:prstGeom prst="line">
            <a:avLst/>
          </a:prstGeom>
          <a:ln w="44280">
            <a:solidFill>
              <a:srgbClr val="00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71640" y="1459080"/>
            <a:ext cx="576000" cy="0"/>
          </a:xfrm>
          <a:prstGeom prst="line">
            <a:avLst/>
          </a:prstGeom>
          <a:ln w="44280">
            <a:solidFill>
              <a:srgbClr val="00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00000" y="1916280"/>
            <a:ext cx="719280" cy="720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059480" y="2071800"/>
            <a:ext cx="405000" cy="407520"/>
          </a:xfrm>
          <a:prstGeom prst="line">
            <a:avLst/>
          </a:prstGeom>
          <a:ln w="44280">
            <a:solidFill>
              <a:srgbClr val="00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055520" y="2073960"/>
            <a:ext cx="408600" cy="406440"/>
          </a:xfrm>
          <a:prstGeom prst="line">
            <a:avLst/>
          </a:prstGeom>
          <a:ln w="44280">
            <a:solidFill>
              <a:srgbClr val="00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835280" y="206064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£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419640" y="1123920"/>
            <a:ext cx="3824280" cy="1513080"/>
            <a:chOff x="3419640" y="1123920"/>
            <a:chExt cx="3824280" cy="1513080"/>
          </a:xfrm>
        </p:grpSpPr>
        <p:sp>
          <p:nvSpPr>
            <p:cNvPr id="181" name=""/>
            <p:cNvSpPr/>
            <p:nvPr/>
          </p:nvSpPr>
          <p:spPr>
            <a:xfrm>
              <a:off x="3421080" y="1123920"/>
              <a:ext cx="719280" cy="7207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492360" y="1484280"/>
              <a:ext cx="576360" cy="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83" name="" descr=""/>
            <p:cNvPicPr/>
            <p:nvPr/>
          </p:nvPicPr>
          <p:blipFill>
            <a:blip r:embed="rId1"/>
            <a:stretch/>
          </p:blipFill>
          <p:spPr>
            <a:xfrm>
              <a:off x="4290840" y="1268280"/>
              <a:ext cx="80028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5578560" y="1125360"/>
              <a:ext cx="718920" cy="7210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85" name="" descr=""/>
            <p:cNvPicPr/>
            <p:nvPr/>
          </p:nvPicPr>
          <p:blipFill>
            <a:blip r:embed="rId2"/>
            <a:stretch/>
          </p:blipFill>
          <p:spPr>
            <a:xfrm>
              <a:off x="6443640" y="1268280"/>
              <a:ext cx="80028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 flipV="1">
              <a:off x="5940360" y="1197000"/>
              <a:ext cx="0" cy="57456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419640" y="1916280"/>
              <a:ext cx="718920" cy="720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3578760" y="2071800"/>
              <a:ext cx="405000" cy="40752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80000" y="1916280"/>
              <a:ext cx="719280" cy="720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735520" y="2073960"/>
              <a:ext cx="408600" cy="40644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91" name="" descr=""/>
            <p:cNvPicPr/>
            <p:nvPr/>
          </p:nvPicPr>
          <p:blipFill>
            <a:blip r:embed="rId3"/>
            <a:stretch/>
          </p:blipFill>
          <p:spPr>
            <a:xfrm>
              <a:off x="4322880" y="2073240"/>
              <a:ext cx="7239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" descr=""/>
            <p:cNvPicPr/>
            <p:nvPr/>
          </p:nvPicPr>
          <p:blipFill>
            <a:blip r:embed="rId4"/>
            <a:stretch/>
          </p:blipFill>
          <p:spPr>
            <a:xfrm>
              <a:off x="6475320" y="2073240"/>
              <a:ext cx="72396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3" name=""/>
          <p:cNvGrpSpPr/>
          <p:nvPr/>
        </p:nvGrpSpPr>
        <p:grpSpPr>
          <a:xfrm>
            <a:off x="828720" y="3787920"/>
            <a:ext cx="718920" cy="720720"/>
            <a:chOff x="828720" y="3787920"/>
            <a:chExt cx="718920" cy="720720"/>
          </a:xfrm>
        </p:grpSpPr>
        <p:sp>
          <p:nvSpPr>
            <p:cNvPr id="194" name=""/>
            <p:cNvSpPr/>
            <p:nvPr/>
          </p:nvSpPr>
          <p:spPr>
            <a:xfrm>
              <a:off x="828720" y="3787920"/>
              <a:ext cx="718920" cy="7207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1190520" y="3859200"/>
              <a:ext cx="0" cy="57456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3492360" y="31417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th prob. 1 yields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265400" y="5157360"/>
            <a:ext cx="0" cy="574920"/>
          </a:xfrm>
          <a:prstGeom prst="line">
            <a:avLst/>
          </a:prstGeom>
          <a:ln w="44280">
            <a:solidFill>
              <a:srgbClr val="00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32360" y="494172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th prob. ½ yields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3419640" y="5084280"/>
            <a:ext cx="865080" cy="968400"/>
            <a:chOff x="3419640" y="5084280"/>
            <a:chExt cx="865080" cy="968400"/>
          </a:xfrm>
        </p:grpSpPr>
        <p:sp>
          <p:nvSpPr>
            <p:cNvPr id="200" name=""/>
            <p:cNvSpPr/>
            <p:nvPr/>
          </p:nvSpPr>
          <p:spPr>
            <a:xfrm>
              <a:off x="3564000" y="5229000"/>
              <a:ext cx="575640" cy="576360"/>
            </a:xfrm>
            <a:prstGeom prst="ellipse">
              <a:avLst/>
            </a:prstGeom>
            <a:noFill/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419640" y="5445000"/>
              <a:ext cx="8650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3851280" y="5084280"/>
              <a:ext cx="215280" cy="289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3526920" y="5339160"/>
              <a:ext cx="713520" cy="713520"/>
              <a:chOff x="3526920" y="5339160"/>
              <a:chExt cx="713520" cy="713520"/>
            </a:xfrm>
          </p:grpSpPr>
          <p:sp>
            <p:nvSpPr>
              <p:cNvPr id="204" name=""/>
              <p:cNvSpPr/>
              <p:nvPr/>
            </p:nvSpPr>
            <p:spPr>
              <a:xfrm rot="2700000">
                <a:off x="3631320" y="5443560"/>
                <a:ext cx="504720" cy="5043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V="1">
                <a:off x="3723480" y="5534280"/>
                <a:ext cx="322560" cy="32472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med" type="triangle" w="sm"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 flipV="1">
                <a:off x="3722040" y="5535000"/>
                <a:ext cx="32508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med" type="triangle" w="sm"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7" name=""/>
          <p:cNvSpPr/>
          <p:nvPr/>
        </p:nvSpPr>
        <p:spPr>
          <a:xfrm>
            <a:off x="395280" y="285264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sur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588000" y="3789360"/>
            <a:ext cx="719280" cy="720720"/>
            <a:chOff x="6588000" y="3789360"/>
            <a:chExt cx="719280" cy="720720"/>
          </a:xfrm>
        </p:grpSpPr>
        <p:sp>
          <p:nvSpPr>
            <p:cNvPr id="209" name=""/>
            <p:cNvSpPr/>
            <p:nvPr/>
          </p:nvSpPr>
          <p:spPr>
            <a:xfrm>
              <a:off x="6588000" y="3789360"/>
              <a:ext cx="719280" cy="7207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6949800" y="3859200"/>
              <a:ext cx="0" cy="57456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7956720" y="4797360"/>
            <a:ext cx="718920" cy="720720"/>
            <a:chOff x="7956720" y="4797360"/>
            <a:chExt cx="718920" cy="720720"/>
          </a:xfrm>
        </p:grpSpPr>
        <p:sp>
          <p:nvSpPr>
            <p:cNvPr id="212" name=""/>
            <p:cNvSpPr/>
            <p:nvPr/>
          </p:nvSpPr>
          <p:spPr>
            <a:xfrm>
              <a:off x="7956720" y="4797360"/>
              <a:ext cx="718920" cy="720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8115480" y="4952880"/>
              <a:ext cx="405000" cy="40752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7956720" y="5589720"/>
            <a:ext cx="718920" cy="720720"/>
            <a:chOff x="7956720" y="5589720"/>
            <a:chExt cx="718920" cy="720720"/>
          </a:xfrm>
        </p:grpSpPr>
        <p:sp>
          <p:nvSpPr>
            <p:cNvPr id="215" name=""/>
            <p:cNvSpPr/>
            <p:nvPr/>
          </p:nvSpPr>
          <p:spPr>
            <a:xfrm>
              <a:off x="7956720" y="5589720"/>
              <a:ext cx="718920" cy="720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111880" y="5747400"/>
              <a:ext cx="408240" cy="4068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3419640" y="3645000"/>
            <a:ext cx="865080" cy="10080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1618920" y="4149720"/>
            <a:ext cx="18003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284720" y="4149720"/>
            <a:ext cx="2232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828720" y="5157720"/>
            <a:ext cx="718920" cy="720720"/>
            <a:chOff x="828720" y="5157720"/>
            <a:chExt cx="718920" cy="720720"/>
          </a:xfrm>
        </p:grpSpPr>
        <p:sp>
          <p:nvSpPr>
            <p:cNvPr id="221" name=""/>
            <p:cNvSpPr/>
            <p:nvPr/>
          </p:nvSpPr>
          <p:spPr>
            <a:xfrm>
              <a:off x="828720" y="5157720"/>
              <a:ext cx="718920" cy="7207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1190520" y="5229000"/>
              <a:ext cx="0" cy="57456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3419640" y="5011560"/>
            <a:ext cx="865080" cy="10083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1618920" y="5516640"/>
            <a:ext cx="18003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284720" y="5516640"/>
            <a:ext cx="5745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932360" y="566100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th prob. ½ yields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F4D0D-2B7C-4826-AB81-F307E00BED9E}" type="slidenum">
              <a:t>7</a:t>
            </a:fld>
          </a:p>
        </p:txBody>
      </p:sp>
    </p:spTree>
  </p:cSld>
  <p:transition spd="med">
    <p:fad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13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Quantum Protocol for OT</a:t>
            </a:r>
            <a:endParaRPr b="1" lang="en-US" sz="32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132000" y="5157720"/>
            <a:ext cx="2016360" cy="23760"/>
          </a:xfrm>
          <a:prstGeom prst="line">
            <a:avLst/>
          </a:prstGeom>
          <a:ln w="114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3456000" y="4648320"/>
            <a:ext cx="971640" cy="3999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22280" y="4789440"/>
            <a:ext cx="2062080" cy="8492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424480" y="4876920"/>
            <a:ext cx="2819520" cy="7603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5435640" y="1557360"/>
            <a:ext cx="1905120" cy="39204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5"/>
          <a:stretch/>
        </p:blipFill>
        <p:spPr>
          <a:xfrm>
            <a:off x="5435640" y="2060640"/>
            <a:ext cx="2984400" cy="1111320"/>
          </a:xfrm>
          <a:prstGeom prst="rect">
            <a:avLst/>
          </a:prstGeom>
          <a:ln w="0">
            <a:noFill/>
          </a:ln>
        </p:spPr>
      </p:pic>
      <p:grpSp>
        <p:nvGrpSpPr>
          <p:cNvPr id="234" name=""/>
          <p:cNvGrpSpPr/>
          <p:nvPr/>
        </p:nvGrpSpPr>
        <p:grpSpPr>
          <a:xfrm>
            <a:off x="250920" y="4195800"/>
            <a:ext cx="8664120" cy="459720"/>
            <a:chOff x="250920" y="4195800"/>
            <a:chExt cx="8664120" cy="459720"/>
          </a:xfrm>
        </p:grpSpPr>
        <p:sp>
          <p:nvSpPr>
            <p:cNvPr id="235" name=""/>
            <p:cNvSpPr/>
            <p:nvPr/>
          </p:nvSpPr>
          <p:spPr>
            <a:xfrm>
              <a:off x="250920" y="4287600"/>
              <a:ext cx="8664120" cy="0"/>
            </a:xfrm>
            <a:prstGeom prst="line">
              <a:avLst/>
            </a:prstGeom>
            <a:ln w="50760">
              <a:solidFill>
                <a:srgbClr val="ffff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397160" y="4195800"/>
              <a:ext cx="749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memory bound: store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n/2 qubit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595440" y="1052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35640" y="102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39640" y="616572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: honest play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3203640" y="3139560"/>
            <a:ext cx="2016000" cy="1800"/>
          </a:xfrm>
          <a:prstGeom prst="line">
            <a:avLst/>
          </a:prstGeom>
          <a:ln cap="rnd" w="1144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6"/>
          <a:stretch/>
        </p:blipFill>
        <p:spPr>
          <a:xfrm>
            <a:off x="3606840" y="2492280"/>
            <a:ext cx="647640" cy="4604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7"/>
          <a:stretch/>
        </p:blipFill>
        <p:spPr>
          <a:xfrm>
            <a:off x="324000" y="1557360"/>
            <a:ext cx="1981080" cy="841320"/>
          </a:xfrm>
          <a:prstGeom prst="rect">
            <a:avLst/>
          </a:prstGeom>
          <a:ln w="0">
            <a:noFill/>
          </a:ln>
        </p:spPr>
      </p:pic>
      <p:grpSp>
        <p:nvGrpSpPr>
          <p:cNvPr id="243" name=""/>
          <p:cNvGrpSpPr/>
          <p:nvPr/>
        </p:nvGrpSpPr>
        <p:grpSpPr>
          <a:xfrm>
            <a:off x="2522880" y="1379880"/>
            <a:ext cx="713520" cy="713880"/>
            <a:chOff x="2522880" y="1379880"/>
            <a:chExt cx="713520" cy="713880"/>
          </a:xfrm>
        </p:grpSpPr>
        <p:sp>
          <p:nvSpPr>
            <p:cNvPr id="244" name=""/>
            <p:cNvSpPr/>
            <p:nvPr/>
          </p:nvSpPr>
          <p:spPr>
            <a:xfrm rot="2700000">
              <a:off x="2627280" y="1484280"/>
              <a:ext cx="504720" cy="504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2718720" y="1574640"/>
              <a:ext cx="322920" cy="32508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 flipV="1">
              <a:off x="2717280" y="1575720"/>
              <a:ext cx="325080" cy="32364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2556000" y="20350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10…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2207160" y="3180240"/>
            <a:ext cx="2440440" cy="713880"/>
            <a:chOff x="2207160" y="3180240"/>
            <a:chExt cx="2440440" cy="713880"/>
          </a:xfrm>
        </p:grpSpPr>
        <p:sp>
          <p:nvSpPr>
            <p:cNvPr id="249" name=""/>
            <p:cNvSpPr/>
            <p:nvPr/>
          </p:nvSpPr>
          <p:spPr>
            <a:xfrm rot="2700000">
              <a:off x="2311560" y="3284640"/>
              <a:ext cx="504720" cy="504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2403000" y="3375000"/>
              <a:ext cx="323280" cy="32544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2700000">
              <a:off x="2887200" y="3284640"/>
              <a:ext cx="504720" cy="5050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 flipV="1">
              <a:off x="2977560" y="3376440"/>
              <a:ext cx="325800" cy="32292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2700000">
              <a:off x="3463920" y="3284640"/>
              <a:ext cx="504720" cy="504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 flipV="1">
              <a:off x="3553920" y="3376440"/>
              <a:ext cx="325800" cy="32292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2700000">
              <a:off x="4038120" y="3284640"/>
              <a:ext cx="504720" cy="5050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4129920" y="3374640"/>
              <a:ext cx="323640" cy="3258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7420320" y="1379880"/>
            <a:ext cx="713520" cy="713880"/>
            <a:chOff x="7420320" y="1379880"/>
            <a:chExt cx="713520" cy="713880"/>
          </a:xfrm>
        </p:grpSpPr>
        <p:sp>
          <p:nvSpPr>
            <p:cNvPr id="258" name=""/>
            <p:cNvSpPr/>
            <p:nvPr/>
          </p:nvSpPr>
          <p:spPr>
            <a:xfrm rot="2700000">
              <a:off x="7524720" y="1484280"/>
              <a:ext cx="504720" cy="504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7616160" y="1574640"/>
              <a:ext cx="322920" cy="32508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 flipV="1">
              <a:off x="7614720" y="1575720"/>
              <a:ext cx="325080" cy="32364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6588000" y="35002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10…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508720" y="3212640"/>
            <a:ext cx="865080" cy="968400"/>
            <a:chOff x="5508720" y="3212640"/>
            <a:chExt cx="865080" cy="968400"/>
          </a:xfrm>
        </p:grpSpPr>
        <p:sp>
          <p:nvSpPr>
            <p:cNvPr id="263" name=""/>
            <p:cNvSpPr/>
            <p:nvPr/>
          </p:nvSpPr>
          <p:spPr>
            <a:xfrm>
              <a:off x="5653080" y="3357360"/>
              <a:ext cx="575640" cy="576360"/>
            </a:xfrm>
            <a:prstGeom prst="ellipse">
              <a:avLst/>
            </a:prstGeom>
            <a:noFill/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508720" y="3573360"/>
              <a:ext cx="8650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5940360" y="3212640"/>
              <a:ext cx="215280" cy="289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5616000" y="3467520"/>
              <a:ext cx="713520" cy="713520"/>
              <a:chOff x="5616000" y="3467520"/>
              <a:chExt cx="713520" cy="713520"/>
            </a:xfrm>
          </p:grpSpPr>
          <p:sp>
            <p:nvSpPr>
              <p:cNvPr id="267" name=""/>
              <p:cNvSpPr/>
              <p:nvPr/>
            </p:nvSpPr>
            <p:spPr>
              <a:xfrm rot="2700000">
                <a:off x="5720400" y="3571920"/>
                <a:ext cx="504720" cy="5043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5812560" y="3662640"/>
                <a:ext cx="322560" cy="32472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med" type="triangle" w="sm"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 flipV="1">
                <a:off x="5811120" y="3663360"/>
                <a:ext cx="32508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med" type="triangle" w="sm"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270" name="" descr=""/>
          <p:cNvPicPr/>
          <p:nvPr/>
        </p:nvPicPr>
        <p:blipFill>
          <a:blip r:embed="rId8"/>
          <a:stretch/>
        </p:blipFill>
        <p:spPr>
          <a:xfrm>
            <a:off x="1573200" y="1125360"/>
            <a:ext cx="1486080" cy="379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F2152-83DB-460F-85CF-1BCEB2793037}" type="slidenum">
              <a:t>8</a:t>
            </a:fld>
          </a:p>
        </p:txBody>
      </p:sp>
    </p:spTree>
  </p:cSld>
  <p:transition spd="med"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13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Quantum Protocol for OT II</a:t>
            </a:r>
            <a:endParaRPr b="1" lang="en-US" sz="32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843280" y="5950080"/>
            <a:ext cx="57636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132000" y="5157720"/>
            <a:ext cx="2016360" cy="23760"/>
          </a:xfrm>
          <a:prstGeom prst="line">
            <a:avLst/>
          </a:prstGeom>
          <a:ln w="114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3456000" y="4648320"/>
            <a:ext cx="971640" cy="39996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422280" y="4789440"/>
            <a:ext cx="2062080" cy="8492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5435640" y="1557360"/>
            <a:ext cx="1905120" cy="39204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4"/>
          <a:stretch/>
        </p:blipFill>
        <p:spPr>
          <a:xfrm>
            <a:off x="5435640" y="2060640"/>
            <a:ext cx="2984400" cy="1111320"/>
          </a:xfrm>
          <a:prstGeom prst="rect">
            <a:avLst/>
          </a:prstGeom>
          <a:ln w="0">
            <a:noFill/>
          </a:ln>
        </p:spPr>
      </p:pic>
      <p:grpSp>
        <p:nvGrpSpPr>
          <p:cNvPr id="278" name=""/>
          <p:cNvGrpSpPr/>
          <p:nvPr/>
        </p:nvGrpSpPr>
        <p:grpSpPr>
          <a:xfrm>
            <a:off x="250920" y="4195800"/>
            <a:ext cx="8664120" cy="459720"/>
            <a:chOff x="250920" y="4195800"/>
            <a:chExt cx="8664120" cy="459720"/>
          </a:xfrm>
        </p:grpSpPr>
        <p:sp>
          <p:nvSpPr>
            <p:cNvPr id="279" name=""/>
            <p:cNvSpPr/>
            <p:nvPr/>
          </p:nvSpPr>
          <p:spPr>
            <a:xfrm>
              <a:off x="250920" y="4287600"/>
              <a:ext cx="8664120" cy="0"/>
            </a:xfrm>
            <a:prstGeom prst="line">
              <a:avLst/>
            </a:prstGeom>
            <a:ln w="50760">
              <a:solidFill>
                <a:srgbClr val="ffff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397160" y="4195800"/>
              <a:ext cx="749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memory bound: store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n/2 qubit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595440" y="1052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435640" y="102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39640" y="616572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nest players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651640" y="5950080"/>
            <a:ext cx="576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356000" y="61657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vate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3203640" y="3139560"/>
            <a:ext cx="2016000" cy="1800"/>
          </a:xfrm>
          <a:prstGeom prst="line">
            <a:avLst/>
          </a:prstGeom>
          <a:ln cap="rnd" w="1144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5"/>
          <a:stretch/>
        </p:blipFill>
        <p:spPr>
          <a:xfrm>
            <a:off x="3606840" y="2492280"/>
            <a:ext cx="647640" cy="46044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6"/>
          <a:stretch/>
        </p:blipFill>
        <p:spPr>
          <a:xfrm>
            <a:off x="324000" y="1557360"/>
            <a:ext cx="1981080" cy="841320"/>
          </a:xfrm>
          <a:prstGeom prst="rect">
            <a:avLst/>
          </a:prstGeom>
          <a:ln w="0">
            <a:noFill/>
          </a:ln>
        </p:spPr>
      </p:pic>
      <p:grpSp>
        <p:nvGrpSpPr>
          <p:cNvPr id="289" name=""/>
          <p:cNvGrpSpPr/>
          <p:nvPr/>
        </p:nvGrpSpPr>
        <p:grpSpPr>
          <a:xfrm>
            <a:off x="2522880" y="1379880"/>
            <a:ext cx="713520" cy="713880"/>
            <a:chOff x="2522880" y="1379880"/>
            <a:chExt cx="713520" cy="713880"/>
          </a:xfrm>
        </p:grpSpPr>
        <p:sp>
          <p:nvSpPr>
            <p:cNvPr id="290" name=""/>
            <p:cNvSpPr/>
            <p:nvPr/>
          </p:nvSpPr>
          <p:spPr>
            <a:xfrm rot="2700000">
              <a:off x="2627280" y="1484280"/>
              <a:ext cx="504720" cy="504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2718720" y="1574640"/>
              <a:ext cx="322920" cy="32508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 flipV="1">
              <a:off x="2717280" y="1575720"/>
              <a:ext cx="325080" cy="32364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2556000" y="20350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10…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rot="2700000">
            <a:off x="2311560" y="3284640"/>
            <a:ext cx="504720" cy="50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2403000" y="3375000"/>
            <a:ext cx="323280" cy="325440"/>
          </a:xfrm>
          <a:prstGeom prst="line">
            <a:avLst/>
          </a:prstGeom>
          <a:ln w="44280">
            <a:solidFill>
              <a:srgbClr val="0033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rot="2700000">
            <a:off x="2887200" y="3284640"/>
            <a:ext cx="504720" cy="505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 flipV="1">
            <a:off x="2977560" y="3376440"/>
            <a:ext cx="325800" cy="322920"/>
          </a:xfrm>
          <a:prstGeom prst="line">
            <a:avLst/>
          </a:prstGeom>
          <a:ln w="44280">
            <a:solidFill>
              <a:srgbClr val="0033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rot="2700000">
            <a:off x="3463920" y="3284640"/>
            <a:ext cx="504720" cy="50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3553920" y="3376440"/>
            <a:ext cx="325800" cy="322920"/>
          </a:xfrm>
          <a:prstGeom prst="line">
            <a:avLst/>
          </a:prstGeom>
          <a:ln w="44280">
            <a:solidFill>
              <a:srgbClr val="0033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rot="2700000">
            <a:off x="4038120" y="3284640"/>
            <a:ext cx="504720" cy="505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4129920" y="3374640"/>
            <a:ext cx="323640" cy="325800"/>
          </a:xfrm>
          <a:prstGeom prst="line">
            <a:avLst/>
          </a:prstGeom>
          <a:ln w="44280">
            <a:solidFill>
              <a:srgbClr val="0033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588000" y="35002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…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7596360" y="1484280"/>
            <a:ext cx="504720" cy="504720"/>
            <a:chOff x="7596360" y="1484280"/>
            <a:chExt cx="504720" cy="504720"/>
          </a:xfrm>
        </p:grpSpPr>
        <p:sp>
          <p:nvSpPr>
            <p:cNvPr id="304" name=""/>
            <p:cNvSpPr/>
            <p:nvPr/>
          </p:nvSpPr>
          <p:spPr>
            <a:xfrm>
              <a:off x="7596360" y="1484280"/>
              <a:ext cx="504720" cy="5047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 flipV="1">
              <a:off x="7848720" y="1507680"/>
              <a:ext cx="1440" cy="4590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7647120" y="1736280"/>
              <a:ext cx="403200" cy="18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5508720" y="3211200"/>
            <a:ext cx="865080" cy="865440"/>
            <a:chOff x="5508720" y="3211200"/>
            <a:chExt cx="865080" cy="865440"/>
          </a:xfrm>
        </p:grpSpPr>
        <p:sp>
          <p:nvSpPr>
            <p:cNvPr id="308" name=""/>
            <p:cNvSpPr/>
            <p:nvPr/>
          </p:nvSpPr>
          <p:spPr>
            <a:xfrm>
              <a:off x="5653080" y="3355920"/>
              <a:ext cx="575640" cy="576360"/>
            </a:xfrm>
            <a:prstGeom prst="ellipse">
              <a:avLst/>
            </a:prstGeom>
            <a:noFill/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508720" y="3571920"/>
              <a:ext cx="8650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5940360" y="3211200"/>
              <a:ext cx="215640" cy="289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724360" y="3571920"/>
              <a:ext cx="504360" cy="5047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 flipV="1">
              <a:off x="5976720" y="3595320"/>
              <a:ext cx="1440" cy="4590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5775120" y="3823920"/>
              <a:ext cx="402840" cy="18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14" name="" descr=""/>
          <p:cNvPicPr/>
          <p:nvPr/>
        </p:nvPicPr>
        <p:blipFill>
          <a:blip r:embed="rId7"/>
          <a:stretch/>
        </p:blipFill>
        <p:spPr>
          <a:xfrm>
            <a:off x="5424480" y="4900680"/>
            <a:ext cx="2819520" cy="76032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8"/>
          <a:stretch/>
        </p:blipFill>
        <p:spPr>
          <a:xfrm>
            <a:off x="5148360" y="4797360"/>
            <a:ext cx="3959280" cy="72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01934-A982-4CB6-A735-538C91D90CF9}" type="slidenum">
              <a:t>9</a:t>
            </a:fld>
          </a:p>
        </p:txBody>
      </p:sp>
    </p:spTree>
  </p:cSld>
  <p:transition spd="med"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30T16:28:29Z</dcterms:created>
  <dc:creator>Christian Schaffner</dc:creator>
  <dc:description/>
  <dc:language>en-US</dc:language>
  <cp:lastModifiedBy>Christian Schaffner</cp:lastModifiedBy>
  <dcterms:modified xsi:type="dcterms:W3CDTF">2006-02-12T21:21:43Z</dcterms:modified>
  <cp:revision>146</cp:revision>
  <dc:subject>Diplomarbeitsvortrag</dc:subject>
  <dc:title>Secret-key agreement information-theoretically secure against active adversaries</dc:title>
</cp:coreProperties>
</file>