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781800" cy="9918700"/>
</p:presentation>
</file>

<file path=ppt/commentAuthors.xml><?xml version="1.0" encoding="utf-8"?>
<p:cmAuthorLst xmlns:p="http://schemas.openxmlformats.org/presentationml/2006/main">
  <p:cmAuthor id="0" name="Christian Schaffner" initials="C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05-02-24T11:42:51.723000000" idx="1">
    <p:pos x="365" y="2879"/>
    <p:text>h is two-universal and BINAR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F122-2F5E-4F40-A550-67AB6264F86C}" type="slidenum"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is two-universal and BINARY, maps to one b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4F0BF-BD7B-4059-A592-D8A1A200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62344-5E41-4A46-B05A-7C909884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79CC-69C5-4AD6-A195-DBF52C95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D577F-CBCC-4CAC-BE13-A9439BFF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91A3-2C17-4561-A4B4-CA20AD46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F573-2230-4FD8-88DF-A409FAEE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CEDC-B1C6-4D45-9309-E1EB481C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6D09-ECBD-4CC8-83CB-F1AF949F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0DA1-38F7-48F8-A026-9930D90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EEA9-6564-4B5B-9C50-2C5BF31D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BD74-9A9C-4BC0-A50A-1E715B2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FEF6-137A-4025-AB1E-85F0E6FA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A834-E16D-4A37-AE59-AD1622F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04A-367F-4750-A25C-04A3759C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6AB1-86E6-4509-B9C8-9B47EFF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3423-FA2F-409E-ADC4-E0E5CBAA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BAB1-145A-464A-9CF9-E1B5AD2F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FBCF-3198-4AF4-96B6-A41D7A7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39E16-145F-4310-A896-898CD28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5793-4D13-4F67-BE0D-E1067509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15920"/>
            <a:ext cx="8229600" cy="468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40BE-D91A-48A7-B082-677542D0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6D4F8-66E0-4D6E-A668-62978EE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0ACB-1A47-4DFB-A437-313020AB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B782-D94F-4930-9007-AE3AEDB6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019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fld id="{5043EA21-072C-4799-8C09-57D64F9D77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/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13C7-C37A-44D2-B4F1-0EE7255AFC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4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18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<Relationship Id="rId10" Type="http://schemas.openxmlformats.org/officeDocument/2006/relationships/comments" Target="../comments/comment8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7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Cryptography In the</a:t>
            </a:r>
            <a:br>
              <a:rPr sz="4400"/>
            </a:br>
            <a:r>
              <a:rPr b="1" lang="en-GB" sz="4400" spc="-1" strike="noStrike">
                <a:solidFill>
                  <a:srgbClr val="e5e5ff"/>
                </a:solidFill>
                <a:latin typeface="Arial"/>
              </a:rPr>
              <a:t>Bounded Quantum-Storage Model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6920" y="7892640"/>
            <a:ext cx="687708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S 2005 - Pittsbur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uesday, October 2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3070080"/>
            <a:ext cx="8856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van Damgård, Louis Salvail,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hristian Schaffner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RICS, University of Århus, 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rge Fe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WI, Amsterdam, 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bliviousness against dishonest Bob?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5791320" y="4876920"/>
            <a:ext cx="2819160" cy="760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2556000" y="4195800"/>
            <a:ext cx="6359400" cy="459720"/>
            <a:chOff x="2556000" y="4195800"/>
            <a:chExt cx="6359400" cy="459720"/>
          </a:xfrm>
        </p:grpSpPr>
        <p:sp>
          <p:nvSpPr>
            <p:cNvPr id="324" name=""/>
            <p:cNvSpPr/>
            <p:nvPr/>
          </p:nvSpPr>
          <p:spPr>
            <a:xfrm>
              <a:off x="2556000" y="4287600"/>
              <a:ext cx="635940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97320" y="4195800"/>
              <a:ext cx="549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332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357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334480" y="2172240"/>
            <a:ext cx="2982600" cy="713880"/>
            <a:chOff x="5334480" y="2172240"/>
            <a:chExt cx="2982600" cy="713880"/>
          </a:xfrm>
        </p:grpSpPr>
        <p:sp>
          <p:nvSpPr>
            <p:cNvPr id="346" name=""/>
            <p:cNvSpPr/>
            <p:nvPr/>
          </p:nvSpPr>
          <p:spPr>
            <a:xfrm rot="2700000">
              <a:off x="543888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3032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2700000">
              <a:off x="601524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6105600" y="2368080"/>
              <a:ext cx="325440" cy="3232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2700000">
              <a:off x="6590880" y="2276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6681240" y="2368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700000">
              <a:off x="7166160" y="2276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257600" y="2367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740720" y="23241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…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5386320" y="184788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2700000">
            <a:off x="658656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6676560" y="3520080"/>
            <a:ext cx="325800" cy="3236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700000">
            <a:off x="6012000" y="342900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03440" y="3519000"/>
            <a:ext cx="32292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36000" y="34765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8028000" y="2852280"/>
            <a:ext cx="865080" cy="792720"/>
            <a:chOff x="8028000" y="2852280"/>
            <a:chExt cx="865080" cy="792720"/>
          </a:xfrm>
        </p:grpSpPr>
        <p:sp>
          <p:nvSpPr>
            <p:cNvPr id="363" name=""/>
            <p:cNvSpPr/>
            <p:nvPr/>
          </p:nvSpPr>
          <p:spPr>
            <a:xfrm>
              <a:off x="8172360" y="29973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28000" y="3213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8459640" y="28522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8244000" y="3213000"/>
            <a:ext cx="504720" cy="505080"/>
            <a:chOff x="8244000" y="3213000"/>
            <a:chExt cx="504720" cy="505080"/>
          </a:xfrm>
        </p:grpSpPr>
        <p:sp>
          <p:nvSpPr>
            <p:cNvPr id="367" name=""/>
            <p:cNvSpPr/>
            <p:nvPr/>
          </p:nvSpPr>
          <p:spPr>
            <a:xfrm>
              <a:off x="8244000" y="3213000"/>
              <a:ext cx="504720" cy="505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8496360" y="32364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8294760" y="34650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B046-592C-459E-A2F7-7E5AF9252592}" type="slidenum">
              <a:t>10</a:t>
            </a:fld>
          </a:p>
        </p:txBody>
      </p:sp>
    </p:spTree>
  </p:cSld>
  <p:transition spd="med"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oof of Obliviousness: Tool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050920" y="1268280"/>
            <a:ext cx="6697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ification techniques like in the  Shor-Preskill security proof of BB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cy Amplification against Quantum Adversaries [RK, TCC0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min-entropy based uncertainty rel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920" y="422100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qubit register A in stat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the probabilities of measuring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+-basis respectively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basis. Then it 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+ P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msy10"/>
              </a:rPr>
              <a:t>£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+ negl(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7FCB-5401-4948-93E2-67888DEFFF28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 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2995560"/>
            <a:ext cx="806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FDCA-7F05-40A5-9238-8DA219C240B8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384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387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9" name=""/>
          <p:cNvGrpSpPr/>
          <p:nvPr/>
        </p:nvGrpSpPr>
        <p:grpSpPr>
          <a:xfrm>
            <a:off x="2062080" y="1747800"/>
            <a:ext cx="3424320" cy="1681200"/>
            <a:chOff x="2062080" y="1747800"/>
            <a:chExt cx="3424320" cy="1681200"/>
          </a:xfrm>
        </p:grpSpPr>
        <p:sp>
          <p:nvSpPr>
            <p:cNvPr id="390" name=""/>
            <p:cNvSpPr/>
            <p:nvPr/>
          </p:nvSpPr>
          <p:spPr>
            <a:xfrm>
              <a:off x="3352680" y="3429000"/>
              <a:ext cx="213372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395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1991-FEB1-45DD-9664-CEC3C49C2C5F}" type="slidenum">
              <a:t>13</a:t>
            </a:fld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50960" y="3068640"/>
            <a:ext cx="2057400" cy="0"/>
          </a:xfrm>
          <a:prstGeom prst="line">
            <a:avLst/>
          </a:prstGeom>
          <a:ln w="114480">
            <a:solidFill>
              <a:srgbClr val="ffffff">
                <a:alpha val="8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33720" y="2286000"/>
            <a:ext cx="6629400" cy="0"/>
          </a:xfrm>
          <a:prstGeom prst="line">
            <a:avLst/>
          </a:prstGeom>
          <a:ln w="507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4365720" y="2611440"/>
            <a:ext cx="609480" cy="3808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600200" cy="4111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1989000" y="3328920"/>
            <a:ext cx="6831000" cy="27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ound, non-interacti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t by receiv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nditionally binding as long as Me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commi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lt; n /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2419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505320" y="1523880"/>
            <a:ext cx="2057400" cy="457200"/>
            <a:chOff x="3505320" y="1523880"/>
            <a:chExt cx="2057400" cy="457200"/>
          </a:xfrm>
        </p:grpSpPr>
        <p:sp>
          <p:nvSpPr>
            <p:cNvPr id="406" name=""/>
            <p:cNvSpPr/>
            <p:nvPr/>
          </p:nvSpPr>
          <p:spPr>
            <a:xfrm>
              <a:off x="3505320" y="1981080"/>
              <a:ext cx="2057400" cy="0"/>
            </a:xfrm>
            <a:prstGeom prst="line">
              <a:avLst/>
            </a:prstGeom>
            <a:ln cap="rnd" w="11448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7" name="" descr=""/>
            <p:cNvPicPr/>
            <p:nvPr/>
          </p:nvPicPr>
          <p:blipFill>
            <a:blip r:embed="rId3"/>
            <a:stretch/>
          </p:blipFill>
          <p:spPr>
            <a:xfrm>
              <a:off x="3733920" y="1523880"/>
              <a:ext cx="1304640" cy="29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8" name=""/>
          <p:cNvSpPr/>
          <p:nvPr/>
        </p:nvSpPr>
        <p:spPr>
          <a:xfrm>
            <a:off x="2627280" y="2205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mory bound: st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n/2 qub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28600" y="19836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Bit Commitment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2360" y="6021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of uses same tools as for O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CC6FD-E273-4A9D-AF5E-71984990E214}" type="slidenum">
              <a:t>14</a:t>
            </a:fld>
          </a:p>
        </p:txBody>
      </p:sp>
    </p:spTree>
  </p:cSld>
  <p:transition spd="med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 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1280" y="3683160"/>
            <a:ext cx="806436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0D8C-032C-4A82-ACF8-8AA1689DDA8D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79640" y="1484280"/>
            <a:ext cx="68403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oday’s technology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ransmit quantum bits encoded in pho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st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m for longer than a few milli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79640" y="4076640"/>
            <a:ext cx="583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rfect sources (multi-pulse emiss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ssio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9FDBF-404A-4A48-932B-50BBA76F1D3E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Practicality Issue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0920" y="1413000"/>
            <a:ext cx="6629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protocols can be modifi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i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s based 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photon emis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lerate (quantum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3787920"/>
            <a:ext cx="669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 within reach o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 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sense over short distances    (in contrast to QK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218D-3170-4839-9DB9-F69A9F1B80EB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24000" y="1341360"/>
            <a:ext cx="6696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s for OT and BC that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icient, non-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ly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bounded quantum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tic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 do not need quantum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03640" y="5300640"/>
            <a:ext cx="33354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ank you for your atten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674B-6A9D-4EA0-B734-1466F79B6B14}" type="slidenum">
              <a:t>18</a:t>
            </a:fld>
          </a:p>
        </p:txBody>
      </p:sp>
    </p:spTree>
  </p:cSld>
  <p:transition spd="med"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Binding Property: Proof Idea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0574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if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1143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352320" y="4572000"/>
            <a:ext cx="2133720" cy="609480"/>
            <a:chOff x="3352320" y="4572000"/>
            <a:chExt cx="2133720" cy="609480"/>
          </a:xfrm>
        </p:grpSpPr>
        <p:sp>
          <p:nvSpPr>
            <p:cNvPr id="439" name=""/>
            <p:cNvSpPr/>
            <p:nvPr/>
          </p:nvSpPr>
          <p:spPr>
            <a:xfrm flipH="1">
              <a:off x="3352320" y="5181480"/>
              <a:ext cx="213372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1"/>
            <a:stretch/>
          </p:blipFill>
          <p:spPr>
            <a:xfrm>
              <a:off x="4191120" y="4572000"/>
              <a:ext cx="704880" cy="44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1" name=""/>
          <p:cNvGrpSpPr/>
          <p:nvPr/>
        </p:nvGrpSpPr>
        <p:grpSpPr>
          <a:xfrm>
            <a:off x="5784840" y="1981080"/>
            <a:ext cx="2984400" cy="1952640"/>
            <a:chOff x="5784840" y="1981080"/>
            <a:chExt cx="2984400" cy="1952640"/>
          </a:xfrm>
        </p:grpSpPr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5784840" y="2822400"/>
              <a:ext cx="2984400" cy="11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5791320" y="1981080"/>
              <a:ext cx="17953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3352680" y="3429000"/>
            <a:ext cx="2133720" cy="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062080" y="1747800"/>
            <a:ext cx="2979720" cy="1533600"/>
            <a:chOff x="2062080" y="1747800"/>
            <a:chExt cx="2979720" cy="1533600"/>
          </a:xfrm>
        </p:grpSpPr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2666880" y="2819520"/>
              <a:ext cx="237492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5"/>
            <a:stretch/>
          </p:blipFill>
          <p:spPr>
            <a:xfrm>
              <a:off x="2062080" y="1747800"/>
              <a:ext cx="2130480" cy="84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8" name="" descr=""/>
          <p:cNvPicPr/>
          <p:nvPr/>
        </p:nvPicPr>
        <p:blipFill>
          <a:blip r:embed="rId6"/>
          <a:stretch/>
        </p:blipFill>
        <p:spPr>
          <a:xfrm>
            <a:off x="1828800" y="5486400"/>
            <a:ext cx="2819520" cy="80964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2050920" y="4124160"/>
            <a:ext cx="6864480" cy="459720"/>
            <a:chOff x="2050920" y="4124160"/>
            <a:chExt cx="6864480" cy="459720"/>
          </a:xfrm>
        </p:grpSpPr>
        <p:sp>
          <p:nvSpPr>
            <p:cNvPr id="450" name=""/>
            <p:cNvSpPr/>
            <p:nvPr/>
          </p:nvSpPr>
          <p:spPr>
            <a:xfrm flipV="1">
              <a:off x="2050920" y="4200120"/>
              <a:ext cx="6864480" cy="2052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00360" y="4124160"/>
              <a:ext cx="619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2" name="" descr=""/>
          <p:cNvPicPr/>
          <p:nvPr/>
        </p:nvPicPr>
        <p:blipFill>
          <a:blip r:embed="rId7"/>
          <a:stretch/>
        </p:blipFill>
        <p:spPr>
          <a:xfrm>
            <a:off x="5718240" y="1782720"/>
            <a:ext cx="2309760" cy="27792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508720" y="2852640"/>
            <a:ext cx="2879640" cy="503280"/>
          </a:xfrm>
          <a:custGeom>
            <a:avLst/>
            <a:gdLst>
              <a:gd name="textAreaLeft" fmla="*/ 672480 w 2879640"/>
              <a:gd name="textAreaRight" fmla="*/ 2207160 w 2879640"/>
              <a:gd name="textAreaTop" fmla="*/ 117360 h 503280"/>
              <a:gd name="textAreaBottom" fmla="*/ 3859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8099280" y="2945880"/>
            <a:ext cx="865080" cy="843120"/>
            <a:chOff x="8099280" y="2945880"/>
            <a:chExt cx="865080" cy="843120"/>
          </a:xfrm>
        </p:grpSpPr>
        <p:sp>
          <p:nvSpPr>
            <p:cNvPr id="455" name=""/>
            <p:cNvSpPr/>
            <p:nvPr/>
          </p:nvSpPr>
          <p:spPr>
            <a:xfrm>
              <a:off x="8243640" y="3090960"/>
              <a:ext cx="576360" cy="57600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099280" y="33066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8530920" y="2945880"/>
              <a:ext cx="21600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8567640" y="333000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8366040" y="355860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83C3-BC7D-4319-9610-F998159B2A92}" type="slidenum">
              <a:t>19</a:t>
            </a:fld>
          </a:p>
        </p:txBody>
      </p:sp>
    </p:spTree>
  </p:cSld>
  <p:transition spd="med">
    <p:fade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2-party primitive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125360"/>
            <a:ext cx="4724640" cy="1295640"/>
            <a:chOff x="380880" y="1125360"/>
            <a:chExt cx="4724640" cy="1295640"/>
          </a:xfrm>
        </p:grpSpPr>
        <p:sp>
          <p:nvSpPr>
            <p:cNvPr id="112" name=""/>
            <p:cNvSpPr/>
            <p:nvPr/>
          </p:nvSpPr>
          <p:spPr>
            <a:xfrm>
              <a:off x="762120" y="219240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8360" y="1125360"/>
              <a:ext cx="42559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abin Oblivious Transf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188748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71800" y="219240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1887480"/>
              <a:ext cx="990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/ 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67280" y="165888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vi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683160"/>
            <a:ext cx="2819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0880" y="2997360"/>
            <a:ext cx="5410440" cy="2133000"/>
            <a:chOff x="380880" y="2997360"/>
            <a:chExt cx="5410440" cy="2133000"/>
          </a:xfrm>
        </p:grpSpPr>
        <p:sp>
          <p:nvSpPr>
            <p:cNvPr id="120" name=""/>
            <p:cNvSpPr/>
            <p:nvPr/>
          </p:nvSpPr>
          <p:spPr>
            <a:xfrm>
              <a:off x="762120" y="406404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2997360"/>
              <a:ext cx="39621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Bit Commit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3759120"/>
              <a:ext cx="381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064040"/>
              <a:ext cx="10666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375912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4902120"/>
              <a:ext cx="3276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0880" y="4597200"/>
              <a:ext cx="3812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8480" y="4597200"/>
              <a:ext cx="175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marL="270720" indent="-27072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b in C</a:t>
              </a:r>
              <a:r>
                <a:rPr b="0" lang="en-US" sz="32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905120" y="1811160"/>
            <a:ext cx="99036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3683160"/>
            <a:ext cx="99036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5516640"/>
            <a:ext cx="7489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omplete for two-part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4811-32BE-459F-BF10-02DA93973D48}" type="slidenum">
              <a:t>2</a:t>
            </a:fld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Open Problems and Next Step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24000" y="1557360"/>
            <a:ext cx="6696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lavors of OT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1-out-of-2 Oblivious Transfer, String-OT,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memory b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sability? What happens to the memory bou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Better uncertainty relations for more M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A488-BEA3-40D4-8DD6-BC422CE74E5C}" type="slidenum">
              <a:t>20</a:t>
            </a:fld>
          </a:p>
        </p:txBody>
      </p:sp>
    </p:spTree>
  </p:cSld>
  <p:transition spd="med">
    <p:fad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1-2-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5445000"/>
            <a:ext cx="2016360" cy="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5435640" y="256536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250920" y="3933720"/>
            <a:ext cx="8664120" cy="459720"/>
            <a:chOff x="250920" y="3933720"/>
            <a:chExt cx="8664120" cy="459720"/>
          </a:xfrm>
        </p:grpSpPr>
        <p:sp>
          <p:nvSpPr>
            <p:cNvPr id="470" name=""/>
            <p:cNvSpPr/>
            <p:nvPr/>
          </p:nvSpPr>
          <p:spPr>
            <a:xfrm>
              <a:off x="250920" y="402552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97160" y="393372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0.4n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91636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1619280" y="1081080"/>
            <a:ext cx="2146320" cy="3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250920" y="1555920"/>
            <a:ext cx="2130480" cy="8427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484360" y="2492280"/>
            <a:ext cx="2374920" cy="461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5"/>
          <a:stretch/>
        </p:blipFill>
        <p:spPr>
          <a:xfrm>
            <a:off x="5435640" y="5130720"/>
            <a:ext cx="3370320" cy="4590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6"/>
          <a:stretch/>
        </p:blipFill>
        <p:spPr>
          <a:xfrm>
            <a:off x="100080" y="4654440"/>
            <a:ext cx="2911320" cy="13176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7"/>
          <a:stretch/>
        </p:blipFill>
        <p:spPr>
          <a:xfrm>
            <a:off x="3492360" y="4464000"/>
            <a:ext cx="1263960" cy="83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8"/>
          <a:stretch/>
        </p:blipFill>
        <p:spPr>
          <a:xfrm>
            <a:off x="6418440" y="1052640"/>
            <a:ext cx="153828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9"/>
          <a:stretch/>
        </p:blipFill>
        <p:spPr>
          <a:xfrm>
            <a:off x="5442120" y="1844640"/>
            <a:ext cx="2101680" cy="3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5FD3D-2C47-435A-BB55-7E2C61B5970A}" type="slidenum">
              <a:t>21</a:t>
            </a:fld>
          </a:p>
        </p:txBody>
      </p:sp>
    </p:spTree>
  </p:cSld>
  <p:transition spd="med">
    <p:fad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Three Ways Ou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66880" y="1628640"/>
            <a:ext cx="62262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 computing power (schemes based on complexity assump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y communicat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e.g. Cr</a:t>
            </a: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uMorozovWolf04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657520" y="351936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bounded memory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491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492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495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4C3C-8EC0-47E0-B029-3DF200539F1C}" type="slidenum">
              <a:t>22</a:t>
            </a:fld>
          </a:p>
        </p:txBody>
      </p:sp>
    </p:spTree>
  </p:cSld>
  <p:transition spd="med"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826920" y="3716280"/>
            <a:ext cx="1008360" cy="187344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1280" y="3787920"/>
            <a:ext cx="865080" cy="865080"/>
            <a:chOff x="2411280" y="3787920"/>
            <a:chExt cx="865080" cy="865080"/>
          </a:xfrm>
        </p:grpSpPr>
        <p:sp>
          <p:nvSpPr>
            <p:cNvPr id="499" name=""/>
            <p:cNvSpPr/>
            <p:nvPr/>
          </p:nvSpPr>
          <p:spPr>
            <a:xfrm>
              <a:off x="2555640" y="3932280"/>
              <a:ext cx="57636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11280" y="414828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842920" y="3787920"/>
              <a:ext cx="21600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26920" y="4148280"/>
              <a:ext cx="50508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 flipV="1">
              <a:off x="2878920" y="4172040"/>
              <a:ext cx="1800" cy="458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677680" y="4400640"/>
              <a:ext cx="403200" cy="1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2409840" y="371628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00000" y="10987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Mechanics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835280" y="1243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260360" y="11710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71640" y="145908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05948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5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835280" y="2060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421080" y="11239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92360" y="148428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290840" y="1268280"/>
            <a:ext cx="800280" cy="495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578560" y="1125360"/>
            <a:ext cx="718920" cy="721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6443640" y="1268280"/>
            <a:ext cx="800280" cy="4953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 flipV="1">
            <a:off x="5940360" y="119700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419640" y="1916280"/>
            <a:ext cx="71892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57876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8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3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4322880" y="2073240"/>
            <a:ext cx="723960" cy="4572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6475320" y="2073240"/>
            <a:ext cx="723960" cy="4572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971640" y="4724280"/>
            <a:ext cx="71892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332000" y="479700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042920" y="508464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27520" y="4880160"/>
            <a:ext cx="40572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23920" y="488232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71640" y="3860640"/>
            <a:ext cx="718920" cy="7207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1332000" y="393336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042920" y="4221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1127520" y="4016520"/>
            <a:ext cx="40572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23920" y="401868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24360" y="386064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995640" y="422100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763280" y="4219560"/>
            <a:ext cx="647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276720" y="422100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763280" y="5084640"/>
            <a:ext cx="20876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24360" y="472428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995640" y="5084640"/>
            <a:ext cx="57636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R pai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348000" y="32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508720" y="386064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70520" y="393228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508720" y="4724280"/>
            <a:ext cx="71892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870520" y="4795920"/>
            <a:ext cx="0" cy="57456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19640" y="3213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. ½ :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716360" y="4581360"/>
            <a:ext cx="4032360" cy="1041120"/>
            <a:chOff x="4716360" y="4581360"/>
            <a:chExt cx="4032360" cy="1041120"/>
          </a:xfrm>
        </p:grpSpPr>
        <p:grpSp>
          <p:nvGrpSpPr>
            <p:cNvPr id="552" name=""/>
            <p:cNvGrpSpPr/>
            <p:nvPr/>
          </p:nvGrpSpPr>
          <p:grpSpPr>
            <a:xfrm>
              <a:off x="5435640" y="4654080"/>
              <a:ext cx="865080" cy="968400"/>
              <a:chOff x="5435640" y="4654080"/>
              <a:chExt cx="865080" cy="968400"/>
            </a:xfrm>
          </p:grpSpPr>
          <p:sp>
            <p:nvSpPr>
              <p:cNvPr id="553" name=""/>
              <p:cNvSpPr/>
              <p:nvPr/>
            </p:nvSpPr>
            <p:spPr>
              <a:xfrm>
                <a:off x="5580000" y="4798800"/>
                <a:ext cx="575640" cy="5763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35640" y="501480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5867280" y="4654080"/>
                <a:ext cx="215280" cy="2890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5542920" y="4908960"/>
                <a:ext cx="713520" cy="713520"/>
                <a:chOff x="5542920" y="4908960"/>
                <a:chExt cx="713520" cy="713520"/>
              </a:xfrm>
            </p:grpSpPr>
            <p:sp>
              <p:nvSpPr>
                <p:cNvPr id="557" name=""/>
                <p:cNvSpPr/>
                <p:nvPr/>
              </p:nvSpPr>
              <p:spPr>
                <a:xfrm rot="2700000">
                  <a:off x="5647320" y="5013360"/>
                  <a:ext cx="504720" cy="5043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 flipV="1">
                  <a:off x="5739480" y="5104080"/>
                  <a:ext cx="322560" cy="32472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flipH="1" flipV="1">
                  <a:off x="5738040" y="5104800"/>
                  <a:ext cx="325080" cy="323640"/>
                </a:xfrm>
                <a:prstGeom prst="line">
                  <a:avLst/>
                </a:prstGeom>
                <a:ln w="44280">
                  <a:solidFill>
                    <a:srgbClr val="003399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>
              <a:off x="5435640" y="4581360"/>
              <a:ext cx="865080" cy="1008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716360" y="508644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300360" y="508644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948360" y="4654440"/>
              <a:ext cx="18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½ :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87640" y="4581360"/>
            <a:ext cx="3888000" cy="1008360"/>
            <a:chOff x="4787640" y="4581360"/>
            <a:chExt cx="3888000" cy="1008360"/>
          </a:xfrm>
        </p:grpSpPr>
        <p:grpSp>
          <p:nvGrpSpPr>
            <p:cNvPr id="565" name=""/>
            <p:cNvGrpSpPr/>
            <p:nvPr/>
          </p:nvGrpSpPr>
          <p:grpSpPr>
            <a:xfrm>
              <a:off x="5435640" y="4653000"/>
              <a:ext cx="865080" cy="865080"/>
              <a:chOff x="5435640" y="4653000"/>
              <a:chExt cx="865080" cy="865080"/>
            </a:xfrm>
          </p:grpSpPr>
          <p:sp>
            <p:nvSpPr>
              <p:cNvPr id="566" name=""/>
              <p:cNvSpPr/>
              <p:nvPr/>
            </p:nvSpPr>
            <p:spPr>
              <a:xfrm>
                <a:off x="5580000" y="479736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35640" y="501336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5867280" y="4653000"/>
                <a:ext cx="216000" cy="2887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51280" y="5013360"/>
                <a:ext cx="505080" cy="504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 flipV="1">
                <a:off x="5903280" y="5037120"/>
                <a:ext cx="1800" cy="458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5702040" y="5265720"/>
                <a:ext cx="403200" cy="14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5434200" y="4581360"/>
              <a:ext cx="865080" cy="100836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 flipV="1">
              <a:off x="4787640" y="5084280"/>
              <a:ext cx="6476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300360" y="5086440"/>
              <a:ext cx="57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75640" y="4795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b. 1 : 0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332000" y="4508640"/>
            <a:ext cx="0" cy="28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5F25-8417-4779-9EE5-F389DDFB97F4}" type="slidenum">
              <a:t>23</a:t>
            </a:fld>
          </a:p>
        </p:txBody>
      </p:sp>
    </p:spTree>
  </p:cSld>
  <p:transition spd="med"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-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4360" y="1700280"/>
            <a:ext cx="8064360" cy="64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0B3E6-D74F-4B0B-9B95-B26CC83DC78B}" type="slidenum">
              <a:t>24</a:t>
            </a:fld>
          </a:p>
        </p:txBody>
      </p:sp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Known Impossibility Results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7240" y="1676520"/>
            <a:ext cx="6019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lassical unconditionally secure model without further assum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80880" y="1752120"/>
            <a:ext cx="1447920" cy="3124800"/>
            <a:chOff x="380880" y="1752120"/>
            <a:chExt cx="1447920" cy="3124800"/>
          </a:xfrm>
        </p:grpSpPr>
        <p:grpSp>
          <p:nvGrpSpPr>
            <p:cNvPr id="136" name=""/>
            <p:cNvGrpSpPr/>
            <p:nvPr/>
          </p:nvGrpSpPr>
          <p:grpSpPr>
            <a:xfrm>
              <a:off x="380880" y="1752120"/>
              <a:ext cx="1447920" cy="1296000"/>
              <a:chOff x="380880" y="1752120"/>
              <a:chExt cx="1447920" cy="129600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17524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380880" y="17521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380880" y="3580920"/>
              <a:ext cx="1447920" cy="1296000"/>
              <a:chOff x="380880" y="3580920"/>
              <a:chExt cx="1447920" cy="1296000"/>
            </a:xfrm>
          </p:grpSpPr>
          <p:sp>
            <p:nvSpPr>
              <p:cNvPr id="140" name=""/>
              <p:cNvSpPr/>
              <p:nvPr/>
            </p:nvSpPr>
            <p:spPr>
              <a:xfrm>
                <a:off x="380880" y="3581280"/>
                <a:ext cx="1447920" cy="1295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80880" y="3580920"/>
                <a:ext cx="1447920" cy="12193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2050920" y="3581280"/>
            <a:ext cx="638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unconditionally secure mod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Mayers97, Lo-Chau97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D630-6EDE-4F7B-ACEC-E039668756F1}" type="slidenum">
              <a:t>3</a:t>
            </a:fld>
          </a:p>
        </p:txBody>
      </p:sp>
    </p:spTree>
  </p:cSld>
  <p:transition spd="med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Classical Bounded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4979880"/>
            <a:ext cx="60962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8360" y="54468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62120" y="2209680"/>
            <a:ext cx="1676160" cy="3200400"/>
            <a:chOff x="762120" y="2209680"/>
            <a:chExt cx="1676160" cy="3200400"/>
          </a:xfrm>
        </p:grpSpPr>
        <p:sp>
          <p:nvSpPr>
            <p:cNvPr id="149" name=""/>
            <p:cNvSpPr/>
            <p:nvPr/>
          </p:nvSpPr>
          <p:spPr>
            <a:xfrm>
              <a:off x="762120" y="2209680"/>
              <a:ext cx="16761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20" y="3962520"/>
              <a:ext cx="1676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6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r>
                <a:rPr b="0" lang="en-US" sz="8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66680" y="2362320"/>
            <a:ext cx="1143000" cy="2971800"/>
            <a:chOff x="1066680" y="2362320"/>
            <a:chExt cx="1143000" cy="2971800"/>
          </a:xfrm>
        </p:grpSpPr>
        <p:sp>
          <p:nvSpPr>
            <p:cNvPr id="152" name=""/>
            <p:cNvSpPr/>
            <p:nvPr/>
          </p:nvSpPr>
          <p:spPr>
            <a:xfrm>
              <a:off x="1066680" y="23623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66680" y="4191120"/>
              <a:ext cx="1143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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8360" y="1197000"/>
            <a:ext cx="66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string which players try to s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mory bound applies at a specified mo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col for OT [DHRS, TCC04]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size of 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memory of 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bound [DM, EC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low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quantum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B587-6F2C-45C7-8155-703F319F0B92}" type="slidenum">
              <a:t>4</a:t>
            </a:fld>
          </a:p>
        </p:txBody>
      </p:sp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Bounded-Storage Model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9810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0920" y="1052640"/>
            <a:ext cx="6840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um memory bound applies at a specified moment. Besides that, players are unbounded (in time and sp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conditional sec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ainst adversaries with quantum memory of less th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lf of the transmitted qu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mor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honest player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n/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lt;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591000"/>
                <a:tab algn="l" pos="501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io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msy10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809880"/>
            <a:ext cx="99072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2096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03848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AD5D-7735-4EE3-99A2-F1C0A21D84DC}" type="slidenum">
              <a:t>5</a:t>
            </a:fld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700280"/>
            <a:ext cx="799308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ntum Bounded-Storag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Oblivious Transf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ocol for Bit Commi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acticality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2347920"/>
            <a:ext cx="8064360" cy="6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4172-4FB1-42E2-825E-EB7096FBA687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3419640" y="3715920"/>
            <a:ext cx="865080" cy="865440"/>
            <a:chOff x="3419640" y="3715920"/>
            <a:chExt cx="865080" cy="865440"/>
          </a:xfrm>
        </p:grpSpPr>
        <p:sp>
          <p:nvSpPr>
            <p:cNvPr id="165" name=""/>
            <p:cNvSpPr/>
            <p:nvPr/>
          </p:nvSpPr>
          <p:spPr>
            <a:xfrm>
              <a:off x="3564000" y="386064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19640" y="40766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51280" y="371592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35280" y="407664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3887640" y="410004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3686040" y="432864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00000" y="1098720"/>
            <a:ext cx="719280" cy="72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Mechanics (Toy Version)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1243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60360" y="117108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459080"/>
            <a:ext cx="576000" cy="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916280"/>
            <a:ext cx="719280" cy="72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059480" y="2071800"/>
            <a:ext cx="405000" cy="4075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55520" y="2073960"/>
            <a:ext cx="408600" cy="406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2060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£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19640" y="1123920"/>
            <a:ext cx="3824280" cy="1513080"/>
            <a:chOff x="3419640" y="1123920"/>
            <a:chExt cx="3824280" cy="1513080"/>
          </a:xfrm>
        </p:grpSpPr>
        <p:sp>
          <p:nvSpPr>
            <p:cNvPr id="181" name=""/>
            <p:cNvSpPr/>
            <p:nvPr/>
          </p:nvSpPr>
          <p:spPr>
            <a:xfrm>
              <a:off x="3421080" y="1123920"/>
              <a:ext cx="71928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92360" y="1484280"/>
              <a:ext cx="576360" cy="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290840" y="1268280"/>
              <a:ext cx="800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578560" y="1125360"/>
              <a:ext cx="718920" cy="721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6443640" y="1268280"/>
              <a:ext cx="80028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 flipV="1">
              <a:off x="5940360" y="11970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19640" y="1916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578760" y="207180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80000" y="1916280"/>
              <a:ext cx="71928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35520" y="2073960"/>
              <a:ext cx="408600" cy="406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322880" y="2073240"/>
              <a:ext cx="7239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475320" y="2073240"/>
              <a:ext cx="72396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"/>
          <p:cNvGrpSpPr/>
          <p:nvPr/>
        </p:nvGrpSpPr>
        <p:grpSpPr>
          <a:xfrm>
            <a:off x="828720" y="3787920"/>
            <a:ext cx="718920" cy="720720"/>
            <a:chOff x="828720" y="3787920"/>
            <a:chExt cx="718920" cy="720720"/>
          </a:xfrm>
        </p:grpSpPr>
        <p:sp>
          <p:nvSpPr>
            <p:cNvPr id="194" name=""/>
            <p:cNvSpPr/>
            <p:nvPr/>
          </p:nvSpPr>
          <p:spPr>
            <a:xfrm>
              <a:off x="828720" y="37879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190520" y="38592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3492360" y="3141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1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265400" y="5157360"/>
            <a:ext cx="0" cy="574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32360" y="4941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419640" y="5084280"/>
            <a:ext cx="865080" cy="968400"/>
            <a:chOff x="3419640" y="5084280"/>
            <a:chExt cx="865080" cy="968400"/>
          </a:xfrm>
        </p:grpSpPr>
        <p:sp>
          <p:nvSpPr>
            <p:cNvPr id="200" name=""/>
            <p:cNvSpPr/>
            <p:nvPr/>
          </p:nvSpPr>
          <p:spPr>
            <a:xfrm>
              <a:off x="3564000" y="522900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19640" y="54450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51280" y="508428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3526920" y="5339160"/>
              <a:ext cx="713520" cy="713520"/>
              <a:chOff x="3526920" y="5339160"/>
              <a:chExt cx="713520" cy="713520"/>
            </a:xfrm>
          </p:grpSpPr>
          <p:sp>
            <p:nvSpPr>
              <p:cNvPr id="204" name=""/>
              <p:cNvSpPr/>
              <p:nvPr/>
            </p:nvSpPr>
            <p:spPr>
              <a:xfrm rot="2700000">
                <a:off x="3631320" y="544356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723480" y="553428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3722040" y="553500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"/>
          <p:cNvSpPr/>
          <p:nvPr/>
        </p:nvSpPr>
        <p:spPr>
          <a:xfrm>
            <a:off x="395280" y="2852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88000" y="3789360"/>
            <a:ext cx="719280" cy="720720"/>
            <a:chOff x="6588000" y="3789360"/>
            <a:chExt cx="719280" cy="720720"/>
          </a:xfrm>
        </p:grpSpPr>
        <p:sp>
          <p:nvSpPr>
            <p:cNvPr id="209" name=""/>
            <p:cNvSpPr/>
            <p:nvPr/>
          </p:nvSpPr>
          <p:spPr>
            <a:xfrm>
              <a:off x="6588000" y="3789360"/>
              <a:ext cx="71928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949800" y="38592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956720" y="4797360"/>
            <a:ext cx="718920" cy="720720"/>
            <a:chOff x="7956720" y="4797360"/>
            <a:chExt cx="718920" cy="720720"/>
          </a:xfrm>
        </p:grpSpPr>
        <p:sp>
          <p:nvSpPr>
            <p:cNvPr id="212" name=""/>
            <p:cNvSpPr/>
            <p:nvPr/>
          </p:nvSpPr>
          <p:spPr>
            <a:xfrm>
              <a:off x="7956720" y="479736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8115480" y="4952880"/>
              <a:ext cx="405000" cy="4075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7956720" y="5589720"/>
            <a:ext cx="718920" cy="720720"/>
            <a:chOff x="7956720" y="5589720"/>
            <a:chExt cx="718920" cy="720720"/>
          </a:xfrm>
        </p:grpSpPr>
        <p:sp>
          <p:nvSpPr>
            <p:cNvPr id="215" name=""/>
            <p:cNvSpPr/>
            <p:nvPr/>
          </p:nvSpPr>
          <p:spPr>
            <a:xfrm>
              <a:off x="7956720" y="5589720"/>
              <a:ext cx="718920" cy="72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11880" y="5747400"/>
              <a:ext cx="408240" cy="406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419640" y="3645000"/>
            <a:ext cx="865080" cy="100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18920" y="414972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284720" y="4149720"/>
            <a:ext cx="2232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28720" y="5157720"/>
            <a:ext cx="718920" cy="720720"/>
            <a:chOff x="828720" y="5157720"/>
            <a:chExt cx="718920" cy="720720"/>
          </a:xfrm>
        </p:grpSpPr>
        <p:sp>
          <p:nvSpPr>
            <p:cNvPr id="221" name=""/>
            <p:cNvSpPr/>
            <p:nvPr/>
          </p:nvSpPr>
          <p:spPr>
            <a:xfrm>
              <a:off x="828720" y="51577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190520" y="5229000"/>
              <a:ext cx="0" cy="57456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419640" y="5011560"/>
            <a:ext cx="865080" cy="10083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618920" y="5516640"/>
            <a:ext cx="18003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84720" y="5516640"/>
            <a:ext cx="574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rob. ½ yields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561D-F39D-414B-805A-D04C142C8F8A}" type="slidenum">
              <a:t>7</a:t>
            </a:fld>
          </a:p>
        </p:txBody>
      </p:sp>
    </p:spTree>
  </p:cSld>
  <p:transition spd="med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24480" y="487692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235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9640" y="6165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honest play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244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07160" y="3180240"/>
            <a:ext cx="2440440" cy="713880"/>
            <a:chOff x="2207160" y="3180240"/>
            <a:chExt cx="2440440" cy="713880"/>
          </a:xfrm>
        </p:grpSpPr>
        <p:sp>
          <p:nvSpPr>
            <p:cNvPr id="249" name=""/>
            <p:cNvSpPr/>
            <p:nvPr/>
          </p:nvSpPr>
          <p:spPr>
            <a:xfrm rot="2700000">
              <a:off x="231156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000" y="3375000"/>
              <a:ext cx="323280" cy="3254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700000">
              <a:off x="288720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297756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700000">
              <a:off x="3463920" y="328464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553920" y="3376440"/>
              <a:ext cx="325800" cy="32292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2700000">
              <a:off x="4038120" y="3284640"/>
              <a:ext cx="50472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29920" y="3374640"/>
              <a:ext cx="323640" cy="325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420320" y="1379880"/>
            <a:ext cx="713520" cy="713880"/>
            <a:chOff x="7420320" y="1379880"/>
            <a:chExt cx="713520" cy="713880"/>
          </a:xfrm>
        </p:grpSpPr>
        <p:sp>
          <p:nvSpPr>
            <p:cNvPr id="258" name=""/>
            <p:cNvSpPr/>
            <p:nvPr/>
          </p:nvSpPr>
          <p:spPr>
            <a:xfrm rot="2700000">
              <a:off x="752472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1616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761472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508720" y="3212640"/>
            <a:ext cx="865080" cy="968400"/>
            <a:chOff x="5508720" y="3212640"/>
            <a:chExt cx="865080" cy="968400"/>
          </a:xfrm>
        </p:grpSpPr>
        <p:sp>
          <p:nvSpPr>
            <p:cNvPr id="263" name=""/>
            <p:cNvSpPr/>
            <p:nvPr/>
          </p:nvSpPr>
          <p:spPr>
            <a:xfrm>
              <a:off x="5653080" y="335736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357336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940360" y="3212640"/>
              <a:ext cx="21528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5616000" y="3467520"/>
              <a:ext cx="713520" cy="713520"/>
              <a:chOff x="5616000" y="3467520"/>
              <a:chExt cx="713520" cy="713520"/>
            </a:xfrm>
          </p:grpSpPr>
          <p:sp>
            <p:nvSpPr>
              <p:cNvPr id="267" name=""/>
              <p:cNvSpPr/>
              <p:nvPr/>
            </p:nvSpPr>
            <p:spPr>
              <a:xfrm rot="2700000">
                <a:off x="5720400" y="3571920"/>
                <a:ext cx="504720" cy="5043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812560" y="3662640"/>
                <a:ext cx="322560" cy="32472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811120" y="3663360"/>
                <a:ext cx="325080" cy="323640"/>
              </a:xfrm>
              <a:prstGeom prst="line">
                <a:avLst/>
              </a:prstGeom>
              <a:ln w="44280">
                <a:solidFill>
                  <a:srgbClr val="003399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1573200" y="1125360"/>
            <a:ext cx="1486080" cy="3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E7D0-BABD-4CA0-8741-FB1BD403990A}" type="slidenum">
              <a:t>8</a:t>
            </a:fld>
          </a:p>
        </p:txBody>
      </p: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Quantum Protocol for OT II</a:t>
            </a:r>
            <a:endParaRPr b="1" lang="en-US" sz="32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5950080"/>
            <a:ext cx="57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5157720"/>
            <a:ext cx="2016360" cy="23760"/>
          </a:xfrm>
          <a:prstGeom prst="line">
            <a:avLst/>
          </a:prstGeom>
          <a:ln w="114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56000" y="4648320"/>
            <a:ext cx="971640" cy="399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22280" y="4789440"/>
            <a:ext cx="2062080" cy="849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1905120" cy="392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5435640" y="2060640"/>
            <a:ext cx="2984400" cy="111132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250920" y="4195800"/>
            <a:ext cx="8664120" cy="459720"/>
            <a:chOff x="250920" y="4195800"/>
            <a:chExt cx="8664120" cy="459720"/>
          </a:xfrm>
        </p:grpSpPr>
        <p:sp>
          <p:nvSpPr>
            <p:cNvPr id="279" name=""/>
            <p:cNvSpPr/>
            <p:nvPr/>
          </p:nvSpPr>
          <p:spPr>
            <a:xfrm>
              <a:off x="250920" y="4287600"/>
              <a:ext cx="8664120" cy="0"/>
            </a:xfrm>
            <a:prstGeom prst="line">
              <a:avLst/>
            </a:prstGeom>
            <a:ln w="50760">
              <a:solidFill>
                <a:srgbClr val="ff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7160" y="4195800"/>
              <a:ext cx="749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mory bound: sto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n/2 qubit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595440" y="1052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35640" y="102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9640" y="6165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est player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5950080"/>
            <a:ext cx="576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6165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t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203640" y="3139560"/>
            <a:ext cx="2016000" cy="1800"/>
          </a:xfrm>
          <a:prstGeom prst="line">
            <a:avLst/>
          </a:prstGeom>
          <a:ln cap="rnd" w="1144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3606840" y="2492280"/>
            <a:ext cx="647640" cy="460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324000" y="1557360"/>
            <a:ext cx="1981080" cy="8413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2522880" y="1379880"/>
            <a:ext cx="713520" cy="713880"/>
            <a:chOff x="2522880" y="1379880"/>
            <a:chExt cx="713520" cy="713880"/>
          </a:xfrm>
        </p:grpSpPr>
        <p:sp>
          <p:nvSpPr>
            <p:cNvPr id="290" name=""/>
            <p:cNvSpPr/>
            <p:nvPr/>
          </p:nvSpPr>
          <p:spPr>
            <a:xfrm rot="2700000">
              <a:off x="2627280" y="1484280"/>
              <a:ext cx="50472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718720" y="1574640"/>
              <a:ext cx="322920" cy="32508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2717280" y="1575720"/>
              <a:ext cx="325080" cy="32364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56000" y="20350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10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2700000">
            <a:off x="231156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403000" y="3375000"/>
            <a:ext cx="323280" cy="32544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700000">
            <a:off x="288720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97756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2700000">
            <a:off x="3463920" y="3284640"/>
            <a:ext cx="504720" cy="50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3553920" y="3376440"/>
            <a:ext cx="325800" cy="32292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2700000">
            <a:off x="4038120" y="3284640"/>
            <a:ext cx="504720" cy="505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129920" y="3374640"/>
            <a:ext cx="323640" cy="325800"/>
          </a:xfrm>
          <a:prstGeom prst="line">
            <a:avLst/>
          </a:prstGeom>
          <a:ln w="44280">
            <a:solidFill>
              <a:srgbClr val="0033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88000" y="3500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596360" y="1484280"/>
            <a:ext cx="504720" cy="504720"/>
            <a:chOff x="7596360" y="1484280"/>
            <a:chExt cx="504720" cy="504720"/>
          </a:xfrm>
        </p:grpSpPr>
        <p:sp>
          <p:nvSpPr>
            <p:cNvPr id="304" name=""/>
            <p:cNvSpPr/>
            <p:nvPr/>
          </p:nvSpPr>
          <p:spPr>
            <a:xfrm>
              <a:off x="7596360" y="1484280"/>
              <a:ext cx="50472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7848720" y="150768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647120" y="1736280"/>
              <a:ext cx="40320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508720" y="3211200"/>
            <a:ext cx="865080" cy="865440"/>
            <a:chOff x="5508720" y="3211200"/>
            <a:chExt cx="865080" cy="865440"/>
          </a:xfrm>
        </p:grpSpPr>
        <p:sp>
          <p:nvSpPr>
            <p:cNvPr id="308" name=""/>
            <p:cNvSpPr/>
            <p:nvPr/>
          </p:nvSpPr>
          <p:spPr>
            <a:xfrm>
              <a:off x="5653080" y="3355920"/>
              <a:ext cx="575640" cy="57636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08720" y="35719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5940360" y="3211200"/>
              <a:ext cx="215640" cy="28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24360" y="3571920"/>
              <a:ext cx="504360" cy="5047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976720" y="3595320"/>
              <a:ext cx="1440" cy="4590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775120" y="3823920"/>
              <a:ext cx="402840" cy="1800"/>
            </a:xfrm>
            <a:prstGeom prst="line">
              <a:avLst/>
            </a:prstGeom>
            <a:ln w="44280">
              <a:solidFill>
                <a:srgbClr val="003399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424480" y="4900680"/>
            <a:ext cx="2819520" cy="760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5148360" y="4797360"/>
            <a:ext cx="3959280" cy="7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B126-2D19-43C6-9052-874A723A6595}" type="slidenum">
              <a:t>9</a:t>
            </a:fld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8:29Z</dcterms:created>
  <dc:creator>Christian Schaffner</dc:creator>
  <dc:description/>
  <dc:language>en-US</dc:language>
  <cp:lastModifiedBy>Christian Schaffner</cp:lastModifiedBy>
  <dcterms:modified xsi:type="dcterms:W3CDTF">2006-02-12T21:21:43Z</dcterms:modified>
  <cp:revision>146</cp:revision>
  <dc:subject>Diplomarbeitsvortrag</dc:subject>
  <dc:title>Secret-key agreement information-theoretically secure against active adversaries</dc:title>
</cp:coreProperties>
</file>