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4825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28640"/>
            <a:ext cx="8915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546720"/>
            <a:ext cx="8915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28640"/>
            <a:ext cx="4350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628640"/>
            <a:ext cx="4350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546720"/>
            <a:ext cx="4350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546720"/>
            <a:ext cx="4350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28640"/>
            <a:ext cx="28706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628640"/>
            <a:ext cx="28706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1628640"/>
            <a:ext cx="28706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546720"/>
            <a:ext cx="28706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546720"/>
            <a:ext cx="28706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546720"/>
            <a:ext cx="28706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1628640"/>
            <a:ext cx="891540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28640"/>
            <a:ext cx="8915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1628640"/>
            <a:ext cx="4350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1628640"/>
            <a:ext cx="4350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28640"/>
            <a:ext cx="4350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28640"/>
            <a:ext cx="4350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546720"/>
            <a:ext cx="4350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28640"/>
            <a:ext cx="4350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28640"/>
            <a:ext cx="4350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546720"/>
            <a:ext cx="4350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28640"/>
            <a:ext cx="4350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628640"/>
            <a:ext cx="43506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546720"/>
            <a:ext cx="891540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28640"/>
            <a:ext cx="8915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68160" y="5904000"/>
            <a:ext cx="352908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a-DK" sz="1200" spc="-1" strike="noStrike">
                <a:solidFill>
                  <a:srgbClr val="000000"/>
                </a:solidFill>
                <a:latin typeface="Futura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Futura Medium"/>
              </a:rPr>
              <a:t>A A R H U S   U N I V E R S I T E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Futura Medium"/>
              </a:rPr>
              <a:t>DAIMI – Department of Compute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Futura Medium"/>
              </a:rPr>
              <a:t>BRICS – Basic Research in Compute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671480" y="6189840"/>
            <a:ext cx="7564680" cy="25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86400" y="309096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248520" y="6273720"/>
            <a:ext cx="307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Futura Medium"/>
              </a:rPr>
              <a:t>Christian Schaffner, Ph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Futura Medium"/>
              </a:rPr>
              <a:t>NF-årsfe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50880" y="5867280"/>
            <a:ext cx="77328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5.wmf"/><Relationship Id="rId9" Type="http://schemas.openxmlformats.org/officeDocument/2006/relationships/image" Target="../media/image4.wmf"/><Relationship Id="rId10" Type="http://schemas.openxmlformats.org/officeDocument/2006/relationships/image" Target="../media/image5.wmf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66720" y="189000"/>
            <a:ext cx="8534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Verdana"/>
              </a:rPr>
              <a:t>Quantum Bi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9240" y="2708280"/>
            <a:ext cx="8064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hristian Schaff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AIMI – Department of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BRICS – Basic Research in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-årsf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June 3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0520" y="3429000"/>
            <a:ext cx="2303280" cy="0"/>
          </a:xfrm>
          <a:prstGeom prst="line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75080" y="285264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96720" y="1819440"/>
            <a:ext cx="1171440" cy="1756440"/>
            <a:chOff x="396720" y="1819440"/>
            <a:chExt cx="1171440" cy="175644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396720" y="1819440"/>
              <a:ext cx="1079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39640" y="311616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8481960" y="1793880"/>
            <a:ext cx="1120680" cy="1853640"/>
            <a:chOff x="8481960" y="1793880"/>
            <a:chExt cx="1120680" cy="185364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848196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857376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961240" y="1052640"/>
            <a:ext cx="1511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ob‘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1960" y="2133720"/>
            <a:ext cx="2303640" cy="0"/>
          </a:xfrm>
          <a:prstGeom prst="line">
            <a:avLst/>
          </a:prstGeom>
          <a:ln w="8892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0520" y="1557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quantum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1800" y="3860640"/>
            <a:ext cx="63374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hi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est Alice nee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 quantum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hea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/2 </a:t>
            </a:r>
            <a:r>
              <a:rPr b="1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49240" y="1989000"/>
            <a:ext cx="287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96880" y="2276640"/>
            <a:ext cx="1944720" cy="1511280"/>
          </a:xfrm>
          <a:prstGeom prst="wedgeRoundRectCallout">
            <a:avLst>
              <a:gd name="adj1" fmla="val -74407"/>
              <a:gd name="adj2" fmla="val -6418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uant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o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96880" y="148428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qbits in bas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68520" y="2276640"/>
            <a:ext cx="1944720" cy="1081080"/>
          </a:xfrm>
          <a:prstGeom prst="wedgeRoundRectCallout">
            <a:avLst>
              <a:gd name="adj1" fmla="val -76611"/>
              <a:gd name="adj2" fmla="val -67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memo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21240" y="3645000"/>
            <a:ext cx="5186160" cy="103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hea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2 </a:t>
            </a:r>
            <a:r>
              <a:rPr b="1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o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232160" y="4723920"/>
            <a:ext cx="720720" cy="576360"/>
          </a:xfrm>
          <a:prstGeom prst="line">
            <a:avLst/>
          </a:prstGeom>
          <a:ln w="889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32880" y="692280"/>
            <a:ext cx="1871640" cy="1079280"/>
          </a:xfrm>
          <a:prstGeom prst="cloudCallout">
            <a:avLst>
              <a:gd name="adj1" fmla="val -73069"/>
              <a:gd name="adj2" fmla="val 33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99"/>
                </a:solidFill>
                <a:latin typeface="Verdana"/>
              </a:rPr>
              <a:t>Quantum Bit-Commitment Scheme</a:t>
            </a:r>
            <a:endParaRPr b="1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8169120" y="981000"/>
            <a:ext cx="110520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1065240" y="1103400"/>
            <a:ext cx="2178000" cy="453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1278000" y="1227240"/>
            <a:ext cx="2028600" cy="4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3399"/>
                </a:solidFill>
                <a:latin typeface="Verdana"/>
              </a:rPr>
              <a:t>The End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976560" y="496800"/>
            <a:ext cx="1725840" cy="1728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867040" y="4005360"/>
            <a:ext cx="2590920" cy="1825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5602320" y="4724280"/>
            <a:ext cx="1871640" cy="12128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3152880" y="260280"/>
            <a:ext cx="2271600" cy="1330560"/>
          </a:xfrm>
          <a:prstGeom prst="rect">
            <a:avLst/>
          </a:prstGeom>
          <a:ln w="0">
            <a:noFill/>
          </a:ln>
        </p:spPr>
      </p:pic>
      <p:grpSp>
        <p:nvGrpSpPr>
          <p:cNvPr id="226" name=""/>
          <p:cNvGrpSpPr/>
          <p:nvPr/>
        </p:nvGrpSpPr>
        <p:grpSpPr>
          <a:xfrm>
            <a:off x="2073240" y="1865160"/>
            <a:ext cx="1171440" cy="1756800"/>
            <a:chOff x="2073240" y="1865160"/>
            <a:chExt cx="1171440" cy="1756800"/>
          </a:xfrm>
        </p:grpSpPr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2073240" y="1865160"/>
              <a:ext cx="107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216160" y="316224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00160" y="1989000"/>
            <a:ext cx="2592360" cy="2303640"/>
            <a:chOff x="200160" y="1989000"/>
            <a:chExt cx="2592360" cy="2303640"/>
          </a:xfrm>
        </p:grpSpPr>
        <p:sp>
          <p:nvSpPr>
            <p:cNvPr id="230" name=""/>
            <p:cNvSpPr/>
            <p:nvPr/>
          </p:nvSpPr>
          <p:spPr>
            <a:xfrm>
              <a:off x="2505240" y="1989000"/>
              <a:ext cx="287280" cy="21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0160" y="2781360"/>
              <a:ext cx="1944720" cy="1511280"/>
            </a:xfrm>
            <a:prstGeom prst="wedgeRoundRectCallout">
              <a:avLst>
                <a:gd name="adj1" fmla="val 76611"/>
                <a:gd name="adj2" fmla="val -96009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ounded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quantum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memory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465960" y="1793880"/>
            <a:ext cx="1120680" cy="1853640"/>
            <a:chOff x="6465960" y="1793880"/>
            <a:chExt cx="1120680" cy="1853640"/>
          </a:xfrm>
        </p:grpSpPr>
        <p:pic>
          <p:nvPicPr>
            <p:cNvPr id="233" name="" descr=""/>
            <p:cNvPicPr/>
            <p:nvPr/>
          </p:nvPicPr>
          <p:blipFill>
            <a:blip r:embed="rId6"/>
            <a:stretch/>
          </p:blipFill>
          <p:spPr>
            <a:xfrm>
              <a:off x="646596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55776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899400" y="1916280"/>
            <a:ext cx="2663640" cy="2376360"/>
            <a:chOff x="6899400" y="1916280"/>
            <a:chExt cx="2663640" cy="2376360"/>
          </a:xfrm>
        </p:grpSpPr>
        <p:sp>
          <p:nvSpPr>
            <p:cNvPr id="236" name=""/>
            <p:cNvSpPr/>
            <p:nvPr/>
          </p:nvSpPr>
          <p:spPr>
            <a:xfrm>
              <a:off x="6899400" y="1916280"/>
              <a:ext cx="28728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18320" y="2781360"/>
              <a:ext cx="1944720" cy="1511280"/>
            </a:xfrm>
            <a:prstGeom prst="wedgeRoundRectCallout">
              <a:avLst>
                <a:gd name="adj1" fmla="val -78898"/>
                <a:gd name="adj2" fmla="val -101157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ounded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quantum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memory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297240" y="333360"/>
            <a:ext cx="2879640" cy="2397240"/>
          </a:xfrm>
          <a:prstGeom prst="cloudCallout">
            <a:avLst>
              <a:gd name="adj1" fmla="val 884"/>
              <a:gd name="adj2" fmla="val 5913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*!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3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8278E-006 6.35838E-007 L -0.16576 6.35838E-007 E">
                                      <p:cBhvr>
                                        <p:cTn id="345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0388E-006 -3.12139E-006 L -0.17105 -3.12139E-006 E">
                                      <p:cBhvr>
                                        <p:cTn id="34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5014E-006 3.64162E-006 L 0.14443 3.64162E-006 E">
                                      <p:cBhvr>
                                        <p:cTn id="349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0917E-008 -1.04046E-006 L 0.14556 -1.04046E-006 E">
                                      <p:cBhvr>
                                        <p:cTn id="351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3399"/>
                </a:solidFill>
                <a:latin typeface="Verdana"/>
              </a:rPr>
              <a:t>Classically Impossibl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065240" y="4005000"/>
            <a:ext cx="1871640" cy="1366920"/>
            <a:chOff x="1065240" y="4005000"/>
            <a:chExt cx="1871640" cy="1366920"/>
          </a:xfrm>
        </p:grpSpPr>
        <p:sp>
          <p:nvSpPr>
            <p:cNvPr id="241" name=""/>
            <p:cNvSpPr/>
            <p:nvPr/>
          </p:nvSpPr>
          <p:spPr>
            <a:xfrm flipV="1">
              <a:off x="1065240" y="4005000"/>
              <a:ext cx="1800360" cy="1366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65240" y="4077000"/>
              <a:ext cx="1871640" cy="1224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3440160" y="3860640"/>
            <a:ext cx="626580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secure, without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lassic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quantum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96720" y="1819440"/>
            <a:ext cx="1171440" cy="1756440"/>
            <a:chOff x="396720" y="1819440"/>
            <a:chExt cx="1171440" cy="175644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396720" y="1819440"/>
              <a:ext cx="1079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39640" y="311616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8481960" y="1793880"/>
            <a:ext cx="1120680" cy="1853640"/>
            <a:chOff x="8481960" y="1793880"/>
            <a:chExt cx="1120680" cy="1853640"/>
          </a:xfrm>
        </p:grpSpPr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848196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857376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961240" y="1052640"/>
            <a:ext cx="1511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ob‘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0520" y="3429000"/>
            <a:ext cx="23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75080" y="285264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800520" y="965160"/>
            <a:ext cx="2305080" cy="1743120"/>
            <a:chOff x="3800520" y="965160"/>
            <a:chExt cx="2305080" cy="1743120"/>
          </a:xfrm>
        </p:grpSpPr>
        <p:sp>
          <p:nvSpPr>
            <p:cNvPr id="254" name=""/>
            <p:cNvSpPr/>
            <p:nvPr/>
          </p:nvSpPr>
          <p:spPr>
            <a:xfrm>
              <a:off x="3801960" y="1557360"/>
              <a:ext cx="230364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32160" y="965160"/>
              <a:ext cx="16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mm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0520" y="1844640"/>
              <a:ext cx="23032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0520" y="2133720"/>
              <a:ext cx="23032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52880" y="2349360"/>
              <a:ext cx="0" cy="35892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065240" y="4005360"/>
            <a:ext cx="187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49240" y="1989000"/>
            <a:ext cx="287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68520" y="2276640"/>
            <a:ext cx="1944720" cy="1081080"/>
          </a:xfrm>
          <a:prstGeom prst="wedgeRoundRectCallout">
            <a:avLst>
              <a:gd name="adj1" fmla="val -76611"/>
              <a:gd name="adj2" fmla="val -67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memo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70240" y="423072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832880" y="692280"/>
            <a:ext cx="1871640" cy="1079280"/>
          </a:xfrm>
          <a:prstGeom prst="cloudCallout">
            <a:avLst>
              <a:gd name="adj1" fmla="val -73069"/>
              <a:gd name="adj2" fmla="val 33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1568160" y="1628280"/>
            <a:ext cx="4824360" cy="17290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6465960" y="3284640"/>
            <a:ext cx="241200" cy="241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8169120" y="981000"/>
            <a:ext cx="1105200" cy="360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1278000" y="1227240"/>
            <a:ext cx="2028600" cy="4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98" dur="indefinite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Verdana"/>
              </a:rPr>
              <a:t>Alice &amp; Bob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44880" y="712800"/>
            <a:ext cx="1725840" cy="17287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2073240" y="1865160"/>
            <a:ext cx="1171440" cy="1756800"/>
            <a:chOff x="2073240" y="1865160"/>
            <a:chExt cx="1171440" cy="175680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073240" y="1865160"/>
              <a:ext cx="10796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16160" y="316224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69240" y="1793880"/>
            <a:ext cx="1120680" cy="1853640"/>
            <a:chOff x="6969240" y="1793880"/>
            <a:chExt cx="1120680" cy="185364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696924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06104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867040" y="4005360"/>
            <a:ext cx="2590920" cy="182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602320" y="4724280"/>
            <a:ext cx="187164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3657600" y="476280"/>
            <a:ext cx="2271600" cy="133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68520" y="333360"/>
            <a:ext cx="2880000" cy="2397240"/>
          </a:xfrm>
          <a:prstGeom prst="cloudCallout">
            <a:avLst>
              <a:gd name="adj1" fmla="val 0"/>
              <a:gd name="adj2" fmla="val 5655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*!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5014E-006 4.50867E-006 L 0.14443 -0.00185 E">
                                      <p:cBhvr>
                                        <p:cTn id="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7483E-007 1.50289E-006 L -0.1874 0.00139 E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74 0.00139 L 0.15422 0.00139 E">
                                      <p:cBhvr>
                                        <p:cTn id="4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443 -0.00185 L -0.16833 -0.00486 E">
                                      <p:cBhvr>
                                        <p:cTn id="4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96720" y="1819440"/>
            <a:ext cx="1171440" cy="1756440"/>
            <a:chOff x="396720" y="1819440"/>
            <a:chExt cx="1171440" cy="175644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96720" y="1819440"/>
              <a:ext cx="1079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39640" y="311616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481960" y="1793880"/>
            <a:ext cx="1120680" cy="1853640"/>
            <a:chOff x="8481960" y="1793880"/>
            <a:chExt cx="1120680" cy="185364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848196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57376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867040" y="4005360"/>
            <a:ext cx="2590920" cy="182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02320" y="4724280"/>
            <a:ext cx="1871640" cy="1212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16160" y="981000"/>
            <a:ext cx="3816360" cy="2952720"/>
          </a:xfrm>
          <a:prstGeom prst="cloudCallout">
            <a:avLst>
              <a:gd name="adj1" fmla="val 208"/>
              <a:gd name="adj2" fmla="val 5317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ff0000"/>
                </a:solidFill>
                <a:latin typeface="Verdana"/>
              </a:rPr>
              <a:t>who gets the hou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6176880" y="1268280"/>
            <a:ext cx="168444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rcRect l="0" t="0" r="76268" b="20378"/>
          <a:stretch/>
        </p:blipFill>
        <p:spPr>
          <a:xfrm>
            <a:off x="488880" y="371628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75226" t="-4599" r="-1596" b="18078"/>
          <a:stretch/>
        </p:blipFill>
        <p:spPr>
          <a:xfrm>
            <a:off x="8121600" y="364500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368520" y="333360"/>
            <a:ext cx="2880000" cy="2397240"/>
          </a:xfrm>
          <a:prstGeom prst="cloudCallout">
            <a:avLst>
              <a:gd name="adj1" fmla="val 0"/>
              <a:gd name="adj2" fmla="val 56555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*!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3399"/>
                </a:solidFill>
                <a:latin typeface="Verdana"/>
              </a:rPr>
              <a:t>Divorce Problems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-27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3399"/>
                </a:solidFill>
                <a:latin typeface="Verdana"/>
              </a:rPr>
              <a:t>Coin-Flipping over the Telephon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68520" y="4443480"/>
            <a:ext cx="2089440" cy="1471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602320" y="5041800"/>
            <a:ext cx="1511280" cy="979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753240" y="2565360"/>
            <a:ext cx="1209600" cy="2016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81240" y="2060640"/>
            <a:ext cx="3241800" cy="2016000"/>
          </a:xfrm>
          <a:prstGeom prst="wedgeRoundRectCallout">
            <a:avLst>
              <a:gd name="adj1" fmla="val 100879"/>
              <a:gd name="adj2" fmla="val -20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ff0000"/>
                </a:solidFill>
                <a:latin typeface="Arial"/>
              </a:rPr>
              <a:t>It’s tail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ff0000"/>
                </a:solidFill>
                <a:latin typeface="Arial"/>
              </a:rPr>
              <a:t>I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ff0000"/>
                </a:solidFill>
                <a:latin typeface="Arial"/>
              </a:rPr>
              <a:t>the hou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rcRect l="0" t="0" r="76268" b="20378"/>
          <a:stretch/>
        </p:blipFill>
        <p:spPr>
          <a:xfrm>
            <a:off x="488880" y="371628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rcRect l="75226" t="-4599" r="-1596" b="18078"/>
          <a:stretch/>
        </p:blipFill>
        <p:spPr>
          <a:xfrm>
            <a:off x="8121600" y="3645000"/>
            <a:ext cx="1440000" cy="13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376880" y="692280"/>
            <a:ext cx="1242720" cy="1125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76520" y="1844640"/>
            <a:ext cx="4968720" cy="0"/>
          </a:xfrm>
          <a:prstGeom prst="line">
            <a:avLst/>
          </a:prstGeom>
          <a:ln w="889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96720" y="1819440"/>
            <a:ext cx="1171440" cy="1756440"/>
            <a:chOff x="396720" y="1819440"/>
            <a:chExt cx="1171440" cy="1756440"/>
          </a:xfrm>
        </p:grpSpPr>
        <p:pic>
          <p:nvPicPr>
            <p:cNvPr id="81" name="" descr=""/>
            <p:cNvPicPr/>
            <p:nvPr/>
          </p:nvPicPr>
          <p:blipFill>
            <a:blip r:embed="rId7"/>
            <a:stretch/>
          </p:blipFill>
          <p:spPr>
            <a:xfrm>
              <a:off x="396720" y="1819440"/>
              <a:ext cx="1079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39640" y="311616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8481960" y="1793880"/>
            <a:ext cx="1120680" cy="1853640"/>
            <a:chOff x="8481960" y="1793880"/>
            <a:chExt cx="1120680" cy="1853640"/>
          </a:xfrm>
        </p:grpSpPr>
        <p:pic>
          <p:nvPicPr>
            <p:cNvPr id="84" name="" descr=""/>
            <p:cNvPicPr/>
            <p:nvPr/>
          </p:nvPicPr>
          <p:blipFill>
            <a:blip r:embed="rId8"/>
            <a:stretch/>
          </p:blipFill>
          <p:spPr>
            <a:xfrm>
              <a:off x="848196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57376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7905600" y="7174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545240" y="479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462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3">
                                  <p:stCondLst>
                                    <p:cond delay="0"/>
                                  </p:stCondLst>
                                  <p:childTnLst>
                                    <p:cmd type="call" cmd="stop">
                                      <p:cBhvr>
                                        <p:cTn id="8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H="1">
            <a:off x="3873600" y="2852640"/>
            <a:ext cx="22320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3399"/>
                </a:solidFill>
                <a:latin typeface="Verdana"/>
              </a:rPr>
              <a:t>A Coin-Flipping Protocol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68520" y="4443480"/>
            <a:ext cx="2089440" cy="147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602320" y="5041800"/>
            <a:ext cx="1511280" cy="979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rcRect l="0" t="0" r="76268" b="20378"/>
          <a:stretch/>
        </p:blipFill>
        <p:spPr>
          <a:xfrm>
            <a:off x="488880" y="371628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75226" t="-4599" r="-1596" b="18078"/>
          <a:stretch/>
        </p:blipFill>
        <p:spPr>
          <a:xfrm>
            <a:off x="8121600" y="364500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961240" y="2276640"/>
            <a:ext cx="720720" cy="7207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73600" y="1844640"/>
            <a:ext cx="23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6720" y="1819440"/>
            <a:ext cx="1171440" cy="1756440"/>
            <a:chOff x="396720" y="1819440"/>
            <a:chExt cx="1171440" cy="1756440"/>
          </a:xfrm>
        </p:grpSpPr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396720" y="1819440"/>
              <a:ext cx="1079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9640" y="311616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8481960" y="1793880"/>
            <a:ext cx="1120680" cy="1853640"/>
            <a:chOff x="8481960" y="1793880"/>
            <a:chExt cx="1120680" cy="1853640"/>
          </a:xfrm>
        </p:grpSpPr>
        <p:pic>
          <p:nvPicPr>
            <p:cNvPr id="100" name="" descr=""/>
            <p:cNvPicPr/>
            <p:nvPr/>
          </p:nvPicPr>
          <p:blipFill>
            <a:blip r:embed="rId6"/>
            <a:stretch/>
          </p:blipFill>
          <p:spPr>
            <a:xfrm>
              <a:off x="848196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857376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1424160" y="1271520"/>
            <a:ext cx="2317680" cy="46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5505480" y="2316240"/>
            <a:ext cx="2255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474840" y="5129280"/>
            <a:ext cx="1238040" cy="363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8193240" y="5083200"/>
            <a:ext cx="1226880" cy="45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84880" y="3141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 rand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3399"/>
                </a:solidFill>
                <a:latin typeface="Verdana"/>
              </a:rPr>
              <a:t>The Solutio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68520" y="4443480"/>
            <a:ext cx="2089440" cy="1471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602320" y="5041800"/>
            <a:ext cx="1511280" cy="979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0" t="0" r="76268" b="20378"/>
          <a:stretch/>
        </p:blipFill>
        <p:spPr>
          <a:xfrm>
            <a:off x="488880" y="371628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75226" t="-4599" r="-1596" b="18078"/>
          <a:stretch/>
        </p:blipFill>
        <p:spPr>
          <a:xfrm>
            <a:off x="8121600" y="364500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73600" y="1844640"/>
            <a:ext cx="23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73600" y="2852640"/>
            <a:ext cx="22320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73600" y="3933720"/>
            <a:ext cx="23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2000160" y="1628640"/>
            <a:ext cx="1511280" cy="1443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2073240" y="3284640"/>
            <a:ext cx="136692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1125360" y="1319040"/>
            <a:ext cx="276480" cy="276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8"/>
          <a:stretch/>
        </p:blipFill>
        <p:spPr>
          <a:xfrm>
            <a:off x="2073240" y="3284640"/>
            <a:ext cx="1366920" cy="6192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96720" y="1819440"/>
            <a:ext cx="1171440" cy="1756440"/>
            <a:chOff x="396720" y="1819440"/>
            <a:chExt cx="1171440" cy="1756440"/>
          </a:xfrm>
        </p:grpSpPr>
        <p:pic>
          <p:nvPicPr>
            <p:cNvPr id="120" name="" descr=""/>
            <p:cNvPicPr/>
            <p:nvPr/>
          </p:nvPicPr>
          <p:blipFill>
            <a:blip r:embed="rId9"/>
            <a:stretch/>
          </p:blipFill>
          <p:spPr>
            <a:xfrm>
              <a:off x="396720" y="1819440"/>
              <a:ext cx="1079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39640" y="311616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481960" y="1793880"/>
            <a:ext cx="1120680" cy="1853640"/>
            <a:chOff x="8481960" y="1793880"/>
            <a:chExt cx="1120680" cy="1853640"/>
          </a:xfrm>
        </p:grpSpPr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848196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57376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474840" y="5129280"/>
            <a:ext cx="1238040" cy="3636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8193240" y="5083200"/>
            <a:ext cx="1226880" cy="45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505480" y="2316240"/>
            <a:ext cx="2255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6969240" y="1117440"/>
            <a:ext cx="241200" cy="241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1136520" y="1231920"/>
            <a:ext cx="2318040" cy="4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9417E-006 7.30805E-007 L 0.00368 -0.1605 E">
                                      <p:cBhvr>
                                        <p:cTn id="11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8309E-006 2.39593E-006 C 0.03219 -0.00624 0.06454 -0.01226 0.09001 0.01318 C 0.11547 0.03862 0.14222 0.12974 0.15263 0.1531 E">
                                      <p:cBhvr>
                                        <p:cTn id="11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2024E-007 2.6827E-007 C 0.02514 -0.04602 0.05045 -0.09158 0.12556 -0.11772 C 0.20051 -0.14408 0.39622 -0.15102 0.45051 -0.15726 E">
                                      <p:cBhvr>
                                        <p:cTn id="129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9417E-006 7.30805E-007 L 0.43962 7.30805E-007 E">
                                      <p:cBhvr>
                                        <p:cTn id="14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4668E-006 3.17919E-006 L -3.34668E-006 0.43445 E">
                                      <p:cBhvr>
                                        <p:cTn id="14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3399"/>
                </a:solidFill>
                <a:latin typeface="Verdana"/>
              </a:rPr>
              <a:t>The Explanation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68520" y="4443480"/>
            <a:ext cx="2089440" cy="14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02320" y="5041800"/>
            <a:ext cx="1511280" cy="979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rcRect l="0" t="0" r="76268" b="20378"/>
          <a:stretch/>
        </p:blipFill>
        <p:spPr>
          <a:xfrm>
            <a:off x="488880" y="371628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rcRect l="75226" t="-4599" r="-1596" b="18078"/>
          <a:stretch/>
        </p:blipFill>
        <p:spPr>
          <a:xfrm>
            <a:off x="8121600" y="3645000"/>
            <a:ext cx="1440000" cy="1368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73600" y="1844640"/>
            <a:ext cx="23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873600" y="2852640"/>
            <a:ext cx="22320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73600" y="3933720"/>
            <a:ext cx="23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6458040" y="546120"/>
            <a:ext cx="1511280" cy="1442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6418440" y="3284640"/>
            <a:ext cx="1366560" cy="6192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96720" y="1819440"/>
            <a:ext cx="1171440" cy="1756440"/>
            <a:chOff x="396720" y="1819440"/>
            <a:chExt cx="1171440" cy="1756440"/>
          </a:xfrm>
        </p:grpSpPr>
        <p:pic>
          <p:nvPicPr>
            <p:cNvPr id="141" name="" descr=""/>
            <p:cNvPicPr/>
            <p:nvPr/>
          </p:nvPicPr>
          <p:blipFill>
            <a:blip r:embed="rId7"/>
            <a:stretch/>
          </p:blipFill>
          <p:spPr>
            <a:xfrm>
              <a:off x="396720" y="1819440"/>
              <a:ext cx="1079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39640" y="311616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8481960" y="1793880"/>
            <a:ext cx="1120680" cy="1853640"/>
            <a:chOff x="8481960" y="1793880"/>
            <a:chExt cx="1120680" cy="1853640"/>
          </a:xfrm>
        </p:grpSpPr>
        <p:pic>
          <p:nvPicPr>
            <p:cNvPr id="144" name="" descr=""/>
            <p:cNvPicPr/>
            <p:nvPr/>
          </p:nvPicPr>
          <p:blipFill>
            <a:blip r:embed="rId8"/>
            <a:stretch/>
          </p:blipFill>
          <p:spPr>
            <a:xfrm>
              <a:off x="848196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857376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832880" y="692280"/>
            <a:ext cx="1871640" cy="1079280"/>
          </a:xfrm>
          <a:prstGeom prst="cloudCallout">
            <a:avLst>
              <a:gd name="adj1" fmla="val -67300"/>
              <a:gd name="adj2" fmla="val 30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352160" y="1628280"/>
            <a:ext cx="5545080" cy="25210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474840" y="5129280"/>
            <a:ext cx="1238040" cy="363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8193240" y="5083200"/>
            <a:ext cx="1226880" cy="457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5505480" y="2316240"/>
            <a:ext cx="2255760" cy="465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1136520" y="1231920"/>
            <a:ext cx="2318040" cy="46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6969240" y="4076640"/>
            <a:ext cx="241200" cy="241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8169120" y="981000"/>
            <a:ext cx="1105200" cy="36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961240" y="1052640"/>
            <a:ext cx="1511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ob‘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3399"/>
                </a:solidFill>
                <a:latin typeface="Verdana"/>
              </a:rPr>
              <a:t>Bit-Commitment Scheme</a:t>
            </a:r>
            <a:endParaRPr b="1" lang="en-US" sz="36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6720" y="1819440"/>
            <a:ext cx="1171440" cy="1756440"/>
            <a:chOff x="396720" y="1819440"/>
            <a:chExt cx="1171440" cy="17564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396720" y="1819440"/>
              <a:ext cx="1079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39640" y="311616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8481960" y="1793880"/>
            <a:ext cx="1120680" cy="1853640"/>
            <a:chOff x="8481960" y="1793880"/>
            <a:chExt cx="1120680" cy="185364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848196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57376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00520" y="965160"/>
            <a:ext cx="2305080" cy="1743120"/>
            <a:chOff x="3800520" y="965160"/>
            <a:chExt cx="2305080" cy="1743120"/>
          </a:xfrm>
        </p:grpSpPr>
        <p:sp>
          <p:nvSpPr>
            <p:cNvPr id="163" name=""/>
            <p:cNvSpPr/>
            <p:nvPr/>
          </p:nvSpPr>
          <p:spPr>
            <a:xfrm>
              <a:off x="3801960" y="1557360"/>
              <a:ext cx="230364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32160" y="965160"/>
              <a:ext cx="162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mmi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00520" y="1844640"/>
              <a:ext cx="23032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00520" y="2133720"/>
              <a:ext cx="2303280" cy="0"/>
            </a:xfrm>
            <a:prstGeom prst="line">
              <a:avLst/>
            </a:prstGeom>
            <a:ln w="889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52880" y="2349360"/>
              <a:ext cx="0" cy="358920"/>
            </a:xfrm>
            <a:prstGeom prst="line">
              <a:avLst/>
            </a:prstGeom>
            <a:ln cap="rnd" w="63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832880" y="692280"/>
            <a:ext cx="1871640" cy="1079280"/>
          </a:xfrm>
          <a:prstGeom prst="cloudCallout">
            <a:avLst>
              <a:gd name="adj1" fmla="val -73069"/>
              <a:gd name="adj2" fmla="val 33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568160" y="1628280"/>
            <a:ext cx="4824360" cy="172908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0520" y="3429000"/>
            <a:ext cx="230328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75080" y="285264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5240" y="4005360"/>
            <a:ext cx="75596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cryptographic prim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8169120" y="981000"/>
            <a:ext cx="1105200" cy="360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465960" y="3284640"/>
            <a:ext cx="241200" cy="241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278000" y="1227240"/>
            <a:ext cx="2028600" cy="46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6" dur="indefinite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6" dur="indefinite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0" dur="indefinite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8" dur="indefinite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0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2" dur="indefinite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4" dur="indefinite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961240" y="1052640"/>
            <a:ext cx="15112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ob‘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99"/>
                </a:solidFill>
                <a:latin typeface="Verdana"/>
              </a:rPr>
              <a:t>Particular Bit-Commitment Scheme</a:t>
            </a:r>
            <a:endParaRPr b="1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3800520" y="3429000"/>
            <a:ext cx="2303280" cy="0"/>
          </a:xfrm>
          <a:prstGeom prst="line">
            <a:avLst/>
          </a:prstGeom>
          <a:ln w="889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75080" y="285264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96880" y="3716280"/>
            <a:ext cx="7777440" cy="21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r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est Alice nee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r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ting Alice need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r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hea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2 </a:t>
            </a:r>
            <a:r>
              <a:rPr b="1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ory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on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r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h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96720" y="1819440"/>
            <a:ext cx="1171440" cy="1756440"/>
            <a:chOff x="396720" y="1819440"/>
            <a:chExt cx="1171440" cy="17564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396720" y="1819440"/>
              <a:ext cx="1079640" cy="12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39640" y="3116160"/>
              <a:ext cx="10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8481960" y="1793880"/>
            <a:ext cx="1120680" cy="1853640"/>
            <a:chOff x="8481960" y="1793880"/>
            <a:chExt cx="1120680" cy="185364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8481960" y="1793880"/>
              <a:ext cx="94752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573760" y="3187800"/>
              <a:ext cx="10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800520" y="1509840"/>
            <a:ext cx="2303280" cy="0"/>
          </a:xfrm>
          <a:prstGeom prst="line">
            <a:avLst/>
          </a:prstGeom>
          <a:ln w="88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0520" y="2492280"/>
            <a:ext cx="2303280" cy="0"/>
          </a:xfrm>
          <a:prstGeom prst="line">
            <a:avLst/>
          </a:prstGeom>
          <a:ln w="889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87800" y="10270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89240" y="19875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9240" y="1989000"/>
            <a:ext cx="287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68520" y="2276640"/>
            <a:ext cx="1944720" cy="1081080"/>
          </a:xfrm>
          <a:prstGeom prst="wedgeRoundRectCallout">
            <a:avLst>
              <a:gd name="adj1" fmla="val -76611"/>
              <a:gd name="adj2" fmla="val -6762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memor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73600" y="148428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ga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89240" y="24922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2880" y="692280"/>
            <a:ext cx="1871640" cy="1079280"/>
          </a:xfrm>
          <a:prstGeom prst="cloudCallout">
            <a:avLst>
              <a:gd name="adj1" fmla="val -73069"/>
              <a:gd name="adj2" fmla="val 33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169120" y="981000"/>
            <a:ext cx="11052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278000" y="1227240"/>
            <a:ext cx="2028600" cy="4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6:02:53Z</dcterms:created>
  <dc:creator>Christian Schaffner</dc:creator>
  <dc:description/>
  <dc:language>en-US</dc:language>
  <cp:lastModifiedBy>Christian Schaffner</cp:lastModifiedBy>
  <dcterms:modified xsi:type="dcterms:W3CDTF">2006-02-12T22:13:22Z</dcterms:modified>
  <cp:revision>70</cp:revision>
  <dc:subject/>
  <dc:title>Slide 1</dc:title>
</cp:coreProperties>
</file>