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4.png" ContentType="image/png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4.wmf" ContentType="image/x-wmf"/>
  <Override PartName="/ppt/media/image14.wmf" ContentType="image/x-wmf"/>
  <Override PartName="/ppt/media/image2.wmf" ContentType="image/x-wmf"/>
  <Override PartName="/ppt/media/image69.wmf" ContentType="image/x-wmf"/>
  <Override PartName="/ppt/media/image32.wmf" ContentType="image/x-wmf"/>
  <Override PartName="/ppt/media/image25.wmf" ContentType="image/x-wmf"/>
  <Override PartName="/ppt/media/image62.wmf" ContentType="image/x-wmf"/>
  <Override PartName="/ppt/media/image73.wmf" ContentType="image/x-wmf"/>
  <Override PartName="/ppt/media/image33.png" ContentType="image/png"/>
  <Override PartName="/ppt/media/image72.wmf" ContentType="image/x-wmf"/>
  <Override PartName="/ppt/media/image71.wmf" ContentType="image/x-wmf"/>
  <Override PartName="/ppt/media/image2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15.wmf" ContentType="image/x-wmf"/>
  <Override PartName="/ppt/media/image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10.png" ContentType="image/png"/>
  <Override PartName="/ppt/media/image5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comments/comment8.xml" ContentType="application/vnd.openxmlformats-officedocument.presentationml.comments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81800" cy="9918700"/>
</p:presentation>
</file>

<file path=ppt/commentAuthors.xml><?xml version="1.0" encoding="utf-8"?>
<p:cmAuthorLst xmlns:p="http://schemas.openxmlformats.org/presentationml/2006/main">
  <p:cmAuthor id="0" name="Christian Schaffner" initials="CS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<Relationship Id="rId50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05-02-24T11:42:51.723000000" idx="2">
    <p:pos x="365" y="2879"/>
    <p:text>h is two-universal and BINARY</p:text>
  </p:cm>
</p:cmLst>
</file>

<file path=ppt/comments/comment8.xml><?xml version="1.0" encoding="utf-8"?>
<p:cmLst xmlns:p="http://schemas.openxmlformats.org/presentationml/2006/main">
  <p:cm authorId="0" dt="2006-01-13T18:16:08.730000000" idx="1">
    <p:pos x="5459" y="1967"/>
    <p:text>Cachin Crepeau Marcil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FB5B-5251-4D31-95AD-4079C306B9B8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24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is two-universal and BINARY, maps to one 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25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is two-universal and BINARY, maps to one 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5722-A9BF-4FFA-B45F-43F0B653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AE19C-55C8-4B57-86A4-ED6DC5FE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C5BF-C9A3-4FB1-A72E-4C6FC3A3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3E77-F085-4A00-9BD1-2A97CB62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5271-98EE-4205-A296-DE99A3F4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284E-7B4B-4543-AC44-785D55BF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25B8-3388-4A2D-BE34-84A7A5DC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9DB1-C515-4EE8-BA6D-4FC67DFD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5C61-F035-4098-937B-700704B9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E90D-C263-4DD7-9517-D621D467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E573-CDC8-409C-A765-CC3D2480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E7135-C13A-4715-A4F6-4F805A5C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F39D-F5CC-4886-BD49-A9C9913C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1915-8187-4CAA-B113-C89259DD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B343-579F-420E-8731-1B7E7F1C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7B1E-8F39-4D2B-8540-9ACD3043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91A9-31B0-4314-8DE1-D5712ED7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30137-3A5E-492C-A5F4-6486510E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286B-B629-4E5C-A360-54C3F6C2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A01A-44FF-4460-AED9-83552D83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06BC-F06E-4A7A-B367-1E4D0ED3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96AC0-0DFB-4C4C-8717-1D10FC5C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7E76-D12D-4B63-8CB9-E408BEC2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4D5B-C369-4E2C-9B0B-D7AD5CC2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90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fld id="{B13DD619-1674-436D-AA35-891F621BF39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 4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1DF7-7533-4DC4-9590-A13919413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<Relationship Id="rId10" Type="http://schemas.openxmlformats.org/officeDocument/2006/relationships/comments" Target="../comments/comment12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9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6.wmf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2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21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1.wmf"/><Relationship Id="rId5" Type="http://schemas.openxmlformats.org/officeDocument/2006/relationships/image" Target="../media/image30.wmf"/><Relationship Id="rId6" Type="http://schemas.openxmlformats.org/officeDocument/2006/relationships/image" Target="../media/image32.wmf"/><Relationship Id="rId7" Type="http://schemas.openxmlformats.org/officeDocument/2006/relationships/image" Target="../media/image29.wmf"/><Relationship Id="rId8" Type="http://schemas.openxmlformats.org/officeDocument/2006/relationships/image" Target="../media/image31.wmf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7.wmf"/><Relationship Id="rId3" Type="http://schemas.openxmlformats.org/officeDocument/2006/relationships/image" Target="../media/image21.wmf"/><Relationship Id="rId4" Type="http://schemas.openxmlformats.org/officeDocument/2006/relationships/image" Target="../media/image30.wmf"/><Relationship Id="rId5" Type="http://schemas.openxmlformats.org/officeDocument/2006/relationships/image" Target="../media/image39.wmf"/><Relationship Id="rId6" Type="http://schemas.openxmlformats.org/officeDocument/2006/relationships/image" Target="../media/image19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image" Target="../media/image29.wmf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6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6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27.wmf"/><Relationship Id="rId7" Type="http://schemas.openxmlformats.org/officeDocument/2006/relationships/image" Target="../media/image30.wmf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6.wmf"/><Relationship Id="rId3" Type="http://schemas.openxmlformats.org/officeDocument/2006/relationships/image" Target="../media/image42.wmf"/><Relationship Id="rId4" Type="http://schemas.openxmlformats.org/officeDocument/2006/relationships/image" Target="../media/image9.wmf"/><Relationship Id="rId5" Type="http://schemas.openxmlformats.org/officeDocument/2006/relationships/image" Target="../media/image46.wmf"/><Relationship Id="rId6" Type="http://schemas.openxmlformats.org/officeDocument/2006/relationships/image" Target="../media/image47.wmf"/><Relationship Id="rId7" Type="http://schemas.openxmlformats.org/officeDocument/2006/relationships/image" Target="../media/image48.wmf"/><Relationship Id="rId8" Type="http://schemas.openxmlformats.org/officeDocument/2006/relationships/image" Target="../media/image49.wmf"/><Relationship Id="rId9" Type="http://schemas.openxmlformats.org/officeDocument/2006/relationships/image" Target="../media/image50.wmf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52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52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58.wmf"/><Relationship Id="rId5" Type="http://schemas.openxmlformats.org/officeDocument/2006/relationships/image" Target="../media/image70.wmf"/><Relationship Id="rId6" Type="http://schemas.openxmlformats.org/officeDocument/2006/relationships/image" Target="../media/image71.wmf"/><Relationship Id="rId7" Type="http://schemas.openxmlformats.org/officeDocument/2006/relationships/image" Target="../media/image72.wmf"/><Relationship Id="rId8" Type="http://schemas.openxmlformats.org/officeDocument/2006/relationships/image" Target="../media/image73.wmf"/><Relationship Id="rId9" Type="http://schemas.openxmlformats.org/officeDocument/2006/relationships/image" Target="../media/image74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Cryptography In the</a:t>
            </a:r>
            <a:br>
              <a:rPr sz="4400"/>
            </a:b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Bounded Quantum-Storage Model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15640" y="3933360"/>
            <a:ext cx="6877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ristian Schaffner, B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ity of </a:t>
            </a:r>
            <a:r>
              <a:rPr b="0" lang="da-DK" sz="2800" spc="-1" strike="noStrike">
                <a:solidFill>
                  <a:srgbClr val="ffffff"/>
                </a:solidFill>
                <a:latin typeface="Arial"/>
              </a:rPr>
              <a:t>Århus, Denm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orkshop on QIP 2006, Pa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uesday, January 17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822400"/>
            <a:ext cx="86104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int work with Ivan Damgård, Serge Fehr and Louis Salv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00280"/>
            <a:ext cx="7993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-Party Crypto Primi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urity Pro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 Probl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349360"/>
            <a:ext cx="792000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CAF98-55E6-417C-BF7D-12FAC900BE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00000" y="954000"/>
            <a:ext cx="71928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Notation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5280" y="1098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260360" y="1027080"/>
            <a:ext cx="0" cy="57456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314360"/>
            <a:ext cx="57600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1771560"/>
            <a:ext cx="719280" cy="72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059480" y="1927440"/>
            <a:ext cx="405360" cy="4075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5520" y="1929600"/>
            <a:ext cx="408600" cy="406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35280" y="1916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419640" y="979560"/>
            <a:ext cx="3824280" cy="1512360"/>
            <a:chOff x="3419640" y="979560"/>
            <a:chExt cx="3824280" cy="1512360"/>
          </a:xfrm>
        </p:grpSpPr>
        <p:sp>
          <p:nvSpPr>
            <p:cNvPr id="218" name=""/>
            <p:cNvSpPr/>
            <p:nvPr/>
          </p:nvSpPr>
          <p:spPr>
            <a:xfrm>
              <a:off x="3421080" y="979560"/>
              <a:ext cx="719280" cy="7203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92360" y="133956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4290840" y="1123560"/>
              <a:ext cx="80028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5578560" y="980640"/>
              <a:ext cx="718920" cy="72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6443640" y="1123560"/>
              <a:ext cx="800280" cy="4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flipV="1">
              <a:off x="5940360" y="1051920"/>
              <a:ext cx="0" cy="5742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19640" y="1771560"/>
              <a:ext cx="718920" cy="720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578760" y="1927080"/>
              <a:ext cx="405360" cy="407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80000" y="1771560"/>
              <a:ext cx="719280" cy="720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35520" y="1929240"/>
              <a:ext cx="408240" cy="406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4322880" y="1928520"/>
              <a:ext cx="72396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6475320" y="1928520"/>
              <a:ext cx="723960" cy="45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 flipV="1">
            <a:off x="1265400" y="3068640"/>
            <a:ext cx="0" cy="57456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32360" y="2852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rob. ½ yields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419640" y="2995200"/>
            <a:ext cx="865080" cy="968400"/>
            <a:chOff x="3419640" y="2995200"/>
            <a:chExt cx="865080" cy="968400"/>
          </a:xfrm>
        </p:grpSpPr>
        <p:sp>
          <p:nvSpPr>
            <p:cNvPr id="233" name=""/>
            <p:cNvSpPr/>
            <p:nvPr/>
          </p:nvSpPr>
          <p:spPr>
            <a:xfrm>
              <a:off x="3564000" y="313992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19640" y="335592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51280" y="2995200"/>
              <a:ext cx="21528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526920" y="3250080"/>
              <a:ext cx="713520" cy="713520"/>
              <a:chOff x="3526920" y="3250080"/>
              <a:chExt cx="713520" cy="713520"/>
            </a:xfrm>
          </p:grpSpPr>
          <p:sp>
            <p:nvSpPr>
              <p:cNvPr id="237" name=""/>
              <p:cNvSpPr/>
              <p:nvPr/>
            </p:nvSpPr>
            <p:spPr>
              <a:xfrm rot="2700000">
                <a:off x="3631320" y="3354480"/>
                <a:ext cx="504720" cy="504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3723480" y="3445200"/>
                <a:ext cx="322560" cy="3247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3722040" y="3445920"/>
                <a:ext cx="32508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395280" y="2492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956720" y="2708280"/>
            <a:ext cx="718920" cy="720720"/>
            <a:chOff x="7956720" y="2708280"/>
            <a:chExt cx="718920" cy="720720"/>
          </a:xfrm>
        </p:grpSpPr>
        <p:sp>
          <p:nvSpPr>
            <p:cNvPr id="242" name=""/>
            <p:cNvSpPr/>
            <p:nvPr/>
          </p:nvSpPr>
          <p:spPr>
            <a:xfrm>
              <a:off x="7956720" y="2708280"/>
              <a:ext cx="71892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8115480" y="2863800"/>
              <a:ext cx="405000" cy="407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956720" y="3500280"/>
            <a:ext cx="718920" cy="720720"/>
            <a:chOff x="7956720" y="3500280"/>
            <a:chExt cx="718920" cy="720720"/>
          </a:xfrm>
        </p:grpSpPr>
        <p:sp>
          <p:nvSpPr>
            <p:cNvPr id="245" name=""/>
            <p:cNvSpPr/>
            <p:nvPr/>
          </p:nvSpPr>
          <p:spPr>
            <a:xfrm>
              <a:off x="7956720" y="3500280"/>
              <a:ext cx="71892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11880" y="3657960"/>
              <a:ext cx="408240" cy="406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828720" y="3068640"/>
            <a:ext cx="718920" cy="720720"/>
            <a:chOff x="828720" y="3068640"/>
            <a:chExt cx="718920" cy="720720"/>
          </a:xfrm>
        </p:grpSpPr>
        <p:sp>
          <p:nvSpPr>
            <p:cNvPr id="248" name=""/>
            <p:cNvSpPr/>
            <p:nvPr/>
          </p:nvSpPr>
          <p:spPr>
            <a:xfrm>
              <a:off x="828720" y="3068640"/>
              <a:ext cx="718920" cy="72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190520" y="313992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419640" y="2922480"/>
            <a:ext cx="865080" cy="1008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618920" y="3427560"/>
            <a:ext cx="180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284720" y="3427560"/>
            <a:ext cx="5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32360" y="35719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rob. ½ yields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66920" y="4940280"/>
            <a:ext cx="865080" cy="865080"/>
            <a:chOff x="2266920" y="4940280"/>
            <a:chExt cx="865080" cy="865080"/>
          </a:xfrm>
        </p:grpSpPr>
        <p:sp>
          <p:nvSpPr>
            <p:cNvPr id="255" name=""/>
            <p:cNvSpPr/>
            <p:nvPr/>
          </p:nvSpPr>
          <p:spPr>
            <a:xfrm>
              <a:off x="2411280" y="5084640"/>
              <a:ext cx="57636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66920" y="5300640"/>
              <a:ext cx="86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698560" y="49402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2560" y="5300640"/>
              <a:ext cx="50508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2734560" y="532440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533320" y="5553000"/>
              <a:ext cx="4032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265480" y="4869000"/>
            <a:ext cx="865080" cy="1008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780000" y="5013360"/>
            <a:ext cx="71892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537372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131640" y="5373720"/>
            <a:ext cx="574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618920" y="6237360"/>
            <a:ext cx="2087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80000" y="5877000"/>
            <a:ext cx="71892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623736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3640" y="436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. ½ :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64000" y="5013360"/>
            <a:ext cx="71928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726160" y="508428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64000" y="5877000"/>
            <a:ext cx="71928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726160" y="594792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75280" y="436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. ½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0" y="5734080"/>
            <a:ext cx="4032360" cy="1040040"/>
            <a:chOff x="4572000" y="5734080"/>
            <a:chExt cx="4032360" cy="1040040"/>
          </a:xfrm>
        </p:grpSpPr>
        <p:grpSp>
          <p:nvGrpSpPr>
            <p:cNvPr id="275" name=""/>
            <p:cNvGrpSpPr/>
            <p:nvPr/>
          </p:nvGrpSpPr>
          <p:grpSpPr>
            <a:xfrm>
              <a:off x="5291280" y="5806800"/>
              <a:ext cx="865080" cy="967320"/>
              <a:chOff x="5291280" y="5806800"/>
              <a:chExt cx="865080" cy="967320"/>
            </a:xfrm>
          </p:grpSpPr>
          <p:sp>
            <p:nvSpPr>
              <p:cNvPr id="276" name=""/>
              <p:cNvSpPr/>
              <p:nvPr/>
            </p:nvSpPr>
            <p:spPr>
              <a:xfrm>
                <a:off x="5435640" y="5950800"/>
                <a:ext cx="57564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91280" y="6166800"/>
                <a:ext cx="86508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5722920" y="5806800"/>
                <a:ext cx="215280" cy="288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5398920" y="6060960"/>
                <a:ext cx="713520" cy="713160"/>
                <a:chOff x="5398920" y="6060960"/>
                <a:chExt cx="713520" cy="713160"/>
              </a:xfrm>
            </p:grpSpPr>
            <p:sp>
              <p:nvSpPr>
                <p:cNvPr id="280" name=""/>
                <p:cNvSpPr/>
                <p:nvPr/>
              </p:nvSpPr>
              <p:spPr>
                <a:xfrm rot="2700000">
                  <a:off x="5503320" y="6165360"/>
                  <a:ext cx="504360" cy="5043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5594760" y="6255360"/>
                  <a:ext cx="322920" cy="32436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flipV="1">
                  <a:off x="5593680" y="6256080"/>
                  <a:ext cx="324720" cy="32328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"/>
            <p:cNvSpPr/>
            <p:nvPr/>
          </p:nvSpPr>
          <p:spPr>
            <a:xfrm>
              <a:off x="5291280" y="5734080"/>
              <a:ext cx="865080" cy="100800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572000" y="623880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156000" y="6238800"/>
              <a:ext cx="57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04000" y="580680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b. ½ : 0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b. ½ :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H="1" flipV="1">
            <a:off x="1618920" y="5372280"/>
            <a:ext cx="6476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95280" y="4411800"/>
            <a:ext cx="3816360" cy="2330280"/>
            <a:chOff x="395280" y="4411800"/>
            <a:chExt cx="3816360" cy="2330280"/>
          </a:xfrm>
        </p:grpSpPr>
        <p:sp>
          <p:nvSpPr>
            <p:cNvPr id="289" name=""/>
            <p:cNvSpPr/>
            <p:nvPr/>
          </p:nvSpPr>
          <p:spPr>
            <a:xfrm>
              <a:off x="682560" y="4869000"/>
              <a:ext cx="1008000" cy="1873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6920" y="5877000"/>
              <a:ext cx="719280" cy="72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187280" y="595008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98560" y="623736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983160" y="6032520"/>
              <a:ext cx="405000" cy="407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79200" y="6035040"/>
              <a:ext cx="408600" cy="406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6920" y="5013360"/>
              <a:ext cx="719280" cy="720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187280" y="508644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98560" y="537372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983160" y="5169240"/>
              <a:ext cx="405360" cy="407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79200" y="5171400"/>
              <a:ext cx="408600" cy="406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5280" y="441180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PR pairs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87280" y="5661000"/>
              <a:ext cx="0" cy="289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06AA-E0C9-49F7-AAE1-243485309AC5}" type="slidenum">
              <a:t>11</a:t>
            </a:fld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O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32000" y="515772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456000" y="464832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22280" y="478944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5424480" y="4876920"/>
            <a:ext cx="2819520" cy="7603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1905120" cy="39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5435640" y="206064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250920" y="4195800"/>
            <a:ext cx="8664120" cy="459720"/>
            <a:chOff x="250920" y="4195800"/>
            <a:chExt cx="8664120" cy="459720"/>
          </a:xfrm>
        </p:grpSpPr>
        <p:sp>
          <p:nvSpPr>
            <p:cNvPr id="310" name=""/>
            <p:cNvSpPr/>
            <p:nvPr/>
          </p:nvSpPr>
          <p:spPr>
            <a:xfrm>
              <a:off x="250920" y="428760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97160" y="419580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9640" y="6165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honest p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6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2522880" y="1379880"/>
            <a:ext cx="713520" cy="713880"/>
            <a:chOff x="2522880" y="1379880"/>
            <a:chExt cx="713520" cy="713880"/>
          </a:xfrm>
        </p:grpSpPr>
        <p:sp>
          <p:nvSpPr>
            <p:cNvPr id="319" name=""/>
            <p:cNvSpPr/>
            <p:nvPr/>
          </p:nvSpPr>
          <p:spPr>
            <a:xfrm rot="2700000">
              <a:off x="262728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71872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271728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556000" y="2035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207160" y="3180240"/>
            <a:ext cx="2440440" cy="713880"/>
            <a:chOff x="2207160" y="3180240"/>
            <a:chExt cx="2440440" cy="713880"/>
          </a:xfrm>
        </p:grpSpPr>
        <p:sp>
          <p:nvSpPr>
            <p:cNvPr id="324" name=""/>
            <p:cNvSpPr/>
            <p:nvPr/>
          </p:nvSpPr>
          <p:spPr>
            <a:xfrm rot="2700000">
              <a:off x="2311560" y="3284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403000" y="337500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700000">
              <a:off x="2887200" y="328464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2977560" y="337644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700000">
              <a:off x="3463920" y="3284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3553920" y="337644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2700000">
              <a:off x="4038120" y="328464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129920" y="3374640"/>
              <a:ext cx="32364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420320" y="1379880"/>
            <a:ext cx="713520" cy="713880"/>
            <a:chOff x="7420320" y="1379880"/>
            <a:chExt cx="713520" cy="713880"/>
          </a:xfrm>
        </p:grpSpPr>
        <p:sp>
          <p:nvSpPr>
            <p:cNvPr id="333" name=""/>
            <p:cNvSpPr/>
            <p:nvPr/>
          </p:nvSpPr>
          <p:spPr>
            <a:xfrm rot="2700000">
              <a:off x="752472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61616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761472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58800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5508720" y="3212640"/>
            <a:ext cx="865080" cy="968400"/>
            <a:chOff x="5508720" y="3212640"/>
            <a:chExt cx="865080" cy="968400"/>
          </a:xfrm>
        </p:grpSpPr>
        <p:sp>
          <p:nvSpPr>
            <p:cNvPr id="338" name=""/>
            <p:cNvSpPr/>
            <p:nvPr/>
          </p:nvSpPr>
          <p:spPr>
            <a:xfrm>
              <a:off x="5653080" y="335736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08720" y="357336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940360" y="3212640"/>
              <a:ext cx="21528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616000" y="3467520"/>
              <a:ext cx="713520" cy="713520"/>
              <a:chOff x="5616000" y="3467520"/>
              <a:chExt cx="713520" cy="713520"/>
            </a:xfrm>
          </p:grpSpPr>
          <p:sp>
            <p:nvSpPr>
              <p:cNvPr id="342" name=""/>
              <p:cNvSpPr/>
              <p:nvPr/>
            </p:nvSpPr>
            <p:spPr>
              <a:xfrm rot="2700000">
                <a:off x="5720400" y="3571920"/>
                <a:ext cx="504720" cy="504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812560" y="3662640"/>
                <a:ext cx="322560" cy="3247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5811120" y="3663360"/>
                <a:ext cx="32508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5" name="" descr=""/>
          <p:cNvPicPr/>
          <p:nvPr/>
        </p:nvPicPr>
        <p:blipFill>
          <a:blip r:embed="rId8"/>
          <a:stretch/>
        </p:blipFill>
        <p:spPr>
          <a:xfrm>
            <a:off x="1573200" y="1125360"/>
            <a:ext cx="1486080" cy="379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50920" y="371628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Wiesner70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0E841-FB79-4C2A-A0D4-84B6C5D81AAE}" type="slidenum">
              <a:t>12</a:t>
            </a:fld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OT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843280" y="5950080"/>
            <a:ext cx="57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32000" y="515772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456000" y="464832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22280" y="478944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1905120" cy="3920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5435640" y="206064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250920" y="4195800"/>
            <a:ext cx="8664120" cy="459720"/>
            <a:chOff x="250920" y="4195800"/>
            <a:chExt cx="8664120" cy="459720"/>
          </a:xfrm>
        </p:grpSpPr>
        <p:sp>
          <p:nvSpPr>
            <p:cNvPr id="355" name=""/>
            <p:cNvSpPr/>
            <p:nvPr/>
          </p:nvSpPr>
          <p:spPr>
            <a:xfrm>
              <a:off x="250920" y="428760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97160" y="419580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964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est player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04000" y="5950080"/>
            <a:ext cx="57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356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r-privat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522880" y="1379880"/>
            <a:ext cx="713520" cy="713880"/>
            <a:chOff x="2522880" y="1379880"/>
            <a:chExt cx="713520" cy="713880"/>
          </a:xfrm>
        </p:grpSpPr>
        <p:sp>
          <p:nvSpPr>
            <p:cNvPr id="366" name=""/>
            <p:cNvSpPr/>
            <p:nvPr/>
          </p:nvSpPr>
          <p:spPr>
            <a:xfrm rot="2700000">
              <a:off x="262728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71872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271728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2556000" y="2035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rot="2700000">
            <a:off x="231156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403000" y="3375000"/>
            <a:ext cx="323280" cy="325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2700000">
            <a:off x="288720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97756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2700000">
            <a:off x="346392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355392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2700000">
            <a:off x="403812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129920" y="3374640"/>
            <a:ext cx="32364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7596360" y="1484280"/>
            <a:ext cx="504720" cy="504720"/>
            <a:chOff x="7596360" y="1484280"/>
            <a:chExt cx="504720" cy="504720"/>
          </a:xfrm>
        </p:grpSpPr>
        <p:sp>
          <p:nvSpPr>
            <p:cNvPr id="380" name=""/>
            <p:cNvSpPr/>
            <p:nvPr/>
          </p:nvSpPr>
          <p:spPr>
            <a:xfrm>
              <a:off x="7596360" y="148428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7848720" y="150768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647120" y="173628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508720" y="3211200"/>
            <a:ext cx="865080" cy="865440"/>
            <a:chOff x="5508720" y="3211200"/>
            <a:chExt cx="865080" cy="865440"/>
          </a:xfrm>
        </p:grpSpPr>
        <p:sp>
          <p:nvSpPr>
            <p:cNvPr id="384" name=""/>
            <p:cNvSpPr/>
            <p:nvPr/>
          </p:nvSpPr>
          <p:spPr>
            <a:xfrm>
              <a:off x="5653080" y="335592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08720" y="357192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940360" y="3211200"/>
              <a:ext cx="21564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24360" y="3571920"/>
              <a:ext cx="50436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5976720" y="359532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775120" y="3823920"/>
              <a:ext cx="40284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7"/>
          <a:stretch/>
        </p:blipFill>
        <p:spPr>
          <a:xfrm>
            <a:off x="5424480" y="4900680"/>
            <a:ext cx="2819520" cy="7603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8"/>
          <a:stretch/>
        </p:blipFill>
        <p:spPr>
          <a:xfrm>
            <a:off x="5148360" y="4797360"/>
            <a:ext cx="3959280" cy="7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F188-A8FE-42F3-977E-64CFAC406012}" type="slidenum">
              <a:t>13</a:t>
            </a:fld>
          </a:p>
        </p:txBody>
      </p:sp>
    </p:spTree>
  </p:cSld>
  <p:transition spd="med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Sender-privacy against dishonest Bob?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32000" y="515772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456000" y="464832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22280" y="478944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2819160" cy="7603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1905120" cy="392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5435640" y="206064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2556000" y="4195800"/>
            <a:ext cx="6359400" cy="459720"/>
            <a:chOff x="2556000" y="4195800"/>
            <a:chExt cx="6359400" cy="459720"/>
          </a:xfrm>
        </p:grpSpPr>
        <p:sp>
          <p:nvSpPr>
            <p:cNvPr id="400" name=""/>
            <p:cNvSpPr/>
            <p:nvPr/>
          </p:nvSpPr>
          <p:spPr>
            <a:xfrm>
              <a:off x="2556000" y="4287600"/>
              <a:ext cx="635940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97320" y="4195800"/>
              <a:ext cx="549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grpSp>
        <p:nvGrpSpPr>
          <p:cNvPr id="407" name=""/>
          <p:cNvGrpSpPr/>
          <p:nvPr/>
        </p:nvGrpSpPr>
        <p:grpSpPr>
          <a:xfrm>
            <a:off x="2522880" y="1379880"/>
            <a:ext cx="713520" cy="713880"/>
            <a:chOff x="2522880" y="1379880"/>
            <a:chExt cx="713520" cy="713880"/>
          </a:xfrm>
        </p:grpSpPr>
        <p:sp>
          <p:nvSpPr>
            <p:cNvPr id="408" name=""/>
            <p:cNvSpPr/>
            <p:nvPr/>
          </p:nvSpPr>
          <p:spPr>
            <a:xfrm rot="2700000">
              <a:off x="262728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271872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71728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556000" y="2035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2700000">
            <a:off x="231156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2403000" y="3375000"/>
            <a:ext cx="323280" cy="325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2700000">
            <a:off x="288720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297756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2700000">
            <a:off x="346392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55392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2700000">
            <a:off x="403812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129920" y="3374640"/>
            <a:ext cx="32364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0" y="3357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334480" y="2172240"/>
            <a:ext cx="2982600" cy="713880"/>
            <a:chOff x="5334480" y="2172240"/>
            <a:chExt cx="2982600" cy="713880"/>
          </a:xfrm>
        </p:grpSpPr>
        <p:sp>
          <p:nvSpPr>
            <p:cNvPr id="422" name=""/>
            <p:cNvSpPr/>
            <p:nvPr/>
          </p:nvSpPr>
          <p:spPr>
            <a:xfrm rot="2700000">
              <a:off x="5438880" y="2276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530320" y="236700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700000">
              <a:off x="6015240" y="2276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6105600" y="2368080"/>
              <a:ext cx="32544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700000">
              <a:off x="6590880" y="227664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681240" y="236844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2700000">
              <a:off x="7166160" y="2276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7257600" y="236700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740720" y="2324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…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2700000">
            <a:off x="6586560" y="342900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6676560" y="3520080"/>
            <a:ext cx="325800" cy="3236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2700000">
            <a:off x="6012000" y="342900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103440" y="3519000"/>
            <a:ext cx="32292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236000" y="3476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8028000" y="2852280"/>
            <a:ext cx="865080" cy="792720"/>
            <a:chOff x="8028000" y="2852280"/>
            <a:chExt cx="865080" cy="792720"/>
          </a:xfrm>
        </p:grpSpPr>
        <p:sp>
          <p:nvSpPr>
            <p:cNvPr id="439" name=""/>
            <p:cNvSpPr/>
            <p:nvPr/>
          </p:nvSpPr>
          <p:spPr>
            <a:xfrm>
              <a:off x="8172360" y="29973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28000" y="3213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8459640" y="28522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8244000" y="3213000"/>
            <a:ext cx="504720" cy="505080"/>
            <a:chOff x="8244000" y="3213000"/>
            <a:chExt cx="504720" cy="505080"/>
          </a:xfrm>
        </p:grpSpPr>
        <p:sp>
          <p:nvSpPr>
            <p:cNvPr id="443" name=""/>
            <p:cNvSpPr/>
            <p:nvPr/>
          </p:nvSpPr>
          <p:spPr>
            <a:xfrm>
              <a:off x="8244000" y="3213000"/>
              <a:ext cx="504720" cy="505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8496360" y="32364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8294760" y="34650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6" name="" descr=""/>
          <p:cNvPicPr/>
          <p:nvPr/>
        </p:nvPicPr>
        <p:blipFill>
          <a:blip r:embed="rId9"/>
          <a:stretch/>
        </p:blipFill>
        <p:spPr>
          <a:xfrm>
            <a:off x="5148360" y="4797360"/>
            <a:ext cx="3959280" cy="722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7093080" y="1052640"/>
            <a:ext cx="1834920" cy="1079280"/>
          </a:xfrm>
          <a:prstGeom prst="wedgeRoundRectCallout">
            <a:avLst>
              <a:gd name="adj1" fmla="val 777"/>
              <a:gd name="adj2" fmla="val 187351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bounded classical memor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8BB6-6716-4550-83D2-60F752CBF6D8}" type="slidenum">
              <a:t>14</a:t>
            </a:fld>
          </a:p>
        </p:txBody>
      </p:sp>
    </p:spTree>
  </p:cSld>
  <p:transition spd="med">
    <p:fade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395280" y="2205000"/>
            <a:ext cx="2376360" cy="1297080"/>
            <a:chOff x="395280" y="2205000"/>
            <a:chExt cx="2376360" cy="1297080"/>
          </a:xfrm>
        </p:grpSpPr>
        <p:sp>
          <p:nvSpPr>
            <p:cNvPr id="449" name=""/>
            <p:cNvSpPr/>
            <p:nvPr/>
          </p:nvSpPr>
          <p:spPr>
            <a:xfrm>
              <a:off x="39528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47640" y="2205000"/>
              <a:ext cx="64800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2400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7164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Purification</a:t>
            </a:r>
            <a:br>
              <a:rPr sz="3200"/>
            </a:br>
            <a:r>
              <a:rPr b="0" lang="en-US" sz="2400" spc="-1" strike="noStrike">
                <a:solidFill>
                  <a:srgbClr val="e5e5ff"/>
                </a:solidFill>
                <a:latin typeface="Arial"/>
              </a:rPr>
              <a:t>[Ekert91]</a:t>
            </a:r>
            <a:endParaRPr b="1" lang="en-US" sz="2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459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468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3" name="" descr=""/>
          <p:cNvPicPr/>
          <p:nvPr/>
        </p:nvPicPr>
        <p:blipFill>
          <a:blip r:embed="rId6"/>
          <a:stretch/>
        </p:blipFill>
        <p:spPr>
          <a:xfrm>
            <a:off x="349200" y="1557360"/>
            <a:ext cx="1932120" cy="379440"/>
          </a:xfrm>
          <a:prstGeom prst="rect">
            <a:avLst/>
          </a:prstGeom>
          <a:ln w="0">
            <a:noFill/>
          </a:ln>
        </p:spPr>
      </p:pic>
      <p:grpSp>
        <p:nvGrpSpPr>
          <p:cNvPr id="474" name=""/>
          <p:cNvGrpSpPr/>
          <p:nvPr/>
        </p:nvGrpSpPr>
        <p:grpSpPr>
          <a:xfrm>
            <a:off x="362160" y="2173680"/>
            <a:ext cx="2442600" cy="713880"/>
            <a:chOff x="362160" y="2173680"/>
            <a:chExt cx="2442600" cy="713880"/>
          </a:xfrm>
        </p:grpSpPr>
        <p:sp>
          <p:nvSpPr>
            <p:cNvPr id="475" name=""/>
            <p:cNvSpPr/>
            <p:nvPr/>
          </p:nvSpPr>
          <p:spPr>
            <a:xfrm>
              <a:off x="539640" y="249408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362160" y="2173680"/>
              <a:ext cx="713520" cy="713880"/>
              <a:chOff x="362160" y="2173680"/>
              <a:chExt cx="713520" cy="713880"/>
            </a:xfrm>
          </p:grpSpPr>
          <p:sp>
            <p:nvSpPr>
              <p:cNvPr id="477" name=""/>
              <p:cNvSpPr/>
              <p:nvPr/>
            </p:nvSpPr>
            <p:spPr>
              <a:xfrm rot="2700000">
                <a:off x="46620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5656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55512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flipV="1">
                <a:off x="71856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8996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938520" y="2173680"/>
              <a:ext cx="713520" cy="713880"/>
              <a:chOff x="938520" y="2173680"/>
              <a:chExt cx="713520" cy="713880"/>
            </a:xfrm>
          </p:grpSpPr>
          <p:sp>
            <p:nvSpPr>
              <p:cNvPr id="483" name=""/>
              <p:cNvSpPr/>
              <p:nvPr/>
            </p:nvSpPr>
            <p:spPr>
              <a:xfrm rot="2700000">
                <a:off x="104292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113292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flipV="1">
                <a:off x="113148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129492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106632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1514880" y="2173680"/>
              <a:ext cx="713520" cy="713880"/>
              <a:chOff x="1514880" y="2173680"/>
              <a:chExt cx="713520" cy="713880"/>
            </a:xfrm>
          </p:grpSpPr>
          <p:sp>
            <p:nvSpPr>
              <p:cNvPr id="489" name=""/>
              <p:cNvSpPr/>
              <p:nvPr/>
            </p:nvSpPr>
            <p:spPr>
              <a:xfrm rot="2700000">
                <a:off x="161928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170928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170784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187128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164268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2091240" y="2173680"/>
              <a:ext cx="713520" cy="713880"/>
              <a:chOff x="2091240" y="2173680"/>
              <a:chExt cx="713520" cy="713880"/>
            </a:xfrm>
          </p:grpSpPr>
          <p:sp>
            <p:nvSpPr>
              <p:cNvPr id="495" name=""/>
              <p:cNvSpPr/>
              <p:nvPr/>
            </p:nvSpPr>
            <p:spPr>
              <a:xfrm rot="2700000">
                <a:off x="219564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228564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 flipV="1">
                <a:off x="228420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244764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221904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0" name=""/>
          <p:cNvGrpSpPr/>
          <p:nvPr/>
        </p:nvGrpSpPr>
        <p:grpSpPr>
          <a:xfrm>
            <a:off x="363960" y="2821320"/>
            <a:ext cx="2440800" cy="713880"/>
            <a:chOff x="363960" y="2821320"/>
            <a:chExt cx="2440800" cy="713880"/>
          </a:xfrm>
        </p:grpSpPr>
        <p:grpSp>
          <p:nvGrpSpPr>
            <p:cNvPr id="501" name=""/>
            <p:cNvGrpSpPr/>
            <p:nvPr/>
          </p:nvGrpSpPr>
          <p:grpSpPr>
            <a:xfrm>
              <a:off x="363960" y="2821320"/>
              <a:ext cx="712080" cy="711720"/>
              <a:chOff x="363960" y="2821320"/>
              <a:chExt cx="712080" cy="711720"/>
            </a:xfrm>
          </p:grpSpPr>
          <p:sp>
            <p:nvSpPr>
              <p:cNvPr id="502" name=""/>
              <p:cNvSpPr/>
              <p:nvPr/>
            </p:nvSpPr>
            <p:spPr>
              <a:xfrm rot="2700000">
                <a:off x="468000" y="292536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557640" y="301428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556560" y="301464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flipV="1">
                <a:off x="720000" y="294912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491400" y="317736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938520" y="2821320"/>
              <a:ext cx="713520" cy="713880"/>
              <a:chOff x="938520" y="2821320"/>
              <a:chExt cx="713520" cy="713880"/>
            </a:xfrm>
          </p:grpSpPr>
          <p:sp>
            <p:nvSpPr>
              <p:cNvPr id="508" name=""/>
              <p:cNvSpPr/>
              <p:nvPr/>
            </p:nvSpPr>
            <p:spPr>
              <a:xfrm rot="2700000">
                <a:off x="104292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13292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 flipV="1">
                <a:off x="113148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129492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106632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514880" y="2821320"/>
              <a:ext cx="713520" cy="713880"/>
              <a:chOff x="1514880" y="2821320"/>
              <a:chExt cx="713520" cy="713880"/>
            </a:xfrm>
          </p:grpSpPr>
          <p:sp>
            <p:nvSpPr>
              <p:cNvPr id="514" name=""/>
              <p:cNvSpPr/>
              <p:nvPr/>
            </p:nvSpPr>
            <p:spPr>
              <a:xfrm rot="2700000">
                <a:off x="161928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170928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170784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187128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164268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2091240" y="2821320"/>
              <a:ext cx="713520" cy="713880"/>
              <a:chOff x="2091240" y="2821320"/>
              <a:chExt cx="713520" cy="713880"/>
            </a:xfrm>
          </p:grpSpPr>
          <p:sp>
            <p:nvSpPr>
              <p:cNvPr id="520" name=""/>
              <p:cNvSpPr/>
              <p:nvPr/>
            </p:nvSpPr>
            <p:spPr>
              <a:xfrm rot="2700000">
                <a:off x="219564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228564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>
                <a:off x="228420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>
                <a:off x="244764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221904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5331240" y="2100600"/>
            <a:ext cx="713520" cy="713880"/>
            <a:chOff x="5331240" y="2100600"/>
            <a:chExt cx="713520" cy="713880"/>
          </a:xfrm>
        </p:grpSpPr>
        <p:sp>
          <p:nvSpPr>
            <p:cNvPr id="526" name=""/>
            <p:cNvSpPr/>
            <p:nvPr/>
          </p:nvSpPr>
          <p:spPr>
            <a:xfrm rot="2700000">
              <a:off x="5435640" y="2205000"/>
              <a:ext cx="504720" cy="504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525640" y="2293200"/>
              <a:ext cx="32292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5524200" y="2294280"/>
              <a:ext cx="32580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 flipV="1">
              <a:off x="5687640" y="222876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459040" y="2457360"/>
              <a:ext cx="4590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627280" y="5084280"/>
            <a:ext cx="865080" cy="843120"/>
            <a:chOff x="2627280" y="5084280"/>
            <a:chExt cx="865080" cy="843120"/>
          </a:xfrm>
        </p:grpSpPr>
        <p:sp>
          <p:nvSpPr>
            <p:cNvPr id="532" name=""/>
            <p:cNvSpPr/>
            <p:nvPr/>
          </p:nvSpPr>
          <p:spPr>
            <a:xfrm>
              <a:off x="2771640" y="52293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27280" y="5445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058920" y="50842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3095640" y="54684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894040" y="56970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7" name="" descr=""/>
          <p:cNvPicPr/>
          <p:nvPr/>
        </p:nvPicPr>
        <p:blipFill>
          <a:blip r:embed="rId7"/>
          <a:stretch/>
        </p:blipFill>
        <p:spPr>
          <a:xfrm>
            <a:off x="324000" y="2041560"/>
            <a:ext cx="1981080" cy="3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669D-C208-4DDB-9470-7C9F9AEF48D7}" type="slidenum">
              <a:t>15</a:t>
            </a:fld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21698E-006 L 0.01771 0.44737 E">
                                      <p:cBhvr>
                                        <p:cTn id="458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92621E-006 L 0.01771 0.4446 E">
                                      <p:cBhvr>
                                        <p:cTn id="460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0.00024 L 0.5316 -0.01597 E">
                                      <p:cBhvr>
                                        <p:cTn id="474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3257E-006 L -0.0118 0.30928 E">
                                      <p:cBhvr>
                                        <p:cTn id="47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349200" y="4562640"/>
            <a:ext cx="1932120" cy="3790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50920" y="1484280"/>
            <a:ext cx="4825800" cy="2736720"/>
          </a:xfrm>
          <a:prstGeom prst="wedgeRoundRectCallout">
            <a:avLst>
              <a:gd name="adj1" fmla="val -23717"/>
              <a:gd name="adj2" fmla="val 80856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Distribution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grpSp>
        <p:nvGrpSpPr>
          <p:cNvPr id="545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546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5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553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188320" y="2100600"/>
            <a:ext cx="2441520" cy="713880"/>
            <a:chOff x="5188320" y="2100600"/>
            <a:chExt cx="2441520" cy="713880"/>
          </a:xfrm>
        </p:grpSpPr>
        <p:sp>
          <p:nvSpPr>
            <p:cNvPr id="559" name=""/>
            <p:cNvSpPr/>
            <p:nvPr/>
          </p:nvSpPr>
          <p:spPr>
            <a:xfrm>
              <a:off x="5365440" y="242100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5188320" y="2100600"/>
              <a:ext cx="713520" cy="713880"/>
              <a:chOff x="5188320" y="2100600"/>
              <a:chExt cx="713520" cy="713880"/>
            </a:xfrm>
          </p:grpSpPr>
          <p:sp>
            <p:nvSpPr>
              <p:cNvPr id="561" name=""/>
              <p:cNvSpPr/>
              <p:nvPr/>
            </p:nvSpPr>
            <p:spPr>
              <a:xfrm rot="2700000">
                <a:off x="529272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538272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538128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554472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531612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5763600" y="2100600"/>
              <a:ext cx="713520" cy="713520"/>
              <a:chOff x="5763600" y="2100600"/>
              <a:chExt cx="713520" cy="713520"/>
            </a:xfrm>
          </p:grpSpPr>
          <p:sp>
            <p:nvSpPr>
              <p:cNvPr id="567" name=""/>
              <p:cNvSpPr/>
              <p:nvPr/>
            </p:nvSpPr>
            <p:spPr>
              <a:xfrm rot="2700000">
                <a:off x="586800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595836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>
                <a:off x="595656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flipV="1">
                <a:off x="612072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589212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6339960" y="2100600"/>
              <a:ext cx="713520" cy="713520"/>
              <a:chOff x="6339960" y="2100600"/>
              <a:chExt cx="713520" cy="713520"/>
            </a:xfrm>
          </p:grpSpPr>
          <p:sp>
            <p:nvSpPr>
              <p:cNvPr id="573" name=""/>
              <p:cNvSpPr/>
              <p:nvPr/>
            </p:nvSpPr>
            <p:spPr>
              <a:xfrm rot="2700000">
                <a:off x="644436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653472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653292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 flipV="1">
                <a:off x="669708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646848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6916320" y="2100600"/>
              <a:ext cx="713520" cy="713520"/>
              <a:chOff x="6916320" y="2100600"/>
              <a:chExt cx="713520" cy="713520"/>
            </a:xfrm>
          </p:grpSpPr>
          <p:sp>
            <p:nvSpPr>
              <p:cNvPr id="579" name=""/>
              <p:cNvSpPr/>
              <p:nvPr/>
            </p:nvSpPr>
            <p:spPr>
              <a:xfrm rot="2700000">
                <a:off x="702072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711108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 flipV="1">
                <a:off x="710928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 flipV="1">
                <a:off x="727344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704484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290880" y="4908960"/>
            <a:ext cx="2440800" cy="713880"/>
            <a:chOff x="290880" y="4908960"/>
            <a:chExt cx="2440800" cy="713880"/>
          </a:xfrm>
        </p:grpSpPr>
        <p:grpSp>
          <p:nvGrpSpPr>
            <p:cNvPr id="585" name=""/>
            <p:cNvGrpSpPr/>
            <p:nvPr/>
          </p:nvGrpSpPr>
          <p:grpSpPr>
            <a:xfrm>
              <a:off x="290880" y="4908960"/>
              <a:ext cx="712080" cy="711720"/>
              <a:chOff x="290880" y="4908960"/>
              <a:chExt cx="712080" cy="711720"/>
            </a:xfrm>
          </p:grpSpPr>
          <p:sp>
            <p:nvSpPr>
              <p:cNvPr id="586" name=""/>
              <p:cNvSpPr/>
              <p:nvPr/>
            </p:nvSpPr>
            <p:spPr>
              <a:xfrm rot="2700000">
                <a:off x="394920" y="501300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484560" y="510192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 flipV="1">
                <a:off x="483480" y="510228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 flipV="1">
                <a:off x="646920" y="503676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418320" y="526500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865440" y="4908960"/>
              <a:ext cx="713520" cy="713880"/>
              <a:chOff x="865440" y="4908960"/>
              <a:chExt cx="713520" cy="713880"/>
            </a:xfrm>
          </p:grpSpPr>
          <p:sp>
            <p:nvSpPr>
              <p:cNvPr id="592" name=""/>
              <p:cNvSpPr/>
              <p:nvPr/>
            </p:nvSpPr>
            <p:spPr>
              <a:xfrm rot="2700000">
                <a:off x="96984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105984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 flipV="1">
                <a:off x="105840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122184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99324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1441800" y="4908960"/>
              <a:ext cx="713520" cy="713880"/>
              <a:chOff x="1441800" y="4908960"/>
              <a:chExt cx="713520" cy="713880"/>
            </a:xfrm>
          </p:grpSpPr>
          <p:sp>
            <p:nvSpPr>
              <p:cNvPr id="598" name=""/>
              <p:cNvSpPr/>
              <p:nvPr/>
            </p:nvSpPr>
            <p:spPr>
              <a:xfrm rot="2700000">
                <a:off x="154620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63620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 flipV="1">
                <a:off x="163476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179820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156960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018160" y="4908960"/>
              <a:ext cx="713520" cy="713880"/>
              <a:chOff x="2018160" y="4908960"/>
              <a:chExt cx="713520" cy="713880"/>
            </a:xfrm>
          </p:grpSpPr>
          <p:sp>
            <p:nvSpPr>
              <p:cNvPr id="604" name=""/>
              <p:cNvSpPr/>
              <p:nvPr/>
            </p:nvSpPr>
            <p:spPr>
              <a:xfrm rot="2700000">
                <a:off x="212256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21256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 flipV="1">
                <a:off x="221112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 flipV="1">
                <a:off x="237456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214596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09" name=""/>
          <p:cNvGrpSpPr/>
          <p:nvPr/>
        </p:nvGrpSpPr>
        <p:grpSpPr>
          <a:xfrm>
            <a:off x="2627280" y="5084280"/>
            <a:ext cx="865080" cy="843120"/>
            <a:chOff x="2627280" y="5084280"/>
            <a:chExt cx="865080" cy="843120"/>
          </a:xfrm>
        </p:grpSpPr>
        <p:sp>
          <p:nvSpPr>
            <p:cNvPr id="610" name=""/>
            <p:cNvSpPr/>
            <p:nvPr/>
          </p:nvSpPr>
          <p:spPr>
            <a:xfrm>
              <a:off x="2771640" y="52293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27280" y="5445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3058920" y="50842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3095640" y="54684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2894040" y="56970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250920" y="2421000"/>
            <a:ext cx="792000" cy="1008000"/>
            <a:chOff x="250920" y="2421000"/>
            <a:chExt cx="792000" cy="1008000"/>
          </a:xfrm>
        </p:grpSpPr>
        <p:sp>
          <p:nvSpPr>
            <p:cNvPr id="616" name=""/>
            <p:cNvSpPr/>
            <p:nvPr/>
          </p:nvSpPr>
          <p:spPr>
            <a:xfrm>
              <a:off x="89856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2560" y="2708280"/>
              <a:ext cx="28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0920" y="2421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979560" y="2708280"/>
            <a:ext cx="1717560" cy="1512720"/>
            <a:chOff x="979560" y="2708280"/>
            <a:chExt cx="1717560" cy="1512720"/>
          </a:xfrm>
        </p:grpSpPr>
        <p:sp>
          <p:nvSpPr>
            <p:cNvPr id="620" name=""/>
            <p:cNvSpPr/>
            <p:nvPr/>
          </p:nvSpPr>
          <p:spPr>
            <a:xfrm>
              <a:off x="97956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19556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0832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2432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3996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5596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1456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0200" y="270828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547640" y="270828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6220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7964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9564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38560" y="285264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338560" y="3573360"/>
              <a:ext cx="35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68640" y="2708280"/>
            <a:ext cx="1933560" cy="1512720"/>
            <a:chOff x="3068640" y="2708280"/>
            <a:chExt cx="1933560" cy="1512720"/>
          </a:xfrm>
        </p:grpSpPr>
        <p:sp>
          <p:nvSpPr>
            <p:cNvPr id="635" name=""/>
            <p:cNvSpPr/>
            <p:nvPr/>
          </p:nvSpPr>
          <p:spPr>
            <a:xfrm>
              <a:off x="306864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8464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0064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71340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2904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4504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6104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0364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41964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635280" y="2708280"/>
              <a:ext cx="14472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5128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06728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8472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0072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43280" y="2852640"/>
              <a:ext cx="3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43280" y="3573360"/>
              <a:ext cx="35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68360" y="1557000"/>
            <a:ext cx="2232000" cy="2664000"/>
            <a:chOff x="468360" y="1557000"/>
            <a:chExt cx="2232000" cy="2664000"/>
          </a:xfrm>
        </p:grpSpPr>
        <p:sp>
          <p:nvSpPr>
            <p:cNvPr id="652" name=""/>
            <p:cNvSpPr/>
            <p:nvPr/>
          </p:nvSpPr>
          <p:spPr>
            <a:xfrm flipV="1">
              <a:off x="826920" y="1557000"/>
              <a:ext cx="0" cy="18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6920" y="3430440"/>
              <a:ext cx="1873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3560" y="3500280"/>
              <a:ext cx="423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8360" y="155736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1619280" y="1700280"/>
              <a:ext cx="504720" cy="504720"/>
              <a:chOff x="1619280" y="1700280"/>
              <a:chExt cx="504720" cy="504720"/>
            </a:xfrm>
          </p:grpSpPr>
          <p:sp>
            <p:nvSpPr>
              <p:cNvPr id="657" name=""/>
              <p:cNvSpPr/>
              <p:nvPr/>
            </p:nvSpPr>
            <p:spPr>
              <a:xfrm>
                <a:off x="1619280" y="170028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 flipV="1">
                <a:off x="1871640" y="172368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1670040" y="195228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2556000" y="1557000"/>
            <a:ext cx="2449440" cy="1873440"/>
            <a:chOff x="2556000" y="1557000"/>
            <a:chExt cx="2449440" cy="1873440"/>
          </a:xfrm>
        </p:grpSpPr>
        <p:sp>
          <p:nvSpPr>
            <p:cNvPr id="661" name=""/>
            <p:cNvSpPr/>
            <p:nvPr/>
          </p:nvSpPr>
          <p:spPr>
            <a:xfrm flipV="1">
              <a:off x="3132000" y="1557000"/>
              <a:ext cx="0" cy="18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32000" y="3430440"/>
              <a:ext cx="1873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71640" y="1557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987640" y="2708280"/>
              <a:ext cx="28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56000" y="2421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3817800" y="1595880"/>
              <a:ext cx="713880" cy="713880"/>
              <a:chOff x="3817800" y="1595880"/>
              <a:chExt cx="713880" cy="713880"/>
            </a:xfrm>
          </p:grpSpPr>
          <p:sp>
            <p:nvSpPr>
              <p:cNvPr id="667" name=""/>
              <p:cNvSpPr/>
              <p:nvPr/>
            </p:nvSpPr>
            <p:spPr>
              <a:xfrm rot="2700000">
                <a:off x="3922200" y="1700280"/>
                <a:ext cx="504720" cy="5050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4014360" y="1790640"/>
                <a:ext cx="32328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 flipV="1">
                <a:off x="4013280" y="1791720"/>
                <a:ext cx="325440" cy="323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19FC2-5174-4A22-B763-52490702819A}" type="slidenum">
              <a:t>16</a:t>
            </a:fld>
          </a:p>
        </p:txBody>
      </p:sp>
    </p:spTree>
  </p:cSld>
  <p:transition spd="med">
    <p:fad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349200" y="4562640"/>
            <a:ext cx="1932120" cy="3790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250920" y="1484280"/>
            <a:ext cx="4825800" cy="2736720"/>
          </a:xfrm>
          <a:prstGeom prst="wedgeRoundRectCallout">
            <a:avLst>
              <a:gd name="adj1" fmla="val -23717"/>
              <a:gd name="adj2" fmla="val 80856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Example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2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4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grpSp>
        <p:nvGrpSpPr>
          <p:cNvPr id="677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678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5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685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5188320" y="2100600"/>
            <a:ext cx="2441520" cy="713880"/>
            <a:chOff x="5188320" y="2100600"/>
            <a:chExt cx="2441520" cy="713880"/>
          </a:xfrm>
        </p:grpSpPr>
        <p:sp>
          <p:nvSpPr>
            <p:cNvPr id="691" name=""/>
            <p:cNvSpPr/>
            <p:nvPr/>
          </p:nvSpPr>
          <p:spPr>
            <a:xfrm>
              <a:off x="5365440" y="242100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88320" y="2100600"/>
              <a:ext cx="713520" cy="713880"/>
              <a:chOff x="5188320" y="2100600"/>
              <a:chExt cx="713520" cy="713880"/>
            </a:xfrm>
          </p:grpSpPr>
          <p:sp>
            <p:nvSpPr>
              <p:cNvPr id="693" name=""/>
              <p:cNvSpPr/>
              <p:nvPr/>
            </p:nvSpPr>
            <p:spPr>
              <a:xfrm rot="2700000">
                <a:off x="529272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38272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flipV="1">
                <a:off x="538128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 flipV="1">
                <a:off x="554472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531612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5763600" y="2100600"/>
              <a:ext cx="713520" cy="713520"/>
              <a:chOff x="5763600" y="2100600"/>
              <a:chExt cx="713520" cy="713520"/>
            </a:xfrm>
          </p:grpSpPr>
          <p:sp>
            <p:nvSpPr>
              <p:cNvPr id="699" name=""/>
              <p:cNvSpPr/>
              <p:nvPr/>
            </p:nvSpPr>
            <p:spPr>
              <a:xfrm rot="2700000">
                <a:off x="586800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595836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595656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612072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589212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6339960" y="2100600"/>
              <a:ext cx="713520" cy="713520"/>
              <a:chOff x="6339960" y="2100600"/>
              <a:chExt cx="713520" cy="713520"/>
            </a:xfrm>
          </p:grpSpPr>
          <p:sp>
            <p:nvSpPr>
              <p:cNvPr id="705" name=""/>
              <p:cNvSpPr/>
              <p:nvPr/>
            </p:nvSpPr>
            <p:spPr>
              <a:xfrm rot="2700000">
                <a:off x="644436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53472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653292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669708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646848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6916320" y="2100600"/>
              <a:ext cx="713520" cy="713520"/>
              <a:chOff x="6916320" y="2100600"/>
              <a:chExt cx="713520" cy="713520"/>
            </a:xfrm>
          </p:grpSpPr>
          <p:sp>
            <p:nvSpPr>
              <p:cNvPr id="711" name=""/>
              <p:cNvSpPr/>
              <p:nvPr/>
            </p:nvSpPr>
            <p:spPr>
              <a:xfrm rot="2700000">
                <a:off x="702072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711108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710928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>
                <a:off x="727344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704484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6" name=""/>
          <p:cNvGrpSpPr/>
          <p:nvPr/>
        </p:nvGrpSpPr>
        <p:grpSpPr>
          <a:xfrm>
            <a:off x="290880" y="4908960"/>
            <a:ext cx="2440800" cy="713880"/>
            <a:chOff x="290880" y="4908960"/>
            <a:chExt cx="2440800" cy="713880"/>
          </a:xfrm>
        </p:grpSpPr>
        <p:grpSp>
          <p:nvGrpSpPr>
            <p:cNvPr id="717" name=""/>
            <p:cNvGrpSpPr/>
            <p:nvPr/>
          </p:nvGrpSpPr>
          <p:grpSpPr>
            <a:xfrm>
              <a:off x="290880" y="4908960"/>
              <a:ext cx="712080" cy="711720"/>
              <a:chOff x="290880" y="4908960"/>
              <a:chExt cx="712080" cy="711720"/>
            </a:xfrm>
          </p:grpSpPr>
          <p:sp>
            <p:nvSpPr>
              <p:cNvPr id="718" name=""/>
              <p:cNvSpPr/>
              <p:nvPr/>
            </p:nvSpPr>
            <p:spPr>
              <a:xfrm rot="2700000">
                <a:off x="394920" y="501300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484560" y="510192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483480" y="510228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>
                <a:off x="646920" y="503676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418320" y="526500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865440" y="4908960"/>
              <a:ext cx="713520" cy="713880"/>
              <a:chOff x="865440" y="4908960"/>
              <a:chExt cx="713520" cy="713880"/>
            </a:xfrm>
          </p:grpSpPr>
          <p:sp>
            <p:nvSpPr>
              <p:cNvPr id="724" name=""/>
              <p:cNvSpPr/>
              <p:nvPr/>
            </p:nvSpPr>
            <p:spPr>
              <a:xfrm rot="2700000">
                <a:off x="96984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105984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105840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>
                <a:off x="122184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99324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" name=""/>
            <p:cNvGrpSpPr/>
            <p:nvPr/>
          </p:nvGrpSpPr>
          <p:grpSpPr>
            <a:xfrm>
              <a:off x="1441800" y="4908960"/>
              <a:ext cx="713520" cy="713880"/>
              <a:chOff x="1441800" y="4908960"/>
              <a:chExt cx="713520" cy="713880"/>
            </a:xfrm>
          </p:grpSpPr>
          <p:sp>
            <p:nvSpPr>
              <p:cNvPr id="730" name=""/>
              <p:cNvSpPr/>
              <p:nvPr/>
            </p:nvSpPr>
            <p:spPr>
              <a:xfrm rot="2700000">
                <a:off x="154620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163620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 flipV="1">
                <a:off x="163476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 flipV="1">
                <a:off x="179820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156960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2018160" y="4908960"/>
              <a:ext cx="713520" cy="713880"/>
              <a:chOff x="2018160" y="4908960"/>
              <a:chExt cx="713520" cy="713880"/>
            </a:xfrm>
          </p:grpSpPr>
          <p:sp>
            <p:nvSpPr>
              <p:cNvPr id="736" name=""/>
              <p:cNvSpPr/>
              <p:nvPr/>
            </p:nvSpPr>
            <p:spPr>
              <a:xfrm rot="2700000">
                <a:off x="212256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221256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 flipV="1">
                <a:off x="221112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 flipV="1">
                <a:off x="237456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214596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1" name=""/>
          <p:cNvGrpSpPr/>
          <p:nvPr/>
        </p:nvGrpSpPr>
        <p:grpSpPr>
          <a:xfrm>
            <a:off x="2627280" y="5084280"/>
            <a:ext cx="865080" cy="843120"/>
            <a:chOff x="2627280" y="5084280"/>
            <a:chExt cx="865080" cy="843120"/>
          </a:xfrm>
        </p:grpSpPr>
        <p:sp>
          <p:nvSpPr>
            <p:cNvPr id="742" name=""/>
            <p:cNvSpPr/>
            <p:nvPr/>
          </p:nvSpPr>
          <p:spPr>
            <a:xfrm>
              <a:off x="2771640" y="52293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27280" y="5445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3058920" y="50842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3095640" y="54684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894040" y="56970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 flipV="1">
            <a:off x="826920" y="1557000"/>
            <a:ext cx="0" cy="1873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26920" y="3430440"/>
            <a:ext cx="1873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6356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97956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19556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0832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62432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3996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5596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68360" y="1557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898560" y="2708280"/>
            <a:ext cx="144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2560" y="270828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50920" y="242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14560" y="2708280"/>
            <a:ext cx="144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330200" y="2708280"/>
            <a:ext cx="14472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547640" y="2708280"/>
            <a:ext cx="14472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762200" y="2708280"/>
            <a:ext cx="144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979640" y="2708280"/>
            <a:ext cx="144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95640" y="2708280"/>
            <a:ext cx="144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38560" y="285264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38560" y="357336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132000" y="1557000"/>
            <a:ext cx="0" cy="1873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132000" y="3430440"/>
            <a:ext cx="1873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06864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28464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50064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71340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2904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4504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361040" y="350028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71640" y="1557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03640" y="2708280"/>
            <a:ext cx="144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87640" y="2708280"/>
            <a:ext cx="28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556000" y="2421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419640" y="2708280"/>
            <a:ext cx="144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635280" y="2708280"/>
            <a:ext cx="14472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851280" y="2708280"/>
            <a:ext cx="144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067280" y="2708280"/>
            <a:ext cx="144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284720" y="2708280"/>
            <a:ext cx="144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500720" y="2708280"/>
            <a:ext cx="144360" cy="72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643280" y="285264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643280" y="357336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763640" y="1484280"/>
            <a:ext cx="504720" cy="504720"/>
            <a:chOff x="1763640" y="1484280"/>
            <a:chExt cx="504720" cy="504720"/>
          </a:xfrm>
        </p:grpSpPr>
        <p:sp>
          <p:nvSpPr>
            <p:cNvPr id="790" name=""/>
            <p:cNvSpPr/>
            <p:nvPr/>
          </p:nvSpPr>
          <p:spPr>
            <a:xfrm>
              <a:off x="1763640" y="148428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>
              <a:off x="2016000" y="150768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1814400" y="173628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3817800" y="1595880"/>
            <a:ext cx="713880" cy="713880"/>
            <a:chOff x="3817800" y="1595880"/>
            <a:chExt cx="713880" cy="713880"/>
          </a:xfrm>
        </p:grpSpPr>
        <p:sp>
          <p:nvSpPr>
            <p:cNvPr id="794" name=""/>
            <p:cNvSpPr/>
            <p:nvPr/>
          </p:nvSpPr>
          <p:spPr>
            <a:xfrm rot="2700000">
              <a:off x="3922200" y="170028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014360" y="179064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 flipV="1">
              <a:off x="4013280" y="1791720"/>
              <a:ext cx="32544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7020000" y="2205000"/>
            <a:ext cx="504720" cy="504720"/>
            <a:chOff x="7020000" y="2205000"/>
            <a:chExt cx="504720" cy="504720"/>
          </a:xfrm>
        </p:grpSpPr>
        <p:sp>
          <p:nvSpPr>
            <p:cNvPr id="798" name=""/>
            <p:cNvSpPr/>
            <p:nvPr/>
          </p:nvSpPr>
          <p:spPr>
            <a:xfrm>
              <a:off x="7020000" y="220500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7070760" y="2457000"/>
              <a:ext cx="40320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2124000" y="5013360"/>
            <a:ext cx="504720" cy="504720"/>
            <a:chOff x="2124000" y="5013360"/>
            <a:chExt cx="504720" cy="504720"/>
          </a:xfrm>
        </p:grpSpPr>
        <p:sp>
          <p:nvSpPr>
            <p:cNvPr id="801" name=""/>
            <p:cNvSpPr/>
            <p:nvPr/>
          </p:nvSpPr>
          <p:spPr>
            <a:xfrm>
              <a:off x="2124000" y="501336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2174760" y="5265360"/>
              <a:ext cx="40320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900000" y="1989000"/>
            <a:ext cx="1440000" cy="720720"/>
            <a:chOff x="900000" y="1989000"/>
            <a:chExt cx="1440000" cy="720720"/>
          </a:xfrm>
        </p:grpSpPr>
        <p:sp>
          <p:nvSpPr>
            <p:cNvPr id="804" name=""/>
            <p:cNvSpPr/>
            <p:nvPr/>
          </p:nvSpPr>
          <p:spPr>
            <a:xfrm>
              <a:off x="900000" y="198900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32000" y="198900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763640" y="198900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95640" y="198900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6725-F453-4113-81FE-26ECDA92A8AB}" type="slidenum">
              <a:t>17</a:t>
            </a:fld>
          </a:p>
        </p:txBody>
      </p:sp>
    </p:spTree>
  </p:cSld>
  <p:transition spd="med"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"/>
          <p:cNvGrpSpPr/>
          <p:nvPr/>
        </p:nvGrpSpPr>
        <p:grpSpPr>
          <a:xfrm>
            <a:off x="290880" y="4908960"/>
            <a:ext cx="2440800" cy="713880"/>
            <a:chOff x="290880" y="4908960"/>
            <a:chExt cx="2440800" cy="713880"/>
          </a:xfrm>
        </p:grpSpPr>
        <p:grpSp>
          <p:nvGrpSpPr>
            <p:cNvPr id="809" name=""/>
            <p:cNvGrpSpPr/>
            <p:nvPr/>
          </p:nvGrpSpPr>
          <p:grpSpPr>
            <a:xfrm>
              <a:off x="290880" y="4908960"/>
              <a:ext cx="712080" cy="711720"/>
              <a:chOff x="290880" y="4908960"/>
              <a:chExt cx="712080" cy="711720"/>
            </a:xfrm>
          </p:grpSpPr>
          <p:sp>
            <p:nvSpPr>
              <p:cNvPr id="810" name=""/>
              <p:cNvSpPr/>
              <p:nvPr/>
            </p:nvSpPr>
            <p:spPr>
              <a:xfrm rot="2700000">
                <a:off x="394920" y="501300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484560" y="510192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483480" y="510228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646920" y="503676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418320" y="526500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865440" y="4908960"/>
              <a:ext cx="713520" cy="713880"/>
              <a:chOff x="865440" y="4908960"/>
              <a:chExt cx="713520" cy="713880"/>
            </a:xfrm>
          </p:grpSpPr>
          <p:sp>
            <p:nvSpPr>
              <p:cNvPr id="816" name=""/>
              <p:cNvSpPr/>
              <p:nvPr/>
            </p:nvSpPr>
            <p:spPr>
              <a:xfrm rot="2700000">
                <a:off x="96984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105984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flipV="1">
                <a:off x="105840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flipV="1">
                <a:off x="122184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99324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1441800" y="4908960"/>
              <a:ext cx="713520" cy="713880"/>
              <a:chOff x="1441800" y="4908960"/>
              <a:chExt cx="713520" cy="713880"/>
            </a:xfrm>
          </p:grpSpPr>
          <p:sp>
            <p:nvSpPr>
              <p:cNvPr id="822" name=""/>
              <p:cNvSpPr/>
              <p:nvPr/>
            </p:nvSpPr>
            <p:spPr>
              <a:xfrm rot="2700000">
                <a:off x="154620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163620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flipV="1">
                <a:off x="163476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179820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156960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2018160" y="4908960"/>
              <a:ext cx="713520" cy="713880"/>
              <a:chOff x="2018160" y="4908960"/>
              <a:chExt cx="713520" cy="713880"/>
            </a:xfrm>
          </p:grpSpPr>
          <p:sp>
            <p:nvSpPr>
              <p:cNvPr id="828" name=""/>
              <p:cNvSpPr/>
              <p:nvPr/>
            </p:nvSpPr>
            <p:spPr>
              <a:xfrm rot="2700000">
                <a:off x="2122560" y="5013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2212560" y="5101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 flipV="1">
                <a:off x="2211120" y="5102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flipV="1">
                <a:off x="237456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2145960" y="5265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349200" y="4562640"/>
            <a:ext cx="1932120" cy="37908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250920" y="1484280"/>
            <a:ext cx="4825800" cy="2736720"/>
          </a:xfrm>
          <a:prstGeom prst="wedgeRoundRectCallout">
            <a:avLst>
              <a:gd name="adj1" fmla="val -23717"/>
              <a:gd name="adj2" fmla="val 80856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Obliviousness: Distributions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4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grpSp>
        <p:nvGrpSpPr>
          <p:cNvPr id="840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841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5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848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5188320" y="2100600"/>
            <a:ext cx="2441520" cy="713880"/>
            <a:chOff x="5188320" y="2100600"/>
            <a:chExt cx="2441520" cy="713880"/>
          </a:xfrm>
        </p:grpSpPr>
        <p:sp>
          <p:nvSpPr>
            <p:cNvPr id="854" name=""/>
            <p:cNvSpPr/>
            <p:nvPr/>
          </p:nvSpPr>
          <p:spPr>
            <a:xfrm>
              <a:off x="5365440" y="242100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5188320" y="2100600"/>
              <a:ext cx="713520" cy="713880"/>
              <a:chOff x="5188320" y="2100600"/>
              <a:chExt cx="713520" cy="713880"/>
            </a:xfrm>
          </p:grpSpPr>
          <p:sp>
            <p:nvSpPr>
              <p:cNvPr id="856" name=""/>
              <p:cNvSpPr/>
              <p:nvPr/>
            </p:nvSpPr>
            <p:spPr>
              <a:xfrm rot="2700000">
                <a:off x="529272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538272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 flipV="1">
                <a:off x="538128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554472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531612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5763600" y="2100600"/>
              <a:ext cx="713520" cy="713520"/>
              <a:chOff x="5763600" y="2100600"/>
              <a:chExt cx="713520" cy="713520"/>
            </a:xfrm>
          </p:grpSpPr>
          <p:sp>
            <p:nvSpPr>
              <p:cNvPr id="862" name=""/>
              <p:cNvSpPr/>
              <p:nvPr/>
            </p:nvSpPr>
            <p:spPr>
              <a:xfrm rot="2700000">
                <a:off x="586800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595836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 flipV="1">
                <a:off x="595656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 flipV="1">
                <a:off x="612072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589212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6339960" y="2100600"/>
              <a:ext cx="713520" cy="713520"/>
              <a:chOff x="6339960" y="2100600"/>
              <a:chExt cx="713520" cy="713520"/>
            </a:xfrm>
          </p:grpSpPr>
          <p:sp>
            <p:nvSpPr>
              <p:cNvPr id="868" name=""/>
              <p:cNvSpPr/>
              <p:nvPr/>
            </p:nvSpPr>
            <p:spPr>
              <a:xfrm rot="2700000">
                <a:off x="644436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653472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 flipV="1">
                <a:off x="653292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flipV="1">
                <a:off x="669708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646848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3" name=""/>
            <p:cNvGrpSpPr/>
            <p:nvPr/>
          </p:nvGrpSpPr>
          <p:grpSpPr>
            <a:xfrm>
              <a:off x="6916320" y="2100600"/>
              <a:ext cx="713520" cy="713520"/>
              <a:chOff x="6916320" y="2100600"/>
              <a:chExt cx="713520" cy="713520"/>
            </a:xfrm>
          </p:grpSpPr>
          <p:sp>
            <p:nvSpPr>
              <p:cNvPr id="874" name=""/>
              <p:cNvSpPr/>
              <p:nvPr/>
            </p:nvSpPr>
            <p:spPr>
              <a:xfrm rot="2700000">
                <a:off x="7020720" y="2205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7111080" y="2293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 flipV="1">
                <a:off x="7109280" y="2294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flipV="1">
                <a:off x="7273440" y="2228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7044840" y="2457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290880" y="4908960"/>
            <a:ext cx="712080" cy="711720"/>
            <a:chOff x="290880" y="4908960"/>
            <a:chExt cx="712080" cy="711720"/>
          </a:xfrm>
        </p:grpSpPr>
        <p:sp>
          <p:nvSpPr>
            <p:cNvPr id="880" name=""/>
            <p:cNvSpPr/>
            <p:nvPr/>
          </p:nvSpPr>
          <p:spPr>
            <a:xfrm rot="2700000">
              <a:off x="394920" y="5013000"/>
              <a:ext cx="503280" cy="503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484560" y="5101920"/>
              <a:ext cx="322560" cy="324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483480" y="5102280"/>
              <a:ext cx="324360" cy="322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646920" y="5036760"/>
              <a:ext cx="1440" cy="4572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418320" y="5265000"/>
              <a:ext cx="45756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2019600" y="4908960"/>
            <a:ext cx="713520" cy="713880"/>
            <a:chOff x="2019600" y="4908960"/>
            <a:chExt cx="713520" cy="713880"/>
          </a:xfrm>
        </p:grpSpPr>
        <p:sp>
          <p:nvSpPr>
            <p:cNvPr id="886" name=""/>
            <p:cNvSpPr/>
            <p:nvPr/>
          </p:nvSpPr>
          <p:spPr>
            <a:xfrm rot="2700000">
              <a:off x="2124000" y="5013360"/>
              <a:ext cx="504720" cy="504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2214000" y="5101560"/>
              <a:ext cx="32292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2212560" y="5102640"/>
              <a:ext cx="32580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376000" y="503712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147400" y="5265720"/>
              <a:ext cx="4590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2627280" y="5084280"/>
            <a:ext cx="865080" cy="843120"/>
            <a:chOff x="2627280" y="5084280"/>
            <a:chExt cx="865080" cy="843120"/>
          </a:xfrm>
        </p:grpSpPr>
        <p:sp>
          <p:nvSpPr>
            <p:cNvPr id="892" name=""/>
            <p:cNvSpPr/>
            <p:nvPr/>
          </p:nvSpPr>
          <p:spPr>
            <a:xfrm>
              <a:off x="2771640" y="52293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627280" y="5445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3058920" y="50842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 flipV="1">
              <a:off x="3095640" y="54684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894040" y="56970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898560" y="2349360"/>
            <a:ext cx="1441440" cy="1079640"/>
            <a:chOff x="898560" y="2349360"/>
            <a:chExt cx="1441440" cy="1079640"/>
          </a:xfrm>
        </p:grpSpPr>
        <p:sp>
          <p:nvSpPr>
            <p:cNvPr id="898" name=""/>
            <p:cNvSpPr/>
            <p:nvPr/>
          </p:nvSpPr>
          <p:spPr>
            <a:xfrm>
              <a:off x="898560" y="2421000"/>
              <a:ext cx="144360" cy="1008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114560" y="328464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330200" y="2637000"/>
              <a:ext cx="14616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547640" y="2349360"/>
              <a:ext cx="144720" cy="1079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62200" y="2997360"/>
              <a:ext cx="145800" cy="43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979640" y="3357720"/>
              <a:ext cx="1443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95640" y="3213000"/>
              <a:ext cx="144360" cy="21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3203640" y="2133720"/>
            <a:ext cx="1439640" cy="1295280"/>
            <a:chOff x="3203640" y="2133720"/>
            <a:chExt cx="1439640" cy="1295280"/>
          </a:xfrm>
        </p:grpSpPr>
        <p:sp>
          <p:nvSpPr>
            <p:cNvPr id="906" name=""/>
            <p:cNvSpPr/>
            <p:nvPr/>
          </p:nvSpPr>
          <p:spPr>
            <a:xfrm>
              <a:off x="3203640" y="2997360"/>
              <a:ext cx="144360" cy="43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9640" y="2133720"/>
              <a:ext cx="144360" cy="12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635280" y="2924280"/>
              <a:ext cx="144720" cy="504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851280" y="3284640"/>
              <a:ext cx="144360" cy="144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84720" y="2421000"/>
              <a:ext cx="142920" cy="100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00720" y="2924280"/>
              <a:ext cx="142560" cy="504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6445080" y="371628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6184080" y="3418920"/>
            <a:ext cx="724680" cy="803880"/>
            <a:chOff x="6184080" y="3418920"/>
            <a:chExt cx="724680" cy="803880"/>
          </a:xfrm>
        </p:grpSpPr>
        <p:sp>
          <p:nvSpPr>
            <p:cNvPr id="914" name=""/>
            <p:cNvSpPr/>
            <p:nvPr/>
          </p:nvSpPr>
          <p:spPr>
            <a:xfrm rot="1512000">
              <a:off x="6300360" y="3492000"/>
              <a:ext cx="491760" cy="6570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6420240" y="3549960"/>
              <a:ext cx="252360" cy="5403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343560" y="3724920"/>
              <a:ext cx="405000" cy="18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452640" y="3559320"/>
              <a:ext cx="187560" cy="515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6318360" y="3738240"/>
              <a:ext cx="457560" cy="1648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761520" y="3421800"/>
            <a:ext cx="662400" cy="662400"/>
            <a:chOff x="6761520" y="3421800"/>
            <a:chExt cx="662400" cy="662400"/>
          </a:xfrm>
        </p:grpSpPr>
        <p:sp>
          <p:nvSpPr>
            <p:cNvPr id="920" name=""/>
            <p:cNvSpPr/>
            <p:nvPr/>
          </p:nvSpPr>
          <p:spPr>
            <a:xfrm rot="2700000">
              <a:off x="6840000" y="3537000"/>
              <a:ext cx="505080" cy="4316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6954120" y="3612600"/>
              <a:ext cx="275760" cy="278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6928920" y="3590280"/>
              <a:ext cx="32580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7093080" y="3524400"/>
              <a:ext cx="144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6897240" y="3753000"/>
              <a:ext cx="39204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898560" y="2708280"/>
            <a:ext cx="3746520" cy="720720"/>
            <a:chOff x="898560" y="2708280"/>
            <a:chExt cx="3746520" cy="720720"/>
          </a:xfrm>
        </p:grpSpPr>
        <p:sp>
          <p:nvSpPr>
            <p:cNvPr id="926" name=""/>
            <p:cNvSpPr/>
            <p:nvPr/>
          </p:nvSpPr>
          <p:spPr>
            <a:xfrm>
              <a:off x="89856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11456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330200" y="270828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47640" y="270828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76220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97964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95640" y="270828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20364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1964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35280" y="2708280"/>
              <a:ext cx="14472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5128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06728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8472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500720" y="270828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/>
          <p:nvPr/>
        </p:nvSpPr>
        <p:spPr>
          <a:xfrm>
            <a:off x="7451640" y="3500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395280" y="4934880"/>
            <a:ext cx="1770480" cy="784440"/>
            <a:chOff x="395280" y="4934880"/>
            <a:chExt cx="1770480" cy="784440"/>
          </a:xfrm>
        </p:grpSpPr>
        <p:grpSp>
          <p:nvGrpSpPr>
            <p:cNvPr id="942" name=""/>
            <p:cNvGrpSpPr/>
            <p:nvPr/>
          </p:nvGrpSpPr>
          <p:grpSpPr>
            <a:xfrm>
              <a:off x="877680" y="4955040"/>
              <a:ext cx="763920" cy="764280"/>
              <a:chOff x="877680" y="4955040"/>
              <a:chExt cx="763920" cy="764280"/>
            </a:xfrm>
          </p:grpSpPr>
          <p:sp>
            <p:nvSpPr>
              <p:cNvPr id="943" name=""/>
              <p:cNvSpPr/>
              <p:nvPr/>
            </p:nvSpPr>
            <p:spPr>
              <a:xfrm rot="2700000">
                <a:off x="936000" y="512028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1120320" y="519552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 flipV="1">
                <a:off x="1049760" y="512784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 flipV="1">
                <a:off x="1259640" y="504360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1062720" y="533700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1503720" y="4934880"/>
              <a:ext cx="662040" cy="662040"/>
              <a:chOff x="1503720" y="4934880"/>
              <a:chExt cx="662040" cy="662040"/>
            </a:xfrm>
          </p:grpSpPr>
          <p:sp>
            <p:nvSpPr>
              <p:cNvPr id="949" name=""/>
              <p:cNvSpPr/>
              <p:nvPr/>
            </p:nvSpPr>
            <p:spPr>
              <a:xfrm rot="2700000">
                <a:off x="1582200" y="505008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V="1">
                <a:off x="1696320" y="512532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 flipV="1">
                <a:off x="1671120" y="510336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 flipV="1">
                <a:off x="1835280" y="503676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1639440" y="526572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4" name=""/>
            <p:cNvGrpSpPr/>
            <p:nvPr/>
          </p:nvGrpSpPr>
          <p:grpSpPr>
            <a:xfrm>
              <a:off x="395280" y="5013360"/>
              <a:ext cx="504720" cy="504720"/>
              <a:chOff x="395280" y="5013360"/>
              <a:chExt cx="504720" cy="504720"/>
            </a:xfrm>
          </p:grpSpPr>
          <p:sp>
            <p:nvSpPr>
              <p:cNvPr id="955" name=""/>
              <p:cNvSpPr/>
              <p:nvPr/>
            </p:nvSpPr>
            <p:spPr>
              <a:xfrm>
                <a:off x="395280" y="501336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446040" y="526536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57" name=""/>
          <p:cNvGrpSpPr/>
          <p:nvPr/>
        </p:nvGrpSpPr>
        <p:grpSpPr>
          <a:xfrm>
            <a:off x="250920" y="1557000"/>
            <a:ext cx="2590560" cy="2664000"/>
            <a:chOff x="250920" y="1557000"/>
            <a:chExt cx="2590560" cy="2664000"/>
          </a:xfrm>
        </p:grpSpPr>
        <p:grpSp>
          <p:nvGrpSpPr>
            <p:cNvPr id="958" name=""/>
            <p:cNvGrpSpPr/>
            <p:nvPr/>
          </p:nvGrpSpPr>
          <p:grpSpPr>
            <a:xfrm>
              <a:off x="250920" y="1557000"/>
              <a:ext cx="2449440" cy="2664000"/>
              <a:chOff x="250920" y="1557000"/>
              <a:chExt cx="2449440" cy="2664000"/>
            </a:xfrm>
          </p:grpSpPr>
          <p:sp>
            <p:nvSpPr>
              <p:cNvPr id="959" name=""/>
              <p:cNvSpPr/>
              <p:nvPr/>
            </p:nvSpPr>
            <p:spPr>
              <a:xfrm>
                <a:off x="682560" y="2708280"/>
                <a:ext cx="287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50920" y="2421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97956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0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19556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40832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1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62432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1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83996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10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05596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1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338560" y="2852640"/>
                <a:ext cx="35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338560" y="3573360"/>
                <a:ext cx="358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826920" y="1557000"/>
                <a:ext cx="0" cy="18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26920" y="3430440"/>
                <a:ext cx="1873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356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68360" y="1557360"/>
                <a:ext cx="35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1619280" y="1700280"/>
                <a:ext cx="504720" cy="504720"/>
                <a:chOff x="1619280" y="1700280"/>
                <a:chExt cx="504720" cy="50472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1619280" y="1700280"/>
                  <a:ext cx="504720" cy="504720"/>
                </a:xfrm>
                <a:prstGeom prst="ellips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flipV="1">
                  <a:off x="1871640" y="1723680"/>
                  <a:ext cx="1440" cy="459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1670040" y="1952280"/>
                  <a:ext cx="403200" cy="1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"/>
            <p:cNvSpPr/>
            <p:nvPr/>
          </p:nvSpPr>
          <p:spPr>
            <a:xfrm>
              <a:off x="2484360" y="335772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2556000" y="1557000"/>
            <a:ext cx="2592360" cy="2664000"/>
            <a:chOff x="2556000" y="1557000"/>
            <a:chExt cx="2592360" cy="2664000"/>
          </a:xfrm>
        </p:grpSpPr>
        <p:grpSp>
          <p:nvGrpSpPr>
            <p:cNvPr id="979" name=""/>
            <p:cNvGrpSpPr/>
            <p:nvPr/>
          </p:nvGrpSpPr>
          <p:grpSpPr>
            <a:xfrm>
              <a:off x="2556000" y="1557000"/>
              <a:ext cx="2449440" cy="2664000"/>
              <a:chOff x="2556000" y="1557000"/>
              <a:chExt cx="2449440" cy="2664000"/>
            </a:xfrm>
          </p:grpSpPr>
          <p:sp>
            <p:nvSpPr>
              <p:cNvPr id="980" name=""/>
              <p:cNvSpPr/>
              <p:nvPr/>
            </p:nvSpPr>
            <p:spPr>
              <a:xfrm>
                <a:off x="306864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28464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0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0064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71340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01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92904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1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14504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10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361040" y="3500280"/>
                <a:ext cx="423720" cy="72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11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43280" y="2852640"/>
                <a:ext cx="35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43280" y="3573360"/>
                <a:ext cx="358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3132000" y="1557000"/>
                <a:ext cx="0" cy="1873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132000" y="3430440"/>
                <a:ext cx="1873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771640" y="155736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87640" y="2708280"/>
                <a:ext cx="287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556000" y="2421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r>
                  <a:rPr b="0" lang="en-US" sz="2400" spc="-1" strike="noStrike" baseline="30000">
                    <a:solidFill>
                      <a:srgbClr val="ffff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94" name=""/>
              <p:cNvGrpSpPr/>
              <p:nvPr/>
            </p:nvGrpSpPr>
            <p:grpSpPr>
              <a:xfrm>
                <a:off x="3817800" y="1595880"/>
                <a:ext cx="713880" cy="713880"/>
                <a:chOff x="3817800" y="1595880"/>
                <a:chExt cx="713880" cy="713880"/>
              </a:xfrm>
            </p:grpSpPr>
            <p:sp>
              <p:nvSpPr>
                <p:cNvPr id="995" name=""/>
                <p:cNvSpPr/>
                <p:nvPr/>
              </p:nvSpPr>
              <p:spPr>
                <a:xfrm rot="2700000">
                  <a:off x="3922200" y="1700280"/>
                  <a:ext cx="504720" cy="505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V="1">
                  <a:off x="4014360" y="1790640"/>
                  <a:ext cx="32328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 flipV="1">
                  <a:off x="4013280" y="1791720"/>
                  <a:ext cx="325440" cy="32328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8" name=""/>
            <p:cNvSpPr/>
            <p:nvPr/>
          </p:nvSpPr>
          <p:spPr>
            <a:xfrm>
              <a:off x="4791240" y="335772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9575-8749-4F9A-8F7B-AE98E7AB472B}" type="slidenum">
              <a:t>18</a:t>
            </a:fld>
          </a:p>
        </p:txBody>
      </p:sp>
    </p:spTree>
  </p:cSld>
  <p:transition spd="med"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250920" y="1916280"/>
            <a:ext cx="8713800" cy="3241440"/>
          </a:xfrm>
          <a:prstGeom prst="wedgeRoundRectCallout">
            <a:avLst>
              <a:gd name="adj1" fmla="val -34023"/>
              <a:gd name="adj2" fmla="val -64689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Goal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395280" y="876600"/>
            <a:ext cx="2337840" cy="810360"/>
            <a:chOff x="395280" y="876600"/>
            <a:chExt cx="2337840" cy="810360"/>
          </a:xfrm>
        </p:grpSpPr>
        <p:grpSp>
          <p:nvGrpSpPr>
            <p:cNvPr id="1002" name=""/>
            <p:cNvGrpSpPr/>
            <p:nvPr/>
          </p:nvGrpSpPr>
          <p:grpSpPr>
            <a:xfrm>
              <a:off x="2019600" y="876600"/>
              <a:ext cx="713520" cy="713880"/>
              <a:chOff x="2019600" y="876600"/>
              <a:chExt cx="713520" cy="713880"/>
            </a:xfrm>
          </p:grpSpPr>
          <p:sp>
            <p:nvSpPr>
              <p:cNvPr id="1003" name=""/>
              <p:cNvSpPr/>
              <p:nvPr/>
            </p:nvSpPr>
            <p:spPr>
              <a:xfrm rot="2700000">
                <a:off x="2124000" y="981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2214000" y="1069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 flipV="1">
                <a:off x="2212560" y="1070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 flipV="1">
                <a:off x="2376000" y="1004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2147400" y="1233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877680" y="922680"/>
              <a:ext cx="763920" cy="764280"/>
              <a:chOff x="877680" y="922680"/>
              <a:chExt cx="763920" cy="764280"/>
            </a:xfrm>
          </p:grpSpPr>
          <p:sp>
            <p:nvSpPr>
              <p:cNvPr id="1009" name=""/>
              <p:cNvSpPr/>
              <p:nvPr/>
            </p:nvSpPr>
            <p:spPr>
              <a:xfrm rot="2700000">
                <a:off x="936000" y="108792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1120320" y="116316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 flipV="1">
                <a:off x="1049760" y="109548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 flipV="1">
                <a:off x="1259640" y="101124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1062720" y="130464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1503720" y="902520"/>
              <a:ext cx="662040" cy="662040"/>
              <a:chOff x="1503720" y="902520"/>
              <a:chExt cx="662040" cy="662040"/>
            </a:xfrm>
          </p:grpSpPr>
          <p:sp>
            <p:nvSpPr>
              <p:cNvPr id="1015" name=""/>
              <p:cNvSpPr/>
              <p:nvPr/>
            </p:nvSpPr>
            <p:spPr>
              <a:xfrm rot="2700000">
                <a:off x="1582200" y="101772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1696320" y="109296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 flipV="1">
                <a:off x="1671120" y="107100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 flipV="1">
                <a:off x="1835280" y="100440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1639440" y="123336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395280" y="981000"/>
              <a:ext cx="504720" cy="504720"/>
              <a:chOff x="395280" y="981000"/>
              <a:chExt cx="504720" cy="504720"/>
            </a:xfrm>
          </p:grpSpPr>
          <p:sp>
            <p:nvSpPr>
              <p:cNvPr id="1021" name=""/>
              <p:cNvSpPr/>
              <p:nvPr/>
            </p:nvSpPr>
            <p:spPr>
              <a:xfrm>
                <a:off x="395280" y="98100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446040" y="123300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"/>
          <p:cNvGrpSpPr/>
          <p:nvPr/>
        </p:nvGrpSpPr>
        <p:grpSpPr>
          <a:xfrm>
            <a:off x="2701800" y="1014480"/>
            <a:ext cx="574560" cy="685800"/>
            <a:chOff x="2701800" y="1014480"/>
            <a:chExt cx="574560" cy="685800"/>
          </a:xfrm>
        </p:grpSpPr>
        <p:sp>
          <p:nvSpPr>
            <p:cNvPr id="1024" name=""/>
            <p:cNvSpPr/>
            <p:nvPr/>
          </p:nvSpPr>
          <p:spPr>
            <a:xfrm flipV="1">
              <a:off x="2989080" y="10144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701800" y="1123920"/>
              <a:ext cx="574560" cy="576360"/>
            </a:xfrm>
            <a:prstGeom prst="blockArc">
              <a:avLst>
                <a:gd name="adj1" fmla="val 11550976"/>
                <a:gd name="adj2" fmla="val 20849024"/>
                <a:gd name="adj3" fmla="val 86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324000" y="5151240"/>
            <a:ext cx="8424720" cy="1793160"/>
            <a:chOff x="324000" y="5151240"/>
            <a:chExt cx="8424720" cy="1793160"/>
          </a:xfrm>
        </p:grpSpPr>
        <p:sp>
          <p:nvSpPr>
            <p:cNvPr id="1027" name=""/>
            <p:cNvSpPr/>
            <p:nvPr/>
          </p:nvSpPr>
          <p:spPr>
            <a:xfrm>
              <a:off x="324000" y="5372280"/>
              <a:ext cx="84247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However Bob prepares his memor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nd the distributions p and q, he cannot guess h(x) in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ot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ses simultaneously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cmsy10"/>
                </a:rPr>
                <a:t>)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sender-priva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5248080" y="5151240"/>
              <a:ext cx="736560" cy="809280"/>
              <a:chOff x="5248080" y="5151240"/>
              <a:chExt cx="736560" cy="809280"/>
            </a:xfrm>
          </p:grpSpPr>
          <p:sp>
            <p:nvSpPr>
              <p:cNvPr id="1029" name=""/>
              <p:cNvSpPr/>
              <p:nvPr/>
            </p:nvSpPr>
            <p:spPr>
              <a:xfrm rot="1512000">
                <a:off x="5363640" y="5227200"/>
                <a:ext cx="504720" cy="65700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5490360" y="5285160"/>
                <a:ext cx="252000" cy="5403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 flipV="1">
                <a:off x="5408280" y="5457600"/>
                <a:ext cx="415800" cy="1936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 flipV="1">
                <a:off x="5522400" y="5294520"/>
                <a:ext cx="187920" cy="5155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5382000" y="5471280"/>
                <a:ext cx="469800" cy="169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4" name=""/>
            <p:cNvGrpSpPr/>
            <p:nvPr/>
          </p:nvGrpSpPr>
          <p:grpSpPr>
            <a:xfrm>
              <a:off x="5897880" y="5217480"/>
              <a:ext cx="668520" cy="668880"/>
              <a:chOff x="5897880" y="5217480"/>
              <a:chExt cx="668520" cy="668880"/>
            </a:xfrm>
          </p:grpSpPr>
          <p:sp>
            <p:nvSpPr>
              <p:cNvPr id="1035" name=""/>
              <p:cNvSpPr/>
              <p:nvPr/>
            </p:nvSpPr>
            <p:spPr>
              <a:xfrm rot="2700000">
                <a:off x="5979600" y="5331240"/>
                <a:ext cx="504720" cy="44100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6090480" y="5408280"/>
                <a:ext cx="282240" cy="2844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 flipV="1">
                <a:off x="6068520" y="538920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 flipV="1">
                <a:off x="6232680" y="532260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6032520" y="5551560"/>
                <a:ext cx="40068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6588000" y="537228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01…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15526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7686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9846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20032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1632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6416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3366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140328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40256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104292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92436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36580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36508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00544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88688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2627280" y="2133720"/>
            <a:ext cx="504720" cy="504720"/>
            <a:chOff x="2627280" y="2133720"/>
            <a:chExt cx="504720" cy="504720"/>
          </a:xfrm>
        </p:grpSpPr>
        <p:sp>
          <p:nvSpPr>
            <p:cNvPr id="1057" name=""/>
            <p:cNvSpPr/>
            <p:nvPr/>
          </p:nvSpPr>
          <p:spPr>
            <a:xfrm>
              <a:off x="2627280" y="213372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2879640" y="215712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2678040" y="238572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7059960" y="2029320"/>
            <a:ext cx="713520" cy="713880"/>
            <a:chOff x="7059960" y="2029320"/>
            <a:chExt cx="713520" cy="713880"/>
          </a:xfrm>
        </p:grpSpPr>
        <p:sp>
          <p:nvSpPr>
            <p:cNvPr id="1061" name=""/>
            <p:cNvSpPr/>
            <p:nvPr/>
          </p:nvSpPr>
          <p:spPr>
            <a:xfrm rot="2700000">
              <a:off x="7164360" y="213372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7255800" y="222408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>
              <a:off x="7254360" y="222516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1476360" y="2852640"/>
            <a:ext cx="2303640" cy="1728720"/>
            <a:chOff x="1476360" y="2852640"/>
            <a:chExt cx="2303640" cy="1728720"/>
          </a:xfrm>
        </p:grpSpPr>
        <p:sp>
          <p:nvSpPr>
            <p:cNvPr id="1065" name=""/>
            <p:cNvSpPr/>
            <p:nvPr/>
          </p:nvSpPr>
          <p:spPr>
            <a:xfrm>
              <a:off x="1476360" y="2852640"/>
              <a:ext cx="142920" cy="1727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92360" y="443556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908000" y="3787920"/>
              <a:ext cx="14616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125800" y="3573360"/>
              <a:ext cx="14256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340000" y="4148280"/>
              <a:ext cx="146160" cy="43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557440" y="4508640"/>
              <a:ext cx="1443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773440" y="4363920"/>
              <a:ext cx="144360" cy="21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987640" y="4149720"/>
              <a:ext cx="146160" cy="43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03640" y="3213000"/>
              <a:ext cx="144360" cy="13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19640" y="443700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35280" y="4005360"/>
              <a:ext cx="144720" cy="57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284796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6396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81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497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435640" y="4149720"/>
            <a:ext cx="14436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734160" y="2492280"/>
            <a:ext cx="142920" cy="208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596360" y="3573360"/>
            <a:ext cx="14256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67280" y="4437000"/>
            <a:ext cx="14472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381800" y="3789360"/>
            <a:ext cx="14292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651640" y="3068640"/>
            <a:ext cx="144360" cy="151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300720" y="4292640"/>
            <a:ext cx="14436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95016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515280" y="3933720"/>
            <a:ext cx="1443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513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729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945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161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637704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240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29776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80904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0246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724248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458120" y="4581360"/>
            <a:ext cx="42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851280" y="4149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812000" y="4149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1635120" cy="3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250B-6582-4298-87EC-BD5DA3F6D2BB}" type="slidenum">
              <a:t>19</a:t>
            </a:fld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700280"/>
            <a:ext cx="741708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-Party Crypto Primi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urity Pro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 Probl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4360" y="1700280"/>
            <a:ext cx="7488000" cy="64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9F448-4575-4122-9974-7D42F6831D2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108000" y="5229360"/>
            <a:ext cx="8785080" cy="1439640"/>
          </a:xfrm>
          <a:prstGeom prst="roundRect">
            <a:avLst>
              <a:gd name="adj" fmla="val 14384"/>
            </a:avLst>
          </a:prstGeom>
          <a:solidFill>
            <a:srgbClr val="00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ivacy Amplification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851280" y="4149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V="1">
            <a:off x="140328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40256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04292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1476360" y="2852640"/>
            <a:ext cx="2303640" cy="1728720"/>
            <a:chOff x="1476360" y="2852640"/>
            <a:chExt cx="2303640" cy="1728720"/>
          </a:xfrm>
        </p:grpSpPr>
        <p:sp>
          <p:nvSpPr>
            <p:cNvPr id="1110" name=""/>
            <p:cNvSpPr/>
            <p:nvPr/>
          </p:nvSpPr>
          <p:spPr>
            <a:xfrm>
              <a:off x="1476360" y="2852640"/>
              <a:ext cx="142920" cy="1727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9640" y="4435200"/>
              <a:ext cx="144360" cy="144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124000" y="3787560"/>
              <a:ext cx="146160" cy="792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908000" y="3573360"/>
              <a:ext cx="14292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71640" y="4147920"/>
              <a:ext cx="146160" cy="43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35280" y="4508280"/>
              <a:ext cx="144720" cy="7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987640" y="4363920"/>
              <a:ext cx="144360" cy="21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56000" y="4149720"/>
              <a:ext cx="145800" cy="43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92360" y="3213000"/>
              <a:ext cx="144360" cy="13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203640" y="443700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40000" y="4005000"/>
              <a:ext cx="144360" cy="576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476360" y="2852640"/>
            <a:ext cx="2303640" cy="1728720"/>
            <a:chOff x="1476360" y="2852640"/>
            <a:chExt cx="2303640" cy="1728720"/>
          </a:xfrm>
        </p:grpSpPr>
        <p:sp>
          <p:nvSpPr>
            <p:cNvPr id="1122" name=""/>
            <p:cNvSpPr/>
            <p:nvPr/>
          </p:nvSpPr>
          <p:spPr>
            <a:xfrm>
              <a:off x="1476360" y="2852640"/>
              <a:ext cx="142920" cy="1727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92360" y="443556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908000" y="3787920"/>
              <a:ext cx="14616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125800" y="3573360"/>
              <a:ext cx="14256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340000" y="4148280"/>
              <a:ext cx="146160" cy="43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557440" y="4508640"/>
              <a:ext cx="144360" cy="7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73440" y="4363920"/>
              <a:ext cx="144360" cy="21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987640" y="4149720"/>
              <a:ext cx="146160" cy="43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03640" y="3213000"/>
              <a:ext cx="144360" cy="13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419640" y="443700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635280" y="4005360"/>
              <a:ext cx="144720" cy="576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395280" y="98100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Amplification against Quantum Adversaries [Renner König, TCC 2005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3311280" cy="40788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654120" y="3478320"/>
            <a:ext cx="604800" cy="382320"/>
          </a:xfrm>
          <a:prstGeom prst="rect">
            <a:avLst/>
          </a:prstGeom>
          <a:ln w="0">
            <a:noFill/>
          </a:ln>
        </p:spPr>
      </p:pic>
      <p:sp>
        <p:nvSpPr>
          <p:cNvPr id="1136" name=""/>
          <p:cNvSpPr/>
          <p:nvPr/>
        </p:nvSpPr>
        <p:spPr>
          <a:xfrm>
            <a:off x="1258920" y="3851280"/>
            <a:ext cx="273672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715640" y="2349360"/>
            <a:ext cx="142920" cy="432000"/>
          </a:xfrm>
          <a:prstGeom prst="line">
            <a:avLst/>
          </a:prstGeom>
          <a:ln w="63360">
            <a:solidFill>
              <a:srgbClr val="ffffff"/>
            </a:solidFill>
            <a:miter/>
            <a:headEnd len="sm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3"/>
          <a:stretch/>
        </p:blipFill>
        <p:spPr>
          <a:xfrm>
            <a:off x="3851280" y="4653000"/>
            <a:ext cx="360360" cy="2887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179280" y="537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ore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0" name=""/>
          <p:cNvGrpSpPr/>
          <p:nvPr/>
        </p:nvGrpSpPr>
        <p:grpSpPr>
          <a:xfrm>
            <a:off x="4168080" y="2707920"/>
            <a:ext cx="724680" cy="803520"/>
            <a:chOff x="4168080" y="2707920"/>
            <a:chExt cx="724680" cy="803520"/>
          </a:xfrm>
        </p:grpSpPr>
        <p:sp>
          <p:nvSpPr>
            <p:cNvPr id="1141" name=""/>
            <p:cNvSpPr/>
            <p:nvPr/>
          </p:nvSpPr>
          <p:spPr>
            <a:xfrm rot="1512000">
              <a:off x="4284360" y="2781360"/>
              <a:ext cx="491760" cy="65664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4404240" y="2839320"/>
              <a:ext cx="252360" cy="540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4327560" y="3013920"/>
              <a:ext cx="405000" cy="18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 flipV="1">
              <a:off x="4436640" y="2847960"/>
              <a:ext cx="187560" cy="5151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4302360" y="3027240"/>
              <a:ext cx="457560" cy="1648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4745520" y="2710800"/>
            <a:ext cx="662040" cy="662040"/>
            <a:chOff x="4745520" y="2710800"/>
            <a:chExt cx="662040" cy="662040"/>
          </a:xfrm>
        </p:grpSpPr>
        <p:sp>
          <p:nvSpPr>
            <p:cNvPr id="1147" name=""/>
            <p:cNvSpPr/>
            <p:nvPr/>
          </p:nvSpPr>
          <p:spPr>
            <a:xfrm rot="2700000">
              <a:off x="4824000" y="2826000"/>
              <a:ext cx="504720" cy="4316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4938120" y="2901240"/>
              <a:ext cx="276120" cy="278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 flipV="1">
              <a:off x="4912920" y="287928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5077080" y="2812680"/>
              <a:ext cx="1440" cy="458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4881240" y="3041640"/>
              <a:ext cx="39204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5437080" y="28544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4"/>
          <a:stretch/>
        </p:blipFill>
        <p:spPr>
          <a:xfrm>
            <a:off x="4643280" y="3789360"/>
            <a:ext cx="3130560" cy="779400"/>
          </a:xfrm>
          <a:prstGeom prst="rect">
            <a:avLst/>
          </a:prstGeom>
          <a:ln w="0">
            <a:noFill/>
          </a:ln>
        </p:spPr>
      </p:pic>
      <p:pic>
        <p:nvPicPr>
          <p:cNvPr id="1154" name="" descr=""/>
          <p:cNvPicPr/>
          <p:nvPr/>
        </p:nvPicPr>
        <p:blipFill>
          <a:blip r:embed="rId5"/>
          <a:stretch/>
        </p:blipFill>
        <p:spPr>
          <a:xfrm>
            <a:off x="5940360" y="2637000"/>
            <a:ext cx="2643120" cy="745920"/>
          </a:xfrm>
          <a:prstGeom prst="rect">
            <a:avLst/>
          </a:prstGeom>
          <a:ln w="0">
            <a:noFill/>
          </a:ln>
        </p:spPr>
      </p:pic>
      <p:grpSp>
        <p:nvGrpSpPr>
          <p:cNvPr id="1155" name=""/>
          <p:cNvGrpSpPr/>
          <p:nvPr/>
        </p:nvGrpSpPr>
        <p:grpSpPr>
          <a:xfrm>
            <a:off x="1692360" y="2349360"/>
            <a:ext cx="1539720" cy="2735280"/>
            <a:chOff x="1692360" y="2349360"/>
            <a:chExt cx="1539720" cy="2735280"/>
          </a:xfrm>
        </p:grpSpPr>
        <p:sp>
          <p:nvSpPr>
            <p:cNvPr id="1156" name=""/>
            <p:cNvSpPr/>
            <p:nvPr/>
          </p:nvSpPr>
          <p:spPr>
            <a:xfrm flipV="1">
              <a:off x="2306520" y="2349360"/>
              <a:ext cx="0" cy="2735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57" name="" descr=""/>
            <p:cNvPicPr/>
            <p:nvPr/>
          </p:nvPicPr>
          <p:blipFill>
            <a:blip r:embed="rId6"/>
            <a:stretch/>
          </p:blipFill>
          <p:spPr>
            <a:xfrm>
              <a:off x="2932200" y="4613400"/>
              <a:ext cx="29988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7"/>
            <a:stretch/>
          </p:blipFill>
          <p:spPr>
            <a:xfrm>
              <a:off x="1692360" y="4621320"/>
              <a:ext cx="299880" cy="32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9" name=""/>
          <p:cNvGrpSpPr/>
          <p:nvPr/>
        </p:nvGrpSpPr>
        <p:grpSpPr>
          <a:xfrm>
            <a:off x="1692360" y="5388120"/>
            <a:ext cx="6727680" cy="1065240"/>
            <a:chOff x="1692360" y="5388120"/>
            <a:chExt cx="6727680" cy="1065240"/>
          </a:xfrm>
        </p:grpSpPr>
        <p:sp>
          <p:nvSpPr>
            <p:cNvPr id="1160" name=""/>
            <p:cNvSpPr/>
            <p:nvPr/>
          </p:nvSpPr>
          <p:spPr>
            <a:xfrm>
              <a:off x="1692360" y="5502600"/>
              <a:ext cx="1904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4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d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882800" y="5482080"/>
              <a:ext cx="142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025720" y="5502600"/>
              <a:ext cx="2113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4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h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37040" y="5482080"/>
              <a:ext cx="1425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379600" y="5507280"/>
              <a:ext cx="303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711520" y="5482080"/>
              <a:ext cx="142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854440" y="5482080"/>
              <a:ext cx="10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955960" y="5502600"/>
              <a:ext cx="2113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4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h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249720" y="5544000"/>
              <a:ext cx="28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400" bIns="29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­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16560" y="559476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2000" bIns="69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b10"/>
                </a:rPr>
                <a:t>½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840120" y="5482080"/>
              <a:ext cx="142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084560" y="5524920"/>
              <a:ext cx="2858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480" bIns="48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·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71920" y="5521680"/>
              <a:ext cx="182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5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2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54800" y="5447160"/>
              <a:ext cx="2286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9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927680" y="5389920"/>
              <a:ext cx="125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927680" y="5540760"/>
              <a:ext cx="12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927680" y="5577120"/>
              <a:ext cx="125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097600" y="5413680"/>
              <a:ext cx="114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11720" y="5431320"/>
              <a:ext cx="2397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451480" y="5564520"/>
              <a:ext cx="249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7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sy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719680" y="5413680"/>
              <a:ext cx="114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834160" y="5413680"/>
              <a:ext cx="150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985000" y="5431320"/>
              <a:ext cx="2397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45280" y="5413680"/>
              <a:ext cx="150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94680" y="5447160"/>
              <a:ext cx="2286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9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624720" y="5492880"/>
              <a:ext cx="1746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2680" bIns="49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b7"/>
                </a:rPr>
                <a:t>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797880" y="5413680"/>
              <a:ext cx="114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913800" y="5447160"/>
              <a:ext cx="2286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9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42400" y="5431320"/>
              <a:ext cx="23940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381800" y="5524920"/>
              <a:ext cx="1256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524720" y="5413680"/>
              <a:ext cx="114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640640" y="5492880"/>
              <a:ext cx="1746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2680" bIns="49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b7"/>
                </a:rPr>
                <a:t>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815240" y="5413680"/>
              <a:ext cx="114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929720" y="5447160"/>
              <a:ext cx="2286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9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158320" y="5440680"/>
              <a:ext cx="146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304480" y="5413680"/>
              <a:ext cx="114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084560" y="6172560"/>
              <a:ext cx="2858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480" bIns="48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·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71920" y="6169320"/>
              <a:ext cx="182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5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2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54800" y="6093000"/>
              <a:ext cx="228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30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27680" y="6036120"/>
              <a:ext cx="125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27680" y="6188400"/>
              <a:ext cx="12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27680" y="6223320"/>
              <a:ext cx="125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97600" y="6059880"/>
              <a:ext cx="114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11720" y="6077160"/>
              <a:ext cx="2397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51480" y="6210720"/>
              <a:ext cx="2494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7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sy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719680" y="6059880"/>
              <a:ext cx="114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834160" y="6077160"/>
              <a:ext cx="2397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94440" y="6059880"/>
              <a:ext cx="114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208920" y="6093000"/>
              <a:ext cx="228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30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38960" y="6142320"/>
              <a:ext cx="181080" cy="10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94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620040" y="6059880"/>
              <a:ext cx="150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=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769080" y="6086880"/>
              <a:ext cx="146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4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915240" y="6093000"/>
              <a:ext cx="228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30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145280" y="6086880"/>
              <a:ext cx="146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4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291440" y="6059880"/>
              <a:ext cx="114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224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692360" y="5388120"/>
              <a:ext cx="6727680" cy="106524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572000" y="1700280"/>
            <a:ext cx="4248000" cy="3168720"/>
            <a:chOff x="4572000" y="1700280"/>
            <a:chExt cx="4248000" cy="3168720"/>
          </a:xfrm>
        </p:grpSpPr>
        <p:sp>
          <p:nvSpPr>
            <p:cNvPr id="1217" name=""/>
            <p:cNvSpPr/>
            <p:nvPr/>
          </p:nvSpPr>
          <p:spPr>
            <a:xfrm>
              <a:off x="4572000" y="1700280"/>
              <a:ext cx="4248000" cy="3168720"/>
            </a:xfrm>
            <a:prstGeom prst="roundRect">
              <a:avLst>
                <a:gd name="adj" fmla="val 14384"/>
              </a:avLst>
            </a:prstGeom>
            <a:solidFill>
              <a:srgbClr val="000099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8" name=""/>
            <p:cNvGrpSpPr/>
            <p:nvPr/>
          </p:nvGrpSpPr>
          <p:grpSpPr>
            <a:xfrm>
              <a:off x="5364000" y="2773440"/>
              <a:ext cx="2582640" cy="942840"/>
              <a:chOff x="5364000" y="2773440"/>
              <a:chExt cx="2582640" cy="942840"/>
            </a:xfrm>
          </p:grpSpPr>
          <p:sp>
            <p:nvSpPr>
              <p:cNvPr id="1219" name=""/>
              <p:cNvSpPr/>
              <p:nvPr/>
            </p:nvSpPr>
            <p:spPr>
              <a:xfrm>
                <a:off x="6109920" y="2886120"/>
                <a:ext cx="25236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9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mi10"/>
                  </a:rPr>
                  <a:t>x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486120" y="2836800"/>
                <a:ext cx="2952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7960" bIns="158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sy10"/>
                  </a:rPr>
                  <a:t>2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903720" y="2773440"/>
                <a:ext cx="27144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016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mi10"/>
                  </a:rPr>
                  <a:t>S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364000" y="3444840"/>
                <a:ext cx="441360" cy="10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3320" bIns="-117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sy10"/>
                  </a:rPr>
                  <a:t>)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928840" y="3300480"/>
                <a:ext cx="25416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0636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mi10"/>
                  </a:rPr>
                  <a:t>h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183000" y="3276720"/>
                <a:ext cx="17136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30120" bIns="1094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r10"/>
                  </a:rPr>
                  <a:t>(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354360" y="3417840"/>
                <a:ext cx="25236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9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mi10"/>
                  </a:rPr>
                  <a:t>x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608520" y="3276720"/>
                <a:ext cx="17136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30120" bIns="1094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r10"/>
                  </a:rPr>
                  <a:t>)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902280" y="3444840"/>
                <a:ext cx="344520" cy="10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3320" bIns="-117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r10"/>
                  </a:rPr>
                  <a:t>=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319520" y="3300480"/>
                <a:ext cx="2095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0636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r10"/>
                  </a:rPr>
                  <a:t>?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29040" y="3300480"/>
                <a:ext cx="20988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0636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r10"/>
                  </a:rPr>
                  <a:t>?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737120" y="3300480"/>
                <a:ext cx="20952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0636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ffff00"/>
                    </a:solidFill>
                    <a:latin typeface="cmr10"/>
                  </a:rPr>
                  <a:t>?</a:t>
                </a:r>
                <a:endParaRPr b="0" lang="en-US" sz="3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364000" y="2773440"/>
                <a:ext cx="2582640" cy="942840"/>
              </a:xfrm>
              <a:prstGeom prst="rect">
                <a:avLst/>
              </a:prstGeom>
              <a:noFill/>
              <a:ln w="9360">
                <a:solidFill>
                  <a:srgbClr val="fffff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3ABD-61BE-4E13-830D-998E6CDA1A37}" type="slidenum">
              <a:t>20</a:t>
            </a:fld>
          </a:p>
        </p:txBody>
      </p:sp>
    </p:spTree>
  </p:cSld>
  <p:transition spd="med">
    <p:fad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"/>
          <p:cNvGrpSpPr/>
          <p:nvPr/>
        </p:nvGrpSpPr>
        <p:grpSpPr>
          <a:xfrm>
            <a:off x="2195640" y="6237360"/>
            <a:ext cx="2236680" cy="442800"/>
            <a:chOff x="2195640" y="6237360"/>
            <a:chExt cx="2236680" cy="442800"/>
          </a:xfrm>
        </p:grpSpPr>
        <p:sp>
          <p:nvSpPr>
            <p:cNvPr id="1233" name=""/>
            <p:cNvSpPr/>
            <p:nvPr/>
          </p:nvSpPr>
          <p:spPr>
            <a:xfrm>
              <a:off x="2195640" y="6291360"/>
              <a:ext cx="1076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0520" bIns="96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03280" y="6316920"/>
              <a:ext cx="265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4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mmi10"/>
                </a:rPr>
                <a:t>L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66800" y="6291360"/>
              <a:ext cx="108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0520" bIns="96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782800" y="6336000"/>
              <a:ext cx="3016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5880" bIns="52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msy10"/>
                </a:rPr>
                <a:t>·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193920" y="6332760"/>
              <a:ext cx="1936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mr10"/>
                </a:rPr>
                <a:t>2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87600" y="6324840"/>
              <a:ext cx="192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5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mmi7"/>
                </a:rPr>
                <a:t>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79840" y="6237360"/>
              <a:ext cx="15876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66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mmi7"/>
                </a:rPr>
                <a:t>=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738600" y="6265800"/>
              <a:ext cx="15552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mr7"/>
                </a:rPr>
                <a:t>2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043160" y="6440760"/>
              <a:ext cx="38916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360" bIns="-101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cmsy10"/>
                </a:rPr>
                <a:t>)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95640" y="6237360"/>
              <a:ext cx="2236680" cy="44280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Sender-Privacy: Transformation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395280" y="876600"/>
            <a:ext cx="2337840" cy="810360"/>
            <a:chOff x="395280" y="876600"/>
            <a:chExt cx="2337840" cy="810360"/>
          </a:xfrm>
        </p:grpSpPr>
        <p:grpSp>
          <p:nvGrpSpPr>
            <p:cNvPr id="1245" name=""/>
            <p:cNvGrpSpPr/>
            <p:nvPr/>
          </p:nvGrpSpPr>
          <p:grpSpPr>
            <a:xfrm>
              <a:off x="2019600" y="876600"/>
              <a:ext cx="713520" cy="713880"/>
              <a:chOff x="2019600" y="876600"/>
              <a:chExt cx="713520" cy="713880"/>
            </a:xfrm>
          </p:grpSpPr>
          <p:sp>
            <p:nvSpPr>
              <p:cNvPr id="1246" name=""/>
              <p:cNvSpPr/>
              <p:nvPr/>
            </p:nvSpPr>
            <p:spPr>
              <a:xfrm rot="2700000">
                <a:off x="2124000" y="981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V="1">
                <a:off x="2214000" y="1069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 flipV="1">
                <a:off x="2212560" y="1070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 flipV="1">
                <a:off x="2376000" y="1004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2147400" y="1233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877680" y="922680"/>
              <a:ext cx="763920" cy="764280"/>
              <a:chOff x="877680" y="922680"/>
              <a:chExt cx="763920" cy="764280"/>
            </a:xfrm>
          </p:grpSpPr>
          <p:sp>
            <p:nvSpPr>
              <p:cNvPr id="1252" name=""/>
              <p:cNvSpPr/>
              <p:nvPr/>
            </p:nvSpPr>
            <p:spPr>
              <a:xfrm rot="2700000">
                <a:off x="936000" y="108792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1120320" y="116316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 flipV="1">
                <a:off x="1049760" y="109548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 flipV="1">
                <a:off x="1259640" y="101124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1062720" y="130464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1503720" y="902520"/>
              <a:ext cx="662040" cy="662040"/>
              <a:chOff x="1503720" y="902520"/>
              <a:chExt cx="662040" cy="662040"/>
            </a:xfrm>
          </p:grpSpPr>
          <p:sp>
            <p:nvSpPr>
              <p:cNvPr id="1258" name=""/>
              <p:cNvSpPr/>
              <p:nvPr/>
            </p:nvSpPr>
            <p:spPr>
              <a:xfrm rot="2700000">
                <a:off x="1582200" y="101772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1696320" y="109296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 flipV="1">
                <a:off x="1671120" y="107100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 flipV="1">
                <a:off x="1835280" y="100440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>
                <a:off x="1639440" y="123336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395280" y="981000"/>
              <a:ext cx="504720" cy="504720"/>
              <a:chOff x="395280" y="981000"/>
              <a:chExt cx="504720" cy="504720"/>
            </a:xfrm>
          </p:grpSpPr>
          <p:sp>
            <p:nvSpPr>
              <p:cNvPr id="1264" name=""/>
              <p:cNvSpPr/>
              <p:nvPr/>
            </p:nvSpPr>
            <p:spPr>
              <a:xfrm>
                <a:off x="395280" y="98100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446040" y="123300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266" name=""/>
          <p:cNvGrpSpPr/>
          <p:nvPr/>
        </p:nvGrpSpPr>
        <p:grpSpPr>
          <a:xfrm>
            <a:off x="2701800" y="1014480"/>
            <a:ext cx="574560" cy="685800"/>
            <a:chOff x="2701800" y="1014480"/>
            <a:chExt cx="574560" cy="685800"/>
          </a:xfrm>
        </p:grpSpPr>
        <p:sp>
          <p:nvSpPr>
            <p:cNvPr id="1267" name=""/>
            <p:cNvSpPr/>
            <p:nvPr/>
          </p:nvSpPr>
          <p:spPr>
            <a:xfrm flipV="1">
              <a:off x="2989080" y="10144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01800" y="1123920"/>
              <a:ext cx="574560" cy="576360"/>
            </a:xfrm>
            <a:prstGeom prst="blockArc">
              <a:avLst>
                <a:gd name="adj1" fmla="val 11550976"/>
                <a:gd name="adj2" fmla="val 20849024"/>
                <a:gd name="adj3" fmla="val 86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9" name=""/>
          <p:cNvSpPr/>
          <p:nvPr/>
        </p:nvSpPr>
        <p:spPr>
          <a:xfrm>
            <a:off x="250920" y="1916280"/>
            <a:ext cx="8713800" cy="3313080"/>
          </a:xfrm>
          <a:prstGeom prst="wedgeRoundRectCallout">
            <a:avLst>
              <a:gd name="adj1" fmla="val -34023"/>
              <a:gd name="adj2" fmla="val -64375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851280" y="4149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40328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40256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04292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2627280" y="2133720"/>
            <a:ext cx="504720" cy="504720"/>
            <a:chOff x="2627280" y="2133720"/>
            <a:chExt cx="504720" cy="504720"/>
          </a:xfrm>
        </p:grpSpPr>
        <p:sp>
          <p:nvSpPr>
            <p:cNvPr id="1275" name=""/>
            <p:cNvSpPr/>
            <p:nvPr/>
          </p:nvSpPr>
          <p:spPr>
            <a:xfrm>
              <a:off x="2627280" y="213372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 flipV="1">
              <a:off x="2879640" y="215712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2678040" y="238572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"/>
          <p:cNvSpPr/>
          <p:nvPr/>
        </p:nvSpPr>
        <p:spPr>
          <a:xfrm>
            <a:off x="392436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419640" y="443556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771640" y="4148280"/>
            <a:ext cx="14616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635280" y="4508640"/>
            <a:ext cx="14472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87640" y="4363920"/>
            <a:ext cx="14436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56000" y="4149720"/>
            <a:ext cx="14580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476360" y="2852640"/>
            <a:ext cx="793800" cy="1727280"/>
            <a:chOff x="1476360" y="2852640"/>
            <a:chExt cx="793800" cy="1727280"/>
          </a:xfrm>
        </p:grpSpPr>
        <p:sp>
          <p:nvSpPr>
            <p:cNvPr id="1285" name=""/>
            <p:cNvSpPr/>
            <p:nvPr/>
          </p:nvSpPr>
          <p:spPr>
            <a:xfrm>
              <a:off x="1476360" y="2852640"/>
              <a:ext cx="142920" cy="1727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124000" y="3787920"/>
              <a:ext cx="14616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908000" y="3573360"/>
              <a:ext cx="14292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92360" y="3213000"/>
              <a:ext cx="144360" cy="13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3203640" y="443700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340000" y="4005360"/>
            <a:ext cx="14436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7059960" y="2029320"/>
            <a:ext cx="713520" cy="713880"/>
            <a:chOff x="7059960" y="2029320"/>
            <a:chExt cx="713520" cy="713880"/>
          </a:xfrm>
        </p:grpSpPr>
        <p:sp>
          <p:nvSpPr>
            <p:cNvPr id="1292" name=""/>
            <p:cNvSpPr/>
            <p:nvPr/>
          </p:nvSpPr>
          <p:spPr>
            <a:xfrm rot="2700000">
              <a:off x="7164360" y="213372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7255800" y="222408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 flipV="1">
              <a:off x="7254360" y="222516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7813800" y="414972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536580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36508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00544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788688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946920" y="4149720"/>
            <a:ext cx="14436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435640" y="2492280"/>
            <a:ext cx="142920" cy="208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08328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7380360" y="4437000"/>
            <a:ext cx="144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300720" y="3789360"/>
            <a:ext cx="14292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730920" y="4076640"/>
            <a:ext cx="142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651640" y="3068640"/>
            <a:ext cx="144360" cy="151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7162920" y="4292640"/>
            <a:ext cx="14436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86728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515280" y="3933720"/>
            <a:ext cx="1443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654120" y="3478320"/>
            <a:ext cx="604800" cy="38232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 flipV="1">
            <a:off x="2306520" y="2349360"/>
            <a:ext cx="0" cy="2735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2" name="" descr=""/>
          <p:cNvPicPr/>
          <p:nvPr/>
        </p:nvPicPr>
        <p:blipFill>
          <a:blip r:embed="rId2"/>
          <a:stretch/>
        </p:blipFill>
        <p:spPr>
          <a:xfrm>
            <a:off x="2932200" y="4613400"/>
            <a:ext cx="299880" cy="360360"/>
          </a:xfrm>
          <a:prstGeom prst="rect">
            <a:avLst/>
          </a:prstGeom>
          <a:ln w="0">
            <a:noFill/>
          </a:ln>
        </p:spPr>
      </p:pic>
      <p:sp>
        <p:nvSpPr>
          <p:cNvPr id="1313" name=""/>
          <p:cNvSpPr/>
          <p:nvPr/>
        </p:nvSpPr>
        <p:spPr>
          <a:xfrm>
            <a:off x="3708360" y="2276640"/>
            <a:ext cx="1058760" cy="231480"/>
          </a:xfrm>
          <a:custGeom>
            <a:avLst/>
            <a:gdLst/>
            <a:ahLst/>
            <a:rect l="l" t="t" r="r" b="b"/>
            <a:pathLst>
              <a:path w="667" h="146">
                <a:moveTo>
                  <a:pt x="0" y="146"/>
                </a:moveTo>
                <a:cubicBezTo>
                  <a:pt x="55" y="122"/>
                  <a:pt x="219" y="4"/>
                  <a:pt x="330" y="2"/>
                </a:cubicBezTo>
                <a:cubicBezTo>
                  <a:pt x="441" y="0"/>
                  <a:pt x="597" y="108"/>
                  <a:pt x="667" y="13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3830760" y="2459160"/>
            <a:ext cx="879480" cy="399960"/>
          </a:xfrm>
          <a:prstGeom prst="rect">
            <a:avLst/>
          </a:prstGeom>
          <a:ln w="0">
            <a:noFill/>
          </a:ln>
        </p:spPr>
      </p:pic>
      <p:grpSp>
        <p:nvGrpSpPr>
          <p:cNvPr id="1315" name=""/>
          <p:cNvGrpSpPr/>
          <p:nvPr/>
        </p:nvGrpSpPr>
        <p:grpSpPr>
          <a:xfrm>
            <a:off x="5430960" y="4221000"/>
            <a:ext cx="2089080" cy="360360"/>
            <a:chOff x="5430960" y="4221000"/>
            <a:chExt cx="2089080" cy="360360"/>
          </a:xfrm>
        </p:grpSpPr>
        <p:sp>
          <p:nvSpPr>
            <p:cNvPr id="1316" name=""/>
            <p:cNvSpPr/>
            <p:nvPr/>
          </p:nvSpPr>
          <p:spPr>
            <a:xfrm>
              <a:off x="7375680" y="4508640"/>
              <a:ext cx="144360" cy="7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430960" y="4292640"/>
              <a:ext cx="144360" cy="288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296040" y="4292640"/>
              <a:ext cx="142920" cy="288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43680" y="4365720"/>
              <a:ext cx="144720" cy="212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12040" y="4365720"/>
              <a:ext cx="142920" cy="215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28040" y="4437000"/>
              <a:ext cx="144360" cy="141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862600" y="4292640"/>
              <a:ext cx="144720" cy="288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159680" y="443700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080040" y="4437000"/>
              <a:ext cx="14292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646960" y="4221000"/>
              <a:ext cx="14436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1476360" y="2854440"/>
            <a:ext cx="793800" cy="1726920"/>
            <a:chOff x="1476360" y="2854440"/>
            <a:chExt cx="793800" cy="1726920"/>
          </a:xfrm>
        </p:grpSpPr>
        <p:sp>
          <p:nvSpPr>
            <p:cNvPr id="1327" name=""/>
            <p:cNvSpPr/>
            <p:nvPr/>
          </p:nvSpPr>
          <p:spPr>
            <a:xfrm>
              <a:off x="1476360" y="2854440"/>
              <a:ext cx="142920" cy="172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124000" y="3789360"/>
              <a:ext cx="146160" cy="79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908000" y="3574800"/>
              <a:ext cx="142920" cy="1006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92360" y="3214440"/>
              <a:ext cx="144360" cy="136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1258920" y="3851280"/>
            <a:ext cx="273672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757080" y="5227560"/>
            <a:ext cx="7788240" cy="1527120"/>
            <a:chOff x="757080" y="5227560"/>
            <a:chExt cx="7788240" cy="1527120"/>
          </a:xfrm>
        </p:grpSpPr>
        <p:sp>
          <p:nvSpPr>
            <p:cNvPr id="1333" name=""/>
            <p:cNvSpPr/>
            <p:nvPr/>
          </p:nvSpPr>
          <p:spPr>
            <a:xfrm>
              <a:off x="757080" y="5495760"/>
              <a:ext cx="289080" cy="2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61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mi10"/>
                </a:rPr>
                <a:t>H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076400" y="5438520"/>
              <a:ext cx="2174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480" bIns="28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sy7"/>
                </a:rPr>
                <a:t>­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293840" y="5484600"/>
              <a:ext cx="1713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557360" y="5368680"/>
              <a:ext cx="50328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2760" bIns="521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ex10"/>
                </a:rPr>
                <a:t>X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541520" y="6044760"/>
              <a:ext cx="15876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98480" y="6009840"/>
              <a:ext cx="187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17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sy7"/>
                </a:rPr>
                <a:t>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886040" y="5984640"/>
              <a:ext cx="19044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4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L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135160" y="5486040"/>
              <a:ext cx="290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600" bIns="33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sy10"/>
                </a:rPr>
                <a:t>p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425680" y="5492520"/>
              <a:ext cx="350640" cy="0"/>
            </a:xfrm>
            <a:prstGeom prst="line">
              <a:avLst/>
            </a:prstGeom>
            <a:ln w="140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25680" y="5582880"/>
              <a:ext cx="1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66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mi10"/>
                </a:rPr>
                <a:t>p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01720" y="5679720"/>
              <a:ext cx="1587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76320" y="5472000"/>
              <a:ext cx="96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sy10"/>
                </a:rPr>
                <a:t>j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873160" y="5582880"/>
              <a:ext cx="1987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mi10"/>
                </a:rPr>
                <a:t>x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071880" y="5472000"/>
              <a:ext cx="1346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sy10"/>
                </a:rPr>
                <a:t>i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305160" y="560520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671640" y="5368680"/>
              <a:ext cx="50328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2760" bIns="521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4c00"/>
                  </a:solidFill>
                  <a:latin typeface="cmex10"/>
                </a:rPr>
                <a:t>X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852720" y="6028920"/>
              <a:ext cx="1335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4c00"/>
                  </a:solidFill>
                  <a:latin typeface="cmmi7"/>
                </a:rPr>
                <a:t>z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233600" y="5229000"/>
              <a:ext cx="257400" cy="83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" bIns="820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4c00"/>
                  </a:solidFill>
                  <a:latin typeface="cmex10"/>
                </a:rPr>
                <a:t>µ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48240" y="550836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r10"/>
                </a:rPr>
                <a:t>2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722840" y="5438520"/>
              <a:ext cx="21744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480" bIns="28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sy7"/>
                </a:rPr>
                <a:t>¡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940280" y="5484600"/>
              <a:ext cx="1713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111640" y="5406840"/>
              <a:ext cx="14292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800" bIns="59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=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254560" y="5433840"/>
              <a:ext cx="13824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1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r7"/>
                </a:rPr>
                <a:t>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86400" y="5368680"/>
              <a:ext cx="50328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2760" bIns="521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ex10"/>
                </a:rPr>
                <a:t>X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68760" y="6044760"/>
              <a:ext cx="15876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627520" y="6009840"/>
              <a:ext cx="18756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17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sy7"/>
                </a:rPr>
                <a:t>2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15080" y="5984640"/>
              <a:ext cx="19044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4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L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064200" y="5486040"/>
              <a:ext cx="2905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600" bIns="33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sy10"/>
                </a:rPr>
                <a:t>p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54720" y="5492520"/>
              <a:ext cx="350640" cy="0"/>
            </a:xfrm>
            <a:prstGeom prst="line">
              <a:avLst/>
            </a:prstGeom>
            <a:ln w="140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54720" y="5582880"/>
              <a:ext cx="174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66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mi10"/>
                </a:rPr>
                <a:t>p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529320" y="5679720"/>
              <a:ext cx="1587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705360" y="5472000"/>
              <a:ext cx="135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r10"/>
                </a:rPr>
                <a:t>(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840360" y="5530680"/>
              <a:ext cx="2714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240" bIns="28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sy10"/>
                </a:rPr>
                <a:t>¡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111800" y="550836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r10"/>
                </a:rPr>
                <a:t>1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284960" y="5472000"/>
              <a:ext cx="135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00"/>
                  </a:solidFill>
                  <a:latin typeface="cmr10"/>
                </a:rPr>
                <a:t>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421400" y="5484600"/>
              <a:ext cx="1587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x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578720" y="5476680"/>
              <a:ext cx="8244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16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sy7"/>
                </a:rPr>
                <a:t>¢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661160" y="5484600"/>
              <a:ext cx="13320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cmmi7"/>
                </a:rPr>
                <a:t>z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48240" y="6306840"/>
              <a:ext cx="15696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ex10"/>
                </a:rPr>
                <a:t>|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05200" y="6327360"/>
              <a:ext cx="1322280" cy="0"/>
            </a:xfrm>
            <a:prstGeom prst="line">
              <a:avLst/>
            </a:prstGeom>
            <a:ln w="41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027480" y="6306840"/>
              <a:ext cx="1573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ex10"/>
                </a:rPr>
                <a:t>{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184800" y="6306840"/>
              <a:ext cx="1573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ex10"/>
                </a:rPr>
                <a:t>z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42120" y="6327360"/>
              <a:ext cx="1323720" cy="0"/>
            </a:xfrm>
            <a:prstGeom prst="line">
              <a:avLst/>
            </a:prstGeom>
            <a:ln w="41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665840" y="6306840"/>
              <a:ext cx="1573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1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ex10"/>
                </a:rPr>
                <a:t>}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611680" y="6527520"/>
              <a:ext cx="2174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44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sy7"/>
                </a:rPr>
                <a:t>·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29120" y="6589440"/>
              <a:ext cx="17172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mi7"/>
                </a:rPr>
                <a:t>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002280" y="6589440"/>
              <a:ext cx="13176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mi7"/>
                </a:rPr>
                <a:t>e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134040" y="6589440"/>
              <a:ext cx="13644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mi7"/>
                </a:rPr>
                <a:t>g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278400" y="6526080"/>
              <a:ext cx="8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77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mi7"/>
                </a:rPr>
                <a:t>l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367320" y="6511680"/>
              <a:ext cx="109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160" bIns="601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76760" y="6589440"/>
              <a:ext cx="171720" cy="1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mi7"/>
                </a:rPr>
                <a:t>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649920" y="6511680"/>
              <a:ext cx="109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160" bIns="601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80400" y="5229000"/>
              <a:ext cx="257040" cy="83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" bIns="820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4c00"/>
                  </a:solidFill>
                  <a:latin typeface="cmex10"/>
                </a:rPr>
                <a:t>¶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136000" y="5472000"/>
              <a:ext cx="96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4c00"/>
                  </a:solidFill>
                  <a:latin typeface="cmsy10"/>
                </a:rPr>
                <a:t>j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232840" y="5582880"/>
              <a:ext cx="1616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4c00"/>
                  </a:solidFill>
                  <a:latin typeface="cmmi10"/>
                </a:rPr>
                <a:t>z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410320" y="5472000"/>
              <a:ext cx="13500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4c00"/>
                  </a:solidFill>
                  <a:latin typeface="cmsy10"/>
                </a:rPr>
                <a:t>i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57080" y="5227560"/>
              <a:ext cx="7788240" cy="15271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3995640" y="6237360"/>
            <a:ext cx="3961080" cy="620640"/>
          </a:xfrm>
          <a:prstGeom prst="rect">
            <a:avLst/>
          </a:prstGeom>
          <a:noFill/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1" name="" descr=""/>
          <p:cNvPicPr/>
          <p:nvPr/>
        </p:nvPicPr>
        <p:blipFill>
          <a:blip r:embed="rId4"/>
          <a:stretch/>
        </p:blipFill>
        <p:spPr>
          <a:xfrm>
            <a:off x="1692360" y="4621320"/>
            <a:ext cx="299880" cy="320400"/>
          </a:xfrm>
          <a:prstGeom prst="rect">
            <a:avLst/>
          </a:prstGeom>
          <a:ln w="0">
            <a:noFill/>
          </a:ln>
        </p:spPr>
      </p:pic>
      <p:grpSp>
        <p:nvGrpSpPr>
          <p:cNvPr id="1392" name=""/>
          <p:cNvGrpSpPr/>
          <p:nvPr/>
        </p:nvGrpSpPr>
        <p:grpSpPr>
          <a:xfrm>
            <a:off x="4614840" y="2349360"/>
            <a:ext cx="3341160" cy="2735280"/>
            <a:chOff x="4614840" y="2349360"/>
            <a:chExt cx="3341160" cy="2735280"/>
          </a:xfrm>
        </p:grpSpPr>
        <p:pic>
          <p:nvPicPr>
            <p:cNvPr id="1393" name="" descr=""/>
            <p:cNvPicPr/>
            <p:nvPr/>
          </p:nvPicPr>
          <p:blipFill>
            <a:blip r:embed="rId5"/>
            <a:stretch/>
          </p:blipFill>
          <p:spPr>
            <a:xfrm>
              <a:off x="4614840" y="3478320"/>
              <a:ext cx="60480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4" name=""/>
            <p:cNvSpPr/>
            <p:nvPr/>
          </p:nvSpPr>
          <p:spPr>
            <a:xfrm>
              <a:off x="5218920" y="3851280"/>
              <a:ext cx="2737080" cy="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6481800" y="2349360"/>
              <a:ext cx="0" cy="27352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96" name="" descr=""/>
            <p:cNvPicPr/>
            <p:nvPr/>
          </p:nvPicPr>
          <p:blipFill>
            <a:blip r:embed="rId6"/>
            <a:stretch/>
          </p:blipFill>
          <p:spPr>
            <a:xfrm>
              <a:off x="6910560" y="4611600"/>
              <a:ext cx="29988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7" name="" descr=""/>
            <p:cNvPicPr/>
            <p:nvPr/>
          </p:nvPicPr>
          <p:blipFill>
            <a:blip r:embed="rId7"/>
            <a:stretch/>
          </p:blipFill>
          <p:spPr>
            <a:xfrm>
              <a:off x="5711760" y="4621320"/>
              <a:ext cx="30024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12BE-F5C9-4C46-9B45-F3EACA9B2CA9}" type="slidenum">
              <a:t>21</a:t>
            </a:fld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0.13612 -0.10023 C 0.16459 -0.12292 0.2073 -0.13519 0.25174 -0.13519 C 0.30244 -0.13519 0.34306 -0.12292 0.37153 -0.10023 L 0.50782 2.59259E-006 E">
                                      <p:cBhvr>
                                        <p:cTn id="623" dur="2000" fill="hold"/>
                                        <p:tgtEl>
                                          <p:spTgt spid="1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Sender-Privacy: Uncertainty Relation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395280" y="876600"/>
            <a:ext cx="2337840" cy="810360"/>
            <a:chOff x="395280" y="876600"/>
            <a:chExt cx="2337840" cy="810360"/>
          </a:xfrm>
        </p:grpSpPr>
        <p:grpSp>
          <p:nvGrpSpPr>
            <p:cNvPr id="1400" name=""/>
            <p:cNvGrpSpPr/>
            <p:nvPr/>
          </p:nvGrpSpPr>
          <p:grpSpPr>
            <a:xfrm>
              <a:off x="2019600" y="876600"/>
              <a:ext cx="713520" cy="713880"/>
              <a:chOff x="2019600" y="876600"/>
              <a:chExt cx="713520" cy="713880"/>
            </a:xfrm>
          </p:grpSpPr>
          <p:sp>
            <p:nvSpPr>
              <p:cNvPr id="1401" name=""/>
              <p:cNvSpPr/>
              <p:nvPr/>
            </p:nvSpPr>
            <p:spPr>
              <a:xfrm rot="2700000">
                <a:off x="2124000" y="981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V="1">
                <a:off x="2214000" y="1069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 flipH="1" flipV="1">
                <a:off x="2212560" y="1070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 flipV="1">
                <a:off x="2376000" y="1004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H="1">
                <a:off x="2147400" y="1233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877680" y="922680"/>
              <a:ext cx="763920" cy="764280"/>
              <a:chOff x="877680" y="922680"/>
              <a:chExt cx="763920" cy="764280"/>
            </a:xfrm>
          </p:grpSpPr>
          <p:sp>
            <p:nvSpPr>
              <p:cNvPr id="1407" name=""/>
              <p:cNvSpPr/>
              <p:nvPr/>
            </p:nvSpPr>
            <p:spPr>
              <a:xfrm rot="2700000">
                <a:off x="936000" y="108792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V="1">
                <a:off x="1120320" y="116316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 flipV="1">
                <a:off x="1049760" y="109548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 flipH="1" flipV="1">
                <a:off x="1259640" y="101124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>
                <a:off x="1062720" y="130464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1503720" y="902520"/>
              <a:ext cx="662040" cy="662040"/>
              <a:chOff x="1503720" y="902520"/>
              <a:chExt cx="662040" cy="662040"/>
            </a:xfrm>
          </p:grpSpPr>
          <p:sp>
            <p:nvSpPr>
              <p:cNvPr id="1413" name=""/>
              <p:cNvSpPr/>
              <p:nvPr/>
            </p:nvSpPr>
            <p:spPr>
              <a:xfrm rot="2700000">
                <a:off x="1582200" y="101772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V="1">
                <a:off x="1696320" y="109296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 flipV="1">
                <a:off x="1671120" y="107100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 flipV="1">
                <a:off x="1835280" y="100440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1639440" y="123336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395280" y="981000"/>
              <a:ext cx="504720" cy="504720"/>
              <a:chOff x="395280" y="981000"/>
              <a:chExt cx="504720" cy="504720"/>
            </a:xfrm>
          </p:grpSpPr>
          <p:sp>
            <p:nvSpPr>
              <p:cNvPr id="1419" name=""/>
              <p:cNvSpPr/>
              <p:nvPr/>
            </p:nvSpPr>
            <p:spPr>
              <a:xfrm>
                <a:off x="395280" y="98100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V="1">
                <a:off x="446040" y="123300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21" name=""/>
          <p:cNvGrpSpPr/>
          <p:nvPr/>
        </p:nvGrpSpPr>
        <p:grpSpPr>
          <a:xfrm>
            <a:off x="2701800" y="1014480"/>
            <a:ext cx="574560" cy="685800"/>
            <a:chOff x="2701800" y="1014480"/>
            <a:chExt cx="574560" cy="685800"/>
          </a:xfrm>
        </p:grpSpPr>
        <p:sp>
          <p:nvSpPr>
            <p:cNvPr id="1422" name=""/>
            <p:cNvSpPr/>
            <p:nvPr/>
          </p:nvSpPr>
          <p:spPr>
            <a:xfrm flipV="1">
              <a:off x="2989080" y="10144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701800" y="1123920"/>
              <a:ext cx="574560" cy="576360"/>
            </a:xfrm>
            <a:prstGeom prst="blockArc">
              <a:avLst>
                <a:gd name="adj1" fmla="val 11550976"/>
                <a:gd name="adj2" fmla="val 20849024"/>
                <a:gd name="adj3" fmla="val 86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250920" y="1916280"/>
            <a:ext cx="8713800" cy="3313080"/>
          </a:xfrm>
          <a:prstGeom prst="wedgeRoundRectCallout">
            <a:avLst>
              <a:gd name="adj1" fmla="val -34023"/>
              <a:gd name="adj2" fmla="val -64375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851280" y="4149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140328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40256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104292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2627280" y="2133720"/>
            <a:ext cx="504720" cy="504720"/>
            <a:chOff x="2627280" y="2133720"/>
            <a:chExt cx="504720" cy="504720"/>
          </a:xfrm>
        </p:grpSpPr>
        <p:sp>
          <p:nvSpPr>
            <p:cNvPr id="1430" name=""/>
            <p:cNvSpPr/>
            <p:nvPr/>
          </p:nvSpPr>
          <p:spPr>
            <a:xfrm>
              <a:off x="2627280" y="213372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2879640" y="215712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2678040" y="238572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3" name=""/>
          <p:cNvSpPr/>
          <p:nvPr/>
        </p:nvSpPr>
        <p:spPr>
          <a:xfrm>
            <a:off x="392436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419640" y="443556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771640" y="4148280"/>
            <a:ext cx="14616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3635280" y="4508640"/>
            <a:ext cx="14472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2987640" y="4363920"/>
            <a:ext cx="14436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2556000" y="4149720"/>
            <a:ext cx="14580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1476360" y="2852640"/>
            <a:ext cx="793800" cy="1727280"/>
            <a:chOff x="1476360" y="2852640"/>
            <a:chExt cx="793800" cy="1727280"/>
          </a:xfrm>
        </p:grpSpPr>
        <p:sp>
          <p:nvSpPr>
            <p:cNvPr id="1440" name=""/>
            <p:cNvSpPr/>
            <p:nvPr/>
          </p:nvSpPr>
          <p:spPr>
            <a:xfrm>
              <a:off x="1476360" y="2852640"/>
              <a:ext cx="142920" cy="1727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24000" y="3787920"/>
              <a:ext cx="14616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908000" y="3573360"/>
              <a:ext cx="14292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692360" y="3213000"/>
              <a:ext cx="144360" cy="13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4" name=""/>
          <p:cNvSpPr/>
          <p:nvPr/>
        </p:nvSpPr>
        <p:spPr>
          <a:xfrm>
            <a:off x="3203640" y="443700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340000" y="4005360"/>
            <a:ext cx="14436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6" name=""/>
          <p:cNvGrpSpPr/>
          <p:nvPr/>
        </p:nvGrpSpPr>
        <p:grpSpPr>
          <a:xfrm>
            <a:off x="7059960" y="2029320"/>
            <a:ext cx="713520" cy="713880"/>
            <a:chOff x="7059960" y="2029320"/>
            <a:chExt cx="713520" cy="713880"/>
          </a:xfrm>
        </p:grpSpPr>
        <p:sp>
          <p:nvSpPr>
            <p:cNvPr id="1447" name=""/>
            <p:cNvSpPr/>
            <p:nvPr/>
          </p:nvSpPr>
          <p:spPr>
            <a:xfrm rot="2700000">
              <a:off x="7164360" y="213372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7255800" y="222408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 flipV="1">
              <a:off x="7254360" y="222516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0" name=""/>
          <p:cNvSpPr/>
          <p:nvPr/>
        </p:nvSpPr>
        <p:spPr>
          <a:xfrm>
            <a:off x="7813800" y="414972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536580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536508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00544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788688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6946920" y="4149720"/>
            <a:ext cx="14436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5435640" y="2492280"/>
            <a:ext cx="142920" cy="208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08328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7380360" y="4437000"/>
            <a:ext cx="144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00720" y="3789360"/>
            <a:ext cx="14292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730920" y="4076640"/>
            <a:ext cx="142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651640" y="3068640"/>
            <a:ext cx="144360" cy="151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7162920" y="4292640"/>
            <a:ext cx="14436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86728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15280" y="3933720"/>
            <a:ext cx="1443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654120" y="3478320"/>
            <a:ext cx="604800" cy="38232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 flipV="1">
            <a:off x="2306520" y="2349360"/>
            <a:ext cx="0" cy="2735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2"/>
          <a:stretch/>
        </p:blipFill>
        <p:spPr>
          <a:xfrm>
            <a:off x="2932200" y="4613400"/>
            <a:ext cx="299880" cy="360360"/>
          </a:xfrm>
          <a:prstGeom prst="rect">
            <a:avLst/>
          </a:prstGeom>
          <a:ln w="0">
            <a:noFill/>
          </a:ln>
        </p:spPr>
      </p:pic>
      <p:sp>
        <p:nvSpPr>
          <p:cNvPr id="1468" name=""/>
          <p:cNvSpPr/>
          <p:nvPr/>
        </p:nvSpPr>
        <p:spPr>
          <a:xfrm>
            <a:off x="3708360" y="2276640"/>
            <a:ext cx="1058760" cy="231480"/>
          </a:xfrm>
          <a:custGeom>
            <a:avLst/>
            <a:gdLst/>
            <a:ahLst/>
            <a:rect l="l" t="t" r="r" b="b"/>
            <a:pathLst>
              <a:path w="667" h="146">
                <a:moveTo>
                  <a:pt x="0" y="146"/>
                </a:moveTo>
                <a:cubicBezTo>
                  <a:pt x="55" y="122"/>
                  <a:pt x="219" y="4"/>
                  <a:pt x="330" y="2"/>
                </a:cubicBezTo>
                <a:cubicBezTo>
                  <a:pt x="441" y="0"/>
                  <a:pt x="597" y="108"/>
                  <a:pt x="667" y="13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9" name="" descr=""/>
          <p:cNvPicPr/>
          <p:nvPr/>
        </p:nvPicPr>
        <p:blipFill>
          <a:blip r:embed="rId3"/>
          <a:stretch/>
        </p:blipFill>
        <p:spPr>
          <a:xfrm>
            <a:off x="3830760" y="2459160"/>
            <a:ext cx="879480" cy="39996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4"/>
          <a:stretch/>
        </p:blipFill>
        <p:spPr>
          <a:xfrm>
            <a:off x="4614840" y="3478320"/>
            <a:ext cx="604800" cy="38232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>
            <a:off x="5218920" y="3851280"/>
            <a:ext cx="273708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6481800" y="2349360"/>
            <a:ext cx="0" cy="27352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5"/>
          <a:stretch/>
        </p:blipFill>
        <p:spPr>
          <a:xfrm>
            <a:off x="6910560" y="4611600"/>
            <a:ext cx="299880" cy="360360"/>
          </a:xfrm>
          <a:prstGeom prst="rect">
            <a:avLst/>
          </a:prstGeom>
          <a:ln w="0">
            <a:noFill/>
          </a:ln>
        </p:spPr>
      </p:pic>
      <p:grpSp>
        <p:nvGrpSpPr>
          <p:cNvPr id="1474" name=""/>
          <p:cNvGrpSpPr/>
          <p:nvPr/>
        </p:nvGrpSpPr>
        <p:grpSpPr>
          <a:xfrm>
            <a:off x="5430960" y="4221000"/>
            <a:ext cx="2089080" cy="360360"/>
            <a:chOff x="5430960" y="4221000"/>
            <a:chExt cx="2089080" cy="360360"/>
          </a:xfrm>
        </p:grpSpPr>
        <p:sp>
          <p:nvSpPr>
            <p:cNvPr id="1475" name=""/>
            <p:cNvSpPr/>
            <p:nvPr/>
          </p:nvSpPr>
          <p:spPr>
            <a:xfrm>
              <a:off x="7375680" y="4508640"/>
              <a:ext cx="144360" cy="72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430960" y="4292640"/>
              <a:ext cx="144360" cy="288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96040" y="4292640"/>
              <a:ext cx="142920" cy="288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943680" y="4365720"/>
              <a:ext cx="144720" cy="212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512040" y="4365720"/>
              <a:ext cx="142920" cy="215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728040" y="4437000"/>
              <a:ext cx="144360" cy="141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862600" y="4292640"/>
              <a:ext cx="144720" cy="288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159680" y="4437000"/>
              <a:ext cx="14436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080040" y="4437000"/>
              <a:ext cx="142920" cy="144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646960" y="4221000"/>
              <a:ext cx="144360" cy="360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1476360" y="2854440"/>
            <a:ext cx="793800" cy="1726920"/>
            <a:chOff x="1476360" y="2854440"/>
            <a:chExt cx="793800" cy="1726920"/>
          </a:xfrm>
        </p:grpSpPr>
        <p:sp>
          <p:nvSpPr>
            <p:cNvPr id="1486" name=""/>
            <p:cNvSpPr/>
            <p:nvPr/>
          </p:nvSpPr>
          <p:spPr>
            <a:xfrm>
              <a:off x="1476360" y="2854440"/>
              <a:ext cx="142920" cy="172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124000" y="3789360"/>
              <a:ext cx="146160" cy="79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908000" y="3574800"/>
              <a:ext cx="142920" cy="1006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692360" y="3214440"/>
              <a:ext cx="144360" cy="136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0" name=""/>
          <p:cNvSpPr/>
          <p:nvPr/>
        </p:nvSpPr>
        <p:spPr>
          <a:xfrm>
            <a:off x="1258920" y="3851280"/>
            <a:ext cx="273672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1" name="" descr=""/>
          <p:cNvPicPr/>
          <p:nvPr/>
        </p:nvPicPr>
        <p:blipFill>
          <a:blip r:embed="rId6"/>
          <a:stretch/>
        </p:blipFill>
        <p:spPr>
          <a:xfrm>
            <a:off x="1116000" y="6130800"/>
            <a:ext cx="5516640" cy="439920"/>
          </a:xfrm>
          <a:prstGeom prst="rect">
            <a:avLst/>
          </a:prstGeom>
          <a:ln w="0">
            <a:noFill/>
          </a:ln>
        </p:spPr>
      </p:pic>
      <p:pic>
        <p:nvPicPr>
          <p:cNvPr id="1492" name="" descr=""/>
          <p:cNvPicPr/>
          <p:nvPr/>
        </p:nvPicPr>
        <p:blipFill>
          <a:blip r:embed="rId7"/>
          <a:stretch/>
        </p:blipFill>
        <p:spPr>
          <a:xfrm>
            <a:off x="1692360" y="4621320"/>
            <a:ext cx="299880" cy="320400"/>
          </a:xfrm>
          <a:prstGeom prst="rect">
            <a:avLst/>
          </a:prstGeom>
          <a:ln w="0">
            <a:noFill/>
          </a:ln>
        </p:spPr>
      </p:pic>
      <p:pic>
        <p:nvPicPr>
          <p:cNvPr id="1493" name="" descr=""/>
          <p:cNvPicPr/>
          <p:nvPr/>
        </p:nvPicPr>
        <p:blipFill>
          <a:blip r:embed="rId8"/>
          <a:stretch/>
        </p:blipFill>
        <p:spPr>
          <a:xfrm>
            <a:off x="5711760" y="4621320"/>
            <a:ext cx="300240" cy="320400"/>
          </a:xfrm>
          <a:prstGeom prst="rect">
            <a:avLst/>
          </a:prstGeom>
          <a:ln w="0">
            <a:noFill/>
          </a:ln>
        </p:spPr>
      </p:pic>
      <p:pic>
        <p:nvPicPr>
          <p:cNvPr id="1494" name="" descr=""/>
          <p:cNvPicPr/>
          <p:nvPr/>
        </p:nvPicPr>
        <p:blipFill>
          <a:blip r:embed="rId9"/>
          <a:stretch/>
        </p:blipFill>
        <p:spPr>
          <a:xfrm>
            <a:off x="1109520" y="5526000"/>
            <a:ext cx="4356360" cy="439920"/>
          </a:xfrm>
          <a:prstGeom prst="rect">
            <a:avLst/>
          </a:prstGeom>
          <a:ln w="0">
            <a:noFill/>
          </a:ln>
        </p:spPr>
      </p:pic>
      <p:pic>
        <p:nvPicPr>
          <p:cNvPr id="1495" name="" descr=""/>
          <p:cNvPicPr/>
          <p:nvPr/>
        </p:nvPicPr>
        <p:blipFill>
          <a:blip r:embed="rId10"/>
          <a:stretch/>
        </p:blipFill>
        <p:spPr>
          <a:xfrm>
            <a:off x="1108080" y="5516640"/>
            <a:ext cx="6594480" cy="43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7293-AB0C-4574-AA38-0F9834AF255C}" type="slidenum">
              <a:t>22</a:t>
            </a:fld>
          </a:p>
        </p:txBody>
      </p:sp>
    </p:spTree>
  </p:cSld>
  <p:transition spd="med">
    <p:fade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59259E-006 L 0.13612 -0.10023 C 0.16459 -0.12292 0.2073 -0.13519 0.25174 -0.13519 C 0.30244 -0.13519 0.34306 -0.12292 0.37153 -0.10023 L 0.50782 2.59259E-006 E">
                                      <p:cBhvr>
                                        <p:cTn id="643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5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General Uncertainty Relation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395280" y="876600"/>
            <a:ext cx="2337840" cy="810360"/>
            <a:chOff x="395280" y="876600"/>
            <a:chExt cx="2337840" cy="810360"/>
          </a:xfrm>
        </p:grpSpPr>
        <p:grpSp>
          <p:nvGrpSpPr>
            <p:cNvPr id="1498" name=""/>
            <p:cNvGrpSpPr/>
            <p:nvPr/>
          </p:nvGrpSpPr>
          <p:grpSpPr>
            <a:xfrm>
              <a:off x="2019600" y="876600"/>
              <a:ext cx="713520" cy="713880"/>
              <a:chOff x="2019600" y="876600"/>
              <a:chExt cx="713520" cy="713880"/>
            </a:xfrm>
          </p:grpSpPr>
          <p:sp>
            <p:nvSpPr>
              <p:cNvPr id="1499" name=""/>
              <p:cNvSpPr/>
              <p:nvPr/>
            </p:nvSpPr>
            <p:spPr>
              <a:xfrm rot="2700000">
                <a:off x="2124000" y="981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2214000" y="1069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H="1" flipV="1">
                <a:off x="2212560" y="1070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 flipV="1">
                <a:off x="2376000" y="1004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2147400" y="1233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877680" y="922680"/>
              <a:ext cx="763920" cy="764280"/>
              <a:chOff x="877680" y="922680"/>
              <a:chExt cx="763920" cy="764280"/>
            </a:xfrm>
          </p:grpSpPr>
          <p:sp>
            <p:nvSpPr>
              <p:cNvPr id="1505" name=""/>
              <p:cNvSpPr/>
              <p:nvPr/>
            </p:nvSpPr>
            <p:spPr>
              <a:xfrm rot="2700000">
                <a:off x="936000" y="108792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V="1">
                <a:off x="1120320" y="116316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 flipV="1">
                <a:off x="1049760" y="109548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1259640" y="101124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 flipH="1">
                <a:off x="1062720" y="130464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1503720" y="902520"/>
              <a:ext cx="662040" cy="662040"/>
              <a:chOff x="1503720" y="902520"/>
              <a:chExt cx="662040" cy="662040"/>
            </a:xfrm>
          </p:grpSpPr>
          <p:sp>
            <p:nvSpPr>
              <p:cNvPr id="1511" name=""/>
              <p:cNvSpPr/>
              <p:nvPr/>
            </p:nvSpPr>
            <p:spPr>
              <a:xfrm rot="2700000">
                <a:off x="1582200" y="101772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1696320" y="109296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 flipV="1">
                <a:off x="1671120" y="107100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 flipV="1">
                <a:off x="1835280" y="100440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1639440" y="123336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6" name=""/>
            <p:cNvGrpSpPr/>
            <p:nvPr/>
          </p:nvGrpSpPr>
          <p:grpSpPr>
            <a:xfrm>
              <a:off x="395280" y="981000"/>
              <a:ext cx="504720" cy="504720"/>
              <a:chOff x="395280" y="981000"/>
              <a:chExt cx="504720" cy="504720"/>
            </a:xfrm>
          </p:grpSpPr>
          <p:sp>
            <p:nvSpPr>
              <p:cNvPr id="1517" name=""/>
              <p:cNvSpPr/>
              <p:nvPr/>
            </p:nvSpPr>
            <p:spPr>
              <a:xfrm>
                <a:off x="395280" y="98100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446040" y="123300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19" name=""/>
          <p:cNvGrpSpPr/>
          <p:nvPr/>
        </p:nvGrpSpPr>
        <p:grpSpPr>
          <a:xfrm>
            <a:off x="2701800" y="1014480"/>
            <a:ext cx="574560" cy="685800"/>
            <a:chOff x="2701800" y="1014480"/>
            <a:chExt cx="574560" cy="685800"/>
          </a:xfrm>
        </p:grpSpPr>
        <p:sp>
          <p:nvSpPr>
            <p:cNvPr id="1520" name=""/>
            <p:cNvSpPr/>
            <p:nvPr/>
          </p:nvSpPr>
          <p:spPr>
            <a:xfrm flipV="1">
              <a:off x="2989080" y="10144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701800" y="1123920"/>
              <a:ext cx="574560" cy="576360"/>
            </a:xfrm>
            <a:prstGeom prst="blockArc">
              <a:avLst>
                <a:gd name="adj1" fmla="val 11550976"/>
                <a:gd name="adj2" fmla="val 20849024"/>
                <a:gd name="adj3" fmla="val 86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250920" y="1916280"/>
            <a:ext cx="8713800" cy="3313080"/>
          </a:xfrm>
          <a:prstGeom prst="wedgeRoundRectCallout">
            <a:avLst>
              <a:gd name="adj1" fmla="val -34023"/>
              <a:gd name="adj2" fmla="val -64375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1477800" y="2251080"/>
            <a:ext cx="504720" cy="504720"/>
            <a:chOff x="1477800" y="2251080"/>
            <a:chExt cx="504720" cy="504720"/>
          </a:xfrm>
        </p:grpSpPr>
        <p:sp>
          <p:nvSpPr>
            <p:cNvPr id="1524" name=""/>
            <p:cNvSpPr/>
            <p:nvPr/>
          </p:nvSpPr>
          <p:spPr>
            <a:xfrm>
              <a:off x="1477800" y="225108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1730160" y="227448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1528560" y="250308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2597040" y="2146680"/>
            <a:ext cx="713880" cy="713880"/>
            <a:chOff x="2597040" y="2146680"/>
            <a:chExt cx="713880" cy="713880"/>
          </a:xfrm>
        </p:grpSpPr>
        <p:sp>
          <p:nvSpPr>
            <p:cNvPr id="1528" name=""/>
            <p:cNvSpPr/>
            <p:nvPr/>
          </p:nvSpPr>
          <p:spPr>
            <a:xfrm rot="2700000">
              <a:off x="2701440" y="225108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V="1">
              <a:off x="2793600" y="234144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 flipV="1">
              <a:off x="2792520" y="2342520"/>
              <a:ext cx="32544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3708360" y="2349360"/>
            <a:ext cx="3022560" cy="426960"/>
            <a:chOff x="3708360" y="2349360"/>
            <a:chExt cx="3022560" cy="426960"/>
          </a:xfrm>
        </p:grpSpPr>
        <p:sp>
          <p:nvSpPr>
            <p:cNvPr id="1532" name=""/>
            <p:cNvSpPr/>
            <p:nvPr/>
          </p:nvSpPr>
          <p:spPr>
            <a:xfrm>
              <a:off x="3708360" y="2395440"/>
              <a:ext cx="277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7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mmi10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984840" y="2349360"/>
              <a:ext cx="2505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6040" bIns="33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cmr7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256280" y="2630520"/>
              <a:ext cx="1126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2840" bIns="77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mi10"/>
                </a:rPr>
                <a:t>;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437000" y="2395440"/>
              <a:ext cx="277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7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cmmi10"/>
                </a:rPr>
                <a:t>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714920" y="2349360"/>
              <a:ext cx="254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6040" bIns="33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7"/>
                </a:rPr>
                <a:t>£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102280" y="2454120"/>
              <a:ext cx="317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9240" bIns="15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sy10"/>
                </a:rPr>
                <a:t>½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32480" y="2368440"/>
              <a:ext cx="203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4920" bIns="101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sy10"/>
                </a:rPr>
                <a:t>f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737320" y="2411280"/>
              <a:ext cx="203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2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940360" y="2630520"/>
              <a:ext cx="1126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2840" bIns="77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mi10"/>
                </a:rPr>
                <a:t>;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121440" y="2411280"/>
              <a:ext cx="2030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2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324480" y="2368440"/>
              <a:ext cx="203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4920" bIns="101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msy10"/>
                </a:rPr>
                <a:t>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529320" y="2403360"/>
              <a:ext cx="20160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mi7"/>
                </a:rPr>
                <a:t>n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708360" y="2349360"/>
              <a:ext cx="3022560" cy="42696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45" name="" descr=""/>
          <p:cNvPicPr/>
          <p:nvPr/>
        </p:nvPicPr>
        <p:blipFill>
          <a:blip r:embed="rId1"/>
          <a:stretch/>
        </p:blipFill>
        <p:spPr>
          <a:xfrm>
            <a:off x="3635280" y="1052640"/>
            <a:ext cx="2881440" cy="339480"/>
          </a:xfrm>
          <a:prstGeom prst="rect">
            <a:avLst/>
          </a:prstGeom>
          <a:ln w="0">
            <a:noFill/>
          </a:ln>
        </p:spPr>
      </p:pic>
      <p:pic>
        <p:nvPicPr>
          <p:cNvPr id="1546" name="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1958760" cy="33948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1020600" y="3429000"/>
            <a:ext cx="6791040" cy="772920"/>
            <a:chOff x="1020600" y="3429000"/>
            <a:chExt cx="6791040" cy="772920"/>
          </a:xfrm>
        </p:grpSpPr>
        <p:sp>
          <p:nvSpPr>
            <p:cNvPr id="1548" name=""/>
            <p:cNvSpPr/>
            <p:nvPr/>
          </p:nvSpPr>
          <p:spPr>
            <a:xfrm>
              <a:off x="1020600" y="3787560"/>
              <a:ext cx="1936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74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mi10"/>
                </a:rPr>
                <a:t>p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215720" y="3663720"/>
              <a:ext cx="1508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365120" y="3689280"/>
              <a:ext cx="261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3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cmmi10"/>
                </a:rPr>
                <a:t>L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28640" y="3625920"/>
              <a:ext cx="236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cmr7"/>
                </a:rPr>
                <a:t>+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883880" y="3663720"/>
              <a:ext cx="1508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20760" y="3728880"/>
              <a:ext cx="2998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92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506320" y="3787560"/>
              <a:ext cx="17316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74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mi10"/>
                </a:rPr>
                <a:t>q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692080" y="3663720"/>
              <a:ext cx="1508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42920" y="3689280"/>
              <a:ext cx="262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3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cmmi10"/>
                </a:rPr>
                <a:t>L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105000" y="362592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7"/>
                </a:rPr>
                <a:t>£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365280" y="3663720"/>
              <a:ext cx="1508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622320" y="3708360"/>
              <a:ext cx="300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080" bIns="52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sy10"/>
                </a:rPr>
                <a:t>·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030200" y="3510000"/>
              <a:ext cx="23040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40" bIns="677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ex10"/>
                </a:rPr>
                <a:t>³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260600" y="3705120"/>
              <a:ext cx="193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539960" y="3728880"/>
              <a:ext cx="2998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92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925880" y="3589200"/>
              <a:ext cx="3855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40" bIns="447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ex10"/>
                </a:rPr>
                <a:t>p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311440" y="3595680"/>
              <a:ext cx="2116080" cy="0"/>
            </a:xfrm>
            <a:prstGeom prst="line">
              <a:avLst/>
            </a:prstGeom>
            <a:ln w="15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311440" y="3705120"/>
              <a:ext cx="193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r10"/>
                </a:rPr>
                <a:t>2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505120" y="367344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746320" y="3724200"/>
              <a:ext cx="1908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5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mmi7"/>
                </a:rPr>
                <a:t>n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955840" y="3663720"/>
              <a:ext cx="1080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063840" y="3689280"/>
              <a:ext cx="2620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3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00"/>
                  </a:solidFill>
                  <a:latin typeface="cmmi10"/>
                </a:rPr>
                <a:t>L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325920" y="3673440"/>
              <a:ext cx="236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cmr7"/>
                </a:rPr>
                <a:t>+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582960" y="3663720"/>
              <a:ext cx="1080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689520" y="3663720"/>
              <a:ext cx="1080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797520" y="3689280"/>
              <a:ext cx="261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3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0000"/>
                  </a:solidFill>
                  <a:latin typeface="cmmi10"/>
                </a:rPr>
                <a:t>L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9240" y="3673440"/>
              <a:ext cx="24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7"/>
                </a:rPr>
                <a:t>£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319520" y="3663720"/>
              <a:ext cx="1080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427520" y="3510000"/>
              <a:ext cx="23040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40" bIns="677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mex10"/>
                </a:rPr>
                <a:t>´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657920" y="3430440"/>
              <a:ext cx="1537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3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cmr7"/>
                </a:rPr>
                <a:t>2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020600" y="3429000"/>
              <a:ext cx="6791040" cy="7729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1116000" y="2492280"/>
            <a:ext cx="233280" cy="290520"/>
            <a:chOff x="1116000" y="2492280"/>
            <a:chExt cx="233280" cy="290520"/>
          </a:xfrm>
        </p:grpSpPr>
        <p:sp>
          <p:nvSpPr>
            <p:cNvPr id="1580" name=""/>
            <p:cNvSpPr/>
            <p:nvPr/>
          </p:nvSpPr>
          <p:spPr>
            <a:xfrm>
              <a:off x="1116000" y="2493720"/>
              <a:ext cx="233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88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cmmi10"/>
                </a:rPr>
                <a:t>p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16000" y="2492280"/>
              <a:ext cx="233280" cy="2905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2347920" y="2490840"/>
            <a:ext cx="208080" cy="290520"/>
            <a:chOff x="2347920" y="2490840"/>
            <a:chExt cx="208080" cy="290520"/>
          </a:xfrm>
        </p:grpSpPr>
        <p:sp>
          <p:nvSpPr>
            <p:cNvPr id="1583" name=""/>
            <p:cNvSpPr/>
            <p:nvPr/>
          </p:nvSpPr>
          <p:spPr>
            <a:xfrm>
              <a:off x="2347920" y="2492280"/>
              <a:ext cx="2080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88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cmmi10"/>
                </a:rPr>
                <a:t>q</a:t>
              </a:r>
              <a:endParaRPr b="0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47920" y="2490840"/>
              <a:ext cx="208080" cy="2905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5" name="" descr=""/>
          <p:cNvPicPr/>
          <p:nvPr/>
        </p:nvPicPr>
        <p:blipFill>
          <a:blip r:embed="rId3"/>
          <a:stretch/>
        </p:blipFill>
        <p:spPr>
          <a:xfrm>
            <a:off x="933480" y="4268880"/>
            <a:ext cx="7305480" cy="701640"/>
          </a:xfrm>
          <a:prstGeom prst="rect">
            <a:avLst/>
          </a:prstGeom>
          <a:ln w="0">
            <a:noFill/>
          </a:ln>
        </p:spPr>
      </p:pic>
      <p:pic>
        <p:nvPicPr>
          <p:cNvPr id="1586" name="" descr=""/>
          <p:cNvPicPr/>
          <p:nvPr/>
        </p:nvPicPr>
        <p:blipFill>
          <a:blip r:embed="rId4"/>
          <a:stretch/>
        </p:blipFill>
        <p:spPr>
          <a:xfrm>
            <a:off x="906480" y="5506920"/>
            <a:ext cx="7194600" cy="4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F43B-3C6D-4BAA-A43C-90424A2FA93B}" type="slidenum">
              <a:t>23</a:t>
            </a:fld>
          </a:p>
        </p:txBody>
      </p:sp>
    </p:spTree>
  </p:cSld>
  <p:transition spd="med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Finale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395280" y="876600"/>
            <a:ext cx="2337840" cy="810360"/>
            <a:chOff x="395280" y="876600"/>
            <a:chExt cx="2337840" cy="810360"/>
          </a:xfrm>
        </p:grpSpPr>
        <p:grpSp>
          <p:nvGrpSpPr>
            <p:cNvPr id="1589" name=""/>
            <p:cNvGrpSpPr/>
            <p:nvPr/>
          </p:nvGrpSpPr>
          <p:grpSpPr>
            <a:xfrm>
              <a:off x="2019600" y="876600"/>
              <a:ext cx="713520" cy="713880"/>
              <a:chOff x="2019600" y="876600"/>
              <a:chExt cx="713520" cy="713880"/>
            </a:xfrm>
          </p:grpSpPr>
          <p:sp>
            <p:nvSpPr>
              <p:cNvPr id="1590" name=""/>
              <p:cNvSpPr/>
              <p:nvPr/>
            </p:nvSpPr>
            <p:spPr>
              <a:xfrm rot="2700000">
                <a:off x="2124000" y="981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2214000" y="1069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 flipV="1">
                <a:off x="2212560" y="1070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H="1" flipV="1">
                <a:off x="2376000" y="1004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>
                <a:off x="2147400" y="1233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5" name=""/>
            <p:cNvGrpSpPr/>
            <p:nvPr/>
          </p:nvGrpSpPr>
          <p:grpSpPr>
            <a:xfrm>
              <a:off x="877680" y="922680"/>
              <a:ext cx="763920" cy="764280"/>
              <a:chOff x="877680" y="922680"/>
              <a:chExt cx="763920" cy="764280"/>
            </a:xfrm>
          </p:grpSpPr>
          <p:sp>
            <p:nvSpPr>
              <p:cNvPr id="1596" name=""/>
              <p:cNvSpPr/>
              <p:nvPr/>
            </p:nvSpPr>
            <p:spPr>
              <a:xfrm rot="2700000">
                <a:off x="936000" y="108792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1120320" y="116316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 flipV="1">
                <a:off x="1049760" y="109548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 flipV="1">
                <a:off x="1259640" y="101124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1062720" y="130464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1503720" y="902520"/>
              <a:ext cx="662040" cy="662040"/>
              <a:chOff x="1503720" y="902520"/>
              <a:chExt cx="662040" cy="662040"/>
            </a:xfrm>
          </p:grpSpPr>
          <p:sp>
            <p:nvSpPr>
              <p:cNvPr id="1602" name=""/>
              <p:cNvSpPr/>
              <p:nvPr/>
            </p:nvSpPr>
            <p:spPr>
              <a:xfrm rot="2700000">
                <a:off x="1582200" y="101772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>
                <a:off x="1696320" y="109296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 flipV="1">
                <a:off x="1671120" y="107100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H="1" flipV="1">
                <a:off x="1835280" y="100440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H="1">
                <a:off x="1639440" y="123336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395280" y="981000"/>
              <a:ext cx="504720" cy="504720"/>
              <a:chOff x="395280" y="981000"/>
              <a:chExt cx="504720" cy="504720"/>
            </a:xfrm>
          </p:grpSpPr>
          <p:sp>
            <p:nvSpPr>
              <p:cNvPr id="1608" name=""/>
              <p:cNvSpPr/>
              <p:nvPr/>
            </p:nvSpPr>
            <p:spPr>
              <a:xfrm>
                <a:off x="395280" y="98100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446040" y="123300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0" name=""/>
          <p:cNvGrpSpPr/>
          <p:nvPr/>
        </p:nvGrpSpPr>
        <p:grpSpPr>
          <a:xfrm>
            <a:off x="2701800" y="1014480"/>
            <a:ext cx="574560" cy="685800"/>
            <a:chOff x="2701800" y="1014480"/>
            <a:chExt cx="574560" cy="685800"/>
          </a:xfrm>
        </p:grpSpPr>
        <p:sp>
          <p:nvSpPr>
            <p:cNvPr id="1611" name=""/>
            <p:cNvSpPr/>
            <p:nvPr/>
          </p:nvSpPr>
          <p:spPr>
            <a:xfrm flipV="1">
              <a:off x="2989080" y="10144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701800" y="1123920"/>
              <a:ext cx="574560" cy="576360"/>
            </a:xfrm>
            <a:prstGeom prst="blockArc">
              <a:avLst>
                <a:gd name="adj1" fmla="val 11550976"/>
                <a:gd name="adj2" fmla="val 20849024"/>
                <a:gd name="adj3" fmla="val 868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3" name=""/>
          <p:cNvSpPr/>
          <p:nvPr/>
        </p:nvSpPr>
        <p:spPr>
          <a:xfrm>
            <a:off x="250920" y="1916280"/>
            <a:ext cx="8713800" cy="3313080"/>
          </a:xfrm>
          <a:prstGeom prst="wedgeRoundRectCallout">
            <a:avLst>
              <a:gd name="adj1" fmla="val -34023"/>
              <a:gd name="adj2" fmla="val -64375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851280" y="414972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140328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140256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104292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2627280" y="2133720"/>
            <a:ext cx="504720" cy="504720"/>
            <a:chOff x="2627280" y="2133720"/>
            <a:chExt cx="504720" cy="504720"/>
          </a:xfrm>
        </p:grpSpPr>
        <p:sp>
          <p:nvSpPr>
            <p:cNvPr id="1619" name=""/>
            <p:cNvSpPr/>
            <p:nvPr/>
          </p:nvSpPr>
          <p:spPr>
            <a:xfrm>
              <a:off x="2627280" y="213372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 flipV="1">
              <a:off x="2879640" y="215712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678040" y="238572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2" name=""/>
          <p:cNvSpPr/>
          <p:nvPr/>
        </p:nvSpPr>
        <p:spPr>
          <a:xfrm>
            <a:off x="392436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419640" y="443556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2771640" y="4148280"/>
            <a:ext cx="14616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635280" y="4508640"/>
            <a:ext cx="14472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2987640" y="4363920"/>
            <a:ext cx="14436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556000" y="4149720"/>
            <a:ext cx="14580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8" name=""/>
          <p:cNvGrpSpPr/>
          <p:nvPr/>
        </p:nvGrpSpPr>
        <p:grpSpPr>
          <a:xfrm>
            <a:off x="1476360" y="2852640"/>
            <a:ext cx="793800" cy="1727280"/>
            <a:chOff x="1476360" y="2852640"/>
            <a:chExt cx="793800" cy="1727280"/>
          </a:xfrm>
        </p:grpSpPr>
        <p:sp>
          <p:nvSpPr>
            <p:cNvPr id="1629" name=""/>
            <p:cNvSpPr/>
            <p:nvPr/>
          </p:nvSpPr>
          <p:spPr>
            <a:xfrm>
              <a:off x="1476360" y="2852640"/>
              <a:ext cx="142920" cy="1727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124000" y="3787920"/>
              <a:ext cx="146160" cy="792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908000" y="3573360"/>
              <a:ext cx="142920" cy="1006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692360" y="3213000"/>
              <a:ext cx="144360" cy="136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3" name=""/>
          <p:cNvSpPr/>
          <p:nvPr/>
        </p:nvSpPr>
        <p:spPr>
          <a:xfrm>
            <a:off x="3203640" y="443700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340000" y="4005360"/>
            <a:ext cx="14436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5" name=""/>
          <p:cNvGrpSpPr/>
          <p:nvPr/>
        </p:nvGrpSpPr>
        <p:grpSpPr>
          <a:xfrm>
            <a:off x="7059960" y="2029320"/>
            <a:ext cx="713520" cy="713880"/>
            <a:chOff x="7059960" y="2029320"/>
            <a:chExt cx="713520" cy="713880"/>
          </a:xfrm>
        </p:grpSpPr>
        <p:sp>
          <p:nvSpPr>
            <p:cNvPr id="1636" name=""/>
            <p:cNvSpPr/>
            <p:nvPr/>
          </p:nvSpPr>
          <p:spPr>
            <a:xfrm rot="2700000">
              <a:off x="7164360" y="213372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7255800" y="222408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>
              <a:off x="7254360" y="222516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7813800" y="4149720"/>
            <a:ext cx="35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 flipV="1">
            <a:off x="5365800" y="2276640"/>
            <a:ext cx="0" cy="2304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5365080" y="4579920"/>
            <a:ext cx="28083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005440" y="2205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7886880" y="45813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6946920" y="4149720"/>
            <a:ext cx="14436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5435640" y="2492280"/>
            <a:ext cx="142920" cy="2089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608328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7380360" y="4437000"/>
            <a:ext cx="144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6300720" y="3789360"/>
            <a:ext cx="142920" cy="79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6730920" y="4076640"/>
            <a:ext cx="142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5651640" y="3068640"/>
            <a:ext cx="144360" cy="151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162920" y="4292640"/>
            <a:ext cx="144360" cy="28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5867280" y="357336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6515280" y="3933720"/>
            <a:ext cx="144360" cy="64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4" name="" descr=""/>
          <p:cNvPicPr/>
          <p:nvPr/>
        </p:nvPicPr>
        <p:blipFill>
          <a:blip r:embed="rId1"/>
          <a:stretch/>
        </p:blipFill>
        <p:spPr>
          <a:xfrm>
            <a:off x="654120" y="3478320"/>
            <a:ext cx="604800" cy="382320"/>
          </a:xfrm>
          <a:prstGeom prst="rect">
            <a:avLst/>
          </a:prstGeom>
          <a:ln w="0">
            <a:noFill/>
          </a:ln>
        </p:spPr>
      </p:pic>
      <p:sp>
        <p:nvSpPr>
          <p:cNvPr id="1655" name=""/>
          <p:cNvSpPr/>
          <p:nvPr/>
        </p:nvSpPr>
        <p:spPr>
          <a:xfrm>
            <a:off x="1258920" y="3851280"/>
            <a:ext cx="2736720" cy="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 flipV="1">
            <a:off x="2306520" y="2349360"/>
            <a:ext cx="0" cy="2735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7" name="" descr=""/>
          <p:cNvPicPr/>
          <p:nvPr/>
        </p:nvPicPr>
        <p:blipFill>
          <a:blip r:embed="rId2"/>
          <a:stretch/>
        </p:blipFill>
        <p:spPr>
          <a:xfrm>
            <a:off x="2932200" y="4613400"/>
            <a:ext cx="299880" cy="360360"/>
          </a:xfrm>
          <a:prstGeom prst="rect">
            <a:avLst/>
          </a:prstGeom>
          <a:ln w="0">
            <a:noFill/>
          </a:ln>
        </p:spPr>
      </p:pic>
      <p:pic>
        <p:nvPicPr>
          <p:cNvPr id="1658" name="" descr=""/>
          <p:cNvPicPr/>
          <p:nvPr/>
        </p:nvPicPr>
        <p:blipFill>
          <a:blip r:embed="rId3"/>
          <a:stretch/>
        </p:blipFill>
        <p:spPr>
          <a:xfrm>
            <a:off x="4614840" y="3478320"/>
            <a:ext cx="604800" cy="382320"/>
          </a:xfrm>
          <a:prstGeom prst="rect">
            <a:avLst/>
          </a:prstGeom>
          <a:ln w="0">
            <a:noFill/>
          </a:ln>
        </p:spPr>
      </p:pic>
      <p:sp>
        <p:nvSpPr>
          <p:cNvPr id="1659" name=""/>
          <p:cNvSpPr/>
          <p:nvPr/>
        </p:nvSpPr>
        <p:spPr>
          <a:xfrm>
            <a:off x="5218920" y="3851280"/>
            <a:ext cx="2737080" cy="0"/>
          </a:xfrm>
          <a:prstGeom prst="line">
            <a:avLst/>
          </a:prstGeom>
          <a:ln w="316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 flipV="1">
            <a:off x="6481800" y="2349360"/>
            <a:ext cx="0" cy="27352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1" name="" descr=""/>
          <p:cNvPicPr/>
          <p:nvPr/>
        </p:nvPicPr>
        <p:blipFill>
          <a:blip r:embed="rId4"/>
          <a:stretch/>
        </p:blipFill>
        <p:spPr>
          <a:xfrm>
            <a:off x="6910560" y="4611600"/>
            <a:ext cx="299880" cy="360360"/>
          </a:xfrm>
          <a:prstGeom prst="rect">
            <a:avLst/>
          </a:prstGeom>
          <a:ln w="0">
            <a:noFill/>
          </a:ln>
        </p:spPr>
      </p:pic>
      <p:pic>
        <p:nvPicPr>
          <p:cNvPr id="1662" name="" descr=""/>
          <p:cNvPicPr/>
          <p:nvPr/>
        </p:nvPicPr>
        <p:blipFill>
          <a:blip r:embed="rId5"/>
          <a:stretch/>
        </p:blipFill>
        <p:spPr>
          <a:xfrm>
            <a:off x="5364000" y="5445000"/>
            <a:ext cx="2498760" cy="460440"/>
          </a:xfrm>
          <a:prstGeom prst="rect">
            <a:avLst/>
          </a:prstGeom>
          <a:ln w="0">
            <a:noFill/>
          </a:ln>
        </p:spPr>
      </p:pic>
      <p:pic>
        <p:nvPicPr>
          <p:cNvPr id="1663" name="" descr=""/>
          <p:cNvPicPr/>
          <p:nvPr/>
        </p:nvPicPr>
        <p:blipFill>
          <a:blip r:embed="rId6"/>
          <a:stretch/>
        </p:blipFill>
        <p:spPr>
          <a:xfrm>
            <a:off x="3348000" y="1052640"/>
            <a:ext cx="1635120" cy="379440"/>
          </a:xfrm>
          <a:prstGeom prst="rect">
            <a:avLst/>
          </a:prstGeom>
          <a:ln w="0">
            <a:noFill/>
          </a:ln>
        </p:spPr>
      </p:pic>
      <p:sp>
        <p:nvSpPr>
          <p:cNvPr id="1664" name=""/>
          <p:cNvSpPr/>
          <p:nvPr/>
        </p:nvSpPr>
        <p:spPr>
          <a:xfrm>
            <a:off x="7524720" y="6381720"/>
            <a:ext cx="216000" cy="21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5" name="" descr=""/>
          <p:cNvPicPr/>
          <p:nvPr/>
        </p:nvPicPr>
        <p:blipFill>
          <a:blip r:embed="rId7"/>
          <a:stretch/>
        </p:blipFill>
        <p:spPr>
          <a:xfrm>
            <a:off x="633240" y="5430960"/>
            <a:ext cx="3157560" cy="439560"/>
          </a:xfrm>
          <a:prstGeom prst="rect">
            <a:avLst/>
          </a:prstGeom>
          <a:ln w="0">
            <a:noFill/>
          </a:ln>
        </p:spPr>
      </p:pic>
      <p:pic>
        <p:nvPicPr>
          <p:cNvPr id="1666" name="" descr=""/>
          <p:cNvPicPr/>
          <p:nvPr/>
        </p:nvPicPr>
        <p:blipFill>
          <a:blip r:embed="rId8"/>
          <a:stretch/>
        </p:blipFill>
        <p:spPr>
          <a:xfrm>
            <a:off x="687240" y="5973840"/>
            <a:ext cx="5997600" cy="600120"/>
          </a:xfrm>
          <a:prstGeom prst="rect">
            <a:avLst/>
          </a:prstGeom>
          <a:ln w="0">
            <a:noFill/>
          </a:ln>
        </p:spPr>
      </p:pic>
      <p:pic>
        <p:nvPicPr>
          <p:cNvPr id="1667" name="" descr=""/>
          <p:cNvPicPr/>
          <p:nvPr/>
        </p:nvPicPr>
        <p:blipFill>
          <a:blip r:embed="rId9"/>
          <a:stretch/>
        </p:blipFill>
        <p:spPr>
          <a:xfrm>
            <a:off x="1692360" y="4621320"/>
            <a:ext cx="299880" cy="320400"/>
          </a:xfrm>
          <a:prstGeom prst="rect">
            <a:avLst/>
          </a:prstGeom>
          <a:ln w="0">
            <a:noFill/>
          </a:ln>
        </p:spPr>
      </p:pic>
      <p:pic>
        <p:nvPicPr>
          <p:cNvPr id="1668" name="" descr=""/>
          <p:cNvPicPr/>
          <p:nvPr/>
        </p:nvPicPr>
        <p:blipFill>
          <a:blip r:embed="rId10"/>
          <a:stretch/>
        </p:blipFill>
        <p:spPr>
          <a:xfrm>
            <a:off x="5711760" y="4621320"/>
            <a:ext cx="300240" cy="32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2E02E-3217-4070-819D-CC9C69AC4C6C}" type="slidenum">
              <a:t>24</a:t>
            </a:fld>
          </a:p>
        </p:txBody>
      </p:sp>
    </p:spTree>
  </p:cSld>
  <p:transition spd="med">
    <p:fade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Recap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670" name=""/>
          <p:cNvGrpSpPr/>
          <p:nvPr/>
        </p:nvGrpSpPr>
        <p:grpSpPr>
          <a:xfrm>
            <a:off x="250920" y="4195800"/>
            <a:ext cx="8664120" cy="459720"/>
            <a:chOff x="250920" y="4195800"/>
            <a:chExt cx="8664120" cy="459720"/>
          </a:xfrm>
        </p:grpSpPr>
        <p:sp>
          <p:nvSpPr>
            <p:cNvPr id="1671" name=""/>
            <p:cNvSpPr/>
            <p:nvPr/>
          </p:nvSpPr>
          <p:spPr>
            <a:xfrm>
              <a:off x="250920" y="428760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397160" y="419580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3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6" name="" descr=""/>
          <p:cNvPicPr/>
          <p:nvPr/>
        </p:nvPicPr>
        <p:blipFill>
          <a:blip r:embed="rId1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1677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 flipH="1" flipV="1">
            <a:off x="355392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4129920" y="3374640"/>
            <a:ext cx="32364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3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1683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8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9" name="" descr=""/>
          <p:cNvPicPr/>
          <p:nvPr/>
        </p:nvPicPr>
        <p:blipFill>
          <a:blip r:embed="rId4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1690" name="" descr=""/>
          <p:cNvPicPr/>
          <p:nvPr/>
        </p:nvPicPr>
        <p:blipFill>
          <a:blip r:embed="rId5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1691" name="" descr=""/>
          <p:cNvPicPr/>
          <p:nvPr/>
        </p:nvPicPr>
        <p:blipFill>
          <a:blip r:embed="rId6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89C2-160E-486F-BDBF-6CC601AB9AE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Recap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4" name="" descr=""/>
          <p:cNvPicPr/>
          <p:nvPr/>
        </p:nvPicPr>
        <p:blipFill>
          <a:blip r:embed="rId1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1695" name="" descr=""/>
          <p:cNvPicPr/>
          <p:nvPr/>
        </p:nvPicPr>
        <p:blipFill>
          <a:blip r:embed="rId2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1696" name="" descr=""/>
          <p:cNvPicPr/>
          <p:nvPr/>
        </p:nvPicPr>
        <p:blipFill>
          <a:blip r:embed="rId3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grpSp>
        <p:nvGrpSpPr>
          <p:cNvPr id="1697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1698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0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3" name="" descr=""/>
          <p:cNvPicPr/>
          <p:nvPr/>
        </p:nvPicPr>
        <p:blipFill>
          <a:blip r:embed="rId4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1704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5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1706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1" name=""/>
          <p:cNvSpPr/>
          <p:nvPr/>
        </p:nvSpPr>
        <p:spPr>
          <a:xfrm flipH="1" flipV="1">
            <a:off x="1871640" y="2948040"/>
            <a:ext cx="1440" cy="4586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1670040" y="3176640"/>
            <a:ext cx="403200" cy="1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395280" y="2205000"/>
            <a:ext cx="2376360" cy="1297080"/>
            <a:chOff x="395280" y="2205000"/>
            <a:chExt cx="2376360" cy="1297080"/>
          </a:xfrm>
        </p:grpSpPr>
        <p:sp>
          <p:nvSpPr>
            <p:cNvPr id="1714" name=""/>
            <p:cNvSpPr/>
            <p:nvPr/>
          </p:nvSpPr>
          <p:spPr>
            <a:xfrm>
              <a:off x="39528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547640" y="2205000"/>
              <a:ext cx="64800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12400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97164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362160" y="2173680"/>
            <a:ext cx="2442600" cy="713880"/>
            <a:chOff x="362160" y="2173680"/>
            <a:chExt cx="2442600" cy="713880"/>
          </a:xfrm>
        </p:grpSpPr>
        <p:sp>
          <p:nvSpPr>
            <p:cNvPr id="1719" name=""/>
            <p:cNvSpPr/>
            <p:nvPr/>
          </p:nvSpPr>
          <p:spPr>
            <a:xfrm>
              <a:off x="539640" y="249408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362160" y="2173680"/>
              <a:ext cx="713520" cy="713880"/>
              <a:chOff x="362160" y="2173680"/>
              <a:chExt cx="713520" cy="713880"/>
            </a:xfrm>
          </p:grpSpPr>
          <p:sp>
            <p:nvSpPr>
              <p:cNvPr id="1721" name=""/>
              <p:cNvSpPr/>
              <p:nvPr/>
            </p:nvSpPr>
            <p:spPr>
              <a:xfrm rot="2700000">
                <a:off x="46620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55656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 flipV="1">
                <a:off x="55512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flipV="1">
                <a:off x="71856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48996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938520" y="2173680"/>
              <a:ext cx="713520" cy="713880"/>
              <a:chOff x="938520" y="2173680"/>
              <a:chExt cx="713520" cy="713880"/>
            </a:xfrm>
          </p:grpSpPr>
          <p:sp>
            <p:nvSpPr>
              <p:cNvPr id="1727" name=""/>
              <p:cNvSpPr/>
              <p:nvPr/>
            </p:nvSpPr>
            <p:spPr>
              <a:xfrm rot="2700000">
                <a:off x="104292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113292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 flipV="1">
                <a:off x="113148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 flipV="1">
                <a:off x="129492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106632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1514880" y="2173680"/>
              <a:ext cx="713520" cy="713880"/>
              <a:chOff x="1514880" y="2173680"/>
              <a:chExt cx="713520" cy="713880"/>
            </a:xfrm>
          </p:grpSpPr>
          <p:sp>
            <p:nvSpPr>
              <p:cNvPr id="1733" name=""/>
              <p:cNvSpPr/>
              <p:nvPr/>
            </p:nvSpPr>
            <p:spPr>
              <a:xfrm rot="2700000">
                <a:off x="161928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170928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 flipV="1">
                <a:off x="170784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 flipV="1">
                <a:off x="187128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164268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2091240" y="2173680"/>
              <a:ext cx="713520" cy="713880"/>
              <a:chOff x="2091240" y="2173680"/>
              <a:chExt cx="713520" cy="713880"/>
            </a:xfrm>
          </p:grpSpPr>
          <p:sp>
            <p:nvSpPr>
              <p:cNvPr id="1739" name=""/>
              <p:cNvSpPr/>
              <p:nvPr/>
            </p:nvSpPr>
            <p:spPr>
              <a:xfrm rot="2700000">
                <a:off x="219564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228564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 flipV="1">
                <a:off x="228420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 flipV="1">
                <a:off x="244764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H="1">
                <a:off x="221904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44" name=""/>
          <p:cNvGrpSpPr/>
          <p:nvPr/>
        </p:nvGrpSpPr>
        <p:grpSpPr>
          <a:xfrm>
            <a:off x="363960" y="2821320"/>
            <a:ext cx="2440800" cy="713880"/>
            <a:chOff x="363960" y="2821320"/>
            <a:chExt cx="2440800" cy="713880"/>
          </a:xfrm>
        </p:grpSpPr>
        <p:grpSp>
          <p:nvGrpSpPr>
            <p:cNvPr id="1745" name=""/>
            <p:cNvGrpSpPr/>
            <p:nvPr/>
          </p:nvGrpSpPr>
          <p:grpSpPr>
            <a:xfrm>
              <a:off x="363960" y="2821320"/>
              <a:ext cx="712080" cy="711720"/>
              <a:chOff x="363960" y="2821320"/>
              <a:chExt cx="712080" cy="711720"/>
            </a:xfrm>
          </p:grpSpPr>
          <p:sp>
            <p:nvSpPr>
              <p:cNvPr id="1746" name=""/>
              <p:cNvSpPr/>
              <p:nvPr/>
            </p:nvSpPr>
            <p:spPr>
              <a:xfrm rot="2700000">
                <a:off x="468000" y="292536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557640" y="301428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 flipV="1">
                <a:off x="556560" y="301464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 flipV="1">
                <a:off x="720000" y="294912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>
                <a:off x="491400" y="317736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938520" y="2821320"/>
              <a:ext cx="713520" cy="713880"/>
              <a:chOff x="938520" y="2821320"/>
              <a:chExt cx="713520" cy="713880"/>
            </a:xfrm>
          </p:grpSpPr>
          <p:sp>
            <p:nvSpPr>
              <p:cNvPr id="1752" name=""/>
              <p:cNvSpPr/>
              <p:nvPr/>
            </p:nvSpPr>
            <p:spPr>
              <a:xfrm rot="2700000">
                <a:off x="104292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113292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 flipV="1">
                <a:off x="113148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 flipV="1">
                <a:off x="129492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106632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1514880" y="2821320"/>
              <a:ext cx="713520" cy="713880"/>
              <a:chOff x="1514880" y="2821320"/>
              <a:chExt cx="713520" cy="713880"/>
            </a:xfrm>
          </p:grpSpPr>
          <p:sp>
            <p:nvSpPr>
              <p:cNvPr id="1758" name=""/>
              <p:cNvSpPr/>
              <p:nvPr/>
            </p:nvSpPr>
            <p:spPr>
              <a:xfrm rot="2700000">
                <a:off x="161928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V="1">
                <a:off x="170928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 flipV="1">
                <a:off x="170784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 flipV="1">
                <a:off x="187128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164268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2091240" y="2821320"/>
              <a:ext cx="713520" cy="713880"/>
              <a:chOff x="2091240" y="2821320"/>
              <a:chExt cx="713520" cy="713880"/>
            </a:xfrm>
          </p:grpSpPr>
          <p:sp>
            <p:nvSpPr>
              <p:cNvPr id="1764" name=""/>
              <p:cNvSpPr/>
              <p:nvPr/>
            </p:nvSpPr>
            <p:spPr>
              <a:xfrm rot="2700000">
                <a:off x="219564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228564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 flipV="1">
                <a:off x="228420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 flipV="1">
                <a:off x="244764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221904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69" name=""/>
          <p:cNvGrpSpPr/>
          <p:nvPr/>
        </p:nvGrpSpPr>
        <p:grpSpPr>
          <a:xfrm>
            <a:off x="2627280" y="5084280"/>
            <a:ext cx="2427480" cy="843120"/>
            <a:chOff x="2627280" y="5084280"/>
            <a:chExt cx="2427480" cy="843120"/>
          </a:xfrm>
        </p:grpSpPr>
        <p:grpSp>
          <p:nvGrpSpPr>
            <p:cNvPr id="1770" name=""/>
            <p:cNvGrpSpPr/>
            <p:nvPr/>
          </p:nvGrpSpPr>
          <p:grpSpPr>
            <a:xfrm>
              <a:off x="2627280" y="5084280"/>
              <a:ext cx="865080" cy="843120"/>
              <a:chOff x="2627280" y="5084280"/>
              <a:chExt cx="865080" cy="843120"/>
            </a:xfrm>
          </p:grpSpPr>
          <p:sp>
            <p:nvSpPr>
              <p:cNvPr id="1771" name=""/>
              <p:cNvSpPr/>
              <p:nvPr/>
            </p:nvSpPr>
            <p:spPr>
              <a:xfrm>
                <a:off x="2771640" y="5229360"/>
                <a:ext cx="57636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627280" y="54450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3058920" y="5084280"/>
                <a:ext cx="21600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H="1" flipV="1">
                <a:off x="3095640" y="546840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2894040" y="569700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776" name="" descr=""/>
            <p:cNvPicPr/>
            <p:nvPr/>
          </p:nvPicPr>
          <p:blipFill>
            <a:blip r:embed="rId5"/>
            <a:stretch/>
          </p:blipFill>
          <p:spPr>
            <a:xfrm>
              <a:off x="3419640" y="5084640"/>
              <a:ext cx="163512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6CE1-FCDC-49F9-873A-80EB44EF748D}" type="slidenum">
              <a:t>26</a:t>
            </a:fld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55 L 0.53576 -0.00555 E">
                                      <p:cBhvr>
                                        <p:cTn id="714" dur="2000" fill="hold"/>
                                        <p:tgtEl>
                                          <p:spTgt spid="1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07407E-006 L -0.00399 0.30949 E">
                                      <p:cBhvr>
                                        <p:cTn id="716" dur="2000" fill="hold"/>
                                        <p:tgtEl>
                                          <p:spTgt spid="1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7" name=""/>
          <p:cNvGrpSpPr/>
          <p:nvPr/>
        </p:nvGrpSpPr>
        <p:grpSpPr>
          <a:xfrm>
            <a:off x="324360" y="4942440"/>
            <a:ext cx="2440800" cy="713880"/>
            <a:chOff x="324360" y="4942440"/>
            <a:chExt cx="2440800" cy="713880"/>
          </a:xfrm>
        </p:grpSpPr>
        <p:grpSp>
          <p:nvGrpSpPr>
            <p:cNvPr id="1778" name=""/>
            <p:cNvGrpSpPr/>
            <p:nvPr/>
          </p:nvGrpSpPr>
          <p:grpSpPr>
            <a:xfrm>
              <a:off x="324360" y="4942440"/>
              <a:ext cx="712080" cy="711720"/>
              <a:chOff x="324360" y="4942440"/>
              <a:chExt cx="712080" cy="711720"/>
            </a:xfrm>
          </p:grpSpPr>
          <p:sp>
            <p:nvSpPr>
              <p:cNvPr id="1779" name=""/>
              <p:cNvSpPr/>
              <p:nvPr/>
            </p:nvSpPr>
            <p:spPr>
              <a:xfrm rot="2700000">
                <a:off x="428400" y="504648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518040" y="513540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H="1" flipV="1">
                <a:off x="516960" y="513576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 flipV="1">
                <a:off x="680400" y="507024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>
                <a:off x="451800" y="529848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898920" y="4942440"/>
              <a:ext cx="713520" cy="713880"/>
              <a:chOff x="898920" y="4942440"/>
              <a:chExt cx="713520" cy="713880"/>
            </a:xfrm>
          </p:grpSpPr>
          <p:sp>
            <p:nvSpPr>
              <p:cNvPr id="1785" name=""/>
              <p:cNvSpPr/>
              <p:nvPr/>
            </p:nvSpPr>
            <p:spPr>
              <a:xfrm rot="2700000">
                <a:off x="100332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109332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 flipV="1">
                <a:off x="109188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 flipV="1">
                <a:off x="125532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H="1">
                <a:off x="102672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0" name=""/>
            <p:cNvGrpSpPr/>
            <p:nvPr/>
          </p:nvGrpSpPr>
          <p:grpSpPr>
            <a:xfrm>
              <a:off x="1475280" y="4942440"/>
              <a:ext cx="713520" cy="713880"/>
              <a:chOff x="1475280" y="4942440"/>
              <a:chExt cx="713520" cy="713880"/>
            </a:xfrm>
          </p:grpSpPr>
          <p:sp>
            <p:nvSpPr>
              <p:cNvPr id="1791" name=""/>
              <p:cNvSpPr/>
              <p:nvPr/>
            </p:nvSpPr>
            <p:spPr>
              <a:xfrm rot="2700000">
                <a:off x="157968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166968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 flipV="1">
                <a:off x="166824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 flipV="1">
                <a:off x="183168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160308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2051640" y="4942440"/>
              <a:ext cx="713520" cy="713880"/>
              <a:chOff x="2051640" y="4942440"/>
              <a:chExt cx="713520" cy="713880"/>
            </a:xfrm>
          </p:grpSpPr>
          <p:sp>
            <p:nvSpPr>
              <p:cNvPr id="1797" name=""/>
              <p:cNvSpPr/>
              <p:nvPr/>
            </p:nvSpPr>
            <p:spPr>
              <a:xfrm rot="2700000">
                <a:off x="215604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224604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 flipV="1">
                <a:off x="224460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 flipV="1">
                <a:off x="240804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217944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02" name=""/>
          <p:cNvSpPr/>
          <p:nvPr/>
        </p:nvSpPr>
        <p:spPr>
          <a:xfrm>
            <a:off x="250920" y="1484280"/>
            <a:ext cx="4825800" cy="2521080"/>
          </a:xfrm>
          <a:prstGeom prst="wedgeRoundRectCallout">
            <a:avLst>
              <a:gd name="adj1" fmla="val -23717"/>
              <a:gd name="adj2" fmla="val 92064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Recap I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5" name="" descr=""/>
          <p:cNvPicPr/>
          <p:nvPr/>
        </p:nvPicPr>
        <p:blipFill>
          <a:blip r:embed="rId1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grpSp>
        <p:nvGrpSpPr>
          <p:cNvPr id="1808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1809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3" name="" descr=""/>
          <p:cNvPicPr/>
          <p:nvPr/>
        </p:nvPicPr>
        <p:blipFill>
          <a:blip r:embed="rId4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5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1816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5266080" y="2134080"/>
            <a:ext cx="2442600" cy="713880"/>
            <a:chOff x="5266080" y="2134080"/>
            <a:chExt cx="2442600" cy="713880"/>
          </a:xfrm>
        </p:grpSpPr>
        <p:sp>
          <p:nvSpPr>
            <p:cNvPr id="1822" name=""/>
            <p:cNvSpPr/>
            <p:nvPr/>
          </p:nvSpPr>
          <p:spPr>
            <a:xfrm>
              <a:off x="5443560" y="245448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5266080" y="2134080"/>
              <a:ext cx="713520" cy="713880"/>
              <a:chOff x="5266080" y="2134080"/>
              <a:chExt cx="713520" cy="713880"/>
            </a:xfrm>
          </p:grpSpPr>
          <p:sp>
            <p:nvSpPr>
              <p:cNvPr id="1824" name=""/>
              <p:cNvSpPr/>
              <p:nvPr/>
            </p:nvSpPr>
            <p:spPr>
              <a:xfrm rot="2700000">
                <a:off x="5370480" y="22384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5460480" y="23266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5459040" y="23277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 flipV="1">
                <a:off x="5622480" y="22622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5393880" y="24908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5842440" y="2134080"/>
              <a:ext cx="713520" cy="713880"/>
              <a:chOff x="5842440" y="2134080"/>
              <a:chExt cx="713520" cy="713880"/>
            </a:xfrm>
          </p:grpSpPr>
          <p:sp>
            <p:nvSpPr>
              <p:cNvPr id="1830" name=""/>
              <p:cNvSpPr/>
              <p:nvPr/>
            </p:nvSpPr>
            <p:spPr>
              <a:xfrm rot="2700000">
                <a:off x="5946840" y="22384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6036840" y="23266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 flipV="1">
                <a:off x="6035400" y="23277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 flipV="1">
                <a:off x="6198840" y="22622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5970240" y="24908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6418800" y="2134080"/>
              <a:ext cx="713520" cy="713880"/>
              <a:chOff x="6418800" y="2134080"/>
              <a:chExt cx="713520" cy="713880"/>
            </a:xfrm>
          </p:grpSpPr>
          <p:sp>
            <p:nvSpPr>
              <p:cNvPr id="1836" name=""/>
              <p:cNvSpPr/>
              <p:nvPr/>
            </p:nvSpPr>
            <p:spPr>
              <a:xfrm rot="2700000">
                <a:off x="6523200" y="22384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6613200" y="23266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 flipV="1">
                <a:off x="6611760" y="23277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 flipV="1">
                <a:off x="6775200" y="22622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6546600" y="24908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6995160" y="2134080"/>
              <a:ext cx="713520" cy="713880"/>
              <a:chOff x="6995160" y="2134080"/>
              <a:chExt cx="713520" cy="713880"/>
            </a:xfrm>
          </p:grpSpPr>
          <p:sp>
            <p:nvSpPr>
              <p:cNvPr id="1842" name=""/>
              <p:cNvSpPr/>
              <p:nvPr/>
            </p:nvSpPr>
            <p:spPr>
              <a:xfrm rot="2700000">
                <a:off x="7099560" y="22384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7189560" y="23266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7188120" y="23277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 flipV="1">
                <a:off x="7351560" y="22622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7122960" y="24908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847" name=""/>
          <p:cNvGrpSpPr/>
          <p:nvPr/>
        </p:nvGrpSpPr>
        <p:grpSpPr>
          <a:xfrm>
            <a:off x="313200" y="4931280"/>
            <a:ext cx="712080" cy="711720"/>
            <a:chOff x="313200" y="4931280"/>
            <a:chExt cx="712080" cy="711720"/>
          </a:xfrm>
        </p:grpSpPr>
        <p:sp>
          <p:nvSpPr>
            <p:cNvPr id="1848" name=""/>
            <p:cNvSpPr/>
            <p:nvPr/>
          </p:nvSpPr>
          <p:spPr>
            <a:xfrm rot="2700000">
              <a:off x="417240" y="50353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506880" y="5124240"/>
              <a:ext cx="322560" cy="324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 flipV="1">
              <a:off x="505800" y="5124600"/>
              <a:ext cx="324360" cy="322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 flipV="1">
              <a:off x="669240" y="5059080"/>
              <a:ext cx="1440" cy="4572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440640" y="5287320"/>
              <a:ext cx="45756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2041920" y="4931280"/>
            <a:ext cx="713520" cy="713880"/>
            <a:chOff x="2041920" y="4931280"/>
            <a:chExt cx="713520" cy="713880"/>
          </a:xfrm>
        </p:grpSpPr>
        <p:sp>
          <p:nvSpPr>
            <p:cNvPr id="1854" name=""/>
            <p:cNvSpPr/>
            <p:nvPr/>
          </p:nvSpPr>
          <p:spPr>
            <a:xfrm rot="2700000">
              <a:off x="2146320" y="5035680"/>
              <a:ext cx="504720" cy="504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2236320" y="5123880"/>
              <a:ext cx="32292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 flipV="1">
              <a:off x="2234880" y="5124960"/>
              <a:ext cx="32580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2398320" y="505944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2169720" y="5288040"/>
              <a:ext cx="4590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9" name=""/>
          <p:cNvGrpSpPr/>
          <p:nvPr/>
        </p:nvGrpSpPr>
        <p:grpSpPr>
          <a:xfrm>
            <a:off x="754200" y="2421000"/>
            <a:ext cx="1441440" cy="1079280"/>
            <a:chOff x="754200" y="2421000"/>
            <a:chExt cx="1441440" cy="1079280"/>
          </a:xfrm>
        </p:grpSpPr>
        <p:sp>
          <p:nvSpPr>
            <p:cNvPr id="1860" name=""/>
            <p:cNvSpPr/>
            <p:nvPr/>
          </p:nvSpPr>
          <p:spPr>
            <a:xfrm>
              <a:off x="754200" y="2492280"/>
              <a:ext cx="144360" cy="1007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970200" y="3355920"/>
              <a:ext cx="144360" cy="144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185840" y="2708280"/>
              <a:ext cx="146160" cy="79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403280" y="2421000"/>
              <a:ext cx="144720" cy="1079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617840" y="3068640"/>
              <a:ext cx="145800" cy="431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835280" y="3429000"/>
              <a:ext cx="144360" cy="70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051280" y="3284280"/>
              <a:ext cx="144360" cy="215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3059280" y="2205000"/>
            <a:ext cx="1439640" cy="1295280"/>
            <a:chOff x="3059280" y="2205000"/>
            <a:chExt cx="1439640" cy="1295280"/>
          </a:xfrm>
        </p:grpSpPr>
        <p:sp>
          <p:nvSpPr>
            <p:cNvPr id="1868" name=""/>
            <p:cNvSpPr/>
            <p:nvPr/>
          </p:nvSpPr>
          <p:spPr>
            <a:xfrm>
              <a:off x="3059280" y="3068640"/>
              <a:ext cx="144360" cy="431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75280" y="2205000"/>
              <a:ext cx="144360" cy="12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490920" y="2995560"/>
              <a:ext cx="144720" cy="504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706920" y="3355920"/>
              <a:ext cx="144360" cy="144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140360" y="2492280"/>
              <a:ext cx="142920" cy="100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356360" y="2995560"/>
              <a:ext cx="142560" cy="504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6445080" y="371628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5" name=""/>
          <p:cNvGrpSpPr/>
          <p:nvPr/>
        </p:nvGrpSpPr>
        <p:grpSpPr>
          <a:xfrm>
            <a:off x="6184080" y="3418920"/>
            <a:ext cx="724680" cy="803880"/>
            <a:chOff x="6184080" y="3418920"/>
            <a:chExt cx="724680" cy="803880"/>
          </a:xfrm>
        </p:grpSpPr>
        <p:sp>
          <p:nvSpPr>
            <p:cNvPr id="1876" name=""/>
            <p:cNvSpPr/>
            <p:nvPr/>
          </p:nvSpPr>
          <p:spPr>
            <a:xfrm rot="1512000">
              <a:off x="6300360" y="3492000"/>
              <a:ext cx="491760" cy="6570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6420240" y="3549960"/>
              <a:ext cx="252360" cy="5403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 flipV="1">
              <a:off x="6343560" y="3724920"/>
              <a:ext cx="405000" cy="18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 flipV="1">
              <a:off x="6452640" y="3559320"/>
              <a:ext cx="187560" cy="515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318360" y="3738240"/>
              <a:ext cx="457560" cy="1648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6761520" y="3421800"/>
            <a:ext cx="662400" cy="662400"/>
            <a:chOff x="6761520" y="3421800"/>
            <a:chExt cx="662400" cy="662400"/>
          </a:xfrm>
        </p:grpSpPr>
        <p:sp>
          <p:nvSpPr>
            <p:cNvPr id="1882" name=""/>
            <p:cNvSpPr/>
            <p:nvPr/>
          </p:nvSpPr>
          <p:spPr>
            <a:xfrm rot="2700000">
              <a:off x="6840000" y="3537000"/>
              <a:ext cx="505080" cy="4316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6954120" y="3612600"/>
              <a:ext cx="275760" cy="278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 flipV="1">
              <a:off x="6928920" y="3590280"/>
              <a:ext cx="32580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 flipV="1">
              <a:off x="7093080" y="3524400"/>
              <a:ext cx="144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6897240" y="3753000"/>
              <a:ext cx="39204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754200" y="2779560"/>
            <a:ext cx="3746520" cy="720720"/>
            <a:chOff x="754200" y="2779560"/>
            <a:chExt cx="3746520" cy="720720"/>
          </a:xfrm>
        </p:grpSpPr>
        <p:sp>
          <p:nvSpPr>
            <p:cNvPr id="1888" name=""/>
            <p:cNvSpPr/>
            <p:nvPr/>
          </p:nvSpPr>
          <p:spPr>
            <a:xfrm>
              <a:off x="754200" y="277956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970200" y="277956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185840" y="277956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403280" y="2779560"/>
              <a:ext cx="14472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17840" y="277956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835280" y="277956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051280" y="2779560"/>
              <a:ext cx="144360" cy="72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059280" y="277956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75280" y="277956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490920" y="2779560"/>
              <a:ext cx="14472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706920" y="277956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922920" y="277956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140360" y="277956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356360" y="2779560"/>
              <a:ext cx="144360" cy="720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7451640" y="3500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3" name=""/>
          <p:cNvGrpSpPr/>
          <p:nvPr/>
        </p:nvGrpSpPr>
        <p:grpSpPr>
          <a:xfrm>
            <a:off x="417600" y="4957200"/>
            <a:ext cx="1770480" cy="784440"/>
            <a:chOff x="417600" y="4957200"/>
            <a:chExt cx="1770480" cy="784440"/>
          </a:xfrm>
        </p:grpSpPr>
        <p:grpSp>
          <p:nvGrpSpPr>
            <p:cNvPr id="1904" name=""/>
            <p:cNvGrpSpPr/>
            <p:nvPr/>
          </p:nvGrpSpPr>
          <p:grpSpPr>
            <a:xfrm>
              <a:off x="900000" y="4977360"/>
              <a:ext cx="763920" cy="764280"/>
              <a:chOff x="900000" y="4977360"/>
              <a:chExt cx="763920" cy="764280"/>
            </a:xfrm>
          </p:grpSpPr>
          <p:sp>
            <p:nvSpPr>
              <p:cNvPr id="1905" name=""/>
              <p:cNvSpPr/>
              <p:nvPr/>
            </p:nvSpPr>
            <p:spPr>
              <a:xfrm rot="2700000">
                <a:off x="958320" y="514260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1142640" y="521784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 flipV="1">
                <a:off x="1072080" y="515016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 flipV="1">
                <a:off x="1281960" y="506592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1085040" y="535932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0" name=""/>
            <p:cNvGrpSpPr/>
            <p:nvPr/>
          </p:nvGrpSpPr>
          <p:grpSpPr>
            <a:xfrm>
              <a:off x="1526040" y="4957200"/>
              <a:ext cx="662040" cy="662040"/>
              <a:chOff x="1526040" y="4957200"/>
              <a:chExt cx="662040" cy="662040"/>
            </a:xfrm>
          </p:grpSpPr>
          <p:sp>
            <p:nvSpPr>
              <p:cNvPr id="1911" name=""/>
              <p:cNvSpPr/>
              <p:nvPr/>
            </p:nvSpPr>
            <p:spPr>
              <a:xfrm rot="2700000">
                <a:off x="1604520" y="507240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V="1">
                <a:off x="1718640" y="514764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 flipV="1">
                <a:off x="1693440" y="512568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 flipV="1">
                <a:off x="1857600" y="505908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1661760" y="528804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6" name=""/>
            <p:cNvGrpSpPr/>
            <p:nvPr/>
          </p:nvGrpSpPr>
          <p:grpSpPr>
            <a:xfrm>
              <a:off x="417600" y="5035680"/>
              <a:ext cx="504720" cy="504720"/>
              <a:chOff x="417600" y="5035680"/>
              <a:chExt cx="504720" cy="504720"/>
            </a:xfrm>
          </p:grpSpPr>
          <p:sp>
            <p:nvSpPr>
              <p:cNvPr id="1917" name=""/>
              <p:cNvSpPr/>
              <p:nvPr/>
            </p:nvSpPr>
            <p:spPr>
              <a:xfrm>
                <a:off x="417600" y="503568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468360" y="528768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9" name=""/>
          <p:cNvSpPr/>
          <p:nvPr/>
        </p:nvSpPr>
        <p:spPr>
          <a:xfrm>
            <a:off x="2193840" y="29242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682560" y="1628640"/>
            <a:ext cx="0" cy="1873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682560" y="3502080"/>
            <a:ext cx="1873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24000" y="16286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1474920" y="1771560"/>
            <a:ext cx="504720" cy="504720"/>
            <a:chOff x="1474920" y="1771560"/>
            <a:chExt cx="504720" cy="504720"/>
          </a:xfrm>
        </p:grpSpPr>
        <p:sp>
          <p:nvSpPr>
            <p:cNvPr id="1924" name=""/>
            <p:cNvSpPr/>
            <p:nvPr/>
          </p:nvSpPr>
          <p:spPr>
            <a:xfrm>
              <a:off x="1474920" y="177156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 flipV="1">
              <a:off x="1727280" y="179496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1525680" y="202356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7" name=""/>
          <p:cNvSpPr/>
          <p:nvPr/>
        </p:nvSpPr>
        <p:spPr>
          <a:xfrm>
            <a:off x="234000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4498920" y="29242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2987640" y="1628640"/>
            <a:ext cx="0" cy="1873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2987640" y="3502080"/>
            <a:ext cx="1873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2627280" y="162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3673800" y="1667160"/>
            <a:ext cx="713520" cy="713880"/>
            <a:chOff x="3673800" y="1667160"/>
            <a:chExt cx="713520" cy="713880"/>
          </a:xfrm>
        </p:grpSpPr>
        <p:sp>
          <p:nvSpPr>
            <p:cNvPr id="1933" name=""/>
            <p:cNvSpPr/>
            <p:nvPr/>
          </p:nvSpPr>
          <p:spPr>
            <a:xfrm rot="2700000">
              <a:off x="3778200" y="177156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3869640" y="186192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 flipV="1">
              <a:off x="3868200" y="186300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464652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7" name=""/>
          <p:cNvGrpSpPr/>
          <p:nvPr/>
        </p:nvGrpSpPr>
        <p:grpSpPr>
          <a:xfrm>
            <a:off x="2627280" y="5084280"/>
            <a:ext cx="2427480" cy="843120"/>
            <a:chOff x="2627280" y="5084280"/>
            <a:chExt cx="2427480" cy="843120"/>
          </a:xfrm>
        </p:grpSpPr>
        <p:grpSp>
          <p:nvGrpSpPr>
            <p:cNvPr id="1938" name=""/>
            <p:cNvGrpSpPr/>
            <p:nvPr/>
          </p:nvGrpSpPr>
          <p:grpSpPr>
            <a:xfrm>
              <a:off x="2627280" y="5084280"/>
              <a:ext cx="865080" cy="843120"/>
              <a:chOff x="2627280" y="5084280"/>
              <a:chExt cx="865080" cy="843120"/>
            </a:xfrm>
          </p:grpSpPr>
          <p:sp>
            <p:nvSpPr>
              <p:cNvPr id="1939" name=""/>
              <p:cNvSpPr/>
              <p:nvPr/>
            </p:nvSpPr>
            <p:spPr>
              <a:xfrm>
                <a:off x="2771640" y="5229360"/>
                <a:ext cx="57636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627280" y="54450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V="1">
                <a:off x="3058920" y="5084280"/>
                <a:ext cx="21600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 flipV="1">
                <a:off x="3095640" y="546840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V="1">
                <a:off x="2894040" y="569700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944" name="" descr=""/>
            <p:cNvPicPr/>
            <p:nvPr/>
          </p:nvPicPr>
          <p:blipFill>
            <a:blip r:embed="rId5"/>
            <a:stretch/>
          </p:blipFill>
          <p:spPr>
            <a:xfrm>
              <a:off x="3419640" y="5084640"/>
              <a:ext cx="163512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8F64-D343-436B-888D-8DF6079B7E84}" type="slidenum">
              <a:t>27</a:t>
            </a:fld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"/>
          <p:cNvSpPr/>
          <p:nvPr/>
        </p:nvSpPr>
        <p:spPr>
          <a:xfrm>
            <a:off x="250920" y="1484280"/>
            <a:ext cx="4825800" cy="2521080"/>
          </a:xfrm>
          <a:prstGeom prst="wedgeRoundRectCallout">
            <a:avLst>
              <a:gd name="adj1" fmla="val -23717"/>
              <a:gd name="adj2" fmla="val 92064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Sender-Privacy: Recap IV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8" name="" descr=""/>
          <p:cNvPicPr/>
          <p:nvPr/>
        </p:nvPicPr>
        <p:blipFill>
          <a:blip r:embed="rId1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1949" name="" descr=""/>
          <p:cNvPicPr/>
          <p:nvPr/>
        </p:nvPicPr>
        <p:blipFill>
          <a:blip r:embed="rId2"/>
          <a:stretch/>
        </p:blipFill>
        <p:spPr>
          <a:xfrm>
            <a:off x="422280" y="574848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1950" name="" descr=""/>
          <p:cNvPicPr/>
          <p:nvPr/>
        </p:nvPicPr>
        <p:blipFill>
          <a:blip r:embed="rId3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sp>
        <p:nvSpPr>
          <p:cNvPr id="1951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3" name=""/>
          <p:cNvGrpSpPr/>
          <p:nvPr/>
        </p:nvGrpSpPr>
        <p:grpSpPr>
          <a:xfrm>
            <a:off x="2041920" y="4931280"/>
            <a:ext cx="713520" cy="713880"/>
            <a:chOff x="2041920" y="4931280"/>
            <a:chExt cx="713520" cy="713880"/>
          </a:xfrm>
        </p:grpSpPr>
        <p:sp>
          <p:nvSpPr>
            <p:cNvPr id="1954" name=""/>
            <p:cNvSpPr/>
            <p:nvPr/>
          </p:nvSpPr>
          <p:spPr>
            <a:xfrm rot="2700000">
              <a:off x="2146320" y="5035680"/>
              <a:ext cx="504720" cy="504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236320" y="5123880"/>
              <a:ext cx="32292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 flipV="1">
              <a:off x="2234880" y="5124960"/>
              <a:ext cx="32580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 flipV="1">
              <a:off x="2398320" y="505944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>
              <a:off x="2169720" y="5288040"/>
              <a:ext cx="4590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9" name=""/>
          <p:cNvSpPr/>
          <p:nvPr/>
        </p:nvSpPr>
        <p:spPr>
          <a:xfrm>
            <a:off x="971640" y="2492280"/>
            <a:ext cx="14436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1835280" y="3357720"/>
            <a:ext cx="144360" cy="14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1185840" y="2708280"/>
            <a:ext cx="146160" cy="79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755640" y="2421000"/>
            <a:ext cx="144360" cy="10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1403280" y="3068640"/>
            <a:ext cx="14616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2050920" y="3429000"/>
            <a:ext cx="144720" cy="71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1619280" y="3284640"/>
            <a:ext cx="144360" cy="21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922560" y="3068640"/>
            <a:ext cx="144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3059280" y="2205000"/>
            <a:ext cx="144360" cy="1295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490920" y="2995560"/>
            <a:ext cx="14436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4140360" y="3355920"/>
            <a:ext cx="144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276720" y="2492280"/>
            <a:ext cx="14292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708360" y="2995560"/>
            <a:ext cx="142920" cy="50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6445080" y="371628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3" name=""/>
          <p:cNvGrpSpPr/>
          <p:nvPr/>
        </p:nvGrpSpPr>
        <p:grpSpPr>
          <a:xfrm>
            <a:off x="417600" y="4957200"/>
            <a:ext cx="1770480" cy="784440"/>
            <a:chOff x="417600" y="4957200"/>
            <a:chExt cx="1770480" cy="784440"/>
          </a:xfrm>
        </p:grpSpPr>
        <p:grpSp>
          <p:nvGrpSpPr>
            <p:cNvPr id="1974" name=""/>
            <p:cNvGrpSpPr/>
            <p:nvPr/>
          </p:nvGrpSpPr>
          <p:grpSpPr>
            <a:xfrm>
              <a:off x="900000" y="4977360"/>
              <a:ext cx="763920" cy="764280"/>
              <a:chOff x="900000" y="4977360"/>
              <a:chExt cx="763920" cy="764280"/>
            </a:xfrm>
          </p:grpSpPr>
          <p:sp>
            <p:nvSpPr>
              <p:cNvPr id="1975" name=""/>
              <p:cNvSpPr/>
              <p:nvPr/>
            </p:nvSpPr>
            <p:spPr>
              <a:xfrm rot="2700000">
                <a:off x="958320" y="514260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V="1">
                <a:off x="1142640" y="521784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 flipV="1">
                <a:off x="1072080" y="515016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 flipV="1">
                <a:off x="1281960" y="506592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>
                <a:off x="1085040" y="535932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1526040" y="4957200"/>
              <a:ext cx="662040" cy="662040"/>
              <a:chOff x="1526040" y="4957200"/>
              <a:chExt cx="662040" cy="662040"/>
            </a:xfrm>
          </p:grpSpPr>
          <p:sp>
            <p:nvSpPr>
              <p:cNvPr id="1981" name=""/>
              <p:cNvSpPr/>
              <p:nvPr/>
            </p:nvSpPr>
            <p:spPr>
              <a:xfrm rot="2700000">
                <a:off x="1604520" y="507240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V="1">
                <a:off x="1718640" y="514764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 flipV="1">
                <a:off x="1693440" y="512568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 flipV="1">
                <a:off x="1857600" y="505908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>
                <a:off x="1661760" y="528804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6" name=""/>
            <p:cNvGrpSpPr/>
            <p:nvPr/>
          </p:nvGrpSpPr>
          <p:grpSpPr>
            <a:xfrm>
              <a:off x="417600" y="5035680"/>
              <a:ext cx="504720" cy="504720"/>
              <a:chOff x="417600" y="5035680"/>
              <a:chExt cx="504720" cy="504720"/>
            </a:xfrm>
          </p:grpSpPr>
          <p:sp>
            <p:nvSpPr>
              <p:cNvPr id="1987" name=""/>
              <p:cNvSpPr/>
              <p:nvPr/>
            </p:nvSpPr>
            <p:spPr>
              <a:xfrm>
                <a:off x="417600" y="503568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468360" y="528768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89" name=""/>
          <p:cNvSpPr/>
          <p:nvPr/>
        </p:nvSpPr>
        <p:spPr>
          <a:xfrm>
            <a:off x="2193840" y="29242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682560" y="1628640"/>
            <a:ext cx="0" cy="1873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682560" y="3502080"/>
            <a:ext cx="1873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24000" y="16286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3" name=""/>
          <p:cNvGrpSpPr/>
          <p:nvPr/>
        </p:nvGrpSpPr>
        <p:grpSpPr>
          <a:xfrm>
            <a:off x="1474920" y="1771560"/>
            <a:ext cx="504720" cy="504720"/>
            <a:chOff x="1474920" y="1771560"/>
            <a:chExt cx="504720" cy="504720"/>
          </a:xfrm>
        </p:grpSpPr>
        <p:sp>
          <p:nvSpPr>
            <p:cNvPr id="1994" name=""/>
            <p:cNvSpPr/>
            <p:nvPr/>
          </p:nvSpPr>
          <p:spPr>
            <a:xfrm>
              <a:off x="1474920" y="177156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H="1" flipV="1">
              <a:off x="1727280" y="179496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1525680" y="202356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7" name=""/>
          <p:cNvSpPr/>
          <p:nvPr/>
        </p:nvSpPr>
        <p:spPr>
          <a:xfrm>
            <a:off x="234000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4498920" y="2924280"/>
            <a:ext cx="3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2987640" y="1628640"/>
            <a:ext cx="0" cy="1873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987640" y="3502080"/>
            <a:ext cx="1873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627280" y="1628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2" name=""/>
          <p:cNvGrpSpPr/>
          <p:nvPr/>
        </p:nvGrpSpPr>
        <p:grpSpPr>
          <a:xfrm>
            <a:off x="3673800" y="1667160"/>
            <a:ext cx="713520" cy="713880"/>
            <a:chOff x="3673800" y="1667160"/>
            <a:chExt cx="713520" cy="713880"/>
          </a:xfrm>
        </p:grpSpPr>
        <p:sp>
          <p:nvSpPr>
            <p:cNvPr id="2003" name=""/>
            <p:cNvSpPr/>
            <p:nvPr/>
          </p:nvSpPr>
          <p:spPr>
            <a:xfrm rot="2700000">
              <a:off x="3778200" y="177156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V="1">
              <a:off x="3869640" y="186192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 flipV="1">
              <a:off x="3868200" y="186300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6" name=""/>
          <p:cNvSpPr/>
          <p:nvPr/>
        </p:nvSpPr>
        <p:spPr>
          <a:xfrm>
            <a:off x="4646520" y="34290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7" name=""/>
          <p:cNvGrpSpPr/>
          <p:nvPr/>
        </p:nvGrpSpPr>
        <p:grpSpPr>
          <a:xfrm>
            <a:off x="2627280" y="5084280"/>
            <a:ext cx="2427480" cy="843120"/>
            <a:chOff x="2627280" y="5084280"/>
            <a:chExt cx="2427480" cy="843120"/>
          </a:xfrm>
        </p:grpSpPr>
        <p:grpSp>
          <p:nvGrpSpPr>
            <p:cNvPr id="2008" name=""/>
            <p:cNvGrpSpPr/>
            <p:nvPr/>
          </p:nvGrpSpPr>
          <p:grpSpPr>
            <a:xfrm>
              <a:off x="2627280" y="5084280"/>
              <a:ext cx="865080" cy="843120"/>
              <a:chOff x="2627280" y="5084280"/>
              <a:chExt cx="865080" cy="843120"/>
            </a:xfrm>
          </p:grpSpPr>
          <p:sp>
            <p:nvSpPr>
              <p:cNvPr id="2009" name=""/>
              <p:cNvSpPr/>
              <p:nvPr/>
            </p:nvSpPr>
            <p:spPr>
              <a:xfrm>
                <a:off x="2771640" y="5229360"/>
                <a:ext cx="57636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627280" y="54450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V="1">
                <a:off x="3058920" y="5084280"/>
                <a:ext cx="21600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 flipV="1">
                <a:off x="3095640" y="546840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2894040" y="569700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14" name="" descr=""/>
            <p:cNvPicPr/>
            <p:nvPr/>
          </p:nvPicPr>
          <p:blipFill>
            <a:blip r:embed="rId4"/>
            <a:stretch/>
          </p:blipFill>
          <p:spPr>
            <a:xfrm>
              <a:off x="3419640" y="5084640"/>
              <a:ext cx="1635120" cy="3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5" name=""/>
          <p:cNvSpPr/>
          <p:nvPr/>
        </p:nvSpPr>
        <p:spPr>
          <a:xfrm>
            <a:off x="8388360" y="3068640"/>
            <a:ext cx="216000" cy="21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6" name="" descr=""/>
          <p:cNvPicPr/>
          <p:nvPr/>
        </p:nvPicPr>
        <p:blipFill>
          <a:blip r:embed="rId5"/>
          <a:stretch/>
        </p:blipFill>
        <p:spPr>
          <a:xfrm>
            <a:off x="5533920" y="1838160"/>
            <a:ext cx="2897280" cy="1079640"/>
          </a:xfrm>
          <a:prstGeom prst="rect">
            <a:avLst/>
          </a:prstGeom>
          <a:ln w="0">
            <a:noFill/>
          </a:ln>
        </p:spPr>
      </p:pic>
      <p:grpSp>
        <p:nvGrpSpPr>
          <p:cNvPr id="2017" name=""/>
          <p:cNvGrpSpPr/>
          <p:nvPr/>
        </p:nvGrpSpPr>
        <p:grpSpPr>
          <a:xfrm>
            <a:off x="611280" y="1989000"/>
            <a:ext cx="3889440" cy="1944720"/>
            <a:chOff x="611280" y="1989000"/>
            <a:chExt cx="3889440" cy="1944720"/>
          </a:xfrm>
        </p:grpSpPr>
        <p:sp>
          <p:nvSpPr>
            <p:cNvPr id="2018" name=""/>
            <p:cNvSpPr/>
            <p:nvPr/>
          </p:nvSpPr>
          <p:spPr>
            <a:xfrm flipV="1">
              <a:off x="1371600" y="1989000"/>
              <a:ext cx="0" cy="19447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19" name="" descr=""/>
            <p:cNvPicPr/>
            <p:nvPr/>
          </p:nvPicPr>
          <p:blipFill>
            <a:blip r:embed="rId6"/>
            <a:stretch/>
          </p:blipFill>
          <p:spPr>
            <a:xfrm>
              <a:off x="1763640" y="3573360"/>
              <a:ext cx="30024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0" name=""/>
            <p:cNvSpPr/>
            <p:nvPr/>
          </p:nvSpPr>
          <p:spPr>
            <a:xfrm>
              <a:off x="2843280" y="2914560"/>
              <a:ext cx="1657440" cy="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3454560" y="1989000"/>
              <a:ext cx="0" cy="19447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22" name="" descr=""/>
            <p:cNvPicPr/>
            <p:nvPr/>
          </p:nvPicPr>
          <p:blipFill>
            <a:blip r:embed="rId7"/>
            <a:stretch/>
          </p:blipFill>
          <p:spPr>
            <a:xfrm>
              <a:off x="3719520" y="3551400"/>
              <a:ext cx="29988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3" name=""/>
            <p:cNvSpPr/>
            <p:nvPr/>
          </p:nvSpPr>
          <p:spPr>
            <a:xfrm>
              <a:off x="611280" y="2914560"/>
              <a:ext cx="1800000" cy="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24" name="" descr=""/>
            <p:cNvPicPr/>
            <p:nvPr/>
          </p:nvPicPr>
          <p:blipFill>
            <a:blip r:embed="rId8"/>
            <a:stretch/>
          </p:blipFill>
          <p:spPr>
            <a:xfrm>
              <a:off x="826920" y="3573360"/>
              <a:ext cx="27000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5" name="" descr=""/>
            <p:cNvPicPr/>
            <p:nvPr/>
          </p:nvPicPr>
          <p:blipFill>
            <a:blip r:embed="rId9"/>
            <a:stretch/>
          </p:blipFill>
          <p:spPr>
            <a:xfrm>
              <a:off x="3078000" y="3573360"/>
              <a:ext cx="27000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D1992-73AC-4EB4-AA82-2E7EF23E91C5}" type="slidenum">
              <a:t>28</a:t>
            </a:fld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ivacy Amplification is Necessary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8" name="" descr=""/>
          <p:cNvPicPr/>
          <p:nvPr/>
        </p:nvPicPr>
        <p:blipFill>
          <a:blip r:embed="rId1"/>
          <a:stretch/>
        </p:blipFill>
        <p:spPr>
          <a:xfrm>
            <a:off x="3456000" y="5607000"/>
            <a:ext cx="971640" cy="399960"/>
          </a:xfrm>
          <a:prstGeom prst="rect">
            <a:avLst/>
          </a:prstGeom>
          <a:ln w="0">
            <a:noFill/>
          </a:ln>
        </p:spPr>
      </p:pic>
      <p:grpSp>
        <p:nvGrpSpPr>
          <p:cNvPr id="2029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2030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2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5" name="" descr=""/>
          <p:cNvPicPr/>
          <p:nvPr/>
        </p:nvPicPr>
        <p:blipFill>
          <a:blip r:embed="rId2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2036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7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2038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3" name=""/>
          <p:cNvSpPr/>
          <p:nvPr/>
        </p:nvSpPr>
        <p:spPr>
          <a:xfrm flipH="1" flipV="1">
            <a:off x="1871640" y="2948040"/>
            <a:ext cx="1440" cy="4586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V="1">
            <a:off x="1670040" y="3176640"/>
            <a:ext cx="403200" cy="1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395280" y="2205000"/>
            <a:ext cx="2376360" cy="1297080"/>
            <a:chOff x="395280" y="2205000"/>
            <a:chExt cx="2376360" cy="1297080"/>
          </a:xfrm>
        </p:grpSpPr>
        <p:sp>
          <p:nvSpPr>
            <p:cNvPr id="2046" name=""/>
            <p:cNvSpPr/>
            <p:nvPr/>
          </p:nvSpPr>
          <p:spPr>
            <a:xfrm>
              <a:off x="39528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547640" y="2205000"/>
              <a:ext cx="64800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12400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971640" y="220500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362160" y="2173680"/>
            <a:ext cx="2442600" cy="713880"/>
            <a:chOff x="362160" y="2173680"/>
            <a:chExt cx="2442600" cy="713880"/>
          </a:xfrm>
        </p:grpSpPr>
        <p:sp>
          <p:nvSpPr>
            <p:cNvPr id="2051" name=""/>
            <p:cNvSpPr/>
            <p:nvPr/>
          </p:nvSpPr>
          <p:spPr>
            <a:xfrm>
              <a:off x="539640" y="249408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362160" y="2173680"/>
              <a:ext cx="713520" cy="713880"/>
              <a:chOff x="362160" y="2173680"/>
              <a:chExt cx="713520" cy="713880"/>
            </a:xfrm>
          </p:grpSpPr>
          <p:sp>
            <p:nvSpPr>
              <p:cNvPr id="2053" name=""/>
              <p:cNvSpPr/>
              <p:nvPr/>
            </p:nvSpPr>
            <p:spPr>
              <a:xfrm rot="2700000">
                <a:off x="46620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55656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 flipV="1">
                <a:off x="55512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H="1" flipV="1">
                <a:off x="71856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H="1">
                <a:off x="48996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58" name=""/>
            <p:cNvGrpSpPr/>
            <p:nvPr/>
          </p:nvGrpSpPr>
          <p:grpSpPr>
            <a:xfrm>
              <a:off x="938520" y="2173680"/>
              <a:ext cx="713520" cy="713880"/>
              <a:chOff x="938520" y="2173680"/>
              <a:chExt cx="713520" cy="713880"/>
            </a:xfrm>
          </p:grpSpPr>
          <p:sp>
            <p:nvSpPr>
              <p:cNvPr id="2059" name=""/>
              <p:cNvSpPr/>
              <p:nvPr/>
            </p:nvSpPr>
            <p:spPr>
              <a:xfrm rot="2700000">
                <a:off x="104292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113292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H="1" flipV="1">
                <a:off x="113148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H="1" flipV="1">
                <a:off x="129492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H="1">
                <a:off x="106632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64" name=""/>
            <p:cNvGrpSpPr/>
            <p:nvPr/>
          </p:nvGrpSpPr>
          <p:grpSpPr>
            <a:xfrm>
              <a:off x="1514880" y="2173680"/>
              <a:ext cx="713520" cy="713880"/>
              <a:chOff x="1514880" y="2173680"/>
              <a:chExt cx="713520" cy="713880"/>
            </a:xfrm>
          </p:grpSpPr>
          <p:sp>
            <p:nvSpPr>
              <p:cNvPr id="2065" name=""/>
              <p:cNvSpPr/>
              <p:nvPr/>
            </p:nvSpPr>
            <p:spPr>
              <a:xfrm rot="2700000">
                <a:off x="161928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170928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170784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flipV="1">
                <a:off x="187128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>
                <a:off x="164268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0" name=""/>
            <p:cNvGrpSpPr/>
            <p:nvPr/>
          </p:nvGrpSpPr>
          <p:grpSpPr>
            <a:xfrm>
              <a:off x="2091240" y="2173680"/>
              <a:ext cx="713520" cy="713880"/>
              <a:chOff x="2091240" y="2173680"/>
              <a:chExt cx="713520" cy="713880"/>
            </a:xfrm>
          </p:grpSpPr>
          <p:sp>
            <p:nvSpPr>
              <p:cNvPr id="2071" name=""/>
              <p:cNvSpPr/>
              <p:nvPr/>
            </p:nvSpPr>
            <p:spPr>
              <a:xfrm rot="2700000">
                <a:off x="2195640" y="22780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2285640" y="23662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flipV="1">
                <a:off x="2284200" y="23673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H="1" flipV="1">
                <a:off x="2447640" y="23018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H="1">
                <a:off x="2219040" y="25304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76" name=""/>
          <p:cNvGrpSpPr/>
          <p:nvPr/>
        </p:nvGrpSpPr>
        <p:grpSpPr>
          <a:xfrm>
            <a:off x="363960" y="2821320"/>
            <a:ext cx="2440800" cy="713880"/>
            <a:chOff x="363960" y="2821320"/>
            <a:chExt cx="2440800" cy="713880"/>
          </a:xfrm>
        </p:grpSpPr>
        <p:grpSp>
          <p:nvGrpSpPr>
            <p:cNvPr id="2077" name=""/>
            <p:cNvGrpSpPr/>
            <p:nvPr/>
          </p:nvGrpSpPr>
          <p:grpSpPr>
            <a:xfrm>
              <a:off x="363960" y="2821320"/>
              <a:ext cx="712080" cy="711720"/>
              <a:chOff x="363960" y="2821320"/>
              <a:chExt cx="712080" cy="711720"/>
            </a:xfrm>
          </p:grpSpPr>
          <p:sp>
            <p:nvSpPr>
              <p:cNvPr id="2078" name=""/>
              <p:cNvSpPr/>
              <p:nvPr/>
            </p:nvSpPr>
            <p:spPr>
              <a:xfrm rot="2700000">
                <a:off x="468000" y="292536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557640" y="301428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flipV="1">
                <a:off x="556560" y="301464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H="1" flipV="1">
                <a:off x="720000" y="294912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>
                <a:off x="491400" y="317736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3" name=""/>
            <p:cNvGrpSpPr/>
            <p:nvPr/>
          </p:nvGrpSpPr>
          <p:grpSpPr>
            <a:xfrm>
              <a:off x="938520" y="2821320"/>
              <a:ext cx="713520" cy="713880"/>
              <a:chOff x="938520" y="2821320"/>
              <a:chExt cx="713520" cy="713880"/>
            </a:xfrm>
          </p:grpSpPr>
          <p:sp>
            <p:nvSpPr>
              <p:cNvPr id="2084" name=""/>
              <p:cNvSpPr/>
              <p:nvPr/>
            </p:nvSpPr>
            <p:spPr>
              <a:xfrm rot="2700000">
                <a:off x="104292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113292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H="1" flipV="1">
                <a:off x="113148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H="1" flipV="1">
                <a:off x="129492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>
                <a:off x="106632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9" name=""/>
            <p:cNvGrpSpPr/>
            <p:nvPr/>
          </p:nvGrpSpPr>
          <p:grpSpPr>
            <a:xfrm>
              <a:off x="1514880" y="2821320"/>
              <a:ext cx="713520" cy="713880"/>
              <a:chOff x="1514880" y="2821320"/>
              <a:chExt cx="713520" cy="713880"/>
            </a:xfrm>
          </p:grpSpPr>
          <p:sp>
            <p:nvSpPr>
              <p:cNvPr id="2090" name=""/>
              <p:cNvSpPr/>
              <p:nvPr/>
            </p:nvSpPr>
            <p:spPr>
              <a:xfrm rot="2700000">
                <a:off x="161928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V="1">
                <a:off x="170928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H="1" flipV="1">
                <a:off x="170784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 flipV="1">
                <a:off x="187128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H="1">
                <a:off x="164268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95" name=""/>
            <p:cNvGrpSpPr/>
            <p:nvPr/>
          </p:nvGrpSpPr>
          <p:grpSpPr>
            <a:xfrm>
              <a:off x="2091240" y="2821320"/>
              <a:ext cx="713520" cy="713880"/>
              <a:chOff x="2091240" y="2821320"/>
              <a:chExt cx="713520" cy="713880"/>
            </a:xfrm>
          </p:grpSpPr>
          <p:sp>
            <p:nvSpPr>
              <p:cNvPr id="2096" name=""/>
              <p:cNvSpPr/>
              <p:nvPr/>
            </p:nvSpPr>
            <p:spPr>
              <a:xfrm rot="2700000">
                <a:off x="2195640" y="2925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2285640" y="3013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H="1" flipV="1">
                <a:off x="2284200" y="3015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 flipV="1">
                <a:off x="2447640" y="2949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>
                <a:off x="2219040" y="3178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01" name=""/>
          <p:cNvGrpSpPr/>
          <p:nvPr/>
        </p:nvGrpSpPr>
        <p:grpSpPr>
          <a:xfrm>
            <a:off x="2627280" y="5084280"/>
            <a:ext cx="2427480" cy="843120"/>
            <a:chOff x="2627280" y="5084280"/>
            <a:chExt cx="2427480" cy="843120"/>
          </a:xfrm>
        </p:grpSpPr>
        <p:grpSp>
          <p:nvGrpSpPr>
            <p:cNvPr id="2102" name=""/>
            <p:cNvGrpSpPr/>
            <p:nvPr/>
          </p:nvGrpSpPr>
          <p:grpSpPr>
            <a:xfrm>
              <a:off x="2627280" y="5084280"/>
              <a:ext cx="865080" cy="843120"/>
              <a:chOff x="2627280" y="5084280"/>
              <a:chExt cx="865080" cy="843120"/>
            </a:xfrm>
          </p:grpSpPr>
          <p:sp>
            <p:nvSpPr>
              <p:cNvPr id="2103" name=""/>
              <p:cNvSpPr/>
              <p:nvPr/>
            </p:nvSpPr>
            <p:spPr>
              <a:xfrm>
                <a:off x="2771640" y="5229360"/>
                <a:ext cx="57636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627280" y="54450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058920" y="5084280"/>
                <a:ext cx="21600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3095640" y="546840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2894040" y="569700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108" name="" descr=""/>
            <p:cNvPicPr/>
            <p:nvPr/>
          </p:nvPicPr>
          <p:blipFill>
            <a:blip r:embed="rId3"/>
            <a:stretch/>
          </p:blipFill>
          <p:spPr>
            <a:xfrm>
              <a:off x="3419640" y="5084640"/>
              <a:ext cx="1635120" cy="3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9" name="" descr=""/>
          <p:cNvPicPr/>
          <p:nvPr/>
        </p:nvPicPr>
        <p:blipFill>
          <a:blip r:embed="rId4"/>
          <a:stretch/>
        </p:blipFill>
        <p:spPr>
          <a:xfrm>
            <a:off x="5791320" y="5835600"/>
            <a:ext cx="2819160" cy="760320"/>
          </a:xfrm>
          <a:prstGeom prst="rect">
            <a:avLst/>
          </a:prstGeom>
          <a:ln w="0">
            <a:noFill/>
          </a:ln>
        </p:spPr>
      </p:pic>
      <p:pic>
        <p:nvPicPr>
          <p:cNvPr id="2110" name="" descr=""/>
          <p:cNvPicPr/>
          <p:nvPr/>
        </p:nvPicPr>
        <p:blipFill>
          <a:blip r:embed="rId5"/>
          <a:stretch/>
        </p:blipFill>
        <p:spPr>
          <a:xfrm>
            <a:off x="3564000" y="5715000"/>
            <a:ext cx="574560" cy="306360"/>
          </a:xfrm>
          <a:prstGeom prst="rect">
            <a:avLst/>
          </a:prstGeom>
          <a:ln w="0">
            <a:noFill/>
          </a:ln>
        </p:spPr>
      </p:pic>
      <p:pic>
        <p:nvPicPr>
          <p:cNvPr id="2111" name="" descr=""/>
          <p:cNvPicPr/>
          <p:nvPr/>
        </p:nvPicPr>
        <p:blipFill>
          <a:blip r:embed="rId6"/>
          <a:stretch/>
        </p:blipFill>
        <p:spPr>
          <a:xfrm>
            <a:off x="5707080" y="5661000"/>
            <a:ext cx="2752560" cy="841320"/>
          </a:xfrm>
          <a:prstGeom prst="rect">
            <a:avLst/>
          </a:prstGeom>
          <a:ln w="0">
            <a:noFill/>
          </a:ln>
        </p:spPr>
      </p:pic>
      <p:pic>
        <p:nvPicPr>
          <p:cNvPr id="2112" name="" descr=""/>
          <p:cNvPicPr/>
          <p:nvPr/>
        </p:nvPicPr>
        <p:blipFill>
          <a:blip r:embed="rId7"/>
          <a:stretch/>
        </p:blipFill>
        <p:spPr>
          <a:xfrm>
            <a:off x="171360" y="5805360"/>
            <a:ext cx="2860920" cy="330480"/>
          </a:xfrm>
          <a:prstGeom prst="rect">
            <a:avLst/>
          </a:prstGeom>
          <a:ln w="0">
            <a:noFill/>
          </a:ln>
        </p:spPr>
      </p:pic>
      <p:pic>
        <p:nvPicPr>
          <p:cNvPr id="2113" name="" descr=""/>
          <p:cNvPicPr/>
          <p:nvPr/>
        </p:nvPicPr>
        <p:blipFill>
          <a:blip r:embed="rId8"/>
          <a:stretch/>
        </p:blipFill>
        <p:spPr>
          <a:xfrm>
            <a:off x="237960" y="6221520"/>
            <a:ext cx="1525680" cy="363600"/>
          </a:xfrm>
          <a:prstGeom prst="rect">
            <a:avLst/>
          </a:prstGeom>
          <a:ln w="0">
            <a:noFill/>
          </a:ln>
        </p:spPr>
      </p:pic>
      <p:pic>
        <p:nvPicPr>
          <p:cNvPr id="2114" name="" descr=""/>
          <p:cNvPicPr/>
          <p:nvPr/>
        </p:nvPicPr>
        <p:blipFill>
          <a:blip r:embed="rId9"/>
          <a:stretch/>
        </p:blipFill>
        <p:spPr>
          <a:xfrm>
            <a:off x="250920" y="5734080"/>
            <a:ext cx="1403280" cy="380880"/>
          </a:xfrm>
          <a:prstGeom prst="rect">
            <a:avLst/>
          </a:prstGeom>
          <a:ln w="0">
            <a:noFill/>
          </a:ln>
        </p:spPr>
      </p:pic>
      <p:pic>
        <p:nvPicPr>
          <p:cNvPr id="2115" name="" descr=""/>
          <p:cNvPicPr/>
          <p:nvPr/>
        </p:nvPicPr>
        <p:blipFill>
          <a:blip r:embed="rId10"/>
          <a:stretch/>
        </p:blipFill>
        <p:spPr>
          <a:xfrm>
            <a:off x="250920" y="6216480"/>
            <a:ext cx="206208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AA54-3969-440F-AEB9-EA1EACEF03D0}" type="slidenum">
              <a:t>29</a:t>
            </a:fld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55 L 0.53576 -0.00555 E">
                                      <p:cBhvr>
                                        <p:cTn id="759" dur="2000" fill="hold"/>
                                        <p:tgtEl>
                                          <p:spTgt spid="2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07407E-006 L -0.00399 0.30949 E">
                                      <p:cBhvr>
                                        <p:cTn id="761" dur="2000" fill="hold"/>
                                        <p:tgtEl>
                                          <p:spTgt spid="20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20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2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2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20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lassical 2-party primitives: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Rabin Oblivious Transfer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20880" y="2179800"/>
            <a:ext cx="106704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187488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30920" y="2179800"/>
            <a:ext cx="106668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73920" y="1874880"/>
            <a:ext cx="990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/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3070080"/>
            <a:ext cx="8280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rec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honest Alice and Bob, Bob gets the bit b with probability 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er-priva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Alice is honest, (cheating) Bob does not get information about b with probability bigger than 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r-priva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Bob is honest, (cheating) Alice does not learn, whether Bob received the bit or no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63880" y="179856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8200" y="1557360"/>
            <a:ext cx="1512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172360" y="1989000"/>
            <a:ext cx="663840" cy="1008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761760" cy="8636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08720" y="2133360"/>
            <a:ext cx="115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2205000"/>
            <a:ext cx="115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08720" y="14842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32EC-0E12-4427-92C4-14A7F8CB1A33}" type="slidenum">
              <a:t>3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/>
          <p:nvPr/>
        </p:nvSpPr>
        <p:spPr>
          <a:xfrm rot="3574200">
            <a:off x="3418920" y="549000"/>
            <a:ext cx="378000" cy="685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 rot="3574200">
            <a:off x="3058560" y="333000"/>
            <a:ext cx="378000" cy="685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 rot="5400000">
            <a:off x="574920" y="4690080"/>
            <a:ext cx="720720" cy="1223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rot="5400000">
            <a:off x="1728000" y="4690080"/>
            <a:ext cx="72072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rot="5400000">
            <a:off x="6696720" y="1809000"/>
            <a:ext cx="72072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1" name=""/>
          <p:cNvGrpSpPr/>
          <p:nvPr/>
        </p:nvGrpSpPr>
        <p:grpSpPr>
          <a:xfrm>
            <a:off x="324360" y="4942440"/>
            <a:ext cx="2440800" cy="713880"/>
            <a:chOff x="324360" y="4942440"/>
            <a:chExt cx="2440800" cy="713880"/>
          </a:xfrm>
        </p:grpSpPr>
        <p:grpSp>
          <p:nvGrpSpPr>
            <p:cNvPr id="2122" name=""/>
            <p:cNvGrpSpPr/>
            <p:nvPr/>
          </p:nvGrpSpPr>
          <p:grpSpPr>
            <a:xfrm>
              <a:off x="324360" y="4942440"/>
              <a:ext cx="712080" cy="711720"/>
              <a:chOff x="324360" y="4942440"/>
              <a:chExt cx="712080" cy="711720"/>
            </a:xfrm>
          </p:grpSpPr>
          <p:sp>
            <p:nvSpPr>
              <p:cNvPr id="2123" name=""/>
              <p:cNvSpPr/>
              <p:nvPr/>
            </p:nvSpPr>
            <p:spPr>
              <a:xfrm rot="2700000">
                <a:off x="428400" y="504648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V="1">
                <a:off x="518040" y="513540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 flipV="1">
                <a:off x="516960" y="513576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 flipV="1">
                <a:off x="680400" y="507024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451800" y="529848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28" name=""/>
            <p:cNvGrpSpPr/>
            <p:nvPr/>
          </p:nvGrpSpPr>
          <p:grpSpPr>
            <a:xfrm>
              <a:off x="898920" y="4942440"/>
              <a:ext cx="713520" cy="713880"/>
              <a:chOff x="898920" y="4942440"/>
              <a:chExt cx="713520" cy="713880"/>
            </a:xfrm>
          </p:grpSpPr>
          <p:sp>
            <p:nvSpPr>
              <p:cNvPr id="2129" name=""/>
              <p:cNvSpPr/>
              <p:nvPr/>
            </p:nvSpPr>
            <p:spPr>
              <a:xfrm rot="2700000">
                <a:off x="100332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V="1">
                <a:off x="109332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 flipV="1">
                <a:off x="109188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 flipV="1">
                <a:off x="125532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>
                <a:off x="102672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34" name=""/>
            <p:cNvGrpSpPr/>
            <p:nvPr/>
          </p:nvGrpSpPr>
          <p:grpSpPr>
            <a:xfrm>
              <a:off x="1475280" y="4942440"/>
              <a:ext cx="713520" cy="713880"/>
              <a:chOff x="1475280" y="4942440"/>
              <a:chExt cx="713520" cy="713880"/>
            </a:xfrm>
          </p:grpSpPr>
          <p:sp>
            <p:nvSpPr>
              <p:cNvPr id="2135" name=""/>
              <p:cNvSpPr/>
              <p:nvPr/>
            </p:nvSpPr>
            <p:spPr>
              <a:xfrm rot="2700000">
                <a:off x="157968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166968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 flipV="1">
                <a:off x="166824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H="1" flipV="1">
                <a:off x="183168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H="1">
                <a:off x="160308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40" name=""/>
            <p:cNvGrpSpPr/>
            <p:nvPr/>
          </p:nvGrpSpPr>
          <p:grpSpPr>
            <a:xfrm>
              <a:off x="2051640" y="4942440"/>
              <a:ext cx="713520" cy="713880"/>
              <a:chOff x="2051640" y="4942440"/>
              <a:chExt cx="713520" cy="713880"/>
            </a:xfrm>
          </p:grpSpPr>
          <p:sp>
            <p:nvSpPr>
              <p:cNvPr id="2141" name=""/>
              <p:cNvSpPr/>
              <p:nvPr/>
            </p:nvSpPr>
            <p:spPr>
              <a:xfrm rot="2700000">
                <a:off x="215604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V="1">
                <a:off x="224604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 flipV="1">
                <a:off x="224460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H="1" flipV="1">
                <a:off x="240804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>
                <a:off x="217944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ivacy Amplification is Necessary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2149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1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rot="5400000">
            <a:off x="5544360" y="1809000"/>
            <a:ext cx="72072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4" name=""/>
          <p:cNvGrpSpPr/>
          <p:nvPr/>
        </p:nvGrpSpPr>
        <p:grpSpPr>
          <a:xfrm>
            <a:off x="313200" y="4931280"/>
            <a:ext cx="712080" cy="711720"/>
            <a:chOff x="313200" y="4931280"/>
            <a:chExt cx="712080" cy="711720"/>
          </a:xfrm>
        </p:grpSpPr>
        <p:sp>
          <p:nvSpPr>
            <p:cNvPr id="2155" name=""/>
            <p:cNvSpPr/>
            <p:nvPr/>
          </p:nvSpPr>
          <p:spPr>
            <a:xfrm rot="2700000">
              <a:off x="417240" y="50353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506880" y="5124240"/>
              <a:ext cx="322560" cy="324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H="1" flipV="1">
              <a:off x="505800" y="5124600"/>
              <a:ext cx="324360" cy="322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669240" y="5059080"/>
              <a:ext cx="1440" cy="4572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40640" y="5287320"/>
              <a:ext cx="45756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0" name=""/>
          <p:cNvSpPr/>
          <p:nvPr/>
        </p:nvSpPr>
        <p:spPr>
          <a:xfrm>
            <a:off x="5219640" y="2852640"/>
            <a:ext cx="3313080" cy="1224000"/>
          </a:xfrm>
          <a:prstGeom prst="wedgeRoundRectCallout">
            <a:avLst>
              <a:gd name="adj1" fmla="val -29731"/>
              <a:gd name="adj2" fmla="val -65824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1" name=""/>
          <p:cNvGrpSpPr/>
          <p:nvPr/>
        </p:nvGrpSpPr>
        <p:grpSpPr>
          <a:xfrm>
            <a:off x="2041920" y="4931280"/>
            <a:ext cx="713520" cy="713880"/>
            <a:chOff x="2041920" y="4931280"/>
            <a:chExt cx="713520" cy="713880"/>
          </a:xfrm>
        </p:grpSpPr>
        <p:sp>
          <p:nvSpPr>
            <p:cNvPr id="2162" name=""/>
            <p:cNvSpPr/>
            <p:nvPr/>
          </p:nvSpPr>
          <p:spPr>
            <a:xfrm rot="2700000">
              <a:off x="2146320" y="5035680"/>
              <a:ext cx="504720" cy="504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V="1">
              <a:off x="2236320" y="5123880"/>
              <a:ext cx="32292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 flipV="1">
              <a:off x="2234880" y="5124960"/>
              <a:ext cx="32580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 flipV="1">
              <a:off x="2398320" y="505944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2169720" y="5288040"/>
              <a:ext cx="4590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7" name=""/>
          <p:cNvGrpSpPr/>
          <p:nvPr/>
        </p:nvGrpSpPr>
        <p:grpSpPr>
          <a:xfrm>
            <a:off x="2627280" y="5084280"/>
            <a:ext cx="2427480" cy="843120"/>
            <a:chOff x="2627280" y="5084280"/>
            <a:chExt cx="2427480" cy="843120"/>
          </a:xfrm>
        </p:grpSpPr>
        <p:grpSp>
          <p:nvGrpSpPr>
            <p:cNvPr id="2168" name=""/>
            <p:cNvGrpSpPr/>
            <p:nvPr/>
          </p:nvGrpSpPr>
          <p:grpSpPr>
            <a:xfrm>
              <a:off x="2627280" y="5084280"/>
              <a:ext cx="865080" cy="843120"/>
              <a:chOff x="2627280" y="5084280"/>
              <a:chExt cx="865080" cy="843120"/>
            </a:xfrm>
          </p:grpSpPr>
          <p:sp>
            <p:nvSpPr>
              <p:cNvPr id="2169" name=""/>
              <p:cNvSpPr/>
              <p:nvPr/>
            </p:nvSpPr>
            <p:spPr>
              <a:xfrm>
                <a:off x="2771640" y="5229360"/>
                <a:ext cx="57636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627280" y="54450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V="1">
                <a:off x="3058920" y="5084280"/>
                <a:ext cx="21600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 flipV="1">
                <a:off x="3095640" y="546840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V="1">
                <a:off x="2894040" y="569700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174" name="" descr=""/>
            <p:cNvPicPr/>
            <p:nvPr/>
          </p:nvPicPr>
          <p:blipFill>
            <a:blip r:embed="rId1"/>
            <a:stretch/>
          </p:blipFill>
          <p:spPr>
            <a:xfrm>
              <a:off x="3419640" y="5084640"/>
              <a:ext cx="1635120" cy="3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5" name="" descr=""/>
          <p:cNvPicPr/>
          <p:nvPr/>
        </p:nvPicPr>
        <p:blipFill>
          <a:blip r:embed="rId2"/>
          <a:stretch/>
        </p:blipFill>
        <p:spPr>
          <a:xfrm>
            <a:off x="179280" y="5805360"/>
            <a:ext cx="2860920" cy="814680"/>
          </a:xfrm>
          <a:prstGeom prst="rect">
            <a:avLst/>
          </a:prstGeom>
          <a:ln w="0">
            <a:noFill/>
          </a:ln>
        </p:spPr>
      </p:pic>
      <p:pic>
        <p:nvPicPr>
          <p:cNvPr id="2176" name="" descr=""/>
          <p:cNvPicPr/>
          <p:nvPr/>
        </p:nvPicPr>
        <p:blipFill>
          <a:blip r:embed="rId3"/>
          <a:stretch/>
        </p:blipFill>
        <p:spPr>
          <a:xfrm>
            <a:off x="3564000" y="5715000"/>
            <a:ext cx="574560" cy="306360"/>
          </a:xfrm>
          <a:prstGeom prst="rect">
            <a:avLst/>
          </a:prstGeom>
          <a:ln w="0">
            <a:noFill/>
          </a:ln>
        </p:spPr>
      </p:pic>
      <p:sp>
        <p:nvSpPr>
          <p:cNvPr id="2177" name=""/>
          <p:cNvSpPr/>
          <p:nvPr/>
        </p:nvSpPr>
        <p:spPr>
          <a:xfrm>
            <a:off x="5940360" y="2997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l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8" name=""/>
          <p:cNvGrpSpPr/>
          <p:nvPr/>
        </p:nvGrpSpPr>
        <p:grpSpPr>
          <a:xfrm>
            <a:off x="5259600" y="2100600"/>
            <a:ext cx="2440800" cy="713880"/>
            <a:chOff x="5259600" y="2100600"/>
            <a:chExt cx="2440800" cy="713880"/>
          </a:xfrm>
        </p:grpSpPr>
        <p:grpSp>
          <p:nvGrpSpPr>
            <p:cNvPr id="2179" name=""/>
            <p:cNvGrpSpPr/>
            <p:nvPr/>
          </p:nvGrpSpPr>
          <p:grpSpPr>
            <a:xfrm>
              <a:off x="5259600" y="2100600"/>
              <a:ext cx="712080" cy="711720"/>
              <a:chOff x="5259600" y="2100600"/>
              <a:chExt cx="712080" cy="711720"/>
            </a:xfrm>
          </p:grpSpPr>
          <p:sp>
            <p:nvSpPr>
              <p:cNvPr id="2180" name=""/>
              <p:cNvSpPr/>
              <p:nvPr/>
            </p:nvSpPr>
            <p:spPr>
              <a:xfrm rot="2700000">
                <a:off x="5364000" y="220464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5453280" y="229356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flipV="1">
                <a:off x="5452200" y="229392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 flipV="1">
                <a:off x="5615640" y="222840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>
                <a:off x="5387040" y="245664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5" name=""/>
            <p:cNvGrpSpPr/>
            <p:nvPr/>
          </p:nvGrpSpPr>
          <p:grpSpPr>
            <a:xfrm>
              <a:off x="5834160" y="2100600"/>
              <a:ext cx="713520" cy="713880"/>
              <a:chOff x="5834160" y="2100600"/>
              <a:chExt cx="713520" cy="713880"/>
            </a:xfrm>
          </p:grpSpPr>
          <p:sp>
            <p:nvSpPr>
              <p:cNvPr id="2186" name=""/>
              <p:cNvSpPr/>
              <p:nvPr/>
            </p:nvSpPr>
            <p:spPr>
              <a:xfrm rot="2700000">
                <a:off x="593856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V="1">
                <a:off x="602856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flipH="1" flipV="1">
                <a:off x="602712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flipH="1" flipV="1">
                <a:off x="619056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H="1">
                <a:off x="596196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1" name=""/>
            <p:cNvGrpSpPr/>
            <p:nvPr/>
          </p:nvGrpSpPr>
          <p:grpSpPr>
            <a:xfrm>
              <a:off x="6410520" y="2100600"/>
              <a:ext cx="713520" cy="713880"/>
              <a:chOff x="6410520" y="2100600"/>
              <a:chExt cx="713520" cy="713880"/>
            </a:xfrm>
          </p:grpSpPr>
          <p:sp>
            <p:nvSpPr>
              <p:cNvPr id="2192" name=""/>
              <p:cNvSpPr/>
              <p:nvPr/>
            </p:nvSpPr>
            <p:spPr>
              <a:xfrm rot="2700000">
                <a:off x="651492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V="1">
                <a:off x="660492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H="1" flipV="1">
                <a:off x="660348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H="1" flipV="1">
                <a:off x="676692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653832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7" name=""/>
            <p:cNvGrpSpPr/>
            <p:nvPr/>
          </p:nvGrpSpPr>
          <p:grpSpPr>
            <a:xfrm>
              <a:off x="6986880" y="2100600"/>
              <a:ext cx="713520" cy="713880"/>
              <a:chOff x="6986880" y="2100600"/>
              <a:chExt cx="713520" cy="713880"/>
            </a:xfrm>
          </p:grpSpPr>
          <p:sp>
            <p:nvSpPr>
              <p:cNvPr id="2198" name=""/>
              <p:cNvSpPr/>
              <p:nvPr/>
            </p:nvSpPr>
            <p:spPr>
              <a:xfrm rot="2700000">
                <a:off x="709128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718128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 flipV="1">
                <a:off x="717984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 flipV="1">
                <a:off x="734328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H="1">
                <a:off x="711468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203" name=""/>
          <p:cNvGrpSpPr/>
          <p:nvPr/>
        </p:nvGrpSpPr>
        <p:grpSpPr>
          <a:xfrm>
            <a:off x="6659640" y="2997360"/>
            <a:ext cx="865080" cy="791640"/>
            <a:chOff x="6659640" y="2997360"/>
            <a:chExt cx="865080" cy="791640"/>
          </a:xfrm>
        </p:grpSpPr>
        <p:sp>
          <p:nvSpPr>
            <p:cNvPr id="2204" name=""/>
            <p:cNvSpPr/>
            <p:nvPr/>
          </p:nvSpPr>
          <p:spPr>
            <a:xfrm>
              <a:off x="6803640" y="3141360"/>
              <a:ext cx="57600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659640" y="3357360"/>
              <a:ext cx="865080" cy="431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7091280" y="2997360"/>
              <a:ext cx="21528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7" name=""/>
          <p:cNvGrpSpPr/>
          <p:nvPr/>
        </p:nvGrpSpPr>
        <p:grpSpPr>
          <a:xfrm>
            <a:off x="5292720" y="3500280"/>
            <a:ext cx="3170160" cy="342720"/>
            <a:chOff x="5292720" y="3500280"/>
            <a:chExt cx="3170160" cy="342720"/>
          </a:xfrm>
        </p:grpSpPr>
        <p:sp>
          <p:nvSpPr>
            <p:cNvPr id="2208" name=""/>
            <p:cNvSpPr/>
            <p:nvPr/>
          </p:nvSpPr>
          <p:spPr>
            <a:xfrm>
              <a:off x="5292720" y="3516120"/>
              <a:ext cx="9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383440" y="3536640"/>
              <a:ext cx="2365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r10"/>
                </a:rPr>
                <a:t>©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619960" y="3500280"/>
              <a:ext cx="2016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27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837400" y="3516120"/>
              <a:ext cx="12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64480" y="3727080"/>
              <a:ext cx="903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110280" y="3516120"/>
              <a:ext cx="9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201000" y="3536640"/>
              <a:ext cx="2538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456600" y="3500280"/>
              <a:ext cx="20160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27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674040" y="3516120"/>
              <a:ext cx="12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801120" y="3727080"/>
              <a:ext cx="903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946920" y="3516120"/>
              <a:ext cx="9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037640" y="3536640"/>
              <a:ext cx="2365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r10"/>
                </a:rPr>
                <a:t>©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274160" y="3500280"/>
              <a:ext cx="20448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27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496280" y="3516120"/>
              <a:ext cx="12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623360" y="3727080"/>
              <a:ext cx="903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769160" y="3516120"/>
              <a:ext cx="9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859880" y="3536640"/>
              <a:ext cx="2538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113680" y="3500280"/>
              <a:ext cx="2048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27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336160" y="3516120"/>
              <a:ext cx="126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292720" y="3500280"/>
              <a:ext cx="3170160" cy="3427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8" name=""/>
          <p:cNvGrpSpPr/>
          <p:nvPr/>
        </p:nvGrpSpPr>
        <p:grpSpPr>
          <a:xfrm>
            <a:off x="250920" y="1700280"/>
            <a:ext cx="4608360" cy="1697040"/>
            <a:chOff x="250920" y="1700280"/>
            <a:chExt cx="4608360" cy="1697040"/>
          </a:xfrm>
        </p:grpSpPr>
        <p:sp>
          <p:nvSpPr>
            <p:cNvPr id="2229" name=""/>
            <p:cNvSpPr/>
            <p:nvPr/>
          </p:nvSpPr>
          <p:spPr>
            <a:xfrm>
              <a:off x="268200" y="170028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68200" y="186552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60360" y="1746360"/>
              <a:ext cx="200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©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60520" y="170208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44480" y="170208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950760" y="183528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243080" y="172908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32084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459080" y="17575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59696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704960" y="189900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949400" y="177516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225520" y="172908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303640" y="17575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4152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7976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87760" y="189900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948040" y="183528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240000" y="172908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31632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454560" y="17575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59244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700440" y="189900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948120" y="177516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226040" y="172908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30200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44024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57848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686480" y="1899000"/>
              <a:ext cx="1728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54160" y="2151360"/>
              <a:ext cx="918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54160" y="2318040"/>
              <a:ext cx="918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45960" y="2197440"/>
              <a:ext cx="2160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8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0520" y="215460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44480" y="215280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950760" y="2286360"/>
              <a:ext cx="21600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360" bIns="-73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243080" y="217980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32084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459080" y="22082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59696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704960" y="2351160"/>
              <a:ext cx="1699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949400" y="222588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225520" y="217980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303640" y="22082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44152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57976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687760" y="2351160"/>
              <a:ext cx="1699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948040" y="2286360"/>
              <a:ext cx="21600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360" bIns="-73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240000" y="217980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31632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454560" y="22082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59244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700440" y="2351160"/>
              <a:ext cx="1731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948120" y="222588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26040" y="217980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30200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44024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57848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686480" y="2351160"/>
              <a:ext cx="1728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64960" y="2603880"/>
              <a:ext cx="92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64960" y="2770560"/>
              <a:ext cx="92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57120" y="2649600"/>
              <a:ext cx="200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©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57280" y="260532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44480" y="260532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950760" y="273852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243080" y="263232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32084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459080" y="266076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59696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704960" y="280224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949400" y="267840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225520" y="263232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303640" y="266076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44152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57976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687760" y="280224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948040" y="273852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240000" y="263232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31632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454560" y="266076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59244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700440" y="280224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948120" y="267840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226040" y="263232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30200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44024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57848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686480" y="2802240"/>
              <a:ext cx="1728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50920" y="305604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50920" y="322128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43080" y="3102120"/>
              <a:ext cx="2156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57280" y="305784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744480" y="305784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950760" y="319104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243080" y="308484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32084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459080" y="31132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59696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704960" y="325476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49400" y="313092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225520" y="308484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303640" y="31132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44152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57976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687760" y="325476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948040" y="319104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240000" y="308484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31632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454560" y="31132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59244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700440" y="325476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948120" y="313092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226040" y="308484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30200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44024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57848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686480" y="3254760"/>
              <a:ext cx="1728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50920" y="1700280"/>
              <a:ext cx="4608360" cy="169704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46" name="" descr=""/>
          <p:cNvPicPr/>
          <p:nvPr/>
        </p:nvPicPr>
        <p:blipFill>
          <a:blip r:embed="rId4"/>
          <a:stretch/>
        </p:blipFill>
        <p:spPr>
          <a:xfrm>
            <a:off x="5707080" y="5661000"/>
            <a:ext cx="2752560" cy="84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EFC2-70B6-49D4-B578-51A17663BEB7}" type="slidenum">
              <a:t>30</a:t>
            </a:fld>
          </a:p>
        </p:txBody>
      </p:sp>
    </p:spTree>
  </p:cSld>
  <p:transition spd="med">
    <p:fade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800000">
                                      <p:cBhvr>
                                        <p:cTn id="812" dur="2000" fill="hold"/>
                                        <p:tgtEl>
                                          <p:spTgt spid="2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5559E-007 L 0.28646 -0.18506 E">
                                      <p:cBhvr>
                                        <p:cTn id="814" dur="2000" fill="hold"/>
                                        <p:tgtEl>
                                          <p:spTgt spid="2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1800000">
                                      <p:cBhvr>
                                        <p:cTn id="816" dur="2000" fill="hold"/>
                                        <p:tgtEl>
                                          <p:spTgt spid="2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00717E-008 L -0.28837 0.19269 E">
                                      <p:cBhvr>
                                        <p:cTn id="818" dur="2000" fill="hold"/>
                                        <p:tgtEl>
                                          <p:spTgt spid="2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2200"/>
                                        <p:tgtEl>
                                          <p:spTgt spid="2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2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3" dur="23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2299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4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4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2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"/>
          <p:cNvSpPr/>
          <p:nvPr/>
        </p:nvSpPr>
        <p:spPr>
          <a:xfrm rot="5400000">
            <a:off x="574920" y="4690080"/>
            <a:ext cx="720720" cy="12236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 rot="5400000">
            <a:off x="1728000" y="4690080"/>
            <a:ext cx="72072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rot="5400000">
            <a:off x="6696720" y="1809000"/>
            <a:ext cx="72072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0" name=""/>
          <p:cNvGrpSpPr/>
          <p:nvPr/>
        </p:nvGrpSpPr>
        <p:grpSpPr>
          <a:xfrm>
            <a:off x="324360" y="4942440"/>
            <a:ext cx="2440800" cy="713880"/>
            <a:chOff x="324360" y="4942440"/>
            <a:chExt cx="2440800" cy="713880"/>
          </a:xfrm>
        </p:grpSpPr>
        <p:grpSp>
          <p:nvGrpSpPr>
            <p:cNvPr id="2351" name=""/>
            <p:cNvGrpSpPr/>
            <p:nvPr/>
          </p:nvGrpSpPr>
          <p:grpSpPr>
            <a:xfrm>
              <a:off x="324360" y="4942440"/>
              <a:ext cx="712080" cy="711720"/>
              <a:chOff x="324360" y="4942440"/>
              <a:chExt cx="712080" cy="711720"/>
            </a:xfrm>
          </p:grpSpPr>
          <p:sp>
            <p:nvSpPr>
              <p:cNvPr id="2352" name=""/>
              <p:cNvSpPr/>
              <p:nvPr/>
            </p:nvSpPr>
            <p:spPr>
              <a:xfrm rot="2700000">
                <a:off x="428400" y="504648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518040" y="513540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H="1" flipV="1">
                <a:off x="516960" y="513576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 flipV="1">
                <a:off x="680400" y="507024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H="1">
                <a:off x="451800" y="529848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57" name=""/>
            <p:cNvGrpSpPr/>
            <p:nvPr/>
          </p:nvGrpSpPr>
          <p:grpSpPr>
            <a:xfrm>
              <a:off x="898920" y="4942440"/>
              <a:ext cx="713520" cy="713880"/>
              <a:chOff x="898920" y="4942440"/>
              <a:chExt cx="713520" cy="713880"/>
            </a:xfrm>
          </p:grpSpPr>
          <p:sp>
            <p:nvSpPr>
              <p:cNvPr id="2358" name=""/>
              <p:cNvSpPr/>
              <p:nvPr/>
            </p:nvSpPr>
            <p:spPr>
              <a:xfrm rot="2700000">
                <a:off x="100332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109332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flipH="1" flipV="1">
                <a:off x="109188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 flipV="1">
                <a:off x="125532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H="1">
                <a:off x="102672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3" name=""/>
            <p:cNvGrpSpPr/>
            <p:nvPr/>
          </p:nvGrpSpPr>
          <p:grpSpPr>
            <a:xfrm>
              <a:off x="1475280" y="4942440"/>
              <a:ext cx="713520" cy="713880"/>
              <a:chOff x="1475280" y="4942440"/>
              <a:chExt cx="713520" cy="713880"/>
            </a:xfrm>
          </p:grpSpPr>
          <p:sp>
            <p:nvSpPr>
              <p:cNvPr id="2364" name=""/>
              <p:cNvSpPr/>
              <p:nvPr/>
            </p:nvSpPr>
            <p:spPr>
              <a:xfrm rot="2700000">
                <a:off x="157968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166968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flipH="1" flipV="1">
                <a:off x="166824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 flipV="1">
                <a:off x="183168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H="1">
                <a:off x="160308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69" name=""/>
            <p:cNvGrpSpPr/>
            <p:nvPr/>
          </p:nvGrpSpPr>
          <p:grpSpPr>
            <a:xfrm>
              <a:off x="2051640" y="4942440"/>
              <a:ext cx="713520" cy="713880"/>
              <a:chOff x="2051640" y="4942440"/>
              <a:chExt cx="713520" cy="713880"/>
            </a:xfrm>
          </p:grpSpPr>
          <p:sp>
            <p:nvSpPr>
              <p:cNvPr id="2370" name=""/>
              <p:cNvSpPr/>
              <p:nvPr/>
            </p:nvSpPr>
            <p:spPr>
              <a:xfrm rot="2700000">
                <a:off x="2156040" y="504684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V="1">
                <a:off x="2246040" y="513504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flipH="1" flipV="1">
                <a:off x="2244600" y="513612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 flipV="1">
                <a:off x="2408040" y="507060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>
                <a:off x="2179440" y="529920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ivacy Amplification is Necessary !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3132000" y="611676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7" name=""/>
          <p:cNvGrpSpPr/>
          <p:nvPr/>
        </p:nvGrpSpPr>
        <p:grpSpPr>
          <a:xfrm>
            <a:off x="2627280" y="4195800"/>
            <a:ext cx="6288120" cy="459720"/>
            <a:chOff x="2627280" y="4195800"/>
            <a:chExt cx="6288120" cy="459720"/>
          </a:xfrm>
        </p:grpSpPr>
        <p:sp>
          <p:nvSpPr>
            <p:cNvPr id="2378" name=""/>
            <p:cNvSpPr/>
            <p:nvPr/>
          </p:nvSpPr>
          <p:spPr>
            <a:xfrm>
              <a:off x="2627280" y="4287600"/>
              <a:ext cx="6288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459240" y="4195800"/>
              <a:ext cx="54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0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rot="5400000">
            <a:off x="5544360" y="1809000"/>
            <a:ext cx="720720" cy="1224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3" name=""/>
          <p:cNvGrpSpPr/>
          <p:nvPr/>
        </p:nvGrpSpPr>
        <p:grpSpPr>
          <a:xfrm>
            <a:off x="313200" y="4931280"/>
            <a:ext cx="712080" cy="711720"/>
            <a:chOff x="313200" y="4931280"/>
            <a:chExt cx="712080" cy="711720"/>
          </a:xfrm>
        </p:grpSpPr>
        <p:sp>
          <p:nvSpPr>
            <p:cNvPr id="2384" name=""/>
            <p:cNvSpPr/>
            <p:nvPr/>
          </p:nvSpPr>
          <p:spPr>
            <a:xfrm rot="2700000">
              <a:off x="417240" y="5035320"/>
              <a:ext cx="503280" cy="5032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V="1">
              <a:off x="506880" y="5124240"/>
              <a:ext cx="322560" cy="324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 flipV="1">
              <a:off x="505800" y="5124600"/>
              <a:ext cx="324360" cy="322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 flipV="1">
              <a:off x="669240" y="5059080"/>
              <a:ext cx="1440" cy="4572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H="1">
              <a:off x="440640" y="5287320"/>
              <a:ext cx="457560" cy="1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9" name=""/>
          <p:cNvSpPr/>
          <p:nvPr/>
        </p:nvSpPr>
        <p:spPr>
          <a:xfrm>
            <a:off x="5219640" y="2852640"/>
            <a:ext cx="3313080" cy="1224000"/>
          </a:xfrm>
          <a:prstGeom prst="wedgeRoundRectCallout">
            <a:avLst>
              <a:gd name="adj1" fmla="val -29731"/>
              <a:gd name="adj2" fmla="val -65824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0" name=""/>
          <p:cNvGrpSpPr/>
          <p:nvPr/>
        </p:nvGrpSpPr>
        <p:grpSpPr>
          <a:xfrm>
            <a:off x="2041920" y="4931280"/>
            <a:ext cx="713520" cy="713880"/>
            <a:chOff x="2041920" y="4931280"/>
            <a:chExt cx="713520" cy="713880"/>
          </a:xfrm>
        </p:grpSpPr>
        <p:sp>
          <p:nvSpPr>
            <p:cNvPr id="2391" name=""/>
            <p:cNvSpPr/>
            <p:nvPr/>
          </p:nvSpPr>
          <p:spPr>
            <a:xfrm rot="2700000">
              <a:off x="2146320" y="5035680"/>
              <a:ext cx="504720" cy="50472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2236320" y="5123880"/>
              <a:ext cx="32292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 flipV="1">
              <a:off x="2234880" y="5124960"/>
              <a:ext cx="32580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 flipV="1">
              <a:off x="2398320" y="505944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2169720" y="5288040"/>
              <a:ext cx="4590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2627280" y="5084280"/>
            <a:ext cx="2427480" cy="843120"/>
            <a:chOff x="2627280" y="5084280"/>
            <a:chExt cx="2427480" cy="843120"/>
          </a:xfrm>
        </p:grpSpPr>
        <p:grpSp>
          <p:nvGrpSpPr>
            <p:cNvPr id="2397" name=""/>
            <p:cNvGrpSpPr/>
            <p:nvPr/>
          </p:nvGrpSpPr>
          <p:grpSpPr>
            <a:xfrm>
              <a:off x="2627280" y="5084280"/>
              <a:ext cx="865080" cy="843120"/>
              <a:chOff x="2627280" y="5084280"/>
              <a:chExt cx="865080" cy="843120"/>
            </a:xfrm>
          </p:grpSpPr>
          <p:sp>
            <p:nvSpPr>
              <p:cNvPr id="2398" name=""/>
              <p:cNvSpPr/>
              <p:nvPr/>
            </p:nvSpPr>
            <p:spPr>
              <a:xfrm>
                <a:off x="2771640" y="5229360"/>
                <a:ext cx="576360" cy="57600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2627280" y="54450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3058920" y="5084280"/>
                <a:ext cx="21600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 flipV="1">
                <a:off x="3095640" y="5468400"/>
                <a:ext cx="1440" cy="45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2894040" y="5697000"/>
                <a:ext cx="403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403" name="" descr=""/>
            <p:cNvPicPr/>
            <p:nvPr/>
          </p:nvPicPr>
          <p:blipFill>
            <a:blip r:embed="rId1"/>
            <a:stretch/>
          </p:blipFill>
          <p:spPr>
            <a:xfrm>
              <a:off x="3419640" y="5084640"/>
              <a:ext cx="1635120" cy="3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04" name="" descr=""/>
          <p:cNvPicPr/>
          <p:nvPr/>
        </p:nvPicPr>
        <p:blipFill>
          <a:blip r:embed="rId2"/>
          <a:stretch/>
        </p:blipFill>
        <p:spPr>
          <a:xfrm>
            <a:off x="179280" y="5805360"/>
            <a:ext cx="2860920" cy="814680"/>
          </a:xfrm>
          <a:prstGeom prst="rect">
            <a:avLst/>
          </a:prstGeom>
          <a:ln w="0">
            <a:noFill/>
          </a:ln>
        </p:spPr>
      </p:pic>
      <p:pic>
        <p:nvPicPr>
          <p:cNvPr id="2405" name="" descr=""/>
          <p:cNvPicPr/>
          <p:nvPr/>
        </p:nvPicPr>
        <p:blipFill>
          <a:blip r:embed="rId3"/>
          <a:stretch/>
        </p:blipFill>
        <p:spPr>
          <a:xfrm>
            <a:off x="3564000" y="5715000"/>
            <a:ext cx="574560" cy="306360"/>
          </a:xfrm>
          <a:prstGeom prst="rect">
            <a:avLst/>
          </a:prstGeom>
          <a:ln w="0">
            <a:noFill/>
          </a:ln>
        </p:spPr>
      </p:pic>
      <p:sp>
        <p:nvSpPr>
          <p:cNvPr id="2406" name=""/>
          <p:cNvSpPr/>
          <p:nvPr/>
        </p:nvSpPr>
        <p:spPr>
          <a:xfrm>
            <a:off x="5940360" y="2997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l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5259600" y="2100600"/>
            <a:ext cx="2440800" cy="713880"/>
            <a:chOff x="5259600" y="2100600"/>
            <a:chExt cx="2440800" cy="713880"/>
          </a:xfrm>
        </p:grpSpPr>
        <p:grpSp>
          <p:nvGrpSpPr>
            <p:cNvPr id="2408" name=""/>
            <p:cNvGrpSpPr/>
            <p:nvPr/>
          </p:nvGrpSpPr>
          <p:grpSpPr>
            <a:xfrm>
              <a:off x="5259600" y="2100600"/>
              <a:ext cx="712080" cy="711720"/>
              <a:chOff x="5259600" y="2100600"/>
              <a:chExt cx="712080" cy="711720"/>
            </a:xfrm>
          </p:grpSpPr>
          <p:sp>
            <p:nvSpPr>
              <p:cNvPr id="2409" name=""/>
              <p:cNvSpPr/>
              <p:nvPr/>
            </p:nvSpPr>
            <p:spPr>
              <a:xfrm rot="2700000">
                <a:off x="5364000" y="220464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5453280" y="229356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 flipV="1">
                <a:off x="5452200" y="229392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 flipV="1">
                <a:off x="5615640" y="222840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>
                <a:off x="5387040" y="245664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4" name=""/>
            <p:cNvGrpSpPr/>
            <p:nvPr/>
          </p:nvGrpSpPr>
          <p:grpSpPr>
            <a:xfrm>
              <a:off x="5834160" y="2100600"/>
              <a:ext cx="713520" cy="713880"/>
              <a:chOff x="5834160" y="2100600"/>
              <a:chExt cx="713520" cy="713880"/>
            </a:xfrm>
          </p:grpSpPr>
          <p:sp>
            <p:nvSpPr>
              <p:cNvPr id="2415" name=""/>
              <p:cNvSpPr/>
              <p:nvPr/>
            </p:nvSpPr>
            <p:spPr>
              <a:xfrm rot="2700000">
                <a:off x="593856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V="1">
                <a:off x="602856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H="1" flipV="1">
                <a:off x="602712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H="1" flipV="1">
                <a:off x="619056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H="1">
                <a:off x="596196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20" name=""/>
            <p:cNvGrpSpPr/>
            <p:nvPr/>
          </p:nvGrpSpPr>
          <p:grpSpPr>
            <a:xfrm>
              <a:off x="6410520" y="2100600"/>
              <a:ext cx="713520" cy="713880"/>
              <a:chOff x="6410520" y="2100600"/>
              <a:chExt cx="713520" cy="713880"/>
            </a:xfrm>
          </p:grpSpPr>
          <p:sp>
            <p:nvSpPr>
              <p:cNvPr id="2421" name=""/>
              <p:cNvSpPr/>
              <p:nvPr/>
            </p:nvSpPr>
            <p:spPr>
              <a:xfrm rot="2700000">
                <a:off x="651492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V="1">
                <a:off x="660492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H="1" flipV="1">
                <a:off x="660348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H="1" flipV="1">
                <a:off x="676692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flipH="1">
                <a:off x="653832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26" name=""/>
            <p:cNvGrpSpPr/>
            <p:nvPr/>
          </p:nvGrpSpPr>
          <p:grpSpPr>
            <a:xfrm>
              <a:off x="6986880" y="2100600"/>
              <a:ext cx="713520" cy="713880"/>
              <a:chOff x="6986880" y="2100600"/>
              <a:chExt cx="713520" cy="713880"/>
            </a:xfrm>
          </p:grpSpPr>
          <p:sp>
            <p:nvSpPr>
              <p:cNvPr id="2427" name=""/>
              <p:cNvSpPr/>
              <p:nvPr/>
            </p:nvSpPr>
            <p:spPr>
              <a:xfrm rot="2700000">
                <a:off x="7091280" y="2205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7181280" y="2293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H="1" flipV="1">
                <a:off x="7179840" y="2294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H="1" flipV="1">
                <a:off x="7343280" y="2228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H="1">
                <a:off x="7114680" y="2457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32" name=""/>
          <p:cNvGrpSpPr/>
          <p:nvPr/>
        </p:nvGrpSpPr>
        <p:grpSpPr>
          <a:xfrm>
            <a:off x="6659640" y="2997360"/>
            <a:ext cx="865080" cy="791640"/>
            <a:chOff x="6659640" y="2997360"/>
            <a:chExt cx="865080" cy="791640"/>
          </a:xfrm>
        </p:grpSpPr>
        <p:sp>
          <p:nvSpPr>
            <p:cNvPr id="2433" name=""/>
            <p:cNvSpPr/>
            <p:nvPr/>
          </p:nvSpPr>
          <p:spPr>
            <a:xfrm>
              <a:off x="6803640" y="3141360"/>
              <a:ext cx="57600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659640" y="3357360"/>
              <a:ext cx="865080" cy="431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V="1">
              <a:off x="7091280" y="2997360"/>
              <a:ext cx="21528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6" name=""/>
          <p:cNvGrpSpPr/>
          <p:nvPr/>
        </p:nvGrpSpPr>
        <p:grpSpPr>
          <a:xfrm>
            <a:off x="250920" y="1700280"/>
            <a:ext cx="4608360" cy="1697040"/>
            <a:chOff x="250920" y="1700280"/>
            <a:chExt cx="4608360" cy="1697040"/>
          </a:xfrm>
        </p:grpSpPr>
        <p:sp>
          <p:nvSpPr>
            <p:cNvPr id="2437" name=""/>
            <p:cNvSpPr/>
            <p:nvPr/>
          </p:nvSpPr>
          <p:spPr>
            <a:xfrm>
              <a:off x="268200" y="170028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68200" y="186552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0360" y="1746360"/>
              <a:ext cx="200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©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0520" y="170208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44480" y="170208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950760" y="183528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243080" y="172908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32084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459080" y="17575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59696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704960" y="189900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949400" y="177516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225520" y="172908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303640" y="17575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44152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57976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687760" y="189900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948040" y="183528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40000" y="172908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31632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454560" y="175752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9244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700440" y="189900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948120" y="177516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226040" y="172908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30200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4440240" y="175752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578480" y="172908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686480" y="1899000"/>
              <a:ext cx="1728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54160" y="2151360"/>
              <a:ext cx="918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54160" y="2318040"/>
              <a:ext cx="918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45960" y="2197440"/>
              <a:ext cx="2160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8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60520" y="215460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744480" y="215280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950760" y="2286360"/>
              <a:ext cx="21600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360" bIns="-73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243080" y="217980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32084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459080" y="22082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59696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704960" y="2351160"/>
              <a:ext cx="1699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949400" y="222588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225520" y="217980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303640" y="22082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44152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57976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2687760" y="2351160"/>
              <a:ext cx="16992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948040" y="2286360"/>
              <a:ext cx="216000" cy="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360" bIns="-730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240000" y="217980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31632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454560" y="220824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59244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700440" y="2351160"/>
              <a:ext cx="17316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948120" y="222588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226040" y="217980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30200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440240" y="220824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578480" y="217980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686480" y="2351160"/>
              <a:ext cx="1728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64960" y="2603880"/>
              <a:ext cx="92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64960" y="2770560"/>
              <a:ext cx="92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64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57120" y="2649600"/>
              <a:ext cx="200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©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57280" y="260532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44480" y="260532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950760" y="273852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243080" y="263232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32084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59080" y="266076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59696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704960" y="280224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949400" y="267840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225520" y="263232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303640" y="266076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44152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57976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687760" y="280224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948040" y="273852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240000" y="263232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31632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454560" y="266076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59244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700440" y="280224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948120" y="267840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226040" y="263232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30200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440240" y="266076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578480" y="263232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4686480" y="2802240"/>
              <a:ext cx="1728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50920" y="305604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50920" y="3221280"/>
              <a:ext cx="921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65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¯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43080" y="3102120"/>
              <a:ext cx="2156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57280" y="305784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44480" y="3057840"/>
              <a:ext cx="130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2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ex10"/>
                </a:rPr>
                <a:t>®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950760" y="319104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243080" y="308484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32084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459080" y="31132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59696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704960" y="325476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949400" y="313092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225520" y="308484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303640" y="31132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44152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57976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87760" y="3254760"/>
              <a:ext cx="1699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948040" y="3191040"/>
              <a:ext cx="216000" cy="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372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240000" y="3084840"/>
              <a:ext cx="76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31632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454560" y="3113280"/>
              <a:ext cx="1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59244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700440" y="3254760"/>
              <a:ext cx="173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948120" y="3130920"/>
              <a:ext cx="2160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226040" y="3084840"/>
              <a:ext cx="7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30200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4440240" y="3113280"/>
              <a:ext cx="138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4578480" y="3084840"/>
              <a:ext cx="1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68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686480" y="3254760"/>
              <a:ext cx="1728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cmsy7"/>
                </a:rPr>
                <a:t>£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50920" y="1700280"/>
              <a:ext cx="4608360" cy="169704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4" name=""/>
          <p:cNvSpPr/>
          <p:nvPr/>
        </p:nvSpPr>
        <p:spPr>
          <a:xfrm>
            <a:off x="201600" y="2100240"/>
            <a:ext cx="4753080" cy="432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611280" y="3573360"/>
            <a:ext cx="2808360" cy="1224000"/>
          </a:xfrm>
          <a:prstGeom prst="wedgeRoundRectCallout">
            <a:avLst>
              <a:gd name="adj1" fmla="val -19361"/>
              <a:gd name="adj2" fmla="val 124060"/>
              <a:gd name="adj3" fmla="val 16667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6" name="" descr=""/>
          <p:cNvPicPr/>
          <p:nvPr/>
        </p:nvPicPr>
        <p:blipFill>
          <a:blip r:embed="rId4"/>
          <a:stretch/>
        </p:blipFill>
        <p:spPr>
          <a:xfrm>
            <a:off x="5707080" y="5661000"/>
            <a:ext cx="2752560" cy="841320"/>
          </a:xfrm>
          <a:prstGeom prst="rect">
            <a:avLst/>
          </a:prstGeom>
          <a:ln w="0">
            <a:noFill/>
          </a:ln>
        </p:spPr>
      </p:pic>
      <p:grpSp>
        <p:nvGrpSpPr>
          <p:cNvPr id="2557" name=""/>
          <p:cNvGrpSpPr/>
          <p:nvPr/>
        </p:nvGrpSpPr>
        <p:grpSpPr>
          <a:xfrm>
            <a:off x="6095880" y="3489480"/>
            <a:ext cx="719280" cy="357120"/>
            <a:chOff x="6095880" y="3489480"/>
            <a:chExt cx="719280" cy="357120"/>
          </a:xfrm>
        </p:grpSpPr>
        <p:sp>
          <p:nvSpPr>
            <p:cNvPr id="2558" name=""/>
            <p:cNvSpPr/>
            <p:nvPr/>
          </p:nvSpPr>
          <p:spPr>
            <a:xfrm>
              <a:off x="6095880" y="3505320"/>
              <a:ext cx="954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5600" bIns="84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189480" y="3529080"/>
              <a:ext cx="2653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r10"/>
                </a:rPr>
                <a:t>ª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54800" y="3489480"/>
              <a:ext cx="20952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7600" bIns="27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mr7"/>
                </a:rPr>
                <a:t>+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681960" y="3505320"/>
              <a:ext cx="13320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5600" bIns="84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cmsy10"/>
                </a:rPr>
                <a:t>i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095880" y="3489480"/>
              <a:ext cx="719280" cy="35712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3" name="" descr=""/>
          <p:cNvPicPr/>
          <p:nvPr/>
        </p:nvPicPr>
        <p:blipFill>
          <a:blip r:embed="rId5"/>
          <a:stretch/>
        </p:blipFill>
        <p:spPr>
          <a:xfrm>
            <a:off x="965160" y="3786120"/>
            <a:ext cx="2071800" cy="744480"/>
          </a:xfrm>
          <a:prstGeom prst="rect">
            <a:avLst/>
          </a:prstGeom>
          <a:ln w="0">
            <a:noFill/>
          </a:ln>
        </p:spPr>
      </p:pic>
      <p:pic>
        <p:nvPicPr>
          <p:cNvPr id="2564" name="" descr=""/>
          <p:cNvPicPr/>
          <p:nvPr/>
        </p:nvPicPr>
        <p:blipFill>
          <a:blip r:embed="rId6"/>
          <a:stretch/>
        </p:blipFill>
        <p:spPr>
          <a:xfrm>
            <a:off x="5643720" y="4800600"/>
            <a:ext cx="2882880" cy="16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B176-590B-453B-8759-5CAB13B82B2F}" type="slidenum">
              <a:t>31</a:t>
            </a:fld>
          </a:p>
        </p:txBody>
      </p:sp>
    </p:spTree>
  </p:cSld>
  <p:transition spd="med">
    <p:fade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826920" y="1700280"/>
            <a:ext cx="74185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-Party Crypto Primi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urity Pro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tocol f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 Probl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>
            <a:off x="684360" y="3687840"/>
            <a:ext cx="7488000" cy="64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6D9D-DED2-41B4-B026-822DB3E5550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Bit Commitmen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20574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571500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2" name=""/>
          <p:cNvGrpSpPr/>
          <p:nvPr/>
        </p:nvGrpSpPr>
        <p:grpSpPr>
          <a:xfrm>
            <a:off x="3352320" y="4572000"/>
            <a:ext cx="2133720" cy="609480"/>
            <a:chOff x="3352320" y="4572000"/>
            <a:chExt cx="2133720" cy="609480"/>
          </a:xfrm>
        </p:grpSpPr>
        <p:sp>
          <p:nvSpPr>
            <p:cNvPr id="2573" name=""/>
            <p:cNvSpPr/>
            <p:nvPr/>
          </p:nvSpPr>
          <p:spPr>
            <a:xfrm flipH="1">
              <a:off x="3352320" y="5181480"/>
              <a:ext cx="213372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74" name="" descr=""/>
            <p:cNvPicPr/>
            <p:nvPr/>
          </p:nvPicPr>
          <p:blipFill>
            <a:blip r:embed="rId1"/>
            <a:stretch/>
          </p:blipFill>
          <p:spPr>
            <a:xfrm>
              <a:off x="4191120" y="4572000"/>
              <a:ext cx="70488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5" name=""/>
          <p:cNvGrpSpPr/>
          <p:nvPr/>
        </p:nvGrpSpPr>
        <p:grpSpPr>
          <a:xfrm>
            <a:off x="5784840" y="1981080"/>
            <a:ext cx="2984400" cy="1952640"/>
            <a:chOff x="5784840" y="1981080"/>
            <a:chExt cx="2984400" cy="1952640"/>
          </a:xfrm>
        </p:grpSpPr>
        <p:pic>
          <p:nvPicPr>
            <p:cNvPr id="2576" name="" descr=""/>
            <p:cNvPicPr/>
            <p:nvPr/>
          </p:nvPicPr>
          <p:blipFill>
            <a:blip r:embed="rId2"/>
            <a:stretch/>
          </p:blipFill>
          <p:spPr>
            <a:xfrm>
              <a:off x="5784840" y="2822400"/>
              <a:ext cx="298440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7" name="" descr=""/>
            <p:cNvPicPr/>
            <p:nvPr/>
          </p:nvPicPr>
          <p:blipFill>
            <a:blip r:embed="rId3"/>
            <a:stretch/>
          </p:blipFill>
          <p:spPr>
            <a:xfrm>
              <a:off x="5791320" y="1981080"/>
              <a:ext cx="179532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8" name=""/>
          <p:cNvGrpSpPr/>
          <p:nvPr/>
        </p:nvGrpSpPr>
        <p:grpSpPr>
          <a:xfrm>
            <a:off x="2062080" y="1747800"/>
            <a:ext cx="3424320" cy="1681200"/>
            <a:chOff x="2062080" y="1747800"/>
            <a:chExt cx="3424320" cy="1681200"/>
          </a:xfrm>
        </p:grpSpPr>
        <p:sp>
          <p:nvSpPr>
            <p:cNvPr id="2579" name=""/>
            <p:cNvSpPr/>
            <p:nvPr/>
          </p:nvSpPr>
          <p:spPr>
            <a:xfrm>
              <a:off x="3352680" y="3429000"/>
              <a:ext cx="2133720" cy="0"/>
            </a:xfrm>
            <a:prstGeom prst="line">
              <a:avLst/>
            </a:prstGeom>
            <a:ln cap="rnd" w="11448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80" name="" descr=""/>
            <p:cNvPicPr/>
            <p:nvPr/>
          </p:nvPicPr>
          <p:blipFill>
            <a:blip r:embed="rId4"/>
            <a:stretch/>
          </p:blipFill>
          <p:spPr>
            <a:xfrm>
              <a:off x="2666880" y="2819520"/>
              <a:ext cx="237492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1" name="" descr=""/>
            <p:cNvPicPr/>
            <p:nvPr/>
          </p:nvPicPr>
          <p:blipFill>
            <a:blip r:embed="rId5"/>
            <a:stretch/>
          </p:blipFill>
          <p:spPr>
            <a:xfrm>
              <a:off x="2062080" y="1747800"/>
              <a:ext cx="2130480" cy="84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2" name="" descr=""/>
          <p:cNvPicPr/>
          <p:nvPr/>
        </p:nvPicPr>
        <p:blipFill>
          <a:blip r:embed="rId6"/>
          <a:stretch/>
        </p:blipFill>
        <p:spPr>
          <a:xfrm>
            <a:off x="1828800" y="5486400"/>
            <a:ext cx="2819520" cy="809640"/>
          </a:xfrm>
          <a:prstGeom prst="rect">
            <a:avLst/>
          </a:prstGeom>
          <a:ln w="0">
            <a:noFill/>
          </a:ln>
        </p:spPr>
      </p:pic>
      <p:grpSp>
        <p:nvGrpSpPr>
          <p:cNvPr id="2583" name=""/>
          <p:cNvGrpSpPr/>
          <p:nvPr/>
        </p:nvGrpSpPr>
        <p:grpSpPr>
          <a:xfrm>
            <a:off x="2050920" y="4124160"/>
            <a:ext cx="6864480" cy="459720"/>
            <a:chOff x="2050920" y="4124160"/>
            <a:chExt cx="6864480" cy="459720"/>
          </a:xfrm>
        </p:grpSpPr>
        <p:sp>
          <p:nvSpPr>
            <p:cNvPr id="2584" name=""/>
            <p:cNvSpPr/>
            <p:nvPr/>
          </p:nvSpPr>
          <p:spPr>
            <a:xfrm flipV="1">
              <a:off x="2050920" y="4200120"/>
              <a:ext cx="6864480" cy="2052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700360" y="4124160"/>
              <a:ext cx="61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412D-82E1-4071-9663-06DA4F9D5B2E}" type="slidenum">
              <a:t>33</a:t>
            </a:fld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 flipH="1">
            <a:off x="3450960" y="2833560"/>
            <a:ext cx="2057400" cy="0"/>
          </a:xfrm>
          <a:prstGeom prst="line">
            <a:avLst/>
          </a:prstGeom>
          <a:ln w="114480">
            <a:solidFill>
              <a:srgbClr val="ffffff">
                <a:alpha val="8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2133720" y="2050920"/>
            <a:ext cx="6629400" cy="0"/>
          </a:xfrm>
          <a:prstGeom prst="line">
            <a:avLst/>
          </a:prstGeom>
          <a:ln w="507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2057400" y="90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715000" y="907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1" name="" descr=""/>
          <p:cNvPicPr/>
          <p:nvPr/>
        </p:nvPicPr>
        <p:blipFill>
          <a:blip r:embed="rId1"/>
          <a:stretch/>
        </p:blipFill>
        <p:spPr>
          <a:xfrm>
            <a:off x="4365720" y="2376360"/>
            <a:ext cx="609480" cy="381240"/>
          </a:xfrm>
          <a:prstGeom prst="rect">
            <a:avLst/>
          </a:prstGeom>
          <a:ln w="0">
            <a:noFill/>
          </a:ln>
        </p:spPr>
      </p:pic>
      <p:sp>
        <p:nvSpPr>
          <p:cNvPr id="2592" name=""/>
          <p:cNvSpPr/>
          <p:nvPr/>
        </p:nvSpPr>
        <p:spPr>
          <a:xfrm>
            <a:off x="1989000" y="3068640"/>
            <a:ext cx="6831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ound, non-inter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 by receiving!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: e.g. passive time-stam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ditionally h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ditionally bind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cally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d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2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m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h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um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Arial"/>
              </a:rPr>
              <a:t>d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&lt; n /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505320" y="1746360"/>
            <a:ext cx="2057400" cy="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2627280" y="19699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mory bound: sto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n/2 qu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Bit Commitment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pic>
        <p:nvPicPr>
          <p:cNvPr id="2596" name="" descr=""/>
          <p:cNvPicPr/>
          <p:nvPr/>
        </p:nvPicPr>
        <p:blipFill>
          <a:blip r:embed="rId2"/>
          <a:stretch/>
        </p:blipFill>
        <p:spPr>
          <a:xfrm>
            <a:off x="6019920" y="1393920"/>
            <a:ext cx="1792080" cy="407880"/>
          </a:xfrm>
          <a:prstGeom prst="rect">
            <a:avLst/>
          </a:prstGeom>
          <a:ln w="0">
            <a:noFill/>
          </a:ln>
        </p:spPr>
      </p:pic>
      <p:pic>
        <p:nvPicPr>
          <p:cNvPr id="2597" name="" descr=""/>
          <p:cNvPicPr/>
          <p:nvPr/>
        </p:nvPicPr>
        <p:blipFill>
          <a:blip r:embed="rId3"/>
          <a:stretch/>
        </p:blipFill>
        <p:spPr>
          <a:xfrm>
            <a:off x="3292560" y="1298520"/>
            <a:ext cx="2287440" cy="26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2E20-987B-4837-80C5-69369CC77D64}" type="slidenum">
              <a:t>34</a:t>
            </a:fld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Binding Property: Proof Idea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99072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20574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1500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3" name=""/>
          <p:cNvGrpSpPr/>
          <p:nvPr/>
        </p:nvGrpSpPr>
        <p:grpSpPr>
          <a:xfrm>
            <a:off x="3352320" y="4572000"/>
            <a:ext cx="2133720" cy="609480"/>
            <a:chOff x="3352320" y="4572000"/>
            <a:chExt cx="2133720" cy="609480"/>
          </a:xfrm>
        </p:grpSpPr>
        <p:sp>
          <p:nvSpPr>
            <p:cNvPr id="2604" name=""/>
            <p:cNvSpPr/>
            <p:nvPr/>
          </p:nvSpPr>
          <p:spPr>
            <a:xfrm flipH="1">
              <a:off x="3352320" y="5181480"/>
              <a:ext cx="213372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05" name="" descr=""/>
            <p:cNvPicPr/>
            <p:nvPr/>
          </p:nvPicPr>
          <p:blipFill>
            <a:blip r:embed="rId1"/>
            <a:stretch/>
          </p:blipFill>
          <p:spPr>
            <a:xfrm>
              <a:off x="4191120" y="4572000"/>
              <a:ext cx="70488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6" name=""/>
          <p:cNvGrpSpPr/>
          <p:nvPr/>
        </p:nvGrpSpPr>
        <p:grpSpPr>
          <a:xfrm>
            <a:off x="5784840" y="1981080"/>
            <a:ext cx="2984400" cy="1952640"/>
            <a:chOff x="5784840" y="1981080"/>
            <a:chExt cx="2984400" cy="1952640"/>
          </a:xfrm>
        </p:grpSpPr>
        <p:pic>
          <p:nvPicPr>
            <p:cNvPr id="2607" name="" descr=""/>
            <p:cNvPicPr/>
            <p:nvPr/>
          </p:nvPicPr>
          <p:blipFill>
            <a:blip r:embed="rId2"/>
            <a:stretch/>
          </p:blipFill>
          <p:spPr>
            <a:xfrm>
              <a:off x="5784840" y="2822400"/>
              <a:ext cx="298440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8" name="" descr=""/>
            <p:cNvPicPr/>
            <p:nvPr/>
          </p:nvPicPr>
          <p:blipFill>
            <a:blip r:embed="rId3"/>
            <a:stretch/>
          </p:blipFill>
          <p:spPr>
            <a:xfrm>
              <a:off x="5791320" y="1981080"/>
              <a:ext cx="17953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9" name=""/>
          <p:cNvSpPr/>
          <p:nvPr/>
        </p:nvSpPr>
        <p:spPr>
          <a:xfrm>
            <a:off x="3352680" y="3429000"/>
            <a:ext cx="2133720" cy="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0" name=""/>
          <p:cNvGrpSpPr/>
          <p:nvPr/>
        </p:nvGrpSpPr>
        <p:grpSpPr>
          <a:xfrm>
            <a:off x="2062080" y="1747800"/>
            <a:ext cx="2979720" cy="1533600"/>
            <a:chOff x="2062080" y="1747800"/>
            <a:chExt cx="2979720" cy="1533600"/>
          </a:xfrm>
        </p:grpSpPr>
        <p:pic>
          <p:nvPicPr>
            <p:cNvPr id="2611" name="" descr=""/>
            <p:cNvPicPr/>
            <p:nvPr/>
          </p:nvPicPr>
          <p:blipFill>
            <a:blip r:embed="rId4"/>
            <a:stretch/>
          </p:blipFill>
          <p:spPr>
            <a:xfrm>
              <a:off x="2666880" y="2819520"/>
              <a:ext cx="237492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2" name="" descr=""/>
            <p:cNvPicPr/>
            <p:nvPr/>
          </p:nvPicPr>
          <p:blipFill>
            <a:blip r:embed="rId5"/>
            <a:stretch/>
          </p:blipFill>
          <p:spPr>
            <a:xfrm>
              <a:off x="2062080" y="1747800"/>
              <a:ext cx="2130480" cy="84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3" name="" descr=""/>
          <p:cNvPicPr/>
          <p:nvPr/>
        </p:nvPicPr>
        <p:blipFill>
          <a:blip r:embed="rId6"/>
          <a:stretch/>
        </p:blipFill>
        <p:spPr>
          <a:xfrm>
            <a:off x="1828800" y="5486400"/>
            <a:ext cx="2819520" cy="809640"/>
          </a:xfrm>
          <a:prstGeom prst="rect">
            <a:avLst/>
          </a:prstGeom>
          <a:ln w="0">
            <a:noFill/>
          </a:ln>
        </p:spPr>
      </p:pic>
      <p:grpSp>
        <p:nvGrpSpPr>
          <p:cNvPr id="2614" name=""/>
          <p:cNvGrpSpPr/>
          <p:nvPr/>
        </p:nvGrpSpPr>
        <p:grpSpPr>
          <a:xfrm>
            <a:off x="2050920" y="4124160"/>
            <a:ext cx="6864480" cy="459720"/>
            <a:chOff x="2050920" y="4124160"/>
            <a:chExt cx="6864480" cy="459720"/>
          </a:xfrm>
        </p:grpSpPr>
        <p:sp>
          <p:nvSpPr>
            <p:cNvPr id="2615" name=""/>
            <p:cNvSpPr/>
            <p:nvPr/>
          </p:nvSpPr>
          <p:spPr>
            <a:xfrm flipV="1">
              <a:off x="2050920" y="4200120"/>
              <a:ext cx="6864480" cy="2052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700360" y="4124160"/>
              <a:ext cx="61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17" name="" descr=""/>
          <p:cNvPicPr/>
          <p:nvPr/>
        </p:nvPicPr>
        <p:blipFill>
          <a:blip r:embed="rId7"/>
          <a:stretch/>
        </p:blipFill>
        <p:spPr>
          <a:xfrm>
            <a:off x="5718240" y="178272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2618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9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2620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1690560" y="2060640"/>
            <a:ext cx="2376360" cy="1297080"/>
            <a:chOff x="1690560" y="2060640"/>
            <a:chExt cx="2376360" cy="1297080"/>
          </a:xfrm>
        </p:grpSpPr>
        <p:sp>
          <p:nvSpPr>
            <p:cNvPr id="2626" name=""/>
            <p:cNvSpPr/>
            <p:nvPr/>
          </p:nvSpPr>
          <p:spPr>
            <a:xfrm>
              <a:off x="1690560" y="206064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842920" y="2060640"/>
              <a:ext cx="64800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419280" y="206064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266920" y="2060640"/>
              <a:ext cx="647640" cy="1297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0" name=""/>
          <p:cNvGrpSpPr/>
          <p:nvPr/>
        </p:nvGrpSpPr>
        <p:grpSpPr>
          <a:xfrm>
            <a:off x="1657800" y="2029320"/>
            <a:ext cx="2441520" cy="713880"/>
            <a:chOff x="1657800" y="2029320"/>
            <a:chExt cx="2441520" cy="713880"/>
          </a:xfrm>
        </p:grpSpPr>
        <p:sp>
          <p:nvSpPr>
            <p:cNvPr id="2631" name=""/>
            <p:cNvSpPr/>
            <p:nvPr/>
          </p:nvSpPr>
          <p:spPr>
            <a:xfrm>
              <a:off x="1834920" y="234972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"/>
            <p:cNvGrpSpPr/>
            <p:nvPr/>
          </p:nvGrpSpPr>
          <p:grpSpPr>
            <a:xfrm>
              <a:off x="1657800" y="2029320"/>
              <a:ext cx="713520" cy="713880"/>
              <a:chOff x="1657800" y="2029320"/>
              <a:chExt cx="713520" cy="713880"/>
            </a:xfrm>
          </p:grpSpPr>
          <p:sp>
            <p:nvSpPr>
              <p:cNvPr id="2633" name=""/>
              <p:cNvSpPr/>
              <p:nvPr/>
            </p:nvSpPr>
            <p:spPr>
              <a:xfrm rot="2700000">
                <a:off x="1762200" y="21337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1852200" y="22219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 flipV="1">
                <a:off x="1850760" y="22230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 flipV="1">
                <a:off x="2014200" y="21574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>
                <a:off x="1785600" y="23860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8" name=""/>
            <p:cNvGrpSpPr/>
            <p:nvPr/>
          </p:nvGrpSpPr>
          <p:grpSpPr>
            <a:xfrm>
              <a:off x="2233080" y="2029320"/>
              <a:ext cx="713520" cy="713520"/>
              <a:chOff x="2233080" y="2029320"/>
              <a:chExt cx="713520" cy="713520"/>
            </a:xfrm>
          </p:grpSpPr>
          <p:sp>
            <p:nvSpPr>
              <p:cNvPr id="2639" name=""/>
              <p:cNvSpPr/>
              <p:nvPr/>
            </p:nvSpPr>
            <p:spPr>
              <a:xfrm rot="2700000">
                <a:off x="2337480" y="213372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2427840" y="222192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H="1" flipV="1">
                <a:off x="2426040" y="222300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2590200" y="215748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2361600" y="238608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44" name=""/>
            <p:cNvGrpSpPr/>
            <p:nvPr/>
          </p:nvGrpSpPr>
          <p:grpSpPr>
            <a:xfrm>
              <a:off x="2809440" y="2029320"/>
              <a:ext cx="713520" cy="713520"/>
              <a:chOff x="2809440" y="2029320"/>
              <a:chExt cx="713520" cy="713520"/>
            </a:xfrm>
          </p:grpSpPr>
          <p:sp>
            <p:nvSpPr>
              <p:cNvPr id="2645" name=""/>
              <p:cNvSpPr/>
              <p:nvPr/>
            </p:nvSpPr>
            <p:spPr>
              <a:xfrm rot="2700000">
                <a:off x="2913840" y="213372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flipV="1">
                <a:off x="3004200" y="222192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3002400" y="222300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 flipV="1">
                <a:off x="3166560" y="215748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2937960" y="238608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0" name=""/>
            <p:cNvGrpSpPr/>
            <p:nvPr/>
          </p:nvGrpSpPr>
          <p:grpSpPr>
            <a:xfrm>
              <a:off x="3385800" y="2029320"/>
              <a:ext cx="713520" cy="713520"/>
              <a:chOff x="3385800" y="2029320"/>
              <a:chExt cx="713520" cy="713520"/>
            </a:xfrm>
          </p:grpSpPr>
          <p:sp>
            <p:nvSpPr>
              <p:cNvPr id="2651" name=""/>
              <p:cNvSpPr/>
              <p:nvPr/>
            </p:nvSpPr>
            <p:spPr>
              <a:xfrm rot="2700000">
                <a:off x="3490200" y="213372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3580560" y="222192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H="1" flipV="1">
                <a:off x="3578760" y="222300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 flipV="1">
                <a:off x="3742920" y="215748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H="1">
                <a:off x="3514320" y="238608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656" name=""/>
          <p:cNvGrpSpPr/>
          <p:nvPr/>
        </p:nvGrpSpPr>
        <p:grpSpPr>
          <a:xfrm>
            <a:off x="1659240" y="2676960"/>
            <a:ext cx="2440800" cy="713880"/>
            <a:chOff x="1659240" y="2676960"/>
            <a:chExt cx="2440800" cy="713880"/>
          </a:xfrm>
        </p:grpSpPr>
        <p:grpSp>
          <p:nvGrpSpPr>
            <p:cNvPr id="2657" name=""/>
            <p:cNvGrpSpPr/>
            <p:nvPr/>
          </p:nvGrpSpPr>
          <p:grpSpPr>
            <a:xfrm>
              <a:off x="1659240" y="2676960"/>
              <a:ext cx="712080" cy="711720"/>
              <a:chOff x="1659240" y="2676960"/>
              <a:chExt cx="712080" cy="711720"/>
            </a:xfrm>
          </p:grpSpPr>
          <p:sp>
            <p:nvSpPr>
              <p:cNvPr id="2658" name=""/>
              <p:cNvSpPr/>
              <p:nvPr/>
            </p:nvSpPr>
            <p:spPr>
              <a:xfrm rot="2700000">
                <a:off x="1763640" y="2781000"/>
                <a:ext cx="503280" cy="5032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1852920" y="2869920"/>
                <a:ext cx="32256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H="1" flipV="1">
                <a:off x="1851840" y="2870280"/>
                <a:ext cx="324360" cy="3225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 flipV="1">
                <a:off x="2015280" y="2804760"/>
                <a:ext cx="1440" cy="4572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>
                <a:off x="1786680" y="3033000"/>
                <a:ext cx="45756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3" name=""/>
            <p:cNvGrpSpPr/>
            <p:nvPr/>
          </p:nvGrpSpPr>
          <p:grpSpPr>
            <a:xfrm>
              <a:off x="2233800" y="2676960"/>
              <a:ext cx="713520" cy="713880"/>
              <a:chOff x="2233800" y="2676960"/>
              <a:chExt cx="713520" cy="713880"/>
            </a:xfrm>
          </p:grpSpPr>
          <p:sp>
            <p:nvSpPr>
              <p:cNvPr id="2664" name=""/>
              <p:cNvSpPr/>
              <p:nvPr/>
            </p:nvSpPr>
            <p:spPr>
              <a:xfrm rot="2700000">
                <a:off x="2338200" y="2781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2428200" y="2869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H="1" flipV="1">
                <a:off x="2426760" y="2870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2590200" y="2805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H="1">
                <a:off x="2361600" y="3033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69" name=""/>
            <p:cNvGrpSpPr/>
            <p:nvPr/>
          </p:nvGrpSpPr>
          <p:grpSpPr>
            <a:xfrm>
              <a:off x="2810160" y="2676960"/>
              <a:ext cx="713520" cy="713880"/>
              <a:chOff x="2810160" y="2676960"/>
              <a:chExt cx="713520" cy="713880"/>
            </a:xfrm>
          </p:grpSpPr>
          <p:sp>
            <p:nvSpPr>
              <p:cNvPr id="2670" name=""/>
              <p:cNvSpPr/>
              <p:nvPr/>
            </p:nvSpPr>
            <p:spPr>
              <a:xfrm rot="2700000">
                <a:off x="2914560" y="2781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V="1">
                <a:off x="3004560" y="2869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3003120" y="2870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 flipH="1" flipV="1">
                <a:off x="3166560" y="2805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2937960" y="3033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75" name=""/>
            <p:cNvGrpSpPr/>
            <p:nvPr/>
          </p:nvGrpSpPr>
          <p:grpSpPr>
            <a:xfrm>
              <a:off x="3386520" y="2676960"/>
              <a:ext cx="713520" cy="713880"/>
              <a:chOff x="3386520" y="2676960"/>
              <a:chExt cx="713520" cy="713880"/>
            </a:xfrm>
          </p:grpSpPr>
          <p:sp>
            <p:nvSpPr>
              <p:cNvPr id="2676" name=""/>
              <p:cNvSpPr/>
              <p:nvPr/>
            </p:nvSpPr>
            <p:spPr>
              <a:xfrm rot="2700000">
                <a:off x="3490920" y="278136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V="1">
                <a:off x="3580920" y="286956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H="1" flipV="1">
                <a:off x="3579480" y="287064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 flipV="1">
                <a:off x="3742920" y="2805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H="1">
                <a:off x="3514320" y="303372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8103-F4DC-46D4-A0ED-D83F24938C30}" type="slidenum">
              <a:t>35</a:t>
            </a:fld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0" dur="500"/>
                                        <p:tgtEl>
                                          <p:spTgt spid="2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7" dur="5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42152 0.02615 E">
                                      <p:cBhvr>
                                        <p:cTn id="941" dur="2000" fill="hold"/>
                                        <p:tgtEl>
                                          <p:spTgt spid="2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11111E-006 L 0.00399 0.26759 E">
                                      <p:cBhvr>
                                        <p:cTn id="943" dur="2000" fill="hold"/>
                                        <p:tgtEl>
                                          <p:spTgt spid="2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826920" y="1700280"/>
            <a:ext cx="74185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wo-Party Crypto Primi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urity Proo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en Probl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684360" y="4363920"/>
            <a:ext cx="748800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9C4B-315C-4119-A114-C3FFE02365F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acticality Issue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2122560" y="1125360"/>
            <a:ext cx="68421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polarization of photons a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um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-of-the-art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mit (encode, send over fibers, receive and measure) quantum 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not sto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m for longer than a few millisec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2124000" y="4292640"/>
            <a:ext cx="58327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fect sources (multi-pulse emiss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ss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5999-5714-430C-8B02-D90EB19930D4}" type="slidenum">
              <a:t>37</a:t>
            </a:fld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acticality Issues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2266920" y="1413000"/>
            <a:ext cx="68421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protocols can be modifi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i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s based 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photon emis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lerate (quantum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is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rans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2268360" y="3932280"/>
            <a:ext cx="6696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 within reach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onditionally sec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 long as nobody can store large amounts of quantum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9B3A9-37CA-4068-AD7F-C04053C6666E}" type="slidenum">
              <a:t>38</a:t>
            </a:fld>
          </a:p>
        </p:txBody>
      </p:sp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"/>
          <p:cNvSpPr/>
          <p:nvPr/>
        </p:nvSpPr>
        <p:spPr>
          <a:xfrm>
            <a:off x="108000" y="5229360"/>
            <a:ext cx="8064360" cy="1439640"/>
          </a:xfrm>
          <a:prstGeom prst="roundRect">
            <a:avLst>
              <a:gd name="adj" fmla="val 14384"/>
            </a:avLst>
          </a:prstGeom>
          <a:solidFill>
            <a:srgbClr val="00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More Realistic: Noisy Memory Model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111600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324000" y="5373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cy Ampl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3" name=""/>
          <p:cNvGrpSpPr/>
          <p:nvPr/>
        </p:nvGrpSpPr>
        <p:grpSpPr>
          <a:xfrm>
            <a:off x="939960" y="5950080"/>
            <a:ext cx="6727680" cy="460080"/>
            <a:chOff x="939960" y="5950080"/>
            <a:chExt cx="6727680" cy="460080"/>
          </a:xfrm>
        </p:grpSpPr>
        <p:sp>
          <p:nvSpPr>
            <p:cNvPr id="2704" name=""/>
            <p:cNvSpPr/>
            <p:nvPr/>
          </p:nvSpPr>
          <p:spPr>
            <a:xfrm>
              <a:off x="939960" y="6064200"/>
              <a:ext cx="1904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3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d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130400" y="6043680"/>
              <a:ext cx="142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273320" y="6064200"/>
              <a:ext cx="211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3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h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484640" y="6043680"/>
              <a:ext cx="1425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627200" y="6068880"/>
              <a:ext cx="3034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959120" y="6043680"/>
              <a:ext cx="142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102040" y="6043680"/>
              <a:ext cx="1015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203560" y="6064200"/>
              <a:ext cx="211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3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h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497320" y="6105600"/>
              <a:ext cx="28584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­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864160" y="6156360"/>
              <a:ext cx="2235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1640" bIns="69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b10"/>
                </a:rPr>
                <a:t>½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3087720" y="6043680"/>
              <a:ext cx="142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3332160" y="6086520"/>
              <a:ext cx="285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48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·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3719520" y="6083280"/>
              <a:ext cx="182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4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2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90240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175280" y="5951520"/>
              <a:ext cx="125280" cy="1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0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175280" y="6102360"/>
              <a:ext cx="12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175280" y="6138720"/>
              <a:ext cx="125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345200" y="5975280"/>
              <a:ext cx="114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459320" y="5992920"/>
              <a:ext cx="2397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699080" y="6126120"/>
              <a:ext cx="24948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7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sy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967280" y="5975280"/>
              <a:ext cx="114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5081760" y="5975280"/>
              <a:ext cx="150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232600" y="5992920"/>
              <a:ext cx="2397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492880" y="5975280"/>
              <a:ext cx="150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64228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872320" y="6054480"/>
              <a:ext cx="1746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2320" bIns="48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b7"/>
                </a:rPr>
                <a:t>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045480" y="5975280"/>
              <a:ext cx="114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16140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390000" y="5992920"/>
              <a:ext cx="23940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629400" y="6086520"/>
              <a:ext cx="125640" cy="1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0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72320" y="5975280"/>
              <a:ext cx="114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888240" y="6054480"/>
              <a:ext cx="1746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2320" bIns="48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b7"/>
                </a:rPr>
                <a:t>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062840" y="5975280"/>
              <a:ext cx="114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17732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405920" y="6002280"/>
              <a:ext cx="146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4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552080" y="5975280"/>
              <a:ext cx="114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939960" y="5950080"/>
              <a:ext cx="6727680" cy="46008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1" name=""/>
          <p:cNvSpPr/>
          <p:nvPr/>
        </p:nvSpPr>
        <p:spPr>
          <a:xfrm>
            <a:off x="2987640" y="1989000"/>
            <a:ext cx="2879640" cy="36036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84240 h 360360"/>
              <a:gd name="textAreaBottom" fmla="*/ 276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2" name=""/>
          <p:cNvGrpSpPr/>
          <p:nvPr/>
        </p:nvGrpSpPr>
        <p:grpSpPr>
          <a:xfrm>
            <a:off x="5867280" y="1916280"/>
            <a:ext cx="865080" cy="842400"/>
            <a:chOff x="5867280" y="1916280"/>
            <a:chExt cx="865080" cy="842400"/>
          </a:xfrm>
        </p:grpSpPr>
        <p:sp>
          <p:nvSpPr>
            <p:cNvPr id="2743" name=""/>
            <p:cNvSpPr/>
            <p:nvPr/>
          </p:nvSpPr>
          <p:spPr>
            <a:xfrm>
              <a:off x="6011640" y="2060640"/>
              <a:ext cx="576360" cy="57564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867280" y="2276280"/>
              <a:ext cx="86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6298920" y="191628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 flipV="1">
              <a:off x="6335640" y="2300040"/>
              <a:ext cx="144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V="1">
              <a:off x="6134040" y="2528640"/>
              <a:ext cx="4032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8" name=""/>
          <p:cNvGrpSpPr/>
          <p:nvPr/>
        </p:nvGrpSpPr>
        <p:grpSpPr>
          <a:xfrm>
            <a:off x="3663360" y="2418840"/>
            <a:ext cx="724680" cy="803880"/>
            <a:chOff x="3663360" y="2418840"/>
            <a:chExt cx="724680" cy="803880"/>
          </a:xfrm>
        </p:grpSpPr>
        <p:sp>
          <p:nvSpPr>
            <p:cNvPr id="2749" name=""/>
            <p:cNvSpPr/>
            <p:nvPr/>
          </p:nvSpPr>
          <p:spPr>
            <a:xfrm rot="1512000">
              <a:off x="3779640" y="2491920"/>
              <a:ext cx="491760" cy="6570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V="1">
              <a:off x="3899520" y="2549880"/>
              <a:ext cx="252360" cy="5403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 flipH="1" flipV="1">
              <a:off x="3822840" y="2724840"/>
              <a:ext cx="405000" cy="18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 flipV="1">
              <a:off x="3931920" y="2559240"/>
              <a:ext cx="187560" cy="515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>
              <a:off x="3797640" y="2738160"/>
              <a:ext cx="457560" cy="1648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4" name=""/>
          <p:cNvGrpSpPr/>
          <p:nvPr/>
        </p:nvGrpSpPr>
        <p:grpSpPr>
          <a:xfrm>
            <a:off x="4240440" y="2421720"/>
            <a:ext cx="662400" cy="662400"/>
            <a:chOff x="4240440" y="2421720"/>
            <a:chExt cx="662400" cy="662400"/>
          </a:xfrm>
        </p:grpSpPr>
        <p:sp>
          <p:nvSpPr>
            <p:cNvPr id="2755" name=""/>
            <p:cNvSpPr/>
            <p:nvPr/>
          </p:nvSpPr>
          <p:spPr>
            <a:xfrm rot="2700000">
              <a:off x="4318920" y="2536920"/>
              <a:ext cx="505080" cy="431640"/>
            </a:xfrm>
            <a:prstGeom prst="ellips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4433040" y="2612520"/>
              <a:ext cx="275760" cy="278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H="1" flipV="1">
              <a:off x="4407840" y="2590200"/>
              <a:ext cx="32580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H="1" flipV="1">
              <a:off x="4572000" y="2524320"/>
              <a:ext cx="144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H="1">
              <a:off x="4376160" y="2752920"/>
              <a:ext cx="39204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0" name=""/>
          <p:cNvSpPr/>
          <p:nvPr/>
        </p:nvSpPr>
        <p:spPr>
          <a:xfrm>
            <a:off x="4930920" y="25002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01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61" name=""/>
          <p:cNvGrpSpPr/>
          <p:nvPr/>
        </p:nvGrpSpPr>
        <p:grpSpPr>
          <a:xfrm>
            <a:off x="3169080" y="1308600"/>
            <a:ext cx="2441520" cy="713880"/>
            <a:chOff x="3169080" y="1308600"/>
            <a:chExt cx="2441520" cy="713880"/>
          </a:xfrm>
        </p:grpSpPr>
        <p:sp>
          <p:nvSpPr>
            <p:cNvPr id="2762" name=""/>
            <p:cNvSpPr/>
            <p:nvPr/>
          </p:nvSpPr>
          <p:spPr>
            <a:xfrm>
              <a:off x="3346200" y="162900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3" name=""/>
            <p:cNvGrpSpPr/>
            <p:nvPr/>
          </p:nvGrpSpPr>
          <p:grpSpPr>
            <a:xfrm>
              <a:off x="3169080" y="1308600"/>
              <a:ext cx="713520" cy="713880"/>
              <a:chOff x="3169080" y="1308600"/>
              <a:chExt cx="713520" cy="713880"/>
            </a:xfrm>
          </p:grpSpPr>
          <p:sp>
            <p:nvSpPr>
              <p:cNvPr id="2764" name=""/>
              <p:cNvSpPr/>
              <p:nvPr/>
            </p:nvSpPr>
            <p:spPr>
              <a:xfrm rot="2700000">
                <a:off x="3273480" y="1413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3363480" y="1501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 flipH="1" flipV="1">
                <a:off x="3362040" y="1502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3525480" y="1436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 flipH="1">
                <a:off x="3296880" y="1665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9" name=""/>
            <p:cNvGrpSpPr/>
            <p:nvPr/>
          </p:nvGrpSpPr>
          <p:grpSpPr>
            <a:xfrm>
              <a:off x="3744360" y="1308600"/>
              <a:ext cx="713520" cy="713520"/>
              <a:chOff x="3744360" y="1308600"/>
              <a:chExt cx="713520" cy="713520"/>
            </a:xfrm>
          </p:grpSpPr>
          <p:sp>
            <p:nvSpPr>
              <p:cNvPr id="2770" name=""/>
              <p:cNvSpPr/>
              <p:nvPr/>
            </p:nvSpPr>
            <p:spPr>
              <a:xfrm rot="2700000">
                <a:off x="3848760" y="1413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 flipV="1">
                <a:off x="3939120" y="1501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3937320" y="1502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 flipH="1" flipV="1">
                <a:off x="4101480" y="1436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3872880" y="1665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4320720" y="1308600"/>
              <a:ext cx="713520" cy="713520"/>
              <a:chOff x="4320720" y="1308600"/>
              <a:chExt cx="713520" cy="713520"/>
            </a:xfrm>
          </p:grpSpPr>
          <p:sp>
            <p:nvSpPr>
              <p:cNvPr id="2776" name=""/>
              <p:cNvSpPr/>
              <p:nvPr/>
            </p:nvSpPr>
            <p:spPr>
              <a:xfrm rot="2700000">
                <a:off x="4425120" y="1413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V="1">
                <a:off x="4515480" y="1501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 flipH="1" flipV="1">
                <a:off x="4513680" y="1502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 flipV="1">
                <a:off x="4677840" y="1436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H="1">
                <a:off x="4449240" y="1665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1" name=""/>
            <p:cNvGrpSpPr/>
            <p:nvPr/>
          </p:nvGrpSpPr>
          <p:grpSpPr>
            <a:xfrm>
              <a:off x="4897080" y="1308600"/>
              <a:ext cx="713520" cy="713520"/>
              <a:chOff x="4897080" y="1308600"/>
              <a:chExt cx="713520" cy="713520"/>
            </a:xfrm>
          </p:grpSpPr>
          <p:sp>
            <p:nvSpPr>
              <p:cNvPr id="2782" name=""/>
              <p:cNvSpPr/>
              <p:nvPr/>
            </p:nvSpPr>
            <p:spPr>
              <a:xfrm rot="2700000">
                <a:off x="5001480" y="1413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 flipV="1">
                <a:off x="5091840" y="1501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 flipV="1">
                <a:off x="5090040" y="1502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H="1" flipV="1">
                <a:off x="5254200" y="1436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 flipH="1">
                <a:off x="5025600" y="1665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787" name=""/>
          <p:cNvGrpSpPr/>
          <p:nvPr/>
        </p:nvGrpSpPr>
        <p:grpSpPr>
          <a:xfrm>
            <a:off x="2268360" y="3259080"/>
            <a:ext cx="6072480" cy="459720"/>
            <a:chOff x="2268360" y="3259080"/>
            <a:chExt cx="6072480" cy="459720"/>
          </a:xfrm>
        </p:grpSpPr>
        <p:sp>
          <p:nvSpPr>
            <p:cNvPr id="2788" name=""/>
            <p:cNvSpPr/>
            <p:nvPr/>
          </p:nvSpPr>
          <p:spPr>
            <a:xfrm flipV="1">
              <a:off x="2268360" y="3335040"/>
              <a:ext cx="6072480" cy="2052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842560" y="3259080"/>
              <a:ext cx="547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90" name=""/>
          <p:cNvSpPr/>
          <p:nvPr/>
        </p:nvSpPr>
        <p:spPr>
          <a:xfrm>
            <a:off x="2122560" y="2971800"/>
            <a:ext cx="4537080" cy="576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00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 rot="10800000">
            <a:off x="2122560" y="2013840"/>
            <a:ext cx="4541760" cy="360360"/>
          </a:xfrm>
          <a:custGeom>
            <a:avLst/>
            <a:gdLst>
              <a:gd name="textAreaLeft" fmla="*/ 809640 w 4541760"/>
              <a:gd name="textAreaRight" fmla="*/ 3732120 w 4541760"/>
              <a:gd name="textAreaTop" fmla="*/ 64080 h 360360"/>
              <a:gd name="textAreaBottom" fmla="*/ 296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18" y="21600"/>
                </a:lnTo>
                <a:lnTo>
                  <a:pt x="3782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n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2" name=""/>
          <p:cNvGrpSpPr/>
          <p:nvPr/>
        </p:nvGrpSpPr>
        <p:grpSpPr>
          <a:xfrm>
            <a:off x="2018160" y="2413440"/>
            <a:ext cx="4745880" cy="713880"/>
            <a:chOff x="2018160" y="2413440"/>
            <a:chExt cx="4745880" cy="713880"/>
          </a:xfrm>
        </p:grpSpPr>
        <p:grpSp>
          <p:nvGrpSpPr>
            <p:cNvPr id="2793" name=""/>
            <p:cNvGrpSpPr/>
            <p:nvPr/>
          </p:nvGrpSpPr>
          <p:grpSpPr>
            <a:xfrm>
              <a:off x="2018160" y="2413440"/>
              <a:ext cx="2441520" cy="713880"/>
              <a:chOff x="2018160" y="2413440"/>
              <a:chExt cx="2441520" cy="713880"/>
            </a:xfrm>
          </p:grpSpPr>
          <p:sp>
            <p:nvSpPr>
              <p:cNvPr id="2794" name=""/>
              <p:cNvSpPr/>
              <p:nvPr/>
            </p:nvSpPr>
            <p:spPr>
              <a:xfrm>
                <a:off x="2195280" y="2733840"/>
                <a:ext cx="576000" cy="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95" name=""/>
              <p:cNvGrpSpPr/>
              <p:nvPr/>
            </p:nvGrpSpPr>
            <p:grpSpPr>
              <a:xfrm>
                <a:off x="2018160" y="2413440"/>
                <a:ext cx="713520" cy="713880"/>
                <a:chOff x="2018160" y="2413440"/>
                <a:chExt cx="713520" cy="713880"/>
              </a:xfrm>
            </p:grpSpPr>
            <p:sp>
              <p:nvSpPr>
                <p:cNvPr id="2796" name=""/>
                <p:cNvSpPr/>
                <p:nvPr/>
              </p:nvSpPr>
              <p:spPr>
                <a:xfrm rot="2700000">
                  <a:off x="212256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V="1">
                  <a:off x="221256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H="1" flipV="1">
                  <a:off x="221112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H="1" flipV="1">
                  <a:off x="237456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flipH="1">
                  <a:off x="214596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1" name=""/>
              <p:cNvGrpSpPr/>
              <p:nvPr/>
            </p:nvGrpSpPr>
            <p:grpSpPr>
              <a:xfrm>
                <a:off x="2593440" y="2413440"/>
                <a:ext cx="713520" cy="713520"/>
                <a:chOff x="2593440" y="2413440"/>
                <a:chExt cx="713520" cy="713520"/>
              </a:xfrm>
            </p:grpSpPr>
            <p:sp>
              <p:nvSpPr>
                <p:cNvPr id="2802" name=""/>
                <p:cNvSpPr/>
                <p:nvPr/>
              </p:nvSpPr>
              <p:spPr>
                <a:xfrm rot="2700000">
                  <a:off x="2697840" y="2517840"/>
                  <a:ext cx="504720" cy="5043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V="1">
                  <a:off x="2788200" y="2606040"/>
                  <a:ext cx="32256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H="1" flipV="1">
                  <a:off x="2786400" y="2607120"/>
                  <a:ext cx="325440" cy="324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 flipV="1">
                  <a:off x="2950560" y="2541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H="1">
                  <a:off x="2721960" y="2770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7" name=""/>
              <p:cNvGrpSpPr/>
              <p:nvPr/>
            </p:nvGrpSpPr>
            <p:grpSpPr>
              <a:xfrm>
                <a:off x="3169800" y="2413440"/>
                <a:ext cx="713520" cy="713520"/>
                <a:chOff x="3169800" y="2413440"/>
                <a:chExt cx="713520" cy="713520"/>
              </a:xfrm>
            </p:grpSpPr>
            <p:sp>
              <p:nvSpPr>
                <p:cNvPr id="2808" name=""/>
                <p:cNvSpPr/>
                <p:nvPr/>
              </p:nvSpPr>
              <p:spPr>
                <a:xfrm rot="2700000">
                  <a:off x="3274200" y="2517840"/>
                  <a:ext cx="504720" cy="5043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V="1">
                  <a:off x="3364560" y="2606040"/>
                  <a:ext cx="32256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 flipV="1">
                  <a:off x="3362760" y="2607120"/>
                  <a:ext cx="325440" cy="324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 flipV="1">
                  <a:off x="3526920" y="2541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>
                  <a:off x="3298320" y="2770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3" name=""/>
              <p:cNvGrpSpPr/>
              <p:nvPr/>
            </p:nvGrpSpPr>
            <p:grpSpPr>
              <a:xfrm>
                <a:off x="3746160" y="2413440"/>
                <a:ext cx="713520" cy="713520"/>
                <a:chOff x="3746160" y="2413440"/>
                <a:chExt cx="713520" cy="713520"/>
              </a:xfrm>
            </p:grpSpPr>
            <p:sp>
              <p:nvSpPr>
                <p:cNvPr id="2814" name=""/>
                <p:cNvSpPr/>
                <p:nvPr/>
              </p:nvSpPr>
              <p:spPr>
                <a:xfrm rot="2700000">
                  <a:off x="3850560" y="2517840"/>
                  <a:ext cx="504720" cy="5043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V="1">
                  <a:off x="3940920" y="2606040"/>
                  <a:ext cx="32256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H="1" flipV="1">
                  <a:off x="3939120" y="2607120"/>
                  <a:ext cx="325440" cy="324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flipH="1" flipV="1">
                  <a:off x="4103280" y="2541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H="1">
                  <a:off x="3874680" y="2770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19" name=""/>
            <p:cNvGrpSpPr/>
            <p:nvPr/>
          </p:nvGrpSpPr>
          <p:grpSpPr>
            <a:xfrm>
              <a:off x="4321440" y="2413440"/>
              <a:ext cx="2442600" cy="713880"/>
              <a:chOff x="4321440" y="2413440"/>
              <a:chExt cx="2442600" cy="713880"/>
            </a:xfrm>
          </p:grpSpPr>
          <p:sp>
            <p:nvSpPr>
              <p:cNvPr id="2820" name=""/>
              <p:cNvSpPr/>
              <p:nvPr/>
            </p:nvSpPr>
            <p:spPr>
              <a:xfrm>
                <a:off x="4498920" y="2733840"/>
                <a:ext cx="576360" cy="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21" name=""/>
              <p:cNvGrpSpPr/>
              <p:nvPr/>
            </p:nvGrpSpPr>
            <p:grpSpPr>
              <a:xfrm>
                <a:off x="4321440" y="2413440"/>
                <a:ext cx="713520" cy="713880"/>
                <a:chOff x="4321440" y="2413440"/>
                <a:chExt cx="713520" cy="713880"/>
              </a:xfrm>
            </p:grpSpPr>
            <p:sp>
              <p:nvSpPr>
                <p:cNvPr id="2822" name=""/>
                <p:cNvSpPr/>
                <p:nvPr/>
              </p:nvSpPr>
              <p:spPr>
                <a:xfrm rot="2700000">
                  <a:off x="442584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V="1">
                  <a:off x="451584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H="1" flipV="1">
                  <a:off x="451440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 flipV="1">
                  <a:off x="467784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>
                  <a:off x="444924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7" name=""/>
              <p:cNvGrpSpPr/>
              <p:nvPr/>
            </p:nvGrpSpPr>
            <p:grpSpPr>
              <a:xfrm>
                <a:off x="4897800" y="2413440"/>
                <a:ext cx="713520" cy="713880"/>
                <a:chOff x="4897800" y="2413440"/>
                <a:chExt cx="713520" cy="713880"/>
              </a:xfrm>
            </p:grpSpPr>
            <p:sp>
              <p:nvSpPr>
                <p:cNvPr id="2828" name=""/>
                <p:cNvSpPr/>
                <p:nvPr/>
              </p:nvSpPr>
              <p:spPr>
                <a:xfrm rot="2700000">
                  <a:off x="500220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V="1">
                  <a:off x="509220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 flipV="1">
                  <a:off x="509076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 flipV="1">
                  <a:off x="525420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502560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3" name=""/>
              <p:cNvGrpSpPr/>
              <p:nvPr/>
            </p:nvGrpSpPr>
            <p:grpSpPr>
              <a:xfrm>
                <a:off x="5474160" y="2413440"/>
                <a:ext cx="713520" cy="713880"/>
                <a:chOff x="5474160" y="2413440"/>
                <a:chExt cx="713520" cy="713880"/>
              </a:xfrm>
            </p:grpSpPr>
            <p:sp>
              <p:nvSpPr>
                <p:cNvPr id="2834" name=""/>
                <p:cNvSpPr/>
                <p:nvPr/>
              </p:nvSpPr>
              <p:spPr>
                <a:xfrm rot="2700000">
                  <a:off x="557856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V="1">
                  <a:off x="566856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H="1" flipV="1">
                  <a:off x="566712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H="1" flipV="1">
                  <a:off x="583056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flipH="1">
                  <a:off x="560196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9" name=""/>
              <p:cNvGrpSpPr/>
              <p:nvPr/>
            </p:nvGrpSpPr>
            <p:grpSpPr>
              <a:xfrm>
                <a:off x="6050520" y="2413440"/>
                <a:ext cx="713520" cy="713880"/>
                <a:chOff x="6050520" y="2413440"/>
                <a:chExt cx="713520" cy="713880"/>
              </a:xfrm>
            </p:grpSpPr>
            <p:sp>
              <p:nvSpPr>
                <p:cNvPr id="2840" name=""/>
                <p:cNvSpPr/>
                <p:nvPr/>
              </p:nvSpPr>
              <p:spPr>
                <a:xfrm rot="2700000">
                  <a:off x="615492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V="1">
                  <a:off x="624492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H="1" flipV="1">
                  <a:off x="624348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H="1" flipV="1">
                  <a:off x="640692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H="1">
                  <a:off x="617832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45" name=""/>
          <p:cNvGrpSpPr/>
          <p:nvPr/>
        </p:nvGrpSpPr>
        <p:grpSpPr>
          <a:xfrm>
            <a:off x="1934280" y="3382560"/>
            <a:ext cx="4829760" cy="850680"/>
            <a:chOff x="1934280" y="3382560"/>
            <a:chExt cx="4829760" cy="850680"/>
          </a:xfrm>
        </p:grpSpPr>
        <p:grpSp>
          <p:nvGrpSpPr>
            <p:cNvPr id="2846" name=""/>
            <p:cNvGrpSpPr/>
            <p:nvPr/>
          </p:nvGrpSpPr>
          <p:grpSpPr>
            <a:xfrm>
              <a:off x="1934280" y="3382560"/>
              <a:ext cx="725040" cy="803520"/>
              <a:chOff x="1934280" y="3382560"/>
              <a:chExt cx="725040" cy="803520"/>
            </a:xfrm>
          </p:grpSpPr>
          <p:sp>
            <p:nvSpPr>
              <p:cNvPr id="2847" name=""/>
              <p:cNvSpPr/>
              <p:nvPr/>
            </p:nvSpPr>
            <p:spPr>
              <a:xfrm rot="1512000">
                <a:off x="2050560" y="3456000"/>
                <a:ext cx="492120" cy="6566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V="1">
                <a:off x="2170440" y="3513960"/>
                <a:ext cx="252360" cy="540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H="1" flipV="1">
                <a:off x="2094120" y="3688560"/>
                <a:ext cx="405360" cy="189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H="1" flipV="1">
                <a:off x="2202840" y="3522600"/>
                <a:ext cx="187560" cy="51516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H="1">
                <a:off x="2068920" y="3701880"/>
                <a:ext cx="457920" cy="1648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2" name=""/>
            <p:cNvGrpSpPr/>
            <p:nvPr/>
          </p:nvGrpSpPr>
          <p:grpSpPr>
            <a:xfrm>
              <a:off x="3807360" y="3520440"/>
              <a:ext cx="662040" cy="662040"/>
              <a:chOff x="3807360" y="3520440"/>
              <a:chExt cx="662040" cy="662040"/>
            </a:xfrm>
          </p:grpSpPr>
          <p:sp>
            <p:nvSpPr>
              <p:cNvPr id="2853" name=""/>
              <p:cNvSpPr/>
              <p:nvPr/>
            </p:nvSpPr>
            <p:spPr>
              <a:xfrm rot="2700000">
                <a:off x="3885840" y="363564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3999960" y="371088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H="1" flipV="1">
                <a:off x="3974760" y="368892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H="1" flipV="1">
                <a:off x="4138920" y="362232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>
                <a:off x="3943080" y="385128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8" name=""/>
            <p:cNvGrpSpPr/>
            <p:nvPr/>
          </p:nvGrpSpPr>
          <p:grpSpPr>
            <a:xfrm>
              <a:off x="3170520" y="3494520"/>
              <a:ext cx="713520" cy="713880"/>
              <a:chOff x="3170520" y="3494520"/>
              <a:chExt cx="713520" cy="713880"/>
            </a:xfrm>
          </p:grpSpPr>
          <p:sp>
            <p:nvSpPr>
              <p:cNvPr id="2859" name=""/>
              <p:cNvSpPr/>
              <p:nvPr/>
            </p:nvSpPr>
            <p:spPr>
              <a:xfrm rot="2700000">
                <a:off x="3274920" y="35989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3364920" y="36871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H="1" flipV="1">
                <a:off x="3363480" y="36882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H="1" flipV="1">
                <a:off x="3526920" y="36226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H="1">
                <a:off x="3298320" y="38512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4" name=""/>
            <p:cNvGrpSpPr/>
            <p:nvPr/>
          </p:nvGrpSpPr>
          <p:grpSpPr>
            <a:xfrm>
              <a:off x="2594520" y="3422880"/>
              <a:ext cx="713520" cy="713880"/>
              <a:chOff x="2594520" y="3422880"/>
              <a:chExt cx="713520" cy="713880"/>
            </a:xfrm>
          </p:grpSpPr>
          <p:sp>
            <p:nvSpPr>
              <p:cNvPr id="2865" name=""/>
              <p:cNvSpPr/>
              <p:nvPr/>
            </p:nvSpPr>
            <p:spPr>
              <a:xfrm rot="2700000">
                <a:off x="2698920" y="3527280"/>
                <a:ext cx="504720" cy="5047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V="1">
                <a:off x="2788920" y="3615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H="1" flipV="1">
                <a:off x="2787480" y="3616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H="1" flipV="1">
                <a:off x="2950920" y="3551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>
                <a:off x="2722320" y="3779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0" name=""/>
            <p:cNvGrpSpPr/>
            <p:nvPr/>
          </p:nvGrpSpPr>
          <p:grpSpPr>
            <a:xfrm>
              <a:off x="6050520" y="3494520"/>
              <a:ext cx="713520" cy="713880"/>
              <a:chOff x="6050520" y="3494520"/>
              <a:chExt cx="713520" cy="713880"/>
            </a:xfrm>
          </p:grpSpPr>
          <p:sp>
            <p:nvSpPr>
              <p:cNvPr id="2871" name=""/>
              <p:cNvSpPr/>
              <p:nvPr/>
            </p:nvSpPr>
            <p:spPr>
              <a:xfrm rot="2700000">
                <a:off x="6154920" y="359892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V="1">
                <a:off x="6244920" y="368712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H="1" flipV="1">
                <a:off x="6243480" y="368820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 flipV="1">
                <a:off x="6406920" y="362268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6178320" y="385128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6" name=""/>
            <p:cNvGrpSpPr/>
            <p:nvPr/>
          </p:nvGrpSpPr>
          <p:grpSpPr>
            <a:xfrm>
              <a:off x="5484600" y="3468960"/>
              <a:ext cx="763920" cy="764280"/>
              <a:chOff x="5484600" y="3468960"/>
              <a:chExt cx="763920" cy="764280"/>
            </a:xfrm>
          </p:grpSpPr>
          <p:sp>
            <p:nvSpPr>
              <p:cNvPr id="2877" name=""/>
              <p:cNvSpPr/>
              <p:nvPr/>
            </p:nvSpPr>
            <p:spPr>
              <a:xfrm rot="2700000">
                <a:off x="5542920" y="3634200"/>
                <a:ext cx="647280" cy="43344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V="1">
                <a:off x="5727240" y="3709440"/>
                <a:ext cx="277200" cy="280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 flipV="1">
                <a:off x="5656680" y="3641760"/>
                <a:ext cx="416880" cy="41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H="1" flipV="1">
                <a:off x="5866560" y="3557520"/>
                <a:ext cx="1440" cy="5882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H="1">
                <a:off x="5669640" y="3850920"/>
                <a:ext cx="394200" cy="1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2" name=""/>
            <p:cNvGrpSpPr/>
            <p:nvPr/>
          </p:nvGrpSpPr>
          <p:grpSpPr>
            <a:xfrm>
              <a:off x="4959720" y="3520440"/>
              <a:ext cx="662040" cy="662040"/>
              <a:chOff x="4959720" y="3520440"/>
              <a:chExt cx="662040" cy="662040"/>
            </a:xfrm>
          </p:grpSpPr>
          <p:sp>
            <p:nvSpPr>
              <p:cNvPr id="2883" name=""/>
              <p:cNvSpPr/>
              <p:nvPr/>
            </p:nvSpPr>
            <p:spPr>
              <a:xfrm rot="2700000">
                <a:off x="5038200" y="3635640"/>
                <a:ext cx="504720" cy="431640"/>
              </a:xfrm>
              <a:prstGeom prst="ellipse">
                <a:avLst/>
              </a:prstGeom>
              <a:solidFill>
                <a:srgbClr val="66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V="1">
                <a:off x="5152320" y="3710880"/>
                <a:ext cx="276120" cy="27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H="1" flipV="1">
                <a:off x="5127120" y="3688920"/>
                <a:ext cx="325800" cy="3229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H="1" flipV="1">
                <a:off x="5291280" y="3622320"/>
                <a:ext cx="1440" cy="4582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>
                <a:off x="5095440" y="3851280"/>
                <a:ext cx="39204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8" name=""/>
            <p:cNvGrpSpPr/>
            <p:nvPr/>
          </p:nvGrpSpPr>
          <p:grpSpPr>
            <a:xfrm>
              <a:off x="4425840" y="3598920"/>
              <a:ext cx="504720" cy="504720"/>
              <a:chOff x="4425840" y="3598920"/>
              <a:chExt cx="504720" cy="504720"/>
            </a:xfrm>
          </p:grpSpPr>
          <p:sp>
            <p:nvSpPr>
              <p:cNvPr id="2889" name=""/>
              <p:cNvSpPr/>
              <p:nvPr/>
            </p:nvSpPr>
            <p:spPr>
              <a:xfrm>
                <a:off x="4425840" y="3598920"/>
                <a:ext cx="50472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4476600" y="3850920"/>
                <a:ext cx="403200" cy="108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891" name="" descr=""/>
          <p:cNvPicPr/>
          <p:nvPr/>
        </p:nvPicPr>
        <p:blipFill>
          <a:blip r:embed="rId1"/>
          <a:stretch/>
        </p:blipFill>
        <p:spPr>
          <a:xfrm>
            <a:off x="6732720" y="3645000"/>
            <a:ext cx="2319120" cy="654120"/>
          </a:xfrm>
          <a:prstGeom prst="rect">
            <a:avLst/>
          </a:prstGeom>
          <a:ln w="0">
            <a:noFill/>
          </a:ln>
        </p:spPr>
      </p:pic>
      <p:pic>
        <p:nvPicPr>
          <p:cNvPr id="2892" name="" descr=""/>
          <p:cNvPicPr/>
          <p:nvPr/>
        </p:nvPicPr>
        <p:blipFill>
          <a:blip r:embed="rId2"/>
          <a:stretch/>
        </p:blipFill>
        <p:spPr>
          <a:xfrm>
            <a:off x="7020000" y="2637000"/>
            <a:ext cx="1692360" cy="322200"/>
          </a:xfrm>
          <a:prstGeom prst="rect">
            <a:avLst/>
          </a:prstGeom>
          <a:ln w="0">
            <a:noFill/>
          </a:ln>
        </p:spPr>
      </p:pic>
      <p:grpSp>
        <p:nvGrpSpPr>
          <p:cNvPr id="2893" name=""/>
          <p:cNvGrpSpPr/>
          <p:nvPr/>
        </p:nvGrpSpPr>
        <p:grpSpPr>
          <a:xfrm>
            <a:off x="5867280" y="5013360"/>
            <a:ext cx="3240000" cy="576360"/>
            <a:chOff x="5867280" y="5013360"/>
            <a:chExt cx="3240000" cy="576360"/>
          </a:xfrm>
        </p:grpSpPr>
        <p:sp>
          <p:nvSpPr>
            <p:cNvPr id="2894" name=""/>
            <p:cNvSpPr/>
            <p:nvPr/>
          </p:nvSpPr>
          <p:spPr>
            <a:xfrm>
              <a:off x="5867280" y="5013360"/>
              <a:ext cx="3240000" cy="576360"/>
            </a:xfrm>
            <a:prstGeom prst="wedgeRoundRectCallout">
              <a:avLst>
                <a:gd name="adj1" fmla="val -21041"/>
                <a:gd name="adj2" fmla="val 96282"/>
                <a:gd name="adj3" fmla="val 16667"/>
              </a:avLst>
            </a:pr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95" name=""/>
            <p:cNvGrpSpPr/>
            <p:nvPr/>
          </p:nvGrpSpPr>
          <p:grpSpPr>
            <a:xfrm>
              <a:off x="5975280" y="5157720"/>
              <a:ext cx="2965320" cy="314280"/>
              <a:chOff x="5975280" y="5157720"/>
              <a:chExt cx="2965320" cy="314280"/>
            </a:xfrm>
          </p:grpSpPr>
          <p:sp>
            <p:nvSpPr>
              <p:cNvPr id="2896" name=""/>
              <p:cNvSpPr/>
              <p:nvPr/>
            </p:nvSpPr>
            <p:spPr>
              <a:xfrm>
                <a:off x="5975280" y="5279760"/>
                <a:ext cx="2444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3080" bIns="-824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6306840" y="5176800"/>
                <a:ext cx="871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744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l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395760" y="5259240"/>
                <a:ext cx="156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o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553080" y="5259240"/>
                <a:ext cx="156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g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671472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(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6837120" y="5259240"/>
                <a:ext cx="12348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r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6959160" y="5259240"/>
                <a:ext cx="156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a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16480" y="5259240"/>
                <a:ext cx="17424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291080" y="5176800"/>
                <a:ext cx="1663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744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k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45776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(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580160" y="5254560"/>
                <a:ext cx="1915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968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b10"/>
                  </a:rPr>
                  <a:t>½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77204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)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89588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)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8105400" y="5226120"/>
                <a:ext cx="24408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8120" bIns="111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&lt;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8437320" y="5259240"/>
                <a:ext cx="18864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8626320" y="5159160"/>
                <a:ext cx="156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8783280" y="5192640"/>
                <a:ext cx="1569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16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2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975280" y="5157720"/>
                <a:ext cx="2965320" cy="314280"/>
              </a:xfrm>
              <a:prstGeom prst="rect">
                <a:avLst/>
              </a:prstGeom>
              <a:noFill/>
              <a:ln w="9360">
                <a:solidFill>
                  <a:srgbClr val="fffff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14" name=""/>
          <p:cNvGrpSpPr/>
          <p:nvPr/>
        </p:nvGrpSpPr>
        <p:grpSpPr>
          <a:xfrm>
            <a:off x="3059280" y="4292640"/>
            <a:ext cx="2879640" cy="1150920"/>
            <a:chOff x="3059280" y="4292640"/>
            <a:chExt cx="2879640" cy="1150920"/>
          </a:xfrm>
        </p:grpSpPr>
        <p:sp>
          <p:nvSpPr>
            <p:cNvPr id="2915" name=""/>
            <p:cNvSpPr/>
            <p:nvPr/>
          </p:nvSpPr>
          <p:spPr>
            <a:xfrm>
              <a:off x="3059280" y="4292640"/>
              <a:ext cx="2734920" cy="1150920"/>
            </a:xfrm>
            <a:prstGeom prst="wedgeRoundRectCallout">
              <a:avLst>
                <a:gd name="adj1" fmla="val 31425"/>
                <a:gd name="adj2" fmla="val 84620"/>
                <a:gd name="adj3" fmla="val 16667"/>
              </a:avLst>
            </a:pr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130560" y="4437000"/>
              <a:ext cx="2808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Uncertainty relation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17" name=""/>
            <p:cNvGrpSpPr/>
            <p:nvPr/>
          </p:nvGrpSpPr>
          <p:grpSpPr>
            <a:xfrm>
              <a:off x="3419640" y="4941720"/>
              <a:ext cx="2006280" cy="312840"/>
              <a:chOff x="3419640" y="4941720"/>
              <a:chExt cx="2006280" cy="312840"/>
            </a:xfrm>
          </p:grpSpPr>
          <p:sp>
            <p:nvSpPr>
              <p:cNvPr id="2918" name=""/>
              <p:cNvSpPr/>
              <p:nvPr/>
            </p:nvSpPr>
            <p:spPr>
              <a:xfrm>
                <a:off x="3419640" y="4978080"/>
                <a:ext cx="242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98360" bIns="4140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sy10"/>
                  </a:rPr>
                  <a:t>¸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3749400" y="5043240"/>
                <a:ext cx="18720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32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3936960" y="4941720"/>
                <a:ext cx="156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093920" y="4974840"/>
                <a:ext cx="15696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16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2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251240" y="5144760"/>
                <a:ext cx="8676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168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,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441680" y="5043240"/>
                <a:ext cx="15660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320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g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598640" y="4968720"/>
                <a:ext cx="8712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80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i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686120" y="5043240"/>
                <a:ext cx="16488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32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v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4841640" y="5043240"/>
                <a:ext cx="13932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32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e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981320" y="5043240"/>
                <a:ext cx="174240" cy="13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32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259240" y="4964040"/>
                <a:ext cx="16452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276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sy10"/>
                  </a:rPr>
                  <a:t>E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3419640" y="4941720"/>
                <a:ext cx="2006280" cy="312840"/>
              </a:xfrm>
              <a:prstGeom prst="rect">
                <a:avLst/>
              </a:prstGeom>
              <a:noFill/>
              <a:ln w="9360">
                <a:solidFill>
                  <a:srgbClr val="fffff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0" name=""/>
          <p:cNvSpPr/>
          <p:nvPr/>
        </p:nvSpPr>
        <p:spPr>
          <a:xfrm flipH="1">
            <a:off x="8243640" y="4365720"/>
            <a:ext cx="144360" cy="71892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086FA-DC84-4F67-B2C0-EC126EFD82AF}" type="slidenum">
              <a:t>39</a:t>
            </a:fld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10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11" dur="15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19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5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lassical 2-party primitives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Bit Commitmen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500280"/>
            <a:ext cx="828036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rec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C allows Alice to commit to a bit b. Later, she can open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Bo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d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Alice is honest, (cheating) Bob does not get information on b from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nd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f Bob is honest, (cheating) Alice cannot open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 bit b’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773360"/>
            <a:ext cx="1871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72360" y="2205000"/>
            <a:ext cx="663840" cy="100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2276640"/>
            <a:ext cx="762120" cy="863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308720" y="1700280"/>
            <a:ext cx="16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2160" y="2081160"/>
            <a:ext cx="106668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177624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1840" y="2081160"/>
            <a:ext cx="106668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4840" y="177624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32160" y="2919240"/>
            <a:ext cx="327636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2614680"/>
            <a:ext cx="38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08520" y="261468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 in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75160" y="1700280"/>
            <a:ext cx="99036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A156-6DB2-4275-B8DD-405B85245E2E}" type="slidenum">
              <a:t>4</a:t>
            </a:fld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"/>
          <p:cNvSpPr/>
          <p:nvPr/>
        </p:nvSpPr>
        <p:spPr>
          <a:xfrm>
            <a:off x="108000" y="5229360"/>
            <a:ext cx="8064360" cy="1439640"/>
          </a:xfrm>
          <a:prstGeom prst="roundRect">
            <a:avLst>
              <a:gd name="adj" fmla="val 14384"/>
            </a:avLst>
          </a:prstGeom>
          <a:solidFill>
            <a:srgbClr val="0000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Open Problem: Noisy Memory Model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324000" y="5373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cy Amplif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6" name=""/>
          <p:cNvGrpSpPr/>
          <p:nvPr/>
        </p:nvGrpSpPr>
        <p:grpSpPr>
          <a:xfrm>
            <a:off x="939960" y="5950080"/>
            <a:ext cx="6727680" cy="460080"/>
            <a:chOff x="939960" y="5950080"/>
            <a:chExt cx="6727680" cy="460080"/>
          </a:xfrm>
        </p:grpSpPr>
        <p:sp>
          <p:nvSpPr>
            <p:cNvPr id="2937" name=""/>
            <p:cNvSpPr/>
            <p:nvPr/>
          </p:nvSpPr>
          <p:spPr>
            <a:xfrm>
              <a:off x="939960" y="6064200"/>
              <a:ext cx="1904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3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d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1130400" y="6043680"/>
              <a:ext cx="142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1273320" y="6064200"/>
              <a:ext cx="211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3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h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1484640" y="6043680"/>
              <a:ext cx="14256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1627200" y="6068880"/>
              <a:ext cx="3034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X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1959120" y="6043680"/>
              <a:ext cx="142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2102040" y="6043680"/>
              <a:ext cx="1015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j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203560" y="6064200"/>
              <a:ext cx="211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3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10"/>
                </a:rPr>
                <a:t>h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2497320" y="6105600"/>
              <a:ext cx="28584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­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2864160" y="6156360"/>
              <a:ext cx="2235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1640" bIns="69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mib10"/>
                </a:rPr>
                <a:t>½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087720" y="6043680"/>
              <a:ext cx="14292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320" bIns="90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332160" y="6086520"/>
              <a:ext cx="285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48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sy10"/>
                </a:rPr>
                <a:t>·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3719520" y="6083280"/>
              <a:ext cx="182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4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ffffff"/>
                  </a:solidFill>
                  <a:latin typeface="cmr10"/>
                </a:rPr>
                <a:t>2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90240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175280" y="5951520"/>
              <a:ext cx="125280" cy="1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0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175280" y="6102360"/>
              <a:ext cx="125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175280" y="6138720"/>
              <a:ext cx="125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345200" y="5975280"/>
              <a:ext cx="114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459320" y="5992920"/>
              <a:ext cx="2397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699080" y="6126120"/>
              <a:ext cx="24948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74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sy5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967280" y="5975280"/>
              <a:ext cx="114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081760" y="5975280"/>
              <a:ext cx="150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232600" y="5992920"/>
              <a:ext cx="2397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492880" y="5975280"/>
              <a:ext cx="150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64228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­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872320" y="6054480"/>
              <a:ext cx="1746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2320" bIns="48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b7"/>
                </a:rPr>
                <a:t>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045480" y="5975280"/>
              <a:ext cx="114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16140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390000" y="5992920"/>
              <a:ext cx="23940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7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629400" y="6086520"/>
              <a:ext cx="125640" cy="11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0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mr5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772320" y="5975280"/>
              <a:ext cx="114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(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888240" y="6054480"/>
              <a:ext cx="1746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2320" bIns="48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mib7"/>
                </a:rPr>
                <a:t>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062840" y="5975280"/>
              <a:ext cx="11448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177320" y="6008760"/>
              <a:ext cx="22860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9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sy7"/>
                </a:rPr>
                <a:t>¡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405920" y="6002280"/>
              <a:ext cx="1461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4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552080" y="5975280"/>
              <a:ext cx="114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63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mr7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939960" y="5950080"/>
              <a:ext cx="6727680" cy="460080"/>
            </a:xfrm>
            <a:prstGeom prst="rect">
              <a:avLst/>
            </a:prstGeom>
            <a:noFill/>
            <a:ln w="9360">
              <a:solidFill>
                <a:srgbClr val="ffffff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4" name=""/>
          <p:cNvGrpSpPr/>
          <p:nvPr/>
        </p:nvGrpSpPr>
        <p:grpSpPr>
          <a:xfrm>
            <a:off x="3169080" y="1308600"/>
            <a:ext cx="2441520" cy="713880"/>
            <a:chOff x="3169080" y="1308600"/>
            <a:chExt cx="2441520" cy="713880"/>
          </a:xfrm>
        </p:grpSpPr>
        <p:sp>
          <p:nvSpPr>
            <p:cNvPr id="2975" name=""/>
            <p:cNvSpPr/>
            <p:nvPr/>
          </p:nvSpPr>
          <p:spPr>
            <a:xfrm>
              <a:off x="3346200" y="162900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76" name=""/>
            <p:cNvGrpSpPr/>
            <p:nvPr/>
          </p:nvGrpSpPr>
          <p:grpSpPr>
            <a:xfrm>
              <a:off x="3169080" y="1308600"/>
              <a:ext cx="713520" cy="713880"/>
              <a:chOff x="3169080" y="1308600"/>
              <a:chExt cx="713520" cy="713880"/>
            </a:xfrm>
          </p:grpSpPr>
          <p:sp>
            <p:nvSpPr>
              <p:cNvPr id="2977" name=""/>
              <p:cNvSpPr/>
              <p:nvPr/>
            </p:nvSpPr>
            <p:spPr>
              <a:xfrm rot="2700000">
                <a:off x="3273480" y="141300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363480" y="150120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H="1" flipV="1">
                <a:off x="3362040" y="150228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H="1" flipV="1">
                <a:off x="3525480" y="143676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H="1">
                <a:off x="3296880" y="166536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2" name=""/>
            <p:cNvGrpSpPr/>
            <p:nvPr/>
          </p:nvGrpSpPr>
          <p:grpSpPr>
            <a:xfrm>
              <a:off x="3744360" y="1308600"/>
              <a:ext cx="713520" cy="713520"/>
              <a:chOff x="3744360" y="1308600"/>
              <a:chExt cx="713520" cy="713520"/>
            </a:xfrm>
          </p:grpSpPr>
          <p:sp>
            <p:nvSpPr>
              <p:cNvPr id="2983" name=""/>
              <p:cNvSpPr/>
              <p:nvPr/>
            </p:nvSpPr>
            <p:spPr>
              <a:xfrm rot="2700000">
                <a:off x="3848760" y="1413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3939120" y="1501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H="1" flipV="1">
                <a:off x="3937320" y="1502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H="1" flipV="1">
                <a:off x="4101480" y="1436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>
                <a:off x="3872880" y="1665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88" name=""/>
            <p:cNvGrpSpPr/>
            <p:nvPr/>
          </p:nvGrpSpPr>
          <p:grpSpPr>
            <a:xfrm>
              <a:off x="4320720" y="1308600"/>
              <a:ext cx="713520" cy="713520"/>
              <a:chOff x="4320720" y="1308600"/>
              <a:chExt cx="713520" cy="713520"/>
            </a:xfrm>
          </p:grpSpPr>
          <p:sp>
            <p:nvSpPr>
              <p:cNvPr id="2989" name=""/>
              <p:cNvSpPr/>
              <p:nvPr/>
            </p:nvSpPr>
            <p:spPr>
              <a:xfrm rot="2700000">
                <a:off x="4425120" y="1413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515480" y="1501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H="1" flipV="1">
                <a:off x="4513680" y="1502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 flipV="1">
                <a:off x="4677840" y="1436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H="1">
                <a:off x="4449240" y="1665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94" name=""/>
            <p:cNvGrpSpPr/>
            <p:nvPr/>
          </p:nvGrpSpPr>
          <p:grpSpPr>
            <a:xfrm>
              <a:off x="4897080" y="1308600"/>
              <a:ext cx="713520" cy="713520"/>
              <a:chOff x="4897080" y="1308600"/>
              <a:chExt cx="713520" cy="713520"/>
            </a:xfrm>
          </p:grpSpPr>
          <p:sp>
            <p:nvSpPr>
              <p:cNvPr id="2995" name=""/>
              <p:cNvSpPr/>
              <p:nvPr/>
            </p:nvSpPr>
            <p:spPr>
              <a:xfrm rot="2700000">
                <a:off x="5001480" y="1413000"/>
                <a:ext cx="504720" cy="50436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5091840" y="1501200"/>
                <a:ext cx="322560" cy="325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H="1" flipV="1">
                <a:off x="5090040" y="1502280"/>
                <a:ext cx="325440" cy="3240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H="1" flipV="1">
                <a:off x="5254200" y="143676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H="1">
                <a:off x="5025600" y="166536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00" name=""/>
          <p:cNvSpPr/>
          <p:nvPr/>
        </p:nvSpPr>
        <p:spPr>
          <a:xfrm>
            <a:off x="2122560" y="2971800"/>
            <a:ext cx="4537080" cy="5763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ff00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ffffff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 rot="10800000">
            <a:off x="2124000" y="1988280"/>
            <a:ext cx="4541760" cy="360360"/>
          </a:xfrm>
          <a:custGeom>
            <a:avLst/>
            <a:gdLst>
              <a:gd name="textAreaLeft" fmla="*/ 809640 w 4541760"/>
              <a:gd name="textAreaRight" fmla="*/ 3732120 w 4541760"/>
              <a:gd name="textAreaTop" fmla="*/ 64080 h 360360"/>
              <a:gd name="textAreaBottom" fmla="*/ 2962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18" y="21600"/>
                </a:lnTo>
                <a:lnTo>
                  <a:pt x="3782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n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2" name="" descr=""/>
          <p:cNvPicPr/>
          <p:nvPr/>
        </p:nvPicPr>
        <p:blipFill>
          <a:blip r:embed="rId1"/>
          <a:stretch/>
        </p:blipFill>
        <p:spPr>
          <a:xfrm>
            <a:off x="7020000" y="2637000"/>
            <a:ext cx="1692360" cy="322200"/>
          </a:xfrm>
          <a:prstGeom prst="rect">
            <a:avLst/>
          </a:prstGeom>
          <a:ln w="0">
            <a:noFill/>
          </a:ln>
        </p:spPr>
      </p:pic>
      <p:grpSp>
        <p:nvGrpSpPr>
          <p:cNvPr id="3003" name=""/>
          <p:cNvGrpSpPr/>
          <p:nvPr/>
        </p:nvGrpSpPr>
        <p:grpSpPr>
          <a:xfrm>
            <a:off x="2018160" y="2413440"/>
            <a:ext cx="4745880" cy="713880"/>
            <a:chOff x="2018160" y="2413440"/>
            <a:chExt cx="4745880" cy="713880"/>
          </a:xfrm>
        </p:grpSpPr>
        <p:grpSp>
          <p:nvGrpSpPr>
            <p:cNvPr id="3004" name=""/>
            <p:cNvGrpSpPr/>
            <p:nvPr/>
          </p:nvGrpSpPr>
          <p:grpSpPr>
            <a:xfrm>
              <a:off x="2018160" y="2413440"/>
              <a:ext cx="2441520" cy="713880"/>
              <a:chOff x="2018160" y="2413440"/>
              <a:chExt cx="2441520" cy="713880"/>
            </a:xfrm>
          </p:grpSpPr>
          <p:sp>
            <p:nvSpPr>
              <p:cNvPr id="3005" name=""/>
              <p:cNvSpPr/>
              <p:nvPr/>
            </p:nvSpPr>
            <p:spPr>
              <a:xfrm>
                <a:off x="2195280" y="2733840"/>
                <a:ext cx="576000" cy="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6" name=""/>
              <p:cNvGrpSpPr/>
              <p:nvPr/>
            </p:nvGrpSpPr>
            <p:grpSpPr>
              <a:xfrm>
                <a:off x="2018160" y="2413440"/>
                <a:ext cx="713520" cy="713880"/>
                <a:chOff x="2018160" y="2413440"/>
                <a:chExt cx="713520" cy="713880"/>
              </a:xfrm>
            </p:grpSpPr>
            <p:sp>
              <p:nvSpPr>
                <p:cNvPr id="3007" name=""/>
                <p:cNvSpPr/>
                <p:nvPr/>
              </p:nvSpPr>
              <p:spPr>
                <a:xfrm rot="2700000">
                  <a:off x="212256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V="1">
                  <a:off x="221256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 flipH="1" flipV="1">
                  <a:off x="221112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H="1" flipV="1">
                  <a:off x="237456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H="1">
                  <a:off x="214596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2" name=""/>
              <p:cNvGrpSpPr/>
              <p:nvPr/>
            </p:nvGrpSpPr>
            <p:grpSpPr>
              <a:xfrm>
                <a:off x="2593440" y="2413440"/>
                <a:ext cx="713520" cy="713520"/>
                <a:chOff x="2593440" y="2413440"/>
                <a:chExt cx="713520" cy="713520"/>
              </a:xfrm>
            </p:grpSpPr>
            <p:sp>
              <p:nvSpPr>
                <p:cNvPr id="3013" name=""/>
                <p:cNvSpPr/>
                <p:nvPr/>
              </p:nvSpPr>
              <p:spPr>
                <a:xfrm rot="2700000">
                  <a:off x="2697840" y="2517840"/>
                  <a:ext cx="504720" cy="5043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V="1">
                  <a:off x="2788200" y="2606040"/>
                  <a:ext cx="32256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 flipH="1" flipV="1">
                  <a:off x="2786400" y="2607120"/>
                  <a:ext cx="325440" cy="324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 flipH="1" flipV="1">
                  <a:off x="2950560" y="2541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H="1">
                  <a:off x="2721960" y="2770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8" name=""/>
              <p:cNvGrpSpPr/>
              <p:nvPr/>
            </p:nvGrpSpPr>
            <p:grpSpPr>
              <a:xfrm>
                <a:off x="3169800" y="2413440"/>
                <a:ext cx="713520" cy="713520"/>
                <a:chOff x="3169800" y="2413440"/>
                <a:chExt cx="713520" cy="713520"/>
              </a:xfrm>
            </p:grpSpPr>
            <p:sp>
              <p:nvSpPr>
                <p:cNvPr id="3019" name=""/>
                <p:cNvSpPr/>
                <p:nvPr/>
              </p:nvSpPr>
              <p:spPr>
                <a:xfrm rot="2700000">
                  <a:off x="3274200" y="2517840"/>
                  <a:ext cx="504720" cy="5043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 flipV="1">
                  <a:off x="3364560" y="2606040"/>
                  <a:ext cx="32256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 flipH="1" flipV="1">
                  <a:off x="3362760" y="2607120"/>
                  <a:ext cx="325440" cy="324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 flipH="1" flipV="1">
                  <a:off x="3526920" y="2541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 flipH="1">
                  <a:off x="3298320" y="2770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4" name=""/>
              <p:cNvGrpSpPr/>
              <p:nvPr/>
            </p:nvGrpSpPr>
            <p:grpSpPr>
              <a:xfrm>
                <a:off x="3746160" y="2413440"/>
                <a:ext cx="713520" cy="713520"/>
                <a:chOff x="3746160" y="2413440"/>
                <a:chExt cx="713520" cy="713520"/>
              </a:xfrm>
            </p:grpSpPr>
            <p:sp>
              <p:nvSpPr>
                <p:cNvPr id="3025" name=""/>
                <p:cNvSpPr/>
                <p:nvPr/>
              </p:nvSpPr>
              <p:spPr>
                <a:xfrm rot="2700000">
                  <a:off x="3850560" y="2517840"/>
                  <a:ext cx="504720" cy="50436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flipV="1">
                  <a:off x="3940920" y="2606040"/>
                  <a:ext cx="322560" cy="325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flipH="1" flipV="1">
                  <a:off x="3939120" y="2607120"/>
                  <a:ext cx="325440" cy="3240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 flipH="1" flipV="1">
                  <a:off x="4103280" y="2541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 flipH="1">
                  <a:off x="3874680" y="2770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0" name=""/>
            <p:cNvGrpSpPr/>
            <p:nvPr/>
          </p:nvGrpSpPr>
          <p:grpSpPr>
            <a:xfrm>
              <a:off x="4321440" y="2413440"/>
              <a:ext cx="2442600" cy="713880"/>
              <a:chOff x="4321440" y="2413440"/>
              <a:chExt cx="2442600" cy="713880"/>
            </a:xfrm>
          </p:grpSpPr>
          <p:sp>
            <p:nvSpPr>
              <p:cNvPr id="3031" name=""/>
              <p:cNvSpPr/>
              <p:nvPr/>
            </p:nvSpPr>
            <p:spPr>
              <a:xfrm>
                <a:off x="4498920" y="2733840"/>
                <a:ext cx="576360" cy="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32" name=""/>
              <p:cNvGrpSpPr/>
              <p:nvPr/>
            </p:nvGrpSpPr>
            <p:grpSpPr>
              <a:xfrm>
                <a:off x="4321440" y="2413440"/>
                <a:ext cx="713520" cy="713880"/>
                <a:chOff x="4321440" y="2413440"/>
                <a:chExt cx="713520" cy="713880"/>
              </a:xfrm>
            </p:grpSpPr>
            <p:sp>
              <p:nvSpPr>
                <p:cNvPr id="3033" name=""/>
                <p:cNvSpPr/>
                <p:nvPr/>
              </p:nvSpPr>
              <p:spPr>
                <a:xfrm rot="2700000">
                  <a:off x="442584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 flipV="1">
                  <a:off x="451584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 flipH="1" flipV="1">
                  <a:off x="451440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 flipH="1" flipV="1">
                  <a:off x="467784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 flipH="1">
                  <a:off x="444924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8" name=""/>
              <p:cNvGrpSpPr/>
              <p:nvPr/>
            </p:nvGrpSpPr>
            <p:grpSpPr>
              <a:xfrm>
                <a:off x="4897800" y="2413440"/>
                <a:ext cx="713520" cy="713880"/>
                <a:chOff x="4897800" y="2413440"/>
                <a:chExt cx="713520" cy="713880"/>
              </a:xfrm>
            </p:grpSpPr>
            <p:sp>
              <p:nvSpPr>
                <p:cNvPr id="3039" name=""/>
                <p:cNvSpPr/>
                <p:nvPr/>
              </p:nvSpPr>
              <p:spPr>
                <a:xfrm rot="2700000">
                  <a:off x="500220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 flipV="1">
                  <a:off x="509220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flipH="1" flipV="1">
                  <a:off x="509076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flipH="1" flipV="1">
                  <a:off x="525420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H="1">
                  <a:off x="502560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4" name=""/>
              <p:cNvGrpSpPr/>
              <p:nvPr/>
            </p:nvGrpSpPr>
            <p:grpSpPr>
              <a:xfrm>
                <a:off x="5474160" y="2413440"/>
                <a:ext cx="713520" cy="713880"/>
                <a:chOff x="5474160" y="2413440"/>
                <a:chExt cx="713520" cy="713880"/>
              </a:xfrm>
            </p:grpSpPr>
            <p:sp>
              <p:nvSpPr>
                <p:cNvPr id="3045" name=""/>
                <p:cNvSpPr/>
                <p:nvPr/>
              </p:nvSpPr>
              <p:spPr>
                <a:xfrm rot="2700000">
                  <a:off x="557856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 flipV="1">
                  <a:off x="566856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 flipH="1" flipV="1">
                  <a:off x="566712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H="1" flipV="1">
                  <a:off x="583056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H="1">
                  <a:off x="560196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0" name=""/>
              <p:cNvGrpSpPr/>
              <p:nvPr/>
            </p:nvGrpSpPr>
            <p:grpSpPr>
              <a:xfrm>
                <a:off x="6050520" y="2413440"/>
                <a:ext cx="713520" cy="713880"/>
                <a:chOff x="6050520" y="2413440"/>
                <a:chExt cx="713520" cy="713880"/>
              </a:xfrm>
            </p:grpSpPr>
            <p:sp>
              <p:nvSpPr>
                <p:cNvPr id="3051" name=""/>
                <p:cNvSpPr/>
                <p:nvPr/>
              </p:nvSpPr>
              <p:spPr>
                <a:xfrm rot="2700000">
                  <a:off x="6154920" y="251784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V="1">
                  <a:off x="6244920" y="260604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 flipV="1">
                  <a:off x="6243480" y="260712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flipH="1" flipV="1">
                  <a:off x="6406920" y="2541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flipH="1">
                  <a:off x="6178320" y="2770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56" name=""/>
          <p:cNvSpPr/>
          <p:nvPr/>
        </p:nvSpPr>
        <p:spPr>
          <a:xfrm>
            <a:off x="3924360" y="443700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7" name=""/>
          <p:cNvGrpSpPr/>
          <p:nvPr/>
        </p:nvGrpSpPr>
        <p:grpSpPr>
          <a:xfrm>
            <a:off x="4251600" y="3395880"/>
            <a:ext cx="2442240" cy="713880"/>
            <a:chOff x="4251600" y="3395880"/>
            <a:chExt cx="2442240" cy="713880"/>
          </a:xfrm>
        </p:grpSpPr>
        <p:grpSp>
          <p:nvGrpSpPr>
            <p:cNvPr id="3058" name=""/>
            <p:cNvGrpSpPr/>
            <p:nvPr/>
          </p:nvGrpSpPr>
          <p:grpSpPr>
            <a:xfrm>
              <a:off x="4251600" y="3395880"/>
              <a:ext cx="713520" cy="713880"/>
              <a:chOff x="4251600" y="3395880"/>
              <a:chExt cx="713520" cy="713880"/>
            </a:xfrm>
          </p:grpSpPr>
          <p:sp>
            <p:nvSpPr>
              <p:cNvPr id="3059" name=""/>
              <p:cNvSpPr/>
              <p:nvPr/>
            </p:nvSpPr>
            <p:spPr>
              <a:xfrm rot="2700000">
                <a:off x="4356000" y="3500280"/>
                <a:ext cx="504720" cy="5047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444600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H="1" flipV="1">
                <a:off x="444456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H="1" flipV="1">
                <a:off x="460800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H="1">
                <a:off x="437940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4" name=""/>
            <p:cNvGrpSpPr/>
            <p:nvPr/>
          </p:nvGrpSpPr>
          <p:grpSpPr>
            <a:xfrm>
              <a:off x="4827960" y="3395880"/>
              <a:ext cx="713520" cy="713880"/>
              <a:chOff x="4827960" y="3395880"/>
              <a:chExt cx="713520" cy="713880"/>
            </a:xfrm>
          </p:grpSpPr>
          <p:sp>
            <p:nvSpPr>
              <p:cNvPr id="3065" name=""/>
              <p:cNvSpPr/>
              <p:nvPr/>
            </p:nvSpPr>
            <p:spPr>
              <a:xfrm rot="2700000">
                <a:off x="4932360" y="3500280"/>
                <a:ext cx="504720" cy="5047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502236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H="1" flipV="1">
                <a:off x="502092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 flipH="1" flipV="1">
                <a:off x="518436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495576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0" name=""/>
            <p:cNvGrpSpPr/>
            <p:nvPr/>
          </p:nvGrpSpPr>
          <p:grpSpPr>
            <a:xfrm>
              <a:off x="5404320" y="3395880"/>
              <a:ext cx="713520" cy="713880"/>
              <a:chOff x="5404320" y="3395880"/>
              <a:chExt cx="713520" cy="713880"/>
            </a:xfrm>
          </p:grpSpPr>
          <p:sp>
            <p:nvSpPr>
              <p:cNvPr id="3071" name=""/>
              <p:cNvSpPr/>
              <p:nvPr/>
            </p:nvSpPr>
            <p:spPr>
              <a:xfrm rot="2700000">
                <a:off x="5508720" y="3500280"/>
                <a:ext cx="504720" cy="5047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559872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H="1" flipV="1">
                <a:off x="559728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 flipH="1" flipV="1">
                <a:off x="576072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553212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76" name=""/>
            <p:cNvGrpSpPr/>
            <p:nvPr/>
          </p:nvGrpSpPr>
          <p:grpSpPr>
            <a:xfrm>
              <a:off x="5980320" y="3395880"/>
              <a:ext cx="713520" cy="713880"/>
              <a:chOff x="5980320" y="3395880"/>
              <a:chExt cx="713520" cy="713880"/>
            </a:xfrm>
          </p:grpSpPr>
          <p:sp>
            <p:nvSpPr>
              <p:cNvPr id="3077" name=""/>
              <p:cNvSpPr/>
              <p:nvPr/>
            </p:nvSpPr>
            <p:spPr>
              <a:xfrm rot="2700000">
                <a:off x="6084720" y="3500280"/>
                <a:ext cx="504720" cy="504720"/>
              </a:xfrm>
              <a:prstGeom prst="ellipse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V="1">
                <a:off x="617472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H="1" flipV="1">
                <a:off x="617328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 flipV="1">
                <a:off x="633672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 flipH="1">
                <a:off x="610812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82" name=""/>
          <p:cNvSpPr/>
          <p:nvPr/>
        </p:nvSpPr>
        <p:spPr>
          <a:xfrm>
            <a:off x="1692360" y="3573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3" name=""/>
          <p:cNvGrpSpPr/>
          <p:nvPr/>
        </p:nvGrpSpPr>
        <p:grpSpPr>
          <a:xfrm>
            <a:off x="5867280" y="5013360"/>
            <a:ext cx="2952720" cy="576360"/>
            <a:chOff x="5867280" y="5013360"/>
            <a:chExt cx="2952720" cy="576360"/>
          </a:xfrm>
        </p:grpSpPr>
        <p:sp>
          <p:nvSpPr>
            <p:cNvPr id="3084" name=""/>
            <p:cNvSpPr/>
            <p:nvPr/>
          </p:nvSpPr>
          <p:spPr>
            <a:xfrm>
              <a:off x="5867280" y="5013360"/>
              <a:ext cx="2952720" cy="576360"/>
            </a:xfrm>
            <a:prstGeom prst="wedgeRoundRectCallout">
              <a:avLst>
                <a:gd name="adj1" fmla="val -18226"/>
                <a:gd name="adj2" fmla="val 96282"/>
                <a:gd name="adj3" fmla="val 16667"/>
              </a:avLst>
            </a:pr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85" name=""/>
            <p:cNvGrpSpPr/>
            <p:nvPr/>
          </p:nvGrpSpPr>
          <p:grpSpPr>
            <a:xfrm>
              <a:off x="5975280" y="5157720"/>
              <a:ext cx="2651040" cy="314280"/>
              <a:chOff x="5975280" y="5157720"/>
              <a:chExt cx="2651040" cy="314280"/>
            </a:xfrm>
          </p:grpSpPr>
          <p:sp>
            <p:nvSpPr>
              <p:cNvPr id="3086" name=""/>
              <p:cNvSpPr/>
              <p:nvPr/>
            </p:nvSpPr>
            <p:spPr>
              <a:xfrm>
                <a:off x="5975280" y="5279760"/>
                <a:ext cx="2444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3080" bIns="-824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306840" y="5176800"/>
                <a:ext cx="871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744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l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395760" y="5259240"/>
                <a:ext cx="156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o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553080" y="5259240"/>
                <a:ext cx="156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g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71472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(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837120" y="5259240"/>
                <a:ext cx="12348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r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959160" y="5259240"/>
                <a:ext cx="156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a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116480" y="5259240"/>
                <a:ext cx="17424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291080" y="5176800"/>
                <a:ext cx="1663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744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k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45776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(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580160" y="5254560"/>
                <a:ext cx="1915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968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b10"/>
                  </a:rPr>
                  <a:t>½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77204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)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789588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)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8105400" y="5279760"/>
                <a:ext cx="24408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3080" bIns="-824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8437320" y="5259240"/>
                <a:ext cx="18864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75280" y="5157720"/>
                <a:ext cx="2651040" cy="314280"/>
              </a:xfrm>
              <a:prstGeom prst="rect">
                <a:avLst/>
              </a:prstGeom>
              <a:noFill/>
              <a:ln w="9360">
                <a:solidFill>
                  <a:srgbClr val="fffff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2" name=""/>
          <p:cNvSpPr/>
          <p:nvPr/>
        </p:nvSpPr>
        <p:spPr>
          <a:xfrm>
            <a:off x="981000" y="2205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971640" y="393372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4572000" y="6669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5" name=""/>
          <p:cNvGrpSpPr/>
          <p:nvPr/>
        </p:nvGrpSpPr>
        <p:grpSpPr>
          <a:xfrm>
            <a:off x="4572000" y="4797360"/>
            <a:ext cx="936720" cy="863640"/>
            <a:chOff x="4572000" y="4797360"/>
            <a:chExt cx="936720" cy="863640"/>
          </a:xfrm>
        </p:grpSpPr>
        <p:sp>
          <p:nvSpPr>
            <p:cNvPr id="3106" name=""/>
            <p:cNvSpPr/>
            <p:nvPr/>
          </p:nvSpPr>
          <p:spPr>
            <a:xfrm>
              <a:off x="4572000" y="4797360"/>
              <a:ext cx="936720" cy="863640"/>
            </a:xfrm>
            <a:prstGeom prst="wedgeRoundRectCallout">
              <a:avLst>
                <a:gd name="adj1" fmla="val 42712"/>
                <a:gd name="adj2" fmla="val 72240"/>
                <a:gd name="adj3" fmla="val 16667"/>
              </a:avLst>
            </a:pr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788000" y="4869000"/>
              <a:ext cx="433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0000"/>
            </a:bodyPr>
            <a:p>
              <a:pPr marL="171360" indent="-17136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8" name=""/>
          <p:cNvSpPr/>
          <p:nvPr/>
        </p:nvSpPr>
        <p:spPr>
          <a:xfrm>
            <a:off x="1692360" y="414972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9" name=""/>
          <p:cNvGrpSpPr/>
          <p:nvPr/>
        </p:nvGrpSpPr>
        <p:grpSpPr>
          <a:xfrm>
            <a:off x="5867280" y="5013360"/>
            <a:ext cx="3240000" cy="576360"/>
            <a:chOff x="5867280" y="5013360"/>
            <a:chExt cx="3240000" cy="576360"/>
          </a:xfrm>
        </p:grpSpPr>
        <p:sp>
          <p:nvSpPr>
            <p:cNvPr id="3110" name=""/>
            <p:cNvSpPr/>
            <p:nvPr/>
          </p:nvSpPr>
          <p:spPr>
            <a:xfrm>
              <a:off x="5867280" y="5013360"/>
              <a:ext cx="3240000" cy="576360"/>
            </a:xfrm>
            <a:prstGeom prst="wedgeRoundRectCallout">
              <a:avLst>
                <a:gd name="adj1" fmla="val -21041"/>
                <a:gd name="adj2" fmla="val 96282"/>
                <a:gd name="adj3" fmla="val 16667"/>
              </a:avLst>
            </a:prstGeom>
            <a:solidFill>
              <a:srgbClr val="00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1" name=""/>
            <p:cNvGrpSpPr/>
            <p:nvPr/>
          </p:nvGrpSpPr>
          <p:grpSpPr>
            <a:xfrm>
              <a:off x="5975280" y="5157720"/>
              <a:ext cx="2965320" cy="314280"/>
              <a:chOff x="5975280" y="5157720"/>
              <a:chExt cx="2965320" cy="314280"/>
            </a:xfrm>
          </p:grpSpPr>
          <p:sp>
            <p:nvSpPr>
              <p:cNvPr id="3112" name=""/>
              <p:cNvSpPr/>
              <p:nvPr/>
            </p:nvSpPr>
            <p:spPr>
              <a:xfrm>
                <a:off x="5975280" y="5279760"/>
                <a:ext cx="2444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3080" bIns="-824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306840" y="5176800"/>
                <a:ext cx="871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744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l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395760" y="5259240"/>
                <a:ext cx="156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o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6553080" y="5259240"/>
                <a:ext cx="1566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g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71472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(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6837120" y="5259240"/>
                <a:ext cx="12348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r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6959160" y="5259240"/>
                <a:ext cx="1569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a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7116480" y="5259240"/>
                <a:ext cx="17424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7291080" y="5176800"/>
                <a:ext cx="1663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744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k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745776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(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7580160" y="5254560"/>
                <a:ext cx="1915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9680" bIns="6048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b10"/>
                  </a:rPr>
                  <a:t>½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777204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)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895880" y="5159160"/>
                <a:ext cx="122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)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8105400" y="5226120"/>
                <a:ext cx="244080" cy="17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8120" bIns="111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&lt;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8437320" y="5259240"/>
                <a:ext cx="18864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n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626320" y="5159160"/>
                <a:ext cx="1566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35080" bIns="777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mi10"/>
                  </a:rPr>
                  <a:t>=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8783280" y="5192640"/>
                <a:ext cx="156960" cy="20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16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cmr10"/>
                  </a:rPr>
                  <a:t>2</a:t>
                </a:r>
                <a:endParaRPr b="0" lang="en-US" sz="2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5975280" y="5157720"/>
                <a:ext cx="2965320" cy="314280"/>
              </a:xfrm>
              <a:prstGeom prst="rect">
                <a:avLst/>
              </a:prstGeom>
              <a:noFill/>
              <a:ln w="9360">
                <a:solidFill>
                  <a:srgbClr val="ffffff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130" name="" descr=""/>
          <p:cNvPicPr/>
          <p:nvPr/>
        </p:nvPicPr>
        <p:blipFill>
          <a:blip r:embed="rId2"/>
          <a:stretch/>
        </p:blipFill>
        <p:spPr>
          <a:xfrm>
            <a:off x="6748560" y="3570120"/>
            <a:ext cx="2371680" cy="1044720"/>
          </a:xfrm>
          <a:prstGeom prst="rect">
            <a:avLst/>
          </a:prstGeom>
          <a:ln w="0">
            <a:noFill/>
          </a:ln>
        </p:spPr>
      </p:pic>
      <p:grpSp>
        <p:nvGrpSpPr>
          <p:cNvPr id="3131" name=""/>
          <p:cNvGrpSpPr/>
          <p:nvPr/>
        </p:nvGrpSpPr>
        <p:grpSpPr>
          <a:xfrm>
            <a:off x="1946520" y="3395880"/>
            <a:ext cx="2442240" cy="713880"/>
            <a:chOff x="1946520" y="3395880"/>
            <a:chExt cx="2442240" cy="713880"/>
          </a:xfrm>
        </p:grpSpPr>
        <p:sp>
          <p:nvSpPr>
            <p:cNvPr id="3132" name=""/>
            <p:cNvSpPr/>
            <p:nvPr/>
          </p:nvSpPr>
          <p:spPr>
            <a:xfrm>
              <a:off x="2124000" y="3715920"/>
              <a:ext cx="57600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3" name=""/>
            <p:cNvGrpSpPr/>
            <p:nvPr/>
          </p:nvGrpSpPr>
          <p:grpSpPr>
            <a:xfrm>
              <a:off x="1946520" y="3395880"/>
              <a:ext cx="713520" cy="713880"/>
              <a:chOff x="1946520" y="3395880"/>
              <a:chExt cx="713520" cy="713880"/>
            </a:xfrm>
          </p:grpSpPr>
          <p:sp>
            <p:nvSpPr>
              <p:cNvPr id="3134" name=""/>
              <p:cNvSpPr/>
              <p:nvPr/>
            </p:nvSpPr>
            <p:spPr>
              <a:xfrm rot="2700000">
                <a:off x="2050920" y="35002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V="1">
                <a:off x="214092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H="1" flipV="1">
                <a:off x="213948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H="1" flipV="1">
                <a:off x="230292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H="1">
                <a:off x="207432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9" name=""/>
            <p:cNvGrpSpPr/>
            <p:nvPr/>
          </p:nvGrpSpPr>
          <p:grpSpPr>
            <a:xfrm>
              <a:off x="2522520" y="3395880"/>
              <a:ext cx="713520" cy="713880"/>
              <a:chOff x="2522520" y="3395880"/>
              <a:chExt cx="713520" cy="713880"/>
            </a:xfrm>
          </p:grpSpPr>
          <p:sp>
            <p:nvSpPr>
              <p:cNvPr id="3140" name=""/>
              <p:cNvSpPr/>
              <p:nvPr/>
            </p:nvSpPr>
            <p:spPr>
              <a:xfrm rot="2700000">
                <a:off x="2626920" y="35002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271692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H="1" flipV="1">
                <a:off x="271548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H="1" flipV="1">
                <a:off x="287892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H="1">
                <a:off x="265032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45" name=""/>
            <p:cNvGrpSpPr/>
            <p:nvPr/>
          </p:nvGrpSpPr>
          <p:grpSpPr>
            <a:xfrm>
              <a:off x="3098880" y="3395880"/>
              <a:ext cx="713520" cy="713880"/>
              <a:chOff x="3098880" y="3395880"/>
              <a:chExt cx="713520" cy="713880"/>
            </a:xfrm>
          </p:grpSpPr>
          <p:sp>
            <p:nvSpPr>
              <p:cNvPr id="3146" name=""/>
              <p:cNvSpPr/>
              <p:nvPr/>
            </p:nvSpPr>
            <p:spPr>
              <a:xfrm rot="2700000">
                <a:off x="3203280" y="35002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V="1">
                <a:off x="329328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 flipV="1">
                <a:off x="329184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flipH="1" flipV="1">
                <a:off x="3455280" y="352404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flipH="1">
                <a:off x="3226680" y="3752640"/>
                <a:ext cx="4590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51" name=""/>
            <p:cNvGrpSpPr/>
            <p:nvPr/>
          </p:nvGrpSpPr>
          <p:grpSpPr>
            <a:xfrm>
              <a:off x="3675240" y="3395880"/>
              <a:ext cx="713520" cy="713880"/>
              <a:chOff x="3675240" y="3395880"/>
              <a:chExt cx="713520" cy="713880"/>
            </a:xfrm>
          </p:grpSpPr>
          <p:sp>
            <p:nvSpPr>
              <p:cNvPr id="3152" name=""/>
              <p:cNvSpPr/>
              <p:nvPr/>
            </p:nvSpPr>
            <p:spPr>
              <a:xfrm rot="2700000">
                <a:off x="3779640" y="3500280"/>
                <a:ext cx="504720" cy="50472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rot="10800000">
                <a:off x="3995640" y="3500280"/>
                <a:ext cx="288720" cy="504720"/>
              </a:xfrm>
              <a:custGeom>
                <a:avLst/>
                <a:gdLst>
                  <a:gd name="textAreaLeft" fmla="*/ 177840 w 288720"/>
                  <a:gd name="textAreaRight" fmla="*/ 184680 w 288720"/>
                  <a:gd name="textAreaTop" fmla="*/ 19080 h 504720"/>
                  <a:gd name="textAreaBottom" fmla="*/ 485640 h 50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7712" y="2480"/>
                      <a:pt x="13824" y="5080"/>
                      <a:pt x="13824" y="10800"/>
                    </a:cubicBezTo>
                    <a:cubicBezTo>
                      <a:pt x="13824" y="16520"/>
                      <a:pt x="17712" y="19120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ff"/>
              </a:solidFill>
              <a:ln w="158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flipV="1">
                <a:off x="3869640" y="3588480"/>
                <a:ext cx="322920" cy="32580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H="1" flipV="1">
                <a:off x="3868200" y="3589560"/>
                <a:ext cx="32580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H="1" flipV="1">
                <a:off x="4032000" y="3524040"/>
                <a:ext cx="144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H="1">
                <a:off x="3803400" y="3752640"/>
                <a:ext cx="45864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8" name=""/>
          <p:cNvGrpSpPr/>
          <p:nvPr/>
        </p:nvGrpSpPr>
        <p:grpSpPr>
          <a:xfrm>
            <a:off x="1946880" y="4043520"/>
            <a:ext cx="4747320" cy="713880"/>
            <a:chOff x="1946880" y="4043520"/>
            <a:chExt cx="4747320" cy="713880"/>
          </a:xfrm>
        </p:grpSpPr>
        <p:grpSp>
          <p:nvGrpSpPr>
            <p:cNvPr id="3159" name=""/>
            <p:cNvGrpSpPr/>
            <p:nvPr/>
          </p:nvGrpSpPr>
          <p:grpSpPr>
            <a:xfrm>
              <a:off x="1946880" y="4043520"/>
              <a:ext cx="2442240" cy="713880"/>
              <a:chOff x="1946880" y="4043520"/>
              <a:chExt cx="2442240" cy="713880"/>
            </a:xfrm>
          </p:grpSpPr>
          <p:grpSp>
            <p:nvGrpSpPr>
              <p:cNvPr id="3160" name=""/>
              <p:cNvGrpSpPr/>
              <p:nvPr/>
            </p:nvGrpSpPr>
            <p:grpSpPr>
              <a:xfrm>
                <a:off x="3675600" y="4043520"/>
                <a:ext cx="713520" cy="713880"/>
                <a:chOff x="3675600" y="4043520"/>
                <a:chExt cx="713520" cy="713880"/>
              </a:xfrm>
            </p:grpSpPr>
            <p:sp>
              <p:nvSpPr>
                <p:cNvPr id="3161" name=""/>
                <p:cNvSpPr/>
                <p:nvPr/>
              </p:nvSpPr>
              <p:spPr>
                <a:xfrm rot="13500000">
                  <a:off x="3780000" y="4147920"/>
                  <a:ext cx="504720" cy="504720"/>
                </a:xfrm>
                <a:prstGeom prst="ellipse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 flipH="1">
                  <a:off x="387180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387036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403092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 flipV="1">
                  <a:off x="380232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6" name=""/>
              <p:cNvGrpSpPr/>
              <p:nvPr/>
            </p:nvGrpSpPr>
            <p:grpSpPr>
              <a:xfrm>
                <a:off x="3099240" y="4043520"/>
                <a:ext cx="713520" cy="713880"/>
                <a:chOff x="3099240" y="4043520"/>
                <a:chExt cx="713520" cy="713880"/>
              </a:xfrm>
            </p:grpSpPr>
            <p:sp>
              <p:nvSpPr>
                <p:cNvPr id="3167" name=""/>
                <p:cNvSpPr/>
                <p:nvPr/>
              </p:nvSpPr>
              <p:spPr>
                <a:xfrm rot="13500000">
                  <a:off x="3203640" y="4147920"/>
                  <a:ext cx="504720" cy="504720"/>
                </a:xfrm>
                <a:prstGeom prst="ellipse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 flipH="1">
                  <a:off x="329544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329400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345456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 flipV="1">
                  <a:off x="322596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2" name=""/>
              <p:cNvGrpSpPr/>
              <p:nvPr/>
            </p:nvGrpSpPr>
            <p:grpSpPr>
              <a:xfrm>
                <a:off x="2522880" y="4043520"/>
                <a:ext cx="713520" cy="713880"/>
                <a:chOff x="2522880" y="4043520"/>
                <a:chExt cx="713520" cy="713880"/>
              </a:xfrm>
            </p:grpSpPr>
            <p:sp>
              <p:nvSpPr>
                <p:cNvPr id="3173" name=""/>
                <p:cNvSpPr/>
                <p:nvPr/>
              </p:nvSpPr>
              <p:spPr>
                <a:xfrm rot="13500000">
                  <a:off x="2627280" y="4147920"/>
                  <a:ext cx="504720" cy="504720"/>
                </a:xfrm>
                <a:prstGeom prst="ellipse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 flipH="1">
                  <a:off x="271908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271764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287820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 flipV="1">
                  <a:off x="264960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8" name=""/>
              <p:cNvGrpSpPr/>
              <p:nvPr/>
            </p:nvGrpSpPr>
            <p:grpSpPr>
              <a:xfrm>
                <a:off x="1946880" y="4043520"/>
                <a:ext cx="713520" cy="713880"/>
                <a:chOff x="1946880" y="4043520"/>
                <a:chExt cx="713520" cy="713880"/>
              </a:xfrm>
            </p:grpSpPr>
            <p:sp>
              <p:nvSpPr>
                <p:cNvPr id="3179" name=""/>
                <p:cNvSpPr/>
                <p:nvPr/>
              </p:nvSpPr>
              <p:spPr>
                <a:xfrm rot="13500000">
                  <a:off x="2051280" y="4147920"/>
                  <a:ext cx="504720" cy="504720"/>
                </a:xfrm>
                <a:prstGeom prst="ellipse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 flipH="1">
                  <a:off x="214308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214164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230220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 flipV="1">
                  <a:off x="207360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4" name=""/>
            <p:cNvGrpSpPr/>
            <p:nvPr/>
          </p:nvGrpSpPr>
          <p:grpSpPr>
            <a:xfrm>
              <a:off x="4251960" y="4043520"/>
              <a:ext cx="2442240" cy="713880"/>
              <a:chOff x="4251960" y="4043520"/>
              <a:chExt cx="2442240" cy="713880"/>
            </a:xfrm>
          </p:grpSpPr>
          <p:sp>
            <p:nvSpPr>
              <p:cNvPr id="3185" name=""/>
              <p:cNvSpPr/>
              <p:nvPr/>
            </p:nvSpPr>
            <p:spPr>
              <a:xfrm flipH="1">
                <a:off x="5940720" y="4437360"/>
                <a:ext cx="576000" cy="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86" name=""/>
              <p:cNvGrpSpPr/>
              <p:nvPr/>
            </p:nvGrpSpPr>
            <p:grpSpPr>
              <a:xfrm>
                <a:off x="5980680" y="4043520"/>
                <a:ext cx="713520" cy="713880"/>
                <a:chOff x="5980680" y="4043520"/>
                <a:chExt cx="713520" cy="713880"/>
              </a:xfrm>
            </p:grpSpPr>
            <p:sp>
              <p:nvSpPr>
                <p:cNvPr id="3187" name=""/>
                <p:cNvSpPr/>
                <p:nvPr/>
              </p:nvSpPr>
              <p:spPr>
                <a:xfrm rot="13500000">
                  <a:off x="6085080" y="414792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 flipH="1">
                  <a:off x="617688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617544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633600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 flipV="1">
                  <a:off x="610740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2" name=""/>
              <p:cNvGrpSpPr/>
              <p:nvPr/>
            </p:nvGrpSpPr>
            <p:grpSpPr>
              <a:xfrm>
                <a:off x="5404680" y="4043520"/>
                <a:ext cx="713520" cy="713880"/>
                <a:chOff x="5404680" y="4043520"/>
                <a:chExt cx="713520" cy="713880"/>
              </a:xfrm>
            </p:grpSpPr>
            <p:sp>
              <p:nvSpPr>
                <p:cNvPr id="3193" name=""/>
                <p:cNvSpPr/>
                <p:nvPr/>
              </p:nvSpPr>
              <p:spPr>
                <a:xfrm rot="13500000">
                  <a:off x="5509080" y="414792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 flipH="1">
                  <a:off x="560088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559944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>
                  <a:off x="576000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 flipV="1">
                  <a:off x="553140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8" name=""/>
              <p:cNvGrpSpPr/>
              <p:nvPr/>
            </p:nvGrpSpPr>
            <p:grpSpPr>
              <a:xfrm>
                <a:off x="4828320" y="4043520"/>
                <a:ext cx="713520" cy="713880"/>
                <a:chOff x="4828320" y="4043520"/>
                <a:chExt cx="713520" cy="713880"/>
              </a:xfrm>
            </p:grpSpPr>
            <p:sp>
              <p:nvSpPr>
                <p:cNvPr id="3199" name=""/>
                <p:cNvSpPr/>
                <p:nvPr/>
              </p:nvSpPr>
              <p:spPr>
                <a:xfrm rot="13500000">
                  <a:off x="4932720" y="414792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 flipH="1">
                  <a:off x="502452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502308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5183640" y="4170600"/>
                  <a:ext cx="180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 flipV="1">
                  <a:off x="4955040" y="4399200"/>
                  <a:ext cx="45900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4" name=""/>
              <p:cNvGrpSpPr/>
              <p:nvPr/>
            </p:nvGrpSpPr>
            <p:grpSpPr>
              <a:xfrm>
                <a:off x="4251960" y="4043520"/>
                <a:ext cx="713520" cy="713880"/>
                <a:chOff x="4251960" y="4043520"/>
                <a:chExt cx="713520" cy="713880"/>
              </a:xfrm>
            </p:grpSpPr>
            <p:sp>
              <p:nvSpPr>
                <p:cNvPr id="3205" name=""/>
                <p:cNvSpPr/>
                <p:nvPr/>
              </p:nvSpPr>
              <p:spPr>
                <a:xfrm rot="13500000">
                  <a:off x="4356360" y="4147920"/>
                  <a:ext cx="504720" cy="504720"/>
                </a:xfrm>
                <a:prstGeom prst="ellipse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>
                  <a:off x="4356360" y="4148280"/>
                  <a:ext cx="288720" cy="504720"/>
                </a:xfrm>
                <a:custGeom>
                  <a:avLst/>
                  <a:gdLst>
                    <a:gd name="textAreaLeft" fmla="*/ 177840 w 288720"/>
                    <a:gd name="textAreaRight" fmla="*/ 184680 w 288720"/>
                    <a:gd name="textAreaTop" fmla="*/ 19080 h 504720"/>
                    <a:gd name="textAreaBottom" fmla="*/ 485640 h 504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7712" y="2480"/>
                        <a:pt x="13824" y="5080"/>
                        <a:pt x="13824" y="10800"/>
                      </a:cubicBezTo>
                      <a:cubicBezTo>
                        <a:pt x="13824" y="16520"/>
                        <a:pt x="17712" y="19120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00ff"/>
                </a:solidFill>
                <a:ln w="158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 flipH="1">
                  <a:off x="4448160" y="4239000"/>
                  <a:ext cx="322920" cy="32580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>
                  <a:off x="4446720" y="4240080"/>
                  <a:ext cx="32580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4607280" y="4170600"/>
                  <a:ext cx="1440" cy="458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 flipV="1">
                  <a:off x="4378680" y="4399200"/>
                  <a:ext cx="458640" cy="14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211" name="" descr=""/>
          <p:cNvPicPr/>
          <p:nvPr/>
        </p:nvPicPr>
        <p:blipFill>
          <a:blip r:embed="rId3"/>
          <a:stretch/>
        </p:blipFill>
        <p:spPr>
          <a:xfrm>
            <a:off x="6732720" y="3573360"/>
            <a:ext cx="2117520" cy="1032120"/>
          </a:xfrm>
          <a:prstGeom prst="rect">
            <a:avLst/>
          </a:prstGeom>
          <a:ln w="0">
            <a:noFill/>
          </a:ln>
        </p:spPr>
      </p:pic>
      <p:pic>
        <p:nvPicPr>
          <p:cNvPr id="3212" name="" descr=""/>
          <p:cNvPicPr/>
          <p:nvPr/>
        </p:nvPicPr>
        <p:blipFill>
          <a:blip r:embed="rId4"/>
          <a:stretch/>
        </p:blipFill>
        <p:spPr>
          <a:xfrm>
            <a:off x="6804000" y="3060720"/>
            <a:ext cx="1955880" cy="423720"/>
          </a:xfrm>
          <a:prstGeom prst="rect">
            <a:avLst/>
          </a:prstGeom>
          <a:ln w="0">
            <a:noFill/>
          </a:ln>
        </p:spPr>
      </p:pic>
      <p:pic>
        <p:nvPicPr>
          <p:cNvPr id="3213" name="" descr=""/>
          <p:cNvPicPr/>
          <p:nvPr/>
        </p:nvPicPr>
        <p:blipFill>
          <a:blip r:embed="rId5"/>
          <a:stretch/>
        </p:blipFill>
        <p:spPr>
          <a:xfrm>
            <a:off x="1755720" y="3067200"/>
            <a:ext cx="295200" cy="38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182CD-4923-469A-8F1E-829458B4C3C8}" type="slidenum">
              <a:t>40</a:t>
            </a:fld>
          </a:p>
        </p:txBody>
      </p:sp>
    </p:spTree>
  </p:cSld>
  <p:transition spd="med">
    <p:fade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7" dur="1000"/>
                                        <p:tgtEl>
                                          <p:spTgt spid="3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0" dur="1000"/>
                                        <p:tgtEl>
                                          <p:spTgt spid="3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Open Problems and Next Step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2124000" y="1413000"/>
            <a:ext cx="662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isy Memory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flavors of OT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1-out-of-2 Oblivious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memory b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ability? What happens to the memory b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ptographic primitives for which we can show lower b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981000" y="2205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932040" y="40338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309E-36C8-4FB4-9F77-0E97FEA5D4DC}" type="slidenum">
              <a:t>41</a:t>
            </a:fld>
          </a:p>
        </p:txBody>
      </p:sp>
    </p:spTree>
  </p:cSld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2195640" y="1371600"/>
            <a:ext cx="67690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e protocols for OT and BC that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t, non-inter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onditionally sec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ainst adversaries with bounded quantum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est players do not need quantum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in more practical noisy memory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12FFA-8C8A-4B65-A4FD-709F8446E4E1}" type="slidenum">
              <a:t>42</a:t>
            </a:fld>
          </a:p>
        </p:txBody>
      </p:sp>
    </p:spTree>
  </p:cSld>
  <p:transition spd="med">
    <p:fade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1-2-O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3132000" y="5445000"/>
            <a:ext cx="201636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8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3229" name=""/>
          <p:cNvGrpSpPr/>
          <p:nvPr/>
        </p:nvGrpSpPr>
        <p:grpSpPr>
          <a:xfrm>
            <a:off x="250920" y="3933720"/>
            <a:ext cx="8664120" cy="459720"/>
            <a:chOff x="250920" y="3933720"/>
            <a:chExt cx="8664120" cy="459720"/>
          </a:xfrm>
        </p:grpSpPr>
        <p:sp>
          <p:nvSpPr>
            <p:cNvPr id="3230" name=""/>
            <p:cNvSpPr/>
            <p:nvPr/>
          </p:nvSpPr>
          <p:spPr>
            <a:xfrm>
              <a:off x="250920" y="402552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1397160" y="393372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0.4n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2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 flipV="1">
            <a:off x="291636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5" name="" descr=""/>
          <p:cNvPicPr/>
          <p:nvPr/>
        </p:nvPicPr>
        <p:blipFill>
          <a:blip r:embed="rId2"/>
          <a:stretch/>
        </p:blipFill>
        <p:spPr>
          <a:xfrm>
            <a:off x="1619280" y="1081080"/>
            <a:ext cx="2146320" cy="379440"/>
          </a:xfrm>
          <a:prstGeom prst="rect">
            <a:avLst/>
          </a:prstGeom>
          <a:ln w="0">
            <a:noFill/>
          </a:ln>
        </p:spPr>
      </p:pic>
      <p:pic>
        <p:nvPicPr>
          <p:cNvPr id="3236" name="" descr=""/>
          <p:cNvPicPr/>
          <p:nvPr/>
        </p:nvPicPr>
        <p:blipFill>
          <a:blip r:embed="rId3"/>
          <a:stretch/>
        </p:blipFill>
        <p:spPr>
          <a:xfrm>
            <a:off x="250920" y="1555920"/>
            <a:ext cx="2130480" cy="842760"/>
          </a:xfrm>
          <a:prstGeom prst="rect">
            <a:avLst/>
          </a:prstGeom>
          <a:ln w="0">
            <a:noFill/>
          </a:ln>
        </p:spPr>
      </p:pic>
      <p:pic>
        <p:nvPicPr>
          <p:cNvPr id="3237" name="" descr=""/>
          <p:cNvPicPr/>
          <p:nvPr/>
        </p:nvPicPr>
        <p:blipFill>
          <a:blip r:embed="rId4"/>
          <a:stretch/>
        </p:blipFill>
        <p:spPr>
          <a:xfrm>
            <a:off x="2484360" y="2492280"/>
            <a:ext cx="2374920" cy="461880"/>
          </a:xfrm>
          <a:prstGeom prst="rect">
            <a:avLst/>
          </a:prstGeom>
          <a:ln w="0">
            <a:noFill/>
          </a:ln>
        </p:spPr>
      </p:pic>
      <p:pic>
        <p:nvPicPr>
          <p:cNvPr id="3238" name="" descr=""/>
          <p:cNvPicPr/>
          <p:nvPr/>
        </p:nvPicPr>
        <p:blipFill>
          <a:blip r:embed="rId5"/>
          <a:stretch/>
        </p:blipFill>
        <p:spPr>
          <a:xfrm>
            <a:off x="5435640" y="5130720"/>
            <a:ext cx="3370320" cy="459000"/>
          </a:xfrm>
          <a:prstGeom prst="rect">
            <a:avLst/>
          </a:prstGeom>
          <a:ln w="0">
            <a:noFill/>
          </a:ln>
        </p:spPr>
      </p:pic>
      <p:pic>
        <p:nvPicPr>
          <p:cNvPr id="3239" name="" descr=""/>
          <p:cNvPicPr/>
          <p:nvPr/>
        </p:nvPicPr>
        <p:blipFill>
          <a:blip r:embed="rId6"/>
          <a:stretch/>
        </p:blipFill>
        <p:spPr>
          <a:xfrm>
            <a:off x="100080" y="4654440"/>
            <a:ext cx="2911320" cy="1317600"/>
          </a:xfrm>
          <a:prstGeom prst="rect">
            <a:avLst/>
          </a:prstGeom>
          <a:ln w="0">
            <a:noFill/>
          </a:ln>
        </p:spPr>
      </p:pic>
      <p:pic>
        <p:nvPicPr>
          <p:cNvPr id="3240" name="" descr=""/>
          <p:cNvPicPr/>
          <p:nvPr/>
        </p:nvPicPr>
        <p:blipFill>
          <a:blip r:embed="rId7"/>
          <a:stretch/>
        </p:blipFill>
        <p:spPr>
          <a:xfrm>
            <a:off x="3492360" y="4464000"/>
            <a:ext cx="1263960" cy="836640"/>
          </a:xfrm>
          <a:prstGeom prst="rect">
            <a:avLst/>
          </a:prstGeom>
          <a:ln w="0">
            <a:noFill/>
          </a:ln>
        </p:spPr>
      </p:pic>
      <p:pic>
        <p:nvPicPr>
          <p:cNvPr id="3241" name="" descr=""/>
          <p:cNvPicPr/>
          <p:nvPr/>
        </p:nvPicPr>
        <p:blipFill>
          <a:blip r:embed="rId8"/>
          <a:stretch/>
        </p:blipFill>
        <p:spPr>
          <a:xfrm>
            <a:off x="6418440" y="1052640"/>
            <a:ext cx="1538280" cy="393480"/>
          </a:xfrm>
          <a:prstGeom prst="rect">
            <a:avLst/>
          </a:prstGeom>
          <a:ln w="0">
            <a:noFill/>
          </a:ln>
        </p:spPr>
      </p:pic>
      <p:pic>
        <p:nvPicPr>
          <p:cNvPr id="3242" name="" descr=""/>
          <p:cNvPicPr/>
          <p:nvPr/>
        </p:nvPicPr>
        <p:blipFill>
          <a:blip r:embed="rId9"/>
          <a:stretch/>
        </p:blipFill>
        <p:spPr>
          <a:xfrm>
            <a:off x="5442120" y="1844640"/>
            <a:ext cx="2101680" cy="3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D61E-70DE-4708-9AD4-FAAF11F3BBCA}" type="slidenum">
              <a:t>43</a:t>
            </a:fld>
          </a:p>
        </p:txBody>
      </p:sp>
    </p:spTree>
  </p:cSld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estions and Comments?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611280" y="1981080"/>
            <a:ext cx="99036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611280" y="3809880"/>
            <a:ext cx="99036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10684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10684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8249-D7D9-495A-A074-4EC3C8486AA7}" type="slidenum">
              <a:t>4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lassical 2-party primitives: Relation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80880" y="1052640"/>
            <a:ext cx="4724640" cy="1295280"/>
            <a:chOff x="380880" y="1052640"/>
            <a:chExt cx="4724640" cy="1295280"/>
          </a:xfrm>
        </p:grpSpPr>
        <p:sp>
          <p:nvSpPr>
            <p:cNvPr id="142" name=""/>
            <p:cNvSpPr/>
            <p:nvPr/>
          </p:nvSpPr>
          <p:spPr>
            <a:xfrm>
              <a:off x="762120" y="211932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1052640"/>
              <a:ext cx="39621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blivious Transf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1814400"/>
              <a:ext cx="381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211932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14800" y="1814400"/>
              <a:ext cx="990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 / 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713560" y="1585800"/>
            <a:ext cx="3035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er-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iver-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3560" y="3538440"/>
            <a:ext cx="2890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80880" y="2852640"/>
            <a:ext cx="5410440" cy="2133720"/>
            <a:chOff x="380880" y="2852640"/>
            <a:chExt cx="5410440" cy="2133720"/>
          </a:xfrm>
        </p:grpSpPr>
        <p:sp>
          <p:nvSpPr>
            <p:cNvPr id="150" name=""/>
            <p:cNvSpPr/>
            <p:nvPr/>
          </p:nvSpPr>
          <p:spPr>
            <a:xfrm>
              <a:off x="762120" y="391968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2852640"/>
              <a:ext cx="39621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it Commitme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0880" y="3614760"/>
              <a:ext cx="381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71800" y="391968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14800" y="3614760"/>
              <a:ext cx="685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120" y="4757760"/>
              <a:ext cx="327636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880" y="4452840"/>
              <a:ext cx="381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8480" y="4452840"/>
              <a:ext cx="175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 in C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05120" y="1738440"/>
            <a:ext cx="99036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538440"/>
            <a:ext cx="99036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300640"/>
            <a:ext cx="7489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 </a:t>
            </a:r>
            <a:r>
              <a:rPr b="1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omplete for two-party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689F-39A6-4BF0-A7A7-FB3C31DA0507}" type="slidenum">
              <a:t>5</a:t>
            </a:fld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97571E-006 L -0.14045 0.03839 E">
                                      <p:cBhvr>
                                        <p:cTn id="81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5913E-006 L -0.14045 0.0384 E">
                                      <p:cBhvr>
                                        <p:cTn id="83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Known Impossibility Result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1676520"/>
            <a:ext cx="60195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classical unconditionally secure model without further assum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0880" y="1752120"/>
            <a:ext cx="1447920" cy="1296000"/>
            <a:chOff x="380880" y="1752120"/>
            <a:chExt cx="1447920" cy="1296000"/>
          </a:xfrm>
        </p:grpSpPr>
        <p:sp>
          <p:nvSpPr>
            <p:cNvPr id="166" name=""/>
            <p:cNvSpPr/>
            <p:nvPr/>
          </p:nvSpPr>
          <p:spPr>
            <a:xfrm>
              <a:off x="380880" y="1752480"/>
              <a:ext cx="1447920" cy="1295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0880" y="1752120"/>
              <a:ext cx="1447920" cy="1219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880" y="3580920"/>
            <a:ext cx="1447920" cy="1296000"/>
            <a:chOff x="380880" y="3580920"/>
            <a:chExt cx="1447920" cy="1296000"/>
          </a:xfrm>
        </p:grpSpPr>
        <p:sp>
          <p:nvSpPr>
            <p:cNvPr id="169" name=""/>
            <p:cNvSpPr/>
            <p:nvPr/>
          </p:nvSpPr>
          <p:spPr>
            <a:xfrm>
              <a:off x="380880" y="3581280"/>
              <a:ext cx="1447920" cy="1295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80880" y="3580920"/>
              <a:ext cx="1447920" cy="1219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286000" y="3581280"/>
            <a:ext cx="6389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unconditionally secure mode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quantum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Mayers97, Lo-Chau97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0800000">
            <a:off x="809280" y="2852280"/>
            <a:ext cx="10947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msy10"/>
              </a:rPr>
              <a:t>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1E0B-C85D-421F-80CC-5E7A5A0B101B}" type="slidenum">
              <a:t>6</a:t>
            </a:fld>
          </a:p>
        </p:txBody>
      </p:sp>
    </p:spTree>
  </p:cSld>
  <p:transition spd="med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Three Ways Ou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06520" y="1628640"/>
            <a:ext cx="62262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nd computing power (schemes based on complexity assump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isy communic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Cr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uKilian88, Cr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u97, …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68360" y="350028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bound memory size of the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880" y="1752120"/>
            <a:ext cx="1447920" cy="3124800"/>
            <a:chOff x="380880" y="1752120"/>
            <a:chExt cx="1447920" cy="3124800"/>
          </a:xfrm>
        </p:grpSpPr>
        <p:grpSp>
          <p:nvGrpSpPr>
            <p:cNvPr id="181" name=""/>
            <p:cNvGrpSpPr/>
            <p:nvPr/>
          </p:nvGrpSpPr>
          <p:grpSpPr>
            <a:xfrm>
              <a:off x="380880" y="1752120"/>
              <a:ext cx="1447920" cy="1296000"/>
              <a:chOff x="380880" y="1752120"/>
              <a:chExt cx="1447920" cy="1296000"/>
            </a:xfrm>
          </p:grpSpPr>
          <p:sp>
            <p:nvSpPr>
              <p:cNvPr id="182" name=""/>
              <p:cNvSpPr/>
              <p:nvPr/>
            </p:nvSpPr>
            <p:spPr>
              <a:xfrm>
                <a:off x="380880" y="1752480"/>
                <a:ext cx="1447920" cy="1295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380880" y="1752120"/>
                <a:ext cx="1447920" cy="1219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80880" y="3580920"/>
              <a:ext cx="1447920" cy="1296000"/>
              <a:chOff x="380880" y="3580920"/>
              <a:chExt cx="1447920" cy="1296000"/>
            </a:xfrm>
          </p:grpSpPr>
          <p:sp>
            <p:nvSpPr>
              <p:cNvPr id="185" name=""/>
              <p:cNvSpPr/>
              <p:nvPr/>
            </p:nvSpPr>
            <p:spPr>
              <a:xfrm>
                <a:off x="380880" y="3581280"/>
                <a:ext cx="1447920" cy="1295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80880" y="3580920"/>
                <a:ext cx="1447920" cy="1219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C7839-FE99-49D6-B1D3-D894C2E0CF99}" type="slidenum">
              <a:t>7</a:t>
            </a:fld>
          </a:p>
        </p:txBody>
      </p:sp>
    </p:spTree>
  </p:cSld>
  <p:transition spd="med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94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lassical Bounded-Storage Model</a:t>
            </a:r>
            <a:br>
              <a:rPr sz="3200"/>
            </a:br>
            <a:r>
              <a:rPr b="1" lang="en-US" sz="2400" spc="-1" strike="noStrike">
                <a:solidFill>
                  <a:srgbClr val="e5e5ff"/>
                </a:solidFill>
                <a:latin typeface="Arial"/>
              </a:rPr>
              <a:t>[Maurer92]</a:t>
            </a:r>
            <a:endParaRPr b="1" lang="en-US" sz="2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4979880"/>
            <a:ext cx="6096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544680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62120" y="2209680"/>
            <a:ext cx="1676160" cy="3200400"/>
            <a:chOff x="762120" y="2209680"/>
            <a:chExt cx="1676160" cy="3200400"/>
          </a:xfrm>
        </p:grpSpPr>
        <p:sp>
          <p:nvSpPr>
            <p:cNvPr id="193" name=""/>
            <p:cNvSpPr/>
            <p:nvPr/>
          </p:nvSpPr>
          <p:spPr>
            <a:xfrm>
              <a:off x="762120" y="2209680"/>
              <a:ext cx="16761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US" sz="6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2120" y="3962520"/>
              <a:ext cx="1676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US" sz="6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66680" y="2362320"/>
            <a:ext cx="1143000" cy="2971800"/>
            <a:chOff x="1066680" y="2362320"/>
            <a:chExt cx="1143000" cy="2971800"/>
          </a:xfrm>
        </p:grpSpPr>
        <p:sp>
          <p:nvSpPr>
            <p:cNvPr id="196" name=""/>
            <p:cNvSpPr/>
            <p:nvPr/>
          </p:nvSpPr>
          <p:spPr>
            <a:xfrm>
              <a:off x="1066680" y="23623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1911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268360" y="1484280"/>
            <a:ext cx="6626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random string in the sky which players try to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mory bound applies at a specified moment (string disappe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 for OT [CCM98, DHRS04]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 size of 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 memory of dis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bound [DM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low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antum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28687-CAF7-467A-A64C-6D54FE4B98B3}" type="slidenum">
              <a:t>8</a:t>
            </a:fld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Bounded Quantum-Storage Model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1052640"/>
            <a:ext cx="669744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um memory bound applies at a specified mo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ides that, players are unbounded (in time and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onditional secur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ainst adversaries with quantum memory of less th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lf of the transmitted qu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est player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t ne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t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mo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n/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F07C5-5842-4D4A-B4B8-304A70F37CF1}" type="slidenum">
              <a:t>9</a:t>
            </a:fld>
          </a:p>
        </p:txBody>
      </p:sp>
    </p:spTree>
  </p:cSld>
  <p:transition spd="med">
    <p:fad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6:28:29Z</dcterms:created>
  <dc:creator>Christian Schaffner</dc:creator>
  <dc:description/>
  <dc:language>en-US</dc:language>
  <cp:lastModifiedBy>Christian Schaffner</cp:lastModifiedBy>
  <dcterms:modified xsi:type="dcterms:W3CDTF">2006-01-20T10:34:19Z</dcterms:modified>
  <cp:revision>182</cp:revision>
  <dc:subject>Diplomarbeitsvortrag</dc:subject>
  <dc:title>Secret-key agreement information-theoretically secure against active adversaries</dc:title>
</cp:coreProperties>
</file>