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861E2F-626C-43B3-BA5A-D0C3F780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1EC1D56-B62E-431C-9BC9-A23A4EC5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E36387-61FC-4099-BAF5-CFF64C08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D2A6C7-4AA1-4899-8795-97F11A71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3F0EE6-1FB8-40C7-9D95-58941FEB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48D140-F3F0-45A7-8A93-440A9736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F2D0F7-1515-4878-9AD8-68F2C7FB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2626CD-24CB-41E7-87B4-E8B519EF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C044B9-8B70-43D8-A2F6-F0AB2FAB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D5F202-1A53-4598-A9A7-0F5FE04D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64A7A0-ECCB-4C63-B7E9-D3037702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BF145C-7E91-4004-9957-82E75126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35CD37-49C0-4A71-9813-DEFC4D61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EFC296-AD15-41B5-8E40-C1C1B835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0D40E3-C57A-4B52-9B77-3678D533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ACFD514-6AA8-4BA9-8B57-A8DA144D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803B553-B80F-4712-9C75-6E79C1E3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0AFA04-B08D-410E-B0DB-2F2862E03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658024-95B3-4308-AEB1-3BE41FC43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33650D-D610-4C2F-B59C-4D68AE19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343F9A-C69D-4782-9C3C-C32D46DA4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CD34DD3-8003-4C89-A617-3B177C6B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AB81A3-86A5-4D22-8B0C-E6A38359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91F5E61-5BAB-4086-BF9E-8DDC1403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07F2BB-FA26-4235-A82A-E6FF42CB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FC5104-6AED-4903-9DC8-16968C25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AEDA9A-0F02-4E17-A884-D7B9B9BF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E0071E4-B4E0-404B-AE25-9A508CC69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B869B5-59A9-483E-816B-3C82FFA9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7EE038-EA73-468B-AB12-EF2F43F9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9BE2E1-561D-4629-97B3-BE29A05B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96BDFA-28DF-4313-8DF5-77AD3D92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19EBB5-444B-4248-8ABE-CE7A60380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457592-5AE5-4A70-A0D7-AF5D37F58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042811-592C-4EEC-8C6F-EC82D4914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8F4DF7-D6F1-4740-8251-C6EA5480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605CE0-CB5E-407F-B638-FFAEA1C6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193351-9EA9-4A62-A986-EBAFDF14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197291-C6FF-4090-9A8A-ACF18611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3D9930-2A38-458A-9A7F-A0780AF8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5A4B1F-DADC-4B64-8933-50256385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217DB2-213F-492F-BCEE-5E6D57024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6B26AB-04D8-4A7D-BEBF-D04027FF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23D18C-EE4A-4DED-AA83-14A0C04F5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CD8473-557C-4E52-800A-F0D7C4C4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E906C54-FE2B-4279-91E3-238334C04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337BF0-7E16-436D-91BA-87DD5FD0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FDFA679-BD1F-453E-8EB9-A9380D38C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4BE276-CE59-4789-BFAD-FFACC331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A57E7F-86CE-46C9-8AAB-A5E2E36C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B6BD-3570-49BB-8100-63CB4DE8C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9CC5-46FF-4B19-84CA-49B8B7526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575-DD88-4BE4-A281-333EC8802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204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72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936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204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72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2715-D8CD-48F5-B570-2B6C82F5D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620A-DE72-4FAF-A238-A9F29977F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F6C3-19E9-4262-AD17-A7A749B9B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939C-C9F4-4935-B88D-120A12326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FDF9-C400-4D34-B084-9901FD212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EF23-71A6-4C06-8DDD-EC0D56448F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1960" y="228600"/>
            <a:ext cx="85471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BA9C-2C56-4883-A74F-CE29968C2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07CD-7AE7-4972-9359-AFB85A274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7EC0-A995-4B3B-B633-5597519D4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D531-3F85-4EA8-A35F-DE1762E82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7C59-1D30-413F-B4C4-69DEC15F2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EC37-24EC-42C2-9DDC-F7C11E235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92D2-ABC6-44AE-BAAE-3F02C3B1CD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204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8472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936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204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8472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A6E3-395D-4A96-A87B-4330C4F48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67B5-CDA0-4B2C-97F5-96AB4B747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E04A-C001-4363-8B27-B878ED64B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E1AD-B6CA-4921-9687-07B5C71E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91960" y="228600"/>
            <a:ext cx="85471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35A8-A415-41EB-878C-7BCF77C0D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802C-4840-4A1D-B6C1-3906AC0DE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221E-A24A-4027-9226-096E8897A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C7B7-D9F2-41CA-B965-0677E0BF6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7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2904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95235FC1-248F-47D9-AF31-4DE8641BE5B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7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448-8205-4AD9-90D9-F2FADFC9B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D305-2C64-4FC7-81D0-F42E491E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2400" y="990720"/>
            <a:ext cx="8204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Processor Design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5Z03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66880"/>
            <a:ext cx="837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 Narrow"/>
              </a:rPr>
              <a:t>SystemC + miniMIP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70880" y="4653000"/>
            <a:ext cx="58622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enk Corpor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indhoven University of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MIPS_R3000_layout"/>
          <p:cNvPicPr/>
          <p:nvPr/>
        </p:nvPicPr>
        <p:blipFill>
          <a:blip r:embed="rId1"/>
          <a:stretch/>
        </p:blipFill>
        <p:spPr>
          <a:xfrm>
            <a:off x="5580000" y="189000"/>
            <a:ext cx="342108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F5E95FA-5CF5-4BCE-9B94-B95811E89DB8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1600" y="228600"/>
            <a:ext cx="70167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ircuit description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umber of hardware description languages exi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log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(Japan, Euro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C (new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llow you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logic and functi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i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parallelism (HW = parall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the consist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e hardware (well, not alway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systemc_logo"/>
          <p:cNvPicPr/>
          <p:nvPr/>
        </p:nvPicPr>
        <p:blipFill>
          <a:blip r:embed="rId1"/>
          <a:stretch/>
        </p:blipFill>
        <p:spPr>
          <a:xfrm>
            <a:off x="7667640" y="260280"/>
            <a:ext cx="1209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650B918-C170-4BB2-9388-AEA735E5569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C is a C++ library with class defin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rite some C++ code using the classes. This describes two issu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Circuit structure (schematic/functionalit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Simulation sett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ing and running it will perform the simul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C is just C++ code, though it looks funn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B4F1E33-D7BD-4C43-8296-13623A1ACB64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and User Modu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609480" y="1600200"/>
          <a:ext cx="57150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7150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89444DC0-14A5-4B11-A3FC-AB364EC5C5A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ystemC usesTemplates; let's have a look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 we need to use functions that are similar, but that have different data ty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28600" y="2057400"/>
            <a:ext cx="411480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ort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short a, short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int a, int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ouble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double a, double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876920" y="2209680"/>
            <a:ext cx="3352680" cy="17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 = 10.0, q = 12.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r = 15, s =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a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, q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257800" y="4724280"/>
            <a:ext cx="3048120" cy="1447920"/>
          </a:xfrm>
          <a:prstGeom prst="wedgeRoundRectCallout">
            <a:avLst>
              <a:gd name="adj1" fmla="val -90675"/>
              <a:gd name="adj2" fmla="val -7456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we avoid this dupl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making t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 a paramet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4EB38AB-681D-4417-A1C3-4BFCB107D12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emplate functions in C++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s build a template, and call that type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2286000"/>
            <a:ext cx="327672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maximum (T a, T b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486400" y="2209680"/>
            <a:ext cx="3352680" cy="17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 = 10.0, q = 12.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r = 15, s =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a = maximum(p, q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 = maximum(r, 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286000" y="4191120"/>
            <a:ext cx="2666880" cy="457200"/>
          </a:xfrm>
          <a:prstGeom prst="wedgeRoundRectCallout">
            <a:avLst>
              <a:gd name="adj1" fmla="val -8393"/>
              <a:gd name="adj2" fmla="val -34444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re of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52280" y="4267080"/>
            <a:ext cx="1752840" cy="381240"/>
          </a:xfrm>
          <a:prstGeom prst="wedgeRoundRectCallout">
            <a:avLst>
              <a:gd name="adj1" fmla="val 12680"/>
              <a:gd name="adj2" fmla="val -42625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914400" y="1523880"/>
            <a:ext cx="3429000" cy="457200"/>
          </a:xfrm>
          <a:prstGeom prst="wedgeRoundRectCallout">
            <a:avLst>
              <a:gd name="adj1" fmla="val 14768"/>
              <a:gd name="adj2" fmla="val 12916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lar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‘variable’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80880" y="5486400"/>
            <a:ext cx="833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58040" indent="-15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ind the scenes, the compiler builds the routine for each class that is requi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8040" indent="-15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little heavy on the compiler, and also harder to debu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4343400"/>
            <a:ext cx="2667240" cy="457200"/>
          </a:xfrm>
          <a:prstGeom prst="wedgeRoundRectCallout">
            <a:avLst>
              <a:gd name="adj1" fmla="val -3453"/>
              <a:gd name="adj2" fmla="val -23993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the integer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8478803-B2F0-43BE-A6B0-3232E6249EBF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emplate classes in C++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ame can be done with class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52280" y="1676520"/>
            <a:ext cx="472464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emplate &lt;class T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coordinate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y) { _x = x; _y = y; 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~coordinate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print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t &lt;&lt; x &lt;&lt; “ , “ &lt;&lt; y &lt;&lt; endl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_x, _y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105520" y="1676520"/>
            <a:ext cx="38862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 &lt;int&gt; a(1, 2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 &lt;double&gt; b(3.2, 6.4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print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.print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1828800" y="4267080"/>
            <a:ext cx="3429000" cy="685800"/>
          </a:xfrm>
          <a:prstGeom prst="wedgeRoundRectCallout">
            <a:avLst>
              <a:gd name="adj1" fmla="val -55416"/>
              <a:gd name="adj2" fmla="val -8611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lass datame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x and _y of parameterized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0880" y="5486400"/>
            <a:ext cx="833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ain, the compiler builds a separate code instance for each type that is requi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7238880" y="3200400"/>
            <a:ext cx="12956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, 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2 , 6.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5867280" y="4038480"/>
            <a:ext cx="2667240" cy="609840"/>
          </a:xfrm>
          <a:prstGeom prst="wedgeRoundRectCallout">
            <a:avLst>
              <a:gd name="adj1" fmla="val 7976"/>
              <a:gd name="adj2" fmla="val -10677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is the double incar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coordin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72DECC6-AF79-458E-8947-0DC52FD92F6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class templat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s look at an 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52280" y="1676520"/>
            <a:ext cx="472464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emplate &lt;int W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sc_bv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: public sc_bv_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bv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rotate( int n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_bit(int i, bool value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105520" y="1676520"/>
            <a:ext cx="38862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 sc_bv&lt;32&gt; &gt; bus_mux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50920" y="5229360"/>
            <a:ext cx="833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ystemC class structure is rather complica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ggest to single-step through the example to get a feel for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6400800" y="3809880"/>
            <a:ext cx="2057400" cy="457200"/>
          </a:xfrm>
          <a:prstGeom prst="wedgeRoundRectCallout">
            <a:avLst>
              <a:gd name="adj1" fmla="val 1236"/>
              <a:gd name="adj2" fmla="val -290277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 bit ve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3733920" y="914400"/>
            <a:ext cx="3504960" cy="457200"/>
          </a:xfrm>
          <a:prstGeom prst="wedgeRoundRectCallout">
            <a:avLst>
              <a:gd name="adj1" fmla="val -100361"/>
              <a:gd name="adj2" fmla="val 1645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word width W is the parame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5181480" y="3200400"/>
            <a:ext cx="2057400" cy="457200"/>
          </a:xfrm>
          <a:prstGeom prst="wedgeRoundRectCallout">
            <a:avLst>
              <a:gd name="adj1" fmla="val -4087"/>
              <a:gd name="adj2" fmla="val -16631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gnal w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4F313A2C-86EA-456A-9C86-8F75379E3BB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2-input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gate class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362320" y="2209680"/>
            <a:ext cx="4267080" cy="4191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&lt;systemc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2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&lt;bool&gt; a;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pin 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&lt;bool&gt; b;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pin 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out&lt;bool&gt; o;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output pin 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SC_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2)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the c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SC_METHO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_proces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 &lt;&lt; a &lt;&lt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or_process(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.write( a.read()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||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.read()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4038120" y="1447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5"/>
          <p:cNvSpPr/>
          <p:nvPr/>
        </p:nvSpPr>
        <p:spPr>
          <a:xfrm flipH="1">
            <a:off x="5638680" y="16002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4038120" y="1828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7"/>
          <p:cNvSpPr/>
          <p:nvPr/>
        </p:nvSpPr>
        <p:spPr>
          <a:xfrm flipH="1">
            <a:off x="4571280" y="1219320"/>
            <a:ext cx="1066680" cy="761760"/>
          </a:xfrm>
          <a:prstGeom prst="flowChartOnlineStorag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720680" y="1218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715640" y="1599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286960" y="1370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685800" y="990720"/>
            <a:ext cx="2895480" cy="990360"/>
          </a:xfrm>
          <a:prstGeom prst="wedgeRoundRectCallout">
            <a:avLst>
              <a:gd name="adj1" fmla="val 53342"/>
              <a:gd name="adj2" fmla="val 8269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clude file contai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ystemc functions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class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152280" y="2133720"/>
            <a:ext cx="2057400" cy="761760"/>
          </a:xfrm>
          <a:prstGeom prst="wedgeRoundRectCallout">
            <a:avLst>
              <a:gd name="adj1" fmla="val 61032"/>
              <a:gd name="adj2" fmla="val 3104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ystemC cla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with sc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152280" y="3048120"/>
            <a:ext cx="2133720" cy="914400"/>
          </a:xfrm>
          <a:prstGeom prst="wedgeRoundRectCallout">
            <a:avLst>
              <a:gd name="adj1" fmla="val 69791"/>
              <a:gd name="adj2" fmla="val -61287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ets up a cla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ing a modu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 function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6858000" y="836640"/>
            <a:ext cx="2286000" cy="2514600"/>
          </a:xfrm>
          <a:prstGeom prst="wedgeRoundRectCallout">
            <a:avLst>
              <a:gd name="adj1" fmla="val -213888"/>
              <a:gd name="adj2" fmla="val 4210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p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arry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gnal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object inherits al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C properti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 pin. how this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 implement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hidden from us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6934320" y="3429000"/>
            <a:ext cx="2209680" cy="838080"/>
          </a:xfrm>
          <a:prstGeom prst="wedgeRoundRectCallout">
            <a:avLst>
              <a:gd name="adj1" fmla="val -88074"/>
              <a:gd name="adj2" fmla="val 132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ly, a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in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152280" y="4191120"/>
            <a:ext cx="2133720" cy="838080"/>
          </a:xfrm>
          <a:prstGeom prst="wedgeRoundRectCallout">
            <a:avLst>
              <a:gd name="adj1" fmla="val 66888"/>
              <a:gd name="adj2" fmla="val -3882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tuff is execu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onstru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n ‘or2’ obj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7010280" y="4365720"/>
            <a:ext cx="2133720" cy="1066680"/>
          </a:xfrm>
          <a:prstGeom prst="wedgeRoundRectCallout">
            <a:avLst>
              <a:gd name="adj1" fmla="val -114212"/>
              <a:gd name="adj2" fmla="val -1487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the simulat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function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to evaluate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152280" y="5181480"/>
            <a:ext cx="2133720" cy="533520"/>
          </a:xfrm>
          <a:prstGeom prst="wedgeRoundRectCallout">
            <a:avLst>
              <a:gd name="adj1" fmla="val 66962"/>
              <a:gd name="adj2" fmla="val 270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run to proc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put p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6858000" y="6237360"/>
            <a:ext cx="2286000" cy="392040"/>
          </a:xfrm>
          <a:prstGeom prst="wedgeRoundRectCallout">
            <a:avLst>
              <a:gd name="adj1" fmla="val -134652"/>
              <a:gd name="adj2" fmla="val -12894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actual or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52280" y="5867280"/>
            <a:ext cx="2057400" cy="762120"/>
          </a:xfrm>
          <a:prstGeom prst="wedgeRoundRectCallout">
            <a:avLst>
              <a:gd name="adj1" fmla="val 79939"/>
              <a:gd name="adj2" fmla="val -5104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s read and wri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p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6877080" y="5516640"/>
            <a:ext cx="2266920" cy="608040"/>
          </a:xfrm>
          <a:prstGeom prst="wedgeRoundRectCallout">
            <a:avLst>
              <a:gd name="adj1" fmla="val -132564"/>
              <a:gd name="adj2" fmla="val -12754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the method w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 or b chan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547EE5B-DFC5-4128-882A-3D3CE580E2F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program structur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838080" y="1447920"/>
            <a:ext cx="4191120" cy="502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systemc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“and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“o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etc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ma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int argc, char *argv[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1: Instantiate gate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2: Instantiate signal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3: Connect the gates to signa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4: specify which values to pr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5: put values on signal objec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6: Start simulator ru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86400" y="1142640"/>
            <a:ext cx="3378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a data structure is built that describes the circ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et of module (cell-)objects with attached pin objec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 objects tie the pins toge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the simulation can be star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imulation need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 va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ist of pins that is to repor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45919E6F-E7C0-4BDE-89AC-B70C8928DF2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1: make the gate objec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12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14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AutoShape 15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17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0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21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22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1371600" y="4495680"/>
            <a:ext cx="71629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1: instantiate the gate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2  or1("or1"), or8(“or8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3  or2(“or2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2 and3("and3"), and4("and4"), and5("and5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3 and6("and6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2 nor7(“nor7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  inv9(“inv9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24"/>
          <p:cNvSpPr/>
          <p:nvPr/>
        </p:nvSpPr>
        <p:spPr>
          <a:xfrm>
            <a:off x="6095880" y="3809880"/>
            <a:ext cx="1676520" cy="381240"/>
          </a:xfrm>
          <a:prstGeom prst="wedgeRoundRectCallout">
            <a:avLst>
              <a:gd name="adj1" fmla="val -159185"/>
              <a:gd name="adj2" fmla="val 21791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 na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25"/>
          <p:cNvSpPr/>
          <p:nvPr/>
        </p:nvSpPr>
        <p:spPr>
          <a:xfrm>
            <a:off x="152280" y="4572000"/>
            <a:ext cx="1371600" cy="533520"/>
          </a:xfrm>
          <a:prstGeom prst="wedgeRoundRectCallout">
            <a:avLst>
              <a:gd name="adj1" fmla="val 62615"/>
              <a:gd name="adj2" fmla="val 9047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utoShape 26"/>
          <p:cNvSpPr/>
          <p:nvPr/>
        </p:nvSpPr>
        <p:spPr>
          <a:xfrm>
            <a:off x="5867280" y="5715000"/>
            <a:ext cx="1447920" cy="533520"/>
          </a:xfrm>
          <a:prstGeom prst="wedgeRoundRectCallout">
            <a:avLst>
              <a:gd name="adj1" fmla="val -136625"/>
              <a:gd name="adj2" fmla="val -99402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to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t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3656013-19F8-433B-B441-B276D5EB0EE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and our MIPS project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85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part of the lab you’ll be building a real MIPS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we discuss the so-called mmMIPS (miniminiMI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your book, ch 5 and 6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d) / ch 4 (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only 9 instructions, in 3 categor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load and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nch and ju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d in System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lab (exercise B) we directly start with the mMIPS (miniMI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bout 35 instru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run C-code by using the available LCC C-comp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C; we discu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ics (module example, tracing, main func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es and submod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EDBE6F4D-8A1B-4EEB-9AE1-5D2ED7C623B6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2: make the signal objec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457200" y="3657600"/>
            <a:ext cx="4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13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5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6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7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21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AutoShape 22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23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7010280" y="3429000"/>
            <a:ext cx="685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7086600" y="1600200"/>
            <a:ext cx="533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1295280" y="4495680"/>
            <a:ext cx="7239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from previous page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2: instantiate the signal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A, B, CI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CO, SUM;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output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or_1, or_2, and_3, and_4;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ternal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and_5, and_6, nor_7;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ternal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27"/>
          <p:cNvSpPr/>
          <p:nvPr/>
        </p:nvSpPr>
        <p:spPr>
          <a:xfrm>
            <a:off x="152280" y="4495680"/>
            <a:ext cx="1371600" cy="533520"/>
          </a:xfrm>
          <a:prstGeom prst="wedgeRoundRectCallout">
            <a:avLst>
              <a:gd name="adj1" fmla="val 60185"/>
              <a:gd name="adj2" fmla="val 9256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5410080" y="3733920"/>
            <a:ext cx="1828800" cy="533160"/>
          </a:xfrm>
          <a:prstGeom prst="wedgeRoundRectCallout">
            <a:avLst>
              <a:gd name="adj1" fmla="val -188194"/>
              <a:gd name="adj2" fmla="val 23750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cla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2971800" y="1219320"/>
            <a:ext cx="744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or_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2971800" y="3200400"/>
            <a:ext cx="744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or_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038480" y="1295280"/>
            <a:ext cx="1024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5257800" y="1447920"/>
            <a:ext cx="83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or_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191120" y="2362320"/>
            <a:ext cx="931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191120" y="2895480"/>
            <a:ext cx="83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4191120" y="3886200"/>
            <a:ext cx="931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3171AE5-F2AE-4A4B-9870-C3EB4CA4121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3: Connecting pins of gates to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457200" y="3657600"/>
            <a:ext cx="4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AutoShape 13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4176720" y="1646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AutoShape 16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1706400" y="18288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2987640" y="1463760"/>
            <a:ext cx="5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1341360" y="1281240"/>
            <a:ext cx="1006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523880" y="1646280"/>
            <a:ext cx="824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21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5456160" y="1828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Oval 23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Oval 24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25"/>
          <p:cNvSpPr/>
          <p:nvPr/>
        </p:nvSpPr>
        <p:spPr>
          <a:xfrm>
            <a:off x="6553080" y="1828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26"/>
          <p:cNvSpPr/>
          <p:nvPr/>
        </p:nvSpPr>
        <p:spPr>
          <a:xfrm>
            <a:off x="4359240" y="201312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AutoShape 27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4176720" y="237816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4359240" y="2013120"/>
            <a:ext cx="0" cy="36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0"/>
          <p:cNvSpPr/>
          <p:nvPr/>
        </p:nvSpPr>
        <p:spPr>
          <a:xfrm flipV="1">
            <a:off x="5638680" y="1828800"/>
            <a:ext cx="0" cy="1006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1"/>
          <p:cNvSpPr/>
          <p:nvPr/>
        </p:nvSpPr>
        <p:spPr>
          <a:xfrm>
            <a:off x="1341360" y="1281240"/>
            <a:ext cx="0" cy="2468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AutoShape 32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AutoShape 33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AutoShape 34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AutoShape 35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2987640" y="3384720"/>
            <a:ext cx="5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792000" y="411624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38"/>
          <p:cNvSpPr/>
          <p:nvPr/>
        </p:nvSpPr>
        <p:spPr>
          <a:xfrm>
            <a:off x="792000" y="393372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792000" y="374976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40"/>
          <p:cNvSpPr/>
          <p:nvPr/>
        </p:nvSpPr>
        <p:spPr>
          <a:xfrm>
            <a:off x="1523880" y="164628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41"/>
          <p:cNvSpPr/>
          <p:nvPr/>
        </p:nvSpPr>
        <p:spPr>
          <a:xfrm>
            <a:off x="1706400" y="182880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1523880" y="2562120"/>
            <a:ext cx="201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43"/>
          <p:cNvSpPr/>
          <p:nvPr/>
        </p:nvSpPr>
        <p:spPr>
          <a:xfrm>
            <a:off x="1341360" y="3200400"/>
            <a:ext cx="1006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4"/>
          <p:cNvSpPr/>
          <p:nvPr/>
        </p:nvSpPr>
        <p:spPr>
          <a:xfrm>
            <a:off x="1706400" y="3567240"/>
            <a:ext cx="64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1523880" y="3384720"/>
            <a:ext cx="824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46"/>
          <p:cNvSpPr/>
          <p:nvPr/>
        </p:nvSpPr>
        <p:spPr>
          <a:xfrm>
            <a:off x="3170160" y="2835360"/>
            <a:ext cx="2468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47"/>
          <p:cNvSpPr/>
          <p:nvPr/>
        </p:nvSpPr>
        <p:spPr>
          <a:xfrm>
            <a:off x="3170160" y="3017880"/>
            <a:ext cx="365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3170160" y="2835000"/>
            <a:ext cx="0" cy="182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49"/>
          <p:cNvSpPr/>
          <p:nvPr/>
        </p:nvSpPr>
        <p:spPr>
          <a:xfrm>
            <a:off x="4359240" y="338472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50"/>
          <p:cNvSpPr/>
          <p:nvPr/>
        </p:nvSpPr>
        <p:spPr>
          <a:xfrm>
            <a:off x="4176720" y="320040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4359240" y="3200400"/>
            <a:ext cx="0" cy="184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4359240" y="3749400"/>
            <a:ext cx="0" cy="182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53"/>
          <p:cNvSpPr/>
          <p:nvPr/>
        </p:nvSpPr>
        <p:spPr>
          <a:xfrm>
            <a:off x="4359240" y="374976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54"/>
          <p:cNvSpPr/>
          <p:nvPr/>
        </p:nvSpPr>
        <p:spPr>
          <a:xfrm>
            <a:off x="4176720" y="393228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55"/>
          <p:cNvSpPr/>
          <p:nvPr/>
        </p:nvSpPr>
        <p:spPr>
          <a:xfrm>
            <a:off x="5273640" y="3567240"/>
            <a:ext cx="1736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5589720" y="1793880"/>
            <a:ext cx="9180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1482840" y="251460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1300320" y="314316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Oval 59"/>
          <p:cNvSpPr/>
          <p:nvPr/>
        </p:nvSpPr>
        <p:spPr>
          <a:xfrm>
            <a:off x="1471680" y="334152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60"/>
          <p:cNvSpPr/>
          <p:nvPr/>
        </p:nvSpPr>
        <p:spPr>
          <a:xfrm>
            <a:off x="1658880" y="35193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Oval 61"/>
          <p:cNvSpPr/>
          <p:nvPr/>
        </p:nvSpPr>
        <p:spPr>
          <a:xfrm>
            <a:off x="1293840" y="3703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Oval 62"/>
          <p:cNvSpPr/>
          <p:nvPr/>
        </p:nvSpPr>
        <p:spPr>
          <a:xfrm>
            <a:off x="1474920" y="3895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Oval 63"/>
          <p:cNvSpPr/>
          <p:nvPr/>
        </p:nvSpPr>
        <p:spPr>
          <a:xfrm>
            <a:off x="1654200" y="4067280"/>
            <a:ext cx="903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64"/>
          <p:cNvSpPr/>
          <p:nvPr/>
        </p:nvSpPr>
        <p:spPr>
          <a:xfrm>
            <a:off x="1341360" y="2311560"/>
            <a:ext cx="219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Oval 65"/>
          <p:cNvSpPr/>
          <p:nvPr/>
        </p:nvSpPr>
        <p:spPr>
          <a:xfrm>
            <a:off x="1300320" y="227484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66"/>
          <p:cNvSpPr/>
          <p:nvPr/>
        </p:nvSpPr>
        <p:spPr>
          <a:xfrm>
            <a:off x="7010280" y="3429000"/>
            <a:ext cx="685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67"/>
          <p:cNvSpPr/>
          <p:nvPr/>
        </p:nvSpPr>
        <p:spPr>
          <a:xfrm>
            <a:off x="7086600" y="1600200"/>
            <a:ext cx="533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68"/>
          <p:cNvSpPr/>
          <p:nvPr/>
        </p:nvSpPr>
        <p:spPr>
          <a:xfrm>
            <a:off x="1295280" y="4419720"/>
            <a:ext cx="7239240" cy="243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3: Connect the gates to the signal ne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1.a(A); or1.b(B); or1.o(or_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2.a(A); or2.b(B); or2.c(CI); or2.o(or_2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3.a(or_1); and3.b(CI); and3.o(and_3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4.a(A); and4.b(B); and4.o(and_4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5.a(nor_7); and5.b(or_2); and5.o(and_5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6.a(A); and6.b(B); and6.c(CI); and6.o(and_6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7.a(and_3); nor7.b(and_4); nor7.o(nor_7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8.a(and_5); or8.b(and_6); or8.o(SUM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9.a(nor_7); inv9.o(CO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AutoShape 69"/>
          <p:cNvSpPr/>
          <p:nvPr/>
        </p:nvSpPr>
        <p:spPr>
          <a:xfrm>
            <a:off x="5257800" y="3809880"/>
            <a:ext cx="2514600" cy="457200"/>
          </a:xfrm>
          <a:prstGeom prst="wedgeRoundRectCallout">
            <a:avLst>
              <a:gd name="adj1" fmla="val -58712"/>
              <a:gd name="adj2" fmla="val 19236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instance object or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AutoShape 70"/>
          <p:cNvSpPr/>
          <p:nvPr/>
        </p:nvSpPr>
        <p:spPr>
          <a:xfrm>
            <a:off x="6324480" y="4343400"/>
            <a:ext cx="1447920" cy="457200"/>
          </a:xfrm>
          <a:prstGeom prst="wedgeRoundRectCallout">
            <a:avLst>
              <a:gd name="adj1" fmla="val -114037"/>
              <a:gd name="adj2" fmla="val 80555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 object 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71"/>
          <p:cNvSpPr/>
          <p:nvPr/>
        </p:nvSpPr>
        <p:spPr>
          <a:xfrm>
            <a:off x="6553080" y="5181480"/>
            <a:ext cx="1752840" cy="457200"/>
          </a:xfrm>
          <a:prstGeom prst="wedgeRoundRectCallout">
            <a:avLst>
              <a:gd name="adj1" fmla="val -85509"/>
              <a:gd name="adj2" fmla="val -645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net obj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72"/>
          <p:cNvSpPr/>
          <p:nvPr/>
        </p:nvSpPr>
        <p:spPr>
          <a:xfrm>
            <a:off x="2971800" y="12193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_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73"/>
          <p:cNvSpPr/>
          <p:nvPr/>
        </p:nvSpPr>
        <p:spPr>
          <a:xfrm>
            <a:off x="2971800" y="32004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_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74"/>
          <p:cNvSpPr/>
          <p:nvPr/>
        </p:nvSpPr>
        <p:spPr>
          <a:xfrm>
            <a:off x="4038480" y="1219320"/>
            <a:ext cx="609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5257800" y="21337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_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6"/>
          <p:cNvSpPr/>
          <p:nvPr/>
        </p:nvSpPr>
        <p:spPr>
          <a:xfrm>
            <a:off x="4191120" y="23623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77"/>
          <p:cNvSpPr/>
          <p:nvPr/>
        </p:nvSpPr>
        <p:spPr>
          <a:xfrm>
            <a:off x="4191120" y="29718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78"/>
          <p:cNvSpPr/>
          <p:nvPr/>
        </p:nvSpPr>
        <p:spPr>
          <a:xfrm>
            <a:off x="4191120" y="38862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908CAF01-5A9F-4487-BF6D-572F733B05E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unning the simul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685800" y="1066680"/>
            <a:ext cx="7696080" cy="553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.. continued from previous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initialize(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itialize the simulation engi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create the file to store simulation resul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trace_file *tf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reate_vcd_trace_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"trace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4: specify the signals we’d like to record in the trac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A, "A"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B, "B")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CI, “CI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SUM, “SUM"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CO, "CO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5: put values on the input signal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=0; B=0; CI=0;         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itialize the input valu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ycle(10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 int i = 0 ; i &lt; 8 ; i++ )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generate all input combin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 = ((i &amp; 0x1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A is the bit0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 = ((i &amp; 0x2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B is the bit1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I = ((i &amp; 0x4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CI is the bit2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ycle(10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evalu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lose_vcd_trace_file(tf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close file and we’re do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7443580-3CA9-4BD1-86AC-9429AD55C83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veform view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7" name="Picture 3" descr="screen"/>
          <p:cNvPicPr/>
          <p:nvPr/>
        </p:nvPicPr>
        <p:blipFill>
          <a:blip r:embed="rId1"/>
          <a:stretch/>
        </p:blipFill>
        <p:spPr>
          <a:xfrm>
            <a:off x="0" y="990720"/>
            <a:ext cx="8916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831A53B-FA8E-4C18-AF80-6F2ED48EE22A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79360" y="1294920"/>
            <a:ext cx="8585280" cy="19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are the basic building blocks to partition a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hey allow to partition complex systems in smaller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hide internal data representation, use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are classes in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 module is similar to an „entity“ in VH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908000" y="3573360"/>
            <a:ext cx="6624720" cy="252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굴림"/>
              </a:rPr>
              <a:t>SC_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(module_nam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Ports declar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ignals decla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Module constructor : SC_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Process constructors and sensibility li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          SC_METHO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ub-Modules creation and port mapp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ignals initializ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28263D9-252D-4AFA-B9EE-516B6808AA6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A Mux 2:1 modul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708360" y="1773360"/>
            <a:ext cx="4897440" cy="423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Courier New"/>
              </a:rPr>
              <a:t>SC_MODU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Mux21 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sc_uint&lt;8&gt; &gt;   in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sc_uint&lt;8&gt; &gt;   in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bool &gt;         selec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out&lt; sc_uint&lt;8&gt; &gt;  ou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doIt( void 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CTOR( Mux21 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METHOD( doIt 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selec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in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in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222120" y="2997360"/>
            <a:ext cx="2883240" cy="2773440"/>
            <a:chOff x="222120" y="2997360"/>
            <a:chExt cx="2883240" cy="2773440"/>
          </a:xfrm>
        </p:grpSpPr>
        <p:sp>
          <p:nvSpPr>
            <p:cNvPr id="426" name="Rectangle 5"/>
            <p:cNvSpPr/>
            <p:nvPr/>
          </p:nvSpPr>
          <p:spPr>
            <a:xfrm>
              <a:off x="1163160" y="2997360"/>
              <a:ext cx="968400" cy="1918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2131920" y="40017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371160" y="35445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371160" y="427572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Line 9"/>
            <p:cNvSpPr/>
            <p:nvPr/>
          </p:nvSpPr>
          <p:spPr>
            <a:xfrm>
              <a:off x="1691280" y="4915800"/>
              <a:ext cx="0" cy="547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222840" y="31802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222120" y="39114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12"/>
            <p:cNvSpPr/>
            <p:nvPr/>
          </p:nvSpPr>
          <p:spPr>
            <a:xfrm>
              <a:off x="1148400" y="54637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2642760" y="3544560"/>
              <a:ext cx="46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4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B27A7186-E76E-4646-8D0C-FE7B22A33F0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Submodules and Connec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580000" y="1557000"/>
            <a:ext cx="32083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Example: 'filter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Object 4"/>
          <p:cNvGraphicFramePr/>
          <p:nvPr/>
        </p:nvGraphicFramePr>
        <p:xfrm>
          <a:off x="5435640" y="2133720"/>
          <a:ext cx="360036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133720"/>
                    <a:ext cx="360036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5"/>
          <p:cNvSpPr/>
          <p:nvPr/>
        </p:nvSpPr>
        <p:spPr>
          <a:xfrm>
            <a:off x="108000" y="1268280"/>
            <a:ext cx="5184720" cy="520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MODULE(filter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Sub-modules : “compon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ample *s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oeff  *c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mult   *m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signal&lt;sc_uint &lt;32&gt; &gt; q, s, c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Signa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C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onstructor : “architecture”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CTOR(filter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Sub-modules instantiation an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sample (“s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-&gt;din(q);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name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-&gt;dout(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coeff(“c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1-&gt;out(c);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name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m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mult (“m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(*m1)(s, c, q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Positional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0D295F0-3F4B-4399-8169-5B133AA06A9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3 types of Process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hen activated, executes and returns (just like a func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METHOD(process_nam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staticly kept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event on sensitivity l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 be suspended and reactiv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ait() -&gt; suspends exec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event on sensitivity l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THREAD(process_nam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the clock pu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CTHREAD(process_name, clock valu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9176263-9758-4A4D-9084-A3E1189A2E9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fining the Sensitivity List of a Proc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79360" y="105264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s a single port or signal as argu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(sig1); sensitive(sig2); sensitive(sig3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the stream no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s an arbitrary number of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 &lt;&lt; sig1 &lt;&lt; sig2 &lt;&lt; sig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_p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eith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sensitivity to positive edge of Boolean signal or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_pos &lt;&lt; cl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_ne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either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sensitivity to negative edge of Boolean signal or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_neg &lt;&lt; cl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1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9BDA321-56A0-45B7-9244-E105F5B05B8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n Example of an SC_THREA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26920" y="1484280"/>
            <a:ext cx="5905800" cy="448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o_count(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while(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0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count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++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.write(valu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wait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5292720" y="4508640"/>
            <a:ext cx="3168720" cy="576000"/>
          </a:xfrm>
          <a:prstGeom prst="wedgeRoundRectCallout">
            <a:avLst>
              <a:gd name="adj1" fmla="val -120342"/>
              <a:gd name="adj2" fmla="val 39532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till next event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5580000" y="1484280"/>
            <a:ext cx="3168720" cy="576360"/>
          </a:xfrm>
          <a:prstGeom prst="wedgeRoundRectCallout">
            <a:avLst>
              <a:gd name="adj1" fmla="val -123847"/>
              <a:gd name="adj2" fmla="val 64324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at fore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3402889-6EED-4C95-804D-99FF72E7E9A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mMIPS (pipelined version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3" descr="800px-Pipeline_MIPS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190D8E8-2556-47A1-AF12-28603284814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read Processes: wait( ) Func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used in both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cesses but not in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METHO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cess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spends execution of the process until the process is invoked ag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&lt;pos_int&gt;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used to wait for a certain number of cycle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ly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ynchronous proces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before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one cy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after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ecuted in the next cy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synchronous proces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before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the last ev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after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the next 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E5524F0D-D5B5-4AED-9885-0639BED2E4B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C_THREAD Example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41200" y="1413000"/>
            <a:ext cx="4043520" cy="37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y_modu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id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ock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sc_uint&lt;3&gt; &gt;  in_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sc_uint&lt;3&gt; &gt;  in_b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sc_uint&lt;3&gt; &gt; out_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y_thread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y_modu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THREAD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my_threa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ock.pos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88000" y="2924280"/>
            <a:ext cx="4066920" cy="328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my_module.cp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y_module::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my_thread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990099"/>
                </a:solidFill>
                <a:latin typeface="Courier New"/>
                <a:ea typeface="Courier New"/>
              </a:rPr>
              <a:t>while(tru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d.rea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_c.write(in_a.read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_c.write(in_b.read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990099"/>
                </a:solidFill>
                <a:latin typeface="Courier New"/>
                <a:ea typeface="Courier New"/>
              </a:rPr>
              <a:t>wa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703400" y="215568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read implementa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4E2B750-0E5B-4253-94CA-2744CF84599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C_CTHREA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 be deprecated in future relea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identical to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implements “clocked thread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sitive only to one edge of one and only one c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triggered if inputs other than the clock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s the behavior of unregistered inputs and registered outpu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for high level simulations, where the clock is used as the only synchronization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wait_until(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watching(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mantics for easy deploy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3DE6DF5-14E6-4B3C-995B-7C517808685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unter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79280" y="1628640"/>
            <a:ext cx="4392720" cy="4143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countsu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double&gt;  in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double&gt;  in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double&gt; su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double&gt; diff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   cl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sub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structor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countsu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eclare addsub as SC_METHOD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addsu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ke it sensitiv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ve clo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292720" y="1628640"/>
            <a:ext cx="3300480" cy="2225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efinition of addsub metho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untsub::addsub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in1.read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in2.read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.write(a+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.write(a-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6"/>
          <p:cNvGrpSpPr/>
          <p:nvPr/>
        </p:nvGrpSpPr>
        <p:grpSpPr>
          <a:xfrm>
            <a:off x="5348160" y="4581360"/>
            <a:ext cx="3400560" cy="1368720"/>
            <a:chOff x="5348160" y="4581360"/>
            <a:chExt cx="3400560" cy="1368720"/>
          </a:xfrm>
        </p:grpSpPr>
        <p:sp>
          <p:nvSpPr>
            <p:cNvPr id="472" name="Rectangle 7"/>
            <p:cNvSpPr/>
            <p:nvPr/>
          </p:nvSpPr>
          <p:spPr>
            <a:xfrm>
              <a:off x="6227640" y="4724280"/>
              <a:ext cx="1729080" cy="1225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dder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racto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Line 8"/>
            <p:cNvSpPr/>
            <p:nvPr/>
          </p:nvSpPr>
          <p:spPr>
            <a:xfrm>
              <a:off x="5435640" y="4869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>
              <a:off x="5435640" y="537372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5435640" y="5877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7956720" y="501336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7956720" y="558972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Text Box 13"/>
            <p:cNvSpPr/>
            <p:nvPr/>
          </p:nvSpPr>
          <p:spPr>
            <a:xfrm>
              <a:off x="5348160" y="45813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5362560" y="5084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Text Box 15"/>
            <p:cNvSpPr/>
            <p:nvPr/>
          </p:nvSpPr>
          <p:spPr>
            <a:xfrm>
              <a:off x="5371200" y="55897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16"/>
            <p:cNvSpPr/>
            <p:nvPr/>
          </p:nvSpPr>
          <p:spPr>
            <a:xfrm>
              <a:off x="8041320" y="472428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17"/>
            <p:cNvSpPr/>
            <p:nvPr/>
          </p:nvSpPr>
          <p:spPr>
            <a:xfrm>
              <a:off x="8050680" y="530064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f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D285EDEA-BFE5-4C90-9FCA-08D20EA6F74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orts of a module are the external interfaces that pass information to and from a mod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 SystemC one port can be IN, OUT or IN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ignals are used to connect module ports allowing module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imilar to ports and signals in VHD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379F63D2-420B-4EA9-8A6E-2C45C8A8481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ypes of ports and signa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ll natives C/C++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ll SystemC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ser defined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w to dec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&lt;port_typ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UT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out&lt;port_typ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Bi-Directional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out&lt;port_typ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8FFB03F-513B-4CAD-B318-CCDD1F31109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w to read and write a port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s read( ); and write( 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_tmp = in.read( );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//reads the port in to in_t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out.write(out_temp);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//writes out_temp in the out 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02A85BE-B83C-486D-8782-2FDCF0B20288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Comic Sans MS"/>
              </a:rPr>
              <a:t>Cloc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79360" y="1294920"/>
            <a:ext cx="858528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Special obj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How to create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clock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_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_lab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”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erio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uty_rati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itial_valu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Clock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f1.clk( clk_signal );  //where f1 is a mod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3492360" y="4869000"/>
          <a:ext cx="475308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869000"/>
                    <a:ext cx="4753080" cy="146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8E46F56-78CD-41DA-AEDA-ADF6ECE2737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Data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suppor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all C/C++ native typ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plus specific SystemC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typ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Types for systems mod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2 values (‘0’,’1’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4 values (‘0’,’1’,’Z’,’X’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Arbitrary size integer (Signed/Unsign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Fixed poi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461566FA-C473-42AA-9C1A-ACE8586408CF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C_LOGIC typ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re general than bool, 4 values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(‘0’ (false), ‘1’ (true), ‘X’ (undefined) , ‘Z’(high-impedance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like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logic = ‘0’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logic = ‘Z’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mulation time bigger than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perators like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logic my_logic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301D512D-8166-4191-A18C-9C50B8F2E66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ardware-software co-desig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9000" y="1125360"/>
            <a:ext cx="6669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re designing a processor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25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hardware that runs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to design BOTH hardware and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25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nce the nam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Hardware-Software co-desig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ur case the hardware is an FPGA. In real life this could be a multi-million dollar chip that takes 6 months to implement in hard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to emulate/simulate the hardware before we’re actually making it. In this way errors can be found early 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mulation model of the hardware can be described in ‘SystemC’. This is actually a C++ program with a special toolki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lso compile our SystemC processor into FPGA hardware;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o we use SystemC for 2 purpo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51640" y="1557360"/>
            <a:ext cx="1441440" cy="855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451640" y="4149720"/>
            <a:ext cx="1441440" cy="855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6" descr="jukebox3pix2"/>
          <p:cNvPicPr/>
          <p:nvPr/>
        </p:nvPicPr>
        <p:blipFill>
          <a:blip r:embed="rId1"/>
          <a:stretch/>
        </p:blipFill>
        <p:spPr>
          <a:xfrm>
            <a:off x="6875640" y="2637000"/>
            <a:ext cx="1011240" cy="102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812000" y="5229360"/>
            <a:ext cx="1036800" cy="151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Line 8"/>
          <p:cNvSpPr/>
          <p:nvPr/>
        </p:nvSpPr>
        <p:spPr>
          <a:xfrm flipV="1">
            <a:off x="8244000" y="3573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883640" y="3068640"/>
            <a:ext cx="718920" cy="42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824400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0023E2B-3ABB-4B9F-BF88-6E13F8BA745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Fixed precision integ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Used when arithmetic operations need fixed size arithmetic opera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 can be converted in UINT and vice-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” in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The size depends on the mach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Faster in the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1-64 bits integer in System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t&lt;n&gt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-- signed integer with n-bi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uint&lt;n&gt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-- unsigned integer with n-bi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34CAF67-B92F-457A-9BD3-90ED8E10ECC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Arbitrary precision integ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ger bigger than 6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igint&lt;n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iguint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re precision, slow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an be used together wit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ger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t, sc_u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DF7FB0C-960F-4CB6-890C-1A1B43E1C0F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Other SystemC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864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Bit v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v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2-valued vector (0/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Not used in arithmetics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Faster simulation than sc_l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Logic V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lv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Vector of the 4-valued sc_logic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operator (“=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vector = “XZ01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nversion between vector and integer (int or u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between sc_bv and sc_l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8A3E2DA-72FD-4ADA-A02B-E0462C87ED7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SystemC types overvi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125360"/>
          <a:ext cx="5689440" cy="5399280"/>
        </p:xfrm>
        <a:graphic>
          <a:graphicData uri="http://schemas.openxmlformats.org/drawingml/2006/table">
            <a:tbl>
              <a:tblPr/>
              <a:tblGrid>
                <a:gridCol w="1906560"/>
                <a:gridCol w="378288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log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imple bit with 4 values(0/1/X/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igned Integer from 1-64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signed Integer from 1-64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ig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signed inte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igu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unsigned 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2-values v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4-values v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emplated 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emplated un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f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templated 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f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templated un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AutoShape 44"/>
          <p:cNvSpPr/>
          <p:nvPr/>
        </p:nvSpPr>
        <p:spPr>
          <a:xfrm>
            <a:off x="6118200" y="3213000"/>
            <a:ext cx="3025800" cy="1440000"/>
          </a:xfrm>
          <a:prstGeom prst="wedgeRoundRectCallout">
            <a:avLst>
              <a:gd name="adj1" fmla="val -78750"/>
              <a:gd name="adj2" fmla="val 74365"/>
              <a:gd name="adj3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e chapter 7 of the SystemC user manual for all details on Fixed Point 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2D78262-8CB4-4E45-A83B-27886C16798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Examples of use of SystemC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6119640" cy="3889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it y, sc_bv&lt;8&gt; x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y = x[6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v&lt;16&gt; x, sc_bv&lt;8&gt; 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y = x.range(0,7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v&lt;64&gt; databus, sc_logic resul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sult = databus.or_reduce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lv&lt;32&gt; bus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ut &lt;&lt; “bus = “ &lt;&lt; bus2.to_string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E5CA9B98-B746-4267-AB4F-6C63DC3A635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96000" y="2924280"/>
            <a:ext cx="3168720" cy="16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ple – Half ad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559040" cy="41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systemc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half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c_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bool&gt; a,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c_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bool&gt;sum, carry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oc_half_adder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half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METHO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(proc_half_adder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ensitiv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&lt;&lt; a &lt;&lt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half_adder::proc_half_adder(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= a ^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rry = a &amp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5797440" y="343044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5796000" y="407664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8172360" y="3429000"/>
            <a:ext cx="828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8172360" y="407664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9"/>
          <p:cNvGrpSpPr/>
          <p:nvPr/>
        </p:nvGrpSpPr>
        <p:grpSpPr>
          <a:xfrm>
            <a:off x="6513480" y="3141720"/>
            <a:ext cx="1699920" cy="1225440"/>
            <a:chOff x="6513480" y="3141720"/>
            <a:chExt cx="1699920" cy="1225440"/>
          </a:xfrm>
        </p:grpSpPr>
        <p:sp>
          <p:nvSpPr>
            <p:cNvPr id="528" name="Rectangle 10"/>
            <p:cNvSpPr/>
            <p:nvPr/>
          </p:nvSpPr>
          <p:spPr>
            <a:xfrm>
              <a:off x="6516720" y="314172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 Box 11"/>
            <p:cNvSpPr/>
            <p:nvPr/>
          </p:nvSpPr>
          <p:spPr>
            <a:xfrm>
              <a:off x="6513480" y="32130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6516000" y="39337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Text Box 13"/>
            <p:cNvSpPr/>
            <p:nvPr/>
          </p:nvSpPr>
          <p:spPr>
            <a:xfrm>
              <a:off x="7647480" y="321300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7608960" y="393372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D24FB58D-FDE7-4AD2-8C69-A284C735362B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6070320" cy="48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half_adde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MODULE (full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in&lt;bool&gt;a, b, carry_in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out&lt;bool&gt;sum, carry_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signal&lt;bool&gt;c1, s2, c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oc_or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808000"/>
                </a:solidFill>
                <a:latin typeface="Courier New"/>
                <a:ea typeface="新細明體"/>
              </a:rPr>
              <a:t>half_adder ha1(“ha1”), ha2(“ha2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CTOR(full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a(a);                  //by name conne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b(b)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sum(s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carry(c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h2(s1, carry_in, sum, c2)  //by position conne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METHOD (proc_or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nsitive &lt;&lt; c1 &lt;&lt; c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356000" y="1557360"/>
            <a:ext cx="460872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escribing Hierarchy: Full ad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7" name="Group 5"/>
          <p:cNvGrpSpPr/>
          <p:nvPr/>
        </p:nvGrpSpPr>
        <p:grpSpPr>
          <a:xfrm>
            <a:off x="6873840" y="2421000"/>
            <a:ext cx="1699920" cy="1225440"/>
            <a:chOff x="6873840" y="2421000"/>
            <a:chExt cx="1699920" cy="1225440"/>
          </a:xfrm>
        </p:grpSpPr>
        <p:sp>
          <p:nvSpPr>
            <p:cNvPr id="538" name="Rectangle 6"/>
            <p:cNvSpPr/>
            <p:nvPr/>
          </p:nvSpPr>
          <p:spPr>
            <a:xfrm>
              <a:off x="6877080" y="242100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 ha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7"/>
            <p:cNvSpPr/>
            <p:nvPr/>
          </p:nvSpPr>
          <p:spPr>
            <a:xfrm>
              <a:off x="6873840" y="24922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6876360" y="32130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Text Box 9"/>
            <p:cNvSpPr/>
            <p:nvPr/>
          </p:nvSpPr>
          <p:spPr>
            <a:xfrm>
              <a:off x="8007840" y="249228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Text Box 10"/>
            <p:cNvSpPr/>
            <p:nvPr/>
          </p:nvSpPr>
          <p:spPr>
            <a:xfrm>
              <a:off x="7969320" y="321300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3" name="Group 11"/>
          <p:cNvGrpSpPr/>
          <p:nvPr/>
        </p:nvGrpSpPr>
        <p:grpSpPr>
          <a:xfrm>
            <a:off x="4784760" y="1700280"/>
            <a:ext cx="1699920" cy="1225440"/>
            <a:chOff x="4784760" y="1700280"/>
            <a:chExt cx="1699920" cy="1225440"/>
          </a:xfrm>
        </p:grpSpPr>
        <p:sp>
          <p:nvSpPr>
            <p:cNvPr id="544" name="Rectangle 12"/>
            <p:cNvSpPr/>
            <p:nvPr/>
          </p:nvSpPr>
          <p:spPr>
            <a:xfrm>
              <a:off x="4788000" y="170028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 ha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Text Box 13"/>
            <p:cNvSpPr/>
            <p:nvPr/>
          </p:nvSpPr>
          <p:spPr>
            <a:xfrm>
              <a:off x="4784760" y="17715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Text Box 14"/>
            <p:cNvSpPr/>
            <p:nvPr/>
          </p:nvSpPr>
          <p:spPr>
            <a:xfrm>
              <a:off x="4787280" y="2492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Text Box 15"/>
            <p:cNvSpPr/>
            <p:nvPr/>
          </p:nvSpPr>
          <p:spPr>
            <a:xfrm>
              <a:off x="5918760" y="177156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Text Box 16"/>
            <p:cNvSpPr/>
            <p:nvPr/>
          </p:nvSpPr>
          <p:spPr>
            <a:xfrm>
              <a:off x="5880240" y="249228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Line 17"/>
          <p:cNvSpPr/>
          <p:nvPr/>
        </p:nvSpPr>
        <p:spPr>
          <a:xfrm>
            <a:off x="4356000" y="1989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18"/>
          <p:cNvSpPr/>
          <p:nvPr/>
        </p:nvSpPr>
        <p:spPr>
          <a:xfrm>
            <a:off x="435600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19"/>
          <p:cNvSpPr/>
          <p:nvPr/>
        </p:nvSpPr>
        <p:spPr>
          <a:xfrm>
            <a:off x="644364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20"/>
          <p:cNvSpPr/>
          <p:nvPr/>
        </p:nvSpPr>
        <p:spPr>
          <a:xfrm>
            <a:off x="4356000" y="3357720"/>
            <a:ext cx="252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21"/>
          <p:cNvSpPr/>
          <p:nvPr/>
        </p:nvSpPr>
        <p:spPr>
          <a:xfrm>
            <a:off x="853272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22"/>
          <p:cNvSpPr/>
          <p:nvPr/>
        </p:nvSpPr>
        <p:spPr>
          <a:xfrm>
            <a:off x="6443640" y="1916280"/>
            <a:ext cx="252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23"/>
          <p:cNvSpPr/>
          <p:nvPr/>
        </p:nvSpPr>
        <p:spPr>
          <a:xfrm>
            <a:off x="8532720" y="33577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4424400" y="17002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4419000" y="23493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4449960" y="30686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rry_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8471520" y="162864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FD1D438-D6E9-4BBC-8618-11F0809C6ED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ain --- Top Modul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329440" cy="540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full_adde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pattern_gen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monito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int sc_main(int argc, char* argv[]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full_adder f1(“Fulladder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connect using positional associ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ttern_gen pg_ptr = new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ttern_gen(“Generation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connection using named associ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g_ptr-&gt;d_a(t_a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g_ptr-&gt;d_b(t_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g_ptr-&gt;d_cin(t_cin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itor mol(“Monitor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start(100, SC_N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5003640" y="836640"/>
            <a:ext cx="3995640" cy="2376360"/>
            <a:chOff x="5003640" y="836640"/>
            <a:chExt cx="3995640" cy="2376360"/>
          </a:xfrm>
        </p:grpSpPr>
        <p:sp>
          <p:nvSpPr>
            <p:cNvPr id="564" name="Rectangle 5"/>
            <p:cNvSpPr/>
            <p:nvPr/>
          </p:nvSpPr>
          <p:spPr>
            <a:xfrm>
              <a:off x="5003640" y="836640"/>
              <a:ext cx="3995640" cy="237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65" name="Picture 6" descr=""/>
            <p:cNvPicPr/>
            <p:nvPr/>
          </p:nvPicPr>
          <p:blipFill>
            <a:blip r:embed="rId1"/>
            <a:stretch/>
          </p:blipFill>
          <p:spPr>
            <a:xfrm>
              <a:off x="5148000" y="979560"/>
              <a:ext cx="3673440" cy="208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0F85C4E-EC08-4E64-A0E6-4A4B86CAE40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Highlights Summary (1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upport Hardware-Software Co-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rface in a C++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ntainer class includes hierarchical Entity an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scribe functionality, Event sensi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ngle-directional(in, out), Bi-directional(inout)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esolved, Unresolved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ich set of port and signal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ich set of data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ll C/C++ types, 32/64-bit signed/unsigned, fixed-points, MVL, user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87451533-C767-4D35-81C3-DFC96FE72C5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Highlights Summary (2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rface in a C++ environment (continu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pecial signal, Timekeeper of simulation and Multiple clocks, with arbitrary phase relation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ycle-based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High-Speed Cycle-Based simulation ker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ultiple abstraction lev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Untimed from high-level functional model to detailed clock cycle accuracy RTL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mmunication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bugging Sup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un-Time error ch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Waveform Tra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94CB2AD-5F7A-4D9E-82BC-847ED862EEAB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verview of mmMIPS design traject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876920" y="4038480"/>
            <a:ext cx="312408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PGA hardwar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r MIP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143000" y="4038480"/>
            <a:ext cx="312408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 the simulation program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r MIP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657600" y="4648320"/>
            <a:ext cx="533520" cy="6094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514600" y="4648320"/>
            <a:ext cx="99072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819520" y="1600200"/>
            <a:ext cx="259056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C model of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-mini M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unch of C++ fil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391520" y="4648320"/>
            <a:ext cx="533160" cy="6094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48520" y="4648320"/>
            <a:ext cx="99036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2666880" y="281952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800600" y="2819520"/>
            <a:ext cx="11430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803600" y="32130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472000" y="3048120"/>
            <a:ext cx="177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Centric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5715000"/>
            <a:ext cx="1523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aveform, et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562720" y="5715000"/>
            <a:ext cx="24382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: Oscilloscope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 analyzer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114800" y="1143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1905120" y="6324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533520" y="6629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533520" y="1143000"/>
            <a:ext cx="0" cy="548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533520" y="1143000"/>
            <a:ext cx="358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693432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0280" y="2057400"/>
            <a:ext cx="18288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ips-as.ex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PS assembl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010280" y="1066680"/>
            <a:ext cx="18288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cc.ex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compi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7467480" y="2971800"/>
            <a:ext cx="99072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864760" y="1523880"/>
            <a:ext cx="108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792468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27"/>
          <p:cNvSpPr/>
          <p:nvPr/>
        </p:nvSpPr>
        <p:spPr>
          <a:xfrm>
            <a:off x="792468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28"/>
          <p:cNvSpPr/>
          <p:nvPr/>
        </p:nvSpPr>
        <p:spPr>
          <a:xfrm flipV="1">
            <a:off x="6629400" y="1523520"/>
            <a:ext cx="3049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29"/>
          <p:cNvSpPr/>
          <p:nvPr/>
        </p:nvSpPr>
        <p:spPr>
          <a:xfrm flipH="1">
            <a:off x="5486400" y="1828800"/>
            <a:ext cx="3808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190512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31"/>
          <p:cNvSpPr/>
          <p:nvPr/>
        </p:nvSpPr>
        <p:spPr>
          <a:xfrm>
            <a:off x="1908000" y="907920"/>
            <a:ext cx="4464360" cy="24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6F22064-7DF8-402B-A1D7-F540032427A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5943600" y="0"/>
            <a:ext cx="0" cy="68580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ogramming flo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2280" y="15228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-prog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371600" y="1676520"/>
            <a:ext cx="1066680" cy="7617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57200" y="990720"/>
            <a:ext cx="1828800" cy="533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cc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1447920" y="2666880"/>
            <a:ext cx="1828800" cy="533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2743200" y="4191120"/>
            <a:ext cx="1828800" cy="5331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DD hex edi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x-editor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3048120" y="3429000"/>
            <a:ext cx="106668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048120" y="4952880"/>
            <a:ext cx="106668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3581280" y="2666880"/>
            <a:ext cx="2133720" cy="533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191120" y="1676520"/>
            <a:ext cx="1066680" cy="7617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6172200" y="4952880"/>
            <a:ext cx="2209680" cy="6858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del of 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gle-cycle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85800" y="7621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1371600" y="15238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1905120" y="24382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438280" y="3200400"/>
            <a:ext cx="9907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3581280" y="320004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4648320" y="243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36576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4114800" y="52578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23"/>
          <p:cNvSpPr/>
          <p:nvPr/>
        </p:nvSpPr>
        <p:spPr>
          <a:xfrm>
            <a:off x="72388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6172200" y="4114800"/>
            <a:ext cx="2133720" cy="5335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sual C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25"/>
          <p:cNvSpPr/>
          <p:nvPr/>
        </p:nvSpPr>
        <p:spPr>
          <a:xfrm>
            <a:off x="7467480" y="27432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7010280" y="29718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6629400" y="3200400"/>
            <a:ext cx="106668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6172200" y="3352680"/>
            <a:ext cx="106668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731520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30"/>
          <p:cNvSpPr/>
          <p:nvPr/>
        </p:nvSpPr>
        <p:spPr>
          <a:xfrm>
            <a:off x="6629400" y="5867280"/>
            <a:ext cx="1523880" cy="68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mulation out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ps.vc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723888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32"/>
          <p:cNvSpPr/>
          <p:nvPr/>
        </p:nvSpPr>
        <p:spPr>
          <a:xfrm>
            <a:off x="2590920" y="914400"/>
            <a:ext cx="1676160" cy="6094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 simula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im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33"/>
          <p:cNvSpPr/>
          <p:nvPr/>
        </p:nvSpPr>
        <p:spPr>
          <a:xfrm flipV="1">
            <a:off x="2438280" y="15238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34"/>
          <p:cNvSpPr/>
          <p:nvPr/>
        </p:nvSpPr>
        <p:spPr>
          <a:xfrm>
            <a:off x="3733920" y="5867280"/>
            <a:ext cx="2057400" cy="6858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TK Signal analyz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nwave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35"/>
          <p:cNvSpPr/>
          <p:nvPr/>
        </p:nvSpPr>
        <p:spPr>
          <a:xfrm flipH="1">
            <a:off x="5791320" y="6248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7467480" y="152280"/>
            <a:ext cx="1524240" cy="4572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uns in cygw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7467480" y="762120"/>
            <a:ext cx="1524240" cy="4572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uns in Window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38"/>
          <p:cNvSpPr/>
          <p:nvPr/>
        </p:nvSpPr>
        <p:spPr>
          <a:xfrm>
            <a:off x="152280" y="3200400"/>
            <a:ext cx="1447920" cy="533520"/>
          </a:xfrm>
          <a:prstGeom prst="wedgeRoundRectCallout">
            <a:avLst>
              <a:gd name="adj1" fmla="val 34976"/>
              <a:gd name="adj2" fmla="val -18601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itially w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t 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39"/>
          <p:cNvSpPr/>
          <p:nvPr/>
        </p:nvSpPr>
        <p:spPr>
          <a:xfrm>
            <a:off x="304920" y="4343400"/>
            <a:ext cx="1523880" cy="609480"/>
          </a:xfrm>
          <a:prstGeom prst="wedgeRoundRectCallout">
            <a:avLst>
              <a:gd name="adj1" fmla="val 108541"/>
              <a:gd name="adj2" fmla="val -2083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trip th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rst 34 by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6400800" y="1523880"/>
            <a:ext cx="2209680" cy="838440"/>
          </a:xfrm>
          <a:prstGeom prst="wedgeRoundRectCallout">
            <a:avLst>
              <a:gd name="adj1" fmla="val -18032"/>
              <a:gd name="adj2" fmla="val 12443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C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miniminiM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Object 4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1143000" cy="750960"/>
          </a:xfrm>
          <a:prstGeom prst="rect">
            <a:avLst/>
          </a:prstGeom>
          <a:ln w="0">
            <a:noFill/>
          </a:ln>
        </p:spPr>
      </p:pic>
      <p:sp>
        <p:nvSpPr>
          <p:cNvPr id="178" name="Line 42"/>
          <p:cNvSpPr/>
          <p:nvPr/>
        </p:nvSpPr>
        <p:spPr>
          <a:xfrm>
            <a:off x="533520" y="2057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5562720" y="1219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4735080" y="1066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235920" y="106668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038C0E37-7D1D-4BDA-8D7E-DF4731E01FD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etting all this stuff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ve collected all tools you need in a single (BIG) file 176MByte file. Go to the directory web si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es.ele.tue.nl/education/Computation/mmips-lab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ownload instruc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will instal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DD Hex Ed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Sp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Wa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C stuff for Borland/Visual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Cycle Minimips in SystemC, Multi-cycle Minimips and pipelined MIP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96E61AD3-5CF0-4DBE-8CDB-5208B80843E4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ygwi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9000" y="1295280"/>
            <a:ext cx="863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f the programs we use (LCC, the MIPS assembler) are written as UNIX tool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stribution contains  a GNU Unix environment called cygw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6333840" cy="3152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304920" y="5638680"/>
            <a:ext cx="8636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command-line shel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/cygdrive/&lt;drivename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get to the windows dis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464B265-42D1-4ED0-BFD9-1D60BFDF425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etting around in cygwi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1752480"/>
            <a:ext cx="7543800" cy="4343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whoam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n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pw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n         cygwin.ico  home     lib        setup.log.full  us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gwin.bat  etc         include  setup.log  tmp             va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/cygdrive/c/Ogo1.2/lcc/lccdi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 -l 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rwxr-xr-x    1 henk  unknown   2472629 Nov 22 14:35 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PATH=/cygdrive/c/Ogo1.2/lcc/lccdir:$PA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../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mkdir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mips-as.exe test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nk@HENK-LAP /cygdrive/c/Ogo1.2/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out  test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disas a.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38480" y="1066680"/>
            <a:ext cx="1752840" cy="609840"/>
          </a:xfrm>
          <a:prstGeom prst="wedgeRoundRectCallout">
            <a:avLst>
              <a:gd name="adj1" fmla="val -197189"/>
              <a:gd name="adj2" fmla="val 10755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 UNI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ands 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038480" y="1752480"/>
            <a:ext cx="2362320" cy="381240"/>
          </a:xfrm>
          <a:prstGeom prst="wedgeRoundRectCallout">
            <a:avLst>
              <a:gd name="adj1" fmla="val -170296"/>
              <a:gd name="adj2" fmla="val 130833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ch directory am I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038480" y="2133720"/>
            <a:ext cx="2362320" cy="380880"/>
          </a:xfrm>
          <a:prstGeom prst="wedgeRoundRectCallout">
            <a:avLst>
              <a:gd name="adj1" fmla="val -195162"/>
              <a:gd name="adj2" fmla="val 8500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 = the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4038480" y="2590920"/>
            <a:ext cx="2362320" cy="380880"/>
          </a:xfrm>
          <a:prstGeom prst="wedgeRoundRectCallout">
            <a:avLst>
              <a:gd name="adj1" fmla="val -181787"/>
              <a:gd name="adj2" fmla="val 30833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st the direc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477120" y="2971800"/>
            <a:ext cx="2361960" cy="380880"/>
          </a:xfrm>
          <a:prstGeom prst="wedgeRoundRectCallout">
            <a:avLst>
              <a:gd name="adj1" fmla="val -149060"/>
              <a:gd name="adj2" fmla="val 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 to the windows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443640" y="3429000"/>
            <a:ext cx="2362320" cy="380880"/>
          </a:xfrm>
          <a:prstGeom prst="wedgeRoundRectCallout">
            <a:avLst>
              <a:gd name="adj1" fmla="val -212027"/>
              <a:gd name="adj2" fmla="val 2375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embler progra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477120" y="4114800"/>
            <a:ext cx="2361960" cy="380880"/>
          </a:xfrm>
          <a:prstGeom prst="wedgeRoundRectCallout">
            <a:avLst>
              <a:gd name="adj1" fmla="val -112231"/>
              <a:gd name="adj2" fmla="val -31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t the search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012000" y="5157720"/>
            <a:ext cx="2361960" cy="381240"/>
          </a:xfrm>
          <a:prstGeom prst="wedgeRoundRectCallout">
            <a:avLst>
              <a:gd name="adj1" fmla="val -181990"/>
              <a:gd name="adj2" fmla="val -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the assemb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940360" y="5877000"/>
            <a:ext cx="2362320" cy="380880"/>
          </a:xfrm>
          <a:prstGeom prst="wedgeRoundRectCallout">
            <a:avLst>
              <a:gd name="adj1" fmla="val -209074"/>
              <a:gd name="adj2" fmla="val -6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the disassemb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6012000" y="4724280"/>
            <a:ext cx="2592360" cy="381240"/>
          </a:xfrm>
          <a:prstGeom prst="wedgeRoundRectCallout">
            <a:avLst>
              <a:gd name="adj1" fmla="val -206828"/>
              <a:gd name="adj2" fmla="val -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ke a new subdirec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17:28:58Z</dcterms:created>
  <dc:creator>Patrick Groeneveld</dc:creator>
  <dc:description/>
  <dc:language>en-US</dc:language>
  <cp:lastModifiedBy>edwin</cp:lastModifiedBy>
  <cp:lastPrinted>2001-10-15T08:02:22Z</cp:lastPrinted>
  <dcterms:modified xsi:type="dcterms:W3CDTF">2016-10-23T14:37:58Z</dcterms:modified>
  <cp:revision>195</cp:revision>
  <dc:subject/>
  <dc:title>Programming</dc:title>
</cp:coreProperties>
</file>