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7CFF551-427B-453D-9D94-38FD9C4EB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6BD6AAA-E458-4B4E-B11C-47DA18DBE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945320" cy="3708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9625D09-C88B-417A-B82C-07E263C14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1EAA259-D5BF-4233-9441-D6D1A1845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70D99E3-C1B8-434F-9AE0-094E18086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E15DB14-AE4F-42E3-921D-DB10A64EC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9902564-72DC-4ECD-9584-1C3EF1C44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91FB3DE-D798-4287-BC81-12AC18DA2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B6D95E3-590D-46E7-B0F3-01F091688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E6C7EAB-8A5D-461A-A063-F74AB4D3B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BE2E100-FC08-4650-94E8-3F240F4A4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FD363B7-B828-4361-9AAF-459AF38D6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2F5E202-79CB-4B79-AAB6-F21A6D671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ADE9F07-8EC4-4451-8C95-2D78E201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FC57A3B-524A-4703-AD4B-EA908BB04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575BA4E-3861-4D79-8C5D-D6AD90342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36A55E9-0B44-4472-AFFF-C6C8D0EA3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C7C081C-86AA-4521-AF96-3A5579AD8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2C73583-7150-41DB-9D58-62020CA6C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76EADC9-E11A-4878-A6D3-FDEF556AA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3A6232A-F7F2-49DD-A152-722E26A54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5256FC3-D0D7-45A4-8D09-0BDC4375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67BF59A-20B3-438D-93CA-A2DF7BF81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EC0EB89-632C-4920-88A1-65FBE0CD7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9A8A9A4-6C10-4F46-BCF0-0BA45AF05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D2B4F74-81B7-4FD7-A238-0837F8339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FD8C09D-66B0-4823-A6C3-7292F527C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4C0A336-C21D-4328-9385-013F8EB90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4B975D8-B9F5-4814-A203-A5603D01B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4AC751E-BC1C-4771-B258-0F3A0E808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1097BB7-B084-4289-ADFA-A58DF4A9F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70EFDB8-11EA-43AF-81CB-8E87BB247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72C27F2-4068-4B39-A61E-84D19CA9B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CEDE78D-6DFF-424F-AA8A-6F11D1465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04D590A-D5AE-42AE-B435-2E63586A1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8B47127-2D68-43E1-9473-2AECA8569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2BC4C06-9D9B-4B0F-8191-CBAE638D6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1F4F8D0-765E-4ABF-9BDB-5CE9CADE7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2512172-C094-45C9-ACA0-D25595A9B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9B78D1B-6644-46CB-BB00-0BEC0112B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391B23D-F157-4B5D-AFFE-53866987E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9AD9658-BFA6-4304-B964-8CCFCD1E8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01E31DF-7910-41E0-AC77-908080D69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9C25A8F-50E0-4FBA-9F90-EEA8ECE5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2CFC3CA-0C99-4B90-9CA5-56F34777B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C4FA18D-DE90-4A1E-9CE0-2CDC2E771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EAE201D-0C38-48F0-8F30-921247A0A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9F1E130-72B5-4C68-BC9E-95F8CD4AC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8DAB545-76FB-48D6-8C09-89F2D0751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21040" y="9399600"/>
            <a:ext cx="29228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85F9CB5-EFB3-4661-B7CE-7D0B0DD82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898200" y="4697280"/>
            <a:ext cx="49467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A8F7-110F-4747-9A61-1356BB94A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9360" y="4001760"/>
            <a:ext cx="8585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CA39-57D9-417B-A897-DE3593517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93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5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DE4F-E8E5-400D-AC17-6730C3516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2040" y="129528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4720" y="129528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9360" y="400176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2040" y="400176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4720" y="400176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958F-038D-40B7-8B03-417E74827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399C-D4A9-40BE-8A92-33F6105AFC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D13B0-0F96-4BF4-AB8F-C6B6963676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F1B2C-C2E6-4E13-B918-7B504D0E87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1165-C552-4233-B25B-10EE1315D8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8D60-2070-4177-9348-D1256DE6C6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91960" y="228600"/>
            <a:ext cx="854712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1F79-6EDC-47ED-B189-DDD142E7BDC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793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5B36A-A7B2-436B-ABC7-7B78607DC1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A9C7-39B1-4A02-95EC-2BC26DD05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5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D9A9-18BE-4037-A45E-31E3843439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9360" y="4001760"/>
            <a:ext cx="8585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2B792-0A92-42A9-B98E-5D3FD0C0C6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79360" y="4001760"/>
            <a:ext cx="8585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4E42-0F0D-42AC-9559-1E11F58E83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793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5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EAB8-06F8-4D67-B0F2-B1E3A07C64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2040" y="129528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84720" y="129528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79360" y="400176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2040" y="400176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84720" y="4001760"/>
            <a:ext cx="27640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F7468-C31E-474F-A761-D3CD32B90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AAE9-8EDE-438C-94FA-73EB07D06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6199-C89D-4F6E-A02C-8026F32B7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A2AD-C239-4DC4-A7DB-A257CF494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91960" y="228600"/>
            <a:ext cx="8547120" cy="33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BC1B-CC05-4195-AAA6-503FD96AE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793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7E8F-D21E-402A-B5B6-4B8605131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560" y="400176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D34A-E5D1-4AE2-B43E-81178E193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295280"/>
            <a:ext cx="4189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79360" y="4001760"/>
            <a:ext cx="8585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663D-F3A7-47AE-B8DA-C09B934A8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7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2896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2896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2896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29040" y="6629040"/>
            <a:ext cx="2514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47E14054-88C4-48B7-862D-443A853EB90B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76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2896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2896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2896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D949-78AD-4A87-B8E4-5E74F7386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19C8-49B1-445B-A571-B2CDEABCF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2400" y="990720"/>
            <a:ext cx="82040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Processor Design</a:t>
            </a:r>
            <a:br>
              <a:rPr sz="3200"/>
            </a:b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5Z03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68360" y="2666880"/>
            <a:ext cx="837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 Narrow"/>
              </a:rPr>
              <a:t>SystemC + miniMIP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70880" y="4653000"/>
            <a:ext cx="58622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Henk Corpor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Eindhoven University of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5" descr="MIPS_R3000_layout"/>
          <p:cNvPicPr/>
          <p:nvPr/>
        </p:nvPicPr>
        <p:blipFill>
          <a:blip r:embed="rId1"/>
          <a:stretch/>
        </p:blipFill>
        <p:spPr>
          <a:xfrm>
            <a:off x="5580000" y="189000"/>
            <a:ext cx="3421080" cy="34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38B091CE-ED7D-41DF-A1E0-8A813E6CF0B1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1600" y="228600"/>
            <a:ext cx="701676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ircuit description in System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umber of hardware description languages exi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ilog (US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HDL (Japan, Europ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C (new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llow you 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logic and function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i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parallelism (HW = parall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 the consistenc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ul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nthesize hardware (well, not alway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systemc_logo"/>
          <p:cNvPicPr/>
          <p:nvPr/>
        </p:nvPicPr>
        <p:blipFill>
          <a:blip r:embed="rId1"/>
          <a:stretch/>
        </p:blipFill>
        <p:spPr>
          <a:xfrm>
            <a:off x="7667640" y="260280"/>
            <a:ext cx="12096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84F5B6EA-2208-4840-B9D6-7B2F3BBF36F0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ystem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84680" indent="-18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C is a C++ library with class defini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-18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write some C++ code using the classes. This describes two issu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2680" indent="-18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 Circuit structure (schematic/functionality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2680" indent="-18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Simulation sett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-18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iling and running it will perform the simulat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-184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C is just C++ code, though it looks funn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774C7A0A-731A-4225-859E-F803593B19F5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굴림"/>
              </a:rPr>
              <a:t>SystemC and User Modul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609480" y="1600200"/>
          <a:ext cx="5715000" cy="46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5715000" cy="46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19D45326-9533-4EAC-8834-672E1C5A87BE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ystemC usesTemplates; let's have a look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ten we need to use functions that are similar, but that have different data typ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228600" y="2057400"/>
            <a:ext cx="4114800" cy="45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hort maximu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short a, short b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a &gt; 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int maximu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int a, int b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a &gt; 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ouble maximu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double a, double b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a &gt; 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876920" y="2209680"/>
            <a:ext cx="3352680" cy="175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 = 10.0, q = 12.0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r = 15, s = 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a =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p, q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aximu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s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5257800" y="4724280"/>
            <a:ext cx="3048120" cy="1447920"/>
          </a:xfrm>
          <a:prstGeom prst="wedgeRoundRectCallout">
            <a:avLst>
              <a:gd name="adj1" fmla="val -90675"/>
              <a:gd name="adj2" fmla="val -74560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 we avoid this duplic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y making th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pe a parameter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896967FF-47F3-438A-B38D-6D8EFB4B6370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emplate functions in C++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s build a template, and call that type 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1066680" y="2286000"/>
            <a:ext cx="327672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template &lt;class T&g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 maximum (T a, T b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a &gt; b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5486400" y="2209680"/>
            <a:ext cx="3352680" cy="175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 = 10.0, q = 12.0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r = 15, s = 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a = maximum(p, q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b = maximum(r, s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2286000" y="4191120"/>
            <a:ext cx="2666880" cy="457200"/>
          </a:xfrm>
          <a:prstGeom prst="wedgeRoundRectCallout">
            <a:avLst>
              <a:gd name="adj1" fmla="val -8393"/>
              <a:gd name="adj2" fmla="val -344444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re of type 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52280" y="4267080"/>
            <a:ext cx="1752840" cy="381240"/>
          </a:xfrm>
          <a:prstGeom prst="wedgeRoundRectCallout">
            <a:avLst>
              <a:gd name="adj1" fmla="val 12680"/>
              <a:gd name="adj2" fmla="val -426250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s type 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914400" y="1523880"/>
            <a:ext cx="3429000" cy="457200"/>
          </a:xfrm>
          <a:prstGeom prst="wedgeRoundRectCallout">
            <a:avLst>
              <a:gd name="adj1" fmla="val 14768"/>
              <a:gd name="adj2" fmla="val 129166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clare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 a ‘variable’ ty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80880" y="5486400"/>
            <a:ext cx="833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158040" indent="-158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hind the scenes, the compiler builds the routine for each class that is requir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58040" indent="-158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 little heavy on the compiler, and also harder to debug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5638680" y="4343400"/>
            <a:ext cx="2667240" cy="457200"/>
          </a:xfrm>
          <a:prstGeom prst="wedgeRoundRectCallout">
            <a:avLst>
              <a:gd name="adj1" fmla="val -3453"/>
              <a:gd name="adj2" fmla="val -239930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s the integer ty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27126257-D2E7-40D7-8AF9-72DD9D09D2AE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emplate classes in C++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ame can be done with classes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52280" y="1676520"/>
            <a:ext cx="4724640" cy="2666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emplate &lt;class T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coordinate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ordinate(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,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y) { _x = x; _y = y; 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~coordinate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print(void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ut &lt;&lt; x &lt;&lt; “ , “ &lt;&lt; y &lt;&lt; endl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_x, _y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5105520" y="1676520"/>
            <a:ext cx="388620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ordinate &lt;int&gt; a(1, 2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ordinate &lt;double&gt; b(3.2, 6.4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print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.print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1828800" y="4267080"/>
            <a:ext cx="3429000" cy="685800"/>
          </a:xfrm>
          <a:prstGeom prst="wedgeRoundRectCallout">
            <a:avLst>
              <a:gd name="adj1" fmla="val -55416"/>
              <a:gd name="adj2" fmla="val -86111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class datame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_x and _y of parameterized type 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0880" y="5486400"/>
            <a:ext cx="833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ain, the compiler builds a separate code instance for each type that is requir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7238880" y="3200400"/>
            <a:ext cx="12956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 , 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3.2 , 6.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5867280" y="4038480"/>
            <a:ext cx="2667240" cy="609840"/>
          </a:xfrm>
          <a:prstGeom prst="wedgeRoundRectCallout">
            <a:avLst>
              <a:gd name="adj1" fmla="val 7976"/>
              <a:gd name="adj2" fmla="val -106773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is the double incarn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f coordinat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B99601A5-0D5E-4249-9CAF-810075C875F8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ystemC class templat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331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ts look at an exampl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152280" y="1676520"/>
            <a:ext cx="4724640" cy="2666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emplate &lt;int W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sc_bv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: public sc_bv_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bv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rotate( int n 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_bit(int i, bool value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5105520" y="1676520"/>
            <a:ext cx="3886200" cy="1828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signal&lt; sc_bv&lt;32&gt; &gt; bus_mux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250920" y="5229360"/>
            <a:ext cx="833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ystemC class structure is rather complica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suggest to single-step through the example to get a feel for 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6400800" y="3809880"/>
            <a:ext cx="2057400" cy="457200"/>
          </a:xfrm>
          <a:prstGeom prst="wedgeRoundRectCallout">
            <a:avLst>
              <a:gd name="adj1" fmla="val 1236"/>
              <a:gd name="adj2" fmla="val -290277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2 bit vec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8"/>
          <p:cNvSpPr/>
          <p:nvPr/>
        </p:nvSpPr>
        <p:spPr>
          <a:xfrm>
            <a:off x="3733920" y="914400"/>
            <a:ext cx="3504960" cy="457200"/>
          </a:xfrm>
          <a:prstGeom prst="wedgeRoundRectCallout">
            <a:avLst>
              <a:gd name="adj1" fmla="val -100361"/>
              <a:gd name="adj2" fmla="val 164583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word width W is the paramet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5181480" y="3200400"/>
            <a:ext cx="2057400" cy="457200"/>
          </a:xfrm>
          <a:prstGeom prst="wedgeRoundRectCallout">
            <a:avLst>
              <a:gd name="adj1" fmla="val -4087"/>
              <a:gd name="adj2" fmla="val -166319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gnal wi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6B85F6D1-E694-4A66-BC02-BDD1F0FB12F9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 2-input </a:t>
            </a: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-gate class in System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362320" y="2209680"/>
            <a:ext cx="4267080" cy="4191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&lt;systemc.h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OR2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in&lt;bool&gt; a;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put pin 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in&lt;bool&gt; b;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put pin 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out&lt;bool&gt; o;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output pin 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SC_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OR2) 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the ct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SC_METHO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or_process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nsitive &lt;&lt; a &lt;&lt;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or_process(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.write( a.read()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||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b.read() 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4"/>
          <p:cNvSpPr/>
          <p:nvPr/>
        </p:nvSpPr>
        <p:spPr>
          <a:xfrm flipH="1">
            <a:off x="4038120" y="1447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5"/>
          <p:cNvSpPr/>
          <p:nvPr/>
        </p:nvSpPr>
        <p:spPr>
          <a:xfrm flipH="1">
            <a:off x="5638680" y="160020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6"/>
          <p:cNvSpPr/>
          <p:nvPr/>
        </p:nvSpPr>
        <p:spPr>
          <a:xfrm flipH="1">
            <a:off x="4038120" y="18288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AutoShape 7"/>
          <p:cNvSpPr/>
          <p:nvPr/>
        </p:nvSpPr>
        <p:spPr>
          <a:xfrm flipH="1">
            <a:off x="4571280" y="1219320"/>
            <a:ext cx="1066680" cy="761760"/>
          </a:xfrm>
          <a:prstGeom prst="flowChartOnlineStorag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R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720680" y="12186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4715640" y="1599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5286960" y="1370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685800" y="990720"/>
            <a:ext cx="2895480" cy="990360"/>
          </a:xfrm>
          <a:prstGeom prst="wedgeRoundRectCallout">
            <a:avLst>
              <a:gd name="adj1" fmla="val 53342"/>
              <a:gd name="adj2" fmla="val 82694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nclude file contai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ystemc functions an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class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AutoShape 12"/>
          <p:cNvSpPr/>
          <p:nvPr/>
        </p:nvSpPr>
        <p:spPr>
          <a:xfrm>
            <a:off x="152280" y="2133720"/>
            <a:ext cx="2057400" cy="761760"/>
          </a:xfrm>
          <a:prstGeom prst="wedgeRoundRectCallout">
            <a:avLst>
              <a:gd name="adj1" fmla="val 61032"/>
              <a:gd name="adj2" fmla="val 31041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ystemC clas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with sc_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AutoShape 13"/>
          <p:cNvSpPr/>
          <p:nvPr/>
        </p:nvSpPr>
        <p:spPr>
          <a:xfrm>
            <a:off x="152280" y="3048120"/>
            <a:ext cx="2133720" cy="914400"/>
          </a:xfrm>
          <a:prstGeom prst="wedgeRoundRectCallout">
            <a:avLst>
              <a:gd name="adj1" fmla="val 69791"/>
              <a:gd name="adj2" fmla="val -61287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sets up a cla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ining a modu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 functionality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14"/>
          <p:cNvSpPr/>
          <p:nvPr/>
        </p:nvSpPr>
        <p:spPr>
          <a:xfrm>
            <a:off x="6858000" y="836640"/>
            <a:ext cx="2286000" cy="2514600"/>
          </a:xfrm>
          <a:prstGeom prst="wedgeRoundRectCallout">
            <a:avLst>
              <a:gd name="adj1" fmla="val -213888"/>
              <a:gd name="adj2" fmla="val 42106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iates th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pi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carry boole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gnals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object inherits all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C propertie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 pin. how this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 implemente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hidden from us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15"/>
          <p:cNvSpPr/>
          <p:nvPr/>
        </p:nvSpPr>
        <p:spPr>
          <a:xfrm>
            <a:off x="6934320" y="3429000"/>
            <a:ext cx="2209680" cy="838080"/>
          </a:xfrm>
          <a:prstGeom prst="wedgeRoundRectCallout">
            <a:avLst>
              <a:gd name="adj1" fmla="val -88074"/>
              <a:gd name="adj2" fmla="val 1324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ly, a boole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pin call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AutoShape 16"/>
          <p:cNvSpPr/>
          <p:nvPr/>
        </p:nvSpPr>
        <p:spPr>
          <a:xfrm>
            <a:off x="152280" y="4191120"/>
            <a:ext cx="2133720" cy="838080"/>
          </a:xfrm>
          <a:prstGeom prst="wedgeRoundRectCallout">
            <a:avLst>
              <a:gd name="adj1" fmla="val 66888"/>
              <a:gd name="adj2" fmla="val -38824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stuff is execut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construc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n ‘or2’ obje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AutoShape 17"/>
          <p:cNvSpPr/>
          <p:nvPr/>
        </p:nvSpPr>
        <p:spPr>
          <a:xfrm>
            <a:off x="7010280" y="4365720"/>
            <a:ext cx="2133720" cy="1066680"/>
          </a:xfrm>
          <a:prstGeom prst="wedgeRoundRectCallout">
            <a:avLst>
              <a:gd name="adj1" fmla="val -114212"/>
              <a:gd name="adj2" fmla="val -14879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s the simulato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 function 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to evaluate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p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AutoShape 18"/>
          <p:cNvSpPr/>
          <p:nvPr/>
        </p:nvSpPr>
        <p:spPr>
          <a:xfrm>
            <a:off x="152280" y="5181480"/>
            <a:ext cx="2133720" cy="533520"/>
          </a:xfrm>
          <a:prstGeom prst="wedgeRoundRectCallout">
            <a:avLst>
              <a:gd name="adj1" fmla="val 66962"/>
              <a:gd name="adj2" fmla="val 27083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run to proce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put pi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19"/>
          <p:cNvSpPr/>
          <p:nvPr/>
        </p:nvSpPr>
        <p:spPr>
          <a:xfrm>
            <a:off x="6858000" y="6237360"/>
            <a:ext cx="2286000" cy="392040"/>
          </a:xfrm>
          <a:prstGeom prst="wedgeRoundRectCallout">
            <a:avLst>
              <a:gd name="adj1" fmla="val -134652"/>
              <a:gd name="adj2" fmla="val -128949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the actual or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AutoShape 20"/>
          <p:cNvSpPr/>
          <p:nvPr/>
        </p:nvSpPr>
        <p:spPr>
          <a:xfrm>
            <a:off x="152280" y="5867280"/>
            <a:ext cx="2057400" cy="762120"/>
          </a:xfrm>
          <a:prstGeom prst="wedgeRoundRectCallout">
            <a:avLst>
              <a:gd name="adj1" fmla="val 79939"/>
              <a:gd name="adj2" fmla="val -51041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s read and wri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er func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pi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AutoShape 21"/>
          <p:cNvSpPr/>
          <p:nvPr/>
        </p:nvSpPr>
        <p:spPr>
          <a:xfrm>
            <a:off x="6877080" y="5516640"/>
            <a:ext cx="2266920" cy="608040"/>
          </a:xfrm>
          <a:prstGeom prst="wedgeRoundRectCallout">
            <a:avLst>
              <a:gd name="adj1" fmla="val -132564"/>
              <a:gd name="adj2" fmla="val -127546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the method w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a or b chang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0FCD9FA3-0D01-4E71-BC50-64249464D77C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ystemC program structur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838080" y="1447920"/>
            <a:ext cx="4191120" cy="5029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&lt;systemc.h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“and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“or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etc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ma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int argc, char *argv[]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// 1: Instantiate gate objec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// 2: Instantiate signal objec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// 3: Connect the gates to signal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…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// 4: specify which values to prin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// 5: put values on signal objec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90099"/>
                </a:solidFill>
                <a:latin typeface="Courier New"/>
              </a:rPr>
              <a:t>// 6: Start simulator ru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486400" y="1142640"/>
            <a:ext cx="3378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a data structure is built that describes the circu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 set of module (cell-)objects with attached pin objec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gnal objects tie the pins toge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n the simulation can be start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simulation need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put valu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list of pins that is to reporte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1355A93C-4AD9-4A00-ABAA-A6BBE26D796C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tep 1: make the gate object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3535200" y="3110040"/>
            <a:ext cx="641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3535200" y="3841920"/>
            <a:ext cx="6415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2347920" y="3292560"/>
            <a:ext cx="639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4633920" y="3384720"/>
            <a:ext cx="639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5821200" y="1738440"/>
            <a:ext cx="6415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438280" y="1371600"/>
            <a:ext cx="639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3535200" y="1555920"/>
            <a:ext cx="6415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3535200" y="2286000"/>
            <a:ext cx="641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4633920" y="1738440"/>
            <a:ext cx="639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R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AutoShape 12"/>
          <p:cNvSpPr/>
          <p:nvPr/>
        </p:nvSpPr>
        <p:spPr>
          <a:xfrm rot="5400000">
            <a:off x="5868000" y="1600920"/>
            <a:ext cx="547560" cy="457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13"/>
          <p:cNvSpPr/>
          <p:nvPr/>
        </p:nvSpPr>
        <p:spPr>
          <a:xfrm>
            <a:off x="3535200" y="1373040"/>
            <a:ext cx="641520" cy="547920"/>
          </a:xfrm>
          <a:prstGeom prst="flowChartDelay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14"/>
          <p:cNvSpPr/>
          <p:nvPr/>
        </p:nvSpPr>
        <p:spPr>
          <a:xfrm flipH="1">
            <a:off x="2255040" y="1190520"/>
            <a:ext cx="731880" cy="547920"/>
          </a:xfrm>
          <a:prstGeom prst="flowChartOnlineStorag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AutoShape 15"/>
          <p:cNvSpPr/>
          <p:nvPr/>
        </p:nvSpPr>
        <p:spPr>
          <a:xfrm flipH="1">
            <a:off x="4541040" y="1555920"/>
            <a:ext cx="731880" cy="547560"/>
          </a:xfrm>
          <a:prstGeom prst="flowChartOnlineStorag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16"/>
          <p:cNvSpPr/>
          <p:nvPr/>
        </p:nvSpPr>
        <p:spPr>
          <a:xfrm>
            <a:off x="6370560" y="1738440"/>
            <a:ext cx="18252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17"/>
          <p:cNvSpPr/>
          <p:nvPr/>
        </p:nvSpPr>
        <p:spPr>
          <a:xfrm>
            <a:off x="5273640" y="1738440"/>
            <a:ext cx="18252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AutoShape 18"/>
          <p:cNvSpPr/>
          <p:nvPr/>
        </p:nvSpPr>
        <p:spPr>
          <a:xfrm>
            <a:off x="3535200" y="2104920"/>
            <a:ext cx="641520" cy="547920"/>
          </a:xfrm>
          <a:prstGeom prst="flowChartDelay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19"/>
          <p:cNvSpPr/>
          <p:nvPr/>
        </p:nvSpPr>
        <p:spPr>
          <a:xfrm>
            <a:off x="3535200" y="2927520"/>
            <a:ext cx="641520" cy="549000"/>
          </a:xfrm>
          <a:prstGeom prst="flowChartDelay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20"/>
          <p:cNvSpPr/>
          <p:nvPr/>
        </p:nvSpPr>
        <p:spPr>
          <a:xfrm>
            <a:off x="3535200" y="3659040"/>
            <a:ext cx="641520" cy="547920"/>
          </a:xfrm>
          <a:prstGeom prst="flowChartDelay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AutoShape 21"/>
          <p:cNvSpPr/>
          <p:nvPr/>
        </p:nvSpPr>
        <p:spPr>
          <a:xfrm flipH="1">
            <a:off x="4541040" y="3292560"/>
            <a:ext cx="731880" cy="549360"/>
          </a:xfrm>
          <a:prstGeom prst="flowChartOnlineStorag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AutoShape 22"/>
          <p:cNvSpPr/>
          <p:nvPr/>
        </p:nvSpPr>
        <p:spPr>
          <a:xfrm flipH="1">
            <a:off x="2255040" y="3110040"/>
            <a:ext cx="731880" cy="549000"/>
          </a:xfrm>
          <a:prstGeom prst="flowChartOnlineStorag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Rectangle 23"/>
          <p:cNvSpPr/>
          <p:nvPr/>
        </p:nvSpPr>
        <p:spPr>
          <a:xfrm>
            <a:off x="1371600" y="4495680"/>
            <a:ext cx="716292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1: instantiate the gate objec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2  or1("or1"), or8(“or8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3  or2(“or2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2 and3("and3"), and4("and4"), and5("and5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3 and6("and6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R2 nor7(“nor7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V  inv9(“inv9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… continued next p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AutoShape 24"/>
          <p:cNvSpPr/>
          <p:nvPr/>
        </p:nvSpPr>
        <p:spPr>
          <a:xfrm>
            <a:off x="6095880" y="3809880"/>
            <a:ext cx="1676520" cy="381240"/>
          </a:xfrm>
          <a:prstGeom prst="wedgeRoundRectCallout">
            <a:avLst>
              <a:gd name="adj1" fmla="val -159185"/>
              <a:gd name="adj2" fmla="val 217916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ce nam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AutoShape 25"/>
          <p:cNvSpPr/>
          <p:nvPr/>
        </p:nvSpPr>
        <p:spPr>
          <a:xfrm>
            <a:off x="152280" y="4572000"/>
            <a:ext cx="1371600" cy="533520"/>
          </a:xfrm>
          <a:prstGeom prst="wedgeRoundRectCallout">
            <a:avLst>
              <a:gd name="adj1" fmla="val 62615"/>
              <a:gd name="adj2" fmla="val 90476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 ty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AutoShape 26"/>
          <p:cNvSpPr/>
          <p:nvPr/>
        </p:nvSpPr>
        <p:spPr>
          <a:xfrm>
            <a:off x="5867280" y="5715000"/>
            <a:ext cx="1447920" cy="533520"/>
          </a:xfrm>
          <a:prstGeom prst="wedgeRoundRectCallout">
            <a:avLst>
              <a:gd name="adj1" fmla="val -136625"/>
              <a:gd name="adj2" fmla="val -99402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store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insta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70FEC784-D3B3-41A6-BF6A-C398867D5D4B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ystemC and our MIPS project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5852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part of the lab you’ll be building a real MIPS process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 we discuss the so-called mmMIPS (miniminiMI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your book, ch 5 and 6 (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d) / ch 4 (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only 9 instructions, in 3 categori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load and st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8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anch and jum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bed in System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lab (exercise B) we directly start with the mMIPS (miniMIP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about 35 instruc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can run C-code by using the available LCC C-compi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C; we discu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ics (module example, tracing, main func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ules and submod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B7997787-E4F2-4EA4-997C-DD6498E69128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tep 2: make the signal object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3535200" y="3110040"/>
            <a:ext cx="641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3535200" y="3841920"/>
            <a:ext cx="6415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347920" y="3292560"/>
            <a:ext cx="639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633920" y="3384720"/>
            <a:ext cx="639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5821200" y="1738440"/>
            <a:ext cx="6415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2438280" y="1371600"/>
            <a:ext cx="639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3535200" y="1555920"/>
            <a:ext cx="6415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3535200" y="2286000"/>
            <a:ext cx="641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4633920" y="1738440"/>
            <a:ext cx="639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R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457200" y="3657600"/>
            <a:ext cx="4716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AutoShape 13"/>
          <p:cNvSpPr/>
          <p:nvPr/>
        </p:nvSpPr>
        <p:spPr>
          <a:xfrm rot="5400000">
            <a:off x="5868000" y="1600920"/>
            <a:ext cx="547560" cy="457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3535200" y="1373040"/>
            <a:ext cx="641520" cy="54792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AutoShape 15"/>
          <p:cNvSpPr/>
          <p:nvPr/>
        </p:nvSpPr>
        <p:spPr>
          <a:xfrm flipH="1">
            <a:off x="2255040" y="1190520"/>
            <a:ext cx="731880" cy="54792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utoShape 16"/>
          <p:cNvSpPr/>
          <p:nvPr/>
        </p:nvSpPr>
        <p:spPr>
          <a:xfrm flipH="1">
            <a:off x="4541040" y="1555920"/>
            <a:ext cx="731880" cy="54756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7"/>
          <p:cNvSpPr/>
          <p:nvPr/>
        </p:nvSpPr>
        <p:spPr>
          <a:xfrm>
            <a:off x="6370560" y="1738440"/>
            <a:ext cx="18252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8"/>
          <p:cNvSpPr/>
          <p:nvPr/>
        </p:nvSpPr>
        <p:spPr>
          <a:xfrm>
            <a:off x="5273640" y="1738440"/>
            <a:ext cx="18252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AutoShape 19"/>
          <p:cNvSpPr/>
          <p:nvPr/>
        </p:nvSpPr>
        <p:spPr>
          <a:xfrm>
            <a:off x="3535200" y="2104920"/>
            <a:ext cx="641520" cy="54792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AutoShape 20"/>
          <p:cNvSpPr/>
          <p:nvPr/>
        </p:nvSpPr>
        <p:spPr>
          <a:xfrm>
            <a:off x="3535200" y="2927520"/>
            <a:ext cx="641520" cy="54900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AutoShape 21"/>
          <p:cNvSpPr/>
          <p:nvPr/>
        </p:nvSpPr>
        <p:spPr>
          <a:xfrm>
            <a:off x="3535200" y="3659040"/>
            <a:ext cx="641520" cy="54792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AutoShape 22"/>
          <p:cNvSpPr/>
          <p:nvPr/>
        </p:nvSpPr>
        <p:spPr>
          <a:xfrm flipH="1">
            <a:off x="4541040" y="3292560"/>
            <a:ext cx="731880" cy="54936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AutoShape 23"/>
          <p:cNvSpPr/>
          <p:nvPr/>
        </p:nvSpPr>
        <p:spPr>
          <a:xfrm flipH="1">
            <a:off x="2255040" y="3110040"/>
            <a:ext cx="731880" cy="54900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24"/>
          <p:cNvSpPr/>
          <p:nvPr/>
        </p:nvSpPr>
        <p:spPr>
          <a:xfrm>
            <a:off x="7010280" y="3429000"/>
            <a:ext cx="685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7086600" y="1600200"/>
            <a:ext cx="5335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26"/>
          <p:cNvSpPr/>
          <p:nvPr/>
        </p:nvSpPr>
        <p:spPr>
          <a:xfrm>
            <a:off x="1295280" y="4495680"/>
            <a:ext cx="723924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… continued from previous page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2: instantiate the signal objec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signal&lt;bool&gt; A, B, CI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put ne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signal&lt;bool&gt; CO, SUM;     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output ne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signal&lt;bool&gt; or_1, or_2, and_3, and_4;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ternal ne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signal&lt;bool&gt; and_5, and_6, nor_7;     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ternal net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… continued next p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AutoShape 27"/>
          <p:cNvSpPr/>
          <p:nvPr/>
        </p:nvSpPr>
        <p:spPr>
          <a:xfrm>
            <a:off x="152280" y="4495680"/>
            <a:ext cx="1371600" cy="533520"/>
          </a:xfrm>
          <a:prstGeom prst="wedgeRoundRectCallout">
            <a:avLst>
              <a:gd name="adj1" fmla="val 60185"/>
              <a:gd name="adj2" fmla="val 92560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28"/>
          <p:cNvSpPr/>
          <p:nvPr/>
        </p:nvSpPr>
        <p:spPr>
          <a:xfrm>
            <a:off x="5410080" y="3733920"/>
            <a:ext cx="1828800" cy="533160"/>
          </a:xfrm>
          <a:prstGeom prst="wedgeRoundRectCallout">
            <a:avLst>
              <a:gd name="adj1" fmla="val -188194"/>
              <a:gd name="adj2" fmla="val 237500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late cla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boole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29"/>
          <p:cNvSpPr/>
          <p:nvPr/>
        </p:nvSpPr>
        <p:spPr>
          <a:xfrm>
            <a:off x="2971800" y="1219320"/>
            <a:ext cx="744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or_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30"/>
          <p:cNvSpPr/>
          <p:nvPr/>
        </p:nvSpPr>
        <p:spPr>
          <a:xfrm>
            <a:off x="2971800" y="3200400"/>
            <a:ext cx="744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or_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31"/>
          <p:cNvSpPr/>
          <p:nvPr/>
        </p:nvSpPr>
        <p:spPr>
          <a:xfrm>
            <a:off x="4038480" y="1295280"/>
            <a:ext cx="1024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nd_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32"/>
          <p:cNvSpPr/>
          <p:nvPr/>
        </p:nvSpPr>
        <p:spPr>
          <a:xfrm>
            <a:off x="5257800" y="1447920"/>
            <a:ext cx="838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or_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33"/>
          <p:cNvSpPr/>
          <p:nvPr/>
        </p:nvSpPr>
        <p:spPr>
          <a:xfrm>
            <a:off x="4191120" y="2362320"/>
            <a:ext cx="931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nd_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34"/>
          <p:cNvSpPr/>
          <p:nvPr/>
        </p:nvSpPr>
        <p:spPr>
          <a:xfrm>
            <a:off x="4191120" y="2895480"/>
            <a:ext cx="838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nd_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4191120" y="3886200"/>
            <a:ext cx="931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nd_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0DBCA850-0A15-4DA2-8AA2-76C4767F73BD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tep 3: Connecting pins of gates to signal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535200" y="3110040"/>
            <a:ext cx="641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3535200" y="3841920"/>
            <a:ext cx="6415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2347920" y="3292560"/>
            <a:ext cx="639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4633920" y="3384720"/>
            <a:ext cx="639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5821200" y="1738440"/>
            <a:ext cx="6415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V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2438280" y="1371600"/>
            <a:ext cx="639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3535200" y="1555920"/>
            <a:ext cx="64152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3535200" y="2286000"/>
            <a:ext cx="6415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4633920" y="1738440"/>
            <a:ext cx="6397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R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457200" y="3657600"/>
            <a:ext cx="4716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AutoShape 13"/>
          <p:cNvSpPr/>
          <p:nvPr/>
        </p:nvSpPr>
        <p:spPr>
          <a:xfrm rot="5400000">
            <a:off x="5868000" y="1600920"/>
            <a:ext cx="547560" cy="457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3535200" y="1373040"/>
            <a:ext cx="641520" cy="54792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15"/>
          <p:cNvSpPr/>
          <p:nvPr/>
        </p:nvSpPr>
        <p:spPr>
          <a:xfrm>
            <a:off x="4176720" y="16462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AutoShape 16"/>
          <p:cNvSpPr/>
          <p:nvPr/>
        </p:nvSpPr>
        <p:spPr>
          <a:xfrm flipH="1">
            <a:off x="2255040" y="1190520"/>
            <a:ext cx="731880" cy="54792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17"/>
          <p:cNvSpPr/>
          <p:nvPr/>
        </p:nvSpPr>
        <p:spPr>
          <a:xfrm>
            <a:off x="1706400" y="182880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18"/>
          <p:cNvSpPr/>
          <p:nvPr/>
        </p:nvSpPr>
        <p:spPr>
          <a:xfrm>
            <a:off x="2987640" y="1463760"/>
            <a:ext cx="547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19"/>
          <p:cNvSpPr/>
          <p:nvPr/>
        </p:nvSpPr>
        <p:spPr>
          <a:xfrm>
            <a:off x="1341360" y="1281240"/>
            <a:ext cx="1006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523880" y="1646280"/>
            <a:ext cx="8240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AutoShape 21"/>
          <p:cNvSpPr/>
          <p:nvPr/>
        </p:nvSpPr>
        <p:spPr>
          <a:xfrm flipH="1">
            <a:off x="4541040" y="1555920"/>
            <a:ext cx="731880" cy="54756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Line 22"/>
          <p:cNvSpPr/>
          <p:nvPr/>
        </p:nvSpPr>
        <p:spPr>
          <a:xfrm>
            <a:off x="5456160" y="18288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Oval 23"/>
          <p:cNvSpPr/>
          <p:nvPr/>
        </p:nvSpPr>
        <p:spPr>
          <a:xfrm>
            <a:off x="6370560" y="1738440"/>
            <a:ext cx="18252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Oval 24"/>
          <p:cNvSpPr/>
          <p:nvPr/>
        </p:nvSpPr>
        <p:spPr>
          <a:xfrm>
            <a:off x="5273640" y="1738440"/>
            <a:ext cx="182520" cy="182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Line 25"/>
          <p:cNvSpPr/>
          <p:nvPr/>
        </p:nvSpPr>
        <p:spPr>
          <a:xfrm>
            <a:off x="6553080" y="182880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26"/>
          <p:cNvSpPr/>
          <p:nvPr/>
        </p:nvSpPr>
        <p:spPr>
          <a:xfrm>
            <a:off x="4359240" y="2013120"/>
            <a:ext cx="274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AutoShape 27"/>
          <p:cNvSpPr/>
          <p:nvPr/>
        </p:nvSpPr>
        <p:spPr>
          <a:xfrm>
            <a:off x="3535200" y="2104920"/>
            <a:ext cx="641520" cy="54792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4176720" y="2378160"/>
            <a:ext cx="18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29"/>
          <p:cNvSpPr/>
          <p:nvPr/>
        </p:nvSpPr>
        <p:spPr>
          <a:xfrm flipV="1">
            <a:off x="4359240" y="2013120"/>
            <a:ext cx="0" cy="36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0"/>
          <p:cNvSpPr/>
          <p:nvPr/>
        </p:nvSpPr>
        <p:spPr>
          <a:xfrm flipV="1">
            <a:off x="5638680" y="1828800"/>
            <a:ext cx="0" cy="1006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1"/>
          <p:cNvSpPr/>
          <p:nvPr/>
        </p:nvSpPr>
        <p:spPr>
          <a:xfrm>
            <a:off x="1341360" y="1281240"/>
            <a:ext cx="0" cy="2468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AutoShape 32"/>
          <p:cNvSpPr/>
          <p:nvPr/>
        </p:nvSpPr>
        <p:spPr>
          <a:xfrm>
            <a:off x="3535200" y="2927520"/>
            <a:ext cx="641520" cy="54900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AutoShape 33"/>
          <p:cNvSpPr/>
          <p:nvPr/>
        </p:nvSpPr>
        <p:spPr>
          <a:xfrm>
            <a:off x="3535200" y="3659040"/>
            <a:ext cx="641520" cy="547920"/>
          </a:xfrm>
          <a:prstGeom prst="flowChartDelay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AutoShape 34"/>
          <p:cNvSpPr/>
          <p:nvPr/>
        </p:nvSpPr>
        <p:spPr>
          <a:xfrm flipH="1">
            <a:off x="4541040" y="3292560"/>
            <a:ext cx="731880" cy="54936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AutoShape 35"/>
          <p:cNvSpPr/>
          <p:nvPr/>
        </p:nvSpPr>
        <p:spPr>
          <a:xfrm flipH="1">
            <a:off x="2255040" y="3110040"/>
            <a:ext cx="731880" cy="549000"/>
          </a:xfrm>
          <a:prstGeom prst="flowChartOnlineStorag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36"/>
          <p:cNvSpPr/>
          <p:nvPr/>
        </p:nvSpPr>
        <p:spPr>
          <a:xfrm>
            <a:off x="2987640" y="3384720"/>
            <a:ext cx="547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Line 37"/>
          <p:cNvSpPr/>
          <p:nvPr/>
        </p:nvSpPr>
        <p:spPr>
          <a:xfrm>
            <a:off x="792000" y="4116240"/>
            <a:ext cx="2743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Line 38"/>
          <p:cNvSpPr/>
          <p:nvPr/>
        </p:nvSpPr>
        <p:spPr>
          <a:xfrm>
            <a:off x="792000" y="3933720"/>
            <a:ext cx="2743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39"/>
          <p:cNvSpPr/>
          <p:nvPr/>
        </p:nvSpPr>
        <p:spPr>
          <a:xfrm>
            <a:off x="792000" y="3749760"/>
            <a:ext cx="2743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Line 40"/>
          <p:cNvSpPr/>
          <p:nvPr/>
        </p:nvSpPr>
        <p:spPr>
          <a:xfrm>
            <a:off x="1523880" y="1646280"/>
            <a:ext cx="0" cy="228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Line 41"/>
          <p:cNvSpPr/>
          <p:nvPr/>
        </p:nvSpPr>
        <p:spPr>
          <a:xfrm>
            <a:off x="1706400" y="1828800"/>
            <a:ext cx="0" cy="228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Line 42"/>
          <p:cNvSpPr/>
          <p:nvPr/>
        </p:nvSpPr>
        <p:spPr>
          <a:xfrm>
            <a:off x="1523880" y="2562120"/>
            <a:ext cx="2011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Line 43"/>
          <p:cNvSpPr/>
          <p:nvPr/>
        </p:nvSpPr>
        <p:spPr>
          <a:xfrm>
            <a:off x="1341360" y="3200400"/>
            <a:ext cx="1006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Line 44"/>
          <p:cNvSpPr/>
          <p:nvPr/>
        </p:nvSpPr>
        <p:spPr>
          <a:xfrm>
            <a:off x="1706400" y="3567240"/>
            <a:ext cx="641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Line 45"/>
          <p:cNvSpPr/>
          <p:nvPr/>
        </p:nvSpPr>
        <p:spPr>
          <a:xfrm>
            <a:off x="1523880" y="3384720"/>
            <a:ext cx="8240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Line 46"/>
          <p:cNvSpPr/>
          <p:nvPr/>
        </p:nvSpPr>
        <p:spPr>
          <a:xfrm>
            <a:off x="3170160" y="2835360"/>
            <a:ext cx="2468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Line 47"/>
          <p:cNvSpPr/>
          <p:nvPr/>
        </p:nvSpPr>
        <p:spPr>
          <a:xfrm>
            <a:off x="3170160" y="3017880"/>
            <a:ext cx="3650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3170160" y="2835000"/>
            <a:ext cx="0" cy="182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Line 49"/>
          <p:cNvSpPr/>
          <p:nvPr/>
        </p:nvSpPr>
        <p:spPr>
          <a:xfrm>
            <a:off x="4359240" y="3384720"/>
            <a:ext cx="274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50"/>
          <p:cNvSpPr/>
          <p:nvPr/>
        </p:nvSpPr>
        <p:spPr>
          <a:xfrm>
            <a:off x="4176720" y="3200400"/>
            <a:ext cx="18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4359240" y="3200400"/>
            <a:ext cx="0" cy="184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4359240" y="3749400"/>
            <a:ext cx="0" cy="182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53"/>
          <p:cNvSpPr/>
          <p:nvPr/>
        </p:nvSpPr>
        <p:spPr>
          <a:xfrm>
            <a:off x="4359240" y="3749760"/>
            <a:ext cx="274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54"/>
          <p:cNvSpPr/>
          <p:nvPr/>
        </p:nvSpPr>
        <p:spPr>
          <a:xfrm>
            <a:off x="4176720" y="3932280"/>
            <a:ext cx="18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55"/>
          <p:cNvSpPr/>
          <p:nvPr/>
        </p:nvSpPr>
        <p:spPr>
          <a:xfrm>
            <a:off x="5273640" y="3567240"/>
            <a:ext cx="1736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Oval 56"/>
          <p:cNvSpPr/>
          <p:nvPr/>
        </p:nvSpPr>
        <p:spPr>
          <a:xfrm>
            <a:off x="5589720" y="1793880"/>
            <a:ext cx="91800" cy="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Oval 57"/>
          <p:cNvSpPr/>
          <p:nvPr/>
        </p:nvSpPr>
        <p:spPr>
          <a:xfrm>
            <a:off x="1482840" y="2514600"/>
            <a:ext cx="903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Oval 58"/>
          <p:cNvSpPr/>
          <p:nvPr/>
        </p:nvSpPr>
        <p:spPr>
          <a:xfrm>
            <a:off x="1300320" y="3143160"/>
            <a:ext cx="903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Oval 59"/>
          <p:cNvSpPr/>
          <p:nvPr/>
        </p:nvSpPr>
        <p:spPr>
          <a:xfrm>
            <a:off x="1471680" y="3341520"/>
            <a:ext cx="903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Oval 60"/>
          <p:cNvSpPr/>
          <p:nvPr/>
        </p:nvSpPr>
        <p:spPr>
          <a:xfrm>
            <a:off x="1658880" y="3519360"/>
            <a:ext cx="92160" cy="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Oval 61"/>
          <p:cNvSpPr/>
          <p:nvPr/>
        </p:nvSpPr>
        <p:spPr>
          <a:xfrm>
            <a:off x="1293840" y="370368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Oval 62"/>
          <p:cNvSpPr/>
          <p:nvPr/>
        </p:nvSpPr>
        <p:spPr>
          <a:xfrm>
            <a:off x="1474920" y="3895560"/>
            <a:ext cx="9180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Oval 63"/>
          <p:cNvSpPr/>
          <p:nvPr/>
        </p:nvSpPr>
        <p:spPr>
          <a:xfrm>
            <a:off x="1654200" y="4067280"/>
            <a:ext cx="90360" cy="91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Line 64"/>
          <p:cNvSpPr/>
          <p:nvPr/>
        </p:nvSpPr>
        <p:spPr>
          <a:xfrm>
            <a:off x="1341360" y="2311560"/>
            <a:ext cx="2193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Oval 65"/>
          <p:cNvSpPr/>
          <p:nvPr/>
        </p:nvSpPr>
        <p:spPr>
          <a:xfrm>
            <a:off x="1300320" y="2274840"/>
            <a:ext cx="903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Text Box 66"/>
          <p:cNvSpPr/>
          <p:nvPr/>
        </p:nvSpPr>
        <p:spPr>
          <a:xfrm>
            <a:off x="7010280" y="3429000"/>
            <a:ext cx="685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67"/>
          <p:cNvSpPr/>
          <p:nvPr/>
        </p:nvSpPr>
        <p:spPr>
          <a:xfrm>
            <a:off x="7086600" y="1600200"/>
            <a:ext cx="5335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Rectangle 68"/>
          <p:cNvSpPr/>
          <p:nvPr/>
        </p:nvSpPr>
        <p:spPr>
          <a:xfrm>
            <a:off x="1295280" y="4419720"/>
            <a:ext cx="7239240" cy="243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3: Connect the gates to the signal ne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1.a(A); or1.b(B); or1.o(or_1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2.a(A); or2.b(B); or2.c(CI); or2.o(or_2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3.a(or_1); and3.b(CI); and3.o(and_3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4.a(A); and4.b(B); and4.o(and_4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5.a(nor_7); and5.b(or_2); and5.o(and_5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d6.a(A); and6.b(B); and6.c(CI); and6.o(and_6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r7.a(and_3); nor7.b(and_4); nor7.o(nor_7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r8.a(and_5); or8.b(and_6); or8.o(SUM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v9.a(nor_7); inv9.o(CO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… continued next p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AutoShape 69"/>
          <p:cNvSpPr/>
          <p:nvPr/>
        </p:nvSpPr>
        <p:spPr>
          <a:xfrm>
            <a:off x="5257800" y="3809880"/>
            <a:ext cx="2514600" cy="457200"/>
          </a:xfrm>
          <a:prstGeom prst="wedgeRoundRectCallout">
            <a:avLst>
              <a:gd name="adj1" fmla="val -58712"/>
              <a:gd name="adj2" fmla="val 192361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 instance object or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AutoShape 70"/>
          <p:cNvSpPr/>
          <p:nvPr/>
        </p:nvSpPr>
        <p:spPr>
          <a:xfrm>
            <a:off x="6324480" y="4343400"/>
            <a:ext cx="1447920" cy="457200"/>
          </a:xfrm>
          <a:prstGeom prst="wedgeRoundRectCallout">
            <a:avLst>
              <a:gd name="adj1" fmla="val -114037"/>
              <a:gd name="adj2" fmla="val 80555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n object 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71"/>
          <p:cNvSpPr/>
          <p:nvPr/>
        </p:nvSpPr>
        <p:spPr>
          <a:xfrm>
            <a:off x="6553080" y="5181480"/>
            <a:ext cx="1752840" cy="457200"/>
          </a:xfrm>
          <a:prstGeom prst="wedgeRoundRectCallout">
            <a:avLst>
              <a:gd name="adj1" fmla="val -85509"/>
              <a:gd name="adj2" fmla="val -64583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 net objec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Text Box 72"/>
          <p:cNvSpPr/>
          <p:nvPr/>
        </p:nvSpPr>
        <p:spPr>
          <a:xfrm>
            <a:off x="2971800" y="1219320"/>
            <a:ext cx="609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_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73"/>
          <p:cNvSpPr/>
          <p:nvPr/>
        </p:nvSpPr>
        <p:spPr>
          <a:xfrm>
            <a:off x="2971800" y="3200400"/>
            <a:ext cx="609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r_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74"/>
          <p:cNvSpPr/>
          <p:nvPr/>
        </p:nvSpPr>
        <p:spPr>
          <a:xfrm>
            <a:off x="4038480" y="1219320"/>
            <a:ext cx="609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_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75"/>
          <p:cNvSpPr/>
          <p:nvPr/>
        </p:nvSpPr>
        <p:spPr>
          <a:xfrm>
            <a:off x="5257800" y="2133720"/>
            <a:ext cx="609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r_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6"/>
          <p:cNvSpPr/>
          <p:nvPr/>
        </p:nvSpPr>
        <p:spPr>
          <a:xfrm>
            <a:off x="4191120" y="2362320"/>
            <a:ext cx="609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_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77"/>
          <p:cNvSpPr/>
          <p:nvPr/>
        </p:nvSpPr>
        <p:spPr>
          <a:xfrm>
            <a:off x="4191120" y="2971800"/>
            <a:ext cx="609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_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78"/>
          <p:cNvSpPr/>
          <p:nvPr/>
        </p:nvSpPr>
        <p:spPr>
          <a:xfrm>
            <a:off x="4191120" y="3886200"/>
            <a:ext cx="609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d_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EF39C09D-5D92-413F-8855-90A8836666E1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Running the simula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685800" y="1066680"/>
            <a:ext cx="7696080" cy="5531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.. continued from previous p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initialize(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itialize the simulation engin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create the file to store simulation resul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_trace_file *tf =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create_vcd_trace_f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"trace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4: specify the signals we’d like to record in the trace fil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tra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f, A, "A");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tra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f, B, "B")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tra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f, CI, “CI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tra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f, SUM, “SUM");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trac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tf, CO, "CO"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5: put values on the input signals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=0; B=0; CI=0;              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initialize the input valu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cycle(10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( int i = 0 ; i &lt; 8 ; i++ )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generate all input combina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 = ((i &amp; 0x1) != 0);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value of A is the bit0 of 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 = ((i &amp; 0x2) != 0);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value of B is the bit1 of 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I = ((i &amp; 0x4) != 0);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value of CI is the bit2 of 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cycle(10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evaluat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sc_close_vcd_trace_file(tf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6600"/>
                </a:solidFill>
                <a:latin typeface="Courier New"/>
              </a:rPr>
              <a:t>// close file and we’re don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5619A518-2106-4FB2-B9DF-D3F02AA2A078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Waveform view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7" name="Picture 3" descr="screen"/>
          <p:cNvPicPr/>
          <p:nvPr/>
        </p:nvPicPr>
        <p:blipFill>
          <a:blip r:embed="rId1"/>
          <a:stretch/>
        </p:blipFill>
        <p:spPr>
          <a:xfrm>
            <a:off x="0" y="990720"/>
            <a:ext cx="89168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F5451484-4F43-4D33-B376-B639350C1357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79360" y="1294920"/>
            <a:ext cx="8585280" cy="19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odules are the basic building blocks to partition a 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they allow to partition complex systems in smaller compon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odules hide internal data representation, use interfa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odules are classes in C+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 module is similar to an „entity“ in VHD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1908000" y="3573360"/>
            <a:ext cx="6624720" cy="252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굴림"/>
              </a:rPr>
              <a:t>SC_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(module_nam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Ports declaration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Signals declar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Module constructor : SC_CT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Process constructors and sensibility lis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          SC_METHO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Sub-Modules creation and port mappi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// Signals initializa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굴림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CBA127E0-8C42-4A2A-9E27-F0581CEAA0A1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A Mux 2:1 modul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708360" y="1773360"/>
            <a:ext cx="4897440" cy="423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Courier New"/>
              </a:rPr>
              <a:t>SC_MODU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( Mux21 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c_in&lt; sc_uint&lt;8&gt; &gt;   in1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c_in&lt; sc_uint&lt;8&gt; &gt;   in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c_in&lt; bool &gt;         selection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c_out&lt; sc_uint&lt;8&gt; &gt;  out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void doIt( void 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C_CTOR( Mux21 ) 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C_METHOD( doIt 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ensitive &lt;&lt; selection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ensitive &lt;&lt; in1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sensitive &lt;&lt; in2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222120" y="2997360"/>
            <a:ext cx="2883240" cy="2773440"/>
            <a:chOff x="222120" y="2997360"/>
            <a:chExt cx="2883240" cy="2773440"/>
          </a:xfrm>
        </p:grpSpPr>
        <p:sp>
          <p:nvSpPr>
            <p:cNvPr id="426" name="Rectangle 5"/>
            <p:cNvSpPr/>
            <p:nvPr/>
          </p:nvSpPr>
          <p:spPr>
            <a:xfrm>
              <a:off x="1163160" y="2997360"/>
              <a:ext cx="968400" cy="191844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UX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2131920" y="400176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>
              <a:off x="371160" y="354456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Line 8"/>
            <p:cNvSpPr/>
            <p:nvPr/>
          </p:nvSpPr>
          <p:spPr>
            <a:xfrm>
              <a:off x="371160" y="4275720"/>
              <a:ext cx="79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Line 9"/>
            <p:cNvSpPr/>
            <p:nvPr/>
          </p:nvSpPr>
          <p:spPr>
            <a:xfrm>
              <a:off x="1691280" y="4915800"/>
              <a:ext cx="0" cy="547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222840" y="31802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n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222120" y="39114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n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Text Box 12"/>
            <p:cNvSpPr/>
            <p:nvPr/>
          </p:nvSpPr>
          <p:spPr>
            <a:xfrm>
              <a:off x="1148400" y="5463720"/>
              <a:ext cx="9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election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Text Box 13"/>
            <p:cNvSpPr/>
            <p:nvPr/>
          </p:nvSpPr>
          <p:spPr>
            <a:xfrm>
              <a:off x="2642760" y="3544560"/>
              <a:ext cx="46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ou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4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CCA472A7-56EC-4D4B-8E80-2C54B70C9430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Submodules and Connection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580000" y="1557000"/>
            <a:ext cx="320832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Example: 'filter'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8" name="Object 4"/>
          <p:cNvGraphicFramePr/>
          <p:nvPr/>
        </p:nvGraphicFramePr>
        <p:xfrm>
          <a:off x="5435640" y="2133720"/>
          <a:ext cx="3600360" cy="347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133720"/>
                    <a:ext cx="3600360" cy="34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5"/>
          <p:cNvSpPr/>
          <p:nvPr/>
        </p:nvSpPr>
        <p:spPr>
          <a:xfrm>
            <a:off x="108000" y="1268280"/>
            <a:ext cx="5184720" cy="520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C_MODULE(filter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Sub-modules : “componen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ample *s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coeff  *c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mult   *m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c_signal&lt;sc_uint &lt;32&gt; &gt; q, s, c;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Signal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C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onstructor : “architecture”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C_CTOR(filter)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Sub-modules instantiation and mapp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1 =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sample (“s1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1-&gt;din(q);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named mapp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s1-&gt;dout(s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c1 =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coeff(“c1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c1-&gt;out(c);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named mapp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m1 =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굴림"/>
              </a:rPr>
              <a:t>new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mult (“m1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(*m1)(s, c, q);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// </a:t>
            </a:r>
            <a:r>
              <a:rPr b="1" i="1" lang="en-US" sz="1400" spc="-1" strike="noStrike">
                <a:solidFill>
                  <a:srgbClr val="3333cc"/>
                </a:solidFill>
                <a:latin typeface="Courier New"/>
                <a:ea typeface="굴림"/>
              </a:rPr>
              <a:t>Positional mapp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CC46144B-7F59-4D58-9EA6-3F083427EAF3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3 types of Process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828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When activated, executes and returns (just like a function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pt-BR" sz="2000" spc="-1" strike="noStrike">
                <a:solidFill>
                  <a:srgbClr val="3333cc"/>
                </a:solidFill>
                <a:latin typeface="Courier New"/>
              </a:rPr>
              <a:t>SC_METHOD(process_nam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o staticly kept st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tivated by event on sensitivity li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28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Can be suspended and reactiv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wait() -&gt; suspends exec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tivated by event on sensitivity li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pt-BR" sz="2000" spc="-1" strike="noStrike">
                <a:solidFill>
                  <a:srgbClr val="3333cc"/>
                </a:solidFill>
                <a:latin typeface="Courier New"/>
              </a:rPr>
              <a:t>SC_THREAD(process_nam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28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CThrea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Activated by the clock pu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66360" indent="-18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pt-BR" sz="2000" spc="-1" strike="noStrike">
                <a:solidFill>
                  <a:srgbClr val="3333cc"/>
                </a:solidFill>
                <a:latin typeface="Courier New"/>
              </a:rPr>
              <a:t>SC_CTHREAD(process_name, clock value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8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FD32B397-099B-411D-B59A-21ED62C1A630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Defining the Sensitivity List of a Proces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79360" y="1052640"/>
            <a:ext cx="8585280" cy="54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siti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the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per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s a single port or signal as argu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ensitive(sig1); sensitive(sig2); sensitive(sig3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siti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the stream no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kes an arbitrary number of arg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ensitive &lt;&lt; sig1 &lt;&lt; sig2 &lt;&lt; sig3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sitive_p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eithe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per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s sensitivity to positive edge of Boolean signal or c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ensitive_pos &lt;&lt; clk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nsitive_ne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th either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&lt;&l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per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s sensitivity to negative edge of Boolean signal or c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ensitive_neg &lt;&lt; clk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1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268BB152-DCC7-463A-9D42-0C4BB8BE691D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An Example of an SC_THREA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672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1680" bIns="316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826920" y="1484280"/>
            <a:ext cx="5905800" cy="448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do_count() {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while(1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reset) {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0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count)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++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.write(value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Courier New"/>
              </a:rPr>
              <a:t>wait(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AutoShape 5"/>
          <p:cNvSpPr/>
          <p:nvPr/>
        </p:nvSpPr>
        <p:spPr>
          <a:xfrm>
            <a:off x="5292720" y="4508640"/>
            <a:ext cx="3168720" cy="576000"/>
          </a:xfrm>
          <a:prstGeom prst="wedgeRoundRectCallout">
            <a:avLst>
              <a:gd name="adj1" fmla="val -120342"/>
              <a:gd name="adj2" fmla="val 39532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it till next event 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AutoShape 6"/>
          <p:cNvSpPr/>
          <p:nvPr/>
        </p:nvSpPr>
        <p:spPr>
          <a:xfrm>
            <a:off x="5580000" y="1484280"/>
            <a:ext cx="3168720" cy="576360"/>
          </a:xfrm>
          <a:prstGeom prst="wedgeRoundRectCallout">
            <a:avLst>
              <a:gd name="adj1" fmla="val -123847"/>
              <a:gd name="adj2" fmla="val 64324"/>
              <a:gd name="adj3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eat fore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166A4C4F-C320-4D94-8A97-8F70D7E9FE72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mmMIPS (pipelined version)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3" descr="800px-Pipeline_MIPS"/>
          <p:cNvPicPr/>
          <p:nvPr/>
        </p:nvPicPr>
        <p:blipFill>
          <a:blip r:embed="rId1"/>
          <a:stretch/>
        </p:blipFill>
        <p:spPr>
          <a:xfrm>
            <a:off x="380880" y="1295280"/>
            <a:ext cx="853452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72B0FC59-76ED-4591-8C79-B6D3512F318D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read Processes: wait( ) Functio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be used in both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SC_THR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SC_CTHR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cesses but not in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SC_METHO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rocess b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uspends execution of the process until the process is invoked ag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&lt;pos_int&gt;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ay be used to wait for a certain number of cycles (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SC_CTHR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nly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ynchronous process (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SC_CTHR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ments before the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executed in one cy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ments after the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xecuted in the next cy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synchronous process (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SC_THREA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ments before the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executed in the last even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ments after the </a:t>
            </a:r>
            <a:r>
              <a:rPr b="0" lang="en-US" sz="2000" spc="-1" strike="noStrike">
                <a:solidFill>
                  <a:srgbClr val="ff66ff"/>
                </a:solidFill>
                <a:latin typeface="Comic Sans MS"/>
              </a:rPr>
              <a:t>wait( 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re executed in the next e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153654B1-345E-4E05-A30B-10FA27D61F36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C_THREAD Example 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66672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1680" bIns="316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241200" y="1413000"/>
            <a:ext cx="4043520" cy="37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my_modul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id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ock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sc_uint&lt;3&gt; &gt;  in_a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sc_uint&lt;3&gt; &gt;  in_b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sc_uint&lt;3&gt; &gt; out_c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y_thread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my_modul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_THREAD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my_threa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ock.pos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788000" y="2924280"/>
            <a:ext cx="4066920" cy="328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my_module.cp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y_module::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  <a:ea typeface="Courier New"/>
              </a:rPr>
              <a:t>my_thread(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990099"/>
                </a:solidFill>
                <a:latin typeface="Courier New"/>
                <a:ea typeface="Courier New"/>
              </a:rPr>
              <a:t>while(tru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d.rea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)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_c.write(in_a.read(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_c.write(in_b.read()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990099"/>
                </a:solidFill>
                <a:latin typeface="Courier New"/>
                <a:ea typeface="Courier New"/>
              </a:rPr>
              <a:t>wai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4703400" y="2155680"/>
            <a:ext cx="29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read implementation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75499CC5-6C50-472F-862D-BB4E7B9FFC37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C_CTHREAD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84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ill be deprecated in future releas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2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 identical to </a:t>
            </a: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SC_THRE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but implements “clocked thread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2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sitive only to one edge of one and only one clo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2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not triggered if inputs other than the clock chan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s the behavior of unregistered inputs and registered outpu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ful for high level simulations, where the clock is used as the only synchronization de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4680" indent="-184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s </a:t>
            </a: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wait_until(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watching( 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emantics for easy deploy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66672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1680" bIns="316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3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9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9" dur="50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402DF106-AE11-49BE-AA03-FBBEBA8FC002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ounter in SystemC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66672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920" rIns="61920" tIns="31680" bIns="316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179280" y="1628640"/>
            <a:ext cx="4392720" cy="4143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(countsu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double&gt;  in1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double&gt;  in2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double&gt; sum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out&lt;double&gt; diff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   clk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sub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nstructor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CTOR(countsub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eclare addsub as SC_METHOD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(addsub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make it sensitive to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ositive cloc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_pos &lt;&lt; clk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5292720" y="1628640"/>
            <a:ext cx="3300480" cy="2225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efinition of addsub metho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untsub::addsub(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in1.read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in2.read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um.write(a+b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ff.write(a-b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1" name="Group 6"/>
          <p:cNvGrpSpPr/>
          <p:nvPr/>
        </p:nvGrpSpPr>
        <p:grpSpPr>
          <a:xfrm>
            <a:off x="5348160" y="4581360"/>
            <a:ext cx="3400560" cy="1368720"/>
            <a:chOff x="5348160" y="4581360"/>
            <a:chExt cx="3400560" cy="1368720"/>
          </a:xfrm>
        </p:grpSpPr>
        <p:sp>
          <p:nvSpPr>
            <p:cNvPr id="472" name="Rectangle 7"/>
            <p:cNvSpPr/>
            <p:nvPr/>
          </p:nvSpPr>
          <p:spPr>
            <a:xfrm>
              <a:off x="6227640" y="4724280"/>
              <a:ext cx="1729080" cy="122580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dder 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racto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Line 8"/>
            <p:cNvSpPr/>
            <p:nvPr/>
          </p:nvSpPr>
          <p:spPr>
            <a:xfrm>
              <a:off x="5435640" y="486900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Line 9"/>
            <p:cNvSpPr/>
            <p:nvPr/>
          </p:nvSpPr>
          <p:spPr>
            <a:xfrm>
              <a:off x="5435640" y="537372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Line 10"/>
            <p:cNvSpPr/>
            <p:nvPr/>
          </p:nvSpPr>
          <p:spPr>
            <a:xfrm>
              <a:off x="5435640" y="587700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Line 11"/>
            <p:cNvSpPr/>
            <p:nvPr/>
          </p:nvSpPr>
          <p:spPr>
            <a:xfrm>
              <a:off x="7956720" y="501336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Line 12"/>
            <p:cNvSpPr/>
            <p:nvPr/>
          </p:nvSpPr>
          <p:spPr>
            <a:xfrm>
              <a:off x="7956720" y="558972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Text Box 13"/>
            <p:cNvSpPr/>
            <p:nvPr/>
          </p:nvSpPr>
          <p:spPr>
            <a:xfrm>
              <a:off x="5348160" y="458136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n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Text Box 14"/>
            <p:cNvSpPr/>
            <p:nvPr/>
          </p:nvSpPr>
          <p:spPr>
            <a:xfrm>
              <a:off x="5362560" y="50846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n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Text Box 15"/>
            <p:cNvSpPr/>
            <p:nvPr/>
          </p:nvSpPr>
          <p:spPr>
            <a:xfrm>
              <a:off x="5371200" y="55897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16"/>
            <p:cNvSpPr/>
            <p:nvPr/>
          </p:nvSpPr>
          <p:spPr>
            <a:xfrm>
              <a:off x="8041320" y="4724280"/>
              <a:ext cx="54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17"/>
            <p:cNvSpPr/>
            <p:nvPr/>
          </p:nvSpPr>
          <p:spPr>
            <a:xfrm>
              <a:off x="8050680" y="530064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diff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8109B8FB-1C2C-42F4-9F14-F52F5C421D5D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Ports and Signal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orts of a module are the external interfaces that pass information to and from a modu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 SystemC one port can be IN, OUT or INOU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ignals are used to connect module ports allowing modules to communic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imilar to ports and signals in VHD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0" dur="5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CCE1C092-36D8-4CEE-95B0-B4790325D3F2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Ports and Signal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Types of ports and signal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ll natives C/C++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ll SystemC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User defined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w to decl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 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in&lt;port_typ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OUT 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out&lt;port_type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Bi-Directional 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inout&lt;port_type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A3AAF668-C8C8-4882-A59D-D008495EEB56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Ports and Signal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w to read and write a port 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thods read( ); and write( 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_tmp = in.read( );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//reads the port in to in_tm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out.write(out_temp);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//writes out_temp in the out por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60D81FB0-906D-4C6C-BC1A-AA9D709D466E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Comic Sans MS"/>
              </a:rPr>
              <a:t>Clock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79360" y="1294920"/>
            <a:ext cx="8585280" cy="30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굴림"/>
              </a:rPr>
              <a:t>Special obje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굴림"/>
              </a:rPr>
              <a:t>How to create 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clock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lock_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lock_lab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”,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perio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duty_rati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itial_valu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굴림"/>
              </a:rPr>
              <a:t>Clock conn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f1.clk( clk_signal );  //where f1 is a mod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3492360" y="4869000"/>
          <a:ext cx="4753080" cy="14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869000"/>
                    <a:ext cx="4753080" cy="1468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FCAFBF12-53F4-4DA3-B5D0-65559762C217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Data Typ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SystemC suppor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all C/C++ native typ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plus specific SystemC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SystemC typ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Types for systems model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2 values (‘0’,’1’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4 values (‘0’,’1’,’Z’,’X’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Arbitrary size integer (Signed/Unsign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굴림"/>
              </a:rPr>
              <a:t>Fixed point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4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4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0DA58763-7831-4EB4-91DB-7B6497CFF4F0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굴림"/>
              </a:rPr>
              <a:t>SC_LOGIC typ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ore general than bool, 4 values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(‘0’ (false), ‘1’ (true), ‘X’ (undefined) , ‘Z’(high-impedance) 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Assignment like b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y_logic = ‘0’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y_logic = ‘Z’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imulation time bigger than b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Operators like b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Decla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logic my_logic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5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5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246F95A8-2867-46D0-8FB5-51CE8D651C67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Hardware-software co-desig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9000" y="1125360"/>
            <a:ext cx="6669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789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re designing a processor sys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25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hardware that runs softwa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need to design BOTH hardware and softw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25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nce the nam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Hardware-Software co-desig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our case the hardware is an FPGA. In real life this could be a multi-million dollar chip that takes 6 months to implement in hardwa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need to emulate/simulate the hardware before we’re actually making it. In this way errors can be found early 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simulation model of the hardware can be described in ‘SystemC’. This is actually a C++ program with a special toolki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8920" indent="-178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also compile our SystemC processor into FPGA hardware;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o we use SystemC for 2 purpos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451640" y="1557360"/>
            <a:ext cx="1441440" cy="855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7451640" y="4149720"/>
            <a:ext cx="1441440" cy="855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6" descr="jukebox3pix2"/>
          <p:cNvPicPr/>
          <p:nvPr/>
        </p:nvPicPr>
        <p:blipFill>
          <a:blip r:embed="rId1"/>
          <a:stretch/>
        </p:blipFill>
        <p:spPr>
          <a:xfrm>
            <a:off x="6875640" y="2637000"/>
            <a:ext cx="1011240" cy="102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7812000" y="5229360"/>
            <a:ext cx="1036800" cy="151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Line 8"/>
          <p:cNvSpPr/>
          <p:nvPr/>
        </p:nvSpPr>
        <p:spPr>
          <a:xfrm flipV="1">
            <a:off x="8244000" y="3573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7883640" y="3068640"/>
            <a:ext cx="718920" cy="423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8244000" y="242100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B217F8CE-9734-49DF-8A7F-433A6D2CA690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Fixed precision integ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Used when arithmetic operations need fixed size arithmetic opera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T can be converted in UINT and vice-vers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t” in C+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The size depends on the mach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Faster in the simu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1-64 bits integer in System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int&lt;n&gt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-- signed integer with n-bi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uint&lt;n&gt;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-- unsigned integer with n-bit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CBDB542C-49D4-43E1-AD08-3F4EDD66E4CC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굴림"/>
              </a:rPr>
              <a:t>Arbitrary precision integer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teger bigger than 64 bi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bigint&lt;n&gt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biguint&lt;n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ore precision, slow simu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an be used together with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teger C+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int, sc_ui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D8F760CC-6F23-40D9-9DE8-FB0F35C75DA3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Other SystemC typ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864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Bit v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bv&lt;n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2-valued vector (0/1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Not used in arithmetics oper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Faster simulation than sc_l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Logic V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c_lv&lt;n&g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Vector of the 4-valued sc_logic 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Assignment operator (“=“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y_vector = “XZ01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onversion between vector and integer (int or ui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Assignment between sc_bv and sc_l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5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5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6A815173-66F0-4930-B4E2-DDA319387BA5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SystemC types overvie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95280" y="1125360"/>
          <a:ext cx="5689440" cy="5399280"/>
        </p:xfrm>
        <a:graphic>
          <a:graphicData uri="http://schemas.openxmlformats.org/drawingml/2006/table">
            <a:tbl>
              <a:tblPr/>
              <a:tblGrid>
                <a:gridCol w="1906560"/>
                <a:gridCol w="378288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log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imple bit with 4 values(0/1/X/Z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igned Integer from 1-64 b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u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Unsigned Integer from 1-64 b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big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Arbitrary size signed integ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bigu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Arbitrary size unsigned inte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b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Arbitrary size 2-values ve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Arbitrary size 4-values ve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templated signed fixed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ufix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templated unsigned fixed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f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untemplated signed fixed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sc_uf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untemplated unsigned fixed p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5" name="AutoShape 44"/>
          <p:cNvSpPr/>
          <p:nvPr/>
        </p:nvSpPr>
        <p:spPr>
          <a:xfrm>
            <a:off x="6118200" y="3213000"/>
            <a:ext cx="3025800" cy="1440000"/>
          </a:xfrm>
          <a:prstGeom prst="wedgeRoundRectCallout">
            <a:avLst>
              <a:gd name="adj1" fmla="val -78750"/>
              <a:gd name="adj2" fmla="val 74365"/>
              <a:gd name="adj3" fmla="val 16667"/>
            </a:avLst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e chapter 7 of the SystemC user manual for all details on Fixed Point Typ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24B6EE37-D87D-4300-A850-3EC44FA8ACFC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Comic Sans MS"/>
              </a:rPr>
              <a:t>Examples of use of SystemC types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6119640" cy="3889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_bit y, sc_bv&lt;8&gt; x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y = x[6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_bv&lt;16&gt; x, sc_bv&lt;8&gt; 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y = x.range(0,7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_bv&lt;64&gt; databus, sc_logic resul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sult = databus.or_reduce(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_lv&lt;32&gt; bus2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ut &lt;&lt; “bus = “ &lt;&lt; bus2.to_string(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A6754349-B312-4EAC-A2F2-20774D31390C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96000" y="2924280"/>
            <a:ext cx="3168720" cy="165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Example – Half add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559040" cy="410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“systemc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  <a:ea typeface="新細明體"/>
              </a:rPr>
              <a:t>SC_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(half_adder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sc_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bool&gt; a,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sc_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&lt;bool&gt;sum, carry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oc_half_adder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  <a:ea typeface="新細明體"/>
              </a:rPr>
              <a:t>SC_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(half_adder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  <a:ea typeface="新細明體"/>
              </a:rPr>
              <a:t>SC_METHO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(proc_half_adder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sensitiv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&lt;&lt; a &lt;&lt;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half_adder::proc_half_adder(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um = a ^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carry = a &amp; b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5797440" y="343044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5796000" y="407664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8172360" y="3429000"/>
            <a:ext cx="8287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8172360" y="4076640"/>
            <a:ext cx="79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7" name="Group 9"/>
          <p:cNvGrpSpPr/>
          <p:nvPr/>
        </p:nvGrpSpPr>
        <p:grpSpPr>
          <a:xfrm>
            <a:off x="6513480" y="3141720"/>
            <a:ext cx="1699920" cy="1225440"/>
            <a:chOff x="6513480" y="3141720"/>
            <a:chExt cx="1699920" cy="1225440"/>
          </a:xfrm>
        </p:grpSpPr>
        <p:sp>
          <p:nvSpPr>
            <p:cNvPr id="528" name="Rectangle 10"/>
            <p:cNvSpPr/>
            <p:nvPr/>
          </p:nvSpPr>
          <p:spPr>
            <a:xfrm>
              <a:off x="6516720" y="3141720"/>
              <a:ext cx="1655640" cy="122544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alf-adder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Text Box 11"/>
            <p:cNvSpPr/>
            <p:nvPr/>
          </p:nvSpPr>
          <p:spPr>
            <a:xfrm>
              <a:off x="6513480" y="321300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Text Box 12"/>
            <p:cNvSpPr/>
            <p:nvPr/>
          </p:nvSpPr>
          <p:spPr>
            <a:xfrm>
              <a:off x="6516000" y="393372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Text Box 13"/>
            <p:cNvSpPr/>
            <p:nvPr/>
          </p:nvSpPr>
          <p:spPr>
            <a:xfrm>
              <a:off x="7647480" y="3213000"/>
              <a:ext cx="54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Text Box 14"/>
            <p:cNvSpPr/>
            <p:nvPr/>
          </p:nvSpPr>
          <p:spPr>
            <a:xfrm>
              <a:off x="7608960" y="393372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arr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7F51E787-ED46-41CB-B544-7ADFA98E24DE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6070320" cy="489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“half_adder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MODULE (full_adder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in&lt;bool&gt;a, b, carry_in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out&lt;bool&gt;sum, carry_ou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signal&lt;bool&gt;c1, s2, c2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void proc_or(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808000"/>
                </a:solidFill>
                <a:latin typeface="Courier New"/>
                <a:ea typeface="新細明體"/>
              </a:rPr>
              <a:t>half_adder ha1(“ha1”), ha2(“ha2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CTOR(full_adder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ha1.a(a);                  //by name connec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ha1.b(b);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ha1.sum(s1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ff6e01"/>
                </a:solidFill>
                <a:latin typeface="Courier New"/>
                <a:ea typeface="新細明體"/>
              </a:rPr>
              <a:t>ha1.carry(c1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  <a:ea typeface="新細明體"/>
              </a:rPr>
              <a:t>h2(s1, carry_in, sum, c2)  //by position connec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METHOD (proc_or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ensitive &lt;&lt; c1 &lt;&lt; c2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86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356000" y="1557360"/>
            <a:ext cx="4608720" cy="22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Describing Hierarchy: Full adder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37" name="Group 5"/>
          <p:cNvGrpSpPr/>
          <p:nvPr/>
        </p:nvGrpSpPr>
        <p:grpSpPr>
          <a:xfrm>
            <a:off x="6873840" y="2421000"/>
            <a:ext cx="1699920" cy="1225440"/>
            <a:chOff x="6873840" y="2421000"/>
            <a:chExt cx="1699920" cy="1225440"/>
          </a:xfrm>
        </p:grpSpPr>
        <p:sp>
          <p:nvSpPr>
            <p:cNvPr id="538" name="Rectangle 6"/>
            <p:cNvSpPr/>
            <p:nvPr/>
          </p:nvSpPr>
          <p:spPr>
            <a:xfrm>
              <a:off x="6877080" y="2421000"/>
              <a:ext cx="1655640" cy="122544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alf-adder ha2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Text Box 7"/>
            <p:cNvSpPr/>
            <p:nvPr/>
          </p:nvSpPr>
          <p:spPr>
            <a:xfrm>
              <a:off x="6873840" y="24922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Text Box 8"/>
            <p:cNvSpPr/>
            <p:nvPr/>
          </p:nvSpPr>
          <p:spPr>
            <a:xfrm>
              <a:off x="6876360" y="321300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Text Box 9"/>
            <p:cNvSpPr/>
            <p:nvPr/>
          </p:nvSpPr>
          <p:spPr>
            <a:xfrm>
              <a:off x="8007840" y="2492280"/>
              <a:ext cx="54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Text Box 10"/>
            <p:cNvSpPr/>
            <p:nvPr/>
          </p:nvSpPr>
          <p:spPr>
            <a:xfrm>
              <a:off x="7969320" y="321300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arr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3" name="Group 11"/>
          <p:cNvGrpSpPr/>
          <p:nvPr/>
        </p:nvGrpSpPr>
        <p:grpSpPr>
          <a:xfrm>
            <a:off x="4784760" y="1700280"/>
            <a:ext cx="1699920" cy="1225440"/>
            <a:chOff x="4784760" y="1700280"/>
            <a:chExt cx="1699920" cy="1225440"/>
          </a:xfrm>
        </p:grpSpPr>
        <p:sp>
          <p:nvSpPr>
            <p:cNvPr id="544" name="Rectangle 12"/>
            <p:cNvSpPr/>
            <p:nvPr/>
          </p:nvSpPr>
          <p:spPr>
            <a:xfrm>
              <a:off x="4788000" y="1700280"/>
              <a:ext cx="1655640" cy="122544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alf-adder ha1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Text Box 13"/>
            <p:cNvSpPr/>
            <p:nvPr/>
          </p:nvSpPr>
          <p:spPr>
            <a:xfrm>
              <a:off x="4784760" y="177156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Text Box 14"/>
            <p:cNvSpPr/>
            <p:nvPr/>
          </p:nvSpPr>
          <p:spPr>
            <a:xfrm>
              <a:off x="4787280" y="2492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Text Box 15"/>
            <p:cNvSpPr/>
            <p:nvPr/>
          </p:nvSpPr>
          <p:spPr>
            <a:xfrm>
              <a:off x="5918760" y="1771560"/>
              <a:ext cx="54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Text Box 16"/>
            <p:cNvSpPr/>
            <p:nvPr/>
          </p:nvSpPr>
          <p:spPr>
            <a:xfrm>
              <a:off x="5880240" y="249228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arry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9" name="Line 17"/>
          <p:cNvSpPr/>
          <p:nvPr/>
        </p:nvSpPr>
        <p:spPr>
          <a:xfrm>
            <a:off x="4356000" y="1989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Line 18"/>
          <p:cNvSpPr/>
          <p:nvPr/>
        </p:nvSpPr>
        <p:spPr>
          <a:xfrm>
            <a:off x="4356000" y="2637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19"/>
          <p:cNvSpPr/>
          <p:nvPr/>
        </p:nvSpPr>
        <p:spPr>
          <a:xfrm>
            <a:off x="6443640" y="2637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20"/>
          <p:cNvSpPr/>
          <p:nvPr/>
        </p:nvSpPr>
        <p:spPr>
          <a:xfrm>
            <a:off x="4356000" y="3357720"/>
            <a:ext cx="252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21"/>
          <p:cNvSpPr/>
          <p:nvPr/>
        </p:nvSpPr>
        <p:spPr>
          <a:xfrm>
            <a:off x="8532720" y="263700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Line 22"/>
          <p:cNvSpPr/>
          <p:nvPr/>
        </p:nvSpPr>
        <p:spPr>
          <a:xfrm>
            <a:off x="6443640" y="1916280"/>
            <a:ext cx="252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23"/>
          <p:cNvSpPr/>
          <p:nvPr/>
        </p:nvSpPr>
        <p:spPr>
          <a:xfrm>
            <a:off x="8532720" y="335772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4424400" y="170028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Text Box 25"/>
          <p:cNvSpPr/>
          <p:nvPr/>
        </p:nvSpPr>
        <p:spPr>
          <a:xfrm>
            <a:off x="4419000" y="234936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4449960" y="306864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rry_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27"/>
          <p:cNvSpPr/>
          <p:nvPr/>
        </p:nvSpPr>
        <p:spPr>
          <a:xfrm>
            <a:off x="8471520" y="1628640"/>
            <a:ext cx="5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FE5A2062-240A-4CA4-9A20-0BCDCC225C6B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Main --- Top Module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5329440" cy="540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“full_adder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“pattern_gen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#include “monitor.h”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  <a:ea typeface="新細明體"/>
              </a:rPr>
              <a:t>int sc_main(int argc, char* argv[]) 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sc_signal&lt;booL&gt; t_a, t_b, t_cin, t_sum, t_cou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full_adder f1(“Fulladder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//connect using positional associa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f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pattern_gen pg_ptr = new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pattern_gen(“Generation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//connection using named associa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pg_ptr-&gt;d_a(t_a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pg_ptr-&gt;d_b(t_b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(*pg_ptr-&gt;d_cin(t_cin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monitor mol(“Monitor”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mo1 &lt;&lt; t_a &lt;&lt; t_b &lt;&lt; t_cin &lt;&lt; t_sum &lt;&lt; t_cou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  <a:ea typeface="新細明體"/>
              </a:rPr>
              <a:t>sc_start(100, SC_NS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新細明體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5003640" y="836640"/>
            <a:ext cx="3995640" cy="2376360"/>
            <a:chOff x="5003640" y="836640"/>
            <a:chExt cx="3995640" cy="2376360"/>
          </a:xfrm>
        </p:grpSpPr>
        <p:sp>
          <p:nvSpPr>
            <p:cNvPr id="564" name="Rectangle 5"/>
            <p:cNvSpPr/>
            <p:nvPr/>
          </p:nvSpPr>
          <p:spPr>
            <a:xfrm>
              <a:off x="5003640" y="836640"/>
              <a:ext cx="3995640" cy="2376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65" name="Picture 6" descr=""/>
            <p:cNvPicPr/>
            <p:nvPr/>
          </p:nvPicPr>
          <p:blipFill>
            <a:blip r:embed="rId1"/>
            <a:stretch/>
          </p:blipFill>
          <p:spPr>
            <a:xfrm>
              <a:off x="5148000" y="979560"/>
              <a:ext cx="3673440" cy="208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E57B3EA6-E915-4530-B583-00CA54A84F8F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굴림"/>
              </a:rPr>
              <a:t>SystemC Highlights Summary (1)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7676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upport Hardware-Software Co-Desig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7676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terface in a C++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604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odu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6480" indent="-1951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ontainer class includes hierarchical Entity and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604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6480" indent="-1951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Describe functionality, Event sensitiv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604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Po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6480" indent="-1951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ingle-directional(in, out), Bi-directional(inout) m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604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6480" indent="-1951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Resolved, Unresolved sign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604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Rich set of port and signal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6040" indent="-17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Rich set of data ty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6480" indent="-19512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All C/C++ types, 32/64-bit signed/unsigned, fixed-points, MVL, user defin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9" dur="indefinite" restart="never" nodeType="tmRoot">
          <p:childTnLst>
            <p:seq>
              <p:cTn id="1460" dur="indefinite" nodeType="mainSeq">
                <p:childTnLst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5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5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5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5C6B2C29-4450-43D4-8F7F-2165C7E44671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  <a:ea typeface="굴림"/>
              </a:rPr>
              <a:t>SystemC Highlights Summary (2)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79360" y="1295280"/>
            <a:ext cx="858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Interface in a C++ environment (continued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lo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Special signal, Timekeeper of simulation and Multiple clocks, with arbitrary phase relationsh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ycle-based simul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High-Speed Cycle-Based simulation kern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Multiple abstraction lev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Untimed from high-level functional model to detailed clock cycle accuracy RTL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Communication Protoco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Debugging Suppo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68560" indent="-20988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Run-Time error che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굴림"/>
              </a:rPr>
              <a:t>Waveform Trac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F562F35E-9B2B-406E-BE58-F868C7C8993E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Overview of mmMIPS design trajectory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4876920" y="4038480"/>
            <a:ext cx="3124080" cy="129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PGA hardwar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our MIP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143000" y="4038480"/>
            <a:ext cx="3124080" cy="129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ning the simulation program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Your MIP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657600" y="4648320"/>
            <a:ext cx="533520" cy="6094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514600" y="4648320"/>
            <a:ext cx="990720" cy="609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chin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rogra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819520" y="1600200"/>
            <a:ext cx="259056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C model of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ni-mini MI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bunch of C++ fil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391520" y="4648320"/>
            <a:ext cx="533160" cy="609480"/>
          </a:xfrm>
          <a:prstGeom prst="rect">
            <a:avLst/>
          </a:prstGeom>
          <a:solidFill>
            <a:srgbClr val="cc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248520" y="4648320"/>
            <a:ext cx="990360" cy="609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chin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rogra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10"/>
          <p:cNvSpPr/>
          <p:nvPr/>
        </p:nvSpPr>
        <p:spPr>
          <a:xfrm flipH="1">
            <a:off x="2666880" y="2819520"/>
            <a:ext cx="99072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4800600" y="2819520"/>
            <a:ext cx="114300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803600" y="321300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++ compi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5472000" y="3048120"/>
            <a:ext cx="177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ynopsy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Centric compi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143000" y="5715000"/>
            <a:ext cx="1523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aveform, etc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5562720" y="5715000"/>
            <a:ext cx="24382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alyze: Oscilloscope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ic analyzer, et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16"/>
          <p:cNvSpPr/>
          <p:nvPr/>
        </p:nvSpPr>
        <p:spPr>
          <a:xfrm>
            <a:off x="4114800" y="1143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17"/>
          <p:cNvSpPr/>
          <p:nvPr/>
        </p:nvSpPr>
        <p:spPr>
          <a:xfrm>
            <a:off x="1905120" y="63244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18"/>
          <p:cNvSpPr/>
          <p:nvPr/>
        </p:nvSpPr>
        <p:spPr>
          <a:xfrm flipH="1">
            <a:off x="533520" y="662940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533520" y="1143000"/>
            <a:ext cx="0" cy="5486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20"/>
          <p:cNvSpPr/>
          <p:nvPr/>
        </p:nvSpPr>
        <p:spPr>
          <a:xfrm>
            <a:off x="533520" y="1143000"/>
            <a:ext cx="358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21"/>
          <p:cNvSpPr/>
          <p:nvPr/>
        </p:nvSpPr>
        <p:spPr>
          <a:xfrm>
            <a:off x="693432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7010280" y="2057400"/>
            <a:ext cx="18288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ips-as.ex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IPS assemble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7010280" y="1066680"/>
            <a:ext cx="182880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cc.ex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 compil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7467480" y="2971800"/>
            <a:ext cx="990720" cy="609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chin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rogram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5864760" y="1523880"/>
            <a:ext cx="108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MIP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Line 26"/>
          <p:cNvSpPr/>
          <p:nvPr/>
        </p:nvSpPr>
        <p:spPr>
          <a:xfrm>
            <a:off x="7924680" y="26668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Line 27"/>
          <p:cNvSpPr/>
          <p:nvPr/>
        </p:nvSpPr>
        <p:spPr>
          <a:xfrm>
            <a:off x="7924680" y="16765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28"/>
          <p:cNvSpPr/>
          <p:nvPr/>
        </p:nvSpPr>
        <p:spPr>
          <a:xfrm flipV="1">
            <a:off x="6629400" y="1523520"/>
            <a:ext cx="30492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Line 29"/>
          <p:cNvSpPr/>
          <p:nvPr/>
        </p:nvSpPr>
        <p:spPr>
          <a:xfrm flipH="1">
            <a:off x="5486400" y="1828800"/>
            <a:ext cx="38088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0"/>
          <p:cNvSpPr/>
          <p:nvPr/>
        </p:nvSpPr>
        <p:spPr>
          <a:xfrm>
            <a:off x="190512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31"/>
          <p:cNvSpPr/>
          <p:nvPr/>
        </p:nvSpPr>
        <p:spPr>
          <a:xfrm>
            <a:off x="1908000" y="907920"/>
            <a:ext cx="4464360" cy="244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2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15743F14-A174-4E2C-A7C6-1717601E3A14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2"/>
          <p:cNvSpPr/>
          <p:nvPr/>
        </p:nvSpPr>
        <p:spPr>
          <a:xfrm>
            <a:off x="5943600" y="0"/>
            <a:ext cx="0" cy="685800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Programming flow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52280" y="15228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-progra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.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371600" y="1676520"/>
            <a:ext cx="1066680" cy="7617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emb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.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457200" y="990720"/>
            <a:ext cx="1828800" cy="5331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mpi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cc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1447920" y="2666880"/>
            <a:ext cx="1828800" cy="533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emb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ps-as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2743200" y="4191120"/>
            <a:ext cx="1828800" cy="5331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DD hex edit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x-editor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9"/>
          <p:cNvSpPr/>
          <p:nvPr/>
        </p:nvSpPr>
        <p:spPr>
          <a:xfrm>
            <a:off x="3048120" y="3429000"/>
            <a:ext cx="1066680" cy="6094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 co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.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3048120" y="4952880"/>
            <a:ext cx="1066680" cy="6098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bject co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.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3581280" y="2666880"/>
            <a:ext cx="2133720" cy="53352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assemb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4191120" y="1676520"/>
            <a:ext cx="1066680" cy="7617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ssemb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6172200" y="4952880"/>
            <a:ext cx="2209680" cy="68580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del of mip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ingle-cycle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685800" y="76212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15"/>
          <p:cNvSpPr/>
          <p:nvPr/>
        </p:nvSpPr>
        <p:spPr>
          <a:xfrm>
            <a:off x="1371600" y="1523880"/>
            <a:ext cx="45720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1905120" y="24382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2438280" y="3200400"/>
            <a:ext cx="9907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18"/>
          <p:cNvSpPr/>
          <p:nvPr/>
        </p:nvSpPr>
        <p:spPr>
          <a:xfrm flipV="1">
            <a:off x="3581280" y="320004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4648320" y="2437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Line 20"/>
          <p:cNvSpPr/>
          <p:nvPr/>
        </p:nvSpPr>
        <p:spPr>
          <a:xfrm>
            <a:off x="358128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21"/>
          <p:cNvSpPr/>
          <p:nvPr/>
        </p:nvSpPr>
        <p:spPr>
          <a:xfrm>
            <a:off x="365760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22"/>
          <p:cNvSpPr/>
          <p:nvPr/>
        </p:nvSpPr>
        <p:spPr>
          <a:xfrm>
            <a:off x="4114800" y="52578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23"/>
          <p:cNvSpPr/>
          <p:nvPr/>
        </p:nvSpPr>
        <p:spPr>
          <a:xfrm>
            <a:off x="723888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6172200" y="4114800"/>
            <a:ext cx="2133720" cy="5335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++ compil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sual C++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AutoShape 25"/>
          <p:cNvSpPr/>
          <p:nvPr/>
        </p:nvSpPr>
        <p:spPr>
          <a:xfrm>
            <a:off x="7467480" y="2743200"/>
            <a:ext cx="1067040" cy="6094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++ sour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.cp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AutoShape 26"/>
          <p:cNvSpPr/>
          <p:nvPr/>
        </p:nvSpPr>
        <p:spPr>
          <a:xfrm>
            <a:off x="7010280" y="2971800"/>
            <a:ext cx="1067040" cy="6094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++ sour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.cp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6629400" y="3200400"/>
            <a:ext cx="1066680" cy="6094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++ sour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.cp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28"/>
          <p:cNvSpPr/>
          <p:nvPr/>
        </p:nvSpPr>
        <p:spPr>
          <a:xfrm>
            <a:off x="6172200" y="3352680"/>
            <a:ext cx="1066680" cy="6098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++ sourc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.cp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29"/>
          <p:cNvSpPr/>
          <p:nvPr/>
        </p:nvSpPr>
        <p:spPr>
          <a:xfrm>
            <a:off x="731520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30"/>
          <p:cNvSpPr/>
          <p:nvPr/>
        </p:nvSpPr>
        <p:spPr>
          <a:xfrm>
            <a:off x="6629400" y="5867280"/>
            <a:ext cx="1523880" cy="68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imulation outp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ps.vc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31"/>
          <p:cNvSpPr/>
          <p:nvPr/>
        </p:nvSpPr>
        <p:spPr>
          <a:xfrm>
            <a:off x="7238880" y="5638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Oval 32"/>
          <p:cNvSpPr/>
          <p:nvPr/>
        </p:nvSpPr>
        <p:spPr>
          <a:xfrm>
            <a:off x="2590920" y="914400"/>
            <a:ext cx="1676160" cy="6094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IPS simulato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pim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33"/>
          <p:cNvSpPr/>
          <p:nvPr/>
        </p:nvSpPr>
        <p:spPr>
          <a:xfrm flipV="1">
            <a:off x="2438280" y="15238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Oval 34"/>
          <p:cNvSpPr/>
          <p:nvPr/>
        </p:nvSpPr>
        <p:spPr>
          <a:xfrm>
            <a:off x="3733920" y="5867280"/>
            <a:ext cx="2057400" cy="68580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TK Signal analyz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inwave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35"/>
          <p:cNvSpPr/>
          <p:nvPr/>
        </p:nvSpPr>
        <p:spPr>
          <a:xfrm flipH="1">
            <a:off x="5791320" y="6248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7467480" y="152280"/>
            <a:ext cx="1524240" cy="45720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uns in cygw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7467480" y="762120"/>
            <a:ext cx="1524240" cy="45720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uns in Window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38"/>
          <p:cNvSpPr/>
          <p:nvPr/>
        </p:nvSpPr>
        <p:spPr>
          <a:xfrm>
            <a:off x="152280" y="3200400"/>
            <a:ext cx="1447920" cy="533520"/>
          </a:xfrm>
          <a:prstGeom prst="wedgeRoundRectCallout">
            <a:avLst>
              <a:gd name="adj1" fmla="val 34976"/>
              <a:gd name="adj2" fmla="val -186013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itially w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art he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39"/>
          <p:cNvSpPr/>
          <p:nvPr/>
        </p:nvSpPr>
        <p:spPr>
          <a:xfrm>
            <a:off x="304920" y="4343400"/>
            <a:ext cx="1523880" cy="609480"/>
          </a:xfrm>
          <a:prstGeom prst="wedgeRoundRectCallout">
            <a:avLst>
              <a:gd name="adj1" fmla="val 108541"/>
              <a:gd name="adj2" fmla="val -20833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 strip th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rst 34 by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6400800" y="1523880"/>
            <a:ext cx="2209680" cy="838440"/>
          </a:xfrm>
          <a:prstGeom prst="wedgeRoundRectCallout">
            <a:avLst>
              <a:gd name="adj1" fmla="val -18032"/>
              <a:gd name="adj2" fmla="val 124430"/>
              <a:gd name="adj3" fmla="val 16667"/>
            </a:avLst>
          </a:prstGeom>
          <a:noFill/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C mod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f miniminiMI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Object 41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1143000" cy="750960"/>
          </a:xfrm>
          <a:prstGeom prst="rect">
            <a:avLst/>
          </a:prstGeom>
          <a:ln w="0">
            <a:noFill/>
          </a:ln>
        </p:spPr>
      </p:pic>
      <p:sp>
        <p:nvSpPr>
          <p:cNvPr id="178" name="Line 42"/>
          <p:cNvSpPr/>
          <p:nvPr/>
        </p:nvSpPr>
        <p:spPr>
          <a:xfrm>
            <a:off x="533520" y="2057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43"/>
          <p:cNvSpPr/>
          <p:nvPr/>
        </p:nvSpPr>
        <p:spPr>
          <a:xfrm>
            <a:off x="5562720" y="12193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44"/>
          <p:cNvSpPr/>
          <p:nvPr/>
        </p:nvSpPr>
        <p:spPr>
          <a:xfrm>
            <a:off x="4735080" y="1066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235920" y="106668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18FE705B-B0B6-45A3-8EA4-42E3A426A817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etting all this stuff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’ve collected all tools you need in a single (BIG) file 176MByte file. Go to the directory web sit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www.es.ele.tue.nl/education/Computation/mmips-lab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download instructio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will install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DD Hex Edi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ygw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C Spi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Wa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C stuff for Borland/Visual C++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C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Cycle Minimips in SystemC, Multi-cycle Minimips and pipelined MIP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0BBC96AC-ECB7-40F0-91C0-A576E8E56767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ygwi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79000" y="1295280"/>
            <a:ext cx="8636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of the programs we use (LCC, the MIPS assembler) are written as UNIX tool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distribution contains  a GNU Unix environment called cygw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6333840" cy="31528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304920" y="5638680"/>
            <a:ext cx="8636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 command-line shell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/cygdrive/&lt;drivename&gt;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get to the windows disk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6629400" y="662940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© PG/HC 2008 Programming 5JJ70  pg </a:t>
            </a:r>
            <a:fld id="{B565A229-49B4-43BE-8B31-425CCF3109C1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1960" y="228600"/>
            <a:ext cx="854712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Getting around in cygwin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1752480"/>
            <a:ext cx="7543800" cy="4343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whoam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enk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pw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l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n         cygwin.ico  home     lib        setup.log.full  us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ygwin.bat  etc         include  setup.log  tmp             va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d /cygdrive/c/Ogo1.2/lcc/lccdi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ls -l mips-as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rwxr-xr-x    1 henk  unknown   2472629 Nov 22 14:35 mips-as.ex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PATH=/cygdrive/c/Ogo1.2/lcc/lccdir:$PAT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d ../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mkdir t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d t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mips-as.exe test.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enk@HENK-LAP /cygdrive/c/Ogo1.2/tes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l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out  test.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disas a.ou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38480" y="1066680"/>
            <a:ext cx="1752840" cy="609840"/>
          </a:xfrm>
          <a:prstGeom prst="wedgeRoundRectCallout">
            <a:avLst>
              <a:gd name="adj1" fmla="val -197189"/>
              <a:gd name="adj2" fmla="val 107550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ype UNIX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ands he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4038480" y="1752480"/>
            <a:ext cx="2362320" cy="381240"/>
          </a:xfrm>
          <a:prstGeom prst="wedgeRoundRectCallout">
            <a:avLst>
              <a:gd name="adj1" fmla="val -170296"/>
              <a:gd name="adj2" fmla="val 130833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ich directory am I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4038480" y="2133720"/>
            <a:ext cx="2362320" cy="380880"/>
          </a:xfrm>
          <a:prstGeom prst="wedgeRoundRectCallout">
            <a:avLst>
              <a:gd name="adj1" fmla="val -195162"/>
              <a:gd name="adj2" fmla="val 85000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/ = the roo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4038480" y="2590920"/>
            <a:ext cx="2362320" cy="380880"/>
          </a:xfrm>
          <a:prstGeom prst="wedgeRoundRectCallout">
            <a:avLst>
              <a:gd name="adj1" fmla="val -181787"/>
              <a:gd name="adj2" fmla="val 30833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st the directo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8"/>
          <p:cNvSpPr/>
          <p:nvPr/>
        </p:nvSpPr>
        <p:spPr>
          <a:xfrm>
            <a:off x="6477120" y="2971800"/>
            <a:ext cx="2361960" cy="380880"/>
          </a:xfrm>
          <a:prstGeom prst="wedgeRoundRectCallout">
            <a:avLst>
              <a:gd name="adj1" fmla="val -149060"/>
              <a:gd name="adj2" fmla="val 96666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o to the windows disk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6443640" y="3429000"/>
            <a:ext cx="2362320" cy="380880"/>
          </a:xfrm>
          <a:prstGeom prst="wedgeRoundRectCallout">
            <a:avLst>
              <a:gd name="adj1" fmla="val -212027"/>
              <a:gd name="adj2" fmla="val 23750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sembler progra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10"/>
          <p:cNvSpPr/>
          <p:nvPr/>
        </p:nvSpPr>
        <p:spPr>
          <a:xfrm>
            <a:off x="6477120" y="4114800"/>
            <a:ext cx="2361960" cy="380880"/>
          </a:xfrm>
          <a:prstGeom prst="wedgeRoundRectCallout">
            <a:avLst>
              <a:gd name="adj1" fmla="val -112231"/>
              <a:gd name="adj2" fmla="val -31666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t the search pa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6012000" y="5157720"/>
            <a:ext cx="2361960" cy="381240"/>
          </a:xfrm>
          <a:prstGeom prst="wedgeRoundRectCallout">
            <a:avLst>
              <a:gd name="adj1" fmla="val -181990"/>
              <a:gd name="adj2" fmla="val -96666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 the assembl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5940360" y="5877000"/>
            <a:ext cx="2362320" cy="380880"/>
          </a:xfrm>
          <a:prstGeom prst="wedgeRoundRectCallout">
            <a:avLst>
              <a:gd name="adj1" fmla="val -209074"/>
              <a:gd name="adj2" fmla="val -66666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un the disassembl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13"/>
          <p:cNvSpPr/>
          <p:nvPr/>
        </p:nvSpPr>
        <p:spPr>
          <a:xfrm>
            <a:off x="6012000" y="4724280"/>
            <a:ext cx="2592360" cy="381240"/>
          </a:xfrm>
          <a:prstGeom prst="wedgeRoundRectCallout">
            <a:avLst>
              <a:gd name="adj1" fmla="val -206828"/>
              <a:gd name="adj2" fmla="val -96666"/>
              <a:gd name="adj3" fmla="val 16667"/>
            </a:avLst>
          </a:prstGeom>
          <a:solidFill>
            <a:srgbClr val="ffffcc"/>
          </a:soli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ke a new subdirecto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8T17:28:58Z</dcterms:created>
  <dc:creator>Patrick Groeneveld</dc:creator>
  <dc:description/>
  <dc:language>en-US</dc:language>
  <cp:lastModifiedBy>edwin</cp:lastModifiedBy>
  <cp:lastPrinted>2001-10-15T08:02:22Z</cp:lastPrinted>
  <dcterms:modified xsi:type="dcterms:W3CDTF">2016-10-23T14:37:58Z</dcterms:modified>
  <cp:revision>195</cp:revision>
  <dc:subject/>
  <dc:title>Programming</dc:title>
</cp:coreProperties>
</file>