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ource Brokering and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457200" cy="454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52280" y="249120"/>
            <a:ext cx="1524240" cy="260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095880" y="62485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5 Apr. 2005 - R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rafficlight.uva.netherlight.nl:8080/AIR/" TargetMode="External"/><Relationship Id="rId2" Type="http://schemas.openxmlformats.org/officeDocument/2006/relationships/hyperlink" Target="http://trafficlight.uva.netherlight.nl:8080/RB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angogh0.uva.netherlight.nl/AIRWebServices/WS-Intro.html" TargetMode="External"/><Relationship Id="rId2" Type="http://schemas.openxmlformats.org/officeDocument/2006/relationships/hyperlink" Target="http://vangogh0.uva.netherlight.nl/AIRWebServices/WS-Intro.html" TargetMode="External"/><Relationship Id="rId3" Type="http://schemas.openxmlformats.org/officeDocument/2006/relationships/hyperlink" Target="http://vangogh0.uva.netherlight.nl/AIRWebServices/WS-Intro.html" TargetMode="External"/><Relationship Id="rId4" Type="http://schemas.openxmlformats.org/officeDocument/2006/relationships/hyperlink" Target="http://vangogh0.uva.netherlight.nl/AIRWebServices/WS-Intro.html" TargetMode="External"/><Relationship Id="rId5" Type="http://schemas.openxmlformats.org/officeDocument/2006/relationships/hyperlink" Target="http://vangogh0.uva.netherlight.nl/AIRWebServices/WS-Intro.html" TargetMode="External"/><Relationship Id="rId6" Type="http://schemas.openxmlformats.org/officeDocument/2006/relationships/hyperlink" Target="http://vangogh0.uva.netherlight.nl/AIRWebServices/WS-Intro.html" TargetMode="External"/><Relationship Id="rId7" Type="http://schemas.openxmlformats.org/officeDocument/2006/relationships/hyperlink" Target="http://vangogh0.uva.netherlight.nl/AIRWebServices/WS-Intro.html" TargetMode="External"/><Relationship Id="rId8" Type="http://schemas.openxmlformats.org/officeDocument/2006/relationships/hyperlink" Target="mailto:grosso@science.uva.nl" TargetMode="External"/><Relationship Id="rId9" Type="http://schemas.openxmlformats.org/officeDocument/2006/relationships/hyperlink" Target="mailto:grosso@science.uva.nl" TargetMode="External"/><Relationship Id="rId10" Type="http://schemas.openxmlformats.org/officeDocument/2006/relationships/hyperlink" Target="mailto:grosso@science.uva.nl" TargetMode="External"/><Relationship Id="rId11" Type="http://schemas.openxmlformats.org/officeDocument/2006/relationships/hyperlink" Target="mailto:grosso@science.uva.nl" TargetMode="External"/><Relationship Id="rId12" Type="http://schemas.openxmlformats.org/officeDocument/2006/relationships/hyperlink" Target="mailto:grosso@science.uva.nl" TargetMode="External"/><Relationship Id="rId13" Type="http://schemas.openxmlformats.org/officeDocument/2006/relationships/hyperlink" Target="mailto:vdham@science.uva.nl" TargetMode="External"/><Relationship Id="rId14" Type="http://schemas.openxmlformats.org/officeDocument/2006/relationships/hyperlink" Target="mailto:vdham@science.uva.nl" TargetMode="External"/><Relationship Id="rId15" Type="http://schemas.openxmlformats.org/officeDocument/2006/relationships/hyperlink" Target="mailto:vdham@science.uva.nl" TargetMode="External"/><Relationship Id="rId16" Type="http://schemas.openxmlformats.org/officeDocument/2006/relationships/hyperlink" Target="mailto:vdham@science.uva.nl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source Brokering and Modeling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roen van der Ham &amp; Paola Gros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vA - AIR group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science.uva.nl/research/air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WEB portal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Network Element model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trafficlight.uva.netherlight.nl:8080/AIR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network element monitoring and simple configur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ntegrated with the AAA server from UvA (you need a username and a password to use 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Resource Broker portal (under developmen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trafficlight.uva.netherlight.nl:8080/RB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reservation of resour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work in progress… aiming for complete version for use in iGrid2005 and SC05 (Sep. and Nov. 2005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information is available 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vangogh0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uva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netherlight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nl/AIRWebServices/WS-Intro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s and question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grosso@scienc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0"/>
              </a:rPr>
              <a:t>uva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1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2"/>
              </a:rPr>
              <a:t>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3"/>
              </a:rPr>
              <a:t>vdham@scienc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5"/>
              </a:rPr>
              <a:t>uva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6"/>
              </a:rPr>
              <a:t>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Our motivation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questions from the us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- how can </a:t>
            </a:r>
            <a:r>
              <a:rPr b="0" i="1" lang="en-US" sz="1800" spc="-1" strike="noStrike">
                <a:solidFill>
                  <a:srgbClr val="000000"/>
                </a:solidFill>
                <a:latin typeface="ヒラギノ角ゴ Pro W3"/>
              </a:rPr>
              <a:t>_x0010_I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serve paths (lightpaths) and book resources to run my application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questions from the provid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- How can we provide consistent interfac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- How can we keep a consistent reservation system for the resources we control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 goal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- Completely automate the reservation and brokering for scenarios such as SC200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eb servic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n interesting solution to allow the users to access information on resources, their properties and servic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Which resources?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UvA LightHous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ntrol and brokering of the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UvA/SARA LightHou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our first implemen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 for this choic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equipment we control and manag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==&gt; single domai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layer2 switch (Force10) … soon another Layer2/3 swit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photonic switch (GlimmerGlas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uting nodes (VanGogh and Rembrandt cluster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connection to NetherL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ld-wide access from research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 for resources coordin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interesting differenc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LightHouse is about more than just network equipment control (UCLP, DRAC): computing element need to be reserved to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source brokering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goal is si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resources  need to be “connected” to each oth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 goal of a brok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path determin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 two resources are made to communicate with each other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resource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 resources are assigned to users in coherent fashion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resource monito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 resource usage is monitored for planning purposes, for security assessment and error recovery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performance monito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 the user request, service levels are guaranteed and monitored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sources and reservation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ing po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efinition of the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asic ele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such resources, reservations, path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ath determination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676520"/>
            <a:ext cx="32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ste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tion of the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terfaces to the cli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should the client be able to k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5184720" cy="3089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2089080"/>
            <a:ext cx="44956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mplete list of 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ist of types of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ist of resources of a certai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ist of resources available at a certa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ossibility of creating a path between two re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source Managemen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4963320" y="2514600"/>
            <a:ext cx="35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ient c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for availability of a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rve a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cancel/con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920" y="5029200"/>
            <a:ext cx="361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broker wi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 a list of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 the list of re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3657600"/>
            <a:ext cx="2565360" cy="1689120"/>
          </a:xfrm>
          <a:custGeom>
            <a:avLst/>
            <a:gdLst/>
            <a:ahLst/>
            <a:rect l="l" t="t" r="r" b="b"/>
            <a:pathLst>
              <a:path w="1616" h="1064">
                <a:moveTo>
                  <a:pt x="1344" y="0"/>
                </a:moveTo>
                <a:cubicBezTo>
                  <a:pt x="1480" y="428"/>
                  <a:pt x="1616" y="856"/>
                  <a:pt x="1392" y="960"/>
                </a:cubicBezTo>
                <a:cubicBezTo>
                  <a:pt x="1168" y="1064"/>
                  <a:pt x="232" y="680"/>
                  <a:pt x="0" y="6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267080"/>
            <a:ext cx="1219320" cy="2311560"/>
          </a:xfrm>
          <a:custGeom>
            <a:avLst/>
            <a:gdLst/>
            <a:ahLst/>
            <a:rect l="l" t="t" r="r" b="b"/>
            <a:pathLst>
              <a:path w="768" h="1456">
                <a:moveTo>
                  <a:pt x="768" y="1200"/>
                </a:moveTo>
                <a:cubicBezTo>
                  <a:pt x="664" y="1328"/>
                  <a:pt x="560" y="1456"/>
                  <a:pt x="432" y="1344"/>
                </a:cubicBezTo>
                <a:cubicBezTo>
                  <a:pt x="304" y="1232"/>
                  <a:pt x="0" y="752"/>
                  <a:pt x="0" y="528"/>
                </a:cubicBezTo>
                <a:cubicBezTo>
                  <a:pt x="0" y="304"/>
                  <a:pt x="360" y="88"/>
                  <a:pt x="43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52280" y="1981080"/>
            <a:ext cx="57909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Under the hood….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7720" y="1711440"/>
            <a:ext cx="6456600" cy="484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410080" y="2057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need a model for the underlying network elements, so that we can control th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1:18:36Z</dcterms:created>
  <dc:creator>Paola Grosso</dc:creator>
  <dc:description/>
  <dc:language>en-US</dc:language>
  <cp:lastModifiedBy>Paola  Grosso</cp:lastModifiedBy>
  <dcterms:modified xsi:type="dcterms:W3CDTF">2005-04-15T08:24:33Z</dcterms:modified>
  <cp:revision>34</cp:revision>
  <dc:subject/>
  <dc:title>Resource Brokering</dc:title>
</cp:coreProperties>
</file>