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53400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etwork tests on SURFnet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457200" cy="454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52280" y="249120"/>
            <a:ext cx="1524240" cy="260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562720" y="65340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ct. 17/18 2005 - R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angogh0.uva.netherlight.nl/SURFnet6Tests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grosso@science.uva.nl" TargetMode="External"/><Relationship Id="rId2" Type="http://schemas.openxmlformats.org/officeDocument/2006/relationships/hyperlink" Target="mailto:grosso@science.uva.nl" TargetMode="External"/><Relationship Id="rId3" Type="http://schemas.openxmlformats.org/officeDocument/2006/relationships/hyperlink" Target="mailto:grosso@science.uva.nl" TargetMode="External"/><Relationship Id="rId4" Type="http://schemas.openxmlformats.org/officeDocument/2006/relationships/hyperlink" Target="mailto:grosso@science.uva.nl" TargetMode="External"/><Relationship Id="rId5" Type="http://schemas.openxmlformats.org/officeDocument/2006/relationships/hyperlink" Target="mailto:jblom@science.uva.nl" TargetMode="External"/><Relationship Id="rId6" Type="http://schemas.openxmlformats.org/officeDocument/2006/relationships/hyperlink" Target="mailto:jblom@science.uva.nl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Network tests on SURFnet6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ans Blom &amp; Paola Gros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IR group - U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Motivation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Fnet6 as a testing gr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want to focus 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Performanc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can we achieve the expected throughput for IPv4 and IPv6 traffic? Are our applications behaving as expected 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Configurat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is the connection to the end user network devices well behaved (vendor interoperability)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Light path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how do setup and use of light paths work? (This is somethng for the future)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were able to start to work on this only in Q3, when we had for the first time the possibility of creating a test setup during the pre-production phase. 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etup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 had an advantage: the physical proximity to SURFnet6 equipment in Amsterdam/SAR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y trivially, this made it easier to create a link between the network device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 worked on the following physical setup together with CWI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WI network device is a Foundry NI40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AIR network dvice is a Nortel ESR 8610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 the link are 10GE: from the computing nodes to the switches, and between the switch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09480" y="3276720"/>
            <a:ext cx="8001000" cy="1904760"/>
            <a:chOff x="609480" y="3276720"/>
            <a:chExt cx="8001000" cy="1904760"/>
          </a:xfrm>
        </p:grpSpPr>
        <p:sp>
          <p:nvSpPr>
            <p:cNvPr id="49" name=""/>
            <p:cNvSpPr/>
            <p:nvPr/>
          </p:nvSpPr>
          <p:spPr>
            <a:xfrm>
              <a:off x="1981080" y="4651920"/>
              <a:ext cx="13716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st 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91320" y="4651920"/>
              <a:ext cx="13716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st 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09880" y="3276720"/>
              <a:ext cx="152424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RFnet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57400" y="3886200"/>
              <a:ext cx="121932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WI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67280" y="3886200"/>
              <a:ext cx="121932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IR/Uv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1" idx="2"/>
              <a:endCxn id="52" idx="3"/>
            </p:cNvCxnSpPr>
            <p:nvPr/>
          </p:nvCxnSpPr>
          <p:spPr>
            <a:xfrm flipH="1">
              <a:off x="3276000" y="3581280"/>
              <a:ext cx="533880" cy="49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" name=""/>
            <p:cNvCxnSpPr>
              <a:stCxn id="51" idx="6"/>
              <a:endCxn id="53" idx="1"/>
            </p:cNvCxnSpPr>
            <p:nvPr/>
          </p:nvCxnSpPr>
          <p:spPr>
            <a:xfrm>
              <a:off x="5333760" y="3581280"/>
              <a:ext cx="533880" cy="49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" name=""/>
            <p:cNvCxnSpPr>
              <a:stCxn id="53" idx="2"/>
              <a:endCxn id="50" idx="0"/>
            </p:cNvCxnSpPr>
            <p:nvPr/>
          </p:nvCxnSpPr>
          <p:spPr>
            <a:xfrm>
              <a:off x="6476760" y="4266720"/>
              <a:ext cx="10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" name=""/>
            <p:cNvCxnSpPr>
              <a:stCxn id="52" idx="2"/>
              <a:endCxn id="49" idx="0"/>
            </p:cNvCxnSpPr>
            <p:nvPr/>
          </p:nvCxnSpPr>
          <p:spPr>
            <a:xfrm>
              <a:off x="2666520" y="4266720"/>
              <a:ext cx="10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8" name=""/>
            <p:cNvSpPr/>
            <p:nvPr/>
          </p:nvSpPr>
          <p:spPr>
            <a:xfrm>
              <a:off x="1577880" y="407196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33920" y="4267080"/>
              <a:ext cx="1828800" cy="914400"/>
            </a:xfrm>
            <a:prstGeom prst="wedgeEllipseCallout">
              <a:avLst>
                <a:gd name="adj1" fmla="val -3560"/>
                <a:gd name="adj2" fmla="val -885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AVICI routers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Nortel ESR 86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67480" y="3809880"/>
              <a:ext cx="1143000" cy="609840"/>
            </a:xfrm>
            <a:prstGeom prst="wedgeEllipseCallout">
              <a:avLst>
                <a:gd name="adj1" fmla="val -82361"/>
                <a:gd name="adj2" fmla="val -72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Nortel ESR 86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480" y="3886200"/>
              <a:ext cx="1143000" cy="609480"/>
            </a:xfrm>
            <a:prstGeom prst="wedgeEllipseCallout">
              <a:avLst>
                <a:gd name="adj1" fmla="val 76527"/>
                <a:gd name="adj2" fmla="val -197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Foundry NI40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Test</a:t>
            </a:r>
            <a:r>
              <a:rPr b="0" i="1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cenario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developed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ests scenario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hanging the routing and switching point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tely switched path, one subn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ing on the CWI switch, switched in SURFnet6. two subn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ing on the AIR switch, switched in SURFnet6, two subn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ing on one of the SURFnet6 AVICIs, switched at end devices, two subn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ing on CWI/AIR and SURFnet6 AVICIs, multiple subn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 far we have been able to work only on scenarios of type 1,2 and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have not been able to do tests with routing on the AVIC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hope to be able to do this in the following months, using the test environment that is being buil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Result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test description and the results are available in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vangogh0.uva.netherlight.nl/SURFnet6Tests/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re we report results of TCP iperf tests for scenario1 (switched path) and scenario 2 (routing on end user equipm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572000" y="350532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onclusions and future work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s are ongoi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at have we learned so far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We have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no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ee any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major proble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in achieving reasonable performance with the current scenarios. Results have been consistently reproducibl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We have seen at times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proble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interaction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between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network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device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specifically flow-control between the CWI Foundry and the SURFnet6 Nortel. CWI and Foundry are looking more into thi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are we going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We hope to be able to work with more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complex scenario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especially the ones involving routing done by the SURFnet6 equipment. Possible on the test setup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We also want to add more test nodes to be able to generate more complex traffic patterns and higher bandwidth throughput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ents and questions to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grosso@science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uva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.n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jblom@science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6"/>
              </a:rPr>
              <a:t>.uva.n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and thanks to Marijke Kaat from SURFnet and JP Velders from CWI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0:43:58Z</dcterms:created>
  <dc:creator>Paola Grosso</dc:creator>
  <dc:description/>
  <dc:language>en-US</dc:language>
  <cp:lastModifiedBy>Paola Grosso</cp:lastModifiedBy>
  <dcterms:modified xsi:type="dcterms:W3CDTF">2005-10-14T14:39:01Z</dcterms:modified>
  <cp:revision>24</cp:revision>
  <dc:subject/>
  <dc:title>Network tests on SURFnet6</dc:title>
</cp:coreProperties>
</file>