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10.png" ContentType="image/png"/>
  <Override PartName="/ppt/media/image3.png" ContentType="image/png"/>
  <Override PartName="/ppt/media/image4.pct" ContentType="image/x-pict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534000"/>
            <a:ext cx="28954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arPl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457200" cy="454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52280" y="249120"/>
            <a:ext cx="1524240" cy="260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562720" y="65340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y. 14 2006 - TERENA worksh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arplane.org/" TargetMode="External"/><Relationship Id="rId2" Type="http://schemas.openxmlformats.org/officeDocument/2006/relationships/hyperlink" Target="mailto:grosso@science.uva.nl" TargetMode="External"/><Relationship Id="rId3" Type="http://schemas.openxmlformats.org/officeDocument/2006/relationships/hyperlink" Target="mailto:delaat@science.uva.nl" TargetMode="External"/><Relationship Id="rId4" Type="http://schemas.openxmlformats.org/officeDocument/2006/relationships/hyperlink" Target="mailto:jpv@science.uva.nl" TargetMode="External"/><Relationship Id="rId5" Type="http://schemas.openxmlformats.org/officeDocument/2006/relationships/hyperlink" Target="mailto:lixu@science.uva.nl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EG" TargetMode="External"/><Relationship Id="rId2" Type="http://schemas.openxmlformats.org/officeDocument/2006/relationships/hyperlink" Target="http://en.wikipedia.org/wiki/MEG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:</a:t>
            </a:r>
            <a:br>
              <a:rPr sz="44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pplication Specific Management of Photonic Networks</a:t>
            </a:r>
            <a:endParaRPr b="0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ola Gros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NE group - U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AS-3 cluster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981080"/>
          <a:ext cx="7772400" cy="4560840"/>
        </p:xfrm>
        <a:graphic>
          <a:graphicData uri="http://schemas.openxmlformats.org/drawingml/2006/table">
            <a:tbl>
              <a:tblPr/>
              <a:tblGrid>
                <a:gridCol w="1360440"/>
                <a:gridCol w="1100160"/>
                <a:gridCol w="1101600"/>
                <a:gridCol w="1101960"/>
                <a:gridCol w="1165320"/>
                <a:gridCol w="1164960"/>
                <a:gridCol w="7779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vA-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CP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2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2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G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Myri 10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0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5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T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CP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6G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2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x2.4GHz 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T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84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Myri 10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ri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0G 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 (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0GE 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GE 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 (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6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 (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10GE 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 architecture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6172200" cy="4452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638680" y="32004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2514600"/>
            <a:ext cx="3200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 from each site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ADM (fixed) equipment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tical Add Drop 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the WSS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avelength Selectable Switches- in the Amsterdam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WS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760" y="1828800"/>
            <a:ext cx="5767560" cy="345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1320" y="1828800"/>
            <a:ext cx="3200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SS will allow us to redirect a selected input color to the output fi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allows us to flexibly reconfigure the network according to the application deman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al of StarPlane is sub-second switching, and topology reconfigu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5760" y="6016680"/>
            <a:ext cx="136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  Eric Bernier, NOR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riving the topology change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943600" y="2819520"/>
            <a:ext cx="3003480" cy="3886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3063960" cy="396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3080" y="2514600"/>
            <a:ext cx="3355920" cy="4343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31880" y="1981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pology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362320"/>
            <a:ext cx="1295640" cy="60948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816" y="0"/>
                </a:moveTo>
                <a:cubicBezTo>
                  <a:pt x="596" y="16"/>
                  <a:pt x="376" y="32"/>
                  <a:pt x="240" y="96"/>
                </a:cubicBezTo>
                <a:cubicBezTo>
                  <a:pt x="104" y="160"/>
                  <a:pt x="40" y="336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197080"/>
            <a:ext cx="1524240" cy="698400"/>
          </a:xfrm>
          <a:custGeom>
            <a:avLst/>
            <a:gdLst/>
            <a:ahLst/>
            <a:rect l="l" t="t" r="r" b="b"/>
            <a:pathLst>
              <a:path w="960" h="440">
                <a:moveTo>
                  <a:pt x="0" y="104"/>
                </a:moveTo>
                <a:cubicBezTo>
                  <a:pt x="304" y="52"/>
                  <a:pt x="608" y="0"/>
                  <a:pt x="768" y="56"/>
                </a:cubicBezTo>
                <a:cubicBezTo>
                  <a:pt x="928" y="112"/>
                  <a:pt x="928" y="376"/>
                  <a:pt x="960" y="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438280"/>
            <a:ext cx="1440" cy="533520"/>
          </a:xfrm>
          <a:custGeom>
            <a:avLst/>
            <a:gdLst/>
            <a:ahLst/>
            <a:rect l="l" t="t" r="r" b="b"/>
            <a:pathLst>
              <a:path w="1" h="336">
                <a:moveTo>
                  <a:pt x="0" y="0"/>
                </a:moveTo>
                <a:cubicBezTo>
                  <a:pt x="0" y="140"/>
                  <a:pt x="0" y="280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Management &amp; control plane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answers to the initial question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ow to communicate with the mgmt plane / control plane 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termine the APIs between the application and the management pla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web serv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job schedul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ow to get a topology that suits the needs 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stigate the topologies more suited to the the applic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ow to drive the changes in the network ?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termine the capabilities of the various network devices in the network (Myricom Ethernet bridge-card, Myricom 10G HBA, Nortel CP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ow to make it all work 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grate all of our work and eventually make it work seamlessl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uthorization model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9440" y="4100040"/>
            <a:ext cx="1708920" cy="1891800"/>
            <a:chOff x="199440" y="4100040"/>
            <a:chExt cx="1708920" cy="1891800"/>
          </a:xfrm>
        </p:grpSpPr>
        <p:sp>
          <p:nvSpPr>
            <p:cNvPr id="102" name=""/>
            <p:cNvSpPr/>
            <p:nvPr/>
          </p:nvSpPr>
          <p:spPr>
            <a:xfrm>
              <a:off x="199440" y="4100040"/>
              <a:ext cx="487800" cy="520200"/>
            </a:xfrm>
            <a:prstGeom prst="ellipse">
              <a:avLst/>
            </a:prstGeom>
            <a:solidFill>
              <a:srgbClr val="f4ed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9440" y="5471640"/>
              <a:ext cx="487800" cy="520200"/>
            </a:xfrm>
            <a:prstGeom prst="ellipse">
              <a:avLst/>
            </a:prstGeom>
            <a:solidFill>
              <a:srgbClr val="8c9e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7720" y="4785840"/>
              <a:ext cx="470520" cy="520200"/>
            </a:xfrm>
            <a:prstGeom prst="ellipse">
              <a:avLst/>
            </a:prstGeom>
            <a:solidFill>
              <a:srgbClr val="a4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0240" y="42386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0600" y="492444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ho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0600" y="553428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333160" y="4052880"/>
            <a:ext cx="1632960" cy="2273040"/>
            <a:chOff x="2333160" y="4052880"/>
            <a:chExt cx="1632960" cy="2273040"/>
          </a:xfrm>
        </p:grpSpPr>
        <p:sp>
          <p:nvSpPr>
            <p:cNvPr id="109" name=""/>
            <p:cNvSpPr/>
            <p:nvPr/>
          </p:nvSpPr>
          <p:spPr>
            <a:xfrm>
              <a:off x="2333160" y="4814640"/>
              <a:ext cx="487800" cy="520200"/>
            </a:xfrm>
            <a:prstGeom prst="ellipse">
              <a:avLst/>
            </a:prstGeom>
            <a:solidFill>
              <a:srgbClr val="f4ed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93280" y="4052880"/>
              <a:ext cx="470520" cy="520200"/>
            </a:xfrm>
            <a:prstGeom prst="ellipse">
              <a:avLst/>
            </a:prstGeom>
            <a:solidFill>
              <a:srgbClr val="a4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5640" y="5195520"/>
              <a:ext cx="487800" cy="520200"/>
            </a:xfrm>
            <a:prstGeom prst="ellipse">
              <a:avLst/>
            </a:prstGeom>
            <a:solidFill>
              <a:srgbClr val="8c9e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"/>
            <p:cNvCxnSpPr>
              <a:stCxn id="109" idx="5"/>
              <a:endCxn id="111" idx="3"/>
            </p:cNvCxnSpPr>
            <p:nvPr/>
          </p:nvCxnSpPr>
          <p:spPr>
            <a:xfrm>
              <a:off x="2726640" y="5248080"/>
              <a:ext cx="6418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" name=""/>
            <p:cNvCxnSpPr>
              <a:stCxn id="111" idx="1"/>
              <a:endCxn id="110" idx="2"/>
            </p:cNvCxnSpPr>
            <p:nvPr/>
          </p:nvCxnSpPr>
          <p:spPr>
            <a:xfrm flipH="1" flipV="1">
              <a:off x="3323160" y="4312440"/>
              <a:ext cx="45000" cy="96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0" idx="6"/>
              <a:endCxn id="111" idx="7"/>
            </p:cNvCxnSpPr>
            <p:nvPr/>
          </p:nvCxnSpPr>
          <p:spPr>
            <a:xfrm flipH="1">
              <a:off x="3669840" y="4312800"/>
              <a:ext cx="63360" cy="96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1" idx="1"/>
              <a:endCxn id="109" idx="7"/>
            </p:cNvCxnSpPr>
            <p:nvPr/>
          </p:nvCxnSpPr>
          <p:spPr>
            <a:xfrm flipH="1" flipV="1">
              <a:off x="2726280" y="4899960"/>
              <a:ext cx="6418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" name=""/>
            <p:cNvSpPr/>
            <p:nvPr/>
          </p:nvSpPr>
          <p:spPr>
            <a:xfrm>
              <a:off x="3049560" y="5605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3240" y="4157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040" y="4995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8680" y="460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69760" y="59576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97920" y="3809880"/>
            <a:ext cx="1722600" cy="2487600"/>
            <a:chOff x="4597920" y="3809880"/>
            <a:chExt cx="1722600" cy="2487600"/>
          </a:xfrm>
        </p:grpSpPr>
        <p:sp>
          <p:nvSpPr>
            <p:cNvPr id="122" name=""/>
            <p:cNvSpPr/>
            <p:nvPr/>
          </p:nvSpPr>
          <p:spPr>
            <a:xfrm>
              <a:off x="4597920" y="4619520"/>
              <a:ext cx="487800" cy="520200"/>
            </a:xfrm>
            <a:prstGeom prst="ellipse">
              <a:avLst/>
            </a:prstGeom>
            <a:solidFill>
              <a:srgbClr val="f4ed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59120" y="4009320"/>
              <a:ext cx="470520" cy="520200"/>
            </a:xfrm>
            <a:prstGeom prst="ellipse">
              <a:avLst/>
            </a:prstGeom>
            <a:solidFill>
              <a:srgbClr val="a4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40760" y="5152320"/>
              <a:ext cx="487800" cy="520200"/>
            </a:xfrm>
            <a:prstGeom prst="ellipse">
              <a:avLst/>
            </a:prstGeom>
            <a:solidFill>
              <a:srgbClr val="8c9e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"/>
            <p:cNvCxnSpPr>
              <a:stCxn id="122" idx="0"/>
              <a:endCxn id="123" idx="1"/>
            </p:cNvCxnSpPr>
            <p:nvPr/>
          </p:nvCxnSpPr>
          <p:spPr>
            <a:xfrm flipV="1">
              <a:off x="4841280" y="4095000"/>
              <a:ext cx="808920" cy="53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23" idx="3"/>
              <a:endCxn id="124" idx="1"/>
            </p:cNvCxnSpPr>
            <p:nvPr/>
          </p:nvCxnSpPr>
          <p:spPr>
            <a:xfrm flipH="1">
              <a:off x="5633640" y="4443120"/>
              <a:ext cx="16560" cy="79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24" idx="7"/>
              <a:endCxn id="123" idx="5"/>
            </p:cNvCxnSpPr>
            <p:nvPr/>
          </p:nvCxnSpPr>
          <p:spPr>
            <a:xfrm flipV="1">
              <a:off x="5935680" y="4442760"/>
              <a:ext cx="3600" cy="79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23" idx="3"/>
              <a:endCxn id="122" idx="6"/>
            </p:cNvCxnSpPr>
            <p:nvPr/>
          </p:nvCxnSpPr>
          <p:spPr>
            <a:xfrm flipH="1">
              <a:off x="5055480" y="4443480"/>
              <a:ext cx="594360" cy="437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6000840" y="43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4880" y="4938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04000" y="4876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84880" y="3809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9640" y="59292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nt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752520" y="3838680"/>
            <a:ext cx="2006640" cy="2563560"/>
            <a:chOff x="6752520" y="3838680"/>
            <a:chExt cx="2006640" cy="2563560"/>
          </a:xfrm>
        </p:grpSpPr>
        <p:sp>
          <p:nvSpPr>
            <p:cNvPr id="135" name=""/>
            <p:cNvSpPr/>
            <p:nvPr/>
          </p:nvSpPr>
          <p:spPr>
            <a:xfrm>
              <a:off x="6981480" y="4662000"/>
              <a:ext cx="487800" cy="520200"/>
            </a:xfrm>
            <a:prstGeom prst="ellipse">
              <a:avLst/>
            </a:prstGeom>
            <a:solidFill>
              <a:srgbClr val="f4ed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42320" y="4052880"/>
              <a:ext cx="470520" cy="520200"/>
            </a:xfrm>
            <a:prstGeom prst="ellipse">
              <a:avLst/>
            </a:prstGeom>
            <a:solidFill>
              <a:srgbClr val="a4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23960" y="5195880"/>
              <a:ext cx="487800" cy="520200"/>
            </a:xfrm>
            <a:prstGeom prst="ellipse">
              <a:avLst/>
            </a:prstGeom>
            <a:solidFill>
              <a:srgbClr val="8c9e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" name=""/>
            <p:cNvCxnSpPr>
              <a:stCxn id="135" idx="0"/>
              <a:endCxn id="136" idx="1"/>
            </p:cNvCxnSpPr>
            <p:nvPr/>
          </p:nvCxnSpPr>
          <p:spPr>
            <a:xfrm flipV="1">
              <a:off x="7224480" y="4137840"/>
              <a:ext cx="808920" cy="53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6" idx="3"/>
              <a:endCxn id="135" idx="6"/>
            </p:cNvCxnSpPr>
            <p:nvPr/>
          </p:nvCxnSpPr>
          <p:spPr>
            <a:xfrm flipH="1">
              <a:off x="7438680" y="4485960"/>
              <a:ext cx="594720" cy="43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7" idx="2"/>
              <a:endCxn id="135" idx="4"/>
            </p:cNvCxnSpPr>
            <p:nvPr/>
          </p:nvCxnSpPr>
          <p:spPr>
            <a:xfrm flipH="1" flipV="1">
              <a:off x="7224480" y="5167080"/>
              <a:ext cx="7293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35" idx="5"/>
              <a:endCxn id="137" idx="1"/>
            </p:cNvCxnSpPr>
            <p:nvPr/>
          </p:nvCxnSpPr>
          <p:spPr>
            <a:xfrm>
              <a:off x="7375320" y="5095800"/>
              <a:ext cx="64188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" name=""/>
            <p:cNvSpPr/>
            <p:nvPr/>
          </p:nvSpPr>
          <p:spPr>
            <a:xfrm>
              <a:off x="7698240" y="3838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3320" y="4524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44400" y="490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2440" y="51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52520" y="603396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/token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85800" y="1657440"/>
            <a:ext cx="2438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Who is authorized to make reques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StarPlane control pla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How will we handle the authoriz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quen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2133720"/>
            <a:ext cx="5181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nt model and token model seem more suitable for StarPlane than oth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arch will focus 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gration of (generic) AAA with the mgmt pla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age of tokens within the net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information available a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ena poster session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web sit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starplane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ct people at the UV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ola Grosso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grosso@science.uva.n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es de Laat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delaat@science.uva.n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P Velders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jpv@science.uva.n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 Xu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lixu@science.uva.n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us collaborators at the VU, and SURFnet and Nort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stions or commen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e usual suspects…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players in the gam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ontrol plane (and the management plan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 few question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482400" y="4099680"/>
            <a:ext cx="1031040" cy="649800"/>
          </a:xfrm>
          <a:prstGeom prst="ellipse">
            <a:avLst/>
          </a:prstGeom>
          <a:solidFill>
            <a:srgbClr val="f4ed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26880" y="5471280"/>
            <a:ext cx="2323440" cy="1166760"/>
          </a:xfrm>
          <a:prstGeom prst="ellipse">
            <a:avLst/>
          </a:prstGeom>
          <a:solidFill>
            <a:srgbClr val="a4e3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2360" y="3732480"/>
            <a:ext cx="1182960" cy="914040"/>
          </a:xfrm>
          <a:prstGeom prst="roundRect">
            <a:avLst>
              <a:gd name="adj" fmla="val 16667"/>
            </a:avLst>
          </a:prstGeom>
          <a:solidFill>
            <a:srgbClr val="8c9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g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87200" y="4418280"/>
            <a:ext cx="1548720" cy="914040"/>
          </a:xfrm>
          <a:prstGeom prst="roundRect">
            <a:avLst>
              <a:gd name="adj" fmla="val 16667"/>
            </a:avLst>
          </a:prstGeom>
          <a:solidFill>
            <a:srgbClr val="8c9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6" idx="4"/>
            <a:endCxn id="47" idx="2"/>
          </p:cNvCxnSpPr>
          <p:nvPr/>
        </p:nvCxnSpPr>
        <p:spPr>
          <a:xfrm flipH="1" rot="16200000">
            <a:off x="1477440" y="4254480"/>
            <a:ext cx="1321200" cy="227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676520" y="487692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 to get a topology that suits the ne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6" idx="6"/>
            <a:endCxn id="48" idx="0"/>
          </p:cNvCxnSpPr>
          <p:nvPr/>
        </p:nvCxnSpPr>
        <p:spPr>
          <a:xfrm flipV="1">
            <a:off x="1461600" y="3733560"/>
            <a:ext cx="5682240" cy="691200"/>
          </a:xfrm>
          <a:prstGeom prst="curvedConnector5">
            <a:avLst>
              <a:gd name="adj1" fmla="val 45460"/>
              <a:gd name="adj2" fmla="val 66545"/>
              <a:gd name="adj3" fmla="val 454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3352680" y="373392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 to communicate with the mgmt plane/ control plan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9" idx="2"/>
            <a:endCxn id="47" idx="6"/>
          </p:cNvCxnSpPr>
          <p:nvPr/>
        </p:nvCxnSpPr>
        <p:spPr>
          <a:xfrm rot="5400000">
            <a:off x="6268320" y="4162320"/>
            <a:ext cx="724680" cy="3061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257800" y="51055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 to drive the changes in the network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e StarPlane approach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Plane is a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NWO funded proj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major contributions from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URFn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NORT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vision is to allow part of the photonic network infrastructure of SURFnet6 to be manipulated by Grid applications to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optimize the performance of specific e-Science applic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Plane will use the physical infrastructure provided by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URFnet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he distributed supercomputer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AS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ovelty: to give flexibility directly to the applications by allowing them to choose the logical topology in real time, ultimately wit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ubsecond lambda switching tim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eliverable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roject will deliv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the implementation of the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arPlane management infrastru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the implementation of an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ntelligent broker servi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handle high-level reque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the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odifica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f a set of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real applica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exploit the functionality of such a management pl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a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library of standard componen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protocols, middleware) to support and build new appli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 application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Large ‘stand-alone’ file transf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-driven file trans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ghtly backu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fer of medical data files (MR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Large file (speedier) Stage-in/Stage-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ME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model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ysis of video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pplication with static bandwidth requir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ed game-tree sear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data access for analysis of video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visualiz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pplications with dynamic bandwidth requir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data access fo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ME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model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URFnet6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19112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05520" y="2286000"/>
            <a:ext cx="30636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The Netherlands SURFnet connects between 18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niversiti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academic hospital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most polytechnic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search  cen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a user base of ~750K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917960"/>
            <a:ext cx="3429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net6 went into production at the beginning of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hybrid network wi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ular Internet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paths with speeds up to 10 G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mmon Photonic Layer (CPL)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280" y="1900080"/>
          <a:ext cx="5029200" cy="48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0080"/>
                    <a:ext cx="502920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334120" y="18288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hotonic portion for lightpath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dark fiber network (6000Km) with Nortel DWDM and TDM equi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886200"/>
            <a:ext cx="342900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ly 32 lambdas (4x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er 72 lambdas (8x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lambda with up to 10gbps possible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rPlane setup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2039760"/>
            <a:ext cx="4568760" cy="4513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89880" y="216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1981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 clusters at 4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tes connected on ring 1 of the SURFnet6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dedicated band, with up to 8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4356000"/>
            <a:ext cx="274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ility of external connections to other lambda networks via Nether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.e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nteraction with other control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AS-3 architecture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98760"/>
            <a:ext cx="5753160" cy="4954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99360" y="247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2743200"/>
            <a:ext cx="320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 connection to the University network, via Ethernet swit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WAN/StarPlane connection to CPL, via Ethernet “bridging” card in a Myrinet swit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7:38:12Z</dcterms:created>
  <dc:creator>Paola Grosso</dc:creator>
  <dc:description/>
  <dc:language>en-US</dc:language>
  <cp:lastModifiedBy>Paola  Grosso</cp:lastModifiedBy>
  <dcterms:modified xsi:type="dcterms:W3CDTF">2006-05-15T08:16:34Z</dcterms:modified>
  <cp:revision>51</cp:revision>
  <dc:subject/>
  <dc:title>StarPlane: Application Specific Management of Photonic Networks</dc:title>
</cp:coreProperties>
</file>