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534000"/>
            <a:ext cx="289548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Grid2005: a lambda networking fac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457200" cy="454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52280" y="249120"/>
            <a:ext cx="1524240" cy="260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562720" y="653400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Oct. 17 2005 - RoN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iGrid2005: a lambda networking facility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ola Gros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IR/ U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What is iGrid?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ambda networking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the scientific community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is not just different services over different wavelenghts in the same fiber. It indicates the creation of dedicated and application-specific lightpath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rid 2005, the 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 community-driven biennial International Grid event, held in San Diego from Sep.26 to Sep.29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xample of lambda networking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Optical de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user application that communicate w/o intermediate L2 or L3 servic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High bandwidth utiliz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with lot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Flexible and reconfigurable network setu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up changed on the fly to accommodate varying lightpath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000"/>
                </a:solidFill>
                <a:latin typeface="Arial"/>
              </a:rPr>
              <a:t>International connectiv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nections to all demonstrator countri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oser look: layer2 infrastructure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34960" y="1981080"/>
          <a:ext cx="6272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4960" y="1981080"/>
                    <a:ext cx="6272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loser look: layer3 infrastructure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38080" y="1981080"/>
          <a:ext cx="76201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6201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The UvA involvemen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UvA/SARA LightHouse was used during the workshop to provide connectivity to UCSD via NetherLigh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applications using cluster nodes located in Amsterd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applications transiting via Amsterd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yer2 switches (Force10 E600 and Nortel ESR 8610) provided WANPHY connectivity to the remote sites and LANPHY connectivity for locally attached nod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5257800"/>
            <a:ext cx="106704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8000"/>
                </a:solidFill>
                <a:latin typeface="Arial"/>
              </a:rPr>
              <a:t>Nortel E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5257800"/>
            <a:ext cx="106704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8000"/>
                </a:solidFill>
                <a:latin typeface="Arial"/>
              </a:rPr>
              <a:t>Forc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0"/>
          </p:cNvCxnSpPr>
          <p:nvPr/>
        </p:nvCxnSpPr>
        <p:spPr>
          <a:xfrm flipH="1" rot="16200000">
            <a:off x="3428280" y="4572360"/>
            <a:ext cx="2160" cy="1372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4" idx="2"/>
            <a:endCxn id="55" idx="2"/>
          </p:cNvCxnSpPr>
          <p:nvPr/>
        </p:nvCxnSpPr>
        <p:spPr>
          <a:xfrm flipH="1" rot="16200000">
            <a:off x="3427920" y="4953240"/>
            <a:ext cx="2520" cy="13723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5334120" y="5257800"/>
            <a:ext cx="91440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8000"/>
                </a:solidFill>
                <a:latin typeface="Arial"/>
              </a:rPr>
              <a:t>Nether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5" idx="3"/>
            <a:endCxn id="58" idx="2"/>
          </p:cNvCxnSpPr>
          <p:nvPr/>
        </p:nvCxnSpPr>
        <p:spPr>
          <a:xfrm>
            <a:off x="4647960" y="544788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6705720" y="4876920"/>
            <a:ext cx="12189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8000"/>
                </a:solidFill>
                <a:latin typeface="Arial"/>
              </a:rPr>
              <a:t>StarLight Forc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5638680"/>
            <a:ext cx="106704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8000"/>
                </a:solidFill>
                <a:latin typeface="Arial"/>
              </a:rPr>
              <a:t>iGrid Forc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8" idx="0"/>
            <a:endCxn id="60" idx="1"/>
          </p:cNvCxnSpPr>
          <p:nvPr/>
        </p:nvCxnSpPr>
        <p:spPr>
          <a:xfrm flipH="1" flipV="1" rot="5400000">
            <a:off x="6153120" y="4704840"/>
            <a:ext cx="19116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8" idx="4"/>
            <a:endCxn id="61" idx="1"/>
          </p:cNvCxnSpPr>
          <p:nvPr/>
        </p:nvCxnSpPr>
        <p:spPr>
          <a:xfrm flipH="1" rot="16200000">
            <a:off x="6190200" y="5238720"/>
            <a:ext cx="191520" cy="99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60" idx="2"/>
            <a:endCxn id="61" idx="0"/>
          </p:cNvCxnSpPr>
          <p:nvPr/>
        </p:nvCxnSpPr>
        <p:spPr>
          <a:xfrm>
            <a:off x="7314840" y="5257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838080" y="4952880"/>
            <a:ext cx="10670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6"/>
            <a:endCxn id="54" idx="1"/>
          </p:cNvCxnSpPr>
          <p:nvPr/>
        </p:nvCxnSpPr>
        <p:spPr>
          <a:xfrm>
            <a:off x="1905120" y="5219280"/>
            <a:ext cx="3052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762120" y="571500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6"/>
            <a:endCxn id="54" idx="1"/>
          </p:cNvCxnSpPr>
          <p:nvPr/>
        </p:nvCxnSpPr>
        <p:spPr>
          <a:xfrm flipV="1">
            <a:off x="1828800" y="5447880"/>
            <a:ext cx="381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Some result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demos, just remembering some in their relation to lambda network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-local addressing dem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ts automatic configuration of end nodes showed a way to address reconfigurabi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el/ UvA VM Turntable demo &amp; Nortel/UvA Token Based AA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ts use of end-to-end completely optical setup showed the typical use of optical dev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RA Tiled Display demo, a throughput record break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ts high throughput showed the need of dedicated path that are tuned to the application nee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all of them with a very international flav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Grid2005 (and SC|05 coming up) are learning experiences on the current status of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lambda networking facil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rticle focusing on the network setup will be part of the special edition magazine on the worksh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have we learn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lot, but mostly the need for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utomatic light paths creation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resource reservation and broke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e later presentation on RDF and Resource Brokering by Bert Andre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s and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sso@science.uva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8:24:06Z</dcterms:created>
  <dc:creator>Paola Grosso</dc:creator>
  <dc:description/>
  <dc:language>en-US</dc:language>
  <cp:lastModifiedBy>Paola Grosso</cp:lastModifiedBy>
  <dcterms:modified xsi:type="dcterms:W3CDTF">2005-10-14T14:28:07Z</dcterms:modified>
  <cp:revision>30</cp:revision>
  <dc:subject/>
  <dc:title>iGrid2005: a lambda networking facility</dc:title>
</cp:coreProperties>
</file>